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383E-C278-4A2F-AC5D-ED7A70F8C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2E85-14EB-4696-B32A-B415BB6E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42A3-129B-4200-AFFF-0B75167F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4210-C55E-49FC-BB4D-D3CDF4164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5757-E5F7-46BB-8A0C-BAE29C1E6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9913-ECC0-4215-8E32-671EBFC04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3287-6B14-434E-A9F4-40BE20E2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6A51-0051-41C7-B61B-70A8CD62F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5252-0496-405F-BDC7-EA7FDFBC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3EF3-5559-4DDF-82AB-D5FA2052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2403-90B0-4CEE-86A9-6D9BC448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CB77-5AE8-467C-AFC2-6EB2125B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6236-B768-47C3-A0D2-B413A5AF25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Военно-морской флот России. 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Презентация для детей старшего дошкольного возраста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81374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мощными ракетными крейсерами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252360" y="1268280"/>
            <a:ext cx="1154592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противолодочными кораблями, самолетами морской авиации и десантными судами.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Краткая история праздника Дня ВМФ"/>
          <p:cNvPicPr/>
          <p:nvPr/>
        </p:nvPicPr>
        <p:blipFill>
          <a:blip r:embed="rId1"/>
          <a:stretch/>
        </p:blipFill>
        <p:spPr>
          <a:xfrm>
            <a:off x="826920" y="2133720"/>
            <a:ext cx="763272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Моряки – профессия не из легких, но всегда пользуется уважением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4278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603360"/>
            <a:ext cx="76327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404280"/>
            <a:ext cx="35384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«Морским судам быть» - эти слова Петра I предопределили появление дня рождения Российского военно-морского флота. По настоянию императора Боярская Дума 20 октября 1696 года приняла решение о создании в государстве регулярного фло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067280" y="260280"/>
            <a:ext cx="47862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Настойчивость Петра можно было понять – всего годом ранее закончилась провалом осада русской армии турецкой крепости Азов. И все из-за отсутствия флота у русских, ведь турецкий флот беспрепятственно снабжал осажденных с моря боеприпасами и продуктами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2" name="" descr="Краткая история праздника Дня ВМФ"/>
          <p:cNvPicPr/>
          <p:nvPr/>
        </p:nvPicPr>
        <p:blipFill>
          <a:blip r:embed="rId1"/>
          <a:stretch/>
        </p:blipFill>
        <p:spPr>
          <a:xfrm>
            <a:off x="611280" y="1557360"/>
            <a:ext cx="7993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Военное кораблестроение развернулось в Воронеже, затем в Петербурге, в Архангельске и на Ладоге. Быстро были созданы Балтийский и Азовский флоты, а за ними Тихоокеанский и Северный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490760"/>
            <a:ext cx="8207280" cy="46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Times New Roman"/>
              </a:rPr>
              <a:t>Уже во второй половине 18 века Российский военно-морской флот настолько окреп и возрос, что занимал 3-е в мире место по количеству боевых кораблей. Мастерство и тактика боевого поведения на море постоянно совершенствовалась, и благодаря этому русские моряки одерживали победы в морских сражениях.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Краткая история праздника Дня ВМФ"/>
          <p:cNvPicPr/>
          <p:nvPr/>
        </p:nvPicPr>
        <p:blipFill>
          <a:blip r:embed="rId1"/>
          <a:stretch/>
        </p:blipFill>
        <p:spPr>
          <a:xfrm>
            <a:off x="755640" y="1628640"/>
            <a:ext cx="7704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imes New Roman"/>
              </a:rPr>
              <a:t>Показал свои геройские корни флот и в тяжелые годы Великой Отечественной войны. Советские военные суда били фашистов на море, а также на суше и в небе, надежно прикрывая фронтовые фланги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2" name="" descr="Краткая история праздника Дня ВМФ"/>
          <p:cNvPicPr/>
          <p:nvPr/>
        </p:nvPicPr>
        <p:blipFill>
          <a:blip r:embed="rId1"/>
          <a:stretch/>
        </p:blipFill>
        <p:spPr>
          <a:xfrm>
            <a:off x="785880" y="1600200"/>
            <a:ext cx="7570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Современные Военно-морской флот России обладает надежной боевой техникой – атомными подводными лодками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351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03:14:33Z</dcterms:created>
  <dc:creator>User</dc:creator>
  <dc:description/>
  <dc:language>en-US</dc:language>
  <cp:lastModifiedBy>User</cp:lastModifiedBy>
  <dcterms:modified xsi:type="dcterms:W3CDTF">2018-07-28T04:04:36Z</dcterms:modified>
  <cp:revision>4</cp:revision>
  <dc:subject/>
  <dc:title>Слайд 1</dc:title>
</cp:coreProperties>
</file>