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7ADC-7341-424E-9CF2-BF703BC49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70DB-B15B-45A0-B852-0E724D9D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61B4-84B4-4BC1-A076-543D8C627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88A6-BE5E-4E0B-AE39-A6D1026C9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E55C-85A6-470E-90C8-BC196F18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F10B-34DD-4F74-9D72-99ACD240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ECCA-9B6F-4E9D-ABC4-975ECE1B3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D0D5-92A8-4973-A845-C43404F5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7E59-7257-4873-9682-3605C341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04BF-9CE6-4715-85A7-819F87DF5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9FCB-E33B-4B7C-A03A-9D445CB8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58A0-611E-4358-BC68-F21FAECC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A9C6-DB9D-4832-A1E6-2B98C66A404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imes New Roman"/>
              </a:rPr>
              <a:t>Военно-морской флот России. </a:t>
            </a: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Презентация для детей старшего дошкольного возраста.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11280" y="1557360"/>
            <a:ext cx="81374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Times New Roman"/>
              </a:rPr>
              <a:t>мощными ракетными крейсерами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252360" y="1268280"/>
            <a:ext cx="11545920" cy="649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Times New Roman"/>
              </a:rPr>
              <a:t>противолодочными кораблями, самолетами морской авиации и десантными судами.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Краткая история праздника Дня ВМФ"/>
          <p:cNvPicPr/>
          <p:nvPr/>
        </p:nvPicPr>
        <p:blipFill>
          <a:blip r:embed="rId1"/>
          <a:stretch/>
        </p:blipFill>
        <p:spPr>
          <a:xfrm>
            <a:off x="826920" y="2133720"/>
            <a:ext cx="7632720" cy="40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Моряки – профессия не из легких, но всегда пользуется уважением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42788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5640" y="603360"/>
            <a:ext cx="76327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6840" y="404280"/>
            <a:ext cx="353844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«Морским судам быть» - эти слова Петра I предопределили появление дня рождения Российского военно-морского флота. По настоянию императора Боярская Дума 20 октября 1696 года приняла решение о создании в государстве регулярного фло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067280" y="260280"/>
            <a:ext cx="47862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Times New Roman"/>
              </a:rPr>
              <a:t>Настойчивость Петра можно было понять – всего годом ранее закончилась провалом осада русской армии турецкой крепости Азов. И все из-за отсутствия флота у русских, ведь турецкий флот беспрепятственно снабжал осажденных с моря боеприпасами и продуктами</a:t>
            </a:r>
            <a:endParaRPr b="0" lang="en-US" sz="18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2" name="" descr="Краткая история праздника Дня ВМФ"/>
          <p:cNvPicPr/>
          <p:nvPr/>
        </p:nvPicPr>
        <p:blipFill>
          <a:blip r:embed="rId1"/>
          <a:stretch/>
        </p:blipFill>
        <p:spPr>
          <a:xfrm>
            <a:off x="611280" y="1557360"/>
            <a:ext cx="79930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Times New Roman"/>
              </a:rPr>
              <a:t>Военное кораблестроение развернулось в Воронеже, затем в Петербурге, в Архангельске и на Ладоге. Быстро были созданы Балтийский и Азовский флоты, а за ними Тихоокеанский и Северный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68360" y="1490760"/>
            <a:ext cx="8207280" cy="46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ffff"/>
                </a:solidFill>
                <a:latin typeface="Times New Roman"/>
              </a:rPr>
              <a:t>Уже во второй половине 18 века Российский военно-морской флот настолько окреп и возрос, что занимал 3-е в мире место по количеству боевых кораблей. Мастерство и тактика боевого поведения на море постоянно совершенствовалась, и благодаря этому русские моряки одерживали победы в морских сражениях.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0" name="" descr="Краткая история праздника Дня ВМФ"/>
          <p:cNvPicPr/>
          <p:nvPr/>
        </p:nvPicPr>
        <p:blipFill>
          <a:blip r:embed="rId1"/>
          <a:stretch/>
        </p:blipFill>
        <p:spPr>
          <a:xfrm>
            <a:off x="755640" y="1628640"/>
            <a:ext cx="77040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ffff"/>
                </a:solidFill>
                <a:latin typeface="Times New Roman"/>
              </a:rPr>
              <a:t>Показал свои геройские корни флот и в тяжелые годы Великой Отечественной войны. Советские военные суда били фашистов на море, а также на суше и в небе, надежно прикрывая фронтовые фланги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2" name="" descr="Краткая история праздника Дня ВМФ"/>
          <p:cNvPicPr/>
          <p:nvPr/>
        </p:nvPicPr>
        <p:blipFill>
          <a:blip r:embed="rId1"/>
          <a:stretch/>
        </p:blipFill>
        <p:spPr>
          <a:xfrm>
            <a:off x="785880" y="1600200"/>
            <a:ext cx="7570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Times New Roman"/>
              </a:rPr>
              <a:t>Современные Военно-морской флот России обладает надежной боевой техникой – атомными подводными лодками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351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8T03:14:33Z</dcterms:created>
  <dc:creator>User</dc:creator>
  <dc:description/>
  <dc:language>en-US</dc:language>
  <cp:lastModifiedBy>User</cp:lastModifiedBy>
  <dcterms:modified xsi:type="dcterms:W3CDTF">2018-07-28T04:04:36Z</dcterms:modified>
  <cp:revision>4</cp:revision>
  <dc:subject/>
  <dc:title>Слайд 1</dc:title>
</cp:coreProperties>
</file>