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7E84-66B8-4288-BF80-CA5074A3B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713D-C3D1-444C-AD2B-F221F8AE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717E-D024-49D1-A95A-D4994C139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6850-A1FD-4677-9DC5-5C441388D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0EB05-9ABC-4801-965A-B83906FD2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8ABC-E3A2-483F-AF1E-3F0D5A3F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9DF1A-00B3-434E-9EF1-9626673C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8714A-3F88-49AA-B2FB-09491F38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A250-5EAE-46B0-878B-EF2C205D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74E5-BE51-48B1-9F99-5ED6F7B0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6A78-F288-44B4-A59E-C79DC8B2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21EF-7DD1-43A2-9A05-B856C018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BC19-8ECC-4826-BED4-0D7317B5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CA174-4931-4C42-AEA6-225F4E09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3B90-70C9-4F46-894F-39CD00CD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56F7-8EA4-47D5-921A-C5C4686CF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2553-3BF0-416B-99B3-6A5C79C05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5CE1-27EE-432C-8611-34FEF9B9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B933-1BB3-4BBB-97EC-F6594C0C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4954-39DF-4CB3-A8F0-584BC2B8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EB49-2F22-45E5-B605-B42F80AD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F059-E51F-4EE6-8ED9-BA2A7E6A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E648-2711-4B37-B537-56D1C7EF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4460-EFD7-46A9-AA3D-DDF9249A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8CE3-7958-43FC-BF90-275706C649B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64C5-AF63-466E-88EA-BF45B06D6DF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7856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Муниципальное автономное дошкольное образовательное учреждение</a:t>
            </a:r>
            <a:br>
              <a:rPr sz="2400"/>
            </a:b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«Детский сад № 187» г.Пермь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187280" y="2643120"/>
            <a:ext cx="6400800" cy="21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Нестандартное оборудование для обеспечения самостоятельной двигательной активности дошкольника в течении дн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оспитатель: Шалимова В.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785520"/>
            <a:ext cx="8229600" cy="53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Волшебные колечк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Материал: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апсулы от шоколадных яиц, шнур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Задачи: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ыполнять ОРУ с предметом, развивать ловкость, координацию движений, использовать в ОВД, подвижных игра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Рисунок 6" descr="IMG_20170118_154135.jpg"/>
          <p:cNvPicPr/>
          <p:nvPr/>
        </p:nvPicPr>
        <p:blipFill>
          <a:blip r:embed="rId4"/>
          <a:stretch/>
        </p:blipFill>
        <p:spPr>
          <a:xfrm>
            <a:off x="428760" y="3143160"/>
            <a:ext cx="3929040" cy="350064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9" descr="IMG_20170118_090929.jpg"/>
          <p:cNvPicPr/>
          <p:nvPr/>
        </p:nvPicPr>
        <p:blipFill>
          <a:blip r:embed="rId5"/>
          <a:stretch/>
        </p:blipFill>
        <p:spPr>
          <a:xfrm>
            <a:off x="4786200" y="3143160"/>
            <a:ext cx="364356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05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Arial"/>
              </a:rPr>
              <a:t>Гантели.</a:t>
            </a:r>
            <a:br>
              <a:rPr sz="3200"/>
            </a:b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0713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Verdana"/>
              </a:rPr>
              <a:t>Материал: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пластиковые бутылки, деревянные  палочки для соединения между собой, цветной скотч или изолента, горох (или другой материал для их наполнения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Verdana"/>
              </a:rPr>
              <a:t>Задачи: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ыполнять ОРУ с предметами для развития силы рук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Рисунок 4" descr="IMG_20170118_153631.jpg"/>
          <p:cNvPicPr/>
          <p:nvPr/>
        </p:nvPicPr>
        <p:blipFill>
          <a:blip r:embed="rId3"/>
          <a:stretch/>
        </p:blipFill>
        <p:spPr>
          <a:xfrm>
            <a:off x="357120" y="3143160"/>
            <a:ext cx="4071960" cy="321480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5" descr="IMG_20170118_090543.jpg"/>
          <p:cNvPicPr/>
          <p:nvPr/>
        </p:nvPicPr>
        <p:blipFill>
          <a:blip r:embed="rId4"/>
          <a:stretch/>
        </p:blipFill>
        <p:spPr>
          <a:xfrm>
            <a:off x="4643280" y="3071880"/>
            <a:ext cx="4071960" cy="32148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26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ffff99"/>
                </a:solidFill>
                <a:uFillTx/>
                <a:latin typeface="Arial"/>
              </a:rPr>
              <a:t>Бильбоке.</a:t>
            </a:r>
            <a:br>
              <a:rPr sz="2800"/>
            </a:br>
            <a:r>
              <a:rPr b="0" lang="ru-RU" sz="2400" spc="-1" strike="noStrike" u="sng">
                <a:solidFill>
                  <a:srgbClr val="ffff99"/>
                </a:solidFill>
                <a:uFillTx/>
                <a:latin typeface="Arial"/>
              </a:rPr>
              <a:t>Материал: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ластиковые бутылки, ленты, капсулы от шоколадных яиц, наклейки для украшения.</a:t>
            </a:r>
            <a:br>
              <a:rPr sz="2400"/>
            </a:br>
            <a:r>
              <a:rPr b="0" lang="ru-RU" sz="2400" spc="-1" strike="noStrike" u="sng">
                <a:solidFill>
                  <a:srgbClr val="ffff99"/>
                </a:solidFill>
                <a:uFillTx/>
                <a:latin typeface="Arial"/>
              </a:rPr>
              <a:t>Задачи: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развивать глазомер, координацию мелких движений, тренировать предплечие и кисти рук.</a:t>
            </a:r>
            <a:br>
              <a:rPr sz="2400"/>
            </a:b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4" name="Рисунок 3" descr="IMG_20170118_154216.jpg"/>
          <p:cNvPicPr/>
          <p:nvPr/>
        </p:nvPicPr>
        <p:blipFill>
          <a:blip r:embed="rId1"/>
          <a:stretch/>
        </p:blipFill>
        <p:spPr>
          <a:xfrm>
            <a:off x="428760" y="2928960"/>
            <a:ext cx="3786120" cy="342900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4" descr="IMG_20170118_090808.jpg"/>
          <p:cNvPicPr/>
          <p:nvPr/>
        </p:nvPicPr>
        <p:blipFill>
          <a:blip r:embed="rId2"/>
          <a:stretch/>
        </p:blipFill>
        <p:spPr>
          <a:xfrm>
            <a:off x="4572000" y="3000240"/>
            <a:ext cx="4214880" cy="32864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99"/>
                </a:solidFill>
                <a:uFillTx/>
                <a:latin typeface="Arial"/>
              </a:rPr>
              <a:t>Массажеры.</a:t>
            </a:r>
            <a:br>
              <a:rPr sz="2800"/>
            </a:br>
            <a:r>
              <a:rPr b="0" lang="ru-RU" sz="2800" spc="-1" strike="noStrike" u="sng">
                <a:solidFill>
                  <a:srgbClr val="ffff99"/>
                </a:solidFill>
                <a:uFillTx/>
                <a:latin typeface="Arial"/>
              </a:rPr>
              <a:t>Материалы: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различные материалы(крышки, пуговицы, карандаши, губки, перчатки, плотная ткань, шнур, капсулы от шоколадных яиц и т.д)</a:t>
            </a:r>
            <a:br>
              <a:rPr sz="2800"/>
            </a:br>
            <a:r>
              <a:rPr b="0" lang="ru-RU" sz="2800" spc="-1" strike="noStrike" u="sng">
                <a:solidFill>
                  <a:srgbClr val="ffff99"/>
                </a:solidFill>
                <a:uFillTx/>
                <a:latin typeface="Arial"/>
              </a:rPr>
              <a:t>Задачи: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укреплять мышцы спины, рук, ног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7" name="Рисунок 7" descr="IMG_20170118_154115.jpg"/>
          <p:cNvPicPr/>
          <p:nvPr/>
        </p:nvPicPr>
        <p:blipFill>
          <a:blip r:embed="rId1"/>
          <a:stretch/>
        </p:blipFill>
        <p:spPr>
          <a:xfrm>
            <a:off x="214200" y="3357720"/>
            <a:ext cx="2786040" cy="278604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8" descr="IMG_20170118_091848.jpg"/>
          <p:cNvPicPr/>
          <p:nvPr/>
        </p:nvPicPr>
        <p:blipFill>
          <a:blip r:embed="rId2"/>
          <a:stretch/>
        </p:blipFill>
        <p:spPr>
          <a:xfrm>
            <a:off x="3071880" y="3286080"/>
            <a:ext cx="3143160" cy="292896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9" descr="IMG_20170118_091129.jpg"/>
          <p:cNvPicPr/>
          <p:nvPr/>
        </p:nvPicPr>
        <p:blipFill>
          <a:blip r:embed="rId3"/>
          <a:stretch/>
        </p:blipFill>
        <p:spPr>
          <a:xfrm>
            <a:off x="6286680" y="3357720"/>
            <a:ext cx="2714400" cy="27860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01" name="Рисунок 4" descr="DSCN0566.JPG"/>
          <p:cNvPicPr/>
          <p:nvPr/>
        </p:nvPicPr>
        <p:blipFill>
          <a:blip r:embed="rId1"/>
          <a:stretch/>
        </p:blipFill>
        <p:spPr>
          <a:xfrm>
            <a:off x="571680" y="1143000"/>
            <a:ext cx="7429320" cy="50720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2276640"/>
            <a:ext cx="8229600" cy="125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«Здоровье и счастье наших детей во многом зависит от постановки физической культуры в детском саду и семье…»</a:t>
            </a: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                           Н.М.Амосов</a:t>
            </a: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071440"/>
            <a:ext cx="8229600" cy="40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ажным направлением в формировании у детей основ здорового образа жизни является правильно организованная предметно-пространственная среда, прежде всего это двигательная  среда. Она должна носить развивающий характер, быть разнообразной, динамичной, трансформируемой, полифункциональной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592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99"/>
                </a:solidFill>
                <a:uFillTx/>
                <a:latin typeface="Arial"/>
              </a:rPr>
              <a:t>Цель: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 внести новизну в  воспитательно-образовательный процесс по физическому воспитанию с помощью яркого нестандартного оборудования изготовленного своими руками и использование его на занятиях, играх, самостоятельной двигательной активности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Задачи: формировать интерес к нестандартному оборудованию, приобщать родителей к его изготовлению, развивать творчество, фантазию при использовании нестандартного оборудования, мотивировать детей на двигательную активность через использование нестандартного оборудования в самостоятельных видах деятельности</a:t>
            </a:r>
            <a:br>
              <a:rPr sz="2400"/>
            </a:b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56760" y="3214800"/>
            <a:ext cx="835812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hecke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57120" y="42876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Нестандартное оборудование должно быть:</a:t>
            </a:r>
            <a:br>
              <a:rPr sz="40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*безопасным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;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*максимально эффективным;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*удобным к применению;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*компактным;  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*универсальным;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*технологичным и простым в применении;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*эстетичным;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71680" y="571320"/>
            <a:ext cx="811512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Березовые поленц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46960" indent="-246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Verdana"/>
              </a:rPr>
              <a:t>Материал: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туба от линолиума, краск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46960" indent="-246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Verdana"/>
              </a:rPr>
              <a:t>Задачи: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учить детей перешагивать, перепрыгивать, пробегать через предметы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Рисунок 4" descr="IMG_20170118_153938.jpg"/>
          <p:cNvPicPr/>
          <p:nvPr/>
        </p:nvPicPr>
        <p:blipFill>
          <a:blip r:embed="rId1"/>
          <a:stretch/>
        </p:blipFill>
        <p:spPr>
          <a:xfrm>
            <a:off x="571680" y="2143080"/>
            <a:ext cx="3000240" cy="221472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5" descr="IMG_20170118_091327.jpg"/>
          <p:cNvPicPr/>
          <p:nvPr/>
        </p:nvPicPr>
        <p:blipFill>
          <a:blip r:embed="rId2"/>
          <a:stretch/>
        </p:blipFill>
        <p:spPr>
          <a:xfrm>
            <a:off x="5000760" y="2143080"/>
            <a:ext cx="3214440" cy="207180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6" descr="IMG_20170118_091309.jpg"/>
          <p:cNvPicPr/>
          <p:nvPr/>
        </p:nvPicPr>
        <p:blipFill>
          <a:blip r:embed="rId3"/>
          <a:stretch/>
        </p:blipFill>
        <p:spPr>
          <a:xfrm>
            <a:off x="2428920" y="4071960"/>
            <a:ext cx="4286160" cy="26431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3" name="Содержимое 9" descr="IMG_20170118_090747.jpg"/>
          <p:cNvPicPr/>
          <p:nvPr/>
        </p:nvPicPr>
        <p:blipFill>
          <a:blip r:embed="rId1"/>
          <a:stretch/>
        </p:blipFill>
        <p:spPr>
          <a:xfrm>
            <a:off x="857160" y="3286080"/>
            <a:ext cx="3786120" cy="32148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323640" y="428760"/>
            <a:ext cx="824868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Веселые карандаш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Verdana"/>
              </a:rPr>
              <a:t>Материал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: оборудование  изготовлено из цветных карандашей, контейнера от шоколадных яиц, синтетический шнур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Verdana"/>
              </a:rPr>
              <a:t>Задачи: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способствовать профилактике плоскостопия, массаж стоп. Улучшение кровообращения в пальцах, кистях рук и предплеч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Содержимое 8" descr="IMG_20170118_153815.jpg"/>
          <p:cNvPicPr/>
          <p:nvPr/>
        </p:nvPicPr>
        <p:blipFill>
          <a:blip r:embed="rId2"/>
          <a:stretch/>
        </p:blipFill>
        <p:spPr>
          <a:xfrm>
            <a:off x="4643280" y="3286080"/>
            <a:ext cx="4043520" cy="32148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99"/>
                </a:solidFill>
                <a:uFillTx/>
                <a:latin typeface="Arial"/>
              </a:rPr>
              <a:t>«Скакалки из крышек»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Материал: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азноцветные крышки, две ручки от 5 литровых бутылок, шнур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Задачи: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бучать детей прыганию через скакалку, развивать прыгучесть, ловкость, внимани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Рисунок 3" descr="IMG_20170118_154012.jpg"/>
          <p:cNvPicPr/>
          <p:nvPr/>
        </p:nvPicPr>
        <p:blipFill>
          <a:blip r:embed="rId4"/>
          <a:stretch/>
        </p:blipFill>
        <p:spPr>
          <a:xfrm>
            <a:off x="785880" y="3571920"/>
            <a:ext cx="3643200" cy="285732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4" descr="IMG_20170118_090834.jpg"/>
          <p:cNvPicPr/>
          <p:nvPr/>
        </p:nvPicPr>
        <p:blipFill>
          <a:blip r:embed="rId5"/>
          <a:stretch/>
        </p:blipFill>
        <p:spPr>
          <a:xfrm>
            <a:off x="4857840" y="3571920"/>
            <a:ext cx="3571920" cy="27860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99"/>
                </a:solidFill>
                <a:uFillTx/>
                <a:latin typeface="Arial"/>
              </a:rPr>
              <a:t>Балансир.</a:t>
            </a:r>
            <a:br>
              <a:rPr sz="2400"/>
            </a:br>
            <a:r>
              <a:rPr b="0" lang="ru-RU" sz="2400" spc="-1" strike="noStrike" u="sng">
                <a:solidFill>
                  <a:srgbClr val="ffff99"/>
                </a:solidFill>
                <a:uFillTx/>
                <a:latin typeface="Arial"/>
              </a:rPr>
              <a:t>Материал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: толстая фанера, черенки для лопат, цветная самоклеящаяся бумага.</a:t>
            </a:r>
            <a:br>
              <a:rPr sz="2400"/>
            </a:br>
            <a:r>
              <a:rPr b="0" lang="ru-RU" sz="2400" spc="-1" strike="noStrike" u="sng">
                <a:solidFill>
                  <a:srgbClr val="ffff99"/>
                </a:solidFill>
                <a:uFillTx/>
                <a:latin typeface="Arial"/>
              </a:rPr>
              <a:t>Задачи: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совершенствовать навыки правильной осанки, упражнять в сохранение равновесия, развивать координацию, укреплять мышцы ног и поясничного отдела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1" name="Рисунок 2" descr="IMG_20170118_092922.jpg"/>
          <p:cNvPicPr/>
          <p:nvPr/>
        </p:nvPicPr>
        <p:blipFill>
          <a:blip r:embed="rId1"/>
          <a:stretch/>
        </p:blipFill>
        <p:spPr>
          <a:xfrm>
            <a:off x="428760" y="3286080"/>
            <a:ext cx="3857400" cy="335772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3" descr="IMG_20170118_093000.jpg"/>
          <p:cNvPicPr/>
          <p:nvPr/>
        </p:nvPicPr>
        <p:blipFill>
          <a:blip r:embed="rId2"/>
          <a:stretch/>
        </p:blipFill>
        <p:spPr>
          <a:xfrm>
            <a:off x="4857840" y="3357720"/>
            <a:ext cx="4071960" cy="32860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277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                              </a:t>
            </a:r>
            <a:r>
              <a:rPr b="0" lang="ru-RU" sz="3200" spc="-1" strike="noStrike" u="sng">
                <a:solidFill>
                  <a:srgbClr val="ffff99"/>
                </a:solidFill>
                <a:uFillTx/>
                <a:latin typeface="Arial"/>
              </a:rPr>
              <a:t>Дуйбол.</a:t>
            </a:r>
            <a:br>
              <a:rPr sz="3200"/>
            </a:br>
            <a:br>
              <a:rPr sz="3200"/>
            </a:br>
            <a:r>
              <a:rPr b="0" lang="ru-RU" sz="2400" spc="-1" strike="noStrike" u="sng">
                <a:solidFill>
                  <a:srgbClr val="ffff99"/>
                </a:solidFill>
                <a:uFillTx/>
                <a:latin typeface="Arial"/>
              </a:rPr>
              <a:t>Материал: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палочки для напитков , коробка, мягкие шарики.</a:t>
            </a:r>
            <a:br>
              <a:rPr sz="2400"/>
            </a:br>
            <a:r>
              <a:rPr b="0" lang="ru-RU" sz="2400" spc="-1" strike="noStrike" u="sng">
                <a:solidFill>
                  <a:srgbClr val="ffff99"/>
                </a:solidFill>
                <a:uFillTx/>
                <a:latin typeface="Arial"/>
              </a:rPr>
              <a:t>Задачи: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учить выдержке и  вниманию, развивать скорость реакции, учить правильно набирать воздух и регулировать воздушную струю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4" name="Рисунок 6" descr="IMG_20170118_091930.jpg"/>
          <p:cNvPicPr/>
          <p:nvPr/>
        </p:nvPicPr>
        <p:blipFill>
          <a:blip r:embed="rId1"/>
          <a:stretch/>
        </p:blipFill>
        <p:spPr>
          <a:xfrm>
            <a:off x="357120" y="3143160"/>
            <a:ext cx="3929040" cy="32148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07:42:14Z</dcterms:created>
  <dc:creator>Admin</dc:creator>
  <dc:description/>
  <dc:language>en-US</dc:language>
  <cp:lastModifiedBy>Вероника</cp:lastModifiedBy>
  <dcterms:modified xsi:type="dcterms:W3CDTF">2018-07-28T16:02:03Z</dcterms:modified>
  <cp:revision>53</cp:revision>
  <dc:subject/>
  <dc:title>Муниципальное дошкольное  образовательное учреждение  «Ромодановский детский сад  комбинированного вида»</dc:title>
</cp:coreProperties>
</file>