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EF5-DCF2-4DF9-8292-83155B74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08E-CFC9-48DA-A1BC-D0F084BD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035-87DE-4880-B006-CFF66EA2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4A6-CBEB-4513-8495-E094B863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947-9BCC-4659-8E95-4837E59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B9A9-C854-437D-A7EA-3FCE330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EFC-DD44-4909-9158-1133FA9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EA82-B7E0-4855-BE30-85B9F50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3340-35D9-4543-BD9E-6074CA7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B450-0A63-4026-A571-5DDA4D5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3781-9B41-4E7B-9E3A-70C3799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14E-B0B2-42A1-9273-2E2C0DCA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2765-9FBB-4D62-A6F0-E15BC236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0295-0C90-43C9-B817-E7D276D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4B1B-9F4E-4D1A-AFDC-A9DD3EA2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118-A386-444D-A5BF-D932625A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144B-40FF-44B7-B0F3-C42A4AF7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921-4223-43C2-BC48-E5198715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A88-E268-4D83-B4BC-293B459B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F2B-BA83-4A52-8436-BDF37F28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51B-D42B-430F-A6AF-FED56E88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643-9EFB-42C5-9433-2F5B584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611-3AB7-40C9-9BC8-19ACAF3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5C9-E66B-4E99-BC49-D0A1ABE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DDC-AEBA-4B99-BB1D-8E6BDBC967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7FF-CC29-4F85-AC22-0C6EB0521C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7856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Детский сад № 187» г.Пермь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187280" y="2643120"/>
            <a:ext cx="64008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стандартное оборудование для обеспечения самостоятельной двигательной активности дошкольника в течении д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спитатель: Шалимова В.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олшебные колеч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сулы от шоколадных яиц, шну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ыполнять ОРУ с предметом, развивать ловкость, координацию движений, использовать в ОВД, подвижных игр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Рисунок 6" descr="IMG_20170118_154135.jpg"/>
          <p:cNvPicPr/>
          <p:nvPr/>
        </p:nvPicPr>
        <p:blipFill>
          <a:blip r:embed="rId4"/>
          <a:stretch/>
        </p:blipFill>
        <p:spPr>
          <a:xfrm>
            <a:off x="428760" y="3143160"/>
            <a:ext cx="392904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9" descr="IMG_20170118_090929.jpg"/>
          <p:cNvPicPr/>
          <p:nvPr/>
        </p:nvPicPr>
        <p:blipFill>
          <a:blip r:embed="rId5"/>
          <a:stretch/>
        </p:blipFill>
        <p:spPr>
          <a:xfrm>
            <a:off x="4786200" y="3143160"/>
            <a:ext cx="36435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Гантели.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71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ластиковые бутылки, деревянные  палочки для соединения между собой, цветной скотч или изолента, горох (или другой материал для их наполн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полнять ОРУ с предметами для развития силы ру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4" descr="IMG_20170118_153631.jpg"/>
          <p:cNvPicPr/>
          <p:nvPr/>
        </p:nvPicPr>
        <p:blipFill>
          <a:blip r:embed="rId3"/>
          <a:stretch/>
        </p:blipFill>
        <p:spPr>
          <a:xfrm>
            <a:off x="357120" y="3143160"/>
            <a:ext cx="4071960" cy="32148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IMG_20170118_090543.jpg"/>
          <p:cNvPicPr/>
          <p:nvPr/>
        </p:nvPicPr>
        <p:blipFill>
          <a:blip r:embed="rId4"/>
          <a:stretch/>
        </p:blipFill>
        <p:spPr>
          <a:xfrm>
            <a:off x="4643280" y="3071880"/>
            <a:ext cx="407196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Бильбоке.</a:t>
            </a:r>
            <a:br>
              <a:rPr sz="28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: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стиковые бутылки, ленты, капсулы от шоколадных яиц, наклейки для украшения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развивать глазомер, координацию мелких движений, тренировать предплечие и кисти рук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4" name="Рисунок 3" descr="IMG_20170118_154216.jpg"/>
          <p:cNvPicPr/>
          <p:nvPr/>
        </p:nvPicPr>
        <p:blipFill>
          <a:blip r:embed="rId1"/>
          <a:stretch/>
        </p:blipFill>
        <p:spPr>
          <a:xfrm>
            <a:off x="428760" y="2928960"/>
            <a:ext cx="378612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IMG_20170118_090808.jpg"/>
          <p:cNvPicPr/>
          <p:nvPr/>
        </p:nvPicPr>
        <p:blipFill>
          <a:blip r:embed="rId2"/>
          <a:stretch/>
        </p:blipFill>
        <p:spPr>
          <a:xfrm>
            <a:off x="4572000" y="3000240"/>
            <a:ext cx="4214880" cy="3286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Массажеры.</a:t>
            </a:r>
            <a:br>
              <a:rPr sz="2800"/>
            </a:b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Материалы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личные материалы(крышки, пуговицы, карандаши, губки, перчатки, плотная ткань, шнур, капсулы от шоколадных яиц и т.д)</a:t>
            </a:r>
            <a:br>
              <a:rPr sz="2800"/>
            </a:b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Задачи: 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укреплять мышцы спины, рук, ног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7" name="Рисунок 7" descr="IMG_20170118_154115.jpg"/>
          <p:cNvPicPr/>
          <p:nvPr/>
        </p:nvPicPr>
        <p:blipFill>
          <a:blip r:embed="rId1"/>
          <a:stretch/>
        </p:blipFill>
        <p:spPr>
          <a:xfrm>
            <a:off x="214200" y="335772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IMG_20170118_091848.jpg"/>
          <p:cNvPicPr/>
          <p:nvPr/>
        </p:nvPicPr>
        <p:blipFill>
          <a:blip r:embed="rId2"/>
          <a:stretch/>
        </p:blipFill>
        <p:spPr>
          <a:xfrm>
            <a:off x="3071880" y="328608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9" descr="IMG_20170118_091129.jpg"/>
          <p:cNvPicPr/>
          <p:nvPr/>
        </p:nvPicPr>
        <p:blipFill>
          <a:blip r:embed="rId3"/>
          <a:stretch/>
        </p:blipFill>
        <p:spPr>
          <a:xfrm>
            <a:off x="6286680" y="3357720"/>
            <a:ext cx="271440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1" name="Рисунок 4" descr="DSCN0566.JPG"/>
          <p:cNvPicPr/>
          <p:nvPr/>
        </p:nvPicPr>
        <p:blipFill>
          <a:blip r:embed="rId1"/>
          <a:stretch/>
        </p:blipFill>
        <p:spPr>
          <a:xfrm>
            <a:off x="571680" y="1143000"/>
            <a:ext cx="7429320" cy="507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2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«Здоровье и счастье наших детей во многом зависит от постановки физической культуры в детском саду и семье…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                      Н.М.Амос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ажным направлением в формировании у детей основ здорового образа жизни является правильно организованная предметно-пространственная среда, прежде всего это двигательная  среда. Она должна носить развивающий характер, быть разнообразной, динамичной, трансформируемой, полифункциональн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Цель: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внести новизну в  воспитательно-образовательный процесс по физическому воспитанию с помощью яркого нестандартного оборудования изготовленного своими руками и использование его на занятиях, играх, самостоятельной двигательной активност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Задачи: формировать интерес к нестандартному оборудованию, приобщать родителей к его изготовлению, развивать творчество, фантазию при использовании нестандартного оборудования, мотивировать детей на двигательную активность через использование нестандартного оборудования в самостоятельных видах деятельности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760" y="3214800"/>
            <a:ext cx="83581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естандартное оборудование должно быть:</a:t>
            </a:r>
            <a:br>
              <a:rPr sz="40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*безопасным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максимально эффективным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удобным к применению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компактным; 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универсальным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технологичным и простым в применении;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*эстетичным;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571320"/>
            <a:ext cx="81151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Березовые поленц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уба от линолиума, крас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учить детей перешагивать, перепрыгивать, пробегать через предмет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Рисунок 4" descr="IMG_20170118_153938.jpg"/>
          <p:cNvPicPr/>
          <p:nvPr/>
        </p:nvPicPr>
        <p:blipFill>
          <a:blip r:embed="rId1"/>
          <a:stretch/>
        </p:blipFill>
        <p:spPr>
          <a:xfrm>
            <a:off x="571680" y="2143080"/>
            <a:ext cx="3000240" cy="2214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IMG_20170118_091327.jpg"/>
          <p:cNvPicPr/>
          <p:nvPr/>
        </p:nvPicPr>
        <p:blipFill>
          <a:blip r:embed="rId2"/>
          <a:stretch/>
        </p:blipFill>
        <p:spPr>
          <a:xfrm>
            <a:off x="5000760" y="2143080"/>
            <a:ext cx="3214440" cy="2071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IMG_20170118_091309.jpg"/>
          <p:cNvPicPr/>
          <p:nvPr/>
        </p:nvPicPr>
        <p:blipFill>
          <a:blip r:embed="rId3"/>
          <a:stretch/>
        </p:blipFill>
        <p:spPr>
          <a:xfrm>
            <a:off x="2428920" y="4071960"/>
            <a:ext cx="42861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Содержимое 9" descr="IMG_20170118_090747.jpg"/>
          <p:cNvPicPr/>
          <p:nvPr/>
        </p:nvPicPr>
        <p:blipFill>
          <a:blip r:embed="rId1"/>
          <a:stretch/>
        </p:blipFill>
        <p:spPr>
          <a:xfrm>
            <a:off x="857160" y="3286080"/>
            <a:ext cx="3786120" cy="321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23640" y="428760"/>
            <a:ext cx="82486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еселые карандаш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Материал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: оборудование  изготовлено из цветных карандашей, контейнера от шоколадных яиц, синтетический шну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пособствовать профилактике плоскостопия, массаж стоп. Улучшение кровообращения в пальцах, кистях рук и предплеч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Содержимое 8" descr="IMG_20170118_153815.jpg"/>
          <p:cNvPicPr/>
          <p:nvPr/>
        </p:nvPicPr>
        <p:blipFill>
          <a:blip r:embed="rId2"/>
          <a:stretch/>
        </p:blipFill>
        <p:spPr>
          <a:xfrm>
            <a:off x="4643280" y="3286080"/>
            <a:ext cx="40435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«Скакалки из крышек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атериал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ноцветные крышки, две ручки от 5 литровых бутылок, шну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адачи: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учать детей прыганию через скакалку, развивать прыгучесть, ловкость, вним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Рисунок 3" descr="IMG_20170118_154012.jpg"/>
          <p:cNvPicPr/>
          <p:nvPr/>
        </p:nvPicPr>
        <p:blipFill>
          <a:blip r:embed="rId4"/>
          <a:stretch/>
        </p:blipFill>
        <p:spPr>
          <a:xfrm>
            <a:off x="785880" y="357192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IMG_20170118_090834.jpg"/>
          <p:cNvPicPr/>
          <p:nvPr/>
        </p:nvPicPr>
        <p:blipFill>
          <a:blip r:embed="rId5"/>
          <a:stretch/>
        </p:blipFill>
        <p:spPr>
          <a:xfrm>
            <a:off x="4857840" y="3571920"/>
            <a:ext cx="35719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Балансир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: толстая фанера, черенки для лопат, цветная самоклеящаяся бумага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совершенствовать навыки правильной осанки, упражнять в сохранение равновесия, развивать координацию, укреплять мышцы ног и поясничного отдела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1" name="Рисунок 2" descr="IMG_20170118_092922.jpg"/>
          <p:cNvPicPr/>
          <p:nvPr/>
        </p:nvPicPr>
        <p:blipFill>
          <a:blip r:embed="rId1"/>
          <a:stretch/>
        </p:blipFill>
        <p:spPr>
          <a:xfrm>
            <a:off x="428760" y="3286080"/>
            <a:ext cx="3857400" cy="3357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IMG_20170118_093000.jpg"/>
          <p:cNvPicPr/>
          <p:nvPr/>
        </p:nvPicPr>
        <p:blipFill>
          <a:blip r:embed="rId2"/>
          <a:stretch/>
        </p:blipFill>
        <p:spPr>
          <a:xfrm>
            <a:off x="4857840" y="3357720"/>
            <a:ext cx="40719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Дуйбол.</a:t>
            </a:r>
            <a:br>
              <a:rPr sz="3200"/>
            </a:br>
            <a:br>
              <a:rPr sz="32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Материал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палочки для напитков , коробка, мягкие шарики.</a:t>
            </a:r>
            <a:br>
              <a:rPr sz="2400"/>
            </a:br>
            <a:r>
              <a:rPr b="0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Задачи: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учить выдержке и  вниманию, развивать скорость реакции, учить правильно набирать воздух и регулировать воздушную струю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Рисунок 6" descr="IMG_20170118_091930.jpg"/>
          <p:cNvPicPr/>
          <p:nvPr/>
        </p:nvPicPr>
        <p:blipFill>
          <a:blip r:embed="rId1"/>
          <a:stretch/>
        </p:blipFill>
        <p:spPr>
          <a:xfrm>
            <a:off x="357120" y="3143160"/>
            <a:ext cx="392904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2:14Z</dcterms:created>
  <dc:creator>Admin</dc:creator>
  <dc:description/>
  <dc:language>en-US</dc:language>
  <cp:lastModifiedBy>Вероника</cp:lastModifiedBy>
  <dcterms:modified xsi:type="dcterms:W3CDTF">2018-07-28T16:02:03Z</dcterms:modified>
  <cp:revision>53</cp:revision>
  <dc:subject/>
  <dc:title>Муниципальное дошкольное  образовательное учреждение  «Ромодановский детский сад  комбинированного вида»</dc:title>
</cp:coreProperties>
</file>