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DF3-6CD2-43C1-AACF-E146AACE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360-914C-4CD2-B6D1-756B3B0A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C97-EAA0-4A7A-8713-03941738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C7F-BF6E-4A75-A4F4-742CF387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A62-9374-41C4-91B1-E65E112A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AE4-71CB-4170-B4E1-1EB8C386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5A7-09FD-4BE8-AB80-D11CA0F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395-8522-4725-B9FA-7A8B1824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8E5-12C9-4ABA-AE79-32DE169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E07-82E4-424B-82C8-DA0AF0E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0BA-AA58-4BB1-860B-F7BB609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D5A-2DC2-4A10-ABF3-C943E47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088-92AE-4B34-A8A9-F584A28BB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smoladmin.ru/administraciya-goroda/struktura/administraciya-promyshlennogo-rajona/rukovodstvo-administracii-promyshlennogo-rajona/samujlov-aleksandr-viktorovich/" TargetMode="External"/><Relationship Id="rId2" Type="http://schemas.openxmlformats.org/officeDocument/2006/relationships/hyperlink" Target="https://www.smoladmin.ru/administraciya-goroda/struktura/administraciya-leninskogo-rajona/rukovodstvo-administracii-leninskogo-rajona/tihomirov-sergej-vladimirovich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0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1 АПРЕЛЯ - ДЕНЬ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4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19" name="Picture 25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6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7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8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9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Формы осуществления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441972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1066680" y="15238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106668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V="1">
            <a:off x="800100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335268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548640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04920" y="22096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стный референдум, выб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438280" y="22096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брания, 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495680" y="2209680"/>
            <a:ext cx="2133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ыборные и другие органы местного самоуправления (собрание представителей – Дума, муниципальный комитет, глава муниципального образования – мэр, старо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858000" y="2055960"/>
            <a:ext cx="2057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Территориаль- ное обществен-ное самоуправ-ление (советы микрорайонов, уличные, домовые комит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304920" y="2209680"/>
            <a:ext cx="182880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6858000" y="2209680"/>
            <a:ext cx="198108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4495680" y="2209680"/>
            <a:ext cx="213372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362320" y="2209680"/>
            <a:ext cx="190476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0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41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56272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Полномочия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1371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лномочия представительного органа местного самоуправления (выборное собрание, совет, дума, земство, муниципальный комитет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85800" y="1371600"/>
            <a:ext cx="365760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2286000" y="2895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276720"/>
            <a:ext cx="35812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тверждает местный бюджет и отчет о его испол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станавливает мест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тверждает программы развития соответствующих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уществляет контроль за деятельностью главы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685800" y="3276720"/>
            <a:ext cx="3733920" cy="32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49528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лномочия главы местного самоуправления (глава администрации, мэр, старост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952880" y="3276720"/>
            <a:ext cx="35816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уществляет управление муниципальным хозяй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споряжается имуществом и объектами муницип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зрабатывает мест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уществляет регулирование земе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952880" y="1371600"/>
            <a:ext cx="350532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4952880" y="3276720"/>
            <a:ext cx="3581640" cy="32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64771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5714640" y="99072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2666880" y="990720"/>
            <a:ext cx="7621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7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61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2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8763120" cy="25146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0"/>
          <p:cNvSpPr/>
          <p:nvPr/>
        </p:nvSpPr>
        <p:spPr>
          <a:xfrm>
            <a:off x="533520" y="35053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труктура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органов местного самоуправления города Смоленска составляют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Глава города Смоленска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Смоленское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городское Собрание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Администрация города Смоленска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но-счетная палата города Смоле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3" descr="struktura012018.png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ренко                                                Сынкин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Александрович                         Юрий Константинович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434600"/>
            <a:ext cx="35053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   города  Смоле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одержимое 6" descr="glava-na-sajt_1490098426.jpg"/>
          <p:cNvPicPr/>
          <p:nvPr/>
        </p:nvPicPr>
        <p:blipFill>
          <a:blip r:embed="rId1"/>
          <a:stretch/>
        </p:blipFill>
        <p:spPr>
          <a:xfrm>
            <a:off x="380880" y="205740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Сынкин .jpg"/>
          <p:cNvPicPr/>
          <p:nvPr/>
        </p:nvPicPr>
        <p:blipFill>
          <a:blip r:embed="rId2"/>
          <a:stretch/>
        </p:blipFill>
        <p:spPr>
          <a:xfrm>
            <a:off x="5029200" y="2057400"/>
            <a:ext cx="3124080" cy="42670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191120" y="1447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седатель Смо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одского Совет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САМУЙЛОВ                                   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ИХОМИРОВ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ВАЛОВ 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Викторович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Владимирович                 Николай Алексеевич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Промышленного р-а           глава Ленинского р-а                 глава Заднепровского р-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glava0_1475224910.jpg"/>
          <p:cNvPicPr/>
          <p:nvPr/>
        </p:nvPicPr>
        <p:blipFill>
          <a:blip r:embed="rId3"/>
          <a:stretch/>
        </p:blipFill>
        <p:spPr>
          <a:xfrm>
            <a:off x="533520" y="1676520"/>
            <a:ext cx="2361960" cy="3429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img_5644_1486039351.jpg"/>
          <p:cNvPicPr/>
          <p:nvPr/>
        </p:nvPicPr>
        <p:blipFill>
          <a:blip r:embed="rId4"/>
          <a:stretch/>
        </p:blipFill>
        <p:spPr>
          <a:xfrm>
            <a:off x="3524400" y="2000160"/>
            <a:ext cx="2266920" cy="30290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foto-shapovalova_1487602952.jpg"/>
          <p:cNvPicPr/>
          <p:nvPr/>
        </p:nvPicPr>
        <p:blipFill>
          <a:blip r:embed="rId5"/>
          <a:stretch/>
        </p:blipFill>
        <p:spPr>
          <a:xfrm>
            <a:off x="6477120" y="1981080"/>
            <a:ext cx="2171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онституционные гарантии правомочий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533520" y="1447920"/>
            <a:ext cx="8229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нституция РФ устанавл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ы местного самоуправления не входят в систему органов государственной власти (ст.1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органов местного самоуправления определяется населением самостоятельно (ст.13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границ территорий, в которых осуществляется местное самоуправление, допускается с учетом мнения населения соответствующих территорий (ст. 1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ы местного самоуправления самостоятельно управляют муниципальной собственностью, формируют, утверждают и исполняют местный бюджет, устанавливают местные налоги и сборы (ст.1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итуция РФ гарантирует (ст. 13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ебную защиту нарушенных прав местного само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енсацию дополнительных расходов, возникших в результате решений, принятых органами государственной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 на ограничение прав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дметы ведения местного самоу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просы местного 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ие и изменение уставов муниципальных образ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дение, пользование, распоряжение муниципальной собствен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ные финансы, формирование, утверждение и исполнение местного бюджета, установление местных налогов и сб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и использование муниципального жилищного фонда и нежилых помещ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, содержание и развитие муниципальных учреждений образования, здравоо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ирование планировки и застройки территорий 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ие вопросы мест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тдельные государственные полномочия, которыми могут наделяться законом органы местного самоуправления (например, государственная регистрация актов гражданского состоя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7"/>
          <p:cNvGrpSpPr/>
          <p:nvPr/>
        </p:nvGrpSpPr>
        <p:grpSpPr>
          <a:xfrm>
            <a:off x="0" y="0"/>
            <a:ext cx="9147240" cy="6858000"/>
            <a:chOff x="0" y="0"/>
            <a:chExt cx="9147240" cy="6858000"/>
          </a:xfrm>
        </p:grpSpPr>
        <p:pic>
          <p:nvPicPr>
            <p:cNvPr id="184" name="Picture 8" descr="1333803167_russia"/>
            <p:cNvPicPr/>
            <p:nvPr/>
          </p:nvPicPr>
          <p:blipFill>
            <a:blip r:embed="rId1"/>
            <a:stretch/>
          </p:blipFill>
          <p:spPr>
            <a:xfrm>
              <a:off x="324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496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324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324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Picture 13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12"/>
          <p:cNvSpPr/>
          <p:nvPr/>
        </p:nvSpPr>
        <p:spPr>
          <a:xfrm>
            <a:off x="914400" y="228600"/>
            <a:ext cx="797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ля чего дано право на местное самоуправление и как его можно реализ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304920" y="198108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ей РФ  статьей 3 установлено, что единственным источников власти является многонациональный народ России. Эту власть народ может осуществлять непосредственно, либо через органы государственной власти или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рганы местного самоуправления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93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Прямоугольник 7"/>
          <p:cNvSpPr/>
          <p:nvPr/>
        </p:nvSpPr>
        <p:spPr>
          <a:xfrm>
            <a:off x="228600" y="152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законодательстве Российской Федерации выделяются два способа реализации права граждан на местное самоупр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304920" y="215064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частие в выборах органов местного самоуправления и должностных лиц - главы администрации, мэ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частие граждан в местных референдум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частие граждан в собраниях (сходах) граж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1755720"/>
            <a:ext cx="7205400" cy="1639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36522952716ee4ef4aa26afc8fd66805.png"/>
          <p:cNvPicPr/>
          <p:nvPr/>
        </p:nvPicPr>
        <p:blipFill>
          <a:blip r:embed="rId7"/>
          <a:stretch/>
        </p:blipFill>
        <p:spPr>
          <a:xfrm>
            <a:off x="0" y="0"/>
            <a:ext cx="9144000" cy="166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14" descr="465ea0c0-f862-597a-92c3-0ef0d1558c40.jpg"/>
          <p:cNvPicPr/>
          <p:nvPr/>
        </p:nvPicPr>
        <p:blipFill>
          <a:blip r:embed="rId8"/>
          <a:stretch/>
        </p:blipFill>
        <p:spPr>
          <a:xfrm>
            <a:off x="7086600" y="4038480"/>
            <a:ext cx="19130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01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Прямоугольник 7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обращение граждан в органы местного само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самоорганизация граждан путем использования форм территориального общественного само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иные формы, предусмотренные законами Смоленской области (народная правотворческая инициатива, митинги, опросы граждан и др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08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Прямоугольник 7"/>
          <p:cNvSpPr/>
          <p:nvPr/>
        </p:nvSpPr>
        <p:spPr>
          <a:xfrm>
            <a:off x="304920" y="121932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 способ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- это опосредованное участие - через выборные и иные органы местного самоуправ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органы местного самоуправления игнорируют свои обязанности, то может быть поставлен вопрос об утрате доверия депутатам, главе администрации (мэру), об отзыве, об административной, дисциплинарной ответ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15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Прямоугольник 7"/>
          <p:cNvSpPr/>
          <p:nvPr/>
        </p:nvSpPr>
        <p:spPr>
          <a:xfrm>
            <a:off x="152280" y="22860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то такой глава муниципального образ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380880" y="167652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муниципального образования является высшим должностным лицом местного самоуправления, он возглавляет местный исполнительный орган и осуществляет контроль за реализацией принятых представительным органом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6920" y="-92880"/>
            <a:ext cx="74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начение местного самоуправления в жизни об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8600" y="-2759400"/>
            <a:ext cx="8302680" cy="69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стные самоуправления призваны решать с одной стороны, задачи, схожие с государственным управлением, с другой стороны,  добровольных обществен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стное самоуправление, не входя в систему органов государственной власти, выступает связующим звеном между гражданским обществом и государ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местного самоуправления является противовесом центральной власти и гарантом существования в обществе плюрализ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крывает широкую дорогу для участия граждан в политическом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52280" y="2583000"/>
            <a:ext cx="8658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аким образом, местное самоуправление придает гражданскому обществу организованное самоуправляющееся нач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пособствует более полной самореализации граждан, оказывает положительное воздействие на развитие правового государства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6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27" name="Picture 11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3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4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Прямоугольник 8"/>
          <p:cNvSpPr/>
          <p:nvPr/>
        </p:nvSpPr>
        <p:spPr>
          <a:xfrm>
            <a:off x="1523880" y="18288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ущность местного самоуправления и его роль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ЛАН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ПРЕДСТАВЛЕНИЯ О МЕСТНОМ САМОУ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МЕСТНОГО САМОУПРАВЛЕНИЯ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ОЕ САМОУПРАВЛЕНИЕ В СОВРЕМЕННОЙ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МЕСТНОГО САМОУПРАВЛЕНИЯ В ЖИЗН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icture 2" descr="http://memesmix.net/media/created/ws5734.jpg"/>
          <p:cNvPicPr/>
          <p:nvPr/>
        </p:nvPicPr>
        <p:blipFill>
          <a:blip r:embed="rId6"/>
          <a:srcRect l="0" t="0" r="14665" b="1077"/>
          <a:stretch/>
        </p:blipFill>
        <p:spPr>
          <a:xfrm>
            <a:off x="1523880" y="1371600"/>
            <a:ext cx="6629400" cy="373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118556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4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1828800" y="99072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местное самоуправл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фамилию главы муниципа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какого органа власти в большей степени зависит жизнь людей в Вашем муниципальном образо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но ли Вам информация о деятельности органов местного  самоупр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имали ли Вы участие в акциях, мероприятиях, организованных местным самоуправл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5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78" name="Picture 16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7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8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9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0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21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752480" y="266688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Местное самоуправление               в Российской империи                  в конце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XIX – </a:t>
            </a: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начале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XX </a:t>
            </a: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1219320" y="533520"/>
            <a:ext cx="6933960" cy="5181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990720"/>
            <a:ext cx="4114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ворянское собрание и институт предводителей дворянства (в уезде, в губернии) – орган дворянск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105520" y="990720"/>
            <a:ext cx="36576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ельский сход, волостной сход – органы крестьянск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80880" y="4724280"/>
            <a:ext cx="4114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Земские собрания и земские управы (земства в уезде и губернии) – органы уездного и губернск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533520" y="990720"/>
            <a:ext cx="411480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5181480" y="4724280"/>
            <a:ext cx="3505320" cy="1295640"/>
            <a:chOff x="5181480" y="4724280"/>
            <a:chExt cx="3505320" cy="1295640"/>
          </a:xfrm>
        </p:grpSpPr>
        <p:sp>
          <p:nvSpPr>
            <p:cNvPr id="91" name="Text Box 9"/>
            <p:cNvSpPr/>
            <p:nvPr/>
          </p:nvSpPr>
          <p:spPr>
            <a:xfrm>
              <a:off x="5181480" y="4724280"/>
              <a:ext cx="350532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Arial"/>
                </a:rPr>
                <a:t>Городские думы и городские управы – органы городского самоу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5181480" y="4724280"/>
              <a:ext cx="3505320" cy="12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2"/>
          <p:cNvSpPr/>
          <p:nvPr/>
        </p:nvSpPr>
        <p:spPr>
          <a:xfrm>
            <a:off x="380880" y="4724280"/>
            <a:ext cx="41148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5105520" y="990720"/>
            <a:ext cx="3657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58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97" name="Picture 5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64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43920"/>
            <a:ext cx="784836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стное самоуправление –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то форма власти,                         предполагающая самостоятельное решение населением (под свою ответственность) вопросов локального значения, владения, пользования и распоряжения муниципальной соб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457200" y="2286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униципальное право 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то право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457200" y="27432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униципальное право РФ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– это комплексная отрасль российского права, представляющая совокупность правовых норм, закрепляющих и регулирующих общественные отношения, возникающие в процессе организаци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1523880" y="411480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личительные признаки отношений                                          муниципально-правов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04920" y="4114800"/>
            <a:ext cx="85341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304920" y="5029200"/>
            <a:ext cx="41148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304920" y="5410080"/>
            <a:ext cx="41148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4495680" y="5410080"/>
            <a:ext cx="43434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4495680" y="502920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304920" y="50292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Локально-территориаль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304920" y="54100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ношения возникают на местном уровне, в границах самоуправляющихся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8"/>
          <p:cNvSpPr/>
          <p:nvPr/>
        </p:nvSpPr>
        <p:spPr>
          <a:xfrm>
            <a:off x="4495680" y="5029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мплекс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4495680" y="5392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ношения связаны с реализацией задач во всех сферах местной жизни (экономической, бюджетно-финасовой, социально-культурной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2286000" y="4800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4"/>
          <p:cNvSpPr/>
          <p:nvPr/>
        </p:nvSpPr>
        <p:spPr>
          <a:xfrm>
            <a:off x="6477120" y="4800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01:41Z</dcterms:created>
  <dc:creator>Полина</dc:creator>
  <dc:description/>
  <dc:language>en-US</dc:language>
  <cp:lastModifiedBy>Admin</cp:lastModifiedBy>
  <dcterms:modified xsi:type="dcterms:W3CDTF">2018-04-17T20:21:55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