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1E6-B510-4FE6-9114-DD34F7A2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C2E-E704-4F98-97CF-BFF44756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261-85B3-4A6F-9B2D-7428EADA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7C3-FAA8-41B3-A1E8-D5DDB9A5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224B-6C92-4FA2-BF26-5F5F847C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A338-F422-4D49-84C5-883ADAF3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5DB0-5575-417D-9390-16027F07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227A-0380-4C66-A618-B7DC6083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F874-AE4E-4FBD-BF54-87D275F6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CC66-2F60-43DA-9DFE-BE02B7CB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3F08-3268-430E-9DA0-ED4DBC3F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EC4-5BAB-4399-B0A6-CF9801CA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347F-EC87-4946-9091-367405D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2FC7-4186-44D6-82C3-1C1B4CE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B585-C1CA-4B32-BC28-D29A100E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F0E6-ABB2-452D-90BF-930870A4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E697-3687-41C1-A8FD-3DB95025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D7E-179D-489F-BC8E-ED955BF3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28F-0B9B-4974-951B-7DC50D98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1A6-8C09-4467-A33A-2DCDDE51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387-0B51-45BE-AD04-586D5460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B6D-09F8-4590-95E4-16C9AB14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A87-FCB5-4DDD-9DF7-17BB04DC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51E-B180-4CD3-B90B-BB12BFF9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3F37-AA8C-4573-BDA3-D3FC5C05858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3761-5042-4358-B772-A482632CF00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79280" y="5373720"/>
            <a:ext cx="684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Воспитатель: Богатырева Е.И.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МКДОУ «Нижнедевицкий детский сад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«КАТЮША» - ОРУЖИЕ ПОБЕДЫ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5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18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Шли бои на море и на суше,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Над землей гудел снарядов вой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Выезжала из лесу «катюша»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На рубеж знакомый, огневой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Выезжала, мины заряжала,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Сокрушала изверга-врага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Ахнет раз – и роты не бывало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Ахнет два – и нет уже полка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641840" y="4149720"/>
            <a:ext cx="4502160" cy="2502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https://encrypted-tbn1.gstatic.com/images?q=tbn:ANd9GcThZ8jZ-R1rPbREjxXQBI7-uHO6nE-p1MikU9xS4Tb8Z36nvLBD2A"/>
          <p:cNvPicPr/>
          <p:nvPr/>
        </p:nvPicPr>
        <p:blipFill>
          <a:blip r:embed="rId2"/>
          <a:stretch/>
        </p:blipFill>
        <p:spPr>
          <a:xfrm>
            <a:off x="4932360" y="63360"/>
            <a:ext cx="4211640" cy="365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573000"/>
            <a:ext cx="446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Катюши» – это реактивные минометные установки, которые в первые дни войны появились в Советской Армии. Снаряды «катюш» обладали огромной разрушительной силой. К тому же, летя по небу, они оставляли угрожающий огненный след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КАТЮША"/>
          <p:cNvPicPr/>
          <p:nvPr/>
        </p:nvPicPr>
        <p:blipFill>
          <a:blip r:embed="rId1"/>
          <a:stretch/>
        </p:blipFill>
        <p:spPr>
          <a:xfrm>
            <a:off x="0" y="-1908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1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48444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1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4608360" cy="3148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439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оздание Катюши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893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еактивные снаряды для «Катюш» разработал Владимир Андреевич Артемьев. В 1938-1941 годы А. С. Попов и др. создали многозарядную пусковую установку, смонтированную на грузовом автомобиле. 25 декабря 1939 г. реактивный снаряд М‑13 и пусковая установка, позднее получившая название "Боевая машина 13" (БМ-13) были одобрены Артиллерийским управлением Красной Армии. БМ-13 была принята на вооружение 21 июня 1941 года; именно этот тип боевых машин и получил впервые прозвище «Катюша». БМ-13 заряжалась 16 реактивными снарядами калибра 132 мм. Залп выполнялся в течение 15-20 секунд. Дальность стрельбы – 8-8,5 км. Скорость БМ-13 по хорошей дороге достигала 50-60 км/ч. За час одна боевая машина могла сделать 10 залпов и выпустить 160 снарядов. Экипаж состоял из 5 - 7 человек: командир орудия - 1; наводчик - 1; водитель - 1; заряжающий - 2-4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осмотра образцов ракетного оружия Верховный Главнокомандующий Иосиф Сталин принял решение о развертывании серийного производства реактивных снарядов М-13 и пусковой установки БМ-13 и о начале формирования ракетных войсковых частей. За три с лишним года произвели почти 30 тысяч «Катюш» и 12 миллионов реактивных снарядов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2583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4" descr="http://tainy.info/images/2012/10/040-579x4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280" y="301320"/>
            <a:ext cx="5400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чему называется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              «Катюша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2290680"/>
            <a:ext cx="820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т единой версии, почему БМ-13 стали именоваться «Катюшами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ществует несколько предположений. Вот одна из них - по названию ставшей популярной перед войной песни Блантера на слова Исаковского «Катюша».  Докладывая в штаб о выполнении Флёровым боевого задания, связист Сапронов сказал: «Катюша спела на отлично». Значение только что придуманного кодового слова в штабе батальона поняли, и слово это пошло сначала в штаб дивизии, а потом и в штаб армии. Так после первого же боевого применения за установкой БМ-13-16 закрепилось название «Катюша»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иболее вероятное из них связано с заводской маркой "К" завода изготовителя первых боевых машин БМ-13 (Воронежский завод им. Коминтерна). «Катюша» не сразу «катюшей» стала. И только потом кто-то сказал «Катюша»! Понравилось солдатам это простое имя. Были в нем душевность и ласков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КАТЮША"/>
          <p:cNvPicPr/>
          <p:nvPr/>
        </p:nvPicPr>
        <p:blipFill>
          <a:blip r:embed="rId1"/>
          <a:stretch/>
        </p:blipFill>
        <p:spPr>
          <a:xfrm>
            <a:off x="5543640" y="0"/>
            <a:ext cx="3600360" cy="2208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03280" y="301320"/>
            <a:ext cx="3960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АТЮША                       на фронт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/>
          <p:cNvSpPr/>
          <p:nvPr/>
        </p:nvSpPr>
        <p:spPr>
          <a:xfrm>
            <a:off x="250920" y="2565360"/>
            <a:ext cx="87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"Катюши" во время войны участвовали во всех крупных операциях. Реактивная артиллерия использовалась для усиления стрелковых дивизий,  что существенно увеличивало их огневую мощь и повышало устойчивость в бо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Times New Roman"/>
              </a:rPr>
              <a:t>Впервые «Катюши» были применены 14 июля 1941 года в боях под городом Оршей.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Times New Roman"/>
              </a:rPr>
              <a:t>Следующий, еще более сильный удар по фашистам «катюши» произвели во время Смоленского сражения. Потом «катюши» принимали участие в великой Московской битве, в боях под Сталинградом, затем громили врагов под Орлом и под Курском, под Киевом и под Минском и во многих других мест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Катюши" завершали артналет: реактивные установки давали залп, когда пехота уже шла в атаку. Зачастую после нескольких залпов "Катюш" пехотинцы входили в опустевший населенный пункт или на вражеские позиции, не встречая никакого сопротивления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2" descr="&quot;Катюша&quot;  Гвардейский реактивный миномет "/>
          <p:cNvPicPr/>
          <p:nvPr/>
        </p:nvPicPr>
        <p:blipFill>
          <a:blip r:embed="rId1"/>
          <a:stretch/>
        </p:blipFill>
        <p:spPr>
          <a:xfrm>
            <a:off x="5767560" y="0"/>
            <a:ext cx="3376440" cy="24321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4652640"/>
            <a:ext cx="8785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наменитой «катюше» сейчас установлен памятник. Стоит он там, где «Катюша» впервые открыла огонь по фашистам. В городе Орше, на берегу Днепра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755640" y="-14400"/>
            <a:ext cx="8064360" cy="48974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1:47:02Z</dcterms:created>
  <dc:creator>пользователь</dc:creator>
  <dc:description/>
  <dc:language>en-US</dc:language>
  <cp:lastModifiedBy>пользователь</cp:lastModifiedBy>
  <dcterms:modified xsi:type="dcterms:W3CDTF">2018-02-25T13:19:56Z</dcterms:modified>
  <cp:revision>6</cp:revision>
  <dc:subject/>
  <dc:title>Воспитатель: Богатырева Е.И. МКДОУ «Нижнедевицкий детский сад» </dc:title>
</cp:coreProperties>
</file>