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08A-EEF8-435E-BFBB-6EB79177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491-86DA-41B3-8D1D-05B9FA6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7A6-4D98-4700-BB0E-F52081A3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6F2-6FFA-4276-9A20-2BF28AE0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9FA4-C769-4F6E-AF90-9E12AFF4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5DE-6DB8-4620-A028-C7802CC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F9DD-FD6E-4FE5-A9B7-69F1E31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938-573C-4A9D-8A13-3B3D17F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A42D-22FB-4688-B04A-652C77B0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285E-E0C2-4D2A-BAC1-3AE9F098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6BA-F039-49B8-9BBE-24CA963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898-C478-4A35-890B-7508FE02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3EE1-5227-4634-BCD2-CB5F225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CBE-0ADD-4AE9-AE04-A5809CE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F917-A9DD-4318-94F8-3556BDC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719-0531-4352-AE72-0BA0290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B14-6EA0-4310-881D-E242524E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F49-8EA4-4DE5-9382-71908666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2AA-55DB-474E-B023-F0E7581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3A4-D672-4471-BA28-16D509A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2EB-1290-46B0-8161-2688B3B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FA4-DC91-4B7C-8D24-BE6BE065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513-CF41-4C0A-A914-46590C28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FF7-3FC7-4BAD-B9F1-16C2B5B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9B7-18AD-4166-B01E-D83DFAF1241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3A2-843D-46BE-A829-FC0E17A0824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79280" y="537372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Воспитатель: Богатырева Е.И.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МКДОУ «Нижнедевицкий детский сад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АТЮША» - ОРУЖИЕ ПОБЕДЫ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5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18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Шли бои на море и на суше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Над землей гудел снарядов в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ыезжала из лесу «катюша»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На рубеж знакомый, огнев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ыезжала, мины заряжала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Сокрушала изверга-врага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Ахнет раз – и роты не бывало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Ахнет два – и нет уже полка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641840" y="4149720"/>
            <a:ext cx="4502160" cy="250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https://encrypted-tbn1.gstatic.com/images?q=tbn:ANd9GcThZ8jZ-R1rPbREjxXQBI7-uHO6nE-p1MikU9xS4Tb8Z36nvLBD2A"/>
          <p:cNvPicPr/>
          <p:nvPr/>
        </p:nvPicPr>
        <p:blipFill>
          <a:blip r:embed="rId2"/>
          <a:stretch/>
        </p:blipFill>
        <p:spPr>
          <a:xfrm>
            <a:off x="4932360" y="63360"/>
            <a:ext cx="4211640" cy="365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446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атюши» – это реактивные минометные установки, которые в первые дни войны появились в Советской Армии. Снаряды «катюш» обладали огромной разрушительной силой. К тому же, летя по небу, они оставляли угрожающий огненный след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КАТЮША"/>
          <p:cNvPicPr/>
          <p:nvPr/>
        </p:nvPicPr>
        <p:blipFill>
          <a:blip r:embed="rId1"/>
          <a:stretch/>
        </p:blipFill>
        <p:spPr>
          <a:xfrm>
            <a:off x="0" y="-1908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4844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4608360" cy="3148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439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Создание Катюши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893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еактивные снаряды для «Катюш» разработал Владимир Андреевич Артемьев. В 1938-1941 годы А. С. Попов и др. создали многозарядную пусковую установку, смонтированную на грузовом автомобиле. 25 декабря 1939 г. реактивный снаряд М‑13 и пусковая установка, позднее получившая название "Боевая машина 13" (БМ-13) были одобрены Артиллерийским управлением Красной Армии. БМ-13 была принята на вооружение 21 июня 1941 года; именно этот тип боевых машин и получил впервые прозвище «Катюша». БМ-13 заряжалась 16 реактивными снарядами калибра 132 мм. Залп выполнялся в течение 15-20 секунд. Дальность стрельбы – 8-8,5 км. Скорость БМ-13 по хорошей дороге достигала 50-60 км/ч. За час одна боевая машина могла сделать 10 залпов и выпустить 160 снарядов. Экипаж состоял из 5 - 7 человек: командир орудия - 1; наводчик - 1; водитель - 1; заряжающий - 2-4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осмотра образцов ракетного оружия Верховный Главнокомандующий Иосиф Сталин принял решение о развертывании серийного производства реактивных снарядов М-13 и пусковой установки БМ-13 и о начале формирования ракетных войсковых частей. За три с лишним года произвели почти 30 тысяч «Катюш» и 12 миллионов реактивных снарядов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2583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4" descr="http://tainy.info/images/2012/10/040-579x4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5400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чему называется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              «Катюша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229068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т единой версии, почему БМ-13 стали именоваться «Катюшами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ществует несколько предположений. Вот одна из них - по названию ставшей популярной перед войной песни Блантера на слова Исаковского «Катюша».  Докладывая в штаб о выполнении Флёровым боевого задания, связист Сапронов сказал: «Катюша спела на отлично». Значение только что придуманного кодового слова в штабе батальона поняли, и слово это пошло сначала в штаб дивизии, а потом и в штаб армии. Так после первого же боевого применения за установкой БМ-13-16 закрепилось название «Катюша»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иболее вероятное из них связано с заводской маркой "К" завода изготовителя первых боевых машин БМ-13 (Воронежский завод им. Коминтерна). «Катюша» не сразу «катюшей» стала. И только потом кто-то сказал «Катюша»! Понравилось солдатам это простое имя. Были в нем душевность и ласков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КАТЮША"/>
          <p:cNvPicPr/>
          <p:nvPr/>
        </p:nvPicPr>
        <p:blipFill>
          <a:blip r:embed="rId1"/>
          <a:stretch/>
        </p:blipFill>
        <p:spPr>
          <a:xfrm>
            <a:off x="5543640" y="0"/>
            <a:ext cx="3600360" cy="2208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03280" y="301320"/>
            <a:ext cx="3960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ТЮША                       на фронт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2565360"/>
            <a:ext cx="87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"Катюши" во время войны участвовали во всех крупных операциях. Реактивная артиллерия использовалась для усиления стрелковых дивизий,  что существенно увеличивало их огневую мощь и повышало устойчивость в бо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Times New Roman"/>
              </a:rPr>
              <a:t>Впервые «Катюши» были применены 14 июля 1941 года в боях под городом Оршей.</a:t>
            </a:r>
            <a:br>
              <a:rPr sz="1800"/>
            </a:br>
            <a:r>
              <a:rPr b="1" lang="ru-RU" sz="1800" spc="-1" strike="noStrike">
                <a:solidFill>
                  <a:srgbClr val="ffccff"/>
                </a:solidFill>
                <a:latin typeface="Times New Roman"/>
              </a:rPr>
              <a:t>Следующий, еще более сильный удар по фашистам «катюши» произвели во время Смоленского сражения. Потом «катюши» принимали участие в великой Московской битве, в боях под Сталинградом, затем громили врагов под Орлом и под Курском, под Киевом и под Минском и во многих других мес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Катюши" завершали артналет: реактивные установки давали залп, когда пехота уже шла в атаку. Зачастую после нескольких залпов "Катюш" пехотинцы входили в опустевший населенный пункт или на вражеские позиции, не встречая никакого сопротивлени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&quot;Катюша&quot;  Гвардейский реактивный миномет "/>
          <p:cNvPicPr/>
          <p:nvPr/>
        </p:nvPicPr>
        <p:blipFill>
          <a:blip r:embed="rId1"/>
          <a:stretch/>
        </p:blipFill>
        <p:spPr>
          <a:xfrm>
            <a:off x="5767560" y="0"/>
            <a:ext cx="3376440" cy="2432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465264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менитой «катюше» сейчас установлен памятник. Стоит он там, где «Катюша» впервые открыла огонь по фашистам. В городе Орше, на берегу Днепр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-14400"/>
            <a:ext cx="8064360" cy="4897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1:47:02Z</dcterms:created>
  <dc:creator>пользователь</dc:creator>
  <dc:description/>
  <dc:language>en-US</dc:language>
  <cp:lastModifiedBy>пользователь</cp:lastModifiedBy>
  <dcterms:modified xsi:type="dcterms:W3CDTF">2018-02-25T13:19:56Z</dcterms:modified>
  <cp:revision>6</cp:revision>
  <dc:subject/>
  <dc:title>Воспитатель: Богатырева Е.И. МКДОУ «Нижнедевицкий детский сад» </dc:title>
</cp:coreProperties>
</file>