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3A2D-2824-4361-9E70-F94BC4747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96D9-F336-4F15-A319-DF348F4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CCA32-E4CB-4055-8B36-7E49282C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DA2B0-9E2E-4F5F-9D30-71D8B895B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7F2B5C-614F-4CA8-B2F6-F59685413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A5C3B-6C48-47AA-BBAC-274634C1C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39A88-EA71-4832-860C-396C9E5DC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C8A82E-D71D-4B81-A0B4-B22FFA65E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7D895D-EEC5-4FA0-A607-1DCBE266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C8C74-8AB2-474B-B821-F6BF20F3D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F768B-AE23-41F0-B623-F0DEF61DC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86C6A-8082-41BF-8ED5-9867D803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3451-329F-417B-931B-40B8BAAA6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78F13-CCDF-4AFD-8A71-5235E26F1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7367F9-C42B-4E2E-AF0C-FFDCF901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EA990-0747-4107-AFE8-54BFED254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D7D9D-943A-4D0D-930D-8DC92AEEF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81428-32A8-4DE0-9276-F861345F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1E839-BB23-4B12-BEF2-B4702045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AFC30-EB37-4DDE-8335-9E050B3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CD0D8-DA74-4363-9711-73843C6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D1B0B-B3C7-4646-9E18-F95A0BBF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F318B-71B6-46C8-938C-D5F74742B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925-DBA7-4DFD-B9F3-03243AA1F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E3921-28DD-42FF-9F8C-68C217C87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1376B-8F71-479D-8A80-813A4707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B280B0-91C8-4BE9-A785-B441F293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54A7D-63C8-4027-8648-74CB11E1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C4D51E-20EE-43CE-8399-24311348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F933B4-8B7C-4A65-B10D-6E3693B9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5091B-C3A6-4A63-A405-E416B38B2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2F4CF4-9EAE-41D0-9C28-1CF4012B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487437-294A-469C-B7B6-ECEDF568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98DCFF-81ED-4400-8BED-4C57F244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5EFA-60C3-4F9D-B857-EE76D354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EAB66-0C38-43F5-9529-86C541F14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4219D-D576-449C-90A1-DC099DE02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115A79-986E-4008-92E7-B8EE51955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F5454-10D2-4FA6-84A5-A5631332F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EF0FDE-9737-4235-8E71-D137DFEF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E6ECF-88D3-4945-89CE-2237D24A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43F552-ACC8-4CF8-9066-43F100387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D167E-A2EC-4FA7-8188-A81ED541D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C2E42-5193-41ED-96AF-FCD86C35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7633C5-A993-4089-9646-D297D1E5E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C10D-199C-4B2D-9DDD-41F8F854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E69EE-5C1D-4F97-AF7E-6A4DFA8B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24CF58-89F1-43C1-9862-66D4542E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7EDD45-D30E-4B92-8B14-33F63F1A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CB9A6B-9866-48A0-8ED7-B40B1F65D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08047-7272-4941-8D46-DAC94E32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A4324-862E-45D7-89A9-D0442DBEE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8C80-A4C4-41FD-BF28-21CA4E06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F9DCFE-77DF-4E35-AAA9-D52D5830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3C373-8094-4B6C-BB2E-194E585D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6BEC9A-AFF2-4F2B-8523-982786634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9B0D-24EB-4572-8684-54782A6B2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210ECD-AA53-4491-8AF6-5BFF6C96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8A15F-B621-440E-AAC5-91E14EF67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ECB1B8-91AD-413B-9ED2-6094B6CF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682DDA-0F4F-49DB-A113-5D9BA1A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6DBC78-4656-40E2-9D6A-E2513B39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2EDC45-CAE7-43AC-8B6E-4ACDF29A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1D24F3-54F0-4852-8715-33DC9AA2F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3F6786-51F3-49A9-AA80-4A98943E4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7F4416-E4A5-4DAD-B2D4-ADFD82E9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C0422-CA47-4482-860A-EDF81944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DBF0-534B-470B-8EC1-552E8E3B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6EBAE78-5A45-49FB-8483-403DDB6AA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E2C59-DC92-4F53-9C49-54E5F5EC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C325FC-7E2E-46C9-8F4D-65345025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619422-9DFB-4836-9BD6-071CAFD30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E232DE-CFF4-4230-AE92-A8EAB0EB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6F9666-559C-457A-8CD4-E04633C9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033B6-A1CE-4EAC-9683-844E651A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70B4B-8185-4E4F-8087-E5F1CE1CC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9A6831-8B95-4D53-AD1F-45B3FAC9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A6C2DF-DBD0-4BE3-AFD1-9A108C2D9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A6E43-25C0-40D8-8F9F-AAE9A1BC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7EB5D7-2047-4C0A-85BB-3E1F428A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F98BAB-C38B-4EBA-9B9C-461B8463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781F65-3084-4B62-85A4-E8DF40F7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B56C32-932B-443A-9155-87CB150A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51FF34-35C3-4217-8EBB-8B773FF4B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23FA5A-4AD5-4515-B8A8-28D424A8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057A8-EE3F-4DA8-A0DB-BB507281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0E277C-247F-4002-B89C-6649F5E1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D2597B-4653-42D5-9A0F-BABBE4555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CEF0CE-C328-4761-915B-09EAE1D77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752C-86FB-4BD8-8750-41A0D42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F5E9C-CE92-46CB-9379-CFBD8A40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5D7719-603A-46A9-A807-F8303BF95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B630ED-32B0-4723-BCEA-6D30A61F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D00C5F-DCF1-4AAC-B1B1-D63542C1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02818-D8A9-4A8F-BE65-C638115B1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AA427A-5127-48D0-8BAA-EBB98488C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62241E-BA09-430A-A18F-53D41B69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8A9AD-9B23-4060-BFED-FD8AA253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617332-85FE-4C86-876E-38B6715BB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94F940-E1E2-4641-903D-E603E2D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CA5B-542B-4F45-93CD-2414034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657D85-EACB-417C-82E0-EAC08FFE6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C31827-E5DA-45A5-8EBE-98747907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B09C3-EBAE-4CA9-AFB3-515A73855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03E3A-7B5E-4C4C-B6AB-46775BFB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2130E1-0555-4A73-8F73-D69B0011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0D7AB1-D096-4026-8C28-194E9812B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B3FFDB-BE74-4698-AB0A-7F9DED61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425AE5-471C-4C72-8CE4-A8BF5763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EAB81E-A2A9-4511-9DDB-510EC3AB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69FCD4-F889-4FAF-9D9D-7D3D806D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7DB8-5225-453E-8B50-5E657AC6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3E15-2FF0-41E6-BB06-D226F3AF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1C20CA-ED77-42D0-9EA1-D1AAB0CF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E6E10-BA78-45DC-A8FD-3BF01E65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ECA237-05C1-48E3-8382-8704710F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4421B0-2601-4E15-B08C-C0DFD9103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DFBD2B-640B-4E89-A5CC-C297EA364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5C5E28-16F7-4443-8C12-5BCCAB24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A8A9E8-022A-4733-9C40-76A97D8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03DA31-A7C6-4421-9B11-6B85B30C3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542E0A-95B0-4B8F-8D6A-9CE82088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960BB-32CB-4074-B016-C132D576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99DFD-7339-411D-A656-02E8CB58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7F2E2D-DC1F-4099-BB1C-01FD34CBA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255FB8-3D3B-4ABA-BB09-A42D5BF7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F055CF-AC54-4C87-8B4F-F2B53BE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3E117-7FB0-4070-96C3-F166DC954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BB2C06-BF7D-4D39-B69B-15040A497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82A6884-A6F2-42F6-95AB-B69FF428D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77A48-29C5-4A72-86B5-F450A5059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FAD42A-4D68-476C-873C-6C8026E0C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AF1182-7387-4243-B966-0DE34C19B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980300-B581-404B-B2CE-DD6B7D598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089AC-6E14-48AC-9949-69B1CAF1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73B9F4-4CAB-4D7A-8C93-85B466B93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40810C-E9FC-4561-80D2-6D9CCCE4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C2AA0-9B39-4502-BC72-839660A08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9A5E92-6493-4F0A-AB5E-5FACD32F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D7479-B873-462C-97EC-6B609D5A3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A07F5D-3EC9-4F5E-A00F-F0C3FE91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F7D7FD-31B5-4DFF-9B1D-BA1FAA89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525B8E-020A-44E7-ACC3-93A6BB4B3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343515-E899-4997-BCA2-75D4AF409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100589-61AF-4AE2-B848-760500C07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13CE-1D48-48FA-99BA-40C77DC3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58F4D4-35CA-4F1B-B1D9-BB15EDE7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084697-8E46-4413-9F7D-59812DE6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24E32-DCE3-4235-879B-7E5A9DC5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75CC83-C292-41C5-BEBF-E9E7DACF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9C4837-BF25-410C-B452-E1800EC7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B35419-D420-47DC-894E-48B96FE83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B76044-06CD-4699-9691-D114A1D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24CB1F-7F9C-4564-BA3B-19643235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0ED46-4C5B-4672-9411-14397DA0E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0554D9-99B3-4522-A70F-EABCBE8F0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E6B5-12C0-4DE3-B05E-825C45D7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3131B5-0DDA-44B5-A6C2-D038BCDA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C3A77-FED1-4A9D-822A-26AFBC26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F135E-B8F3-4D7F-818E-296FBA6B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FC33-C645-4FAB-B367-FC466802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CEEF2-92E9-4CC5-92CE-3629DE7EC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D07A0-B51C-4B52-915C-084C0C5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6672-A7B4-4D50-A9A1-EA2709E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D67C2-47FE-449A-9FD1-CB872730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A9E98-DE86-4B0E-B024-1500BE19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DD3B1-FC4B-4081-BB4C-D9692F0B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7630E-3CD5-47C1-B011-99911127A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21B5A-294A-4D16-9454-EC9E7555A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49AB7-8466-4F83-AAFC-C04FA645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5A30-A6B1-4510-B27C-8B935F284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8EBFA-CB4D-4E67-97F0-C5040EF9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053CC-7BD9-4F22-B8E3-B17A34765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8D29E-C3A4-4F12-91F3-30DFC6B79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F314-CD03-48CB-B83C-FB2D84B9D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BB2A4-B480-4C5A-86D5-4F56D3F7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4858A-AD97-4677-9338-6750CDCFB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4AA1C-AA5B-4E10-8770-12F780EA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087568-42B7-4DB0-832F-DD305616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C6DD6-317A-4A86-A083-2BC33116B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86572-F9CE-4A5D-99FC-02173297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B001B-BD9E-45F4-8669-DDADE4862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544B-FDF8-4C7E-89D4-188CED06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FBFFA-0E0D-45AD-BDCE-061EA412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275DC-59B2-451F-A7DA-D28A1772F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F518-D2C9-44C0-B5A6-AEF41904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259315-5F07-4111-A05F-3AF5797ED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6F6BF-8BB5-4A2A-8EE4-906BD8F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7D998-CEA6-401F-98ED-533A37BEB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71BD8-6D68-4FD7-BBDE-DE3DC3F1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359E-9E2F-48A0-B1E4-D5651AC45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8EB792-FE88-408F-8628-3B308DCF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149029-4E25-462B-954C-2C57C045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3D3DD-226C-47CB-92F3-CCB46631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C5ACEB-1344-49AB-933E-F9F7B20C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4A5B6-65EE-4588-84F5-9A4D3CB2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39B-2452-4CB1-A4B4-6EB2F08D9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92A13-9822-474C-99B0-0E51DDA7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82D05-428B-4A38-9EF0-B7A3E8EA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C9924-94D3-4977-A1D4-F6445B55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4856A-6D9B-4988-9B29-D789F3D20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411E8-F69F-455C-8447-797D4201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CF427-C88D-4AF7-8215-12F4EF4C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0C9C5-B1F9-46A3-A2BA-5E64F473A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0DC6A-AA2F-43AF-876F-BE945D09E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F7448-068A-4482-A6C0-FFE2112C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D1332-0B53-4317-8F66-EDA61B27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E50C-63A8-4344-98CC-1EE51CF7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510AD1-6C35-45E8-B040-F5D058298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9F254F-AA3B-445F-8EDD-357FA073E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6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6DB09-5A0F-40E5-A774-6E573F38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956D4-1FEC-403B-AFD6-2A1F62C11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41E99D-0743-4165-80A2-EB0EB42D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212E2A-6805-454B-8612-22AAE27E2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23907-223B-4121-ABE8-63CAAF3F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EADF0-F813-42CE-9131-CFB01934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2E79E6-7119-46CB-A912-6149E75C4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0C69-FFCD-4886-9974-58BD625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AC6-48C9-4CEE-8FA9-6486BA00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F54142-2980-4F4F-906E-A48643905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7B618-7D43-41F3-9EC7-78A52F7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9E86E-D6F3-46D5-95F9-439D2125C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EBED44-837B-428D-B4DD-ABB324A3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674DF7-218B-48A5-B38D-A783E53F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B8B992-6A8C-4C27-A543-D82E13780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A9A57-8ABB-4BBB-991F-9E1C7A68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3AA8C-E4AD-4E2D-BCAA-E05AC0D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EEDDA-975F-423E-B36F-B2BA6DB3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31CEC-D57C-4C04-A286-E3654A3B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3A1E-4758-4B12-8819-A2E3E588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531720" y="752040"/>
            <a:ext cx="689616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0A423E-68FC-4071-B282-D30B4CDC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31248-B2F3-47F0-892B-3CA2D3F8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11830-1251-41BB-B50B-ADE5944E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986E1-D992-4EAB-A4AB-D445A4B41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33160" y="4216320"/>
            <a:ext cx="688788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5CC8A-0DDB-4410-9744-69BA4E6B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062600" y="233640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3316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062600" y="4216320"/>
            <a:ext cx="336096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F854D6-12B5-4185-B887-C1C407A9F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86200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190840" y="233640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3316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286200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190840" y="4216320"/>
            <a:ext cx="2217600" cy="17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B04E4-8E7B-4887-B96C-C78558CAD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58C169-D2E1-43BE-8AC9-87F67EE8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2CED5E-1B97-439F-97B1-6045A803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3FB3BD-E7A7-4E56-9753-DECDA582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Presentations\9May\red-vasilki-slaid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3FD6B-6FA4-4A38-9044-6554A6EE668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HD-ShadowShort.png"/>
          <p:cNvPicPr/>
          <p:nvPr/>
        </p:nvPicPr>
        <p:blipFill>
          <a:blip r:embed="rId3"/>
          <a:srcRect l="0" t="0" r="9872" b="0"/>
          <a:stretch/>
        </p:blipFill>
        <p:spPr>
          <a:xfrm>
            <a:off x="7716960" y="1973160"/>
            <a:ext cx="1444680" cy="14472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13"/>
          <p:cNvSpPr/>
          <p:nvPr/>
        </p:nvSpPr>
        <p:spPr>
          <a:xfrm>
            <a:off x="7710480" y="609480"/>
            <a:ext cx="1433520" cy="136872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28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29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0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11860-4DA0-4964-B57B-0E552F856B0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53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454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5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31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32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33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D4A8-561D-499F-803C-F1905436980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00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501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2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dt" idx="3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 type="ftr" idx="3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 type="sldNum" idx="36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3482E-7B0A-4E23-AD5C-C308A303BD5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47" name="Group 19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48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9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Rectangle 25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Rectangle 26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 type="dt" idx="37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 type="ftr" idx="38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 type="sldNum" idx="39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AC0D-4FB8-4518-B7EE-95F9CC8AC4CC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94" name="Group 20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595" name="Picture 21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6" name="Picture 22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Rectangle 23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Rectangle 24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40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41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42"/>
          </p:nvPr>
        </p:nvSpPr>
        <p:spPr>
          <a:xfrm>
            <a:off x="7856640" y="4711680"/>
            <a:ext cx="114912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9ABB-9BC7-41D2-8810-5F5119EE4FEB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41" name="Group 28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42" name="Picture 29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3" name="Picture 30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" name="Rectangle 31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Rectangle 32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TextBox 12"/>
          <p:cNvSpPr/>
          <p:nvPr/>
        </p:nvSpPr>
        <p:spPr>
          <a:xfrm>
            <a:off x="271440" y="747720"/>
            <a:ext cx="5335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“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TextBox 13"/>
          <p:cNvSpPr/>
          <p:nvPr/>
        </p:nvSpPr>
        <p:spPr>
          <a:xfrm>
            <a:off x="6967440" y="29988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534C7-7FE7-4A9E-919A-76754792E23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0" name="Group 21"/>
          <p:cNvGrpSpPr/>
          <p:nvPr/>
        </p:nvGrpSpPr>
        <p:grpSpPr>
          <a:xfrm>
            <a:off x="0" y="4572000"/>
            <a:ext cx="9161640" cy="1676520"/>
            <a:chOff x="0" y="4572000"/>
            <a:chExt cx="9161640" cy="1676520"/>
          </a:xfrm>
        </p:grpSpPr>
        <p:pic>
          <p:nvPicPr>
            <p:cNvPr id="691" name="Picture 22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59274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2" name="Picture 23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59353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3" name="Rectangle 24"/>
            <p:cNvSpPr/>
            <p:nvPr/>
          </p:nvSpPr>
          <p:spPr>
            <a:xfrm>
              <a:off x="0" y="45720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Rectangle 25"/>
            <p:cNvSpPr/>
            <p:nvPr/>
          </p:nvSpPr>
          <p:spPr>
            <a:xfrm>
              <a:off x="7710840" y="45720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7856640" y="470988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A842-E49D-45B6-AA3B-96AEA44513D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6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37" name="Group 22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38" name="Picture 23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9" name="Picture 24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0" name="Rectangle 25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Rectangle 26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 type="dt" idx="4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 type="ftr" idx="5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 type="sldNum" idx="5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4900E-49BA-4E90-94E5-D184917E352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4" name="Group 33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785" name="Picture 34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6" name="Picture 35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7" name="Rectangle 36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8" name="Rectangle 37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5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077B-AC05-4C18-B22F-8E1279650437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31" name="Group 15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832" name="Picture 16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3" name="Picture 17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4" name="Rectangle 18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Rectangle 19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 type="dt" idx="5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 type="ftr" idx="5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5"/>
          <p:cNvSpPr>
            <a:spLocks noGrp="1"/>
          </p:cNvSpPr>
          <p:nvPr>
            <p:ph type="sldNum" idx="5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465A-00D5-4431-8173-EC27CA1FE5C8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28798-4D9F-41A1-91E6-535015C0D21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78" name="Group 13"/>
          <p:cNvGrpSpPr/>
          <p:nvPr/>
        </p:nvGrpSpPr>
        <p:grpSpPr>
          <a:xfrm>
            <a:off x="7322760" y="0"/>
            <a:ext cx="1366920" cy="6862680"/>
            <a:chOff x="7322760" y="0"/>
            <a:chExt cx="1366920" cy="6862680"/>
          </a:xfrm>
        </p:grpSpPr>
        <p:sp>
          <p:nvSpPr>
            <p:cNvPr id="879" name="Rectangle 11"/>
            <p:cNvSpPr/>
            <p:nvPr/>
          </p:nvSpPr>
          <p:spPr>
            <a:xfrm rot="5400000">
              <a:off x="5362920" y="1959480"/>
              <a:ext cx="5286240" cy="13669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Rectangle 12"/>
            <p:cNvSpPr/>
            <p:nvPr/>
          </p:nvSpPr>
          <p:spPr>
            <a:xfrm rot="5400000">
              <a:off x="7289280" y="5462280"/>
              <a:ext cx="1433520" cy="13669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58"/>
          </p:nvPr>
        </p:nvSpPr>
        <p:spPr>
          <a:xfrm>
            <a:off x="50288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59"/>
          </p:nvPr>
        </p:nvSpPr>
        <p:spPr>
          <a:xfrm>
            <a:off x="509760" y="5935680"/>
            <a:ext cx="451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60"/>
          </p:nvPr>
        </p:nvSpPr>
        <p:spPr>
          <a:xfrm>
            <a:off x="7430760" y="5432040"/>
            <a:ext cx="1149480" cy="12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19DC-56AF-442F-B459-9E5CA7A5D91A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D:\Presentations\9May\red-vasilki-slaid1.jpg"/>
          <p:cNvPicPr/>
          <p:nvPr/>
        </p:nvPicPr>
        <p:blipFill>
          <a:blip r:embed="rId2"/>
          <a:stretch/>
        </p:blipFill>
        <p:spPr>
          <a:xfrm>
            <a:off x="-792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D:\Presentations\9May\red-vasilki-master.jpg"/>
          <p:cNvPicPr/>
          <p:nvPr/>
        </p:nvPicPr>
        <p:blipFill>
          <a:blip r:embed="rId3"/>
          <a:stretch/>
        </p:blipFill>
        <p:spPr>
          <a:xfrm>
            <a:off x="-108000" y="0"/>
            <a:ext cx="9252000" cy="6939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05A5-346F-48B9-9B29-F669BB6F659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HD-ShadowLong.png"/>
          <p:cNvPicPr/>
          <p:nvPr/>
        </p:nvPicPr>
        <p:blipFill>
          <a:blip r:embed="rId3"/>
          <a:stretch/>
        </p:blipFill>
        <p:spPr>
          <a:xfrm>
            <a:off x="0" y="4243320"/>
            <a:ext cx="6726240" cy="27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HD-ShadowShort.png"/>
          <p:cNvPicPr/>
          <p:nvPr/>
        </p:nvPicPr>
        <p:blipFill>
          <a:blip r:embed="rId4"/>
          <a:stretch/>
        </p:blipFill>
        <p:spPr>
          <a:xfrm>
            <a:off x="6834240" y="4243320"/>
            <a:ext cx="2306520" cy="2779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8"/>
          <p:cNvSpPr/>
          <p:nvPr/>
        </p:nvSpPr>
        <p:spPr>
          <a:xfrm>
            <a:off x="0" y="2590920"/>
            <a:ext cx="6726240" cy="1658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9"/>
          <p:cNvSpPr/>
          <p:nvPr/>
        </p:nvSpPr>
        <p:spPr>
          <a:xfrm>
            <a:off x="6834240" y="2590920"/>
            <a:ext cx="2308320" cy="1658880"/>
          </a:xfrm>
          <a:prstGeom prst="rect">
            <a:avLst/>
          </a:prstGeom>
          <a:solidFill>
            <a:srgbClr val="f0941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455580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533160" y="5935680"/>
            <a:ext cx="402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010280" y="2749680"/>
            <a:ext cx="137016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CC81-7069-46B4-874E-531CF5B97AA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175" name="Picture 2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2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Rectangle 2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Rectangle 3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B698-5F3E-4F79-B92F-E8CA99F95718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21" name="Group 17"/>
          <p:cNvGrpSpPr/>
          <p:nvPr/>
        </p:nvGrpSpPr>
        <p:grpSpPr>
          <a:xfrm>
            <a:off x="0" y="2728800"/>
            <a:ext cx="9161640" cy="1676520"/>
            <a:chOff x="0" y="2728800"/>
            <a:chExt cx="9161640" cy="1676520"/>
          </a:xfrm>
        </p:grpSpPr>
        <p:pic>
          <p:nvPicPr>
            <p:cNvPr id="222" name="Picture 1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408420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Picture 1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409212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Rectangle 20"/>
            <p:cNvSpPr/>
            <p:nvPr/>
          </p:nvSpPr>
          <p:spPr>
            <a:xfrm>
              <a:off x="0" y="272880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7710840" y="272880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dt" idx="16"/>
          </p:nvPr>
        </p:nvSpPr>
        <p:spPr>
          <a:xfrm>
            <a:off x="536544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 type="ftr" idx="17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 type="sldNum" idx="18"/>
          </p:nvPr>
        </p:nvSpPr>
        <p:spPr>
          <a:xfrm>
            <a:off x="7856640" y="2869920"/>
            <a:ext cx="114912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869A1-0FAA-4D86-A3D6-AEC785199081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6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269" name="Picture 17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8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Rectangle 19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20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7F7F2-D895-44EC-B894-FD57AE468734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27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16" name="Picture 28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7" name="Picture 29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30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31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dt" idx="22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sldNum" idx="24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3216-BCBE-478B-99A7-DFE3F9A9D6F3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8925"/>
            </a:gs>
            <a:gs pos="100000">
              <a:srgbClr val="8d0000"/>
            </a:gs>
          </a:gsLst>
          <a:lin ang="25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C:\Users\James\Desktop\msft\Berlin\build Assets\hashOverlaySD-FullResolve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62" name="Group 14"/>
          <p:cNvGrpSpPr/>
          <p:nvPr/>
        </p:nvGrpSpPr>
        <p:grpSpPr>
          <a:xfrm>
            <a:off x="0" y="609480"/>
            <a:ext cx="9161640" cy="1676520"/>
            <a:chOff x="0" y="609480"/>
            <a:chExt cx="9161640" cy="1676520"/>
          </a:xfrm>
        </p:grpSpPr>
        <p:pic>
          <p:nvPicPr>
            <p:cNvPr id="363" name="Picture 15" descr="HD-ShadowLong.png"/>
            <p:cNvPicPr/>
            <p:nvPr/>
          </p:nvPicPr>
          <p:blipFill>
            <a:blip r:embed="rId3"/>
            <a:srcRect l="26983" t="0" r="-214" b="0"/>
            <a:stretch/>
          </p:blipFill>
          <p:spPr>
            <a:xfrm>
              <a:off x="0" y="1964880"/>
              <a:ext cx="7644240" cy="32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16" descr="HD-ShadowShort.png"/>
            <p:cNvPicPr/>
            <p:nvPr/>
          </p:nvPicPr>
          <p:blipFill>
            <a:blip r:embed="rId4"/>
            <a:srcRect l="0" t="0" r="9872" b="0"/>
            <a:stretch/>
          </p:blipFill>
          <p:spPr>
            <a:xfrm>
              <a:off x="7716960" y="1972800"/>
              <a:ext cx="1444680" cy="14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Rectangle 17"/>
            <p:cNvSpPr/>
            <p:nvPr/>
          </p:nvSpPr>
          <p:spPr>
            <a:xfrm>
              <a:off x="0" y="609480"/>
              <a:ext cx="7566120" cy="1368720"/>
            </a:xfrm>
            <a:prstGeom prst="rect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Rectangle 18"/>
            <p:cNvSpPr/>
            <p:nvPr/>
          </p:nvSpPr>
          <p:spPr>
            <a:xfrm>
              <a:off x="7710840" y="609480"/>
              <a:ext cx="1433520" cy="1368720"/>
            </a:xfrm>
            <a:prstGeom prst="rect">
              <a:avLst/>
            </a:prstGeom>
            <a:solidFill>
              <a:srgbClr val="f0941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533160" y="2336400"/>
            <a:ext cx="6887880" cy="35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5366880" y="593568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33160" y="5935680"/>
            <a:ext cx="48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848720" y="752400"/>
            <a:ext cx="115704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3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0E17-A542-4285-AA39-75D49A2855D5}" type="slidenum"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9760" y="2733840"/>
            <a:ext cx="6070320" cy="1373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неры-герои.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509760" y="4393800"/>
            <a:ext cx="6108480" cy="11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и ровесники в годы </a:t>
            </a:r>
            <a:br>
              <a:rPr sz="3000"/>
            </a:br>
            <a:r>
              <a:rPr b="1" lang="ru-RU" sz="3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ликой Отечественной Войны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неры – герои: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531720" y="2349000"/>
            <a:ext cx="688824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Леня Голиков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Валя Котик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Зина Портнова.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26" name="Рисунок 1" descr=""/>
          <p:cNvPicPr/>
          <p:nvPr/>
        </p:nvPicPr>
        <p:blipFill>
          <a:blip r:embed="rId1"/>
          <a:stretch/>
        </p:blipFill>
        <p:spPr>
          <a:xfrm>
            <a:off x="6443640" y="1989000"/>
            <a:ext cx="2381400" cy="441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Рисунок 1" descr="Описание: Leonid Golikov.jpg"/>
          <p:cNvPicPr/>
          <p:nvPr/>
        </p:nvPicPr>
        <p:blipFill>
          <a:blip r:embed="rId1"/>
          <a:stretch/>
        </p:blipFill>
        <p:spPr>
          <a:xfrm>
            <a:off x="2195640" y="2124000"/>
            <a:ext cx="3744720" cy="4740480"/>
          </a:xfrm>
          <a:prstGeom prst="rect">
            <a:avLst/>
          </a:prstGeom>
          <a:ln w="0">
            <a:noFill/>
          </a:ln>
        </p:spPr>
      </p:pic>
      <p:sp>
        <p:nvSpPr>
          <p:cNvPr id="928" name="Прямоугольник 4"/>
          <p:cNvSpPr/>
          <p:nvPr/>
        </p:nvSpPr>
        <p:spPr>
          <a:xfrm>
            <a:off x="0" y="620640"/>
            <a:ext cx="75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онид Александрович Голик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7.06.1926 - 26.01.194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ёня Голиков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533520" y="2336400"/>
            <a:ext cx="403848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установлен в Великом Новгороде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1" name="Picture 5" descr="Похожее изображение"/>
          <p:cNvPicPr/>
          <p:nvPr/>
        </p:nvPicPr>
        <p:blipFill>
          <a:blip r:embed="rId1"/>
          <a:stretch/>
        </p:blipFill>
        <p:spPr>
          <a:xfrm>
            <a:off x="4859280" y="2077920"/>
            <a:ext cx="3225960" cy="4780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Прямоугольник 4"/>
          <p:cNvSpPr/>
          <p:nvPr/>
        </p:nvSpPr>
        <p:spPr>
          <a:xfrm>
            <a:off x="0" y="6206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лентин Александрович Коти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1.02.1930 - 17.02.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3" name="Рисунок 1" descr="Описание: ValaKotyk.jpg"/>
          <p:cNvPicPr/>
          <p:nvPr/>
        </p:nvPicPr>
        <p:blipFill>
          <a:blip r:embed="rId1"/>
          <a:stretch/>
        </p:blipFill>
        <p:spPr>
          <a:xfrm>
            <a:off x="2195640" y="2093760"/>
            <a:ext cx="3889080" cy="4764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ля Котик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орденом Отечественной войны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степен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ражден медалью «Партизану Отечественной войны»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ятник установлен у школы № 4 города Шепетовки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36" name="Picture 2" descr="Картинки по запросу памятник вале котику в шепетовке"/>
          <p:cNvPicPr/>
          <p:nvPr/>
        </p:nvPicPr>
        <p:blipFill>
          <a:blip r:embed="rId1"/>
          <a:stretch/>
        </p:blipFill>
        <p:spPr>
          <a:xfrm>
            <a:off x="4859280" y="2090880"/>
            <a:ext cx="3529080" cy="4703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Прямоугольник 4"/>
          <p:cNvSpPr/>
          <p:nvPr/>
        </p:nvSpPr>
        <p:spPr>
          <a:xfrm>
            <a:off x="0" y="62064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наида Мартыновна Портнов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0.02.1926 - 10.01.194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8" name="Рисунок 1" descr="Описание: Зина Портнова.jpg"/>
          <p:cNvPicPr/>
          <p:nvPr/>
        </p:nvPicPr>
        <p:blipFill>
          <a:blip r:embed="rId1"/>
          <a:stretch/>
        </p:blipFill>
        <p:spPr>
          <a:xfrm>
            <a:off x="2195640" y="2095560"/>
            <a:ext cx="3528720" cy="4759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на Портнова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мертно присвоено звание «Герой Советского Союза»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й поставлены памятники во многих городах, ее именем названы улицы в Ленинграде и Белорусии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1" name="Picture 2" descr="Картинки по запросу памятник вале котику в шепетовке"/>
          <p:cNvPicPr/>
          <p:nvPr/>
        </p:nvPicPr>
        <p:blipFill>
          <a:blip r:embed="rId1"/>
          <a:stretch/>
        </p:blipFill>
        <p:spPr>
          <a:xfrm>
            <a:off x="4859280" y="2090880"/>
            <a:ext cx="3529080" cy="47037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2" descr="Картинки по запросу памятник зине портновой"/>
          <p:cNvPicPr/>
          <p:nvPr/>
        </p:nvPicPr>
        <p:blipFill>
          <a:blip r:embed="rId2"/>
          <a:stretch/>
        </p:blipFill>
        <p:spPr>
          <a:xfrm>
            <a:off x="4859280" y="2100240"/>
            <a:ext cx="3529080" cy="471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1720" y="752040"/>
            <a:ext cx="68961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и – герои войны</a:t>
            </a:r>
            <a:endParaRPr b="0" lang="en-US" sz="4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68360" y="2099880"/>
            <a:ext cx="42480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45" name="Picture 2" descr="Картинки по запросу памятник детям погибшим в вов"/>
          <p:cNvPicPr/>
          <p:nvPr/>
        </p:nvPicPr>
        <p:blipFill>
          <a:blip r:embed="rId1"/>
          <a:stretch/>
        </p:blipFill>
        <p:spPr>
          <a:xfrm>
            <a:off x="2268360" y="2021040"/>
            <a:ext cx="3803760" cy="4836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2T13:04:07Z</dcterms:created>
  <dc:creator>Юлия</dc:creator>
  <dc:description>http://freeppt.ru - шаблоны PowerPoint. Презентации по культуре и искусству</dc:description>
  <dc:language>en-US</dc:language>
  <cp:lastModifiedBy>Орловы</cp:lastModifiedBy>
  <dcterms:modified xsi:type="dcterms:W3CDTF">2017-11-23T16:06:34Z</dcterms:modified>
  <cp:revision>32</cp:revision>
  <dc:subject/>
  <dc:title>«Маленькие герои большой войны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80000000000010243100207f9000400038000</vt:lpwstr>
  </property>
</Properties>
</file>