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8CB5-F30B-4E03-9217-968C457EB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9233-3DB8-4E53-B494-B2A7F392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EA466B-99EB-4636-93BC-9B31F9B9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B7B605-9FD6-4AC0-A2FA-14BFAA27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7402B-0C75-4255-8556-F481DE0C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AD2F9-0BCB-400F-BA03-D13AF67A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DA664D-4060-44AE-A1E3-8538B5AB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E2061-C83A-4F38-9328-91B033E19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434EC-B45F-4111-99B7-CF9C6E46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EEED16-2FA0-45C2-9E2F-25F05B1E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E31FD-F560-4C6C-94B1-FE704DE6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2C503-4B78-4265-B9C7-1A1FFBEE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626-39B2-4A75-AA07-F3303526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823CA-D0F4-4C14-BFF3-58D9C73F1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E59B7-CA6B-47F0-9997-403F2322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61F8F-C7E6-4B0D-ABC9-037C04A2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CE8B9-05E9-4109-BE79-78FDB2AF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F609DD-ADAE-4AB1-895F-F075ABDD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78A6F-A51E-409D-B4FA-ACCD22EB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866D1-BE25-493D-B83F-8316DDB1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5200D-8693-496F-8BC3-BA5764C3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B7B07-0C63-4EB7-B14D-047665546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A5C43-1A07-4ABF-9C72-53E70380A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8BF-5D2E-40CD-8D5C-F71A5286F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9E1B6-29DA-4657-8C3F-1F293E3F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8B8CD0-33D9-46E5-90C1-314571801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3CB47B-02B6-4DDE-932A-1850D85B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92744-00C6-422D-A8CD-CE5FB799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76C46-0A0E-4FC4-BB9A-09C87A416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6278B-D5CC-4948-9B29-A9575683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B95597-7A0E-4B0C-98B7-B7B40485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E3E86-8C1D-451A-89B7-3E0B1991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8E003-0B9C-4E83-9D64-36B170C6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72A92D-0C00-46BA-8D12-A1F82DEC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CD00-7A39-40F9-8A25-FBFC7905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9B411-2878-4445-BC44-8B82C91B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4B1B33-EB2E-4B72-8814-17A5E56A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920C2-852B-41BD-9210-22EC22960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8B52A6-04A5-401A-BF3B-4F86FB68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FF1855-8C3F-4796-BCAD-EDB2297D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BBB519-13A9-4435-92B1-FDB587D5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AE7D33-7FFE-4D08-AAAF-50B306AED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8927B-39CA-42B4-B10C-6AC74AB9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AAE849-A33A-4D11-9ED0-D2DF9B4D2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AD149-A390-43CD-82CB-7D6448A0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0FFCB-254C-45EC-8B44-A417AD13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C6F700-01E8-4A9A-B460-EDC8B4B5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BB1AB3-E985-4BD4-910D-386DCD4F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17855-823B-4ABC-BF1E-CA32E5286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EEC96B-3106-4BD0-858C-5749DB6E1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720097-9B79-4E4F-B971-BD6622EC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5D4922-D979-4CEF-B9FB-C76C530D8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2DBB4-CB8D-44E3-B891-E3FEC9A18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415132-3361-451D-BD51-F6F2F632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3F7D7E-E3DF-4157-A46E-F4BFB407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31B9EA-D87B-4F1B-8F80-A613B180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3653-AB95-437E-9BCC-19D458A5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659B9D-F93B-44F6-A92A-53CCBBD7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507F0-B7E5-4D97-BD6E-51940A2F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0C4F40-CAE9-4E1D-B9FD-31B97C1F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F22671-6C12-4282-B5E5-D2219691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E5BCFE-D909-445B-A4F5-B26EE827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7EEE3-BE60-42DD-8FA4-9C5E7AAC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EDED15-F86B-489B-B534-BE6A7DC2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67C3EF-2060-4D39-A5F7-2E5E7901D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9D7D83-184E-4761-B76F-6325AB3E3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536040-0DD6-4A19-A363-431DC7A8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0B21B-DC22-47E9-97C0-AA0D742AE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03373-B328-4AB4-9EAB-2F84E561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444031-C48C-46C4-A2E4-9AD98179F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2B2E5E-D682-4B94-9B7D-46B209A5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630B0-2971-4BBD-BCAB-3903996E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585F3-95E1-4DF7-8FEA-77AB34E6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A53641-717B-4E18-8DB5-59CB3252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826B74-54C2-41EE-994C-639EBE34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96CF11-3221-4DE7-83AC-6B105F49F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A064B6-D9A7-42B9-A56F-A38A43A1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2F122-42D5-410A-A107-CEAD7DD06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2CE7-6A34-48C2-B2F0-31C07C00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46D30B-9468-4C8E-9A6E-2AC29ED4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5A442C-635D-4317-96C8-231BF5E3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E5F5FA-B470-4A81-AF00-3A7D3B1A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D231D-CB7D-46B9-AAC5-DAAC08AC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C9324-B5D5-4BDC-AA16-86F862515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C13659-EC1C-4987-910D-78F618E6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0D28F-D10E-4BAF-A5ED-EA2CC8A3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3519FC-C739-41C3-89A8-F43C25B4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5125EC-B148-4608-A4C5-1D40E7C9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8E8D74-1176-48D7-82F1-057D97507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D6A0-5213-462C-BBEA-32C4C2BB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318E50-0F55-4FC8-86E9-9568041A5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6C20E-350A-438D-B8A4-FCC9AC96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5D6DA2-DB82-4026-A15E-701C7130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21F680-1C6D-416B-A04F-874769709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F7DCC1-EAFA-4345-851B-47BBE0C2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AFB80-6957-4763-BDD9-0A6EF8A9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F8E64E-F53D-4966-8C8A-0C94B8A18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D89D9D-49A4-4C72-BE2C-1006DDBE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290445-E173-4BB3-994D-6784E17F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F147E-B70C-4342-B684-F0C00918C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E0E5A-E2BE-4C1F-A558-2DC1B288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6C5BF-C07B-448E-BB81-1E8EB84F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E7DA27-A7FE-4F3E-BB3D-C18B391A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904D71-60FE-4407-B5C7-C4B375FB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5C311-9D00-4DDE-BC50-71CB2197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22B798-6ED6-457E-BC5D-A584D756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DDAB44-AD9B-4E03-A105-5B221053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E03721-E2C0-47D0-A59D-98BED8EE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56520-968B-45A1-A614-E4F387D2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0631EF-B4A2-4301-BA60-78C66D28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4ECD40-CAB6-440C-BCFA-0DAB1B98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DAA8-DF89-4370-8036-E3BC1AF85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CECE-AE3A-48B1-8BBF-CAD44E4E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1F8F33-AB79-4320-B99D-121F957C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15C79A-250F-4A74-843A-041CCBE8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397AB-DB14-4C7A-B03F-D9E11B10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A891FC-AA4E-4CBD-9DE8-A662D18C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BBF9DE-92C1-4213-A967-82C39E06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7E4455-4920-4EF7-8E40-D66B905C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297A08-AA1A-4E7E-901A-DA81ABEA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A50F7A-AB92-4D95-93D1-58470DF6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3D2785-BF1D-462F-801D-A98F8EB9A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23DCC4-6D5F-434D-B3D5-1F49F6E0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3CD3-C64C-4129-808E-E38DB613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A4ACE7-A2F4-46A7-82A0-15EEDE2C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B986B1-8B9D-4F63-A195-6C3B0571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9AA730-A40D-4BF5-9661-38F77AD1B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DFCB48-6E0D-46A4-9528-CE1A29A5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17029-CB22-4BE5-8051-62A14541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B273A8-8A05-47B9-8655-046A07BB3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FA238F-9E9A-404E-B74F-CA47FB52A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F32D41-022A-4001-936A-AE069BD0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1EB257-E814-4174-A95C-DEC5FA92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92BE73-42A6-4045-971D-94ECA991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3389-E6B4-4AAC-AD05-89FC8ADB6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5452F9-25B1-4DAF-82ED-B6D6FECE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22C23C-91C3-44EC-A814-E13D89F6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B90B7C-D23B-45A4-9C86-40E36C21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614FA1-9496-4C3B-A137-419D5069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B82D36-E97A-40E7-9CAE-370BFD0A2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8C819D-EF32-42C0-990A-99E3F313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C8FAC0-69DE-452E-8A59-85CF31C3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3502F0-8F46-4144-8E56-1A69B850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324480-008E-4208-98A3-757C3756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3365A8-6966-4229-814C-637D7CA20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492C-059B-4D06-A506-EE729AE0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EFA479-3D63-42C9-9FCA-6E362231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89B0C7-C9CB-4BD3-8E05-EBC46552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3C2151-BC09-4F38-BF32-23ABC320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7162AE-F128-4C9B-B05A-8DD28C34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136D20-A403-4022-A955-19E1A55D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AC940C-6789-4D5B-BE65-E07C64D36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C98893-05CF-4EC5-AE78-4E77226B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E30374-0D42-4302-B4CC-D7C12AD9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7CF4DF-378A-4D52-B67A-B310041DD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317F06-4DFC-421D-A5A7-EDD330877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3269-57FC-49DD-AA72-103F27C33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96006C-9376-465E-96FC-8E2FD53F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23705-6736-46B8-BECE-5792220E9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D9B45-C2EA-43CC-B098-0E8D65B2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4A893-5770-4024-A7D1-98DF3508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79DB9-0F99-4B25-876B-2719F24E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F5736-6D48-4044-906E-9A7D373FC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1039-7476-4121-8BA8-C3156998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C76F1-AF43-4E15-8891-060E0A48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43B28-6093-431C-8EA1-015427F27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5BEA5E-F27F-4097-BFE9-9A117841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F4395-AB5E-4168-B0D4-C9CE2D742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ECA44-E49A-435D-A3D4-BA729701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BC3C8-95D0-4595-877D-AA3F4D16A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68DB5-7A09-485E-8926-19B24085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FA5F6-CE31-4249-92DE-0E414F70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CE31B-502E-44D8-A749-0E6C909E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29E33-30EE-404B-9F85-29797794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7506-1D06-4A93-91F2-AB2F46981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785D2-61EC-4F39-9F65-9AA3E246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23022-2A05-41D5-951F-EC775580F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13B19-136C-4942-A615-C5CE7A46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99564-1FC9-4AD5-BF21-CEE2C3DA4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DAED8-0325-4CE0-A220-95836579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C6AF8-0338-47A7-BA2A-44DF51B8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985E7-8675-477C-A31F-66E18663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400F1-C9EE-42D3-8976-39B6F7AC7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C9F87-F1E9-4417-8DF6-A693C741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6DD02-BB09-45B0-8E4E-1BBFC0E95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B4AA-B63D-45DE-AB82-1C733A7D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347F8-D63C-49B7-BF75-18DEBB8C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8528B-6E07-4CC1-8C6A-A4B0822E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6868B9-85F8-4BB9-8B24-33FCA926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595F6-B70D-4620-9921-9B695513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93363-560D-4F88-B2F9-76B6ADD9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BAE5A-B2C6-4AA5-A2DD-B6F37A79B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5547E5-CD27-4651-9BF0-873E8212A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ACC055-DBEF-49E5-A7A2-7DEAEEEA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2661C-7213-4DE2-9331-4207120E8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9A1CC-6729-4467-8C34-C1012A21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FEB-88FC-40C3-86D8-DFC59845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AC9A0-4C5B-415F-B5DA-CDC130CBE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58196-CA9B-4596-A9AD-EBAA7F768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25588-8328-4C6C-AABB-91DB52F7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870D9A-8D77-453C-98F6-62BE3CDA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554E3-68E6-49DF-ADF1-A8AA8055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1C5C5-5BF8-430B-90AE-DE90B5EA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9E03E-A976-496E-8C8D-0865FCBAB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DD376-57B7-4E6A-8BF0-E5A57FB4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42D9B-ADD9-4C68-85B2-1CB9F46E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BBFD90-1E90-43F6-90CD-D3B13B3A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DEA-216F-4C9B-A063-A2E92CE3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49E18-9CE3-4B8F-A620-4647FA2E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BEF3E-FA6A-4851-9143-BA6DB2DF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8CBFF-0D09-4C9C-B684-8597DA13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94147-226F-4309-B47B-17844B4A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B0155-B66E-4265-8097-AEE38BF8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15536-7464-4020-9AF4-CD0D74D9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9ECB3-F37D-45AC-9021-7388F828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58BED4-0F9B-430D-B52E-1BE9F8DF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D6DF9F-F683-4A90-868E-1702E5CE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33CE2-723C-4E6B-8B2A-FB4DDCE3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1B01-6128-4D6D-AB3F-FBC90830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0A812-AA37-460D-A8E4-81C43BF0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95A35-7839-4AD5-9310-DC581455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558B9-DE12-4402-ABDA-E1119385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05300-8213-4870-83FC-BB7098A7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6FFA6-E463-4F19-AEC0-2F7A6E65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3FC73-6DAB-443F-8033-5E7EEAC1B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0688F0-BACC-4B7A-BCE4-248489AB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D543D-F88F-4FF4-80B6-80BAEF39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A58155-C8E7-47B3-B6CB-BA9291B8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92125-5FDE-4E70-AFFA-7D0EEF68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144F-00D6-4A17-A369-236D5CA1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45F20-EEFD-408C-B567-C04494AD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CADD7-E6EA-47F1-96CA-F48FEB7C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72EDD-4B69-4E45-AF04-AF29A0A6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41CCC-BC2A-43E5-8797-392F7BFF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91204-C418-4D88-8856-954339CB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3ED1E-0067-42D5-AA26-3BFE75D7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98F81-FD28-423C-97B0-590500AA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367CB-09E2-4FEF-B1B8-22B76D93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70670-769B-4C5E-93EA-65DD4AE54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F09FF-9380-405E-987C-7D9556E5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Presentations\9May\red-vasilki-slaid1.jpg"/>
          <p:cNvPicPr/>
          <p:nvPr/>
        </p:nvPicPr>
        <p:blipFill>
          <a:blip r:embed="rId2"/>
          <a:stretch/>
        </p:blipFill>
        <p:spPr>
          <a:xfrm>
            <a:off x="-7920" y="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6BA3-1DC3-4CFC-9F5B-FCCAF4B3E4D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3EF3-755D-4649-951F-9E4FCE42338A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5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966F-17A6-4B25-A0F3-F3276D6A7D53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0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501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F3C8-1164-4506-A531-DA3F7129792A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7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48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Rectangle 25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Rectangle 26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9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B88E5-705B-4CD7-83E2-2355232ECCEA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95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Rectangle 23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24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EDB9-B664-485D-BAB6-06FCCFE1F32F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1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42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Rectangle 31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32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6C55-6332-45F7-B347-4924904074C8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0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91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Rectangle 24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Rectangle 25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A178-7C69-48E8-9B44-AA9477C0EB5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7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38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Rectangle 25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Rectangle 26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BDB8-B65B-488A-A1AE-DA4409ED74D4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4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85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Rectangle 36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Rectangle 37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5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5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5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7634-85A0-4323-A633-82C70D555E3E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1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832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Rectangle 18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Rectangle 19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5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5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5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BBBB-FBBF-48B9-B25D-723954559F62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C4E0-3F3C-4640-9581-DC2C200B5670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78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879" name="Rectangle 11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Rectangle 12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8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59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0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068B-81D7-440C-B1EB-E5006CD9C7E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Presentations\9May\red-vasilki-slaid1.jpg"/>
          <p:cNvPicPr/>
          <p:nvPr/>
        </p:nvPicPr>
        <p:blipFill>
          <a:blip r:embed="rId2"/>
          <a:stretch/>
        </p:blipFill>
        <p:spPr>
          <a:xfrm>
            <a:off x="-7920" y="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Presentations\9May\red-vasilki-master.jpg"/>
          <p:cNvPicPr/>
          <p:nvPr/>
        </p:nvPicPr>
        <p:blipFill>
          <a:blip r:embed="rId3"/>
          <a:stretch/>
        </p:blipFill>
        <p:spPr>
          <a:xfrm>
            <a:off x="-10800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4F41-591F-4D6E-9E68-CEA0D430356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DFF9-8A95-412D-9657-161F99843DE5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75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Rectangle 2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7997-9812-4EEC-8166-BC1201ADEAA9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222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2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2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B579-3DC7-4A06-B3C7-2796896C8CD1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D39A-664F-4084-8B04-C51E24D7F2D6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16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3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3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80A1-101A-47CF-AEC4-670C222A01F7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3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17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Rectangle 18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9500-44B7-49E4-91FE-295D9E2A5DB4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9760" y="2733840"/>
            <a:ext cx="607032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онеры-герои.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9760" y="4393800"/>
            <a:ext cx="610848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и ровесники в годы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ой Отечественной Войны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онеры – герои: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531720" y="2349000"/>
            <a:ext cx="68882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Леня Голиков.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аля Котик.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Зина Портнова.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26" name="Рисунок 1" descr=""/>
          <p:cNvPicPr/>
          <p:nvPr/>
        </p:nvPicPr>
        <p:blipFill>
          <a:blip r:embed="rId1"/>
          <a:stretch/>
        </p:blipFill>
        <p:spPr>
          <a:xfrm>
            <a:off x="6443640" y="1989000"/>
            <a:ext cx="2381400" cy="441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Рисунок 1" descr="Описание: Leonid Golikov.jpg"/>
          <p:cNvPicPr/>
          <p:nvPr/>
        </p:nvPicPr>
        <p:blipFill>
          <a:blip r:embed="rId1"/>
          <a:stretch/>
        </p:blipFill>
        <p:spPr>
          <a:xfrm>
            <a:off x="2195640" y="2124000"/>
            <a:ext cx="3744720" cy="4740480"/>
          </a:xfrm>
          <a:prstGeom prst="rect">
            <a:avLst/>
          </a:prstGeom>
          <a:ln w="0">
            <a:noFill/>
          </a:ln>
        </p:spPr>
      </p:pic>
      <p:sp>
        <p:nvSpPr>
          <p:cNvPr id="928" name="Прямоугольник 4"/>
          <p:cNvSpPr/>
          <p:nvPr/>
        </p:nvSpPr>
        <p:spPr>
          <a:xfrm>
            <a:off x="0" y="620640"/>
            <a:ext cx="75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ид Александрович Гол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.06.1926 - 26.01.194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ёня Голиков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533520" y="2336400"/>
            <a:ext cx="40384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мертно присвоено звание «Герой Советского Союза»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установлен в Великом Новгороде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31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4859280" y="2077920"/>
            <a:ext cx="3225960" cy="478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Прямоугольник 4"/>
          <p:cNvSpPr/>
          <p:nvPr/>
        </p:nvSpPr>
        <p:spPr>
          <a:xfrm>
            <a:off x="0" y="62064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ин Александрович Кот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.02.1930 - 17.02.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Рисунок 1" descr="Описание: ValaKotyk.jpg"/>
          <p:cNvPicPr/>
          <p:nvPr/>
        </p:nvPicPr>
        <p:blipFill>
          <a:blip r:embed="rId1"/>
          <a:stretch/>
        </p:blipFill>
        <p:spPr>
          <a:xfrm>
            <a:off x="2195640" y="2093760"/>
            <a:ext cx="3889080" cy="476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я Котик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68360" y="2099880"/>
            <a:ext cx="4248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ражден орденом Отечественной войн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тепени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ражден медалью «Партизану Отечественной войны»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мертно присвоено звание «Герой Советского Союза»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установлен у школы № 4 города Шепетовки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36" name="Picture 2" descr="Картинки по запросу памятник вале котику в шепетовке"/>
          <p:cNvPicPr/>
          <p:nvPr/>
        </p:nvPicPr>
        <p:blipFill>
          <a:blip r:embed="rId1"/>
          <a:stretch/>
        </p:blipFill>
        <p:spPr>
          <a:xfrm>
            <a:off x="4859280" y="2090880"/>
            <a:ext cx="3529080" cy="4703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Прямоугольник 4"/>
          <p:cNvSpPr/>
          <p:nvPr/>
        </p:nvSpPr>
        <p:spPr>
          <a:xfrm>
            <a:off x="0" y="62064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Мартыновна Порт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.02.1926 - 10.01.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8" name="Рисунок 1" descr="Описание: Зина Портнова.jpg"/>
          <p:cNvPicPr/>
          <p:nvPr/>
        </p:nvPicPr>
        <p:blipFill>
          <a:blip r:embed="rId1"/>
          <a:stretch/>
        </p:blipFill>
        <p:spPr>
          <a:xfrm>
            <a:off x="2195640" y="2095560"/>
            <a:ext cx="3528720" cy="475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на Портнова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68360" y="2099880"/>
            <a:ext cx="4248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мертно присвоено звание «Герой Советского Союза»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й поставлены памятники во многих городах, ее именем названы улицы в Ленинграде и Белорусии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41" name="Picture 2" descr="Картинки по запросу памятник вале котику в шепетовке"/>
          <p:cNvPicPr/>
          <p:nvPr/>
        </p:nvPicPr>
        <p:blipFill>
          <a:blip r:embed="rId1"/>
          <a:stretch/>
        </p:blipFill>
        <p:spPr>
          <a:xfrm>
            <a:off x="4859280" y="2090880"/>
            <a:ext cx="3529080" cy="47037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2" descr="Картинки по запросу памятник зине портновой"/>
          <p:cNvPicPr/>
          <p:nvPr/>
        </p:nvPicPr>
        <p:blipFill>
          <a:blip r:embed="rId2"/>
          <a:stretch/>
        </p:blipFill>
        <p:spPr>
          <a:xfrm>
            <a:off x="4859280" y="2100240"/>
            <a:ext cx="3529080" cy="4710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– герои войны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68360" y="2099880"/>
            <a:ext cx="4248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45" name="Picture 2" descr="Картинки по запросу памятник детям погибшим в вов"/>
          <p:cNvPicPr/>
          <p:nvPr/>
        </p:nvPicPr>
        <p:blipFill>
          <a:blip r:embed="rId1"/>
          <a:stretch/>
        </p:blipFill>
        <p:spPr>
          <a:xfrm>
            <a:off x="2268360" y="2021040"/>
            <a:ext cx="3803760" cy="4836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13:04:07Z</dcterms:created>
  <dc:creator>Юлия</dc:creator>
  <dc:description>http://freeppt.ru - шаблоны PowerPoint. Презентации по культуре и искусству</dc:description>
  <dc:language>en-US</dc:language>
  <cp:lastModifiedBy>Орловы</cp:lastModifiedBy>
  <dcterms:modified xsi:type="dcterms:W3CDTF">2017-11-23T16:06:34Z</dcterms:modified>
  <cp:revision>32</cp:revision>
  <dc:subject/>
  <dc:title>«Маленькие герои большой войны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80000000000010243100207f9000400038000</vt:lpwstr>
  </property>
</Properties>
</file>