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0AE4-CCD4-4B4A-AC22-9F1112160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2FEC-8FDD-47DB-8D65-E2ED6BBE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302-B714-485D-8EAC-639C4E427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3AA-54E4-4A65-B57A-BA06E623C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A849-64DF-41E6-ABF7-CA5E8F9D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C16D-5415-46DE-97A8-13F46480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562-BDBB-4543-8528-5EB03D88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E315-CA52-48AC-A218-06D253CAE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AAE3-03CD-4016-B1CD-6EE5C4F7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CFD8-324C-4F50-9451-E72B68579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4F87-6A2E-4221-BD43-14FE13EA1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0AE-2716-4542-B4F9-9D626462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F78F-A4EA-4234-ADE2-239BD3A67F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Рисунок 3" descr="фон.jpg"/>
          <p:cNvPicPr/>
          <p:nvPr/>
        </p:nvPicPr>
        <p:blipFill>
          <a:blip r:embed="rId1"/>
          <a:stretch/>
        </p:blipFill>
        <p:spPr>
          <a:xfrm>
            <a:off x="-68400" y="0"/>
            <a:ext cx="92124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0" y="26028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Государственное бюджетное дошкольное образовательное учреждение Детски сад №99 Фрунзе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195640" y="198900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Зим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75564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атель  Королькова  Т.Н. ( высшая категор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7"/>
          <p:cNvSpPr/>
          <p:nvPr/>
        </p:nvSpPr>
        <p:spPr>
          <a:xfrm>
            <a:off x="1908000" y="6453360"/>
            <a:ext cx="52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. Санкт - 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8"/>
          <p:cNvSpPr/>
          <p:nvPr/>
        </p:nvSpPr>
        <p:spPr>
          <a:xfrm>
            <a:off x="1763640" y="3789360"/>
            <a:ext cx="57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ля детей  младшего  дошкольного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5" descr="пр зим6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-15840" y="0"/>
            <a:ext cx="9175680" cy="685800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3" descr="зима пр31.jpg"/>
          <p:cNvPicPr/>
          <p:nvPr/>
        </p:nvPicPr>
        <p:blipFill>
          <a:blip r:embed="rId2"/>
          <a:stretch/>
        </p:blipFill>
        <p:spPr>
          <a:xfrm>
            <a:off x="900000" y="907920"/>
            <a:ext cx="7488360" cy="561672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sp>
        <p:nvSpPr>
          <p:cNvPr id="80" name="TextBox 4"/>
          <p:cNvSpPr/>
          <p:nvPr/>
        </p:nvSpPr>
        <p:spPr>
          <a:xfrm>
            <a:off x="179280" y="404640"/>
            <a:ext cx="856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яжело приходится зимующим птицам. Очень важно подкармливать птиц зим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прзим3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TextBox 2"/>
          <p:cNvSpPr/>
          <p:nvPr/>
        </p:nvSpPr>
        <p:spPr>
          <a:xfrm>
            <a:off x="1187280" y="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верей спасает от холода тёплый пушистый ме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Рисунок 3" descr="зверлис.jpg"/>
          <p:cNvPicPr/>
          <p:nvPr/>
        </p:nvPicPr>
        <p:blipFill>
          <a:blip r:embed="rId2"/>
          <a:stretch/>
        </p:blipFill>
        <p:spPr>
          <a:xfrm>
            <a:off x="250920" y="3757680"/>
            <a:ext cx="2808360" cy="280836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84" name="Рисунок 4" descr="звер бел.jpg"/>
          <p:cNvPicPr/>
          <p:nvPr/>
        </p:nvPicPr>
        <p:blipFill>
          <a:blip r:embed="rId3"/>
          <a:srcRect l="0" t="12764" r="0" b="0"/>
          <a:stretch/>
        </p:blipFill>
        <p:spPr>
          <a:xfrm>
            <a:off x="3419640" y="476280"/>
            <a:ext cx="2463480" cy="295272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85" name="Рисунок 6" descr="звер заяц.jpg"/>
          <p:cNvPicPr/>
          <p:nvPr/>
        </p:nvPicPr>
        <p:blipFill>
          <a:blip r:embed="rId4"/>
          <a:stretch/>
        </p:blipFill>
        <p:spPr>
          <a:xfrm>
            <a:off x="5292720" y="3860640"/>
            <a:ext cx="3527280" cy="264636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4" descr="пр зим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179280" y="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има удивительное  время года. Только зимой можно кататься на санках, лыж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ьках. Играть в снежки, лепить снежную бабу и делать снежные фигу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Рисунок 9" descr="зимапр222.jpg"/>
          <p:cNvPicPr/>
          <p:nvPr/>
        </p:nvPicPr>
        <p:blipFill>
          <a:blip r:embed="rId2"/>
          <a:stretch/>
        </p:blipFill>
        <p:spPr>
          <a:xfrm>
            <a:off x="250920" y="692280"/>
            <a:ext cx="3889440" cy="259236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89" name="Рисунок 10" descr="зимп.jpg"/>
          <p:cNvPicPr/>
          <p:nvPr/>
        </p:nvPicPr>
        <p:blipFill>
          <a:blip r:embed="rId3"/>
          <a:stretch/>
        </p:blipFill>
        <p:spPr>
          <a:xfrm>
            <a:off x="250920" y="3645000"/>
            <a:ext cx="4033800" cy="294300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90" name="Рисунок 11" descr="зимапр6.jpg"/>
          <p:cNvPicPr/>
          <p:nvPr/>
        </p:nvPicPr>
        <p:blipFill>
          <a:blip r:embed="rId4"/>
          <a:stretch/>
        </p:blipFill>
        <p:spPr>
          <a:xfrm>
            <a:off x="5148360" y="765000"/>
            <a:ext cx="3671640" cy="251964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91" name="Рисунок 13" descr="зимапре.jpg"/>
          <p:cNvPicPr/>
          <p:nvPr/>
        </p:nvPicPr>
        <p:blipFill>
          <a:blip r:embed="rId5"/>
          <a:srcRect l="0" t="0" r="0" b="9737"/>
          <a:stretch/>
        </p:blipFill>
        <p:spPr>
          <a:xfrm>
            <a:off x="5364000" y="3716280"/>
            <a:ext cx="3168720" cy="286236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Рисунок 3" descr="през зи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95280" y="333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вый год и Рождество самые любимые праздники у детей и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Рисунок 4" descr="зимнов.JPG"/>
          <p:cNvPicPr/>
          <p:nvPr/>
        </p:nvPicPr>
        <p:blipFill>
          <a:blip r:embed="rId2"/>
          <a:srcRect l="37773" t="0" r="0" b="0"/>
          <a:stretch/>
        </p:blipFill>
        <p:spPr>
          <a:xfrm>
            <a:off x="324000" y="765000"/>
            <a:ext cx="3598560" cy="433080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95" name="Рисунок 5" descr="зим дед мор.jpg"/>
          <p:cNvPicPr/>
          <p:nvPr/>
        </p:nvPicPr>
        <p:blipFill>
          <a:blip r:embed="rId3"/>
          <a:stretch/>
        </p:blipFill>
        <p:spPr>
          <a:xfrm>
            <a:off x="4932360" y="2276640"/>
            <a:ext cx="3908520" cy="430020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2" descr="фонзи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08000" y="1341360"/>
            <a:ext cx="813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ировать представление детей о зим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ширять знания о зимних природных явлениях и праздник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08000" y="3645000"/>
            <a:ext cx="820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креплять представления о сезонных изменениях в прир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ормировать представления детей о безопасном поведении на ул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вивать и активизировать словарный запас, творческие способности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спитывать бережное отношение к природ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фон0.jpg"/>
          <p:cNvPicPr/>
          <p:nvPr/>
        </p:nvPicPr>
        <p:blipFill>
          <a:blip r:embed="rId1"/>
          <a:stretch/>
        </p:blipFill>
        <p:spPr>
          <a:xfrm>
            <a:off x="-36360" y="0"/>
            <a:ext cx="92167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5076720" y="1628640"/>
            <a:ext cx="37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 в лесу, и на крыле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юду гостья побыв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збросала покрыв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ст построила на речк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 окошки расписал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се дорожки зам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равствуй, зимушка – зи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през фон28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2627280" y="8366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ЗИМНИЕ МЕСЯ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179280" y="306864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ЕКАБ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3348000" y="242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ЯНВА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"/>
          <p:cNvSpPr/>
          <p:nvPr/>
        </p:nvSpPr>
        <p:spPr>
          <a:xfrm>
            <a:off x="7020000" y="3284640"/>
            <a:ext cx="21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ФЕВР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3" descr="пр зим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1258920" y="333360"/>
            <a:ext cx="66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има  - самое холодное время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5" descr="зимапр1.jpg"/>
          <p:cNvPicPr/>
          <p:nvPr/>
        </p:nvPicPr>
        <p:blipFill>
          <a:blip r:embed="rId2"/>
          <a:stretch/>
        </p:blipFill>
        <p:spPr>
          <a:xfrm>
            <a:off x="324000" y="1125360"/>
            <a:ext cx="8393040" cy="532944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пр зим ф.jpg"/>
          <p:cNvPicPr/>
          <p:nvPr/>
        </p:nvPicPr>
        <p:blipFill>
          <a:blip r:embed="rId1"/>
          <a:stretch/>
        </p:blipFill>
        <p:spPr>
          <a:xfrm>
            <a:off x="0" y="0"/>
            <a:ext cx="9153360" cy="685008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0" y="3333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има отличается низкой температурой воздуха. Люди одевают зимой тёплую одежд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4" descr="одеж.jpg"/>
          <p:cNvPicPr/>
          <p:nvPr/>
        </p:nvPicPr>
        <p:blipFill>
          <a:blip r:embed="rId2"/>
          <a:stretch/>
        </p:blipFill>
        <p:spPr>
          <a:xfrm>
            <a:off x="5076720" y="765000"/>
            <a:ext cx="3878280" cy="532800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  <p:pic>
        <p:nvPicPr>
          <p:cNvPr id="65" name="Рисунок 5" descr="зимпр.jpg"/>
          <p:cNvPicPr/>
          <p:nvPr/>
        </p:nvPicPr>
        <p:blipFill>
          <a:blip r:embed="rId3"/>
          <a:stretch/>
        </p:blipFill>
        <p:spPr>
          <a:xfrm>
            <a:off x="395280" y="469728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6" descr="зимпр6.jpg"/>
          <p:cNvPicPr/>
          <p:nvPr/>
        </p:nvPicPr>
        <p:blipFill>
          <a:blip r:embed="rId4"/>
          <a:stretch/>
        </p:blipFill>
        <p:spPr>
          <a:xfrm>
            <a:off x="0" y="836640"/>
            <a:ext cx="1476360" cy="118440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7" descr="зимпр9.jpg"/>
          <p:cNvPicPr/>
          <p:nvPr/>
        </p:nvPicPr>
        <p:blipFill>
          <a:blip r:embed="rId5"/>
          <a:stretch/>
        </p:blipFill>
        <p:spPr>
          <a:xfrm rot="9946800">
            <a:off x="3273480" y="504360"/>
            <a:ext cx="1047600" cy="186552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8" descr="зимапр05.jpeg"/>
          <p:cNvPicPr/>
          <p:nvPr/>
        </p:nvPicPr>
        <p:blipFill>
          <a:blip r:embed="rId6"/>
          <a:stretch/>
        </p:blipFill>
        <p:spPr>
          <a:xfrm>
            <a:off x="611280" y="1557360"/>
            <a:ext cx="3603600" cy="36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6" descr="през зи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2"/>
          <p:cNvSpPr/>
          <p:nvPr/>
        </p:nvSpPr>
        <p:spPr>
          <a:xfrm>
            <a:off x="0" y="189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имой природа отдыхает. Деревья и кустарники покрыты белым, пушистым сне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Рисунок 4" descr="зима пр22.jpg"/>
          <p:cNvPicPr/>
          <p:nvPr/>
        </p:nvPicPr>
        <p:blipFill>
          <a:blip r:embed="rId2"/>
          <a:stretch/>
        </p:blipFill>
        <p:spPr>
          <a:xfrm>
            <a:off x="611280" y="765000"/>
            <a:ext cx="7850160" cy="583272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Рисунок 2" descr="пр зим ф.jpg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42160"/>
          </a:xfrm>
          <a:prstGeom prst="rect">
            <a:avLst/>
          </a:prstGeom>
          <a:ln w="0">
            <a:noFill/>
          </a:ln>
        </p:spPr>
      </p:pic>
      <p:sp>
        <p:nvSpPr>
          <p:cNvPr id="73" name="TextBox 3"/>
          <p:cNvSpPr/>
          <p:nvPr/>
        </p:nvSpPr>
        <p:spPr>
          <a:xfrm>
            <a:off x="826920" y="260280"/>
            <a:ext cx="770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еки, пруды, озёра покрываются ль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Рисунок 8" descr="зима пр032.jpg"/>
          <p:cNvPicPr/>
          <p:nvPr/>
        </p:nvPicPr>
        <p:blipFill>
          <a:blip r:embed="rId2"/>
          <a:stretch/>
        </p:blipFill>
        <p:spPr>
          <a:xfrm>
            <a:off x="468360" y="765000"/>
            <a:ext cx="8136000" cy="568836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Рисунок 2" descr="през зим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79280" y="18900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 безветренные дни снег падает на землю спокойно и медленно.   Снегопад при сильном ветре называется мете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" descr="зама2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39640" y="981000"/>
            <a:ext cx="8064720" cy="5472360"/>
          </a:xfrm>
          <a:prstGeom prst="rect">
            <a:avLst/>
          </a:prstGeom>
          <a:ln w="57240">
            <a:solidFill>
              <a:srgbClr val="376092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3T13:27:52Z</dcterms:created>
  <dc:creator>User</dc:creator>
  <dc:description/>
  <dc:language>en-US</dc:language>
  <cp:lastModifiedBy>User</cp:lastModifiedBy>
  <dcterms:modified xsi:type="dcterms:W3CDTF">2018-07-24T08:42:26Z</dcterms:modified>
  <cp:revision>23</cp:revision>
  <dc:subject/>
  <dc:title>Слайд 1</dc:title>
</cp:coreProperties>
</file>