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96D-C84C-416E-B6BF-4AA41BD9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B846-375A-4714-9473-D5F31858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EC67-4311-4F4E-A042-AD97D8EF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81DC-8CAF-4825-A259-FDA9B2C3B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4740-8A17-43A3-AF55-68AC2144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A98C-A654-42B2-8A8C-128E9029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4DF0-5B97-4ABA-AAE6-3CEA5511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7097-0964-477F-B336-F13686C6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365B-EB98-4FB1-AB9E-2E4D267D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4416-72BA-46FC-9081-CBC4FA1C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E30D-8A3A-4860-9984-B73184E6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5022-2735-4032-A16C-D532D054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443E-6579-4123-826C-C9A3CA9D29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фон.jpg"/>
          <p:cNvPicPr/>
          <p:nvPr/>
        </p:nvPicPr>
        <p:blipFill>
          <a:blip r:embed="rId1"/>
          <a:stretch/>
        </p:blipFill>
        <p:spPr>
          <a:xfrm>
            <a:off x="-68400" y="0"/>
            <a:ext cx="9212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0" y="260280"/>
            <a:ext cx="89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осударственное бюджетное дошкольное образовательное учреждение Детски сад №99 Фрунзен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195640" y="1989000"/>
            <a:ext cx="52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Зи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75564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спитатель  Королькова  Т.Н. ( высшая категор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1908000" y="6453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. Санкт - 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1763640" y="37893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 детей  младшего  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5" descr="пр зим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-1584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зима пр31.jpg"/>
          <p:cNvPicPr/>
          <p:nvPr/>
        </p:nvPicPr>
        <p:blipFill>
          <a:blip r:embed="rId2"/>
          <a:stretch/>
        </p:blipFill>
        <p:spPr>
          <a:xfrm>
            <a:off x="900000" y="907920"/>
            <a:ext cx="7488360" cy="561672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  <p:sp>
        <p:nvSpPr>
          <p:cNvPr id="80" name="TextBox 4"/>
          <p:cNvSpPr/>
          <p:nvPr/>
        </p:nvSpPr>
        <p:spPr>
          <a:xfrm>
            <a:off x="179280" y="40464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яжело приходится зимующим птицам. Очень важно подкармливать птиц зим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прзим3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1187280" y="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верей спасает от холода тёплый пушистый м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" descr="зверлис.jpg"/>
          <p:cNvPicPr/>
          <p:nvPr/>
        </p:nvPicPr>
        <p:blipFill>
          <a:blip r:embed="rId2"/>
          <a:stretch/>
        </p:blipFill>
        <p:spPr>
          <a:xfrm>
            <a:off x="250920" y="3757680"/>
            <a:ext cx="2808360" cy="280836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  <p:pic>
        <p:nvPicPr>
          <p:cNvPr id="84" name="Рисунок 4" descr="звер бел.jpg"/>
          <p:cNvPicPr/>
          <p:nvPr/>
        </p:nvPicPr>
        <p:blipFill>
          <a:blip r:embed="rId3"/>
          <a:srcRect l="0" t="12764" r="0" b="0"/>
          <a:stretch/>
        </p:blipFill>
        <p:spPr>
          <a:xfrm>
            <a:off x="3419640" y="476280"/>
            <a:ext cx="2463480" cy="295272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  <p:pic>
        <p:nvPicPr>
          <p:cNvPr id="85" name="Рисунок 6" descr="звер заяц.jpg"/>
          <p:cNvPicPr/>
          <p:nvPr/>
        </p:nvPicPr>
        <p:blipFill>
          <a:blip r:embed="rId4"/>
          <a:stretch/>
        </p:blipFill>
        <p:spPr>
          <a:xfrm>
            <a:off x="5292720" y="3860640"/>
            <a:ext cx="3527280" cy="264636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4" descr="пр зим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179280" y="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има удивительное  время года. Только зимой можно кататься на санках, лыж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ьках. Играть в снежки, лепить снежную бабу и делать снежные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9" descr="зимапр222.jpg"/>
          <p:cNvPicPr/>
          <p:nvPr/>
        </p:nvPicPr>
        <p:blipFill>
          <a:blip r:embed="rId2"/>
          <a:stretch/>
        </p:blipFill>
        <p:spPr>
          <a:xfrm>
            <a:off x="250920" y="692280"/>
            <a:ext cx="3889440" cy="259236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  <p:pic>
        <p:nvPicPr>
          <p:cNvPr id="89" name="Рисунок 10" descr="зимп.jpg"/>
          <p:cNvPicPr/>
          <p:nvPr/>
        </p:nvPicPr>
        <p:blipFill>
          <a:blip r:embed="rId3"/>
          <a:stretch/>
        </p:blipFill>
        <p:spPr>
          <a:xfrm>
            <a:off x="250920" y="3645000"/>
            <a:ext cx="4033800" cy="294300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  <p:pic>
        <p:nvPicPr>
          <p:cNvPr id="90" name="Рисунок 11" descr="зимапр6.jpg"/>
          <p:cNvPicPr/>
          <p:nvPr/>
        </p:nvPicPr>
        <p:blipFill>
          <a:blip r:embed="rId4"/>
          <a:stretch/>
        </p:blipFill>
        <p:spPr>
          <a:xfrm>
            <a:off x="5148360" y="765000"/>
            <a:ext cx="3671640" cy="251964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  <p:pic>
        <p:nvPicPr>
          <p:cNvPr id="91" name="Рисунок 13" descr="зимапре.jpg"/>
          <p:cNvPicPr/>
          <p:nvPr/>
        </p:nvPicPr>
        <p:blipFill>
          <a:blip r:embed="rId5"/>
          <a:srcRect l="0" t="0" r="0" b="9737"/>
          <a:stretch/>
        </p:blipFill>
        <p:spPr>
          <a:xfrm>
            <a:off x="5364000" y="3716280"/>
            <a:ext cx="3168720" cy="286236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3" descr="през зи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95280" y="333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овый год и Рождество самые любимые праздники у детей и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4" descr="зимнов.JPG"/>
          <p:cNvPicPr/>
          <p:nvPr/>
        </p:nvPicPr>
        <p:blipFill>
          <a:blip r:embed="rId2"/>
          <a:srcRect l="37773" t="0" r="0" b="0"/>
          <a:stretch/>
        </p:blipFill>
        <p:spPr>
          <a:xfrm>
            <a:off x="324000" y="765000"/>
            <a:ext cx="3598560" cy="433080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  <p:pic>
        <p:nvPicPr>
          <p:cNvPr id="95" name="Рисунок 5" descr="зим дед мор.jpg"/>
          <p:cNvPicPr/>
          <p:nvPr/>
        </p:nvPicPr>
        <p:blipFill>
          <a:blip r:embed="rId3"/>
          <a:stretch/>
        </p:blipFill>
        <p:spPr>
          <a:xfrm>
            <a:off x="4932360" y="2276640"/>
            <a:ext cx="3908520" cy="430020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фонзи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08000" y="134136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ировать представление детей о зи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сширять знания о зимних природных явлениях и праздни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08000" y="3645000"/>
            <a:ext cx="820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креплять представления о сезонных изменениях в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ировать представления детей о безопасном поведении на ули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вать и активизировать словарный запас, творческие способности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спитывать бережное отношение к приро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фон0.jpg"/>
          <p:cNvPicPr/>
          <p:nvPr/>
        </p:nvPicPr>
        <p:blipFill>
          <a:blip r:embed="rId1"/>
          <a:stretch/>
        </p:blipFill>
        <p:spPr>
          <a:xfrm>
            <a:off x="-36360" y="0"/>
            <a:ext cx="92167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5076720" y="1628640"/>
            <a:ext cx="37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в лесу, и на крылеч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юду гостья побыв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бросала покрыв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ст построила на реч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 окошки распис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 дорожки зам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дравствуй, зимушка – зим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през фон2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2627280" y="83664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ИМНИЕ МЕСЯ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179280" y="3068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КА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348000" y="242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ЯН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7020000" y="328464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ВР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пр зим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1258920" y="3333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има  - самое холодное время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зимапр1.jpg"/>
          <p:cNvPicPr/>
          <p:nvPr/>
        </p:nvPicPr>
        <p:blipFill>
          <a:blip r:embed="rId2"/>
          <a:stretch/>
        </p:blipFill>
        <p:spPr>
          <a:xfrm>
            <a:off x="324000" y="1125360"/>
            <a:ext cx="8393040" cy="532944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пр зим ф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500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0" y="333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има отличается низкой температурой воздуха. Люди одевают зимой тёплую одеж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одеж.jpg"/>
          <p:cNvPicPr/>
          <p:nvPr/>
        </p:nvPicPr>
        <p:blipFill>
          <a:blip r:embed="rId2"/>
          <a:stretch/>
        </p:blipFill>
        <p:spPr>
          <a:xfrm>
            <a:off x="5076720" y="765000"/>
            <a:ext cx="3878280" cy="532800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  <p:pic>
        <p:nvPicPr>
          <p:cNvPr id="65" name="Рисунок 5" descr="зимпр.jpg"/>
          <p:cNvPicPr/>
          <p:nvPr/>
        </p:nvPicPr>
        <p:blipFill>
          <a:blip r:embed="rId3"/>
          <a:stretch/>
        </p:blipFill>
        <p:spPr>
          <a:xfrm>
            <a:off x="395280" y="4697280"/>
            <a:ext cx="1728720" cy="2160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зимпр6.jpg"/>
          <p:cNvPicPr/>
          <p:nvPr/>
        </p:nvPicPr>
        <p:blipFill>
          <a:blip r:embed="rId4"/>
          <a:stretch/>
        </p:blipFill>
        <p:spPr>
          <a:xfrm>
            <a:off x="0" y="836640"/>
            <a:ext cx="1476360" cy="11844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зимпр9.jpg"/>
          <p:cNvPicPr/>
          <p:nvPr/>
        </p:nvPicPr>
        <p:blipFill>
          <a:blip r:embed="rId5"/>
          <a:stretch/>
        </p:blipFill>
        <p:spPr>
          <a:xfrm rot="9946800">
            <a:off x="3273480" y="504360"/>
            <a:ext cx="1047600" cy="18655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зимапр05.jpeg"/>
          <p:cNvPicPr/>
          <p:nvPr/>
        </p:nvPicPr>
        <p:blipFill>
          <a:blip r:embed="rId6"/>
          <a:stretch/>
        </p:blipFill>
        <p:spPr>
          <a:xfrm>
            <a:off x="611280" y="1557360"/>
            <a:ext cx="360360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6" descr="през зи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0" y="18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имой природа отдыхает. Деревья и кустарники покрыты белым, пушистым сне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" descr="зима пр22.jpg"/>
          <p:cNvPicPr/>
          <p:nvPr/>
        </p:nvPicPr>
        <p:blipFill>
          <a:blip r:embed="rId2"/>
          <a:stretch/>
        </p:blipFill>
        <p:spPr>
          <a:xfrm>
            <a:off x="611280" y="765000"/>
            <a:ext cx="7850160" cy="583272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2" descr="пр зим ф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826920" y="26028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ки, пруды, озёра покрываются ль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8" descr="зима пр032.jpg"/>
          <p:cNvPicPr/>
          <p:nvPr/>
        </p:nvPicPr>
        <p:blipFill>
          <a:blip r:embed="rId2"/>
          <a:stretch/>
        </p:blipFill>
        <p:spPr>
          <a:xfrm>
            <a:off x="468360" y="765000"/>
            <a:ext cx="8136000" cy="568836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2" descr="през зи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безветренные дни снег падает на землю спокойно и медленно.   Снегопад при сильном ветре называется мете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" descr="зама2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39640" y="981000"/>
            <a:ext cx="8064720" cy="547236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3T13:27:52Z</dcterms:created>
  <dc:creator>User</dc:creator>
  <dc:description/>
  <dc:language>en-US</dc:language>
  <cp:lastModifiedBy>User</cp:lastModifiedBy>
  <dcterms:modified xsi:type="dcterms:W3CDTF">2018-07-24T08:42:26Z</dcterms:modified>
  <cp:revision>23</cp:revision>
  <dc:subject/>
  <dc:title>Слайд 1</dc:title>
</cp:coreProperties>
</file>