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34E3-4B07-47B4-8D31-A6A43C86D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A016A-02C7-43BD-B452-5697CB9AF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6FD-B6E2-427D-8EF1-C532133D5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16C0-BF28-46A1-9C54-3FF2D1ABB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4D92-4993-4632-B5D0-6BF07B8E8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58E4-6BDA-4C9B-8F37-A736BF31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4E969-FA87-4C45-BF23-A145230BB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73FE-61B5-4CC4-92A3-87E069BD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619-3356-405E-A8FB-E999D698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4474-FC49-44DD-A17D-FAC6FC506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30E9-7BAF-4517-87AF-DEAF3A22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F444-2E66-4B25-86F0-A06FB1C8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F1CDF-5764-4263-B6E6-B9A8D6F6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AB6EF-E6BA-4A58-B75E-FD1BB9CB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4ABF3-C14C-4297-BC22-4EEAD57F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3585D-444F-4FE0-A607-DC8EB89E3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202-63C6-402A-9C14-FE3AA7523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2666-E649-4A02-AE6F-9EB0A573B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D7F8-0A0C-416C-94D2-84957303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F38-BDF1-4D87-B880-ECE7B32DA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C6F7-70B2-4D17-BEB1-D7608254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22F0-02BE-4443-84F6-2DD95D88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B23-3C6F-4915-93E6-0FCF25CDB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0FE-2207-4CFE-8017-5F99DE2C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F2B1-D64D-4172-B39B-799D2E4E8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6C336-7B0C-4063-89D2-A4302E6380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C:\Users\User\Desktop\&#1056;&#1080;&#1089;&#1091;&#1085;&#1086;&#1082;1.jpg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2.jpg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3.jp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C:\Users\User\Desktop\&#1088;&#1080;&#1089;&#1091;&#1085;&#1086;&#1082;4.jpg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55280" y="549360"/>
            <a:ext cx="800748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8800" spc="-1" strike="noStrike">
                <a:solidFill>
                  <a:srgbClr val="ffffb7"/>
                </a:solidFill>
                <a:latin typeface="DFKai-SB"/>
              </a:rPr>
              <a:t>Ці загадкові літери      Я, Ю, Е, Ї.</a:t>
            </a:r>
            <a:br>
              <a:rPr sz="4800"/>
            </a:br>
            <a:endParaRPr b="1" lang="en-US" sz="88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Казка “ ЄНОТ І ЄХИДНА”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6" name="" descr="Животные, Звери, Енот на ветке"/>
          <p:cNvPicPr/>
          <p:nvPr/>
        </p:nvPicPr>
        <p:blipFill>
          <a:blip r:embed="rId1"/>
          <a:stretch/>
        </p:blipFill>
        <p:spPr>
          <a:xfrm>
            <a:off x="250920" y="2349360"/>
            <a:ext cx="4427280" cy="421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Ехидна фото 2"/>
          <p:cNvPicPr/>
          <p:nvPr/>
        </p:nvPicPr>
        <p:blipFill>
          <a:blip r:embed="rId2"/>
          <a:srcRect l="0" t="9245" r="0" b="11399"/>
          <a:stretch/>
        </p:blipFill>
        <p:spPr>
          <a:xfrm>
            <a:off x="5157720" y="2205000"/>
            <a:ext cx="398628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85120" cy="8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Відгадуємо загад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5040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Є у лісі звір пухнаст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у нього хвіст смугаст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нає звір багато нот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азивається …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Єнот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62560" y="3346560"/>
            <a:ext cx="4681440" cy="351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518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і, це зовсім не їжак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оч на тілі голки видно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комаха і не птах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ю істоту звуть …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03640" y="2736720"/>
            <a:ext cx="5940360" cy="41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4535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ара довгих вушо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іренький кожуш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орий побігайчик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 він зветься?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Кролики. Картинки, фото, видео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98960" y="1700280"/>
            <a:ext cx="504504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78920" y="188640"/>
            <a:ext cx="475308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Це який дивак знадв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осить здобич у комор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Не на спинці у мішку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А сховавши за щоку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Хомячок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2562120"/>
            <a:ext cx="644364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-360" y="260280"/>
            <a:ext cx="884556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ь і пролунав дзвінок —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кінчився наш ур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оботу — по заслузі!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Щиро дякую вам, друзі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ff66"/>
                </a:solidFill>
                <a:latin typeface="Arial Black"/>
              </a:rPr>
              <a:t>ялин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932360" y="549000"/>
            <a:ext cx="392760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вуко – буквений аналіз слів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003640" y="2420640"/>
            <a:ext cx="3927600" cy="10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ялинка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4652640"/>
            <a:ext cx="3024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99ff66"/>
                </a:solidFill>
                <a:latin typeface="Arial"/>
              </a:rPr>
              <a:t>яблуко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Мокрое яблоко"/>
          <p:cNvPicPr/>
          <p:nvPr/>
        </p:nvPicPr>
        <p:blipFill>
          <a:blip r:embed="rId1"/>
          <a:stretch/>
        </p:blipFill>
        <p:spPr>
          <a:xfrm>
            <a:off x="324000" y="260280"/>
            <a:ext cx="4248000" cy="42483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Скачать обои Ёлка, ель, снег, новый год - Обои раздела Праздники"/>
          <p:cNvPicPr/>
          <p:nvPr/>
        </p:nvPicPr>
        <p:blipFill>
          <a:blip r:embed="rId2"/>
          <a:stretch/>
        </p:blipFill>
        <p:spPr>
          <a:xfrm>
            <a:off x="4356000" y="3532320"/>
            <a:ext cx="478800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2492280"/>
            <a:ext cx="266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 Black"/>
              </a:rPr>
              <a:t>поїз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84360" y="4005360"/>
            <a:ext cx="2232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"/>
              </a:rPr>
              <a:t>їжак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067280" y="0"/>
            <a:ext cx="50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3622680"/>
            <a:ext cx="4896000" cy="32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27280" y="2133360"/>
            <a:ext cx="26146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в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’</a:t>
            </a: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юн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4920" y="4941720"/>
            <a:ext cx="352908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66"/>
                </a:solidFill>
                <a:latin typeface="Arial"/>
              </a:rPr>
              <a:t>верблюд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5752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Розповсюдження в'юна"/>
          <p:cNvPicPr/>
          <p:nvPr/>
        </p:nvPicPr>
        <p:blipFill>
          <a:blip r:embed="rId2"/>
          <a:stretch/>
        </p:blipFill>
        <p:spPr>
          <a:xfrm>
            <a:off x="4500720" y="3141720"/>
            <a:ext cx="4643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640" y="244440"/>
            <a:ext cx="201600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ffb7"/>
                </a:solidFill>
                <a:latin typeface="Arial Black"/>
              </a:rPr>
              <a:t>єнот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08720" y="4149720"/>
            <a:ext cx="23032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заєц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896" t="10246" r="7566" b="4542"/>
          <a:stretch/>
        </p:blipFill>
        <p:spPr>
          <a:xfrm>
            <a:off x="3708360" y="0"/>
            <a:ext cx="5435640" cy="3882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rcRect l="19749" t="0" r="24184" b="0"/>
          <a:stretch/>
        </p:blipFill>
        <p:spPr>
          <a:xfrm>
            <a:off x="0" y="1557360"/>
            <a:ext cx="370836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837396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b7"/>
                </a:solidFill>
                <a:latin typeface="Arial Black"/>
              </a:rPr>
              <a:t>Запиши слова у дві колонки:</a:t>
            </a:r>
            <a:br>
              <a:rPr sz="2800"/>
            </a:b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а) в першу слова, в яких букви </a:t>
            </a:r>
            <a:r>
              <a:rPr b="1" i="1" lang="uk-UA" sz="3600" spc="-1" strike="noStrike">
                <a:solidFill>
                  <a:srgbClr val="ffffb7"/>
                </a:solidFill>
                <a:latin typeface="Arial Black"/>
              </a:rPr>
              <a:t>я, ю, є, ї</a:t>
            </a: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 позначають два звуки;</a:t>
            </a:r>
            <a:br>
              <a:rPr sz="2800"/>
            </a:br>
            <a:r>
              <a:rPr b="1" i="1" lang="uk-UA" sz="2800" spc="-1" strike="noStrike">
                <a:solidFill>
                  <a:srgbClr val="ffffb7"/>
                </a:solidFill>
                <a:latin typeface="Arial Black"/>
              </a:rPr>
              <a:t>б) в другу – один звук.</a:t>
            </a:r>
            <a:br>
              <a:rPr sz="2800"/>
            </a:b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6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uk-UA" sz="5400" spc="-1" strike="noStrike">
                <a:solidFill>
                  <a:srgbClr val="ffffff"/>
                </a:solidFill>
                <a:latin typeface="Arial"/>
              </a:rPr>
              <a:t>Юрко, пісня, заєць, малюнок, яма, неділя, маяк, якір, юшка, усю, земля, яйце, няня, солов’ї, їдальня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ffffb7"/>
                </a:solidFill>
                <a:latin typeface="Arial Black"/>
              </a:rPr>
              <a:t>Встав голосні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я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шку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вранці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а,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ля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.шки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7200" spc="-1" strike="noStrike">
                <a:solidFill>
                  <a:srgbClr val="ffffff"/>
                </a:solidFill>
                <a:latin typeface="Arial"/>
              </a:rPr>
              <a:t>хотіла.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b7"/>
                </a:solidFill>
                <a:latin typeface="Arial Black"/>
              </a:rPr>
              <a:t>Давайте перевіримо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ля юшку вранці їла,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ля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юшки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не </a:t>
            </a: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6600" spc="-1" strike="noStrike">
                <a:solidFill>
                  <a:srgbClr val="ffffff"/>
                </a:solidFill>
                <a:latin typeface="Arial"/>
              </a:rPr>
              <a:t>хотіла.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ffff1d"/>
                </a:solidFill>
                <a:latin typeface="바탕"/>
              </a:rPr>
              <a:t>Розфарбуй малюнок. 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Для хлопчиків: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Для дівчат: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Я – </a:t>
            </a:r>
            <a:r>
              <a:rPr b="0" i="1" lang="uk-UA" sz="4000" spc="-1" strike="noStrike">
                <a:solidFill>
                  <a:srgbClr val="00cc00"/>
                </a:solidFill>
                <a:latin typeface="Times New Roman"/>
              </a:rPr>
              <a:t>зелений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,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Я – 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червони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Ї – червоний,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Ї – </a:t>
            </a:r>
            <a:r>
              <a:rPr b="0" i="1" lang="uk-UA" sz="4000" spc="-1" strike="noStrike">
                <a:solidFill>
                  <a:srgbClr val="ff3399"/>
                </a:solidFill>
                <a:latin typeface="Times New Roman"/>
              </a:rPr>
              <a:t>рожеви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Ю – </a:t>
            </a:r>
            <a:r>
              <a:rPr b="0" i="1" lang="uk-UA" sz="4000" spc="-1" strike="noStrike">
                <a:solidFill>
                  <a:srgbClr val="663300"/>
                </a:solidFill>
                <a:latin typeface="Times New Roman"/>
              </a:rPr>
              <a:t>коричневий</a:t>
            </a: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,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Ю – </a:t>
            </a:r>
            <a:r>
              <a:rPr b="0" i="1" lang="uk-UA" sz="4000" spc="-1" strike="noStrike">
                <a:solidFill>
                  <a:srgbClr val="3939df"/>
                </a:solidFill>
                <a:latin typeface="Times New Roman"/>
              </a:rPr>
              <a:t>синій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000" spc="-1" strike="noStrike">
                <a:solidFill>
                  <a:srgbClr val="fc2818"/>
                </a:solidFill>
                <a:latin typeface="Times New Roman"/>
              </a:rPr>
              <a:t>Є – </a:t>
            </a:r>
            <a:r>
              <a:rPr b="0" i="1" lang="uk-UA" sz="4000" spc="-1" strike="noStrike">
                <a:solidFill>
                  <a:srgbClr val="080002"/>
                </a:solidFill>
                <a:latin typeface="Times New Roman"/>
              </a:rPr>
              <a:t>чорний,                    </a:t>
            </a:r>
            <a:r>
              <a:rPr b="0" i="1" lang="uk-UA" sz="4000" spc="-1" strike="noStrike">
                <a:solidFill>
                  <a:srgbClr val="66ffff"/>
                </a:solidFill>
                <a:latin typeface="Times New Roman"/>
              </a:rPr>
              <a:t>Є – блакитний.</a:t>
            </a:r>
            <a:r>
              <a:rPr b="0" lang="ru-RU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8:44:39Z</dcterms:created>
  <dc:creator>natali</dc:creator>
  <dc:description/>
  <dc:language>en-US</dc:language>
  <cp:lastModifiedBy>natali</cp:lastModifiedBy>
  <dcterms:modified xsi:type="dcterms:W3CDTF">2014-03-19T17:50:07Z</dcterms:modified>
  <cp:revision>19</cp:revision>
  <dc:subject/>
  <dc:title>Слайд 1</dc:title>
</cp:coreProperties>
</file>