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23C9-A690-4DB1-88BC-1F7722A2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EF40-7250-4BE0-8531-38772ECF7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BB4-344E-4340-BAD6-F18C7562F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437-DEB7-4CB2-B8EF-AABAA3F63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C5E75-00EF-4B17-B1CF-36E0D6A68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79F1-5222-42F4-85A3-20608A0C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4443-A75C-49B1-AE21-42E43389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A869-07A2-421B-A12B-C84C028F3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10CB-D3D9-431B-AEEC-FF1D182C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FA46-A131-4DC7-8ECE-150B09F6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AA9E-693B-4318-8A88-4A6743B9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584-D6E5-459B-9F57-907D61A7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D7B3-E63C-4DC7-A020-3AFB5726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0864-8F76-463E-B9FD-4A61C320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8EEC-AC9C-4CCD-AACF-FB1CC61D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0AF3-DB97-4DB3-B111-53C7B1F2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16DE-2E8A-48AF-B31A-574B18BD3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562E-B4A4-4C9F-8B25-279B56CAC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A9F4-9BCA-449F-A254-9DC9AF06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68F-FBA6-49B7-8A26-3E68702E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462F-5CE2-4B5D-AC27-22F3258A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7A6-170A-48BE-A3A5-1BC328CA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8C54-55EB-4C7A-96B6-A818ED46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A1A-38F4-4641-B804-946698CB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0F03-8790-470C-836F-ACD5F2DF88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B2F4-068D-4002-B9A0-69BB735C25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Users\User\Desktop\&#1056;&#1080;&#1089;&#1091;&#1085;&#1086;&#1082;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C:\Users\User\Desktop\&#1088;&#1080;&#1089;&#1091;&#1085;&#1086;&#1082;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:\Users\User\Desktop\&#1088;&#1080;&#1089;&#1091;&#1085;&#1086;&#1082;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:\Users\User\Desktop\&#1088;&#1080;&#1089;&#1091;&#1085;&#1086;&#1082;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007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>
                <a:solidFill>
                  <a:srgbClr val="ffffb7"/>
                </a:solidFill>
                <a:latin typeface="DFKai-SB"/>
              </a:rPr>
              <a:t>Ці загадкові літери      Я, Ю, Е, Ї.</a:t>
            </a:r>
            <a:br>
              <a:rPr sz="4800"/>
            </a:b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Казка “ ЄНОТ І ЄХИДНА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Животные, Звери, Енот на ветке"/>
          <p:cNvPicPr/>
          <p:nvPr/>
        </p:nvPicPr>
        <p:blipFill>
          <a:blip r:embed="rId1"/>
          <a:stretch/>
        </p:blipFill>
        <p:spPr>
          <a:xfrm>
            <a:off x="250920" y="2349360"/>
            <a:ext cx="4427280" cy="4219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Ехидна фото 2"/>
          <p:cNvPicPr/>
          <p:nvPr/>
        </p:nvPicPr>
        <p:blipFill>
          <a:blip r:embed="rId2"/>
          <a:srcRect l="0" t="9245" r="0" b="11399"/>
          <a:stretch/>
        </p:blipFill>
        <p:spPr>
          <a:xfrm>
            <a:off x="5157720" y="2205000"/>
            <a:ext cx="398628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ідгадуємо загад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50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Є у лісі звір пухнаст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у нього хвіст смугас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є звір багато но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зивається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Єно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62560" y="334656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518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, це зовсім не їжа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оч на тілі голки вид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 комаха і не пта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ю істоту звуть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2736720"/>
            <a:ext cx="594036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ара довгих вушо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іренький кожуш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корий побігайчи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 він зветься?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Кролики. Картинки, фото, виде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8960" y="1700280"/>
            <a:ext cx="50450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47530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е який дивак знадв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осить здобич у ком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 на спинці у мішк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сховавши за щок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Хомяч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562120"/>
            <a:ext cx="64436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8455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ь і пролунав дзвінок 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інчився наш у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оботу — по заслузі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иро дякую вам, друзі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ff66"/>
                </a:solidFill>
                <a:latin typeface="Arial Black"/>
              </a:rPr>
              <a:t>ялин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32360" y="549000"/>
            <a:ext cx="3927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вуко – буквений аналіз слі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03640" y="2420640"/>
            <a:ext cx="3927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лин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4652640"/>
            <a:ext cx="30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ff66"/>
                </a:solidFill>
                <a:latin typeface="Arial"/>
              </a:rPr>
              <a:t>яблук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Мокрое яблоко"/>
          <p:cNvPicPr/>
          <p:nvPr/>
        </p:nvPicPr>
        <p:blipFill>
          <a:blip r:embed="rId1"/>
          <a:stretch/>
        </p:blipFill>
        <p:spPr>
          <a:xfrm>
            <a:off x="324000" y="26028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Скачать обои Ёлка, ель, снег, новый год - Обои раздела Праздники"/>
          <p:cNvPicPr/>
          <p:nvPr/>
        </p:nvPicPr>
        <p:blipFill>
          <a:blip r:embed="rId2"/>
          <a:stretch/>
        </p:blipFill>
        <p:spPr>
          <a:xfrm>
            <a:off x="4356000" y="3532320"/>
            <a:ext cx="47880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92280"/>
            <a:ext cx="266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66"/>
                </a:solidFill>
                <a:latin typeface="Arial Black"/>
              </a:rPr>
              <a:t>поїзд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84360" y="4005360"/>
            <a:ext cx="223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66"/>
                </a:solidFill>
                <a:latin typeface="Arial"/>
              </a:rPr>
              <a:t>їжа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622680"/>
            <a:ext cx="4896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7280" y="2133360"/>
            <a:ext cx="26146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в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’</a:t>
            </a: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юн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4941720"/>
            <a:ext cx="35290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66"/>
                </a:solidFill>
                <a:latin typeface="Arial"/>
              </a:rPr>
              <a:t>верблю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75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Розповсюдження в'юна"/>
          <p:cNvPicPr/>
          <p:nvPr/>
        </p:nvPicPr>
        <p:blipFill>
          <a:blip r:embed="rId2"/>
          <a:stretch/>
        </p:blipFill>
        <p:spPr>
          <a:xfrm>
            <a:off x="4500720" y="3141720"/>
            <a:ext cx="4643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44440"/>
            <a:ext cx="2016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єнот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08720" y="4149720"/>
            <a:ext cx="230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заєц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896" t="10246" r="7566" b="4542"/>
          <a:stretch/>
        </p:blipFill>
        <p:spPr>
          <a:xfrm>
            <a:off x="3708360" y="0"/>
            <a:ext cx="5435640" cy="3882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19749" t="0" r="24184" b="0"/>
          <a:stretch/>
        </p:blipFill>
        <p:spPr>
          <a:xfrm>
            <a:off x="0" y="155736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739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b7"/>
                </a:solidFill>
                <a:latin typeface="Arial Black"/>
              </a:rPr>
              <a:t>Запиши слова у дві колонки:</a:t>
            </a:r>
            <a:br>
              <a:rPr sz="2800"/>
            </a:br>
            <a:r>
              <a:rPr b="1" i="1" lang="uk-UA" sz="2800" spc="-1" strike="noStrike">
                <a:solidFill>
                  <a:srgbClr val="ffffb7"/>
                </a:solidFill>
                <a:latin typeface="Arial Black"/>
              </a:rPr>
              <a:t>а) в першу слова, в яких букви </a:t>
            </a:r>
            <a:r>
              <a:rPr b="1" i="1" lang="uk-UA" sz="3600" spc="-1" strike="noStrike">
                <a:solidFill>
                  <a:srgbClr val="ffffb7"/>
                </a:solidFill>
                <a:latin typeface="Arial Black"/>
              </a:rPr>
              <a:t>я, ю, є, ї</a:t>
            </a:r>
            <a:r>
              <a:rPr b="1" i="1" lang="uk-UA" sz="2800" spc="-1" strike="noStrike">
                <a:solidFill>
                  <a:srgbClr val="ffffb7"/>
                </a:solidFill>
                <a:latin typeface="Arial Black"/>
              </a:rPr>
              <a:t> позначають два звуки;</a:t>
            </a:r>
            <a:br>
              <a:rPr sz="2800"/>
            </a:br>
            <a:r>
              <a:rPr b="1" i="1" lang="uk-UA" sz="2800" spc="-1" strike="noStrike">
                <a:solidFill>
                  <a:srgbClr val="ffffb7"/>
                </a:solidFill>
                <a:latin typeface="Arial Black"/>
              </a:rPr>
              <a:t>б) в другу – один звук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Юрко, пісня, заєць, малюнок, яма, неділя, маяк, якір, юшка, усю, земля, яйце, няня, солов’ї, їдальн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b7"/>
                </a:solidFill>
                <a:latin typeface="Arial Black"/>
              </a:rPr>
              <a:t>Встав голосні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ля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шку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вранці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ла,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ля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шки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не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хотіла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авайте перевірим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Юля юшку вранці їла,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Юля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юшки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не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хотіла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1d"/>
                </a:solidFill>
                <a:latin typeface="바탕"/>
              </a:rPr>
              <a:t>Розфарбуй малюнок.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Для хлопчиків:  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Для дівчат:</a:t>
            </a: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Я – </a:t>
            </a:r>
            <a:r>
              <a:rPr b="0" i="1" lang="uk-UA" sz="4000" spc="-1" strike="noStrike">
                <a:solidFill>
                  <a:srgbClr val="00cc00"/>
                </a:solidFill>
                <a:latin typeface="Times New Roman"/>
              </a:rPr>
              <a:t>зелений</a:t>
            </a: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,       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Я – </a:t>
            </a: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червоний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Ї – червоний,       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Ї – </a:t>
            </a:r>
            <a:r>
              <a:rPr b="0" i="1" lang="uk-UA" sz="4000" spc="-1" strike="noStrike">
                <a:solidFill>
                  <a:srgbClr val="ff3399"/>
                </a:solidFill>
                <a:latin typeface="Times New Roman"/>
              </a:rPr>
              <a:t>рожевий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Ю – </a:t>
            </a:r>
            <a:r>
              <a:rPr b="0" i="1" lang="uk-UA" sz="4000" spc="-1" strike="noStrike">
                <a:solidFill>
                  <a:srgbClr val="663300"/>
                </a:solidFill>
                <a:latin typeface="Times New Roman"/>
              </a:rPr>
              <a:t>коричневий</a:t>
            </a: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,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Ю – </a:t>
            </a:r>
            <a:r>
              <a:rPr b="0" i="1" lang="uk-UA" sz="4000" spc="-1" strike="noStrike">
                <a:solidFill>
                  <a:srgbClr val="3939df"/>
                </a:solidFill>
                <a:latin typeface="Times New Roman"/>
              </a:rPr>
              <a:t>синій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Є – </a:t>
            </a:r>
            <a:r>
              <a:rPr b="0" i="1" lang="uk-UA" sz="4000" spc="-1" strike="noStrike">
                <a:solidFill>
                  <a:srgbClr val="080002"/>
                </a:solidFill>
                <a:latin typeface="Times New Roman"/>
              </a:rPr>
              <a:t>чорний,         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Є – блакитний.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8:44:39Z</dcterms:created>
  <dc:creator>natali</dc:creator>
  <dc:description/>
  <dc:language>en-US</dc:language>
  <cp:lastModifiedBy>natali</cp:lastModifiedBy>
  <dcterms:modified xsi:type="dcterms:W3CDTF">2014-03-19T17:50:07Z</dcterms:modified>
  <cp:revision>19</cp:revision>
  <dc:subject/>
  <dc:title>Слайд 1</dc:title>
</cp:coreProperties>
</file>