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9CA-67E0-4B70-B40B-F361561D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056-5EFA-48BD-B7DF-06E2D105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E56-458E-4337-A25D-373D0A15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210-1E72-4473-9E44-51981668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DE67-DDB0-4CF0-B38F-9E713EFA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EE51-CBE0-47A3-A3FB-65A71712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DACC-245B-4D7C-9057-EEDDF578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34FA-1BD3-4D87-9422-16626E12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0970-35EC-4B43-9770-C6B4126C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FB7E-2ED6-44B7-A115-9E02B618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16AD-9D76-45BD-849E-303DC890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2D2-7820-4E58-9F44-343B59DA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DFB1-F630-4D52-A02D-9D3AE378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3114-2AAB-44A5-ADE4-9FC1477B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8F49-457A-4CAC-8D66-2D72B584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312E-0256-4691-A433-8F734279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9CA3-4391-4835-A080-ED1E3FE8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AC2BA-A36E-41AC-ABA2-92BEA613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4C9AC-E9E1-41C1-A8D1-0B5F5CF2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D712A-0CB3-403F-8FF3-36532971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CE143-2594-46DB-82CD-DB156628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DABAD-D60E-4CDA-908A-7F6A8A35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64F-DAE5-4837-A9D9-DE542116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8287F-615A-4044-AA57-822F0152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B941E-CB92-4BB9-AB8F-A529ABC1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2F157-3E6C-49CD-AF83-D4BE46B2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8B95F-51BE-4FF1-8F82-F197CF3B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3F8C2-4928-45AC-8308-945CD566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7D92B-7BB5-485C-967B-D2257D19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91DF7-7EF3-4E43-9408-F9B51B44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9249E-E204-4B8D-9452-C0972A0B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E87E2-3E67-4B67-9BD2-06C3DA7A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F601F-9D7C-4A0C-84CE-2C6C60AC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8AC-C91B-488B-9306-F281E8BE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26B73-C971-468E-89CF-7CBF6EFD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8EB4F-6E25-4180-94CF-D173EAFC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B7F1-9C9F-4BEB-9E2F-D8283F45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C3ED1-EA56-42DA-B951-3AE9AF43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2A652-5DAC-4999-A80F-6071F2C0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BD8B7-E1E8-48B4-9CC6-21A3F101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3EF9-74DD-43D7-AC01-9BE153A2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2EF8E-F24B-4385-9290-0323D49A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0C30D-0A9D-4698-BD04-72EE46A2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2F152-0CED-438A-804B-81621327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1CB-2854-45F9-99DF-44CF7D71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595EAD-E4D1-4206-BB23-B513A82E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234A9-C35A-43D0-85BD-78CFEE98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21681-685F-43F9-B324-E91D098C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9F98F-E4CE-448C-BB7A-25D73281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970E9-26F6-4877-B2B4-DC53FED7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83FD98-DBE4-4466-B0C9-2B18BB65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4344C-9DC9-4368-A130-D39C7AD2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EBD9B-59C4-4275-829A-3D12E3E5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3F970-6419-4FA9-8DB0-5042D876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B10ED-A24A-4D6A-AF41-12C4CBDA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A38-34DD-42A4-B690-5492DC11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D78F3-E751-4832-901E-3E6E92EC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A8D88-B309-4D95-89CA-4B5B8C5B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C0CB21-CF01-42BC-BD77-BDD47A6B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C4CC2E-DB91-4E10-9755-0E79F7B5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203FE6-982E-42F8-BBD6-2984FFC5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F37BFD-A791-48A0-B8C8-F8FFC563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FD80FB-AFBC-49F9-B69E-487D8A5A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B6F8D-1953-4001-99A2-8F73E0FB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2FD2B-4DE4-4109-911B-9EA6311D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AE9AA-E27C-48CD-8891-9D3B32D3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B0D-5A42-4614-9EE4-B8F9023A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89F23A-F069-4D21-85AD-B1C4B910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8F1654-A97A-48E8-89A5-C563453F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94127F-18F1-4515-8895-23977ECE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62BD96-1DA8-447D-A3C5-5E68DF95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137B8-6499-4EEE-8B69-5BFAB287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F37078-F092-477D-B6E2-E3B02B88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8C4F0-9E4E-4742-B591-CBF3F865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62DB7D-AE68-4CC5-9E89-59288815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463A0-9957-42D7-8BEF-A72105DF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603F7-4B5B-42D1-9340-C427623B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088-B43C-4EBA-8AF8-6D3B8923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F96F41-1D35-4130-875A-F8B5D2A6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B2BD8-7D28-4D78-817D-01D4DB8E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159E3-44F4-4D41-8BB1-A444051B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5A4D27-ECE8-4102-8274-6A6D8309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EBC80-0B36-4AA1-86D0-331D6231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B00-CD33-410F-8E9A-D761C571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C7FC-BC9E-48A3-B45A-0A9D3F85AB0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4E14-67EE-4ACB-BCEB-DB48BE728F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2E89-22E8-4924-BEBE-F8BFF27B731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2B42-A1AE-4C80-9751-40BA411B5E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BB44-F23F-4172-B5EF-2B2DED6C71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4FF2-312D-4850-878E-74145BEA156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FFD3-66FA-411E-8A97-064B90662A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427_&#1076;&#1086;_&#1085;._&#1101;." TargetMode="External"/><Relationship Id="rId2" Type="http://schemas.openxmlformats.org/officeDocument/2006/relationships/hyperlink" Target="https://ru.wikipedia.org/wiki/&#1040;&#1092;&#1080;&#1085;&#1099;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УЧЁНЫЕ И 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2" descr="C:\Users\ФЕДОР\Downloads\507556cc752b7c5a3ef1f099629cf0ff_i-520.jpg"/>
          <p:cNvPicPr/>
          <p:nvPr/>
        </p:nvPicPr>
        <p:blipFill>
          <a:blip r:embed="rId1"/>
          <a:stretch/>
        </p:blipFill>
        <p:spPr>
          <a:xfrm>
            <a:off x="5572080" y="285840"/>
            <a:ext cx="3389400" cy="3389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C:\Users\ФЕДОР\Downloads\i (6).jpg"/>
          <p:cNvPicPr/>
          <p:nvPr/>
        </p:nvPicPr>
        <p:blipFill>
          <a:blip r:embed="rId2"/>
          <a:stretch/>
        </p:blipFill>
        <p:spPr>
          <a:xfrm>
            <a:off x="1928880" y="1428840"/>
            <a:ext cx="3887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4" descr="C:\Users\ФЕДОР\Downloads\1491909706_367f80d3120b59c13afd35e4f1aff67e.jpg"/>
          <p:cNvPicPr/>
          <p:nvPr/>
        </p:nvPicPr>
        <p:blipFill>
          <a:blip r:embed="rId1"/>
          <a:stretch/>
        </p:blipFill>
        <p:spPr>
          <a:xfrm>
            <a:off x="1214280" y="4000680"/>
            <a:ext cx="6572520" cy="1971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6136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ДМИТРИЙ ИВАНОВИЧ МЕНДЕЛЕЕВ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Rectangle 1"/>
          <p:cNvSpPr/>
          <p:nvPr/>
        </p:nvSpPr>
        <p:spPr>
          <a:xfrm>
            <a:off x="571680" y="210672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 января [8 февраля] 1834, Тобольск 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 января [2 февраля] 1907,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C:\Users\ФЕДОР\Downloads\i (2).jpg"/>
          <p:cNvPicPr/>
          <p:nvPr/>
        </p:nvPicPr>
        <p:blipFill>
          <a:blip r:embed="rId1"/>
          <a:stretch/>
        </p:blipFill>
        <p:spPr>
          <a:xfrm>
            <a:off x="2286000" y="3143160"/>
            <a:ext cx="4307040" cy="32259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КТО ОН ТАКОВ И В ЧЕМ ЕГО ЗАСЛУГА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1" descr="C:\Documents and Settings\Компьютер 3\Рабочий стол\ \240px-DIMendeleevCab.jpg"/>
          <p:cNvPicPr/>
          <p:nvPr/>
        </p:nvPicPr>
        <p:blipFill>
          <a:blip r:embed="rId1"/>
          <a:stretch/>
        </p:blipFill>
        <p:spPr>
          <a:xfrm>
            <a:off x="285840" y="1000080"/>
            <a:ext cx="3047760" cy="42800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2"/>
          <p:cNvSpPr/>
          <p:nvPr/>
        </p:nvSpPr>
        <p:spPr>
          <a:xfrm>
            <a:off x="0" y="543276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 И. Менделеев в своём кабинете (Главная палата мер и весов, Санкт-Петербур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5"/>
          <p:cNvSpPr/>
          <p:nvPr/>
        </p:nvSpPr>
        <p:spPr>
          <a:xfrm>
            <a:off x="3857760" y="1214280"/>
            <a:ext cx="457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учёный-энциклопедист: химик, физикохимик, физик, метролог, экономист, технолог, геолог, метеоролог, педагог, воздухоплаватель, приборостроитель. Профессор Санкт-Петербургского университета; член-корреспондент по разряду «физический» Императорской Санкт-Петербургской Академии наук. Среди наиболее известных открытий — периодический закон химических элементов, один из фундаментальных законов мироздания, неотъемлемый для всего естество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ХОББИ – СПОРТ-  НАУКА</a:t>
            </a:r>
            <a:br>
              <a:rPr sz="3600"/>
            </a:br>
            <a:r>
              <a:rPr b="1" i="1" lang="ru-RU" sz="3600" spc="-1" strike="noStrike">
                <a:solidFill>
                  <a:srgbClr val="575f6d"/>
                </a:solidFill>
                <a:latin typeface="Century Schoolbook"/>
              </a:rPr>
              <a:t>ВОЗДУХОПЛАВАНИЕ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1" descr="C:\Documents and Settings\Компьютер 3\Рабочий стол\ \270px-Henry_Gifford_balloon_3a30765.jpg"/>
          <p:cNvPicPr/>
          <p:nvPr/>
        </p:nvPicPr>
        <p:blipFill>
          <a:blip r:embed="rId1"/>
          <a:stretch/>
        </p:blipFill>
        <p:spPr>
          <a:xfrm>
            <a:off x="642960" y="1785960"/>
            <a:ext cx="2857320" cy="2176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Documents and Settings\Компьютер 3\Рабочий стол\ \Mendeleev_Aerostatl_1887.jpg"/>
          <p:cNvPicPr/>
          <p:nvPr/>
        </p:nvPicPr>
        <p:blipFill>
          <a:blip r:embed="rId2"/>
          <a:stretch/>
        </p:blipFill>
        <p:spPr>
          <a:xfrm>
            <a:off x="4214880" y="1857240"/>
            <a:ext cx="3357360" cy="220356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5"/>
          <p:cNvSpPr/>
          <p:nvPr/>
        </p:nvSpPr>
        <p:spPr>
          <a:xfrm>
            <a:off x="500040" y="407196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привязной аэростат А. Жиффара, на котором Д. И. Менделеев поднимался в 1878 году, в Пар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4000680" y="4429080"/>
            <a:ext cx="371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шный шар «Русский», на котором Д. И. Менделеев 7 августа 1887 года ( в 53 года) совершил полёт для наблюдения полного солнечного зат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56760" y="274680"/>
            <a:ext cx="75675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575f6d"/>
                </a:solidFill>
                <a:latin typeface="Century Schoolbook"/>
              </a:rPr>
              <a:t>ПЛАТО́Н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( </a:t>
            </a:r>
            <a:r>
              <a:rPr b="0" lang="ru-RU" sz="27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427 ДО Н. Э.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, </a:t>
            </a:r>
            <a:r>
              <a:rPr b="0" lang="ru-RU" sz="27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АФИНЫ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— 347 ДО Н. Э.) — ДРЕВНЕГРЕЧЕСКИЙ ФИЛОСОФ, УЧЕНИК СОКРАТА, УЧИТЕЛЬ </a:t>
            </a:r>
            <a:r>
              <a:rPr b="0" lang="ru-RU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АРИСТОТЕЛЯ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одним из основателей идеалистического направления в мировой философии. Во многих сочинениях философа проводится мысль о том, что бытием в подлинном смысле слова можно назвать только абсолютные сущности, сохраняющие своё бытие безотносительно пространства и времени. Основными политическими произведениями Платона являются трактаты «Государство», «Законы» и диалог «Политик»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C:\Users\ФЕДОР\Downloads\267px-Head_Platon_Glyptothek_Munich_548.jpg"/>
          <p:cNvPicPr/>
          <p:nvPr/>
        </p:nvPicPr>
        <p:blipFill>
          <a:blip r:embed="rId3"/>
          <a:stretch/>
        </p:blipFill>
        <p:spPr>
          <a:xfrm>
            <a:off x="5214960" y="1857240"/>
            <a:ext cx="282564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ревнегреческий философ Платон был неплохим борцом и считал, что для соразмерности красоты и здоровья требуется не только образование в области науки и искусства, но и занятия  физическими упражнениями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2" descr="C:\Users\ФЕДОР\Downloads\i (3).jpg"/>
          <p:cNvPicPr/>
          <p:nvPr/>
        </p:nvPicPr>
        <p:blipFill>
          <a:blip r:embed="rId1"/>
          <a:stretch/>
        </p:blipFill>
        <p:spPr>
          <a:xfrm>
            <a:off x="1428840" y="3697200"/>
            <a:ext cx="2071440" cy="2892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Users\ФЕДОР\Downloads\2521465793.jpg"/>
          <p:cNvPicPr/>
          <p:nvPr/>
        </p:nvPicPr>
        <p:blipFill>
          <a:blip r:embed="rId2"/>
          <a:stretch/>
        </p:blipFill>
        <p:spPr>
          <a:xfrm>
            <a:off x="4071960" y="3929040"/>
            <a:ext cx="37638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МИХАИ́Л ВАСИ́ЛЬЕВИЧ ЛОМОНО́СОВ 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(1711-1765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85840" y="1600200"/>
            <a:ext cx="4214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вый русский учёный-естествоиспытатель мирового  значения, энциклопедист, химик, физик,астроном, приборостроитель,  географ, металлург, геолог, поэт, филолог, художник, историк и генеалог.  Основатель развития отечественного просвещения, науки и экономики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C:\Users\ФЕДОР\Downloads\Mikhail_Lomonosov_(1757).jpg"/>
          <p:cNvPicPr/>
          <p:nvPr/>
        </p:nvPicPr>
        <p:blipFill>
          <a:blip r:embed="rId1"/>
          <a:stretch/>
        </p:blipFill>
        <p:spPr>
          <a:xfrm>
            <a:off x="4714920" y="1571760"/>
            <a:ext cx="34495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дающийся русский ученый М.В. Ломоносов в годы своей учебы в России и за рубежом не оставлял занятия верховой ездой, фехтованием, стрельбой, борьбой на руках, танцами, английским боксом и поднятием тяжестей. Всю свою жизнь М.В. Ломоносов активно занимался спортом. Его интересы и вкусы менялись, но неизменной оставалась любовь к гирям, которые сопровождали его всю жизнь. Он постоянно занимался с ними, даже когда испытывал недомогание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C:\Users\ФЕДОР\Downloads\i (4).jpg"/>
          <p:cNvPicPr/>
          <p:nvPr/>
        </p:nvPicPr>
        <p:blipFill>
          <a:blip r:embed="rId1"/>
          <a:stretch/>
        </p:blipFill>
        <p:spPr>
          <a:xfrm>
            <a:off x="6786720" y="0"/>
            <a:ext cx="2162160" cy="1619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Users\ФЕДОР\Downloads\i (5).jpg"/>
          <p:cNvPicPr/>
          <p:nvPr/>
        </p:nvPicPr>
        <p:blipFill>
          <a:blip r:embed="rId2"/>
          <a:stretch/>
        </p:blipFill>
        <p:spPr>
          <a:xfrm>
            <a:off x="5072040" y="5357880"/>
            <a:ext cx="2476440" cy="12380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ФЕДОР\Downloads\54.jpg"/>
          <p:cNvPicPr/>
          <p:nvPr/>
        </p:nvPicPr>
        <p:blipFill>
          <a:blip r:embed="rId3"/>
          <a:stretch/>
        </p:blipFill>
        <p:spPr>
          <a:xfrm>
            <a:off x="214200" y="142920"/>
            <a:ext cx="136836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Занятия спортом не только не мешали знаменитым ученым заниматься научными исследованиями, но и в определенной степени способствовали их научному и творческому росту.  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4:34:34Z</dcterms:created>
  <dc:creator>Компьютер 3</dc:creator>
  <dc:description/>
  <dc:language>en-US</dc:language>
  <cp:lastModifiedBy>ФЕДОР</cp:lastModifiedBy>
  <dcterms:modified xsi:type="dcterms:W3CDTF">2017-05-11T10:45:47Z</dcterms:modified>
  <cp:revision>14</cp:revision>
  <dc:subject/>
  <dc:title>Дмитрий Иванович Менделеев</dc:title>
</cp:coreProperties>
</file>