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0BF-21F5-4512-BDCF-1CA987CA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7D7-8580-4C97-90FE-C1014FB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B8E-BCBF-41F6-9471-150D4F99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771-BAF6-4E36-B8DC-3EE37197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A264-1CFF-4B07-A295-B5D15BEF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84DD-832E-463B-A4D7-9D1A33F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968A-DA0E-4E67-815A-FDE4582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9F3B-AB8F-44B1-B6AE-51CB8460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919F-835E-473C-B875-3B4F1D6F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7C8A-D731-43DC-9FF8-6BF670C9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4E1-D011-4FBE-98C9-EFD0CC97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E5A-498D-4B25-9219-07A1FAE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D2B-02AE-4070-993B-8F729CB0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A1EC-A306-4E07-92CD-864FCB00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B00B-226C-4863-AB5A-F64E9075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7251-8ABE-4706-A8B2-B8C53E87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58A5-B18C-4FA0-A3A3-EDC46365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BD9D3-5F9E-407A-BB61-969218DA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901D3-176C-462A-B4EF-47D5171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18B9D-51EC-4FE0-B29C-2C2F9278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D2B04-1C59-41EA-82BA-88A59E2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404FE-E3C1-4FDC-AD48-A3ED6A8D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12B-E45A-4CB3-A759-28C2FF11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5B99C-7611-457D-8DAE-8AB8ACE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01C28-8617-463C-9C1B-44B1AD58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CE07D-1CD0-41F7-8084-5353296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DF125-FC12-4D4B-9AD7-E81884E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03001-9A1D-4C8F-807C-E192302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293BF-96E5-4121-948C-997C7B87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0FA16-9D7A-4D48-AF2A-A3BC9362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3A0A-B049-4EB5-B4F2-F0F80AB1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F4241-CB3C-4D8C-8C8F-4A47740D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D09B-7CD9-4D5C-8544-EAE9179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A88-5F67-40B2-8D3A-B88AE123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5A76-2CD1-4D60-BDEE-A7DB0C9A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E07F-18F2-440D-9C19-DD744C04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41CC-7B71-4197-890B-F99238F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B521-3DD6-4C00-AD5A-8F99D451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4036-72E5-4699-A63E-89E8AAD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5512E-CD6A-4D77-8E8B-646E043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6CBDA-3893-4D5C-9399-DF19463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2751-1AB7-4848-B106-301A24C3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8D80-027A-4845-8716-AB1790EB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97B37-8557-4688-BD8B-9B2926E7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851-343B-4995-BC44-221AEA5E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A54ED-0980-482D-8F6D-A05B8369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CEA1C-670E-4A5E-BD18-AB38CE0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004E3-7131-419C-823D-D34E1552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71D2E-17AE-477C-B91B-854817D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4C291-629C-4253-9E8F-DE38645A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6B7C1-C92F-4E39-887B-5541846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E2007-A09F-476B-9410-ED0127C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35D8A-24CC-4293-83EE-5C7D947B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1EFE9-89C3-4B4B-8AA1-F41BC733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C12F4-EF90-4F90-80A4-F9A37F9D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303-2F19-4DC1-A04C-3D9167CD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94192-58EB-4888-955E-198AA00A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70EFE-1BAF-481B-B4DD-8F41609C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AD90C-2C05-48D0-A48C-EAA40209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8412B-6D6E-43A8-8020-8C2542B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E636D-F30B-4B4F-9C2C-B6E66F22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01F89-CBD4-4533-8493-DE80B91C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3C0AC-4191-4313-BD82-D8A765CA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93F5D-B9A7-4EDB-BA53-9F682E7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56324-AA8D-4E13-BCE9-FF9C8628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B11056-EE45-48E3-B158-AEFA68D9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FF8-95A7-45D2-816F-B3895D8E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BF8A7-9C02-468D-95F5-D9BC7858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7D762-9333-4D19-9FAC-F97EA87E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D1B23-E460-404C-8282-88E4A25F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6382B-DA4E-4D0E-829E-CD06BB09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9AA93-6F42-4849-8E5E-BA435F95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91F62-E62E-4F0C-8E14-C83ADB33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E55B0-4830-4F8A-9DEA-7459A7E6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E5D1C-14AD-4BA7-A5BC-531FB46D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BA2A4-BC08-4358-ADA9-1DCAC9A3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C73AA-B897-4A17-8262-90FA40C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533-8E4C-4D5E-8AAA-93A36B7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068D4-74F4-4FD5-B648-D971B6A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FCD02-C088-42A0-BD0A-EC096F9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80D52-1D7C-4450-AAC4-45EDB34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0BABCC-6734-451A-9753-6F7A3C1F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AD502-569B-454B-A9D6-C12D5666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D8A-F22D-462F-A270-D17D3CF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E120-BDF2-47B6-95C8-6E7DEF15E1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10B-7371-420F-9E1B-B81B99D9F1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C98-4821-4629-AFB3-48BD34C905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6F67-5AB8-49CA-862D-DCD4989A68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F4B-EFDC-42B7-8254-367F466A07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16EA-ABDE-4D69-B5F2-0429731DA5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6E17-F83C-4327-9FF9-C3BE1C7F1D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427_&#1076;&#1086;_&#1085;._&#1101;." TargetMode="External"/><Relationship Id="rId2" Type="http://schemas.openxmlformats.org/officeDocument/2006/relationships/hyperlink" Target="https://ru.wikipedia.org/wiki/&#1040;&#1092;&#1080;&#1085;&#1099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УЧЁНЫЕ И СПОР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Picture 2" descr="C:\Users\ФЕДОР\Downloads\507556cc752b7c5a3ef1f099629cf0ff_i-520.jpg"/>
          <p:cNvPicPr/>
          <p:nvPr/>
        </p:nvPicPr>
        <p:blipFill>
          <a:blip r:embed="rId1"/>
          <a:stretch/>
        </p:blipFill>
        <p:spPr>
          <a:xfrm>
            <a:off x="5572080" y="285840"/>
            <a:ext cx="3389400" cy="3389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C:\Users\ФЕДОР\Downloads\i (6).jpg"/>
          <p:cNvPicPr/>
          <p:nvPr/>
        </p:nvPicPr>
        <p:blipFill>
          <a:blip r:embed="rId2"/>
          <a:stretch/>
        </p:blipFill>
        <p:spPr>
          <a:xfrm>
            <a:off x="1928880" y="142884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C:\Users\ФЕДОР\Downloads\1491909706_367f80d3120b59c13afd35e4f1aff67e.jpg"/>
          <p:cNvPicPr/>
          <p:nvPr/>
        </p:nvPicPr>
        <p:blipFill>
          <a:blip r:embed="rId1"/>
          <a:stretch/>
        </p:blipFill>
        <p:spPr>
          <a:xfrm>
            <a:off x="1214280" y="4000680"/>
            <a:ext cx="6572520" cy="1971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6136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ДМИТРИЙ ИВАНОВИЧ МЕНДЕЛЕЕВ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571680" y="210672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 января [8 февраля] 1834, Тобольск 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 января [2 февраля] 1907,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C:\Users\ФЕДОР\Downloads\i (2).jpg"/>
          <p:cNvPicPr/>
          <p:nvPr/>
        </p:nvPicPr>
        <p:blipFill>
          <a:blip r:embed="rId1"/>
          <a:stretch/>
        </p:blipFill>
        <p:spPr>
          <a:xfrm>
            <a:off x="2286000" y="3143160"/>
            <a:ext cx="4307040" cy="3225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ТО ОН ТАКОВ И В ЧЕМ ЕГО ЗАСЛУГА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1" descr="C:\Documents and Settings\Компьютер 3\Рабочий стол\ \240px-DIMendeleevCab.jpg"/>
          <p:cNvPicPr/>
          <p:nvPr/>
        </p:nvPicPr>
        <p:blipFill>
          <a:blip r:embed="rId1"/>
          <a:stretch/>
        </p:blipFill>
        <p:spPr>
          <a:xfrm>
            <a:off x="285840" y="1000080"/>
            <a:ext cx="3047760" cy="42800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"/>
          <p:cNvSpPr/>
          <p:nvPr/>
        </p:nvSpPr>
        <p:spPr>
          <a:xfrm>
            <a:off x="0" y="54327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 И. Менделеев в своём кабинете (Главная палата мер и весов, Санкт-Петербур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3857760" y="121428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учёный-энциклопедист: химик, физикохимик, физик, метролог, экономист, технолог, геолог, метеоролог, педагог, воздухоплаватель, приборостроитель. Профессор Санкт-Петербургского университета; член-корреспондент по разряду «физический» Императорской Санкт-Петербургской Академии наук. Среди наиболее известных открытий — периодический закон химических элементов, один из фундаментальных законов мироздания, неотъемлемый для всего естеств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ХОББИ – СПОРТ-  НАУКА</a:t>
            </a:r>
            <a:br>
              <a:rPr sz="3600"/>
            </a:br>
            <a:r>
              <a:rPr b="1" i="1" lang="ru-RU" sz="3600" spc="-1" strike="noStrike">
                <a:solidFill>
                  <a:srgbClr val="575f6d"/>
                </a:solidFill>
                <a:latin typeface="Century Schoolbook"/>
              </a:rPr>
              <a:t>ВОЗДУХОПЛАВАНИЕ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" descr="C:\Documents and Settings\Компьютер 3\Рабочий стол\ \270px-Henry_Gifford_balloon_3a30765.jpg"/>
          <p:cNvPicPr/>
          <p:nvPr/>
        </p:nvPicPr>
        <p:blipFill>
          <a:blip r:embed="rId1"/>
          <a:stretch/>
        </p:blipFill>
        <p:spPr>
          <a:xfrm>
            <a:off x="642960" y="1785960"/>
            <a:ext cx="2857320" cy="2176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Documents and Settings\Компьютер 3\Рабочий стол\ \Mendeleev_Aerostatl_1887.jpg"/>
          <p:cNvPicPr/>
          <p:nvPr/>
        </p:nvPicPr>
        <p:blipFill>
          <a:blip r:embed="rId2"/>
          <a:stretch/>
        </p:blipFill>
        <p:spPr>
          <a:xfrm>
            <a:off x="4214880" y="1857240"/>
            <a:ext cx="3357360" cy="220356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5"/>
          <p:cNvSpPr/>
          <p:nvPr/>
        </p:nvSpPr>
        <p:spPr>
          <a:xfrm>
            <a:off x="500040" y="40719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привязной аэростат А. Жиффара, на котором Д. И. Менделеев поднимался в 1878 году, в Пар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4000680" y="4429080"/>
            <a:ext cx="371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ый шар «Русский», на котором Д. И. Менделеев 7 августа 1887 года ( в 53 года) совершил полёт для наблюдения полного солнечного зат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75675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575f6d"/>
                </a:solidFill>
                <a:latin typeface="Century Schoolbook"/>
              </a:rPr>
              <a:t>ПЛАТО́Н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( </a:t>
            </a:r>
            <a:r>
              <a:rPr b="0" lang="ru-RU" sz="27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427 ДО Н. Э.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, </a:t>
            </a:r>
            <a:r>
              <a:rPr b="0" lang="ru-RU" sz="27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АФИНЫ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— 347 ДО Н. Э.) — ДРЕВНЕГРЕЧЕСКИЙ ФИЛОСОФ, УЧЕНИК СОКРАТА, УЧИТЕЛЬ </a:t>
            </a:r>
            <a:r>
              <a:rPr b="0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АРИСТОТЕЛЯ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одним из основателей идеалистического направления в мировой философии. Во многих сочинениях философа проводится мысль о том, что бытием в подлинном смысле слова можно назвать только абсолютные сущности, сохраняющие своё бытие безотносительно пространства и времени. Основными политическими произведениями Платона являются трактаты «Государство», «Законы» и диалог «Политик»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C:\Users\ФЕДОР\Downloads\267px-Head_Platon_Glyptothek_Munich_548.jpg"/>
          <p:cNvPicPr/>
          <p:nvPr/>
        </p:nvPicPr>
        <p:blipFill>
          <a:blip r:embed="rId3"/>
          <a:stretch/>
        </p:blipFill>
        <p:spPr>
          <a:xfrm>
            <a:off x="5214960" y="1857240"/>
            <a:ext cx="28256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ревнегреческий философ Платон был неплохим борцом и считал, что для соразмерности красоты и здоровья требуется не только образование в области науки и искусства, но и занятия  физическими упражнениями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2" descr="C:\Users\ФЕДОР\Downloads\i (3).jpg"/>
          <p:cNvPicPr/>
          <p:nvPr/>
        </p:nvPicPr>
        <p:blipFill>
          <a:blip r:embed="rId1"/>
          <a:stretch/>
        </p:blipFill>
        <p:spPr>
          <a:xfrm>
            <a:off x="1428840" y="3697200"/>
            <a:ext cx="2071440" cy="2892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ФЕДОР\Downloads\2521465793.jpg"/>
          <p:cNvPicPr/>
          <p:nvPr/>
        </p:nvPicPr>
        <p:blipFill>
          <a:blip r:embed="rId2"/>
          <a:stretch/>
        </p:blipFill>
        <p:spPr>
          <a:xfrm>
            <a:off x="4071960" y="3929040"/>
            <a:ext cx="37638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МИХАИ́Л ВАСИ́ЛЬЕВИЧ ЛОМОНО́СОВ </a:t>
            </a:r>
            <a:br>
              <a:rPr sz="32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(1711-1765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1600200"/>
            <a:ext cx="4214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вый русский учёный-естествоиспытатель мирового  значения, энциклопедист, химик, физик,астроном, приборостроитель,  географ, металлург, геолог, поэт, филолог, художник, историк и генеалог.  Основатель развития отечественного просвещения, науки и экономики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Users\ФЕДОР\Downloads\Mikhail_Lomonosov_(1757).jpg"/>
          <p:cNvPicPr/>
          <p:nvPr/>
        </p:nvPicPr>
        <p:blipFill>
          <a:blip r:embed="rId1"/>
          <a:stretch/>
        </p:blipFill>
        <p:spPr>
          <a:xfrm>
            <a:off x="4714920" y="1571760"/>
            <a:ext cx="34495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ающийся русский ученый М.В. Ломоносов в годы своей учебы в России и за рубежом не оставлял занятия верховой ездой, фехтованием, стрельбой, борьбой на руках, танцами, английским боксом и поднятием тяжестей. Всю свою жизнь М.В. Ломоносов активно занимался спортом. Его интересы и вкусы менялись, но неизменной оставалась любовь к гирям, которые сопровождали его всю жизнь. Он постоянно занимался с ними, даже когда испытывал недомогание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Users\ФЕДОР\Downloads\i (4).jpg"/>
          <p:cNvPicPr/>
          <p:nvPr/>
        </p:nvPicPr>
        <p:blipFill>
          <a:blip r:embed="rId1"/>
          <a:stretch/>
        </p:blipFill>
        <p:spPr>
          <a:xfrm>
            <a:off x="6786720" y="0"/>
            <a:ext cx="2162160" cy="1619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ФЕДОР\Downloads\i (5).jpg"/>
          <p:cNvPicPr/>
          <p:nvPr/>
        </p:nvPicPr>
        <p:blipFill>
          <a:blip r:embed="rId2"/>
          <a:stretch/>
        </p:blipFill>
        <p:spPr>
          <a:xfrm>
            <a:off x="5072040" y="5357880"/>
            <a:ext cx="2476440" cy="1238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ФЕДОР\Downloads\54.jpg"/>
          <p:cNvPicPr/>
          <p:nvPr/>
        </p:nvPicPr>
        <p:blipFill>
          <a:blip r:embed="rId3"/>
          <a:stretch/>
        </p:blipFill>
        <p:spPr>
          <a:xfrm>
            <a:off x="214200" y="142920"/>
            <a:ext cx="13683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Занятия спортом не только не мешали знаменитым ученым заниматься научными исследованиями, но и в определенной степени способствовали их научному и творческому росту.  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4:34:34Z</dcterms:created>
  <dc:creator>Компьютер 3</dc:creator>
  <dc:description/>
  <dc:language>en-US</dc:language>
  <cp:lastModifiedBy>ФЕДОР</cp:lastModifiedBy>
  <dcterms:modified xsi:type="dcterms:W3CDTF">2017-05-11T10:45:47Z</dcterms:modified>
  <cp:revision>14</cp:revision>
  <dc:subject/>
  <dc:title>Дмитрий Иванович Менделеев</dc:title>
</cp:coreProperties>
</file>