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D83B-B612-4C6C-93F3-19800F23F9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0137-B394-42E3-AC24-0B27A43DEC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1BE0-DF32-41D4-BF36-CE4CAF988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BBD-8967-498A-B74F-03DD06D2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42BE-0262-4CB1-8C62-EB3D7806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9B05-7631-4A92-9308-64292FC2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707E-37E0-4DAA-AAD1-439719AE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632A-D86C-4E43-BE0D-AF484AF1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4BB0-6547-4227-BEE2-00AD9533A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C11-CDC9-41A9-A2CC-8E98C608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F1C6-7482-4CAF-A09A-AF8C957D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45EA-21F3-41E7-A987-E8305B88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4223-99EE-438D-9C0F-E2A0D8DA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C9F-F8CE-46DE-B5E5-02265E6E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0BAC-FCA9-4FCC-89F3-B144650D13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ЫБНИСЬ! ТАНЦУЙ ! ПО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1295280" y="1536840"/>
            <a:ext cx="6629400" cy="5262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 flipH="1" flipV="1">
            <a:off x="837360" y="152532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-360" y="34560"/>
            <a:ext cx="9169560" cy="68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стоянные    и    непостоя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изнаки глаг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вратность       Наклон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                         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ряжение            Чис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ходность       Лиц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ИЯ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цени свою раб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6612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ОТКРЫТый у\konspiekturokarusskoghoiazykapotiemieglaghol_4.jpeg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304920"/>
            <a:ext cx="7620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тересная часть реч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усском языке живе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Кто что делает подскаже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станцует, и спо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1676520" y="3454560"/>
            <a:ext cx="5333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</a:t>
            </a: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нь рождения Глагола»</a:t>
            </a:r>
            <a:br>
              <a:rPr sz="5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br>
              <a:rPr sz="44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торение и обобщение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наний о глаголе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4989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      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ИДЫ ГЛАГОЛА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                                            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вершенный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что сделать?)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совершенный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(что делать?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2438640" cy="28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2286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E:\ОТКРЫТый у\img5.jpg"/>
          <p:cNvPicPr/>
          <p:nvPr/>
        </p:nvPicPr>
        <p:blipFill>
          <a:blip r:embed="rId1"/>
          <a:stretch/>
        </p:blipFill>
        <p:spPr>
          <a:xfrm>
            <a:off x="923760" y="609480"/>
            <a:ext cx="7213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еходность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лагол + имя существительное в винительном падеже без предлог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звратность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лаголы с постфиксами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– СЬ и- 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8680" y="152280"/>
            <a:ext cx="2450880" cy="159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543800" y="4495680"/>
            <a:ext cx="1481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РЕМЯ ГЛАГОЛА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настоящее – лицо +число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удущее – лицо + число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шедшее – род + числ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36021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791320" y="63360"/>
            <a:ext cx="325584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ЛЬ ГЛАГОЛА В ПРЕДЛОЖЕНИИ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казуемое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длежащее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200400" y="152280"/>
            <a:ext cx="274320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4251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4</dc:creator>
  <dc:description/>
  <dc:language>en-US</dc:language>
  <cp:lastModifiedBy>Admin</cp:lastModifiedBy>
  <dcterms:modified xsi:type="dcterms:W3CDTF">2018-06-22T06:31:04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e0000000000010271e00207f7200358026400</vt:lpwstr>
  </property>
  <property fmtid="{D5CDD505-2E9C-101B-9397-08002B2CF9AE}" pid="3" name="Version">
    <vt:r8>1</vt:r8>
  </property>
</Properties>
</file>