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wmf" ContentType="image/x-wmf"/>
  <Override PartName="/ppt/media/image3.png" ContentType="image/png"/>
  <Override PartName="/ppt/media/image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2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8.jpeg" ContentType="image/jpeg"/>
  <Override PartName="/ppt/media/image19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E54-8739-4F5B-A1D3-02A3C36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C05-4989-4027-8A69-3F69DBB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63B-6936-4E3C-8463-0367B18F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C05-76DF-4B75-8F9C-7DA65C5F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7B3-3918-463C-9303-956DFB03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2C85-C933-4153-8733-64B736B3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ABE0-BA48-4886-AC17-76D19841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AA5E-1FF3-4A88-97A6-19765CC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9551-F51D-489D-A357-864570DA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955-7DBA-42F5-9537-424CE2AF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47F4-5C4A-48F2-A22F-16E4004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F33-7B99-4710-9600-5AA6B67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86F-AB70-4535-9C5A-FEA9B7C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496E-1D81-461C-805D-4701EBA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8C25-D4CB-4F20-B6DD-F8BADD11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3C4-4F53-43A9-9E9F-CFB0B2D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1F3B-53B7-4A0E-BEDA-C88FEB68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599D-F544-41F4-B7A5-5503586D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AF05-709B-455E-8CD1-59576E2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A6B3-CA48-410B-AB3D-185B9A0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20AD-F618-468E-969E-0ED71317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EC7A-7EF5-4F9F-BFBD-FC1DD38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E0B-269A-41B1-987E-5BBC753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2EDA-0D8C-4D76-9709-CCE3963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7C4B-9692-41C3-B719-8AF69AF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BC43-9C48-4AED-885B-AF452D3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73D9-A0B9-4AB6-AA47-C8ED369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A22C-DD0A-4D6A-A19B-FEE5C142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9FE9-5F28-4A8F-AF8D-6A8F61D2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196D-124F-48AD-8AD2-15B009B5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7D67-C1FD-4F07-AC34-D35B24A1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064A-7E8C-47DF-BF32-7A87AC05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75FA-9529-42E7-9C8F-70ACB5A4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2D5-9F79-43DA-AD4F-8C1A02A6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162F-9395-42B5-94AB-D100757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A7A7-8C35-42B7-8B37-C80F581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21E0-BD20-492F-BA3A-7E5FE13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BE04-7B5A-4E01-ADB4-69A2D115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40C5-B982-4362-B434-B2B0D8CE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723D-9D71-4F97-A4AC-4556B7F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5CE5-AC24-4880-83BD-80AEA7B8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4EF26-D8AF-4A94-886E-C90570B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08E4-0185-43C9-8695-C55A36A8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F00-703F-409D-AFDC-16EBEBB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9A8-FFA8-4CE6-94FB-5D90B7A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C67-FD1C-4C98-B08B-571946C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C54-139D-4B25-8383-B06D4DFB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F44-D0F3-4208-A176-50C2824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EB23-1BD8-48F2-A43F-2E48250B044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F716-8D56-4427-835F-EFF24D4BCDF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4C5F-7E75-4457-96B1-6035F9879AC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5DA-2897-4935-9E53-66F4C5DDF47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517840" y="-49320"/>
            <a:ext cx="6723000" cy="1596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728720" y="1655640"/>
            <a:ext cx="7415280" cy="439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Универсальные учебные действия как основа реализации образовательного стандарт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арпичева Лидия Владимировна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ОУ «Гимназия г.Раменское»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4" descr="D:\картинки школа\звонок.jpg"/>
          <p:cNvPicPr/>
          <p:nvPr/>
        </p:nvPicPr>
        <p:blipFill>
          <a:blip r:embed="rId2"/>
          <a:stretch/>
        </p:blipFill>
        <p:spPr>
          <a:xfrm>
            <a:off x="1571760" y="214200"/>
            <a:ext cx="24289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2560" y="533520"/>
            <a:ext cx="7291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70311"/>
                </a:solidFill>
                <a:latin typeface="Corbel"/>
              </a:rPr>
              <a:t>Личностные УУД: смыслообразование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rcRect l="0" t="6013" r="0" b="9620"/>
          <a:stretch/>
        </p:blipFill>
        <p:spPr>
          <a:xfrm>
            <a:off x="395280" y="1197000"/>
            <a:ext cx="42480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2" name="Rectangle 4"/>
          <p:cNvGrpSpPr/>
          <p:nvPr/>
        </p:nvGrpSpPr>
        <p:grpSpPr>
          <a:xfrm>
            <a:off x="4900680" y="1554120"/>
            <a:ext cx="3993840" cy="4786200"/>
            <a:chOff x="4900680" y="1554120"/>
            <a:chExt cx="3993840" cy="4786200"/>
          </a:xfrm>
        </p:grpSpPr>
        <p:pic>
          <p:nvPicPr>
            <p:cNvPr id="263" name="Rectangle 4" descr=""/>
            <p:cNvPicPr/>
            <p:nvPr/>
          </p:nvPicPr>
          <p:blipFill>
            <a:blip r:embed="rId2"/>
            <a:stretch/>
          </p:blipFill>
          <p:spPr>
            <a:xfrm>
              <a:off x="4902120" y="1554120"/>
              <a:ext cx="399240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900680" y="1557360"/>
              <a:ext cx="399240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ичностной позици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ученика. Через определение многообразия школьных профессий, их значимости в процессе обучения в сознании ученика целенаправленно закладывается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ценностное отно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к социальной роли учени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будут сформирован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нутренняя позиция учащих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Адекватная мотивация учебной деятельности (+учебные и познавательные мотивы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риентация на моральные нормы и их выполнен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762120" y="9907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5105520" y="7621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914400" y="6094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2514600" y="4419720"/>
            <a:ext cx="4343400" cy="1981080"/>
            <a:chOff x="2514600" y="4419720"/>
            <a:chExt cx="4343400" cy="1981080"/>
          </a:xfrm>
        </p:grpSpPr>
        <p:pic>
          <p:nvPicPr>
            <p:cNvPr id="270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4419720"/>
              <a:ext cx="4343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3029400" y="474984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е типы учебных действий, направленные на организацию своей работы в образовательном учреждении и вне ег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15" descr="J0078811"/>
          <p:cNvPicPr/>
          <p:nvPr/>
        </p:nvPicPr>
        <p:blipFill>
          <a:blip r:embed="rId2"/>
          <a:stretch/>
        </p:blipFill>
        <p:spPr>
          <a:xfrm>
            <a:off x="6477120" y="380880"/>
            <a:ext cx="1753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3"/>
          <p:cNvGrpSpPr/>
          <p:nvPr/>
        </p:nvGrpSpPr>
        <p:grpSpPr>
          <a:xfrm>
            <a:off x="355680" y="3419640"/>
            <a:ext cx="2378880" cy="2111400"/>
            <a:chOff x="355680" y="3419640"/>
            <a:chExt cx="2378880" cy="2111400"/>
          </a:xfrm>
        </p:grpSpPr>
        <p:sp>
          <p:nvSpPr>
            <p:cNvPr id="274" name="AutoShape 9"/>
            <p:cNvSpPr/>
            <p:nvPr/>
          </p:nvSpPr>
          <p:spPr>
            <a:xfrm rot="18451800">
              <a:off x="1108440" y="331056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16"/>
            <p:cNvSpPr txBox="1"/>
            <p:nvPr/>
          </p:nvSpPr>
          <p:spPr>
            <a:xfrm rot="2180400">
              <a:off x="533520" y="4191120"/>
              <a:ext cx="1600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1704240" y="2448000"/>
            <a:ext cx="1884600" cy="2462040"/>
            <a:chOff x="1704240" y="2448000"/>
            <a:chExt cx="1884600" cy="2462040"/>
          </a:xfrm>
        </p:grpSpPr>
        <p:sp>
          <p:nvSpPr>
            <p:cNvPr id="277" name="AutoShape 10"/>
            <p:cNvSpPr/>
            <p:nvPr/>
          </p:nvSpPr>
          <p:spPr>
            <a:xfrm rot="19878000">
              <a:off x="2209680" y="25146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WordArt 17"/>
            <p:cNvSpPr txBox="1"/>
            <p:nvPr/>
          </p:nvSpPr>
          <p:spPr>
            <a:xfrm rot="3591600">
              <a:off x="1738080" y="3290400"/>
              <a:ext cx="15051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3505320" y="2133720"/>
            <a:ext cx="873000" cy="2328840"/>
            <a:chOff x="3505320" y="2133720"/>
            <a:chExt cx="873000" cy="2328840"/>
          </a:xfrm>
        </p:grpSpPr>
        <p:sp>
          <p:nvSpPr>
            <p:cNvPr id="280" name="AutoShape 11"/>
            <p:cNvSpPr/>
            <p:nvPr/>
          </p:nvSpPr>
          <p:spPr>
            <a:xfrm>
              <a:off x="350532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8"/>
            <p:cNvSpPr txBox="1"/>
            <p:nvPr/>
          </p:nvSpPr>
          <p:spPr>
            <a:xfrm rot="5400000">
              <a:off x="3028320" y="3066840"/>
              <a:ext cx="181944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огноз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2" name="Group 31"/>
          <p:cNvGrpSpPr/>
          <p:nvPr/>
        </p:nvGrpSpPr>
        <p:grpSpPr>
          <a:xfrm>
            <a:off x="4572000" y="2133720"/>
            <a:ext cx="873000" cy="2328840"/>
            <a:chOff x="4572000" y="2133720"/>
            <a:chExt cx="873000" cy="2328840"/>
          </a:xfrm>
        </p:grpSpPr>
        <p:sp>
          <p:nvSpPr>
            <p:cNvPr id="283" name="AutoShape 12"/>
            <p:cNvSpPr/>
            <p:nvPr/>
          </p:nvSpPr>
          <p:spPr>
            <a:xfrm>
              <a:off x="457200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9"/>
            <p:cNvSpPr txBox="1"/>
            <p:nvPr/>
          </p:nvSpPr>
          <p:spPr>
            <a:xfrm rot="5400000">
              <a:off x="4519800" y="3176640"/>
              <a:ext cx="971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5" name="Group 30"/>
          <p:cNvGrpSpPr/>
          <p:nvPr/>
        </p:nvGrpSpPr>
        <p:grpSpPr>
          <a:xfrm>
            <a:off x="5638680" y="2133720"/>
            <a:ext cx="873360" cy="2328840"/>
            <a:chOff x="5638680" y="2133720"/>
            <a:chExt cx="873360" cy="2328840"/>
          </a:xfrm>
        </p:grpSpPr>
        <p:sp>
          <p:nvSpPr>
            <p:cNvPr id="286" name="AutoShape 13"/>
            <p:cNvSpPr/>
            <p:nvPr/>
          </p:nvSpPr>
          <p:spPr>
            <a:xfrm>
              <a:off x="5638680" y="21337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20"/>
            <p:cNvSpPr txBox="1"/>
            <p:nvPr/>
          </p:nvSpPr>
          <p:spPr>
            <a:xfrm rot="5400000">
              <a:off x="5519520" y="3090960"/>
              <a:ext cx="1105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71360" y="2379960"/>
            <a:ext cx="1950840" cy="2445120"/>
            <a:chOff x="6471360" y="2379960"/>
            <a:chExt cx="1950840" cy="2445120"/>
          </a:xfrm>
        </p:grpSpPr>
        <p:sp>
          <p:nvSpPr>
            <p:cNvPr id="289" name="AutoShape 14"/>
            <p:cNvSpPr/>
            <p:nvPr/>
          </p:nvSpPr>
          <p:spPr>
            <a:xfrm rot="1866600">
              <a:off x="7009920" y="24379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21"/>
            <p:cNvSpPr txBox="1"/>
            <p:nvPr/>
          </p:nvSpPr>
          <p:spPr>
            <a:xfrm rot="18096600">
              <a:off x="7086240" y="3428640"/>
              <a:ext cx="7333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1" name="Group 34"/>
          <p:cNvGrpSpPr/>
          <p:nvPr/>
        </p:nvGrpSpPr>
        <p:grpSpPr>
          <a:xfrm>
            <a:off x="6717240" y="3455640"/>
            <a:ext cx="2371320" cy="2124720"/>
            <a:chOff x="6717240" y="3455640"/>
            <a:chExt cx="2371320" cy="2124720"/>
          </a:xfrm>
        </p:grpSpPr>
        <p:sp>
          <p:nvSpPr>
            <p:cNvPr id="292" name="AutoShape 15"/>
            <p:cNvSpPr/>
            <p:nvPr/>
          </p:nvSpPr>
          <p:spPr>
            <a:xfrm rot="3112800">
              <a:off x="7466040" y="33534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WordArt 22"/>
            <p:cNvSpPr txBox="1"/>
            <p:nvPr/>
          </p:nvSpPr>
          <p:spPr>
            <a:xfrm rot="19383600">
              <a:off x="7086600" y="4343040"/>
              <a:ext cx="1619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регуля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127240" y="189000"/>
            <a:ext cx="7205760" cy="1238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854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Использование речевого жанра 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инструкция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Обобщающий урок окружающего мира в 3 классе: «Обитатели зоопарка»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Перед учащимися ставится задача: составить</a:t>
            </a:r>
            <a:r>
              <a:rPr b="0" i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описание</a:t>
            </a:r>
            <a:r>
              <a:rPr b="0" i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групп животных, которые живут в нашем зоопарке, а именно: парнокопытных, хищных птиц и млекопитающих, пресмыкающихся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Для выполнения задания дети должны составить инструкцию деятельности своей группы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1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Изучи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информацию о животных, представленную для посетител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2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Узна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дополнительную информацию о животных у сотрудников зоопарк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3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Состави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описание животн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4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Сделать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необходимые зарисовки животн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5.    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Прорепетирова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выступление перед товарищами в групп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6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Представить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свою группу животных одноклассникам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Учащиеся должны провести «экскурсию» по зоопарку. Использование речевого жанра приобрело практическое значение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будут сформированы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способность принимать и сохранять учебную цель и задачу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ланировать ее реализацию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контролировать и оценивать свои действия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вносить соответствующие коррективы в их выполнение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611280" y="333360"/>
            <a:ext cx="4876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98" name="WordArt 5"/>
          <p:cNvSpPr txBox="1"/>
          <p:nvPr/>
        </p:nvSpPr>
        <p:spPr>
          <a:xfrm>
            <a:off x="6156360" y="40464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бщеучебные действ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логические действ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действия постановк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 решения пробле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762120" y="60948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301" name="Group 60"/>
          <p:cNvGrpSpPr/>
          <p:nvPr/>
        </p:nvGrpSpPr>
        <p:grpSpPr>
          <a:xfrm>
            <a:off x="7162920" y="304920"/>
            <a:ext cx="1218960" cy="1294920"/>
            <a:chOff x="7162920" y="304920"/>
            <a:chExt cx="1218960" cy="1294920"/>
          </a:xfrm>
        </p:grpSpPr>
        <p:sp>
          <p:nvSpPr>
            <p:cNvPr id="302" name="Oval 37"/>
            <p:cNvSpPr/>
            <p:nvPr/>
          </p:nvSpPr>
          <p:spPr>
            <a:xfrm>
              <a:off x="7271640" y="304920"/>
              <a:ext cx="1109880" cy="12319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39"/>
            <p:cNvGrpSpPr/>
            <p:nvPr/>
          </p:nvGrpSpPr>
          <p:grpSpPr>
            <a:xfrm>
              <a:off x="7162920" y="348120"/>
              <a:ext cx="1218960" cy="1251720"/>
              <a:chOff x="7162920" y="348120"/>
              <a:chExt cx="1218960" cy="1251720"/>
            </a:xfrm>
          </p:grpSpPr>
          <p:pic>
            <p:nvPicPr>
              <p:cNvPr id="304" name="Picture 26" descr="J0078791"/>
              <p:cNvPicPr/>
              <p:nvPr/>
            </p:nvPicPr>
            <p:blipFill>
              <a:blip r:embed="rId1"/>
              <a:stretch/>
            </p:blipFill>
            <p:spPr>
              <a:xfrm>
                <a:off x="7162920" y="502560"/>
                <a:ext cx="711360" cy="10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30" descr="J0078625"/>
              <p:cNvPicPr/>
              <p:nvPr/>
            </p:nvPicPr>
            <p:blipFill>
              <a:blip r:embed="rId2"/>
              <a:stretch/>
            </p:blipFill>
            <p:spPr>
              <a:xfrm flipH="1">
                <a:off x="7874280" y="348120"/>
                <a:ext cx="507600" cy="125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6" name="Group 27"/>
          <p:cNvGrpSpPr/>
          <p:nvPr/>
        </p:nvGrpSpPr>
        <p:grpSpPr>
          <a:xfrm>
            <a:off x="5562720" y="1905120"/>
            <a:ext cx="2438280" cy="1600200"/>
            <a:chOff x="5562720" y="1905120"/>
            <a:chExt cx="2438280" cy="1600200"/>
          </a:xfrm>
        </p:grpSpPr>
        <p:sp>
          <p:nvSpPr>
            <p:cNvPr id="307" name="Line 10"/>
            <p:cNvSpPr/>
            <p:nvPr/>
          </p:nvSpPr>
          <p:spPr>
            <a:xfrm flipV="1">
              <a:off x="5562720" y="2286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5638680" y="28195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>
              <a:off x="5562720" y="2971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4"/>
            <p:cNvSpPr txBox="1"/>
            <p:nvPr/>
          </p:nvSpPr>
          <p:spPr>
            <a:xfrm>
              <a:off x="6019920" y="1905120"/>
              <a:ext cx="1981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деление 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й цел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15"/>
            <p:cNvSpPr txBox="1"/>
            <p:nvPr/>
          </p:nvSpPr>
          <p:spPr>
            <a:xfrm>
              <a:off x="6248520" y="2819520"/>
              <a:ext cx="17143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иск информа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16"/>
            <p:cNvSpPr txBox="1"/>
            <p:nvPr/>
          </p:nvSpPr>
          <p:spPr>
            <a:xfrm>
              <a:off x="6095880" y="3276720"/>
              <a:ext cx="1438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Group 28"/>
          <p:cNvGrpSpPr/>
          <p:nvPr/>
        </p:nvGrpSpPr>
        <p:grpSpPr>
          <a:xfrm>
            <a:off x="5105520" y="3809880"/>
            <a:ext cx="3095640" cy="990720"/>
            <a:chOff x="5105520" y="3809880"/>
            <a:chExt cx="3095640" cy="990720"/>
          </a:xfrm>
        </p:grpSpPr>
        <p:sp>
          <p:nvSpPr>
            <p:cNvPr id="314" name="Line 17"/>
            <p:cNvSpPr/>
            <p:nvPr/>
          </p:nvSpPr>
          <p:spPr>
            <a:xfrm>
              <a:off x="510552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5181480" y="396252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5105520" y="4114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20"/>
            <p:cNvSpPr txBox="1"/>
            <p:nvPr/>
          </p:nvSpPr>
          <p:spPr>
            <a:xfrm>
              <a:off x="5791320" y="3809880"/>
              <a:ext cx="990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8" name="WordArt 21"/>
            <p:cNvSpPr txBox="1"/>
            <p:nvPr/>
          </p:nvSpPr>
          <p:spPr>
            <a:xfrm>
              <a:off x="5867280" y="4114800"/>
              <a:ext cx="23338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лассификация объект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9" name="WordArt 22"/>
            <p:cNvSpPr txBox="1"/>
            <p:nvPr/>
          </p:nvSpPr>
          <p:spPr>
            <a:xfrm>
              <a:off x="5257800" y="4572000"/>
              <a:ext cx="14763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казательство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0" name="Group 29"/>
          <p:cNvGrpSpPr/>
          <p:nvPr/>
        </p:nvGrpSpPr>
        <p:grpSpPr>
          <a:xfrm>
            <a:off x="4952880" y="5029200"/>
            <a:ext cx="3848400" cy="1066680"/>
            <a:chOff x="4952880" y="5029200"/>
            <a:chExt cx="3848400" cy="1066680"/>
          </a:xfrm>
        </p:grpSpPr>
        <p:sp>
          <p:nvSpPr>
            <p:cNvPr id="321" name="Line 23"/>
            <p:cNvSpPr/>
            <p:nvPr/>
          </p:nvSpPr>
          <p:spPr>
            <a:xfrm flipV="1">
              <a:off x="5029200" y="51811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4"/>
            <p:cNvSpPr/>
            <p:nvPr/>
          </p:nvSpPr>
          <p:spPr>
            <a:xfrm>
              <a:off x="4952880" y="563868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25"/>
            <p:cNvSpPr txBox="1"/>
            <p:nvPr/>
          </p:nvSpPr>
          <p:spPr>
            <a:xfrm>
              <a:off x="6248520" y="5029200"/>
              <a:ext cx="25527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4" name="WordArt 26"/>
            <p:cNvSpPr txBox="1"/>
            <p:nvPr/>
          </p:nvSpPr>
          <p:spPr>
            <a:xfrm>
              <a:off x="5867280" y="5562720"/>
              <a:ext cx="2057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здание способ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шения проблем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1763640" y="2276640"/>
            <a:ext cx="55911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ученик сможет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поиск необходимой информаци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запись (фиксацию) выборочной информаци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спользовать знаково-символические средства (модели, схемы…) для решения задач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строить сообщения в устной и письменной форм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анализ объектов с выделением существенных и несущественных признаков; синтез (составление целого из частей); проводить сравнение, сериацию и классификацию по заданным критериям; устанавливать причинно-следственные связ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762120" y="914400"/>
            <a:ext cx="4419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5943600" y="76212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Коммуникативные универсальные действ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1280" y="1989000"/>
            <a:ext cx="792144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йствия обеспечивают социальную компетентность и учет  позиции других людей, партнера по общению или деятельности, умение слушать и вступать в диалог, участвовать в коллективном обсуждении проблем, интегрироваться в группу сверстников и строить продуктивное взаимодействие и сотрудничество со сверстниками и взрослы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762120" y="6094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оммуника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332" name="Group 27"/>
          <p:cNvGrpSpPr/>
          <p:nvPr/>
        </p:nvGrpSpPr>
        <p:grpSpPr>
          <a:xfrm>
            <a:off x="6324480" y="304920"/>
            <a:ext cx="1433520" cy="1490040"/>
            <a:chOff x="6324480" y="304920"/>
            <a:chExt cx="1433520" cy="1490040"/>
          </a:xfrm>
        </p:grpSpPr>
        <p:pic>
          <p:nvPicPr>
            <p:cNvPr id="333" name="Picture 28" descr="J0078732"/>
            <p:cNvPicPr/>
            <p:nvPr/>
          </p:nvPicPr>
          <p:blipFill>
            <a:blip r:embed="rId1"/>
            <a:stretch/>
          </p:blipFill>
          <p:spPr>
            <a:xfrm flipH="1">
              <a:off x="6999120" y="404640"/>
              <a:ext cx="758880" cy="13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9" descr="J0078622"/>
            <p:cNvPicPr/>
            <p:nvPr/>
          </p:nvPicPr>
          <p:blipFill>
            <a:blip r:embed="rId2"/>
            <a:stretch/>
          </p:blipFill>
          <p:spPr>
            <a:xfrm>
              <a:off x="6324480" y="304920"/>
              <a:ext cx="757080" cy="14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8"/>
          <p:cNvGrpSpPr/>
          <p:nvPr/>
        </p:nvGrpSpPr>
        <p:grpSpPr>
          <a:xfrm>
            <a:off x="2514600" y="4343400"/>
            <a:ext cx="4343400" cy="1905120"/>
            <a:chOff x="2514600" y="4343400"/>
            <a:chExt cx="4343400" cy="1905120"/>
          </a:xfrm>
        </p:grpSpPr>
        <p:pic>
          <p:nvPicPr>
            <p:cNvPr id="336" name="Picture 4" descr="BDRLC003"/>
            <p:cNvPicPr/>
            <p:nvPr/>
          </p:nvPicPr>
          <p:blipFill>
            <a:blip r:embed="rId3"/>
            <a:stretch/>
          </p:blipFill>
          <p:spPr>
            <a:xfrm>
              <a:off x="2514600" y="4343400"/>
              <a:ext cx="4343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10"/>
            <p:cNvSpPr/>
            <p:nvPr/>
          </p:nvSpPr>
          <p:spPr>
            <a:xfrm>
              <a:off x="3029400" y="466092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ивают социальную компетентность и учет позиции других людей, умение слушать и вступать в диалог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6"/>
          <p:cNvGrpSpPr/>
          <p:nvPr/>
        </p:nvGrpSpPr>
        <p:grpSpPr>
          <a:xfrm>
            <a:off x="1066680" y="2362320"/>
            <a:ext cx="2057400" cy="1904760"/>
            <a:chOff x="1066680" y="2362320"/>
            <a:chExt cx="2057400" cy="1904760"/>
          </a:xfrm>
        </p:grpSpPr>
        <p:sp>
          <p:nvSpPr>
            <p:cNvPr id="339" name="WordArt 13"/>
            <p:cNvSpPr txBox="1"/>
            <p:nvPr/>
          </p:nvSpPr>
          <p:spPr>
            <a:xfrm>
              <a:off x="1066680" y="2362320"/>
              <a:ext cx="1905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2438280" y="33526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5"/>
          <p:cNvGrpSpPr/>
          <p:nvPr/>
        </p:nvGrpSpPr>
        <p:grpSpPr>
          <a:xfrm>
            <a:off x="3581280" y="3200400"/>
            <a:ext cx="1428840" cy="1066680"/>
            <a:chOff x="3581280" y="3200400"/>
            <a:chExt cx="1428840" cy="1066680"/>
          </a:xfrm>
        </p:grpSpPr>
        <p:sp>
          <p:nvSpPr>
            <p:cNvPr id="342" name="WordArt 15"/>
            <p:cNvSpPr txBox="1"/>
            <p:nvPr/>
          </p:nvSpPr>
          <p:spPr>
            <a:xfrm>
              <a:off x="3581280" y="3200400"/>
              <a:ext cx="14288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новка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3" name="Line 16"/>
            <p:cNvSpPr/>
            <p:nvPr/>
          </p:nvSpPr>
          <p:spPr>
            <a:xfrm>
              <a:off x="42670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5410080" y="2286000"/>
            <a:ext cx="1467000" cy="1981080"/>
            <a:chOff x="5410080" y="2286000"/>
            <a:chExt cx="1467000" cy="1981080"/>
          </a:xfrm>
        </p:grpSpPr>
        <p:sp>
          <p:nvSpPr>
            <p:cNvPr id="345" name="WordArt 17"/>
            <p:cNvSpPr txBox="1"/>
            <p:nvPr/>
          </p:nvSpPr>
          <p:spPr>
            <a:xfrm>
              <a:off x="5410080" y="2286000"/>
              <a:ext cx="14670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зреш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6" name="Line 18"/>
            <p:cNvSpPr/>
            <p:nvPr/>
          </p:nvSpPr>
          <p:spPr>
            <a:xfrm flipH="1">
              <a:off x="5562720" y="289548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3"/>
          <p:cNvGrpSpPr/>
          <p:nvPr/>
        </p:nvGrpSpPr>
        <p:grpSpPr>
          <a:xfrm>
            <a:off x="6781680" y="3352680"/>
            <a:ext cx="1467000" cy="1295640"/>
            <a:chOff x="6781680" y="3352680"/>
            <a:chExt cx="1467000" cy="1295640"/>
          </a:xfrm>
        </p:grpSpPr>
        <p:sp>
          <p:nvSpPr>
            <p:cNvPr id="348" name="WordArt 19"/>
            <p:cNvSpPr txBox="1"/>
            <p:nvPr/>
          </p:nvSpPr>
          <p:spPr>
            <a:xfrm>
              <a:off x="6781680" y="3352680"/>
              <a:ext cx="1467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артнер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 flipH="1">
              <a:off x="6858000" y="42670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7"/>
          <p:cNvGrpSpPr/>
          <p:nvPr/>
        </p:nvGrpSpPr>
        <p:grpSpPr>
          <a:xfrm>
            <a:off x="914400" y="3886200"/>
            <a:ext cx="1600200" cy="1219320"/>
            <a:chOff x="914400" y="3886200"/>
            <a:chExt cx="1600200" cy="1219320"/>
          </a:xfrm>
        </p:grpSpPr>
        <p:sp>
          <p:nvSpPr>
            <p:cNvPr id="351" name="WordArt 21"/>
            <p:cNvSpPr txBox="1"/>
            <p:nvPr/>
          </p:nvSpPr>
          <p:spPr>
            <a:xfrm>
              <a:off x="914400" y="3886200"/>
              <a:ext cx="11620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ража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во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ысл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1905120" y="4648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Задачи образован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ажнейшей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задаче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современной системы образования является формирование совокупности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«универсальных учебных действий»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еспечивающих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«умение учиться»,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пособность личности к саморазвитию и самосовершенствованию путем сознательного и активного присвоения нового социального опыта, а не только освоение учащимися конкретных предметных знаний и навыков в рамках отдельных дисципли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3" descr="Изображение 029.jpg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1841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Изображение 030.jpg"/>
          <p:cNvPicPr/>
          <p:nvPr/>
        </p:nvPicPr>
        <p:blipFill>
          <a:blip r:embed="rId2"/>
          <a:stretch/>
        </p:blipFill>
        <p:spPr>
          <a:xfrm>
            <a:off x="1187280" y="2492280"/>
            <a:ext cx="73263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403280" y="333360"/>
            <a:ext cx="69138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416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2745"/>
                </a:solidFill>
                <a:latin typeface="Times New Roman"/>
              </a:rPr>
              <a:t>Коммуникативные УУД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оформлять свои мысли в устной и письменной речи с учетом учебных и жизненных речевых ситуац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высказывать свою точку зрения и пытаться ее обосновать, приводя аргумен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слушать других, пытаться принимать другую точку зрения, быть готовым изменить свою точку зр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читать вслух и про себя тексты учебников и при этом: вести диалог с автором (прогнозировать будущее чтение, ставить вопросы к тексту и искать ответы, проверять себя); отделять новое от известного; выделять главное; составлять план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выполняя различные роли в группе, сотрудничать в совместном решении проблемы (задачи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учиться уважительно относиться к позиции другого, пытаться договаривать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971640" y="119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В результате обучения в начальной школе будут сформирован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1646280" y="92160"/>
            <a:ext cx="7497720" cy="132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владение содержанием каждого из УУД и связей между ни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умение выбирать УУД в зависимости от цели обучения, специфики учебного предмета, возрастных особенностей учащихс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способность организовывать деятельность учащихся по формированию УУ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1" name="Picture 4" descr="D:\картинки школа\учитель.jpg"/>
          <p:cNvPicPr/>
          <p:nvPr/>
        </p:nvPicPr>
        <p:blipFill>
          <a:blip r:embed="rId2"/>
          <a:stretch/>
        </p:blipFill>
        <p:spPr>
          <a:xfrm>
            <a:off x="6948360" y="4143240"/>
            <a:ext cx="1962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639800" y="-19080"/>
            <a:ext cx="7504200" cy="1500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007dbf48c495"/>
          <p:cNvPicPr/>
          <p:nvPr/>
        </p:nvPicPr>
        <p:blipFill>
          <a:blip r:embed="rId2"/>
          <a:stretch/>
        </p:blipFill>
        <p:spPr>
          <a:xfrm>
            <a:off x="2916360" y="1341360"/>
            <a:ext cx="44290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646280" y="36360"/>
            <a:ext cx="7497720" cy="138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644120" y="1447560"/>
            <a:ext cx="66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orbel"/>
              </a:rPr>
              <a:t>Термин «универсальные учебные действия»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означает умение учиться, 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т.е. 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совокупность способов действия учащегося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,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обеспечивающих его способность к самостоятельному усвоению новых знаний и умений, включая организацию этого процесса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646280" y="23760"/>
            <a:ext cx="7497720" cy="2281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-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обеспечение возможностей уча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  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- создание условий для гармоничного развития личности и ее самореализации на основе готовности к непрерывному образованию;   обеспечение успешного усвоения знаний, умений и навыков</a:t>
            </a:r>
            <a:r>
              <a:rPr b="0" lang="ru-RU" sz="27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352680" y="6094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24" name="Group 16"/>
          <p:cNvGrpSpPr/>
          <p:nvPr/>
        </p:nvGrpSpPr>
        <p:grpSpPr>
          <a:xfrm>
            <a:off x="241200" y="1905120"/>
            <a:ext cx="3200400" cy="2133360"/>
            <a:chOff x="241200" y="1905120"/>
            <a:chExt cx="3200400" cy="2133360"/>
          </a:xfrm>
        </p:grpSpPr>
        <p:sp>
          <p:nvSpPr>
            <p:cNvPr id="225" name="Oval 5"/>
            <p:cNvSpPr/>
            <p:nvPr/>
          </p:nvSpPr>
          <p:spPr>
            <a:xfrm>
              <a:off x="241200" y="190512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WordArt 12"/>
            <p:cNvSpPr txBox="1"/>
            <p:nvPr/>
          </p:nvSpPr>
          <p:spPr>
            <a:xfrm>
              <a:off x="685800" y="2743200"/>
              <a:ext cx="2266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7" name="Group 19"/>
          <p:cNvGrpSpPr/>
          <p:nvPr/>
        </p:nvGrpSpPr>
        <p:grpSpPr>
          <a:xfrm>
            <a:off x="1472040" y="3814200"/>
            <a:ext cx="3227400" cy="2429640"/>
            <a:chOff x="1472040" y="3814200"/>
            <a:chExt cx="3227400" cy="2429640"/>
          </a:xfrm>
        </p:grpSpPr>
        <p:sp>
          <p:nvSpPr>
            <p:cNvPr id="228" name="Oval 10"/>
            <p:cNvSpPr/>
            <p:nvPr/>
          </p:nvSpPr>
          <p:spPr>
            <a:xfrm rot="21439200">
              <a:off x="1523520" y="3885840"/>
              <a:ext cx="312408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13"/>
            <p:cNvSpPr txBox="1"/>
            <p:nvPr/>
          </p:nvSpPr>
          <p:spPr>
            <a:xfrm>
              <a:off x="1979280" y="4651200"/>
              <a:ext cx="24386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регуля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3886200" y="1828800"/>
            <a:ext cx="3124080" cy="2209680"/>
            <a:chOff x="3886200" y="1828800"/>
            <a:chExt cx="3124080" cy="2209680"/>
          </a:xfrm>
        </p:grpSpPr>
        <p:sp>
          <p:nvSpPr>
            <p:cNvPr id="231" name="Oval 8"/>
            <p:cNvSpPr/>
            <p:nvPr/>
          </p:nvSpPr>
          <p:spPr>
            <a:xfrm>
              <a:off x="3886200" y="1828800"/>
              <a:ext cx="3124080" cy="220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14"/>
            <p:cNvSpPr txBox="1"/>
            <p:nvPr/>
          </p:nvSpPr>
          <p:spPr>
            <a:xfrm>
              <a:off x="4267080" y="2590920"/>
              <a:ext cx="2438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ознаватель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5275800" y="3722400"/>
            <a:ext cx="3399480" cy="2526840"/>
            <a:chOff x="5275800" y="3722400"/>
            <a:chExt cx="3399480" cy="2526840"/>
          </a:xfrm>
        </p:grpSpPr>
        <p:sp>
          <p:nvSpPr>
            <p:cNvPr id="234" name="Oval 11"/>
            <p:cNvSpPr/>
            <p:nvPr/>
          </p:nvSpPr>
          <p:spPr>
            <a:xfrm rot="181200">
              <a:off x="5335560" y="3807000"/>
              <a:ext cx="3279960" cy="23572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15"/>
            <p:cNvSpPr txBox="1"/>
            <p:nvPr/>
          </p:nvSpPr>
          <p:spPr>
            <a:xfrm>
              <a:off x="5715000" y="4495680"/>
              <a:ext cx="26668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коммуника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1371600" y="53352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37" name="Group 61"/>
          <p:cNvGrpSpPr/>
          <p:nvPr/>
        </p:nvGrpSpPr>
        <p:grpSpPr>
          <a:xfrm>
            <a:off x="6553080" y="152280"/>
            <a:ext cx="2130480" cy="1523880"/>
            <a:chOff x="6553080" y="152280"/>
            <a:chExt cx="2130480" cy="1523880"/>
          </a:xfrm>
        </p:grpSpPr>
        <p:sp>
          <p:nvSpPr>
            <p:cNvPr id="238" name="Oval 43"/>
            <p:cNvSpPr/>
            <p:nvPr/>
          </p:nvSpPr>
          <p:spPr>
            <a:xfrm>
              <a:off x="7245720" y="258480"/>
              <a:ext cx="1437840" cy="14176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28" descr="J0078754"/>
            <p:cNvPicPr/>
            <p:nvPr/>
          </p:nvPicPr>
          <p:blipFill>
            <a:blip r:embed="rId1"/>
            <a:stretch/>
          </p:blipFill>
          <p:spPr>
            <a:xfrm>
              <a:off x="6553080" y="152280"/>
              <a:ext cx="2051640" cy="13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0"/>
          <p:cNvGrpSpPr/>
          <p:nvPr/>
        </p:nvGrpSpPr>
        <p:grpSpPr>
          <a:xfrm>
            <a:off x="2514600" y="3352680"/>
            <a:ext cx="4495680" cy="2590920"/>
            <a:chOff x="2514600" y="3352680"/>
            <a:chExt cx="4495680" cy="2590920"/>
          </a:xfrm>
        </p:grpSpPr>
        <p:pic>
          <p:nvPicPr>
            <p:cNvPr id="241" name="Picture 4" descr="BDRLC003"/>
            <p:cNvPicPr/>
            <p:nvPr/>
          </p:nvPicPr>
          <p:blipFill>
            <a:blip r:embed="rId2"/>
            <a:stretch/>
          </p:blipFill>
          <p:spPr>
            <a:xfrm>
              <a:off x="2514600" y="3352680"/>
              <a:ext cx="44956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9"/>
            <p:cNvSpPr/>
            <p:nvPr/>
          </p:nvSpPr>
          <p:spPr>
            <a:xfrm>
              <a:off x="3047760" y="3784320"/>
              <a:ext cx="37339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мение соотносить поступки и события с принятыми этическими принципам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ние моральных норм и умение выделить нравственный аспект пове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456120" y="1895400"/>
            <a:ext cx="2378520" cy="2111040"/>
            <a:chOff x="456120" y="1895400"/>
            <a:chExt cx="2378520" cy="2111040"/>
          </a:xfrm>
        </p:grpSpPr>
        <p:sp>
          <p:nvSpPr>
            <p:cNvPr id="244" name="AutoShape 11"/>
            <p:cNvSpPr/>
            <p:nvPr/>
          </p:nvSpPr>
          <p:spPr>
            <a:xfrm rot="18451800">
              <a:off x="1208880" y="17863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12"/>
            <p:cNvSpPr txBox="1"/>
            <p:nvPr/>
          </p:nvSpPr>
          <p:spPr>
            <a:xfrm rot="2260200">
              <a:off x="609120" y="2852640"/>
              <a:ext cx="1914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опреде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6237720" y="1280520"/>
            <a:ext cx="2605320" cy="2643120"/>
            <a:chOff x="6237720" y="1280520"/>
            <a:chExt cx="2605320" cy="2643120"/>
          </a:xfrm>
        </p:grpSpPr>
        <p:sp>
          <p:nvSpPr>
            <p:cNvPr id="247" name="AutoShape 13"/>
            <p:cNvSpPr/>
            <p:nvPr/>
          </p:nvSpPr>
          <p:spPr>
            <a:xfrm rot="2651400">
              <a:off x="7083000" y="1203120"/>
              <a:ext cx="914400" cy="2797200"/>
            </a:xfrm>
            <a:prstGeom prst="downArrow">
              <a:avLst>
                <a:gd name="adj1" fmla="val 50000"/>
                <a:gd name="adj2" fmla="val 764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WordArt 14"/>
            <p:cNvSpPr txBox="1"/>
            <p:nvPr/>
          </p:nvSpPr>
          <p:spPr>
            <a:xfrm rot="18770400">
              <a:off x="6552720" y="2362320"/>
              <a:ext cx="21715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мысло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6720" y="3907800"/>
            <a:ext cx="3056760" cy="2276640"/>
            <a:chOff x="36720" y="3907800"/>
            <a:chExt cx="3056760" cy="2276640"/>
          </a:xfrm>
        </p:grpSpPr>
        <p:sp>
          <p:nvSpPr>
            <p:cNvPr id="250" name="AutoShape 15"/>
            <p:cNvSpPr/>
            <p:nvPr/>
          </p:nvSpPr>
          <p:spPr>
            <a:xfrm rot="14722800">
              <a:off x="955080" y="3644280"/>
              <a:ext cx="1219320" cy="2803680"/>
            </a:xfrm>
            <a:prstGeom prst="downArrow">
              <a:avLst>
                <a:gd name="adj1" fmla="val 50000"/>
                <a:gd name="adj2" fmla="val 5748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WordArt 16"/>
            <p:cNvSpPr txBox="1"/>
            <p:nvPr/>
          </p:nvSpPr>
          <p:spPr>
            <a:xfrm rot="20095800">
              <a:off x="307800" y="4855680"/>
              <a:ext cx="24638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равственно-этическо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0480" y="304920"/>
            <a:ext cx="7013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70311"/>
                </a:solidFill>
                <a:latin typeface="Corbel"/>
              </a:rPr>
              <a:t>Самоопределение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177336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57200" y="1959120"/>
            <a:ext cx="838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0311"/>
                </a:solidFill>
                <a:latin typeface="Arial"/>
                <a:ea typeface="Arial"/>
              </a:rPr>
              <a:t>Формирование основ гражданской идентичности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1. Формировать историко-географический образ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2.Знать о социально-политическом устройстве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3.Права и обязанности гражд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4.Знать о своей этнической 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5.Знать об общекультурном наследи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6.Быть толеран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343400" y="12952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1646280" y="133200"/>
            <a:ext cx="7656480" cy="1470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solidFill>
            <a:srgbClr val="9ee0f8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участие в школьном самоуправлении в пределах возрастных компетенций (дежурство в школе и классе, участие в детских общественных организациях, школьных и внешкольных мероприятиях просоциального характер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выполнение норм и требований школьной жизни, прав и обязанностей уче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выполнение моральных норм в отношении взрослых и сверстников в школе, дома, во внеучебных видах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участие в общественной жизни (благотворительные акции, ориентация в событиях в стране и мире, посещение культурных мероприятий – театров, музеев, библиотек, реализация установок здорового образа жизни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0480" y="533520"/>
            <a:ext cx="7013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70311"/>
                </a:solidFill>
                <a:latin typeface="Corbel"/>
              </a:rPr>
              <a:t>Критерии оцениван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Corbel"/>
              </a:rPr>
              <a:t>Самоопределение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оложительное отношение к школе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чувство необходимости учения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адекватное содержательное представление о школе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редпочтение классных коллективных занятий индивидуальным занятиям дома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редпочтение социального способа оценки своих знаний – отметки – дошкольным способам оценивания (сладости, подарки)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35:57Z</dcterms:created>
  <dc:creator>Валентина</dc:creator>
  <dc:description/>
  <dc:language>en-US</dc:language>
  <cp:lastModifiedBy>Лидия Карпичева</cp:lastModifiedBy>
  <dcterms:modified xsi:type="dcterms:W3CDTF">2018-07-30T14:43:46Z</dcterms:modified>
  <cp:revision>78</cp:revision>
  <dc:subject/>
  <dc:title>«Великая цель образования - это не знания, а действия».     Герберт Спенсер</dc:title>
</cp:coreProperties>
</file>