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955B-43FA-4318-99A1-10578DDFC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815F-7530-4EC7-9EDC-83F602AF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1433-D948-4FF9-9D38-B23260801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4411-4B22-42D1-B01A-9AF8F1DCC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86DC-B222-4BB9-BBA6-45996CDE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6BF5-8D2C-4694-BB7F-A1E681AF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0049-FDF1-4C3E-BF62-263EA591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EFF4-465D-48CC-9551-164A6537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D926-9BDE-4AD2-90AE-CF0448CF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3E60-5B17-4976-AE18-EA73D2BC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B653-E2C5-45C6-9E28-8E99B6D9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E0E-9096-4872-962F-CF4F35A6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C103-647A-41AA-980C-8CAB91FA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A7A17-1FDF-4127-852B-68EDFEE8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366B-37DE-4160-9BB1-3AE104D1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0E69-7804-46A3-AC23-BDF081745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06FA-B5F4-4D83-B59F-2459EDEF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4AC4-8092-4612-ABD4-8446ED56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D453-DDEB-4CB0-B098-3B3CA74C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24BC-FA68-4F18-ACBB-D8C3517C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036C-2279-4B7F-B45A-178D835B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F83B-F239-4DCA-AAD1-1254A96B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C7A5-1CFA-4B62-9681-8DA24A05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58E7-624B-4A9B-903D-4B2845D5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D276-5F07-46D6-BCC0-D6671AB555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1d4a4b54241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5E75-E132-4381-B66B-B4931A67EA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324000" y="418320"/>
            <a:ext cx="84247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Дидактическая игра </a:t>
            </a:r>
            <a:r>
              <a:rPr b="1" lang="ru-RU" sz="2400" spc="-1" strike="noStrike">
                <a:solidFill>
                  <a:srgbClr val="953735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Мой веселый звонкий мяч</a:t>
            </a:r>
            <a:r>
              <a:rPr b="1" lang="ru-RU" sz="2400" spc="-1" strike="noStrike">
                <a:solidFill>
                  <a:srgbClr val="953735"/>
                </a:solidFill>
                <a:latin typeface="Calibri"/>
                <a:ea typeface="Calibri"/>
              </a:rPr>
              <a:t>»</a:t>
            </a: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игры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олжать работу по формированию у дошкольников основ безопасности жизне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дактической материал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мяч, карточки с изображением различных ситу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овые правил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игре участвуют до 8 человек, каждый берет по очереди карточку и рассказывает о ситуации, изображенной на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2" descr="C:\Users\Skazka\Desktop\20180130_132142.jpg"/>
          <p:cNvPicPr/>
          <p:nvPr/>
        </p:nvPicPr>
        <p:blipFill>
          <a:blip r:embed="rId1"/>
          <a:srcRect l="30781" t="8426" r="5666" b="0"/>
          <a:stretch/>
        </p:blipFill>
        <p:spPr>
          <a:xfrm>
            <a:off x="900000" y="3645000"/>
            <a:ext cx="3527640" cy="252072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pic>
        <p:nvPicPr>
          <p:cNvPr id="85" name="Рисунок 3" descr="C:\Users\Skazka\Desktop\20180130_132215.jpg"/>
          <p:cNvPicPr/>
          <p:nvPr/>
        </p:nvPicPr>
        <p:blipFill>
          <a:blip r:embed="rId2"/>
          <a:srcRect l="28519" t="6775" r="12772" b="11723"/>
          <a:stretch/>
        </p:blipFill>
        <p:spPr>
          <a:xfrm>
            <a:off x="4643280" y="3645000"/>
            <a:ext cx="3745080" cy="252072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2:54:59Z</dcterms:created>
  <dc:creator>Helen</dc:creator>
  <dc:description/>
  <dc:language>en-US</dc:language>
  <cp:lastModifiedBy>Skazka</cp:lastModifiedBy>
  <dcterms:modified xsi:type="dcterms:W3CDTF">2018-01-30T05:50:36Z</dcterms:modified>
  <cp:revision>3</cp:revision>
  <dc:subject/>
  <dc:title>Слайд 1</dc:title>
</cp:coreProperties>
</file>