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6D39-586B-4520-9199-D5B55DA53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90C2-4F4E-45D1-8ED4-D6CF9D18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F432-1E11-44C1-89B2-081DA224B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664E-F503-4283-84A6-495AE877F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176E-BBF4-4086-A93C-3C1D9783B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F8C37-1733-4934-A24B-A9457DA0E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0012-A3D9-4C49-8A16-6BFD89A1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1D39-D155-4B86-86D1-8B53B36F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10B23-45B2-4FD8-96AE-C45CA350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DBF18-7DEA-4113-8164-6D69AA76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5B206-5A5C-40F1-8145-E0C2F234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CB35-8874-49FA-9AF9-63DFA51DB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3F6F3-A6EE-43E5-B693-9EC2CD19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30E7-DC57-462D-A829-4B352D76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98DA-088D-4A72-B80B-617C23438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994C-0608-4BD4-9486-D4608244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FF3D-D9B9-44F9-92E0-80E6BED3F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CCBA-EE26-4D69-8A95-427F0F88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E13A-562A-49F7-9665-F55ECC53E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422-2D29-4910-9397-B883DF26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1B3A-ABC1-46E3-B05F-548209BB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40A5-8EF0-4A8F-95D2-07834923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75D-94E2-4BB5-8B18-6C948978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BB86-6C6C-4D23-8D33-CF0C8CB2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27B4-B1F7-42E3-82EC-59357F3DD1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6" descr="1d4a4b54241e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554E-2A50-4C53-857E-1FD01D9E66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324000" y="418320"/>
            <a:ext cx="842472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Дидактическая игра </a:t>
            </a:r>
            <a:r>
              <a:rPr b="1" lang="ru-RU" sz="2400" spc="-1" strike="noStrike">
                <a:solidFill>
                  <a:srgbClr val="953735"/>
                </a:solidFill>
                <a:latin typeface="Calibri"/>
                <a:ea typeface="Calibri"/>
              </a:rPr>
              <a:t>«</a:t>
            </a: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Мой веселый звонкий мяч</a:t>
            </a:r>
            <a:r>
              <a:rPr b="1" lang="ru-RU" sz="2400" spc="-1" strike="noStrike">
                <a:solidFill>
                  <a:srgbClr val="953735"/>
                </a:solidFill>
                <a:latin typeface="Calibri"/>
                <a:ea typeface="Calibri"/>
              </a:rPr>
              <a:t>»</a:t>
            </a:r>
            <a:r>
              <a:rPr b="1" lang="ru-RU" sz="2400" spc="-1" strike="noStrike">
                <a:solidFill>
                  <a:srgbClr val="953735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Цель игры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должать работу по формированию у дошкольников основ безопасности жизне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Дидактической материал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 мяч, карточки с изображением различных ситу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гровые правила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 игре участвуют до 8 человек, каждый берет по очереди карточку и рассказывает о ситуации, изображенной на 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2" descr="C:\Users\Skazka\Desktop\20180130_132142.jpg"/>
          <p:cNvPicPr/>
          <p:nvPr/>
        </p:nvPicPr>
        <p:blipFill>
          <a:blip r:embed="rId1"/>
          <a:srcRect l="30781" t="8426" r="5666" b="0"/>
          <a:stretch/>
        </p:blipFill>
        <p:spPr>
          <a:xfrm>
            <a:off x="900000" y="3645000"/>
            <a:ext cx="3527640" cy="252072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  <p:pic>
        <p:nvPicPr>
          <p:cNvPr id="85" name="Рисунок 3" descr="C:\Users\Skazka\Desktop\20180130_132215.jpg"/>
          <p:cNvPicPr/>
          <p:nvPr/>
        </p:nvPicPr>
        <p:blipFill>
          <a:blip r:embed="rId2"/>
          <a:srcRect l="28519" t="6775" r="12772" b="11723"/>
          <a:stretch/>
        </p:blipFill>
        <p:spPr>
          <a:xfrm>
            <a:off x="4643280" y="3645000"/>
            <a:ext cx="3745080" cy="2520720"/>
          </a:xfrm>
          <a:prstGeom prst="rect">
            <a:avLst/>
          </a:prstGeom>
          <a:ln w="28440">
            <a:solidFill>
              <a:srgbClr val="00b0f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2:54:59Z</dcterms:created>
  <dc:creator>Helen</dc:creator>
  <dc:description/>
  <dc:language>en-US</dc:language>
  <cp:lastModifiedBy>Skazka</cp:lastModifiedBy>
  <dcterms:modified xsi:type="dcterms:W3CDTF">2018-01-30T05:50:36Z</dcterms:modified>
  <cp:revision>3</cp:revision>
  <dc:subject/>
  <dc:title>Слайд 1</dc:title>
</cp:coreProperties>
</file>