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media/image4.jpeg" ContentType="image/jpeg"/>
  <Override PartName="/ppt/media/image32.gif" ContentType="image/gif"/>
  <Override PartName="/ppt/media/image25.png" ContentType="image/png"/>
  <Override PartName="/ppt/media/image1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1785-AEC1-4EED-8123-3D4F29E60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C187-E40D-4C64-ACB0-7004A2A3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E004-0910-4CB4-9E8C-7E65BFE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8D21-0CD9-49FF-8734-11404F7EB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20005-D3B3-4265-A25F-E054EF8B7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4EEF8-EE33-4A82-B87F-3FD009B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6AD1B-9148-40E2-8995-21C05AE8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3A399-4581-43C4-95F9-A2695CC7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4945-A13F-40FC-B861-0E69BF13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3AAEB-9E8F-4E67-A540-790CF70C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95774-6801-4AFC-8FC2-648BCA40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B42A-9D57-498E-93C0-851AE70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1426A-6230-4050-B9FC-0AA4FC97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3486-8F48-49DE-B8E2-7D2459E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F6934-111F-4267-B4CC-1563C736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FF8D-6F65-452C-9A09-E4CBAE8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6E87C-2F01-46C5-A5E0-2431FF1CE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922B-0F8F-4D39-B4F2-7EA6D0E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15A0-79BD-4C27-8514-EF3A462E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F9FF-F5B3-4D12-B8C3-6B1A2EF1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0C93-B3E3-4943-86E9-D0B9DBC7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3DB7-4CD4-419C-8924-722A4523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8E57-5FD6-4FFF-8BE9-7959FF35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6549-D908-4870-85EB-312B62AE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EDEA7D-7636-476F-AE17-D59197A1A0F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EAB1ED-6DAB-45A8-BFF4-F5F3F4ABC6B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57160" y="928800"/>
            <a:ext cx="7601040" cy="26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льно-дидактическая игра – как средство развития музыкальных  способностей детей дошкольного возра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7760" y="4000680"/>
            <a:ext cx="47862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 МАДОУ детский сад №10 «Дубравушка»(корпус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кова Светлана Дмит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189000"/>
            <a:ext cx="8605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слухов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редставление о регистра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окий, средний, низк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из плотного карто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а на две части: слева изображен весёлый колобо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а вырезано окошко. С обратной стороны – заклее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ль вставляется полоска из картона в виде линей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ённой на четыре равные ч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из которой изображён тот или иной персон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(заяц, лиса, волк, медвед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а должна передвигаться, чтобы каждый раз в окошке появлялся один из персона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052640"/>
            <a:ext cx="309744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71760" y="4221000"/>
            <a:ext cx="3214440" cy="2289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929120" y="4149720"/>
            <a:ext cx="314316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5280" y="115920"/>
            <a:ext cx="85694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споминают сказку «Колобок», перечисляют всех героев,  которые встреч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ку на пути. Затем педагог исполняет в разной последовательности музыкальные пье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щие персонажи сказки.  Каждая  пьеса звучит в определённом регистр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яц» - высокий, «лиса» - средний, «волк» - низкий, «медведь» – очень низ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слушивания какой-либо пьесы дети отгадывают, кто  изображён в музы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о встретил колобок), и пользуясь пособием, устанавливает линейку с картинками 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ее положение, так что рядом с колобком оказывается тот персонаж, об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передан в му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исполняет все пьесы поочередно (в любой последовательности). Дети  по д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т задание: один с помощью пособия выбирает карточку, соответствующую то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жу, который изображен в музыке; другой движется под музыку, подражая действи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го персонажа. Остальные дети оценивают зад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о детей выходят и по очереди загадывают остальным загадки: «по секрету» сообщ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, кого  из  персонажей  сказки будут изображать, он исполняет соответствующ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у, а ребенок импровизирует движения своего персонажа. Остальные дети по жела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ют загадки: берут пособие и находят на линейке изображение персонажа, му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го только что прозву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ого встретил колобок?» Г. Левкодим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200" y="0"/>
            <a:ext cx="87156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узыкальные птенчики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закрепление знаний о высоте зв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ление понятия о высоких и низких звуках, развитие звуковысотного слуха, творчества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с изображением дерева, ветки которого расположены в виде нотоносца; птички – 5 шт.; набор шапочек для «птичек». Дерево и птички должны быть соразмерны, ветки – нотный стан, птички – н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Наступила весна, вернулись из тёплых краёв птицы, свили гнёзда и вывели птенчиков. Обрадовались птенцы, что научились летать, и стали с веточки на веточку порхать, песни петь. Педагог выбирает несколько детей, надевает на них шапочки птички-мамы и птенцов и даёт им в руки изображения пт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ют попев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тенчики весёлы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м мы ле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 веточки на веточ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весело порх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, изображающий маму, ставит птицу на нижнюю веточку и поёт импровизированную песенку низким голо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мочка волну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-ка, птенчик, вни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 я колыбельну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ы уснёшь, малыш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изображающие птенчиков, прикладывают птенчиков к веткам повыше и поют высокими голо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очу к тебе лете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здесь я песни пе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тся мама-птичка и птенчики. Дети-птенчики поют свою песенку и раскладывают изображения по верхним веткам, называя их по именам: птенчик Ре, птенчик Ми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87505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селые подружки»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развитие чувства ри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чувства ритм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ие фигурки из картона (5 шт.). Можно использовать варианты: все куклы одной величины, но раскрашены по-разному, или куклы разного размера (по типу матрёшек) в одежде с различными узорам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ки стоят на столе, одна за другой в колонне. Дети сидят полукругом или в шахматном порядке, лицом к столу. Звучит русская народная мелодия «Светит месяц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Познакомьтесь, ребята к нам в гости пришли весёл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жки: Дашенька, Глашенька, Сашенька, Иринушка, Маринушка. (Выставляет их в одну шеренгу.) Они очень любят плясать и хотят вас научить. Вот как умеет Дашень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берёт матрёшку и выстукивает деревянной подставкой ритмический рисунок. Дети повторяют ритм на деревянных ложках. Можно просто отхлопать ритм в ладоши. Ритмы так же можно демонстрировать дет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я их на фортепиа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57960" y="4857840"/>
            <a:ext cx="163044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260280"/>
            <a:ext cx="86421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ый паро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  тембрового сл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различать тембр различных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«Паровоз», детские музыкальные    инструменты,  карточки с изображением музыкальных инстру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показывает детям пособие, сообщает, что это не обычный, а     музыкальный паров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мотрите - парово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агончики пов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у него даль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поезд музыкаль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беседует с детьми о музыке, объясняя, что она может не только    передавать разные чувства, но и рассказывать с помощью выразительных  средств о том, что встречается в жизни. Детям исполняют две пьесы, в которых переданы характерные особенности звучания разных   музыкальных инст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5013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2081160" cy="144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96000" y="5589720"/>
            <a:ext cx="1331640" cy="50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68360" y="5300640"/>
            <a:ext cx="1943280" cy="1459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484360" y="5589720"/>
            <a:ext cx="151128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 гудит, поет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к нам вез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какие он везет, вам надо угадать. И в каждом вагончике свой инструмент. Звучит фонограмма музыкальной  пьесы, ребенок называет инструмент, который звучал и подходит к паровозу и открывает окошко первого вагончика.  Дети дают оценку выполнению задания,  исправляют не точности.  Затем  детям предлагается послушать следующую пьесу. Задание повторя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тям предлагается послушать знакомые музыкальные произведения, определить, какие инструменты звучат в этом музыкальном произведение. Выбрать  музыкальный инструмент, который  звучал в данном музыкальном произведении и под музыкальное сопровождение  с играть на н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лка» Римского-Корсакова, «Парень играет на гармошк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Свирид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206856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219640" y="4581360"/>
            <a:ext cx="160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091280" y="4159080"/>
            <a:ext cx="12970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189000"/>
            <a:ext cx="8713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цветная 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 на определение характера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представление о характере музыки, соответствую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му цве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изображением головы  гусеницы и  разноцвет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отиков»  гусениц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знакомятся с музыкальным произведением. Беседа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ю музыкального  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ле прослушивания  музыкальное произведение, 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 построить гусеницу  « животиками», цвета  которых соответствуют  характе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дагог предлагает  детям  изобразить в рисунке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го произведения, используя выбранную  им  цветовую гам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ые музыкальные произве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439640" cy="216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908000" y="522936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92360" y="5229360"/>
            <a:ext cx="1609920" cy="143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076720" y="5229360"/>
            <a:ext cx="1575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на развитие слухового восприятия и музыкального обра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запоминать и различать музыкальные    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а из картона с изображением терем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движной бумажной ленте сбоку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ёмка нарисованные сказочные персонаж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, медведь, волк, лягушка, зайка и карточки персона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казки по количеству детей, шапочки -  маски героев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 начинает сказ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ит в пол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ёмок- терем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е низок, не высок, не высо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ясь к ребёнку, просит послушать мелод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гадать, кто подбежит  к теремку и попросится в н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ти. Дети отвечают и мотивируют свои  отве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ой  об  этом музыкальном  отрывке и т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х  героях  сказ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32403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484360" y="5013360"/>
            <a:ext cx="1224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4653000"/>
            <a:ext cx="1228680" cy="144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59280" y="4724280"/>
            <a:ext cx="122400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380360" y="3789360"/>
            <a:ext cx="1190520" cy="158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3780000" y="3933720"/>
            <a:ext cx="1223640" cy="165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156360" y="5275440"/>
            <a:ext cx="1224000" cy="158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4000" y="3860640"/>
            <a:ext cx="1223640" cy="151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476280"/>
            <a:ext cx="8353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ЭТА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аждого прослушивания  дети  выполняют задание: с помощью пособия  выбирают  карточку, соответствующую тому персонажу,  который изображен в музыке объясняет свой выбор  и устанавливает картинку  перед   домиком, образ которого передан в музы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ЕТЬЕ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ребенка имеется карточка с героем, после прослушивания пьесы   каждого героя, дети самостоятельно поднимают соответствующую карточку,  объясняя свой выб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 предложить изобразить  повадки своего персона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дети оценивают выполне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епертуар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ьесы:  « Медведь» «Лиса», «Мышка», «Зайчик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к», «Лягушка», «Петушок» Г. Левкодим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660000">
            <a:off x="-220320" y="4368960"/>
            <a:ext cx="6140520" cy="2395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85880" y="1071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удачи в рабо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5840" y="907920"/>
            <a:ext cx="821520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ая иг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форм обучающего воздействия взрослого на ребенка. В то же время игра - основной вид деятельности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идактическая игра име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це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них обучающая, которую преследует взрослый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- игровая, ради которой действует ребе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2920" y="642960"/>
            <a:ext cx="875016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е назначение музыкально-дидактических игр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4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музыкальные способ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упной игровой форме помочь им разобраться в соотношении звуков по высо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у них чувство ритма, тембровый и динамический слу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ть к самостоятельным действиям с применением знаний, полученных на музыкальных зан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840" y="714240"/>
            <a:ext cx="8429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ие игры должны быть просты и доступны, интересны и привлекате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игр дети не только приобретают специальные музыкальные знания, у них формируются необходимые черты личности, и в первую очередь чувство товарищества, ответств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541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ие игры должны быть интересно и красочно оформленными. Например, карточки с изображением музыкальных образов — яркими, художественными, точно соответствовать содержанию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54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200" y="142920"/>
            <a:ext cx="86788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О-ДИДАКТИЧЕСКИЕ ИГ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менение музыкально-дидактических игр на занятии дает возможность провести его наиболее содерж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игре дети быстрее усваивают требования программы по развитию певческих и музыкально - ритмических движений и даже в области слушания музыки. В доступной игровой форме у детей развиваются музыкальные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идактические игры на музыкальных занятиях мы начинаем проводить с первой младшей группы. Эти игры большей частью связаны с применением образных пособ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группах старшего дошкольного возраста основным материалом дидактических игр становятся музыкальные игрушки и инструменты, настолько печатные игры, а также используются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о-дидактические иг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ветик-семицветик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развитие памяти и музыкального слуха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го слуха и музыкальной памят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цветок, состоящий из семи лепестков разного цвета, которые вставляются в прорезь в середине цветка. На обратной стороне лепестка – рисунки к сюжетам произведений, с которыми дети знакомились на занят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Кавалерийская» Д.Б. Кабал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Клоуны» Д.Б. Кабале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Болезнь куклы» П.И. Чайко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Шествие гномов» Э. Гр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Дед Мороз» Р. Шуман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идят полук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 садовник (педагог) и приносит детям необыкновенный цветок. Вызванный ребёнок вынимает из середины любой лепесток, поворачивает его и отгадывает к какому произведению данная иллюстрация. Если произведение известно ему, то ребёнок должен назвать его и имя композитора. Музыкальный руководитель исполняет произведение или включает зап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активно участвуют в определении характера, темпа, жанра произ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43120"/>
                <a:tab algn="l" pos="1757520"/>
                <a:tab algn="l" pos="2671920"/>
                <a:tab algn="l" pos="3586320"/>
                <a:tab algn="l" pos="4500720"/>
                <a:tab algn="l" pos="5415120"/>
                <a:tab algn="l" pos="6329520"/>
                <a:tab algn="l" pos="7243920"/>
                <a:tab algn="l" pos="8158320"/>
                <a:tab algn="l" pos="9072720"/>
                <a:tab algn="l" pos="998712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29160" y="2500200"/>
            <a:ext cx="269100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200" y="0"/>
            <a:ext cx="8713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ри цветка»</a:t>
            </a:r>
            <a:br>
              <a:rPr sz="24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еская игра на определение характера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репление понятия о характере музыки; формирование эмоциональной отзывч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цветка из картона ( в середине цветка нарисовано "лицо" - спящее, плачущее, или весёлое), изображающих три типа характера музы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я, ласковая, убаюкивающая (колыбельн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стная, жалоб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ёлая, радостная, плясовая, задор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изготовить не цветы, а три солнышка, три тучки, три звёздочк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. Педагог исполняет произведение. Вызванный ребёнок бер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, соответствующий характеру музыки, и показывает его. Все де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участвуют в определении характера музыки. Если произведение извес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, то вызванный ребёнок говорит его название и имя компози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. Перед каждым ребёнком лежит один из трёх цветков. Педагог исполняет произведение, и дети, чьи цветы соответствуют характеру музыки, поднимают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00920" y="1643040"/>
            <a:ext cx="184464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5840" y="0"/>
            <a:ext cx="8300880" cy="62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лнышко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игра на определение высоты зву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ысотного слуха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овой матер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картина ( фланелеграф ), изображающая поляну с нотным станом. Нотки-солнышки для фланелеграфа – 8 шт. Размер солнышка соотносится с нотным ста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: Жило-было солнышко. Встало утром рано, потянулось и запело свою песен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апевает произвольно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солнышко лучист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-очень чисто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я умыв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лужицах куп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овори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детки засмеяли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инейкам разбеж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ите их соб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именам наз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шла маленькое солнышко ( ставит нотку-солнышко на первую линейку ), вот оно на первой линейке, а зовут его «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вместе с педагогом пропевают звук. На каждом занятии количество использованных нот-солнышек может быть различным, в зависимости от поставлен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86280" y="2714760"/>
            <a:ext cx="2484720" cy="257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Света</cp:lastModifiedBy>
  <dcterms:modified xsi:type="dcterms:W3CDTF">2015-04-16T07:31:50Z</dcterms:modified>
  <cp:revision>171</cp:revision>
  <dc:subject/>
  <dc:title>Слайд 1</dc:title>
</cp:coreProperties>
</file>