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media/image4.jpeg" ContentType="image/jpeg"/>
  <Override PartName="/ppt/media/image32.gif" ContentType="image/gif"/>
  <Override PartName="/ppt/media/image25.png" ContentType="image/png"/>
  <Override PartName="/ppt/media/image1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226D-F772-456C-A9DB-0029E38FD0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E59F-4ECE-4CC0-A46F-80761330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F2C2-256C-46BD-8E23-E97C077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493A-BCFC-4B33-8DAC-764474B789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FC23B-756D-4950-8592-2D09A7652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70350-6D71-47BD-AD28-D5AA1841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F68CB-1047-414C-80ED-19A2144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6DC48-8125-4EF3-9FE0-97E4BA1E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00A5F-1AC3-4F87-8217-F4A5049D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25480-9F7D-4794-9C7B-479A5ACF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B2ADB-A2BF-4823-B97D-545EDAC7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2D3B-7D70-462C-AB5C-6EEF9C37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F4E97-2D63-4301-A1FF-0C3A0ED6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DB4F8-7BEF-4B17-9883-A6C3E9FD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E7219-F5D3-4892-ABDD-78807FBA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26BE7-9A9B-4D48-BA84-9BBB4FF1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FA942-67A3-4A34-A971-62527EFE80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5D5E-D558-4BFA-A822-728EFE5F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2DD8-3EF3-4D63-BE82-814BAC62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BE03-021D-462E-AE02-BABCB317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C64B-DFE4-40A1-9FC1-B7D2AEFD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C7BE5-21F4-44B2-8DE2-29205751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D70D-EC24-4BEC-9D07-93D302F6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8C3E-8FAF-4B5E-AFAF-7DCA6395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34E749-F71E-45D1-A583-6FA6B7EF62D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214A9E-93C4-4A25-BF99-7D8A473C2CF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57160" y="928800"/>
            <a:ext cx="760104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зыкально-дидактическая игра – как средство развития музыкальных  способностей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7760" y="4000680"/>
            <a:ext cx="47862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 МАДОУ детский сад №10 «Дубравушка»(корпус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кова Светлана Дмитр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1720800" cy="17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189000"/>
            <a:ext cx="8605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развитие слухов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представление о регистра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сокий, средний, низк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из плотного карто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а на две части: слева изображен весёлый колобо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а вырезано окошко. С обратной стороны – заклее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ель вставляется полоска из картона в виде линей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ённой на четыре равные ч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й из которой изображён тот или иной персон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(заяц, лиса, волк, медвед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а должна передвигаться, чтобы каждый раз в окошке появлялся один из персона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052640"/>
            <a:ext cx="309744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71760" y="4221000"/>
            <a:ext cx="3214440" cy="2289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929120" y="4149720"/>
            <a:ext cx="3143160" cy="23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15920"/>
            <a:ext cx="85694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пр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ЭТАП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споминают сказку «Колобок», перечисляют всех героев,  которые встреч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ку на пути. Затем педагог исполняет в разной последовательности музыкальные пье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ие персонажи сказки.  Каждая  пьеса звучит в определённом регистр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яц» - высокий, «лиса» - средний, «волк» - низкий, «медведь» – очень низ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слушивания какой-либо пьесы дети отгадывают, кто  изображён в музы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о встретил колобок), и пользуясь пособием, устанавливает линейку с картинками 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ее положение, так что рядом с колобком оказывается тот персонаж, об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передан в музы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исполняет все пьесы поочередно (в любой последовательности). Дети  по д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т задание: один с помощью пособия выбирает карточку, соответствующую т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жу, который изображен в музыке; другой движется под музыку, подражая действи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го персонажа. Остальные дети оценивают зад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о детей выходят и по очереди загадывают остальным загадки: «по секрету» сообщ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у, кого  из  персонажей  сказки будут изображать, он исполняет соответствующ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су, а ребенок импровизирует движения своего персонажа. Остальные дети по жела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вают загадки: берут пособие и находят на линейке изображение персонажа, му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только что прозвуч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епертуар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ого встретил колобок?» Г. Левкодим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200" y="0"/>
            <a:ext cx="87156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узыкальные птенчики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на закрепление знаний о высоте зв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репление понятия о высоких и низких звуках, развитие звуковысотного слуха, творчества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с изображением дерева, ветки которого расположены в виде нотоносца; птички – 5 шт.; набор шапочек для «птичек». Дерево и птички должны быть соразмерны, ветки – нотный стан, птички – н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Наступила весна, вернулись из тёплых краёв птицы, свили гнёзда и вывели птенчиков. Обрадовались птенцы, что научились летать, и стали с веточки на веточку порхать, песни петь. Педагог выбирает несколько детей, надевает на них шапочки птички-мамы и птенцов и даёт им в руки изображения пт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ют попев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тенчики весёлы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м мы ле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веточки на веточ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весело порх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, изображающий маму, ставит птицу на нижнюю веточку и поёт импровизированную песенку низким голо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мочка волну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-ка, птенчик, вни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ю я колыбельну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ы уснёшь, малыш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изображающие птенчиков, прикладывают птенчиков к веткам повыше и поют высокими голо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чу к тебе лете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здесь я песни пе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.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тся мама-птичка и птенчики. Дети-птенчики поют свою песенку и раскладывают изображения по верхним веткам, называя их по именам: птенчик Ре, птенчик Ми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87505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селые подружки»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на развитие чувства ри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ритма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ие фигурки из картона (5 шт.). Можно использовать варианты: все куклы одной величины, но раскрашены по-разному, или куклы разного размера (по типу матрёшек) в одежде с различными узорам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ки стоят на столе, одна за другой в колонне. Дети сидят полукругом или в шахматном порядке, лицом к столу. Звучит русская народная мелодия «Светит месяц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Познакомьтесь, ребята к нам в гости пришли весёл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ужки: Дашенька, Глашенька, Сашенька, Иринушка, Маринушка. (Выставляет их в одну шеренгу.) Они очень любят плясать и хотят вас научить. Вот как умеет Дашень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берёт матрёшку и выстукивает деревянной подставкой ритмический рисунок. Дети повторяют ритм на деревянных ложках. Можно просто отхлопать ритм в ладоши. Ритмы так же можно демонстрировать детя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яя их на фортепиа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57960" y="4857840"/>
            <a:ext cx="163044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260280"/>
            <a:ext cx="86421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ый паро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развитие   тембрового сл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различать тембр различных 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«Паровоз», детские музыкальные    инструменты,  карточки с изображением 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пр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ЭТА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показывает детям пособие, сообщает, что это не обычный, а     музыкальный парово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мотрите - парово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агончики пов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у него даль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поезд музыкаль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беседует с детьми о музыке, объясняя, что она может не только    передавать разные чувства, но и рассказывать с помощью выразительных  средств о том, что встречается в жизни. Детям исполняют две пьесы, в которых переданы характерные особенности звучания разных   музыкальных инст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16720" y="501336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356000" y="5300640"/>
            <a:ext cx="2081160" cy="144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896000" y="5589720"/>
            <a:ext cx="1331640" cy="503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68360" y="5300640"/>
            <a:ext cx="1943280" cy="1459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484360" y="5589720"/>
            <a:ext cx="151128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оз гудит, поет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к нам вез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какие он везет, вам надо угадать. И в каждом вагончике свой инструмент. Звучит фонограмма музыкальной  пьесы, ребенок называет инструмент, который звучал и подходит к паровозу и открывает окошко первого вагончика.  Дети дают оценку выполнению задания,  исправляют не точности.  Затем  детям предлагается послушать следующую пьесу. Задание повторя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тям предлагается послушать знакомые музыкальные произведения, определить, какие инструменты звучат в этом музыкальном произведение. Выбрать  музыкальный инструмент, который  звучал в данном музыкальном произведении и под музыкальное сопровождение  с играть на н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епертуар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лка» Римского-Корсакова, «Парень играет на гармошк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Свирид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2068560" cy="720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219640" y="4581360"/>
            <a:ext cx="160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091280" y="4159080"/>
            <a:ext cx="1297080" cy="18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189000"/>
            <a:ext cx="8713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ноцветная гус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 на определение характера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представление о характере музыки, соответствую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ому цв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изображением головы  гусеницы и  разноцвет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отиков»  гусениц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пр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ЭТАПЕ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знакомятся с музыкальным произведением. Беседа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ю музыкального   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ле прослушивания  музыкальное произведение, педаг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 построить гусеницу  « животиками», цвета  которых соответствуют  характе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дагог предлагает  детям  изобразить в рисунке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го произведения, используя выбранную  им  цветовую гам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епертуар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ые музыкальные произве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439640" cy="216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908000" y="522936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492360" y="5229360"/>
            <a:ext cx="1609920" cy="143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076720" y="5229360"/>
            <a:ext cx="1575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е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развитие слухового восприятия и музыкального обра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запоминать и различать музыкальные     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а из картона с изображением терем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движной бумажной ленте сбоку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ёмка нарисованные сказочные персонаж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, медведь, волк, лягушка, зайка и карточки персона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казки по количеству детей, шапочки -  маски героев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пр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ЭТА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 начинает сказк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оит в пол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ёмок- терем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 низок, не высок, не высо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ясь к ребёнку, просит послушать мелод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гадать, кто подбежит  к теремку и попросится в н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ти. Дети отвечают и мотивируют свои  отв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ой  об  этом музыкальном  отрывке и т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х  героях  сказ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32403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84360" y="5013360"/>
            <a:ext cx="1224000" cy="158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32000" y="4653000"/>
            <a:ext cx="1228680" cy="1441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859280" y="4724280"/>
            <a:ext cx="1224000" cy="151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80360" y="3789360"/>
            <a:ext cx="1190520" cy="158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780000" y="3933720"/>
            <a:ext cx="1223640" cy="165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156360" y="5275440"/>
            <a:ext cx="1224000" cy="158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4000" y="3860640"/>
            <a:ext cx="1223640" cy="151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476280"/>
            <a:ext cx="8353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аждого прослушивания  дети  выполняют задание: с помощью пособия  выбирают  карточку, соответствующую тому персонажу,  который изображен в музыке объясняет свой выбор  и устанавливает картинку  перед   домиком, образ которого передан в музы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ребенка имеется карточка с героем, после прослушивания пьесы   каждого героя, дети самостоятельно поднимают соответствующую карточку,  объясняя свой выбо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 предложить изобразить  повадки своего персона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дети оценивают выполнение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епертуар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сы:  « Медведь» «Лиса», «Мышка», «Зайчик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к», «Лягушка», «Петушок» Г. Левкодим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660000">
            <a:off x="-220320" y="4368960"/>
            <a:ext cx="6140520" cy="2395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85880" y="10717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удачи в рабо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5840" y="907920"/>
            <a:ext cx="82152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ая игр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форм обучающего воздействия взрослого на ребенка. В то же время игра - основной вид деятельности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дидактическая игра име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це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них обучающая, которую преследует взрослый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- игровая, ради которой действует ребен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2920" y="642960"/>
            <a:ext cx="875016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е назначение музыкально-дидактических игр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4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музыкальные способ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ступной игровой форме помочь им разобраться в соотношении звуков по высо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у них чувство ритма, тембровый и динамический слу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к самостоятельным действиям с применением знаний, полученных на музыкальных занят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5840" y="714240"/>
            <a:ext cx="8429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-дидактические игры должны быть просты и доступны, интересны и привлекатель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игр дети не только приобретают специальные музыкальные знания, у них формируются необходимые черты личности, и в первую очередь чувство товарищества, ответств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-дидактические игры должны быть интересно и красочно оформленными. Например, карточки с изображением музыкальных образов — яркими, художественными, точно соответствовать содержанию иг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54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200" y="142920"/>
            <a:ext cx="86788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О-ДИДАКТИЧЕСКИЕ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менение музыкально-дидактических игр на занятии дает возможность провести его наиболее содерж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игре дети быстрее усваивают требования программы по развитию певческих и музыкально - ритмических движений и даже в области слушания музыки. В доступной игровой форме у детей развиваются музыкальные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дактические игры на музыкальных занятиях мы начинаем проводить с первой младшей группы. Эти игры большей частью связаны с применением образных пособ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группах старшего дошкольного возраста основным материалом дидактических игр становятся музыкальные игрушки и инструменты, настолько печатные игры, а также используются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о-дидактические иг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89000"/>
            <a:ext cx="867888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ветик-семицветик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на развитие памяти и музыкального слуха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узыкального слуха и музыкальной памят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цветок, состоящий из семи лепестков разного цвета, которые вставляются в прорезь в середине цветка. На обратной стороне лепестка – рисунки к сюжетам произведений, с которыми дети знакомились на занят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Кавалерийская» Д.Б. Кабале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Клоуны» Д.Б. Кабале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Болезнь куклы» П.И. Чайко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Шествие гномов» Э. Гр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Дед Мороз» Р. Шуман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идят полук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 садовник (педагог) и приносит детям необыкновенный цветок. Вызванный ребёнок вынимает из середины любой лепесток, поворачивает его и отгадывает к какому произведению данная иллюстрация. Если произведение известно ему, то ребёнок должен назвать его и имя композитора. Музыкальный руководитель исполняет произведение или включает зап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ти активно участвуют в определении характера, темпа, жанра 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29160" y="2500200"/>
            <a:ext cx="269100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0200" y="0"/>
            <a:ext cx="8713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ри цветка»</a:t>
            </a:r>
            <a:br>
              <a:rPr sz="24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дактическая игра на определение характера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репление понятия о характере музыки; формирование эмоциональной отзывчив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цветка из картона ( в середине цветка нарисовано "лицо" - спящее, плачущее, или весёлое), изображающих три типа характера музы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я, ласковая, убаюкивающая (колыбельна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ая, жалобн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ёлая, радостная, плясовая, задор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изготовить не цветы, а три солнышка, три тучки, три звёздочк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. Педагог исполняет произведение. Вызванный ребёнок бер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, соответствующий характеру музыки, и показывает его. Все де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аствуют в определении характера музыки. Если произведение извес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, то вызванный ребёнок говорит его название и имя компози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. Перед каждым ребёнком лежит один из трёх цветков. Педагог исполняет произведение, и дети, чьи цветы соответствуют характеру музыки, поднимают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00920" y="1643040"/>
            <a:ext cx="184464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5840" y="0"/>
            <a:ext cx="8300880" cy="62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олнышко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на определение высоты зву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вуковысотного слуха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картина ( фланелеграф ), изображающая поляну с нотным станом. Нотки-солнышки для фланелеграфа – 8 шт. Размер солнышка соотносится с нотным ста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Жило-было солнышко. Встало утром рано, потянулось и запело свою песен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апевает произвольно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солнышко лучист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-очень чисто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я умыв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лужицах куп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Говори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детки засмеяли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инейкам разбеж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их собр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именам наз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шла маленькое солнышко ( ставит нотку-солнышко на первую линейку ), вот оно на первой линейке, а зовут его «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месте с педагогом пропевают звук. На каждом занятии количество использованных нот-солнышек может быть различным, в зависимости от поставлен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86280" y="2714760"/>
            <a:ext cx="2484720" cy="257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Света</cp:lastModifiedBy>
  <dcterms:modified xsi:type="dcterms:W3CDTF">2015-04-16T07:31:50Z</dcterms:modified>
  <cp:revision>171</cp:revision>
  <dc:subject/>
  <dc:title>Слайд 1</dc:title>
</cp:coreProperties>
</file>