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10.jpeg" ContentType="image/jpeg"/>
  <Override PartName="/ppt/media/image11.wmf" ContentType="image/x-wmf"/>
  <Override PartName="/ppt/media/image17.jpeg" ContentType="image/jpeg"/>
  <Override PartName="/ppt/media/image12.wmf" ContentType="image/x-wmf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7.wmf" ContentType="image/x-wmf"/>
  <Override PartName="/ppt/media/image20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9D24-0F9B-4F2D-9C1A-85F5B3DEE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8F1E-4669-48FB-B915-76FD69BE9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21B0-2023-43AF-942A-AC7C7E0F7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327E-C9C3-47B4-B673-C48AB3C10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BB954-5DF7-48D0-B188-A2EB5B3C3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6D400-26F1-4749-AEFD-4A77979F1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72700-02CC-40C2-AF7E-EA577EA7C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09E50-C94D-4F79-A982-9F15038FC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89DBA-CDAD-48EA-BB62-7BD969D0A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207F3-4DBD-4CB2-B392-F4E4FDB6F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D56AC-8E00-47A0-857C-B96AAB7FB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FF35-F774-4AD3-94E1-74F37C133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C8AA9-34B9-440B-8201-8B3DCB4AE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4C3E0-1DAB-4F2D-AE54-5FC77FDA1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1F359-4DDF-4AE9-A608-A7B270AA3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CFEA7-B14A-4DA9-9FFD-6EA661F66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0746E-E20C-4052-9528-B029ECC2D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E018-4481-439F-9E02-AC088BB39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FB06-C703-4045-BB31-BB33AE2E8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9322-C14C-4057-89FD-4D5B69F4B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AAE0-C7B8-43FB-8355-F9DF9574C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C6C5-93A9-4714-A7A9-9D67EE77C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70D7-8CFE-478E-871D-988D1861D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9327-16E9-42B9-8A2D-5CBF47C1E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90820-7A74-4654-B5C3-36A975A7E7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733E5-6EB9-427C-AFD1-66E02C5FE4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hqwalls.com.ua/food_017_fruit-vegetables_10.html" TargetMode="External"/><Relationship Id="rId2" Type="http://schemas.openxmlformats.org/officeDocument/2006/relationships/hyperlink" Target="http://vk-info.ru/na_zametku/print:page,1,1419-kak-nabratsja-vitaminov-i-ne-poterjat-zdorove.html" TargetMode="External"/><Relationship Id="rId3" Type="http://schemas.openxmlformats.org/officeDocument/2006/relationships/hyperlink" Target="http://vrussia.ucoz.ru/board/novoe_vremjaquot/1" TargetMode="External"/><Relationship Id="rId4" Type="http://schemas.openxmlformats.org/officeDocument/2006/relationships/hyperlink" Target="http://www.dvarulona.ru/yomi/2662/" TargetMode="External"/><Relationship Id="rId5" Type="http://schemas.openxmlformats.org/officeDocument/2006/relationships/hyperlink" Target="http://subscribe.ru/group/deti-nashe-schaste/?page=3" TargetMode="External"/><Relationship Id="rId6" Type="http://schemas.openxmlformats.org/officeDocument/2006/relationships/hyperlink" Target="http://foodretail.ru/blog?move=&amp;p=27" TargetMode="External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jpeg"/><Relationship Id="rId3" Type="http://schemas.openxmlformats.org/officeDocument/2006/relationships/image" Target="../media/image9.wmf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5486400" y="5624640"/>
            <a:ext cx="3657600" cy="12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Автор: Пахомова Н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Предмет: Ознакомление с окружающим мир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Возраст детей: 6 л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228600" y="457200"/>
            <a:ext cx="838188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Фрукты и овощи</a:t>
            </a:r>
            <a:endParaRPr b="1" i="1" lang="en-US" sz="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</p:spTree>
  </p:cSld>
  <p:transition spd="med"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685800" y="685800"/>
            <a:ext cx="84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Загадки про овощ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43600" y="1828800"/>
            <a:ext cx="30481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00"/>
                </a:solidFill>
                <a:latin typeface="Arial"/>
              </a:rPr>
              <a:t>Золотистый и полезный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00"/>
                </a:solidFill>
                <a:latin typeface="Arial"/>
              </a:rPr>
              <a:t>Витаминный, хотя резкий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00"/>
                </a:solidFill>
                <a:latin typeface="Arial"/>
              </a:rPr>
              <a:t>Горький вкус имеет он…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00"/>
                </a:solidFill>
                <a:latin typeface="Arial"/>
              </a:rPr>
              <a:t>Обжигает… Не лимон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00"/>
                </a:solidFill>
                <a:latin typeface="Arial"/>
              </a:rPr>
              <a:t>(Лук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04920" y="3124080"/>
            <a:ext cx="29718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99cc00"/>
                </a:solidFill>
                <a:latin typeface="Arial"/>
              </a:rPr>
              <a:t>Как на грядке под листок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99cc00"/>
                </a:solidFill>
                <a:latin typeface="Arial"/>
              </a:rPr>
              <a:t>Закатился чурбачок -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99cc00"/>
                </a:solidFill>
                <a:latin typeface="Arial"/>
              </a:rPr>
              <a:t>Зеленец удаленький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99cc00"/>
                </a:solidFill>
                <a:latin typeface="Arial"/>
              </a:rPr>
              <a:t>Вкусный овощ маленьки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99cc00"/>
                </a:solidFill>
                <a:latin typeface="Arial"/>
              </a:rPr>
              <a:t>(Огурец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276720" y="5029200"/>
            <a:ext cx="28954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ff00"/>
                </a:solidFill>
                <a:latin typeface="Arial"/>
              </a:rPr>
              <a:t>Зелёная толстух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ff00"/>
                </a:solidFill>
                <a:latin typeface="Arial"/>
              </a:rPr>
              <a:t>Надела уйму юбок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ff00"/>
                </a:solidFill>
                <a:latin typeface="Arial"/>
              </a:rPr>
              <a:t>Стоит как балерина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ff00"/>
                </a:solidFill>
                <a:latin typeface="Arial"/>
              </a:rPr>
              <a:t>Из листьев пелерин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ff00"/>
                </a:solidFill>
                <a:latin typeface="Arial"/>
              </a:rPr>
              <a:t>(Капуст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19920" y="4800600"/>
            <a:ext cx="29718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Arial"/>
              </a:rPr>
              <a:t>Красный, детки, но не мак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Arial"/>
              </a:rPr>
              <a:t>В огороде - не бурак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Arial"/>
              </a:rPr>
              <a:t>Сочный лакомый синьор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Arial"/>
              </a:rPr>
              <a:t>Угадали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1600" spc="-1" strike="noStrike">
                <a:solidFill>
                  <a:srgbClr val="ff0000"/>
                </a:solidFill>
                <a:latin typeface="Arial"/>
              </a:rPr>
              <a:t>(Помидор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1752480"/>
            <a:ext cx="31240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9966"/>
                </a:solidFill>
                <a:latin typeface="Arial"/>
              </a:rPr>
              <a:t>В огороде - жёлтый мяч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9966"/>
                </a:solidFill>
                <a:latin typeface="Arial"/>
              </a:rPr>
              <a:t>Только не бежит он вскачь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9966"/>
                </a:solidFill>
                <a:latin typeface="Arial"/>
              </a:rPr>
              <a:t>Он как полная лун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9966"/>
                </a:solidFill>
                <a:latin typeface="Arial"/>
              </a:rPr>
              <a:t>Вкусные в нём семен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9966"/>
                </a:solidFill>
                <a:latin typeface="Arial"/>
              </a:rPr>
              <a:t>(Тыкв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04920" y="4648320"/>
            <a:ext cx="32004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00"/>
                </a:solidFill>
                <a:latin typeface="Arial"/>
              </a:rPr>
              <a:t>У извилистой дорожк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00"/>
                </a:solidFill>
                <a:latin typeface="Arial"/>
              </a:rPr>
              <a:t>Растёт солнышко на ножк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00"/>
                </a:solidFill>
                <a:latin typeface="Arial"/>
              </a:rPr>
              <a:t>Как дозреет солнышко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00"/>
                </a:solidFill>
                <a:latin typeface="Arial"/>
              </a:rPr>
              <a:t>Будет горстка зёрнышек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00"/>
                </a:solidFill>
                <a:latin typeface="Arial"/>
              </a:rPr>
              <a:t>(Подсолнух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172200" y="3352680"/>
            <a:ext cx="28195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ff00"/>
                </a:solidFill>
                <a:latin typeface="Arial"/>
              </a:rPr>
              <a:t>В зелёной палатк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ff00"/>
                </a:solidFill>
                <a:latin typeface="Arial"/>
              </a:rPr>
              <a:t>Колобки спят сладко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ff00"/>
                </a:solidFill>
                <a:latin typeface="Arial"/>
              </a:rPr>
              <a:t>Много круглых крошек!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ff00"/>
                </a:solidFill>
                <a:latin typeface="Arial"/>
              </a:rPr>
              <a:t>Что это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i="1" lang="en-US" sz="1600" spc="-1" strike="noStrike">
                <a:solidFill>
                  <a:srgbClr val="00ff00"/>
                </a:solidFill>
                <a:latin typeface="Arial"/>
              </a:rPr>
              <a:t>(Горошек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352680" y="1828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cc33"/>
                </a:solidFill>
                <a:latin typeface="Arial"/>
              </a:rPr>
              <a:t>Это вовсе не игрушка -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cc33"/>
                </a:solidFill>
                <a:latin typeface="Arial"/>
              </a:rPr>
              <a:t>Ароматная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i="1" lang="en-US" sz="1600" spc="-1" strike="noStrike">
                <a:solidFill>
                  <a:srgbClr val="33cc33"/>
                </a:solidFill>
                <a:latin typeface="Arial"/>
              </a:rPr>
              <a:t>(Петрушк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352680" y="3809880"/>
            <a:ext cx="29718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cc00ff"/>
                </a:solidFill>
                <a:latin typeface="Arial"/>
              </a:rPr>
              <a:t>Хоть чернил он не видал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cc00ff"/>
                </a:solidFill>
                <a:latin typeface="Arial"/>
              </a:rPr>
              <a:t>Фиолетовым вдруг стал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cc00ff"/>
                </a:solidFill>
                <a:latin typeface="Arial"/>
              </a:rPr>
              <a:t>Любят овощ Ваня, Жан..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cc00ff"/>
                </a:solidFill>
                <a:latin typeface="Arial"/>
              </a:rPr>
              <a:t>Так ведь это..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cc00ff"/>
                </a:solidFill>
                <a:latin typeface="Arial"/>
              </a:rPr>
              <a:t>(Баклажан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0400" y="2590920"/>
            <a:ext cx="32004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9966"/>
                </a:solidFill>
                <a:latin typeface="Arial"/>
              </a:rPr>
              <a:t>Что это за рысачок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9966"/>
                </a:solidFill>
                <a:latin typeface="Arial"/>
              </a:rPr>
              <a:t>Завалился на бочок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9966"/>
                </a:solidFill>
                <a:latin typeface="Arial"/>
              </a:rPr>
              <a:t>Сам упитанный, салатны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9966"/>
                </a:solidFill>
                <a:latin typeface="Arial"/>
              </a:rPr>
              <a:t>Верно, детки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9966"/>
                </a:solidFill>
                <a:latin typeface="Arial"/>
              </a:rPr>
              <a:t> </a:t>
            </a:r>
            <a:r>
              <a:rPr b="1" i="1" lang="en-US" sz="1600" spc="-1" strike="noStrike">
                <a:solidFill>
                  <a:srgbClr val="ff9966"/>
                </a:solidFill>
                <a:latin typeface="Arial"/>
              </a:rPr>
              <a:t>(Кабачок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vert"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2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5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8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1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6" dur="20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1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4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7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0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5" dur="20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0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3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6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9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4" dur="20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9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2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7" dur="20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2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5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8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1" dur="5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6" dur="20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1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4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7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0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75" dur="20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0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3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6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9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94" dur="2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9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2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5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8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13" dur="20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8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1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4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7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2" dur="20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7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0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3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6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51" dur="20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План: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380880" y="1752480"/>
          <a:ext cx="8305920" cy="4267440"/>
        </p:xfrm>
        <a:graphic>
          <a:graphicData uri="http://schemas.openxmlformats.org/drawingml/2006/table">
            <a:tbl>
              <a:tblPr/>
              <a:tblGrid>
                <a:gridCol w="2057400"/>
                <a:gridCol w="6248520"/>
              </a:tblGrid>
              <a:tr h="35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тапы провед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роприят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этап – сообщение темы и целей проек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етям сообщается тема проекта и цели. На начальном этапе  были прочитаны художественные произведения «Репка»(р.н.с.), В.Тувим  «Овощи»,играли в х/и « Репка»,п/и « Огородная», д/и  « Вершки-корешки», «Что где растет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этап – разработка проек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ля обсуждения поставленной цели определены мероприятия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14440" indent="-514440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еседа о фруктах и овощах; занятие «Не хочу быть Неболейкой»; загадывание и составление загадок о фруктах и овощах; рассматривание картины «Сад и огород»; драматизация стихотворения В.Тувим «Овощи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этап – практическая рабо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исование «Фрукты и овощи». Лепка «Тарелка с овощами» и «Блюда с фруктами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этап – подведение итог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сле проведения проекта проведена выставка рисунков «Фрукты и овощи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вместно с родителями оформили стенд «Удивительные овощи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checke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rcRect l="0" t="12823" r="11541" b="0"/>
          <a:stretch/>
        </p:blipFill>
        <p:spPr>
          <a:xfrm>
            <a:off x="152280" y="228600"/>
            <a:ext cx="3048120" cy="22525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rcRect l="26198" t="8926" r="0" b="5357"/>
          <a:stretch/>
        </p:blipFill>
        <p:spPr>
          <a:xfrm>
            <a:off x="3352680" y="609480"/>
            <a:ext cx="2214720" cy="34290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rcRect l="5357" t="21429" r="5357" b="0"/>
          <a:stretch/>
        </p:blipFill>
        <p:spPr>
          <a:xfrm>
            <a:off x="5715000" y="457200"/>
            <a:ext cx="3200400" cy="21128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4"/>
          <a:srcRect l="0" t="7143" r="7146" b="0"/>
          <a:stretch/>
        </p:blipFill>
        <p:spPr>
          <a:xfrm>
            <a:off x="5791320" y="4191120"/>
            <a:ext cx="2971800" cy="22287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5"/>
          <a:srcRect l="0" t="16670" r="8926" b="0"/>
          <a:stretch/>
        </p:blipFill>
        <p:spPr>
          <a:xfrm>
            <a:off x="152280" y="4267080"/>
            <a:ext cx="3353040" cy="230040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Ресурсы: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cc00"/>
                </a:solidFill>
                <a:uFillTx/>
                <a:latin typeface="Arial"/>
                <a:hlinkClick r:id="rId1"/>
              </a:rPr>
              <a:t>http://hqwalls.com.ua/food_017_fruit-vegetables_10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cc00"/>
                </a:solidFill>
                <a:uFillTx/>
                <a:latin typeface="Arial"/>
                <a:hlinkClick r:id="rId2"/>
              </a:rPr>
              <a:t>http://vk-info.ru/na_zametku/print:page,1,1419-kak-nabratsja-vitaminov-i-ne-poterjat-zdorove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cc00"/>
                </a:solidFill>
                <a:uFillTx/>
                <a:latin typeface="Arial"/>
                <a:hlinkClick r:id="rId3"/>
              </a:rPr>
              <a:t>http://vrussia.ucoz.ru/board/novoe_vremjaquot/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cc00"/>
                </a:solidFill>
                <a:uFillTx/>
                <a:latin typeface="Arial"/>
                <a:hlinkClick r:id="rId4"/>
              </a:rPr>
              <a:t>http://www.dvarulona.ru/yomi/2662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cc00"/>
                </a:solidFill>
                <a:uFillTx/>
                <a:latin typeface="Arial"/>
                <a:hlinkClick r:id="rId5"/>
              </a:rPr>
              <a:t>http://subscribe.ru/group/deti-nashe-schaste/?page=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cc00"/>
                </a:solidFill>
                <a:uFillTx/>
                <a:latin typeface="Arial"/>
                <a:hlinkClick r:id="rId6"/>
              </a:rPr>
              <a:t>http://foodretail.ru/blog?move=&amp;p=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forum.materinstvo.ru/lofiversion/index.php/t70570-850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allday.ru/index.php?newsid=292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i28.mindmix.ru/35/80/128035/38/1645438/1232520170_fruits1.jp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ww.arena-rv.ru/как-выбирать-и-как-хранить-свежие-овощи-и-фрукты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Краткая аннотация проекта: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100" spc="-1" strike="noStrike">
                <a:solidFill>
                  <a:srgbClr val="000000"/>
                </a:solidFill>
                <a:latin typeface="Arial"/>
              </a:rPr>
              <a:t>Проект направлен на развитие у детей знаний о пользе фруктов и овощей. Доставляют эмоциональное удовольствие. При проведении проекта дети узнают, какие витамины содержатся в разных овощах и фруктах. Знакомство детей с разнообразием сортов фруктов и овощей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6324480" y="5334120"/>
            <a:ext cx="2667240" cy="134604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6840" y="17524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С точки зрения ученых биологов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 u="sng">
                <a:solidFill>
                  <a:srgbClr val="000000"/>
                </a:solidFill>
                <a:uFillTx/>
                <a:latin typeface="Arial"/>
              </a:rPr>
              <a:t>Фрукт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 — </a:t>
            </a:r>
            <a:r>
              <a:rPr b="1" i="1" lang="en-US" sz="3100" spc="-1" strike="noStrike">
                <a:solidFill>
                  <a:srgbClr val="ff9900"/>
                </a:solidFill>
                <a:latin typeface="Arial"/>
              </a:rPr>
              <a:t>сочный, обычно      съедобный, плод дерева                            или кустарника. Также                   фруктами являются                           все плоды содержащие                              семена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 u="sng">
                <a:solidFill>
                  <a:srgbClr val="000000"/>
                </a:solidFill>
                <a:uFillTx/>
                <a:latin typeface="Arial"/>
              </a:rPr>
              <a:t>Овощи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 — </a:t>
            </a:r>
            <a:r>
              <a:rPr b="1" i="1" lang="en-US" sz="3100" spc="-1" strike="noStrike">
                <a:solidFill>
                  <a:srgbClr val="33cc33"/>
                </a:solidFill>
                <a:latin typeface="Arial"/>
              </a:rPr>
              <a:t>это плоды или                                иные части травянистых                            растений.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80880" y="304920"/>
            <a:ext cx="8458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Чем отличается фрукт от овощ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6019920" y="2438280"/>
            <a:ext cx="2819160" cy="17607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6400800" y="4800600"/>
            <a:ext cx="2438280" cy="183204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ver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" dur="1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80880" y="838080"/>
            <a:ext cx="84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Чем полезны фрукты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80880" y="1751040"/>
            <a:ext cx="84582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Times New Roman"/>
              </a:rPr>
              <a:t>Фрукты укрепляют иммунную систему, которая помогает нашему организму бороться с болезнями. Также они хороши для кож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Times New Roman"/>
              </a:rPr>
              <a:t>Основные полезные вещества: калий, который помогает о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Times New Roman"/>
              </a:rPr>
              <a:t>утомления, бледного цвета кож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Times New Roman"/>
              </a:rPr>
              <a:t>Некоторые фрукт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Times New Roman"/>
              </a:rPr>
              <a:t>используются при заболеваниях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Times New Roman"/>
              </a:rPr>
              <a:t>ОРЗ и грип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Times New Roman"/>
              </a:rPr>
              <a:t>Очень важно употреблять н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Times New Roman"/>
              </a:rPr>
              <a:t>только много фруктов кажды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Times New Roman"/>
              </a:rPr>
              <a:t>день, но также их большое и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Times New Roman"/>
              </a:rPr>
              <a:t>разнообрази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3124" t="6970" r="6248" b="0"/>
          <a:stretch/>
        </p:blipFill>
        <p:spPr>
          <a:xfrm>
            <a:off x="4343400" y="3124080"/>
            <a:ext cx="4419720" cy="304956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vert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9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80880" y="304920"/>
            <a:ext cx="8458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Какие витамины содержатся во фруктах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80880" y="1890360"/>
            <a:ext cx="27432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u="sng">
                <a:solidFill>
                  <a:srgbClr val="ff9966"/>
                </a:solidFill>
                <a:uFillTx/>
                <a:latin typeface="Arial"/>
              </a:rPr>
              <a:t>Витамин 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66"/>
                </a:solidFill>
                <a:latin typeface="Arial"/>
              </a:rPr>
              <a:t>Содержится  в яблоках, персиках, абрикосах, гранате и д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80880" y="3048120"/>
            <a:ext cx="1614600" cy="12697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276720" y="1905840"/>
            <a:ext cx="2662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u="sng">
                <a:solidFill>
                  <a:srgbClr val="cc00ff"/>
                </a:solidFill>
                <a:uFillTx/>
                <a:latin typeface="Arial"/>
              </a:rPr>
              <a:t>Витамин С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ff"/>
                </a:solidFill>
                <a:latin typeface="Arial"/>
              </a:rPr>
              <a:t>Содержится в арбузе, яблоках, винограде и д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rcRect l="0" t="15585" r="80007" b="48915"/>
          <a:stretch/>
        </p:blipFill>
        <p:spPr>
          <a:xfrm>
            <a:off x="2895480" y="2819520"/>
            <a:ext cx="1143000" cy="15238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6248520" y="2058480"/>
            <a:ext cx="26622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u="sng">
                <a:solidFill>
                  <a:srgbClr val="ffcc00"/>
                </a:solidFill>
                <a:uFillTx/>
                <a:latin typeface="Arial"/>
              </a:rPr>
              <a:t>Витамин 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"/>
              </a:rPr>
              <a:t>Содержится в груше, апельсинах, яблоках и д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52280" y="4649400"/>
            <a:ext cx="2970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0066"/>
                </a:solidFill>
                <a:uFillTx/>
                <a:latin typeface="Arial"/>
              </a:rPr>
              <a:t>Витамин Р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Содержится в лимонах, грейпфрутах, черной смородине и д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5638680" y="2971800"/>
            <a:ext cx="1278000" cy="16002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rcRect l="14582" t="7219" r="71880" b="78029"/>
          <a:stretch/>
        </p:blipFill>
        <p:spPr>
          <a:xfrm>
            <a:off x="2666880" y="5257800"/>
            <a:ext cx="1905120" cy="14652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4114800" y="4648320"/>
            <a:ext cx="297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3cc33"/>
                </a:solidFill>
                <a:uFillTx/>
                <a:latin typeface="Arial"/>
              </a:rPr>
              <a:t>Витамин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cc33"/>
                </a:solidFill>
                <a:latin typeface="Arial"/>
              </a:rPr>
              <a:t>Содержится в авокадо и д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5"/>
          <a:srcRect l="63543" t="70657" r="27087" b="14598"/>
          <a:stretch/>
        </p:blipFill>
        <p:spPr>
          <a:xfrm>
            <a:off x="7315200" y="5029200"/>
            <a:ext cx="1440000" cy="160020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vert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7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0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3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3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3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80880" y="762120"/>
            <a:ext cx="84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Чем полезны овощ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04920" y="1751040"/>
            <a:ext cx="82296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Times New Roman"/>
              </a:rPr>
              <a:t>Многие виды овощей имеют целебные и диетические свойства: они предупреждают тяжелые заболевания, повышают тонус и работоспособность челове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Times New Roman"/>
              </a:rPr>
              <a:t>Они укрепляют стенки кровеносных сосудов, способствуют хорошему пищеварению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99cc00"/>
                </a:solidFill>
                <a:latin typeface="Times New Roman"/>
              </a:rPr>
              <a:t>оздоровлению организ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Times New Roman"/>
              </a:rPr>
              <a:t>Особую ценность представляю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Times New Roman"/>
              </a:rPr>
              <a:t>свежие зеленные овощи.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rcRect l="0" t="5052" r="0" b="0"/>
          <a:stretch/>
        </p:blipFill>
        <p:spPr>
          <a:xfrm>
            <a:off x="4648320" y="3200400"/>
            <a:ext cx="4019400" cy="286560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vert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1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80880" y="304920"/>
            <a:ext cx="8458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Какие витамины содержатся в овощах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80880" y="1890360"/>
            <a:ext cx="27432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Витамин 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Содержится в моркови, помидорах, красном перце и д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80880" y="2895480"/>
            <a:ext cx="1700280" cy="13194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990720" y="4420440"/>
            <a:ext cx="2590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u="sng">
                <a:solidFill>
                  <a:srgbClr val="33cc33"/>
                </a:solidFill>
                <a:uFillTx/>
                <a:latin typeface="Arial"/>
              </a:rPr>
              <a:t>Витамин В</a:t>
            </a:r>
            <a:r>
              <a:rPr b="0" lang="en-US" sz="1600" spc="-1" strike="noStrike">
                <a:solidFill>
                  <a:srgbClr val="33cc33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cc33"/>
                </a:solidFill>
                <a:latin typeface="Arial"/>
              </a:rPr>
              <a:t>Содержится в горохе, фасоли, шпинате, и д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152280" y="5114880"/>
            <a:ext cx="1338480" cy="17431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3962520" y="2668680"/>
            <a:ext cx="2662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u="sng">
                <a:solidFill>
                  <a:srgbClr val="a50021"/>
                </a:solidFill>
                <a:uFillTx/>
                <a:latin typeface="Arial"/>
              </a:rPr>
              <a:t>Витамин С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Arial"/>
              </a:rPr>
              <a:t>Содержится в капусте, салате, зеленом горошке и фасоли, редисе, картофеле и д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2895480" y="2514600"/>
            <a:ext cx="1003320" cy="17748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6095880" y="1906200"/>
            <a:ext cx="27432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u="sng">
                <a:solidFill>
                  <a:srgbClr val="99cc00"/>
                </a:solidFill>
                <a:uFillTx/>
                <a:latin typeface="Arial"/>
              </a:rPr>
              <a:t>Витамин К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Arial"/>
              </a:rPr>
              <a:t>Больше всего его содержится в шпинате, салате, помидорах и др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4878720"/>
            <a:ext cx="28954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u="sng">
                <a:solidFill>
                  <a:srgbClr val="ff0066"/>
                </a:solidFill>
                <a:uFillTx/>
                <a:latin typeface="Arial"/>
              </a:rPr>
              <a:t>Витамин 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Содержится в моркови, красном перце, в зелени петрушки, шпинате, помидора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4114800" y="4800600"/>
            <a:ext cx="1297080" cy="13716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5"/>
          <a:srcRect l="72466" t="44101" r="14582" b="41154"/>
          <a:stretch/>
        </p:blipFill>
        <p:spPr>
          <a:xfrm>
            <a:off x="6781680" y="3124080"/>
            <a:ext cx="1676520" cy="134784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vert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9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9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9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9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9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685800" y="685800"/>
            <a:ext cx="84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Загадки про фрукт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4572000"/>
            <a:ext cx="32004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00"/>
                </a:solidFill>
                <a:latin typeface="Arial"/>
              </a:rPr>
              <a:t>Он почти как апельсин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00"/>
                </a:solidFill>
                <a:latin typeface="Arial"/>
              </a:rPr>
              <a:t>С толстой кожей, сочный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00"/>
                </a:solidFill>
                <a:latin typeface="Arial"/>
              </a:rPr>
              <a:t>Недостаток лишь один 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00"/>
                </a:solidFill>
                <a:latin typeface="Arial"/>
              </a:rPr>
              <a:t>Кислый очень, очен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00"/>
                </a:solidFill>
                <a:latin typeface="Arial"/>
              </a:rPr>
              <a:t>(лимон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895480" y="4572000"/>
            <a:ext cx="35053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cc00ff"/>
                </a:solidFill>
                <a:latin typeface="Arial"/>
              </a:rPr>
              <a:t>Ужин этот лучший самый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cc00ff"/>
                </a:solidFill>
                <a:latin typeface="Arial"/>
              </a:rPr>
              <a:t>Рада я и Миша рад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cc00ff"/>
                </a:solidFill>
                <a:latin typeface="Arial"/>
              </a:rPr>
              <a:t>Ведь сегодня наша мам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cc00ff"/>
                </a:solidFill>
                <a:latin typeface="Arial"/>
              </a:rPr>
              <a:t>Нам купила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cc00ff"/>
                </a:solidFill>
                <a:latin typeface="Arial"/>
              </a:rPr>
              <a:t>(виноград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895480" y="3124080"/>
            <a:ext cx="3429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9966"/>
                </a:solidFill>
                <a:latin typeface="Arial"/>
              </a:rPr>
              <a:t>Огурцы они как будто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9966"/>
                </a:solidFill>
                <a:latin typeface="Arial"/>
              </a:rPr>
              <a:t>Только связками растут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9966"/>
                </a:solidFill>
                <a:latin typeface="Arial"/>
              </a:rPr>
              <a:t>И на завтрак эти фрук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9966"/>
                </a:solidFill>
                <a:latin typeface="Arial"/>
              </a:rPr>
              <a:t>Обезьянам подаю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9966"/>
                </a:solidFill>
                <a:latin typeface="Arial"/>
              </a:rPr>
              <a:t>(банан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019920" y="3276720"/>
            <a:ext cx="31240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cc0066"/>
                </a:solidFill>
                <a:latin typeface="Arial"/>
              </a:rPr>
              <a:t>Из растительных продуктов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cc0066"/>
                </a:solidFill>
                <a:latin typeface="Arial"/>
              </a:rPr>
              <a:t>Из известных ягод, фруктов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cc0066"/>
                </a:solidFill>
                <a:latin typeface="Arial"/>
              </a:rPr>
              <a:t>Из всего, что сладко, сочно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cc0066"/>
                </a:solidFill>
                <a:latin typeface="Arial"/>
              </a:rPr>
              <a:t>Что съедобно и не очень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cc0066"/>
                </a:solidFill>
                <a:latin typeface="Arial"/>
              </a:rPr>
              <a:t>Детям всем на объеденье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cc0066"/>
                </a:solidFill>
                <a:latin typeface="Arial"/>
              </a:rPr>
              <a:t>Можем мы сварить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cc0066"/>
                </a:solidFill>
                <a:latin typeface="Arial"/>
              </a:rPr>
              <a:t>(варенье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6320" y="1828800"/>
            <a:ext cx="31240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66"/>
                </a:solidFill>
                <a:latin typeface="Arial"/>
              </a:rPr>
              <a:t>Круглое, румяное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66"/>
                </a:solidFill>
                <a:latin typeface="Arial"/>
              </a:rPr>
              <a:t>Я расту на ветк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66"/>
                </a:solidFill>
                <a:latin typeface="Arial"/>
              </a:rPr>
              <a:t>Любят меня взрослые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66"/>
                </a:solidFill>
                <a:latin typeface="Arial"/>
              </a:rPr>
              <a:t>И маленькие дет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66"/>
                </a:solidFill>
                <a:latin typeface="Arial"/>
              </a:rPr>
              <a:t>(Яблоко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52280" y="3124080"/>
            <a:ext cx="3276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Arial"/>
              </a:rPr>
              <a:t>Бусы красные вися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Arial"/>
              </a:rPr>
              <a:t>Из кустов на нас глядят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Arial"/>
              </a:rPr>
              <a:t>Очень любят бусы эт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Arial"/>
              </a:rPr>
              <a:t>Дети, птицы и медвед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Arial"/>
              </a:rPr>
              <a:t>(Малин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43200" y="1828800"/>
            <a:ext cx="3276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a50021"/>
                </a:solidFill>
                <a:latin typeface="Arial"/>
              </a:rPr>
              <a:t>Длинноножка хвалится —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a50021"/>
                </a:solidFill>
                <a:latin typeface="Arial"/>
              </a:rPr>
              <a:t>Я ли не красавица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a50021"/>
                </a:solidFill>
                <a:latin typeface="Arial"/>
              </a:rPr>
              <a:t>А сама-то — косточ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a50021"/>
                </a:solidFill>
                <a:latin typeface="Arial"/>
              </a:rPr>
              <a:t>Да красненькая кофточ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a50021"/>
                </a:solidFill>
                <a:latin typeface="Arial"/>
              </a:rPr>
              <a:t>(Вишня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1828800"/>
            <a:ext cx="3124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cc33"/>
                </a:solidFill>
                <a:latin typeface="Arial"/>
              </a:rPr>
              <a:t>Сам алый, сахарный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cc33"/>
                </a:solidFill>
                <a:latin typeface="Arial"/>
              </a:rPr>
              <a:t>Кафтан зеленый, бархатны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cc33"/>
                </a:solidFill>
                <a:latin typeface="Arial"/>
              </a:rPr>
              <a:t>(Арбуз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vert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2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1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6" dur="20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1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7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0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5" dur="20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0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6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9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4" dur="20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9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2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8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3" dur="20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8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1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4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2" dur="20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7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0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3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6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1" dur="20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6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9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4" dur="20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9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2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5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8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1" dur="5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4" dur="5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9" dur="2000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amLab.ws</cp:lastModifiedBy>
  <dcterms:modified xsi:type="dcterms:W3CDTF">2012-04-22T10:58:09Z</dcterms:modified>
  <cp:revision>14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