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17.jpeg" ContentType="image/jpeg"/>
  <Override PartName="/ppt/media/image12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3A0-8FFC-45B8-A805-53EC418A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B7B-53E3-4121-B0C7-67469C9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F00-A71B-4415-BFEC-3F1CD8D5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F00-2A94-4E69-9CDC-C6562422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9F5-B089-4B19-9483-53C69243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8E63-AAEE-41B9-B2DA-24F7B18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4851-FC77-40BC-A3EB-49686B5B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C88A-27F0-4496-A08C-6D30C19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97FA-FBAF-4917-B16C-44802F3B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66C8-03A5-42EA-8EAA-B44A6D15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AF07-6A8A-4325-9639-21AF5BC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A42-FD51-4225-B5E3-EF1D3DC6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D807-8837-4869-B1B4-4B53166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8E5-81F0-41A5-87CA-3C6E4D3F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D67D-27BF-4766-ABFB-A9906EF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4DF9-1153-45CA-9B65-EA45ECCB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BA7-083C-435C-B9BB-E91F108B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25F-C5CD-4639-9005-4D1464D7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059-A02A-40AE-B286-8BFE6D01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842-A9EA-46F7-9909-223F49D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4DD-EB2F-4B8C-B22A-D5D9377E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5DF-0AB9-40D8-888D-85DD83B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A12-B6B1-4FF7-9678-FC7EFF6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22D-AE44-4AA0-9381-4BC1C8D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1F57-6257-485D-B8E1-53476D9DA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156B-5853-415F-93DF-CD31BA81D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qwalls.com.ua/food_017_fruit-vegetables_10.html" TargetMode="External"/><Relationship Id="rId2" Type="http://schemas.openxmlformats.org/officeDocument/2006/relationships/hyperlink" Target="http://vk-info.ru/na_zametku/print:page,1,1419-kak-nabratsja-vitaminov-i-ne-poterjat-zdorove.html" TargetMode="External"/><Relationship Id="rId3" Type="http://schemas.openxmlformats.org/officeDocument/2006/relationships/hyperlink" Target="http://vrussia.ucoz.ru/board/novoe_vremjaquot/1" TargetMode="External"/><Relationship Id="rId4" Type="http://schemas.openxmlformats.org/officeDocument/2006/relationships/hyperlink" Target="http://www.dvarulona.ru/yomi/2662/" TargetMode="External"/><Relationship Id="rId5" Type="http://schemas.openxmlformats.org/officeDocument/2006/relationships/hyperlink" Target="http://subscribe.ru/group/deti-nashe-schaste/?page=3" TargetMode="External"/><Relationship Id="rId6" Type="http://schemas.openxmlformats.org/officeDocument/2006/relationships/hyperlink" Target="http://foodretail.ru/blog?move=&amp;p=27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486400" y="5624640"/>
            <a:ext cx="3657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втор: Пахом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мет: Ознакомление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раст детей: 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457200"/>
            <a:ext cx="8381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Фрукты и овощи</a:t>
            </a:r>
            <a:endParaRPr b="1" i="1" lang="en-US" sz="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агадки про овощ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82880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Золотистый и полез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Витаминный, хотя рез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Горький вкус имеет он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Обжигает… Не лимо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Лу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1240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Как на грядке под лис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Закатился чурбачок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Зеленец удалень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Вкусный овощ малень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(Огурец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502920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Зелёная толст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Надела уйму юб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Стоит как балери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Из листьев пелер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(Капус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480060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Красный, детки, но не ма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 огороде - не бура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Сочный лакомый синьо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Угада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Помид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В огороде - жёлтый мя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Только не бежит он вскач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Он как полная лу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Вкусные в нём с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(Тык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6483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У извилистой дорож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Растёт солнышко на нож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Как дозреет солныш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Будет горстка зёрныш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Подсолну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335268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В зелёной палат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Колобки спят сладк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Много круглых крошек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Что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(Гороше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828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Это вовсе не игрушк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Ароматна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(Петруш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8098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Хоть чернил он не вид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Фиолетовым вдруг ст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Любят овощ Ваня, Жан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Так ведь это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(Баклаж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5909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Что это за рысач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Завалился на бочок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Сам упитанный, салат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Верно, детк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(Кабач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лан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752480"/>
          <a:ext cx="830592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624852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этап – сообщение темы и целей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ям сообщается тема проекта и цели. На начальном этапе  были прочитаны художественные произведения «Репка»(р.н.с.), В.Тувим  «Овощи»,играли в х/и « Репка»,п/и « Огородная», д/и  « Вершки-корешки», «Что где расте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этап – разработка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бсуждения поставленной цели определены мероприятия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 о фруктах и овощах; занятие «Не хочу быть Неболейкой»; загадывание и составление загадок о фруктах и овощах; рассматривание картины «Сад и огород»; драматизация стихотворения В.Тувим «Овощ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этап – пр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ование «Фрукты и овощи». Лепка «Тарелка с овощами» и «Блюда с фруктам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этап – подведение ит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проведения проекта проведена выставка рисунков «Фрукты и овощ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о с родителями оформили стенд «Удивительные овощ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12823" r="11541" b="0"/>
          <a:stretch/>
        </p:blipFill>
        <p:spPr>
          <a:xfrm>
            <a:off x="152280" y="228600"/>
            <a:ext cx="3048120" cy="2252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26198" t="8926" r="0" b="5357"/>
          <a:stretch/>
        </p:blipFill>
        <p:spPr>
          <a:xfrm>
            <a:off x="3352680" y="609480"/>
            <a:ext cx="221472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5357" t="21429" r="5357" b="0"/>
          <a:stretch/>
        </p:blipFill>
        <p:spPr>
          <a:xfrm>
            <a:off x="5715000" y="457200"/>
            <a:ext cx="3200400" cy="2112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0" t="7143" r="7146" b="0"/>
          <a:stretch/>
        </p:blipFill>
        <p:spPr>
          <a:xfrm>
            <a:off x="5791320" y="4191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rcRect l="0" t="16670" r="8926" b="0"/>
          <a:stretch/>
        </p:blipFill>
        <p:spPr>
          <a:xfrm>
            <a:off x="152280" y="4267080"/>
            <a:ext cx="3353040" cy="230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есурс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hqwalls.com.ua/food_017_fruit-vegetables_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http://vk-info.ru/na_zametku/print:page,1,1419-kak-nabratsja-vitaminov-i-ne-poterjat-zdoro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vrussia.ucoz.ru/board/novoe_vremjaquot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http://www.dvarulona.ru/yomi/266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5"/>
              </a:rPr>
              <a:t>http://subscribe.ru/group/deti-nashe-schaste/?page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6"/>
              </a:rPr>
              <a:t>http://foodretail.ru/blog?move=&amp;p=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rum.materinstvo.ru/lofiversion/index.php/t70570-85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llday.ru/index.php?newsid=29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28.mindmix.ru/35/80/128035/38/1645438/1232520170_fruits1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rena-rv.ru/как-выбирать-и-как-хранить-свежие-овощи-и-фрукты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раткая аннотация проект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Проект направлен на развитие у детей знаний о пользе фруктов и овощей. Доставляют эмоциональное удовольствие. При проведении проекта дети узнают, какие витамины содержатся в разных овощах и фруктах. Знакомство детей с разнообразием сортов фруктов и овоще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2667240" cy="134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 точки зрения ученых биологов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Фрукт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en-US" sz="3100" spc="-1" strike="noStrike">
                <a:solidFill>
                  <a:srgbClr val="ff9900"/>
                </a:solidFill>
                <a:latin typeface="Arial"/>
              </a:rPr>
              <a:t>сочный, обычно      съедобный, плод дерева                            или кустарника. Также                   фруктами являются                           все плоды содержащие                              сем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Овощ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en-US" sz="3100" spc="-1" strike="noStrike">
                <a:solidFill>
                  <a:srgbClr val="33cc33"/>
                </a:solidFill>
                <a:latin typeface="Arial"/>
              </a:rPr>
              <a:t>это плоды или                                иные части травянистых                            растени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Чем отличается фрукт от овощ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819160" cy="176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838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Чем полезны фру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75104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Фрукты укрепляют иммунную систему, которая помогает нашему организму бороться с болезнями. Также они хороши для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сновные полезные вещества: калий, который помогает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утомления, бледного цвет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Некоторые фрук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используются при заболеван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РЗ и гри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чень важно употреблять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только много фруктов кажд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день, но также их большое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разнообраз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3124" t="6970" r="6248" b="0"/>
          <a:stretch/>
        </p:blipFill>
        <p:spPr>
          <a:xfrm>
            <a:off x="4343400" y="3124080"/>
            <a:ext cx="441972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о фрукт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9966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Содержится  в яблоках, персиках, абрикосах, гранат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1614600" cy="126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76720" y="1905840"/>
            <a:ext cx="266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cc00ff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"/>
              </a:rPr>
              <a:t>Содержится в арбузе, яблоках, виноград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15585" r="80007" b="48915"/>
          <a:stretch/>
        </p:blipFill>
        <p:spPr>
          <a:xfrm>
            <a:off x="2895480" y="28195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2058480"/>
            <a:ext cx="266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Витамин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Содержится в груше, апельсинах, яблоках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649400"/>
            <a:ext cx="297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Содержится в лимонах, грейпфрутах, черной смородин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1278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14582" t="7219" r="71880" b="78029"/>
          <a:stretch/>
        </p:blipFill>
        <p:spPr>
          <a:xfrm>
            <a:off x="2666880" y="525780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14800" y="4648320"/>
            <a:ext cx="29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Содержится в авокадо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rcRect l="63543" t="70657" r="27087" b="14598"/>
          <a:stretch/>
        </p:blipFill>
        <p:spPr>
          <a:xfrm>
            <a:off x="7315200" y="502920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762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Чем полезны овощ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7510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Многие виды овощей имеют целебные и диетические свойства: они предупреждают тяжелые заболевания, повышают тонус и работоспособность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ни укрепляют стенки кровеносных сосудов, способствуют хорошему пищеварению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здоровлению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собую ценность представля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свежие зеленные овощи.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052" r="0" b="0"/>
          <a:stretch/>
        </p:blipFill>
        <p:spPr>
          <a:xfrm>
            <a:off x="4648320" y="3200400"/>
            <a:ext cx="4019400" cy="2865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 овощ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одержится в моркови, помидорах, красном перц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700280" cy="1319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90720" y="442044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В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Содержится в горохе, фасоли, шпинате,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5114880"/>
            <a:ext cx="1338480" cy="1743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62520" y="2668680"/>
            <a:ext cx="26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Содержится в капусте, салате, зеленом горошке и фасоли, редисе, картофел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895480" y="2514600"/>
            <a:ext cx="1003320" cy="1774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5880" y="19062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99cc00"/>
                </a:solidFill>
                <a:uFillTx/>
                <a:latin typeface="Arial"/>
              </a:rPr>
              <a:t>Витами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Больше всего его содержится в шпинате, салате, помидорах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487872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Содержится в моркови, красном перце, в зелени петрушки, шпинате, помидо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72466" t="44101" r="14582" b="41154"/>
          <a:stretch/>
        </p:blipFill>
        <p:spPr>
          <a:xfrm>
            <a:off x="6781680" y="3124080"/>
            <a:ext cx="167652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агадки про фрук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5720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Он почти как апельси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С толстой кожей, соч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Недостаток лишь один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Кислый очень, оч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лим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57200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Ужин этот лучший сам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Рада я и Миша ра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Ведь сегодня наша 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Нам купила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(виногра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1240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Огурцы они как буд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Только связками расту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И на завтрак эти фру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Обезьянам под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(бан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276720"/>
            <a:ext cx="3124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Из растительных проду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Из известных ягод, фру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Из всего, что сладко, соч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Что съедобно и не оч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Детям всем на объеде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Можем мы сварить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(варень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8288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Круглое, румя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Я расту на вет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Любят меня взросл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И маленькие д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(Яблок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1240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Бусы красные вися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Из кустов на нас гляд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Очень любят бусы э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Дети, птицы и медве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Мал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18288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линноножка хвалится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Я ли не красав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А сама-то — кост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а красненькая кофточ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(Виш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8288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Сам алый, сахар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Кафтан зеленый, барха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(Арбу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4-22T10:58:09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