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1266-F8FB-4304-BC2D-0A2A738D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5684-A97D-4C01-8F13-94689FA0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B722-C9F5-4E0F-A5D5-9614C7C9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0F87-78AE-45B3-B9EF-BDF20734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ABE0-E70C-451B-A7A0-AA4AAAD9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88BB-2FE6-4770-9027-61F388B2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4248-3F9D-484E-B505-3B2B5469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FD57-F943-4CC8-96B1-7D796697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5741-53E6-4A06-9FAE-F2473267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E538-B978-4EB2-8AD9-5FF4E655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4FAF-47A6-478B-BB76-BCA9AA9F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82EE-4947-4E81-9588-EC374272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173B-78CF-4CC1-8D5D-1C62CCC0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E142-18A0-4A4F-89F1-D210744E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C7E9-62CA-4DCE-BFEF-525AC096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E827-4BDE-4AE3-B1BE-8E01C027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67D5-897D-4A2E-90AB-4329B4D2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38D7A-99ED-4537-9DC4-EEFB7239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B1F89-B75B-415A-BB63-7680DF26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1363F-BD4D-4C13-A3EF-25724502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96BE7-6A5A-4B20-9977-A863D6F5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A8192-C7C3-4A10-B2B0-BA35A28F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E14C-7DD7-4A9A-B1E3-A599E500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1F38E-EFB2-40F5-B2BF-E8DA779A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7892F-C33C-4877-A769-920220D8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3CBB7-0B2A-44F7-99F0-C4328F68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9DB98-4478-4B32-A2D4-898CED8E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3C164-E128-472D-927B-ECEC17D1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9A515-41A9-4071-A459-AC3F6FE9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42FDC-A6F6-4860-88BB-F7D263CB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6EFBB-950E-4420-8CF4-8031A73D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B0097-5125-4167-9ACD-C69667A8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1FC51-4C44-405B-AC0D-3892DA22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8201-67B3-4398-8903-83A5E896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D846B-BE4C-4C1C-9751-07BE449D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CCD4E-0301-4093-871F-A1ED67CB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AB38B-5A7F-45A7-8306-2581FB35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343DA-1385-48EF-A77F-1C03E723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4A8CF-2B2D-4741-B0EB-8341511F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FA039-67A1-4438-99F2-A5C335F3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BE6FC-346F-4793-ADD3-DEEB5BC5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28616-3BAB-41C1-AFD0-2FCF0199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DF31E-987C-4CE5-A507-82C6EBE6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39DE-6FCA-4DC3-B961-000E5881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85D0-A1DD-4FD5-AB09-9BB7AB50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27DC-AE55-4083-B948-782DE93A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E894-C02E-4B82-9794-0847BFE4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9D49-E3E1-4E77-8B53-6D449448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B8D0-2B4B-4917-B2D0-69B2C37FFBF0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D25A-27A3-4522-8A79-BD0F792DD6C5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411D-8DEF-4CF8-9F9F-6D08298796F7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0D3A-12E9-43DD-95A5-94BC8F938F8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4" descr="d:\Мои документы\мамина папка\Презентации\мои шаблоны\6.jpg"/>
          <p:cNvPicPr/>
          <p:nvPr/>
        </p:nvPicPr>
        <p:blipFill>
          <a:blip r:embed="rId1"/>
          <a:srcRect l="14835" t="40629" r="53921" b="16674"/>
          <a:stretch/>
        </p:blipFill>
        <p:spPr>
          <a:xfrm>
            <a:off x="5867280" y="38322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d:\Мои документы\мамина папка\Презентации\мои шаблоны\3.jpg"/>
          <p:cNvPicPr/>
          <p:nvPr/>
        </p:nvPicPr>
        <p:blipFill>
          <a:blip r:embed="rId2"/>
          <a:srcRect l="8594" t="44793" r="59378" b="10415"/>
          <a:stretch/>
        </p:blipFill>
        <p:spPr>
          <a:xfrm>
            <a:off x="7236000" y="5002200"/>
            <a:ext cx="1357200" cy="1424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4" descr="d:\Мои документы\мамина папка\Презентации\мои шаблоны\6.jpg"/>
          <p:cNvPicPr/>
          <p:nvPr/>
        </p:nvPicPr>
        <p:blipFill>
          <a:blip r:embed="rId3"/>
          <a:srcRect l="53911" t="40640" r="14856" b="16676"/>
          <a:stretch/>
        </p:blipFill>
        <p:spPr>
          <a:xfrm>
            <a:off x="3348000" y="3903840"/>
            <a:ext cx="428760" cy="571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" descr="d:\Мои документы\Мои рисунки\29304.jpg"/>
          <p:cNvPicPr/>
          <p:nvPr/>
        </p:nvPicPr>
        <p:blipFill>
          <a:blip r:embed="rId4"/>
          <a:stretch/>
        </p:blipFill>
        <p:spPr>
          <a:xfrm rot="7350600">
            <a:off x="2172600" y="1416600"/>
            <a:ext cx="637920" cy="452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d:\Мои документы\Мои рисунки\0_81a7_e2ce2488_XL.jpeg"/>
          <p:cNvPicPr/>
          <p:nvPr/>
        </p:nvPicPr>
        <p:blipFill>
          <a:blip r:embed="rId5"/>
          <a:stretch/>
        </p:blipFill>
        <p:spPr>
          <a:xfrm rot="9911400">
            <a:off x="7302240" y="2928600"/>
            <a:ext cx="852480" cy="6350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8640" y="1187280"/>
            <a:ext cx="7561440" cy="32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ff"/>
                </a:solidFill>
                <a:latin typeface="Trebuchet MS"/>
              </a:rPr>
              <a:t>   </a:t>
            </a:r>
            <a:br>
              <a:rPr sz="4600"/>
            </a:br>
            <a:r>
              <a:rPr b="1" lang="ru-RU" sz="4600" spc="-1" strike="noStrike">
                <a:solidFill>
                  <a:srgbClr val="ff0000"/>
                </a:solidFill>
                <a:latin typeface="Arial"/>
              </a:rPr>
              <a:t>Урок русского языка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  </a:t>
            </a:r>
            <a:br>
              <a:rPr sz="40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 6 классе по теме «Глагол» (повторение изученного в 5 классе)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0" name="Picture 7" descr="d:\Мои документы\Мои рисунки\29304.jpg"/>
          <p:cNvPicPr/>
          <p:nvPr/>
        </p:nvPicPr>
        <p:blipFill>
          <a:blip r:embed="rId6"/>
          <a:stretch/>
        </p:blipFill>
        <p:spPr>
          <a:xfrm rot="7335600">
            <a:off x="1594800" y="4370040"/>
            <a:ext cx="703080" cy="500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d:\Мои документы\Мои рисунки\btterfly095.jpeg"/>
          <p:cNvPicPr/>
          <p:nvPr/>
        </p:nvPicPr>
        <p:blipFill>
          <a:blip r:embed="rId7"/>
          <a:stretch/>
        </p:blipFill>
        <p:spPr>
          <a:xfrm flipH="1" rot="1435800">
            <a:off x="6027840" y="750600"/>
            <a:ext cx="1171440" cy="812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d:\Мои документы\мамина папка\Презентации\мои шаблоны\3.jpg"/>
          <p:cNvPicPr/>
          <p:nvPr/>
        </p:nvPicPr>
        <p:blipFill>
          <a:blip r:embed="rId8"/>
          <a:srcRect l="8594" t="44793" r="59378" b="10415"/>
          <a:stretch/>
        </p:blipFill>
        <p:spPr>
          <a:xfrm>
            <a:off x="4010040" y="4930920"/>
            <a:ext cx="1357200" cy="1423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d:\Мои документы\мамина папка\Презентации\мои шаблоны\3.jpg"/>
          <p:cNvPicPr/>
          <p:nvPr/>
        </p:nvPicPr>
        <p:blipFill>
          <a:blip r:embed="rId9"/>
          <a:srcRect l="8594" t="44793" r="59378" b="10415"/>
          <a:stretch/>
        </p:blipFill>
        <p:spPr>
          <a:xfrm>
            <a:off x="395280" y="5002200"/>
            <a:ext cx="135720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0" y="139680"/>
            <a:ext cx="8229600" cy="12812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Какой глагол совершенного вида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d3131"/>
                </a:solidFill>
                <a:latin typeface="Trebuchet MS"/>
              </a:rPr>
              <a:t>Перебегал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d3131"/>
                </a:solidFill>
                <a:latin typeface="Trebuchet MS"/>
              </a:rPr>
              <a:t>Обжигает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d3131"/>
                </a:solidFill>
                <a:latin typeface="Trebuchet MS"/>
              </a:rPr>
              <a:t>Раздаетс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d3131"/>
                </a:solidFill>
                <a:latin typeface="Trebuchet MS"/>
              </a:rPr>
              <a:t>Нарисую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0" y="139680"/>
            <a:ext cx="8229600" cy="1281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В каком ряду в обоих словах пишется одна и та же буква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Раста…л, они терп…т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Он спрашива…т, накле…л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Поддерж…м, он бре…тся</a:t>
            </a:r>
            <a:r>
              <a:rPr b="1" lang="ru-RU" sz="2200" spc="-1" strike="noStrike">
                <a:solidFill>
                  <a:srgbClr val="7030a0"/>
                </a:solidFill>
                <a:latin typeface="Arial"/>
              </a:rPr>
              <a:t>, в</a:t>
            </a: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ыгон…т, расстел…м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0" y="139680"/>
            <a:ext cx="8229600" cy="1281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В каком ряду в обоих словах пишется Ь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Улыбаеш…ся, поднимает…с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Сбереч…, угадывает…с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Надо трудит…ся, заслушаеш…с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Испеч…, слышит…с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2" descr=""/>
          <p:cNvPicPr/>
          <p:nvPr/>
        </p:nvPicPr>
        <p:blipFill>
          <a:blip r:embed="rId1"/>
          <a:stretch/>
        </p:blipFill>
        <p:spPr>
          <a:xfrm>
            <a:off x="1328760" y="152280"/>
            <a:ext cx="6516720" cy="12495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3240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ие сведения о глаголе мы повторили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вам особенно запомнилось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Picture 5" descr="C:\Windows\system32\config\systemprofile\Desktop\сова.jpg"/>
          <p:cNvPicPr/>
          <p:nvPr/>
        </p:nvPicPr>
        <p:blipFill>
          <a:blip r:embed="rId2"/>
          <a:stretch/>
        </p:blipFill>
        <p:spPr>
          <a:xfrm>
            <a:off x="5076720" y="2852640"/>
            <a:ext cx="3248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6600"/>
                </a:solidFill>
                <a:latin typeface="Trebuchet MS"/>
              </a:rPr>
              <a:t>Цель:</a:t>
            </a:r>
            <a:r>
              <a:rPr b="1" lang="ru-RU" sz="4600" spc="-1" strike="noStrike">
                <a:solidFill>
                  <a:srgbClr val="0000ff"/>
                </a:solidFill>
                <a:latin typeface="Trebuchet MS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Повторить изученное о глаголе в 5 классе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Trebuchet MS"/>
              </a:rPr>
              <a:t>Задачи: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- Вспомнить условия выбора личного окончания глагола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- Уметь определять вид и время глагола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- Повторить правописание НЕ с глаголом и -ТСЯ –  -ТЬС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dd3131"/>
                </a:solidFill>
                <a:latin typeface="Trebuchet MS"/>
              </a:rPr>
              <a:t>Текст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4288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Белеет парус одинокий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В тумане моря голубом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Что ищет он в стране далекой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Что кинул он в краю родном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Играют волны, ветер свищет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И мачта гнется и скрипит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Увы, он счастия не ище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И не от счастия бежит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 algn="r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М.Лермонтов</a:t>
            </a:r>
            <a:r>
              <a:rPr b="1" lang="ru-RU" sz="2800" spc="-1" strike="noStrike">
                <a:solidFill>
                  <a:srgbClr val="0000ff"/>
                </a:solidFill>
                <a:latin typeface="Trebuchet MS"/>
              </a:rPr>
              <a:t>     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6012000" y="907920"/>
            <a:ext cx="267156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dd3131"/>
                </a:solidFill>
                <a:latin typeface="Trebuchet MS"/>
              </a:rPr>
              <a:t>Задания к тексту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04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Какое настроение остается от записанных строчек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Какие слова употреблены в переносном значении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Найдите в данном тексте глаголы. Как вы определили, что это глаголы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Что такое глагол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В каком времени стоят глаголы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Какие виды глагола вы знаете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Как определить вид глагола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Сверьте ваши выводы с параграфом учебни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dd3131"/>
                </a:solidFill>
                <a:latin typeface="Trebuchet MS"/>
              </a:rPr>
              <a:t>Глагол</a:t>
            </a:r>
            <a:r>
              <a:rPr b="1" lang="ru-RU" sz="4600" spc="-1" strike="noStrike">
                <a:solidFill>
                  <a:srgbClr val="0000ff"/>
                </a:solidFill>
                <a:latin typeface="Trebuchet MS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Это в памяти остается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Повторяется, как молва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Сердце бьется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Армия бьется –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Одинаковые слов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Одинаковые глаголы –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Не случайные наверня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1731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Одинаковые законы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И у сердца, и у пол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Говорится, словно поетс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С интонацией вихревой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Бьется армия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Сердце бьется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Бьется знамя над голово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Р.Рождественски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dd3131"/>
                </a:solidFill>
                <a:latin typeface="Trebuchet MS"/>
              </a:rPr>
              <a:t>Задания к тексту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Найдите и подчеркните в тексте глаголы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Почему поэт называет глагол «бьется» одинаковым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Одинаковы ли они по смыслу? Как мы называем такие слова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Как вы понимаете слова поэта: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«одинаковые законы и у сердца, и у полка»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Какие вопросы вы зададите к записанному тексту? Графически обозначьте орфограммы в глаголах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dd3131"/>
                </a:solidFill>
                <a:latin typeface="Trebuchet MS"/>
              </a:rPr>
              <a:t>Почему?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176760" algn="ctr">
              <a:spcBef>
                <a:spcPts val="9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 u="sng">
                <a:solidFill>
                  <a:srgbClr val="dd3131"/>
                </a:solidFill>
                <a:uFillTx/>
                <a:latin typeface="Trebuchet MS"/>
              </a:rPr>
              <a:t>Не</a:t>
            </a:r>
            <a:r>
              <a:rPr b="1" lang="ru-RU" sz="37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ru-RU" sz="3700" spc="-1" strike="noStrike">
                <a:solidFill>
                  <a:srgbClr val="000000"/>
                </a:solidFill>
                <a:latin typeface="Trebuchet MS"/>
              </a:rPr>
              <a:t>разгорае</a:t>
            </a:r>
            <a:r>
              <a:rPr b="1" lang="ru-RU" sz="3700" spc="-1" strike="noStrike" u="sng">
                <a:solidFill>
                  <a:srgbClr val="c00000"/>
                </a:solidFill>
                <a:uFillTx/>
                <a:latin typeface="Trebuchet MS"/>
              </a:rPr>
              <a:t>тся</a:t>
            </a:r>
            <a:r>
              <a:rPr b="1" lang="ru-RU" sz="37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ru-RU" sz="3700" spc="-1" strike="noStrike">
                <a:solidFill>
                  <a:srgbClr val="000000"/>
                </a:solidFill>
                <a:latin typeface="Trebuchet MS"/>
              </a:rPr>
              <a:t>–</a:t>
            </a:r>
            <a:r>
              <a:rPr b="1" lang="ru-RU" sz="37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ru-RU" sz="3700" spc="-1" strike="noStrike" u="sng">
                <a:solidFill>
                  <a:srgbClr val="c00000"/>
                </a:solidFill>
                <a:uFillTx/>
                <a:latin typeface="Trebuchet MS"/>
              </a:rPr>
              <a:t>не</a:t>
            </a:r>
            <a:r>
              <a:rPr b="1" lang="ru-RU" sz="37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ru-RU" sz="3700" spc="-1" strike="noStrike">
                <a:solidFill>
                  <a:srgbClr val="000000"/>
                </a:solidFill>
                <a:latin typeface="Trebuchet MS"/>
              </a:rPr>
              <a:t>разгора</a:t>
            </a:r>
            <a:r>
              <a:rPr b="1" lang="ru-RU" sz="3700" spc="-1" strike="noStrike" u="sng">
                <a:solidFill>
                  <a:srgbClr val="c00000"/>
                </a:solidFill>
                <a:uFillTx/>
                <a:latin typeface="Trebuchet MS"/>
              </a:rPr>
              <a:t>ться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ctr">
              <a:spcBef>
                <a:spcPts val="9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 u="sng">
                <a:solidFill>
                  <a:srgbClr val="c00000"/>
                </a:solidFill>
                <a:uFillTx/>
                <a:latin typeface="Trebuchet MS"/>
              </a:rPr>
              <a:t>Не</a:t>
            </a:r>
            <a:r>
              <a:rPr b="1" lang="ru-RU" sz="37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ru-RU" sz="3700" spc="-1" strike="noStrike">
                <a:solidFill>
                  <a:srgbClr val="000000"/>
                </a:solidFill>
                <a:latin typeface="Trebuchet MS"/>
              </a:rPr>
              <a:t>разливае</a:t>
            </a:r>
            <a:r>
              <a:rPr b="1" lang="ru-RU" sz="3700" spc="-1" strike="noStrike" u="sng">
                <a:solidFill>
                  <a:srgbClr val="c00000"/>
                </a:solidFill>
                <a:uFillTx/>
                <a:latin typeface="Trebuchet MS"/>
              </a:rPr>
              <a:t>тся</a:t>
            </a:r>
            <a:r>
              <a:rPr b="1" lang="ru-RU" sz="37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ru-RU" sz="3700" spc="-1" strike="noStrike">
                <a:solidFill>
                  <a:srgbClr val="000000"/>
                </a:solidFill>
                <a:latin typeface="Trebuchet MS"/>
              </a:rPr>
              <a:t>–</a:t>
            </a:r>
            <a:r>
              <a:rPr b="1" lang="ru-RU" sz="37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ru-RU" sz="3700" spc="-1" strike="noStrike" u="sng">
                <a:solidFill>
                  <a:srgbClr val="c00000"/>
                </a:solidFill>
                <a:uFillTx/>
                <a:latin typeface="Trebuchet MS"/>
              </a:rPr>
              <a:t>не</a:t>
            </a:r>
            <a:r>
              <a:rPr b="1" lang="ru-RU" sz="37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ru-RU" sz="3700" spc="-1" strike="noStrike">
                <a:solidFill>
                  <a:srgbClr val="000000"/>
                </a:solidFill>
                <a:latin typeface="Trebuchet MS"/>
              </a:rPr>
              <a:t>разлива</a:t>
            </a:r>
            <a:r>
              <a:rPr b="1" lang="ru-RU" sz="3700" spc="-1" strike="noStrike" u="sng">
                <a:solidFill>
                  <a:srgbClr val="c00000"/>
                </a:solidFill>
                <a:uFillTx/>
                <a:latin typeface="Trebuchet MS"/>
              </a:rPr>
              <a:t>ться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ctr">
              <a:spcBef>
                <a:spcPts val="9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 u="sng">
                <a:solidFill>
                  <a:srgbClr val="c00000"/>
                </a:solidFill>
                <a:uFillTx/>
                <a:latin typeface="Trebuchet MS"/>
              </a:rPr>
              <a:t>Не</a:t>
            </a:r>
            <a:r>
              <a:rPr b="1" lang="ru-RU" sz="37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ru-RU" sz="3700" spc="-1" strike="noStrike">
                <a:solidFill>
                  <a:srgbClr val="000000"/>
                </a:solidFill>
                <a:latin typeface="Trebuchet MS"/>
              </a:rPr>
              <a:t>ра</a:t>
            </a:r>
            <a:r>
              <a:rPr b="1" lang="ru-RU" sz="3700" spc="-1" strike="noStrike" u="sng">
                <a:solidFill>
                  <a:srgbClr val="c00000"/>
                </a:solidFill>
                <a:uFillTx/>
                <a:latin typeface="Trebuchet MS"/>
              </a:rPr>
              <a:t>сс</a:t>
            </a:r>
            <a:r>
              <a:rPr b="1" lang="ru-RU" sz="3700" spc="-1" strike="noStrike">
                <a:solidFill>
                  <a:srgbClr val="000000"/>
                </a:solidFill>
                <a:latin typeface="Trebuchet MS"/>
              </a:rPr>
              <a:t>тилае</a:t>
            </a:r>
            <a:r>
              <a:rPr b="1" lang="ru-RU" sz="3700" spc="-1" strike="noStrike" u="sng">
                <a:solidFill>
                  <a:srgbClr val="c00000"/>
                </a:solidFill>
                <a:uFillTx/>
                <a:latin typeface="Trebuchet MS"/>
              </a:rPr>
              <a:t>тся</a:t>
            </a:r>
            <a:r>
              <a:rPr b="1" lang="ru-RU" sz="37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ru-RU" sz="3700" spc="-1" strike="noStrike">
                <a:solidFill>
                  <a:srgbClr val="000000"/>
                </a:solidFill>
                <a:latin typeface="Trebuchet MS"/>
              </a:rPr>
              <a:t>–</a:t>
            </a:r>
            <a:r>
              <a:rPr b="1" lang="ru-RU" sz="37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ru-RU" sz="3700" spc="-1" strike="noStrike" u="sng">
                <a:solidFill>
                  <a:srgbClr val="c00000"/>
                </a:solidFill>
                <a:uFillTx/>
                <a:latin typeface="Trebuchet MS"/>
              </a:rPr>
              <a:t>не</a:t>
            </a:r>
            <a:r>
              <a:rPr b="1" lang="ru-RU" sz="37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ru-RU" sz="3700" spc="-1" strike="noStrike">
                <a:solidFill>
                  <a:srgbClr val="000000"/>
                </a:solidFill>
                <a:latin typeface="Trebuchet MS"/>
              </a:rPr>
              <a:t>ра</a:t>
            </a:r>
            <a:r>
              <a:rPr b="1" lang="ru-RU" sz="3700" spc="-1" strike="noStrike" u="sng">
                <a:solidFill>
                  <a:srgbClr val="c00000"/>
                </a:solidFill>
                <a:uFillTx/>
                <a:latin typeface="Trebuchet MS"/>
              </a:rPr>
              <a:t>сс</a:t>
            </a:r>
            <a:r>
              <a:rPr b="1" lang="ru-RU" sz="3700" spc="-1" strike="noStrike">
                <a:solidFill>
                  <a:srgbClr val="000000"/>
                </a:solidFill>
                <a:latin typeface="Trebuchet MS"/>
              </a:rPr>
              <a:t>тила</a:t>
            </a:r>
            <a:r>
              <a:rPr b="1" lang="ru-RU" sz="3700" spc="-1" strike="noStrike" u="sng">
                <a:solidFill>
                  <a:srgbClr val="c00000"/>
                </a:solidFill>
                <a:uFillTx/>
                <a:latin typeface="Trebuchet MS"/>
              </a:rPr>
              <a:t>ться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ctr">
              <a:spcBef>
                <a:spcPts val="9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ctr">
              <a:spcBef>
                <a:spcPts val="9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Trebuchet MS"/>
              </a:rPr>
              <a:t>Мне</a:t>
            </a:r>
            <a:r>
              <a:rPr b="1" lang="ru-RU" sz="37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ru-RU" sz="3700" spc="-1" strike="noStrike" u="sng">
                <a:solidFill>
                  <a:srgbClr val="c00000"/>
                </a:solidFill>
                <a:uFillTx/>
                <a:latin typeface="Trebuchet MS"/>
              </a:rPr>
              <a:t>не</a:t>
            </a:r>
            <a:r>
              <a:rPr b="1" lang="ru-RU" sz="3700" spc="-1" strike="noStrike">
                <a:solidFill>
                  <a:srgbClr val="000000"/>
                </a:solidFill>
                <a:latin typeface="Trebuchet MS"/>
              </a:rPr>
              <a:t>здорови</a:t>
            </a:r>
            <a:r>
              <a:rPr b="1" lang="ru-RU" sz="3700" spc="-1" strike="noStrike" u="sng">
                <a:solidFill>
                  <a:srgbClr val="c00000"/>
                </a:solidFill>
                <a:uFillTx/>
                <a:latin typeface="Trebuchet MS"/>
              </a:rPr>
              <a:t>тся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dd3131"/>
                </a:solidFill>
                <a:latin typeface="Trebuchet MS"/>
              </a:rPr>
              <a:t>Разбор предложения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Запишите предложени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Разберите предложение по членам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rebuchet MS"/>
              </a:rPr>
              <a:t>      </a:t>
            </a:r>
            <a:r>
              <a:rPr b="1" lang="ru-RU" sz="4400" spc="-1" strike="noStrike">
                <a:solidFill>
                  <a:srgbClr val="c00000"/>
                </a:solidFill>
                <a:latin typeface="Trebuchet MS"/>
              </a:rPr>
              <a:t>Перед дождём ласточки летают низко к земле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dd3131"/>
                </a:solidFill>
                <a:latin typeface="Trebuchet MS"/>
              </a:rPr>
              <a:t>Задания в рамках ЕГЭ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В каком случае НЕ со словом пишется слитно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rebuchet MS"/>
              </a:rPr>
              <a:t>(не) выйдет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rebuchet MS"/>
              </a:rPr>
              <a:t>(не)годуют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rebuchet MS"/>
              </a:rPr>
              <a:t>(не)сказал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rebuchet MS"/>
              </a:rPr>
              <a:t>(не)изменитс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8-08-01T14:01:52Z</dcterms:modified>
  <cp:revision>28</cp:revision>
  <dc:subject/>
  <dc:title>Слайд 1</dc:title>
</cp:coreProperties>
</file>