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D91-4C24-470E-8D72-DCBD3B24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E0F-F49F-41F1-B08F-3DA22855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4D9-6353-4A43-86A6-02C4D876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420-31B8-41F5-B6C3-DDD11099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B523-9EE2-48F5-AAAB-B9B270FD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CC0-0EA6-4DDA-B7DE-75C5C659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75AB-CFD1-43A8-B465-D936E48F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B65B-D91C-46CB-BFA7-C0EA9828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2986-9EFE-46BF-ABA1-B8D1C0CA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8833-5681-4548-BD6A-6C41D051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EABE-863D-4A5A-B53A-E518DEBA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7CD-92F6-4F69-94A3-FF53E90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C6AA-F66A-428F-B4FF-7434DCD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6E36-CEBD-48E6-9498-180A357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CEC9-9C89-4E9D-8F38-D39FE567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DD91-E799-45B2-8B56-992E625C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9B05-7CF9-4AFF-8F91-BD70E0AA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46AD-A3C7-47BC-8D3A-C18D25A9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9752-BB15-4D3B-B5EE-15E964BB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F617-7FCD-4FF0-B716-4B05471E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605FC-0200-4916-B19F-0666440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346B-79D6-4961-B6AB-E92A0EC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1697-61FD-4269-AEB3-351286CE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F25D-3404-41B3-9E8C-AEF9DE14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E30C-6D16-48D7-8EEE-3C5B7CA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43A9-456C-469E-AD33-C9E87AF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5B86-899E-41FD-BFEB-18D50D1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5CD9-B5B8-4AA9-9A60-03A0CF0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2D8C-1EC5-4978-8F8C-B8AEE7DF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A729-20F8-4E27-9AFF-FC65213A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D8BB-A4A4-4452-AFE6-C64F9AE7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3E159-335C-4C31-8433-6FB592F1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4311-C5B9-4849-BA42-9CF45169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BF0-ACC7-410A-B234-F6026DA9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4DD9-F230-4977-85F1-0C4C4A32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DC04-5117-4C73-B947-FC19605C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8337-00EF-4125-AD62-7795033A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BD3A-A630-48C9-ACC6-33C90A3B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3652-DCEE-4436-836E-03B5D83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2B55-4BBB-4FDA-B881-31D7EA9D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B310F-815E-4832-83AC-E862DF8A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DB08-D1B7-44D1-84E0-458B7ACA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7ACB-ABD3-4601-AB24-C4147C94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0FE-14A6-4470-9D09-A9AA3E2C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7E4-9037-4F44-80A5-F867A13D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65C-3912-43D7-830B-01FB3BD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1E3-4E44-43D3-87F2-E545EDFD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9D5-DBCE-4F27-974D-8E8F20A6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918D-B6E9-4F90-ABAD-2F73D9EA59C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C33E-8D86-4C65-A1B0-A1AF1A4544E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E68E-54DD-44D0-A907-BCF7705E036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F7E6-E478-4715-9090-952ADDEAFBB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4" descr="d:\Мои документы\мамина папка\Презентации\мои шаблоны\6.jpg"/>
          <p:cNvPicPr/>
          <p:nvPr/>
        </p:nvPicPr>
        <p:blipFill>
          <a:blip r:embed="rId1"/>
          <a:srcRect l="14835" t="40629" r="53921" b="16674"/>
          <a:stretch/>
        </p:blipFill>
        <p:spPr>
          <a:xfrm>
            <a:off x="5867280" y="38322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d:\Мои документы\мамина папка\Презентации\мои шаблоны\3.jpg"/>
          <p:cNvPicPr/>
          <p:nvPr/>
        </p:nvPicPr>
        <p:blipFill>
          <a:blip r:embed="rId2"/>
          <a:srcRect l="8594" t="44793" r="59378" b="10415"/>
          <a:stretch/>
        </p:blipFill>
        <p:spPr>
          <a:xfrm>
            <a:off x="7236000" y="5002200"/>
            <a:ext cx="1357200" cy="1424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d:\Мои документы\мамина папка\Презентации\мои шаблоны\6.jpg"/>
          <p:cNvPicPr/>
          <p:nvPr/>
        </p:nvPicPr>
        <p:blipFill>
          <a:blip r:embed="rId3"/>
          <a:srcRect l="53911" t="40640" r="14856" b="16676"/>
          <a:stretch/>
        </p:blipFill>
        <p:spPr>
          <a:xfrm>
            <a:off x="3348000" y="3903840"/>
            <a:ext cx="428760" cy="571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d:\Мои документы\Мои рисунки\29304.jpg"/>
          <p:cNvPicPr/>
          <p:nvPr/>
        </p:nvPicPr>
        <p:blipFill>
          <a:blip r:embed="rId4"/>
          <a:stretch/>
        </p:blipFill>
        <p:spPr>
          <a:xfrm rot="7350600">
            <a:off x="2172600" y="1416600"/>
            <a:ext cx="637920" cy="452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d:\Мои документы\Мои рисунки\0_81a7_e2ce2488_XL.jpeg"/>
          <p:cNvPicPr/>
          <p:nvPr/>
        </p:nvPicPr>
        <p:blipFill>
          <a:blip r:embed="rId5"/>
          <a:stretch/>
        </p:blipFill>
        <p:spPr>
          <a:xfrm rot="9911400">
            <a:off x="7302240" y="2928600"/>
            <a:ext cx="852480" cy="635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8640" y="1187280"/>
            <a:ext cx="756144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ff"/>
                </a:solidFill>
                <a:latin typeface="Trebuchet MS"/>
              </a:rPr>
              <a:t>   </a:t>
            </a:r>
            <a:br>
              <a:rPr sz="4600"/>
            </a:b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Урок русского языка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6 классе по теме «Глагол» (повторение изученного в 5 классе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Picture 7" descr="d:\Мои документы\Мои рисунки\29304.jpg"/>
          <p:cNvPicPr/>
          <p:nvPr/>
        </p:nvPicPr>
        <p:blipFill>
          <a:blip r:embed="rId6"/>
          <a:stretch/>
        </p:blipFill>
        <p:spPr>
          <a:xfrm rot="7335600">
            <a:off x="1594800" y="4370040"/>
            <a:ext cx="703080" cy="500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d:\Мои документы\Мои рисунки\btterfly095.jpeg"/>
          <p:cNvPicPr/>
          <p:nvPr/>
        </p:nvPicPr>
        <p:blipFill>
          <a:blip r:embed="rId7"/>
          <a:stretch/>
        </p:blipFill>
        <p:spPr>
          <a:xfrm flipH="1" rot="1435800">
            <a:off x="6027840" y="750600"/>
            <a:ext cx="1171440" cy="812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d:\Мои документы\мамина папка\Презентации\мои шаблоны\3.jpg"/>
          <p:cNvPicPr/>
          <p:nvPr/>
        </p:nvPicPr>
        <p:blipFill>
          <a:blip r:embed="rId8"/>
          <a:srcRect l="8594" t="44793" r="59378" b="10415"/>
          <a:stretch/>
        </p:blipFill>
        <p:spPr>
          <a:xfrm>
            <a:off x="4010040" y="4930920"/>
            <a:ext cx="1357200" cy="142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d:\Мои документы\мамина папка\Презентации\мои шаблоны\3.jpg"/>
          <p:cNvPicPr/>
          <p:nvPr/>
        </p:nvPicPr>
        <p:blipFill>
          <a:blip r:embed="rId9"/>
          <a:srcRect l="8594" t="44793" r="59378" b="10415"/>
          <a:stretch/>
        </p:blipFill>
        <p:spPr>
          <a:xfrm>
            <a:off x="395280" y="5002200"/>
            <a:ext cx="13572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0" y="139680"/>
            <a:ext cx="8229600" cy="1281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ой глагол совершенного вид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3131"/>
                </a:solidFill>
                <a:latin typeface="Trebuchet MS"/>
              </a:rPr>
              <a:t>Перебегал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3131"/>
                </a:solidFill>
                <a:latin typeface="Trebuchet MS"/>
              </a:rPr>
              <a:t>Обжигае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3131"/>
                </a:solidFill>
                <a:latin typeface="Trebuchet MS"/>
              </a:rPr>
              <a:t>Раздает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3131"/>
                </a:solidFill>
                <a:latin typeface="Trebuchet MS"/>
              </a:rPr>
              <a:t>Нарисую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0" y="139680"/>
            <a:ext cx="8229600" cy="1281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В каком ряду в обоих словах пишется одна и та же бук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Раста…л, они терп…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Он спрашива…т, накле…л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Поддерж…м, он бре…тся</a:t>
            </a:r>
            <a:r>
              <a:rPr b="1" lang="ru-RU" sz="2200" spc="-1" strike="noStrike">
                <a:solidFill>
                  <a:srgbClr val="7030a0"/>
                </a:solidFill>
                <a:latin typeface="Arial"/>
              </a:rPr>
              <a:t>, в</a:t>
            </a: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ыгон…т, расстел…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0" y="139680"/>
            <a:ext cx="8229600" cy="1281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В каком ряду в обоих словах пишется Ь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Улыбаеш…ся, поднимает…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Сбереч…, угадывает…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Надо трудит…ся, заслушаеш…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</a:rPr>
              <a:t>Испеч…, слышит…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1328760" y="152280"/>
            <a:ext cx="6516720" cy="1249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сведения о глаголе мы повторили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вам особенно запомнилось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5" descr="C:\Windows\system32\config\systemprofile\Desktop\сова.jpg"/>
          <p:cNvPicPr/>
          <p:nvPr/>
        </p:nvPicPr>
        <p:blipFill>
          <a:blip r:embed="rId2"/>
          <a:stretch/>
        </p:blipFill>
        <p:spPr>
          <a:xfrm>
            <a:off x="5076720" y="2852640"/>
            <a:ext cx="3248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6600"/>
                </a:solidFill>
                <a:latin typeface="Trebuchet MS"/>
              </a:rPr>
              <a:t>Цель:</a:t>
            </a:r>
            <a:r>
              <a:rPr b="1" lang="ru-RU" sz="46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Повторить изученное о глаголе в 5 класс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rebuchet MS"/>
              </a:rPr>
              <a:t>Задачи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- Вспомнить условия выбора личного окончания глагол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- Уметь определять вид и время глагола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- Повторить правописание НЕ с глаголом и -ТСЯ –  -ТЬ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Текст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Белеет парус одинокий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В тумане моря голуб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Что ищет он в стране далекой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Что кинул он в краю родном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грают волны, ветер свищет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 мачта гнется и скрипит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Увы, он счастия не ищет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 не от счастия бежи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М.Лермонтов</a:t>
            </a: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26715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Задания к тексту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ое настроение остается от записанных строчек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ие слова употреблены в переносном значени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Найдите в данном тексте глаголы. Как вы определили, что это глаголы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Что такое глагол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В каком времени стоят глаголы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ие виды глагола вы знаете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 определить вид глагол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104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Сверьте ваши выводы с параграфом уче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Глагол</a:t>
            </a:r>
            <a:r>
              <a:rPr b="1" lang="ru-RU" sz="46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Это в памяти остаетс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овторяется, как молва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ердце бьетс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Армия бьется –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динаковые сло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динаковые глаголы –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е случайные наверня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динаковые закон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И у сердца, и у пол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Говорится, словно поетс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 интонацией вихревой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Бьется арми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ердце бьется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Бьется знамя над голово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.Рождественск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Задания к тексту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Найдите и подчеркните в тексте глагол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Почему поэт называет глагол «бьется» одинаковы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Одинаковы ли они по смыслу? Как мы называем такие сло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 вы понимаете слова поэта: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«одинаковые законы и у сердца, и у полка»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Какие вопросы вы зададите к записанному тексту? Графически обозначьте орфограммы в глагол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Почему?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dd3131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згорае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ся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згор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ься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зливае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ся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злив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ься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сс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тилае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ся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р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сс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тила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ься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 algn="ctr">
              <a:spcBef>
                <a:spcPts val="9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Мне</a:t>
            </a:r>
            <a:r>
              <a:rPr b="1" lang="ru-RU" sz="3700" spc="-1" strike="noStrike">
                <a:solidFill>
                  <a:srgbClr val="0000ff"/>
                </a:solidFill>
                <a:latin typeface="Trebuchet MS"/>
              </a:rPr>
              <a:t> 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не</a:t>
            </a:r>
            <a:r>
              <a:rPr b="1" lang="ru-RU" sz="3700" spc="-1" strike="noStrike">
                <a:solidFill>
                  <a:srgbClr val="000000"/>
                </a:solidFill>
                <a:latin typeface="Trebuchet MS"/>
              </a:rPr>
              <a:t>здорови</a:t>
            </a:r>
            <a:r>
              <a:rPr b="1" lang="ru-RU" sz="3700" spc="-1" strike="noStrike" u="sng">
                <a:solidFill>
                  <a:srgbClr val="c00000"/>
                </a:solidFill>
                <a:uFillTx/>
                <a:latin typeface="Trebuchet MS"/>
              </a:rPr>
              <a:t>тся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Разбор предложения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Запишите предложен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Разберите предложение по члена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c00000"/>
                </a:solidFill>
                <a:latin typeface="Trebuchet MS"/>
              </a:rPr>
              <a:t>Перед дождём ласточки летают низко к земле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dd3131"/>
                </a:solidFill>
                <a:latin typeface="Trebuchet MS"/>
              </a:rPr>
              <a:t>Задания в рамках ЕГЭ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- В каком случае НЕ со словом пишется слитно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(не) выйде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(не)годуют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(не)сказа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(не)изменит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8-01T14:01:52Z</dcterms:modified>
  <cp:revision>28</cp:revision>
  <dc:subject/>
  <dc:title>Слайд 1</dc:title>
</cp:coreProperties>
</file>