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chimes.wav" ContentType="audio/x-wav"/>
  <Override PartName="/ppt/media/image16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gif" ContentType="image/gif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A166-CE54-4837-98BA-77975233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6904-826F-4373-8DB0-2A810429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732-FF0C-46E4-842C-3369EA88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5118-6992-4D2F-8C7D-172F1B087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4F28-14DB-4096-8D9D-AFC1FDF6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FDDB-B38A-4245-959E-D3394D9F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2C58-BC35-4D1B-AB04-21CF88E1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279F-9A8F-4683-B23D-0EDAE1581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5CA-013E-40DA-925D-A3A8EF3BC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A967-E123-4EF1-BBE3-90C70AA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A802-1655-478D-9702-490022B0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4FE-25C3-48CC-9CC6-BB2AA55A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8345-A4EB-42B2-BFEF-D4AB7FAA9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image" Target="../media/image21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2.gif"/><Relationship Id="rId23" Type="http://schemas.openxmlformats.org/officeDocument/2006/relationships/image" Target="../media/image22.gif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79280" y="5738760"/>
            <a:ext cx="6769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ДЕД МОРОЗ?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472428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ТО ТАКОЙ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pic>
        <p:nvPicPr>
          <p:cNvPr id="44" name="Picture 7" descr="651"/>
          <p:cNvPicPr/>
          <p:nvPr/>
        </p:nvPicPr>
        <p:blipFill>
          <a:blip r:embed="rId2"/>
          <a:stretch/>
        </p:blipFill>
        <p:spPr>
          <a:xfrm flipH="1">
            <a:off x="-3565440" y="3141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1.41632 -0.6189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rest2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- великий  чародей. У  него  есть  волшебное  зерк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которое  он  смотрится  каждое  утро  и  оттого  не  старе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 ведь  деду  перевалило  за  2000 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ed_moroz_i_le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нь  рождения  Дед  Мороз  отмечает  18  ноябр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у  дату  придумали  ему  сами  де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 именно  18  ноября  на  его  вотчине - в  Великом  Устюг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свои  права  вступает  настоящая зима,  и  ударяют  мо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7007480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-214200" y="5657760"/>
            <a:ext cx="93582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у  и  конечно, одна  из  самых  главных  забот  Деда Мороза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петь  прочитать  все  письма  до  наступления  Нового 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 год  к  Деду  Морозу  приходит  до  пятисот  тысяч  пис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целая  белоснежная  г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VU2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 внимательно  прочитывает  каждое  письм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бы  принести  ребятам  подарки, которые  они  захо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й  Дед  Мороз – это  очень  весёлый  и  добрый 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знать  его  можно  по  длинной  белой  бороде, красной шап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лшебному  посоху  и  большому  мешку  с  подар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4643280" y="5373720"/>
            <a:ext cx="40942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Gothic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237823451_d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 добрый  Дедушка  с  длинной  бородой  и  в  валенк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приносит  всем  подарки  в  своём  волшебном  меш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знаешь  ли  ты, откуда  он  появился, где  живёт?  Тогда  я  расскажу  т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nat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шего  доброго  Дедушку  раньше  называли  Дед  Треску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был  маленьким  суровым  старичком  с  длинной  бород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еной  Деда  Мороза  была  злая  старуха  Зим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 ещё  у  него  была  прекрасная  внучка – Снегуроч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42094big копия"/>
          <p:cNvPicPr/>
          <p:nvPr/>
        </p:nvPicPr>
        <p:blipFill>
          <a:blip r:embed="rId2"/>
          <a:stretch/>
        </p:blipFill>
        <p:spPr>
          <a:xfrm>
            <a:off x="714240" y="2000160"/>
            <a:ext cx="3997440" cy="360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wwwdet-sadcom_baba копия"/>
          <p:cNvPicPr/>
          <p:nvPr/>
        </p:nvPicPr>
        <p:blipFill>
          <a:blip r:embed="rId3"/>
          <a:stretch/>
        </p:blipFill>
        <p:spPr>
          <a:xfrm>
            <a:off x="6858000" y="0"/>
            <a:ext cx="20080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47201bf395f1 копия"/>
          <p:cNvPicPr/>
          <p:nvPr/>
        </p:nvPicPr>
        <p:blipFill>
          <a:blip r:embed="rId4"/>
          <a:stretch/>
        </p:blipFill>
        <p:spPr>
          <a:xfrm>
            <a:off x="4857840" y="642960"/>
            <a:ext cx="24066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ed_moroz_snegur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негурочка  удивительно  красивая, ласковая  и  милая  деву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 любит  снег  и  холод, а  от  солнечных  лучей  та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на  детские  праздники  она  приходит  с  большой  радость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звится,  водит  вместе  с  детишками  хоро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age_8"/>
          <p:cNvPicPr/>
          <p:nvPr/>
        </p:nvPicPr>
        <p:blipFill>
          <a:blip r:embed="rId1"/>
          <a:stretch/>
        </p:blipFill>
        <p:spPr>
          <a:xfrm>
            <a:off x="0" y="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вёт  Дед  Мороз  в  своей  собственной  резиденц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ая  находится  в  Великом  Устюге (Вологодская область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 вы  напишете  письмо  и  отправите  его  по  адрес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ологодская  область, г. Великий  Устюг, резиденция  Деда  Мороза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о  непременно  дойдёт  до  адрес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98"/>
          <p:cNvPicPr/>
          <p:nvPr/>
        </p:nvPicPr>
        <p:blipFill>
          <a:blip r:embed="rId2"/>
          <a:stretch/>
        </p:blipFill>
        <p:spPr>
          <a:xfrm>
            <a:off x="428760" y="3929040"/>
            <a:ext cx="2044440" cy="26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7285414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третить  Деда  Мороза  можно  только  зим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не  стоит  думать, что  весь  год  он  просто  отдыха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, он  работает  у  себя  дома. В  чём  же  заключается  рабо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64"/>
          <p:cNvPicPr/>
          <p:nvPr/>
        </p:nvPicPr>
        <p:blipFill>
          <a:blip r:embed="rId2"/>
          <a:stretch/>
        </p:blipFill>
        <p:spPr>
          <a:xfrm>
            <a:off x="324000" y="2830680"/>
            <a:ext cx="195552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36768753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Доме  Деда  Мороза  находится  мастерск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 он  создает авторские  новогодние  подарки: вырезает  по  дерев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карит, паяет, выдувает, красит, лакирует, шлифу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593424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- гениальный  художник  по  стеклу. Долгими  зимними  ноч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рисует  картины  без  красок  и  кисточки, а  собственным  ледяным  дыханием. А  потом  устраивает  выставки  на  окошках  наших с вами  домов  и  автомоби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0_7345_367445d0_XL"/>
          <p:cNvPicPr/>
          <p:nvPr/>
        </p:nvPicPr>
        <p:blipFill>
          <a:blip r:embed="rId2"/>
          <a:stretch/>
        </p:blipFill>
        <p:spPr>
          <a:xfrm>
            <a:off x="395280" y="404640"/>
            <a:ext cx="3995640" cy="532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10284_836b11a9"/>
          <p:cNvPicPr/>
          <p:nvPr/>
        </p:nvPicPr>
        <p:blipFill>
          <a:blip r:embed="rId3"/>
          <a:stretch/>
        </p:blipFill>
        <p:spPr>
          <a:xfrm>
            <a:off x="4716360" y="404640"/>
            <a:ext cx="4049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nowflake_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nowflake_0243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nowflake_031"/>
          <p:cNvPicPr/>
          <p:nvPr/>
        </p:nvPicPr>
        <p:blipFill>
          <a:blip r:embed="rId3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бит  Дед  Мороз  и  научные  эксперимен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постоянно  придумывает  новые  формы  снежинок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ставь  ладошку  под  падающий  снег  и  поднесите  её  к  глазам. Ты  увидишь, что  каждая  созданная  Дедом  Морозом снежинка  совершенна  и  неповторим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113"/>
          <p:cNvPicPr/>
          <p:nvPr/>
        </p:nvPicPr>
        <p:blipFill>
          <a:blip r:embed="rId4"/>
          <a:stretch/>
        </p:blipFill>
        <p:spPr>
          <a:xfrm>
            <a:off x="324000" y="26028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113"/>
          <p:cNvPicPr/>
          <p:nvPr/>
        </p:nvPicPr>
        <p:blipFill>
          <a:blip r:embed="rId5"/>
          <a:stretch/>
        </p:blipFill>
        <p:spPr>
          <a:xfrm>
            <a:off x="468360" y="2349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113"/>
          <p:cNvPicPr/>
          <p:nvPr/>
        </p:nvPicPr>
        <p:blipFill>
          <a:blip r:embed="rId6"/>
          <a:stretch/>
        </p:blipFill>
        <p:spPr>
          <a:xfrm>
            <a:off x="2195640" y="1125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13"/>
          <p:cNvPicPr/>
          <p:nvPr/>
        </p:nvPicPr>
        <p:blipFill>
          <a:blip r:embed="rId7"/>
          <a:stretch/>
        </p:blipFill>
        <p:spPr>
          <a:xfrm>
            <a:off x="4140360" y="18900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113"/>
          <p:cNvPicPr/>
          <p:nvPr/>
        </p:nvPicPr>
        <p:blipFill>
          <a:blip r:embed="rId8"/>
          <a:stretch/>
        </p:blipFill>
        <p:spPr>
          <a:xfrm>
            <a:off x="4067280" y="213372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113"/>
          <p:cNvPicPr/>
          <p:nvPr/>
        </p:nvPicPr>
        <p:blipFill>
          <a:blip r:embed="rId9"/>
          <a:stretch/>
        </p:blipFill>
        <p:spPr>
          <a:xfrm>
            <a:off x="2484360" y="321300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113"/>
          <p:cNvPicPr/>
          <p:nvPr/>
        </p:nvPicPr>
        <p:blipFill>
          <a:blip r:embed="rId10"/>
          <a:stretch/>
        </p:blipFill>
        <p:spPr>
          <a:xfrm>
            <a:off x="3995640" y="407664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113"/>
          <p:cNvPicPr/>
          <p:nvPr/>
        </p:nvPicPr>
        <p:blipFill>
          <a:blip r:embed="rId11"/>
          <a:stretch/>
        </p:blipFill>
        <p:spPr>
          <a:xfrm>
            <a:off x="5580000" y="306864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13"/>
          <p:cNvPicPr/>
          <p:nvPr/>
        </p:nvPicPr>
        <p:blipFill>
          <a:blip r:embed="rId12"/>
          <a:stretch/>
        </p:blipFill>
        <p:spPr>
          <a:xfrm>
            <a:off x="6804000" y="69228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113"/>
          <p:cNvPicPr/>
          <p:nvPr/>
        </p:nvPicPr>
        <p:blipFill>
          <a:blip r:embed="rId13"/>
          <a:stretch/>
        </p:blipFill>
        <p:spPr>
          <a:xfrm>
            <a:off x="7380360" y="393372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113"/>
          <p:cNvPicPr/>
          <p:nvPr/>
        </p:nvPicPr>
        <p:blipFill>
          <a:blip r:embed="rId14"/>
          <a:stretch/>
        </p:blipFill>
        <p:spPr>
          <a:xfrm>
            <a:off x="468360" y="450864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17"/>
          <p:cNvPicPr/>
          <p:nvPr/>
        </p:nvPicPr>
        <p:blipFill>
          <a:blip r:embed="rId15"/>
          <a:stretch/>
        </p:blipFill>
        <p:spPr>
          <a:xfrm>
            <a:off x="1547640" y="170028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17"/>
          <p:cNvPicPr/>
          <p:nvPr/>
        </p:nvPicPr>
        <p:blipFill>
          <a:blip r:embed="rId16"/>
          <a:stretch/>
        </p:blipFill>
        <p:spPr>
          <a:xfrm>
            <a:off x="2916360" y="5013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17"/>
          <p:cNvPicPr/>
          <p:nvPr/>
        </p:nvPicPr>
        <p:blipFill>
          <a:blip r:embed="rId17"/>
          <a:stretch/>
        </p:blipFill>
        <p:spPr>
          <a:xfrm>
            <a:off x="7451640" y="544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0" descr="17"/>
          <p:cNvPicPr/>
          <p:nvPr/>
        </p:nvPicPr>
        <p:blipFill>
          <a:blip r:embed="rId18"/>
          <a:stretch/>
        </p:blipFill>
        <p:spPr>
          <a:xfrm>
            <a:off x="7667640" y="17733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104"/>
          <p:cNvPicPr/>
          <p:nvPr/>
        </p:nvPicPr>
        <p:blipFill>
          <a:blip r:embed="rId19"/>
          <a:stretch/>
        </p:blipFill>
        <p:spPr>
          <a:xfrm>
            <a:off x="2124000" y="26028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104"/>
          <p:cNvPicPr/>
          <p:nvPr/>
        </p:nvPicPr>
        <p:blipFill>
          <a:blip r:embed="rId20"/>
          <a:stretch/>
        </p:blipFill>
        <p:spPr>
          <a:xfrm>
            <a:off x="1187280" y="32846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104"/>
          <p:cNvPicPr/>
          <p:nvPr/>
        </p:nvPicPr>
        <p:blipFill>
          <a:blip r:embed="rId21"/>
          <a:stretch/>
        </p:blipFill>
        <p:spPr>
          <a:xfrm>
            <a:off x="3348000" y="443700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104"/>
          <p:cNvPicPr/>
          <p:nvPr/>
        </p:nvPicPr>
        <p:blipFill>
          <a:blip r:embed="rId22"/>
          <a:stretch/>
        </p:blipFill>
        <p:spPr>
          <a:xfrm>
            <a:off x="6156360" y="4508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9" descr="104"/>
          <p:cNvPicPr/>
          <p:nvPr/>
        </p:nvPicPr>
        <p:blipFill>
          <a:blip r:embed="rId23"/>
          <a:stretch/>
        </p:blipFill>
        <p:spPr>
          <a:xfrm>
            <a:off x="5364000" y="177336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104"/>
          <p:cNvPicPr/>
          <p:nvPr/>
        </p:nvPicPr>
        <p:blipFill>
          <a:blip r:embed="rId24"/>
          <a:stretch/>
        </p:blipFill>
        <p:spPr>
          <a:xfrm>
            <a:off x="8459640" y="260280"/>
            <a:ext cx="52416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25:22Z</dcterms:created>
  <dc:creator>Ольга</dc:creator>
  <dc:description/>
  <dc:language>en-US</dc:language>
  <cp:lastModifiedBy>Домашний компьютер</cp:lastModifiedBy>
  <dcterms:modified xsi:type="dcterms:W3CDTF">2010-12-25T14:31:57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e0000000000010250600207f5000400038000</vt:lpwstr>
  </property>
</Properties>
</file>