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E1B9-2583-42E2-BC27-CEDC4DA1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77E6-34FD-4A30-90B7-A601EFC5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10E5-2B07-48C8-8086-C16F858C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9ABF-DB7F-4122-9FCC-7B7868CD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FF9C6-EE1D-428C-B0F9-F804A94A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FB85B-48B0-451F-8616-A0A1B29E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D85EB-4648-419A-A71D-FB357EAE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C342B-C77B-4668-A29E-8BBC4CC1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60E44-F822-484F-8C1C-8F781D07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B357F-0D37-40A1-866D-21D0B874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66FD5-5677-434E-8670-8F9C3B17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BEB3-0545-475D-BD0E-D600447F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E3B1F-0AE1-4B2A-966E-B445783E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92D59-066A-454E-81C4-80242F40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3A801-511E-4808-B6B1-FCB49476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A68E3-0D18-429A-B7BA-EE8874EC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9DBBC-8BAC-453B-B7A9-DF7D08C5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993-FCEE-457A-8D40-C584B831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E19D-11F1-441F-8990-1FBDC432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65F-7662-4A6E-B2F6-FBF4B656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1DAC-A1EE-4C32-B497-8F56D192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BDFC-3D44-46FA-9AA5-3E4BD291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2A52-F705-4410-8B54-434D2D57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9DD5-2ACA-4895-BA09-0256500A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A856-97E9-4B0E-8AAE-958EBA1446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25B8-2B43-44F8-ACA0-EF4083C4B4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Правила безопасного поведения на вод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Основные правила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поведения при купан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31669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несчастном случа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вод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усмотре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спас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асательные круг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леты и костюм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люпки и надувны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оты, установл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рядок 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54" descr="{18C45604-28A8-497D-BF25-28DB44BA7C63}"/>
          <p:cNvPicPr/>
          <p:nvPr/>
        </p:nvPicPr>
        <p:blipFill>
          <a:blip r:embed="rId1"/>
          <a:stretch/>
        </p:blipFill>
        <p:spPr>
          <a:xfrm>
            <a:off x="3780000" y="2133720"/>
            <a:ext cx="4824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ричины происшествий и несчастных случаев на вод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3500280"/>
            <a:ext cx="874872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еплую летнюю погоду купание доставляет большое удовольствие, но на воде происходят и трагические случайности. Одна из главных причин - неумение плавать, неумение держаться на во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Меры безопасности при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эксплуатации плавсредст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25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таясь на лодке, нельзя: пересаживаться, садиться на борта, перегружать её сверх установленной нормы, подплывать близко к гидротехническим сооружениям, судам, выплывать на фарвате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" name="Diagram 4"/>
          <p:cNvGrpSpPr/>
          <p:nvPr/>
        </p:nvGrpSpPr>
        <p:grpSpPr>
          <a:xfrm>
            <a:off x="3564000" y="1773360"/>
            <a:ext cx="5441760" cy="4572000"/>
            <a:chOff x="3564000" y="1773360"/>
            <a:chExt cx="5441760" cy="457200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5156280" y="3389400"/>
              <a:ext cx="5644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4021200" y="2643120"/>
              <a:ext cx="1681200" cy="844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Не нырять с плавсредства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5156280" y="4366440"/>
              <a:ext cx="5644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564000" y="4367160"/>
              <a:ext cx="1829160" cy="13028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Нельзя пересекать курс судна, кататься вблизи шлюзов, плотин и мостов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6307560" y="4630680"/>
              <a:ext cx="720" cy="65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5621760" y="5202360"/>
              <a:ext cx="1714680" cy="1143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При посадке в плавсредство не вставать на борта и сидень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34"/>
            <p:cNvSpPr/>
            <p:nvPr/>
          </p:nvSpPr>
          <p:spPr>
            <a:xfrm>
              <a:off x="6849000" y="4366440"/>
              <a:ext cx="5644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7326360" y="4516560"/>
              <a:ext cx="1679040" cy="6854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Не перегружать плавсредство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6849000" y="3390120"/>
              <a:ext cx="5644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6993720" y="2230560"/>
              <a:ext cx="2012040" cy="14857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Не сидеть на бортах, не переходить с места на место и не пересаживаться на другие плавательные средства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 flipV="1">
              <a:off x="6284880" y="2738160"/>
              <a:ext cx="0" cy="65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9"/>
            <p:cNvSpPr/>
            <p:nvPr/>
          </p:nvSpPr>
          <p:spPr>
            <a:xfrm>
              <a:off x="5621760" y="1773360"/>
              <a:ext cx="1474560" cy="10285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Во время движения не выставлять руки за борт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40"/>
            <p:cNvSpPr/>
            <p:nvPr/>
          </p:nvSpPr>
          <p:spPr>
            <a:xfrm>
              <a:off x="5050080" y="3373560"/>
              <a:ext cx="2389320" cy="1257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Меры безопасности при эксплуатации плавательных средст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6049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Действия человека, оказавшегося в вод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азавшись в воде, скиньте одежду и обувь. Если поблизости находятся плавсредства, постарайтесь подплыть к ним и посигнальте, чтобы вас замети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{DE0632F1-709F-4721-8504-95698005DF7E}"/>
          <p:cNvPicPr/>
          <p:nvPr/>
        </p:nvPicPr>
        <p:blipFill>
          <a:blip r:embed="rId1"/>
          <a:stretch/>
        </p:blipFill>
        <p:spPr>
          <a:xfrm>
            <a:off x="4643280" y="2133720"/>
            <a:ext cx="42498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Использование спасательных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              средст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утопающему подходить при хорошей погоде - кратчайшем путём, а при ветре или волнении - с подветренной стороны или против волны. При приближении к тонущему соблюдать осторожность. Поднимать пострадавшего из воды необходимо с носа или кормы лод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" name="Organization Chart 4"/>
          <p:cNvGrpSpPr/>
          <p:nvPr/>
        </p:nvGrpSpPr>
        <p:grpSpPr>
          <a:xfrm>
            <a:off x="4648320" y="2590560"/>
            <a:ext cx="4244400" cy="2162160"/>
            <a:chOff x="4648320" y="2590560"/>
            <a:chExt cx="4244400" cy="2162160"/>
          </a:xfrm>
        </p:grpSpPr>
        <p:cxnSp>
          <p:nvCxnSpPr>
            <p:cNvPr id="111" name="_s2052"/>
            <p:cNvCxnSpPr>
              <a:stCxn id="112" idx="0"/>
              <a:endCxn id="113" idx="2"/>
            </p:cNvCxnSpPr>
            <p:nvPr/>
          </p:nvCxnSpPr>
          <p:spPr>
            <a:xfrm flipV="1">
              <a:off x="7925040" y="3612960"/>
              <a:ext cx="1800" cy="23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2053"/>
            <p:cNvCxnSpPr>
              <a:stCxn id="115" idx="0"/>
              <a:endCxn id="116" idx="2"/>
            </p:cNvCxnSpPr>
            <p:nvPr/>
          </p:nvCxnSpPr>
          <p:spPr>
            <a:xfrm flipV="1">
              <a:off x="5615640" y="3612960"/>
              <a:ext cx="1800" cy="23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2054"/>
            <p:cNvCxnSpPr>
              <a:stCxn id="113" idx="0"/>
              <a:endCxn id="118" idx="2"/>
            </p:cNvCxnSpPr>
            <p:nvPr/>
          </p:nvCxnSpPr>
          <p:spPr>
            <a:xfrm flipV="1" rot="16200000">
              <a:off x="7233120" y="2546640"/>
              <a:ext cx="229320" cy="1154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055"/>
            <p:cNvCxnSpPr>
              <a:stCxn id="116" idx="0"/>
              <a:endCxn id="118" idx="2"/>
            </p:cNvCxnSpPr>
            <p:nvPr/>
          </p:nvCxnSpPr>
          <p:spPr>
            <a:xfrm flipH="1" flipV="1" rot="5400000">
              <a:off x="6078960" y="2545920"/>
              <a:ext cx="229320" cy="1155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2056"/>
            <p:cNvSpPr/>
            <p:nvPr/>
          </p:nvSpPr>
          <p:spPr>
            <a:xfrm>
              <a:off x="5013360" y="2590560"/>
              <a:ext cx="3514320" cy="41868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Tahoma"/>
                </a:rPr>
                <a:t>Способы использования плавсредств для спасения утопающих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_s2057"/>
            <p:cNvSpPr/>
            <p:nvPr/>
          </p:nvSpPr>
          <p:spPr>
            <a:xfrm>
              <a:off x="4700520" y="3237840"/>
              <a:ext cx="1831680" cy="37584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ри хорошей погод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_s2058"/>
            <p:cNvSpPr/>
            <p:nvPr/>
          </p:nvSpPr>
          <p:spPr>
            <a:xfrm>
              <a:off x="7008480" y="3237840"/>
              <a:ext cx="1831680" cy="37584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ри встречном волнении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_s2059"/>
            <p:cNvSpPr/>
            <p:nvPr/>
          </p:nvSpPr>
          <p:spPr>
            <a:xfrm>
              <a:off x="4648320" y="3842640"/>
              <a:ext cx="1936440" cy="91008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одходить кратчайшим путем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_s2060"/>
            <p:cNvSpPr/>
            <p:nvPr/>
          </p:nvSpPr>
          <p:spPr>
            <a:xfrm>
              <a:off x="6956280" y="3842640"/>
              <a:ext cx="1936440" cy="91008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одходить с подветренной стороны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или против волн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Техника спасения тонущего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              челове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плыв к утопающему, надо поднырнуть под него и, взяв сзади одним из приемов захвата, транспортировать к берегу, где при необходимости начать комплекс сердечно-лёгочной реаним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{683F7544-CB8F-4D15-9AF5-26168FA20B71}"/>
          <p:cNvPicPr/>
          <p:nvPr/>
        </p:nvPicPr>
        <p:blipFill>
          <a:blip r:embed="rId1"/>
          <a:stretch/>
        </p:blipFill>
        <p:spPr>
          <a:xfrm>
            <a:off x="4648320" y="1940040"/>
            <a:ext cx="403848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Основные правила поведения при купании на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               вод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стые советы: не купаться в незнакомых местах, не стараться плыть как можно дольше под водой, следить за младшими братьями (сестрами), не нарушать правил пользования плавсредств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{5C0D5BA5-F074-4B46-B421-5919F787CE42}"/>
          <p:cNvPicPr/>
          <p:nvPr/>
        </p:nvPicPr>
        <p:blipFill>
          <a:blip r:embed="rId1"/>
          <a:stretch/>
        </p:blipFill>
        <p:spPr>
          <a:xfrm>
            <a:off x="4427640" y="2448000"/>
            <a:ext cx="4465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007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Безопасное поведение на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замёрзших водоёма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движении по льду необходимо увеличить интервалы между людьми, растянуть или ослабить ремни рюкзаков, расстегнуть крепления лыж, приготовить верев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лед затрещал или начал ломаться - быстрее возвращайся скользящим шагом или ползком к берег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льзя ходить по льду во время оттепели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{40D76DC9-F3A0-440A-AA17-518144DCFC23}"/>
          <p:cNvPicPr/>
          <p:nvPr/>
        </p:nvPicPr>
        <p:blipFill>
          <a:blip r:embed="rId1"/>
          <a:stretch/>
        </p:blipFill>
        <p:spPr>
          <a:xfrm>
            <a:off x="4648320" y="2205000"/>
            <a:ext cx="41716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6:54:40Z</dcterms:created>
  <dc:creator>1</dc:creator>
  <dc:description/>
  <dc:language>en-US</dc:language>
  <cp:lastModifiedBy>HP</cp:lastModifiedBy>
  <dcterms:modified xsi:type="dcterms:W3CDTF">2018-08-01T20:21:18Z</dcterms:modified>
  <cp:revision>14</cp:revision>
  <dc:subject/>
  <dc:title>  Урок ОБЖ</dc:title>
</cp:coreProperties>
</file>