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9D4-41BE-4C0A-A4C3-1724A530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02C-A519-4D21-B502-83C0D5C7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F44-453A-4A43-BDC1-FAFD6AB1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F5E-EAF5-4EFD-BFEF-948F041E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4C6CF-995A-4E72-AD8C-16018ABA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DEE8E-444C-4299-B753-B1C4FE3D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73155-F6E8-477D-B2FF-78BE06C5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19580-78A9-4112-AB95-A07B4910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3E2AB-967A-4081-83CE-5472D319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29F75-5CAA-4250-B876-3F8BA3D9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E29A1-33C7-4C76-B7C9-FD409DC0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14E5-7C95-43A3-8CA7-C2354AE8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612E0-EB5B-42DC-93A0-0EF766B4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F7509-3E8C-4C36-8A16-B8BE6034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4DDD0-096F-45DE-A712-C7F0CAE8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6E115-21F1-48CD-8237-1D3C20DA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8B94D-F1D5-463A-B7D8-23F69242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AA7-BBB3-4874-9EF1-A7725BBC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9AD-238E-4E59-977E-D16F2A0E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7B2-35D2-4529-86F9-DE8113C2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F1B-727D-4DD7-9CB0-84C49069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59F-8369-4FE1-9051-BD702DE2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70C-9EF0-4D60-A061-9BA3CC0E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8FC-52BA-4E69-920B-B18D5629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69AE-B0F1-4C2E-8CB4-C8BA728C3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D866-4D5A-438D-856C-415CB5DF53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Правила безопасного поведения на вод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сновные правила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поведения при купан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31669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несчастном случа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вод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усмотре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спас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сательные круг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леты и костюм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люпки и надувн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оты, установл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рядок 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54" descr="{18C45604-28A8-497D-BF25-28DB44BA7C63}"/>
          <p:cNvPicPr/>
          <p:nvPr/>
        </p:nvPicPr>
        <p:blipFill>
          <a:blip r:embed="rId1"/>
          <a:stretch/>
        </p:blipFill>
        <p:spPr>
          <a:xfrm>
            <a:off x="3780000" y="2133720"/>
            <a:ext cx="4824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ричины происшествий и несчастных случаев на во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3500280"/>
            <a:ext cx="874872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теплую летнюю погоду купание доставляет большое удовольствие, но на воде происходят и трагические случайности. Одна из главных причин - неумение плавать, неумение держаться на в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Меры безопасности при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эксплуатации плавсредст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25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таясь на лодке, нельзя: пересаживаться, садиться на борта, перегружать её сверх установленной нормы, подплывать близко к гидротехническим сооружениям, судам, выплывать на фарвате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Diagram 4"/>
          <p:cNvGrpSpPr/>
          <p:nvPr/>
        </p:nvGrpSpPr>
        <p:grpSpPr>
          <a:xfrm>
            <a:off x="3564000" y="1773360"/>
            <a:ext cx="5441760" cy="4572000"/>
            <a:chOff x="3564000" y="1773360"/>
            <a:chExt cx="5441760" cy="457200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5156280" y="3389400"/>
              <a:ext cx="5644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4021200" y="2643120"/>
              <a:ext cx="1681200" cy="844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Не нырять с плавсредства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5156280" y="4366440"/>
              <a:ext cx="5644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564000" y="4367160"/>
              <a:ext cx="1829160" cy="13028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Нельзя пересекать курс судна, кататься вблизи шлюзов, плотин и мостов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6307560" y="4630680"/>
              <a:ext cx="720" cy="65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5621760" y="5202360"/>
              <a:ext cx="1714680" cy="1143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При посадке в плавсредство не вставать на борта и сидень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4"/>
            <p:cNvSpPr/>
            <p:nvPr/>
          </p:nvSpPr>
          <p:spPr>
            <a:xfrm>
              <a:off x="6849000" y="4366440"/>
              <a:ext cx="5644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7326360" y="4516560"/>
              <a:ext cx="1679040" cy="6854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Не перегружать плавсредство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6849000" y="3390120"/>
              <a:ext cx="5644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6993720" y="2230560"/>
              <a:ext cx="2012040" cy="14857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Не сидеть на бортах, не переходить с места на место и не пересаживаться на другие плавательные средства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 flipV="1">
              <a:off x="6284880" y="2738160"/>
              <a:ext cx="0" cy="65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9"/>
            <p:cNvSpPr/>
            <p:nvPr/>
          </p:nvSpPr>
          <p:spPr>
            <a:xfrm>
              <a:off x="5621760" y="1773360"/>
              <a:ext cx="1474560" cy="10285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Во время движения не выставлять руки за борт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40"/>
            <p:cNvSpPr/>
            <p:nvPr/>
          </p:nvSpPr>
          <p:spPr>
            <a:xfrm>
              <a:off x="5050080" y="3373560"/>
              <a:ext cx="2389320" cy="1257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Меры безопасности при эксплуатации плавательных средст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6049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Действия человека, оказавшегося в во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азавшись в воде, скиньте одежду и обувь. Если поблизости находятся плавсредства, постарайтесь подплыть к ним и посигнальте, чтобы вас замети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{DE0632F1-709F-4721-8504-95698005DF7E}"/>
          <p:cNvPicPr/>
          <p:nvPr/>
        </p:nvPicPr>
        <p:blipFill>
          <a:blip r:embed="rId1"/>
          <a:stretch/>
        </p:blipFill>
        <p:spPr>
          <a:xfrm>
            <a:off x="4643280" y="2133720"/>
            <a:ext cx="4249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Использование спасательных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       средст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утопающему подходить при хорошей погоде - кратчайшем путём, а при ветре или волнении - с подветренной стороны или против волны. При приближении к тонущему соблюдать осторожность. Поднимать пострадавшего из воды необходимо с носа или кормы лод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Organization Chart 4"/>
          <p:cNvGrpSpPr/>
          <p:nvPr/>
        </p:nvGrpSpPr>
        <p:grpSpPr>
          <a:xfrm>
            <a:off x="4648320" y="2590560"/>
            <a:ext cx="4244400" cy="2162160"/>
            <a:chOff x="4648320" y="2590560"/>
            <a:chExt cx="4244400" cy="2162160"/>
          </a:xfrm>
        </p:grpSpPr>
        <p:cxnSp>
          <p:nvCxnSpPr>
            <p:cNvPr id="111" name="_s2052"/>
            <p:cNvCxnSpPr>
              <a:stCxn id="112" idx="0"/>
              <a:endCxn id="113" idx="2"/>
            </p:cNvCxnSpPr>
            <p:nvPr/>
          </p:nvCxnSpPr>
          <p:spPr>
            <a:xfrm flipV="1">
              <a:off x="7925040" y="3612960"/>
              <a:ext cx="1800" cy="23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053"/>
            <p:cNvCxnSpPr>
              <a:stCxn id="115" idx="0"/>
              <a:endCxn id="116" idx="2"/>
            </p:cNvCxnSpPr>
            <p:nvPr/>
          </p:nvCxnSpPr>
          <p:spPr>
            <a:xfrm flipV="1">
              <a:off x="5615640" y="3612960"/>
              <a:ext cx="1800" cy="23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054"/>
            <p:cNvCxnSpPr>
              <a:stCxn id="113" idx="0"/>
              <a:endCxn id="118" idx="2"/>
            </p:cNvCxnSpPr>
            <p:nvPr/>
          </p:nvCxnSpPr>
          <p:spPr>
            <a:xfrm flipV="1" rot="16200000">
              <a:off x="7233120" y="2546640"/>
              <a:ext cx="229320" cy="1154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055"/>
            <p:cNvCxnSpPr>
              <a:stCxn id="116" idx="0"/>
              <a:endCxn id="118" idx="2"/>
            </p:cNvCxnSpPr>
            <p:nvPr/>
          </p:nvCxnSpPr>
          <p:spPr>
            <a:xfrm flipH="1" flipV="1" rot="5400000">
              <a:off x="6078960" y="2545920"/>
              <a:ext cx="229320" cy="1155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2056"/>
            <p:cNvSpPr/>
            <p:nvPr/>
          </p:nvSpPr>
          <p:spPr>
            <a:xfrm>
              <a:off x="5013360" y="2590560"/>
              <a:ext cx="3514320" cy="41868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Tahoma"/>
                </a:rPr>
                <a:t>Способы использования плавсредств для спасения утопающих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_s2057"/>
            <p:cNvSpPr/>
            <p:nvPr/>
          </p:nvSpPr>
          <p:spPr>
            <a:xfrm>
              <a:off x="4700520" y="3237840"/>
              <a:ext cx="1831680" cy="37584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ри хорошей погоде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2058"/>
            <p:cNvSpPr/>
            <p:nvPr/>
          </p:nvSpPr>
          <p:spPr>
            <a:xfrm>
              <a:off x="7008480" y="3237840"/>
              <a:ext cx="1831680" cy="37584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ри встречном волнен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_s2059"/>
            <p:cNvSpPr/>
            <p:nvPr/>
          </p:nvSpPr>
          <p:spPr>
            <a:xfrm>
              <a:off x="4648320" y="3842640"/>
              <a:ext cx="1936440" cy="91008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одходить кратчайшим путем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_s2060"/>
            <p:cNvSpPr/>
            <p:nvPr/>
          </p:nvSpPr>
          <p:spPr>
            <a:xfrm>
              <a:off x="6956280" y="3842640"/>
              <a:ext cx="1936440" cy="910080"/>
            </a:xfrm>
            <a:prstGeom prst="roundRect">
              <a:avLst>
                <a:gd name="adj" fmla="val 1666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Подходить с подветренной стороны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или против волн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Техника спасения тонущего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       челове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плыв к утопающему, надо поднырнуть под него и, взяв сзади одним из приемов захвата, транспортировать к берегу, где при необходимости начать комплекс сердечно-лёгочной реани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{683F7544-CB8F-4D15-9AF5-26168FA20B71}"/>
          <p:cNvPicPr/>
          <p:nvPr/>
        </p:nvPicPr>
        <p:blipFill>
          <a:blip r:embed="rId1"/>
          <a:stretch/>
        </p:blipFill>
        <p:spPr>
          <a:xfrm>
            <a:off x="4648320" y="1940040"/>
            <a:ext cx="403848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сновные правила поведения при купании на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        во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стые советы: не купаться в незнакомых местах, не стараться плыть как можно дольше под водой, следить за младшими братьями (сестрами), не нарушать правил пользования плавсредств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{5C0D5BA5-F074-4B46-B421-5919F787CE42}"/>
          <p:cNvPicPr/>
          <p:nvPr/>
        </p:nvPicPr>
        <p:blipFill>
          <a:blip r:embed="rId1"/>
          <a:stretch/>
        </p:blipFill>
        <p:spPr>
          <a:xfrm>
            <a:off x="4427640" y="2448000"/>
            <a:ext cx="4465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2007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Безопасное поведение на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замёрзших водоём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движении по льду необходимо увеличить интервалы между людьми, растянуть или ослабить ремни рюкзаков, расстегнуть крепления лыж, приготовить верев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лед затрещал или начал ломаться - быстрее возвращайся скользящим шагом или ползком к берег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льзя ходить по льду во время оттепели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{40D76DC9-F3A0-440A-AA17-518144DCFC23}"/>
          <p:cNvPicPr/>
          <p:nvPr/>
        </p:nvPicPr>
        <p:blipFill>
          <a:blip r:embed="rId1"/>
          <a:stretch/>
        </p:blipFill>
        <p:spPr>
          <a:xfrm>
            <a:off x="4648320" y="2205000"/>
            <a:ext cx="4171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6:54:40Z</dcterms:created>
  <dc:creator>1</dc:creator>
  <dc:description/>
  <dc:language>en-US</dc:language>
  <cp:lastModifiedBy>HP</cp:lastModifiedBy>
  <dcterms:modified xsi:type="dcterms:W3CDTF">2018-08-01T20:21:18Z</dcterms:modified>
  <cp:revision>14</cp:revision>
  <dc:subject/>
  <dc:title>  Урок ОБЖ</dc:title>
</cp:coreProperties>
</file>