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9D2D-B612-4A24-B464-EBBD654F1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ADF58-E3A9-4F4C-8E25-71DCA2F177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AC143-5CF4-4682-964C-3121A2A47E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38F09-7542-44EA-ABDE-59EF98FFE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F62D-F9E1-4322-9065-1C6A2FF49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FC90-02FC-4995-900D-4156A21607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6F334-6351-45BA-8745-7C2C89722C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E8D2C-B83F-4F75-B61F-9D561FE25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97500-1129-49CF-9B69-5C6D25484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8BD53-7C0E-4430-85C6-4117D43CE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C1C53-AB1E-4E66-BE74-1D6BD5A3F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7EBD-D31E-4B56-8D1D-D9A181C62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C94A0-1044-434F-A425-63209E6E5B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A204D-8625-4A68-BA07-EA20EB2375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62EE-D1A0-41C4-B8A2-5729BE9C9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466BD-C75B-4D46-B23B-4508735C4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F09AE-B873-40CD-8921-3FF9ACF07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420C0-F413-4F39-AF5F-FC4B831821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30060-B726-4B8D-B9EA-D1BB0C35B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00A34-59D9-4673-A9A5-028CC2052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D5DBF-8191-48D3-9590-AC7EE8BF8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625FF-FEFD-4127-85E3-08DD41F50D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4E7D-D030-4097-9359-D5224A979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335-39DF-4520-B4CB-F9BAB954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F4B-1FB8-4EF5-AFDD-612FCA7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406-B7CF-41F1-B416-47E1B7F3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D05-87CB-4FD9-B217-666933A0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FE7-3307-4FC9-9072-0B87F39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9A2-6BC2-428A-A608-8A8B32E1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C19-AD8D-4D24-AD12-5A86C6C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D5B-70EA-43F8-9D21-A5FDFC0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F9A-56C8-479E-B5C3-0FCEDBF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559-1F87-4D08-BF11-EDE8904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3C8-7B5B-4218-8275-71B3F27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D7E-E69E-4FCE-BBF7-FECD6F3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4D48A6-5FA1-4638-B470-CF1944DBB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396720" y="1779480"/>
            <a:ext cx="7991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Комплексный анализ </a:t>
            </a:r>
            <a:r>
              <a:rPr b="1" lang="ru-RU" sz="4800" spc="-1" strike="noStrike">
                <a:solidFill>
                  <a:srgbClr val="460000"/>
                </a:solidFill>
                <a:latin typeface="Arial"/>
                <a:ea typeface="Times New Roman"/>
              </a:rPr>
              <a:t>текста рассказа </a:t>
            </a: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Ю.Бондар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460000"/>
                </a:solidFill>
                <a:uFillTx/>
                <a:latin typeface="Arial"/>
              </a:rPr>
              <a:t>«Оружие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из сборника «Мгнов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25440" y="351000"/>
            <a:ext cx="8215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автоном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го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новоборский политехниче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16680" y="6637320"/>
            <a:ext cx="330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: Мизин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0" y="108000"/>
            <a:ext cx="856944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очень давно на фронте я любил рассматривать трофейное оруж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ко отшлифованный металл офицерских парабеллумов отливал воронёной чернотой рукоятка как бы сама просилась в объятия ладони, спусковая скоба требовала погладить её просунуть указательный палец к твёрдой упругости спускового крючка во всём готовом к убийству механизме была чужая томящая красота какая-то тупая сила призыва к власти над другим человеком к угрозе и подав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унинги и маленькие «Вальтеры» поражали своей игрушечной миниатюрностью пленительным перламутром рукояток в этих пистолетах всё было аккуратно выточено всё сияло женственной нежностью и была ласковая смертельная красота в прохладных крошечных пуль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гармонично сконструирован был немецкий «шмайсер» совершенный по своей форме автомат сколько человеческого таланта было вложено в эстетическую стройность линий и изгибов манящих покорностью и словно бы ждущих прикосновения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я многого не понимал и думал наше оружие грубее немецкого и лишь подсознательно чувствовал некую противоестественность в утончённой красоте орудия смерти оформленного как дорогая игрушка руками самих людей смертных недолгове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же проходя по залам музеев увешанных оружием всех времён саблями кинжалами секирами пистолетами видя роскошную инкрустацию оружейных лож золото сверкающее в рукоятках мечей я с тошнотным чувством сопротивления спрашиваю себя «Почему люди подверженные как и все на земле ранней или поздней смерти делали и делают оружие красивым даже изящным подобно предмету искусства? Есть ли какой-нибудь смысл в том что железная красота убивает самую высшую красоту творения человеческую жизнь?»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Ю. Бонда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2560" y="493560"/>
            <a:ext cx="755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84360" y="1619280"/>
            <a:ext cx="583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абзац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87280" y="2771640"/>
            <a:ext cx="79916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перв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абзац – эт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казчик «я»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 мысль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На фронте» - сино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896760" y="493560"/>
            <a:ext cx="756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44720" y="1187280"/>
            <a:ext cx="554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2208240"/>
            <a:ext cx="77040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втор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чувства автора отражены в абзац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помогают понять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ли это чувство к концу абзац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помогают понять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ое художественное средство использовано ав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заглавить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896760" y="351000"/>
            <a:ext cx="756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79640" y="1440000"/>
            <a:ext cx="698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20720" y="2124000"/>
            <a:ext cx="78487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треть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ассоциации вызывают у вас та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ова: «миниатюрный»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пленительный», «женственная», «нежность»,   «ласковая красота»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 ком или о чём так можно сказат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 о чём говорит автор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черкните слова, которые являются ключевыми в понимании смысла этого абзац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озаглавим третий абзац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896760" y="493560"/>
            <a:ext cx="756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92000" y="1474920"/>
            <a:ext cx="76327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ёрты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четверт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заглавьте абза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ва основная мыс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м морфологические особенности абзаца? Почему преобладают причаст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агательные? Какова их функция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чему, говоря об оружейных мастерах, мы гордимся, восторгаемся плодами их труда, 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делают орудия смер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585720" y="216000"/>
            <a:ext cx="8126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Каково чувство автора к талантли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оружейным мастерам?</a:t>
            </a:r>
            <a:r>
              <a:rPr b="0" lang="ru-RU" sz="14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вывод самостоятельно</a:t>
            </a:r>
            <a:r>
              <a:rPr b="0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31640" y="1521000"/>
            <a:ext cx="3405240" cy="567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3822840" y="4329000"/>
            <a:ext cx="4241520" cy="28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3822840" y="1521000"/>
            <a:ext cx="424152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896760" y="422280"/>
            <a:ext cx="7560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76360" y="1332000"/>
            <a:ext cx="8136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ы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пят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осно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ьте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едыдущем абзаце преобладали причастия и прилагательные. Обратите внимание, почему здесь изменился морфологический строй речи, почему появились глаголы «не понимал, думал, чувствовал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роль инвер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осложнено пятое предло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360360" y="144360"/>
            <a:ext cx="82072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й абза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о словарем (объяснить значение терминов: секира, инкрустация, оружейное лож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озаглавим абзац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можно сказать об авторе, его жизненной позиции? Сразу ли автор пришёл к такому пониманию? Вернёмся  началу рассказа. Почему важно уточнение  «кода-то, очень давно ..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же идея произвед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автор акцентирует на этом наше внимание, какой приём для этого использу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автор показывает бессмысленность, античеловечность войны? Найдите грамматическую основу последне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ведь красота убивать не может! Тем более, что «красота убивает (что?) красоту …» Взаимоуничтожение. Какая красота? «Железная». А какую красоту убивает? – «высшую». В какой форме стоит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3640" y="0"/>
            <a:ext cx="74152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Коллектив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1008000" y="287280"/>
            <a:ext cx="7415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Arial"/>
              </a:rPr>
              <a:t>Проверим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03280" y="1305000"/>
            <a:ext cx="806436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и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древнее рубящее холодное оружие, представляет собой топор с широким и длинным металлическим лезвием в виде полумеся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крустац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вид декорировки изделий и зданий, интерьера узорами и изображениями из кусочков мрамора, керамики, металла, дерева, перламутра и 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ужейное ло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деталь ручного стрелкового оружия, включающая приклад и цевье(верхняя часть оружейной ложки), обеспечивающая соединение частей оружия в единое цел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468360" y="208080"/>
            <a:ext cx="36003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60000"/>
                </a:solidFill>
                <a:latin typeface="Arial"/>
                <a:ea typeface="Times New Roman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следнем предложении содержится риторический вопрос. Сам вопрос о противоестественности войны, оружия и человеческой жизни – это вопрос очень сложный, философский. Любая красота не может быть сильнее и выше жизни человека, который смертен и жизнь которого недолговечна. Нет ничего выше, дороже человеческой жизни. Весь ужас смерти, бесчеловечность любой войны выразил в картине «Апофеоз войны» художник Верещаг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319640" y="363600"/>
            <a:ext cx="4176720" cy="61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31640" y="360360"/>
            <a:ext cx="7991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Комплексный анализ </a:t>
            </a: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рассказа </a:t>
            </a: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Ю.Бондарева «Оруж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из сборника «Мгнов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50960" y="2160720"/>
            <a:ext cx="3209760" cy="4724280"/>
          </a:xfrm>
          <a:prstGeom prst="rect">
            <a:avLst/>
          </a:prstGeom>
          <a:ln w="72000">
            <a:solidFill>
              <a:srgbClr val="808080"/>
            </a:solidFill>
            <a:round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4187880" y="2376360"/>
            <a:ext cx="193176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375240" y="2324160"/>
            <a:ext cx="1905120" cy="307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5460840" y="413532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31640" y="1187280"/>
            <a:ext cx="8013960" cy="5256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2532960" y="250920"/>
            <a:ext cx="426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</a:rPr>
              <a:t>Апофеоз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491440" y="6659640"/>
            <a:ext cx="2937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Arial"/>
              </a:rPr>
              <a:t>В.В. Вереща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360360" y="144360"/>
            <a:ext cx="8136000" cy="70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о этот рассказ заставил                     задуматься над ценностью     человеческ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раньше уже задумывался над этим вопро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работая в группах, чувствовал себя увер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сегодня придя домой, поделится впечатлениями с роди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ого сегодняшний урок способствовал отработке навыка анализа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60360" y="144360"/>
            <a:ext cx="8136000" cy="70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Дифференцированное 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611280" y="2009520"/>
            <a:ext cx="75009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ть любой очерк из сборника «Мгновения» и составить к нему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ть сочинение-эссе «Самое страшное, что несёт с собой война человечеству, - это смерть самого человека». (А. Дюн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519280" y="57636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Сверхзадач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2560" y="1422360"/>
            <a:ext cx="77756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«погружение» в текст, осмысление авторской позиции совершенствовать нравственные качества личности учащихся, формировать гуманистические взгляды на жизнь. Учащиеся должны прийти к выводу, что война, оружие разрушают самое ценное и хрупкое – жизн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511280" y="503280"/>
            <a:ext cx="55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6360" y="1782720"/>
            <a:ext cx="7991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оздание условий для исследовательской, творческой деятельности учащихся, развит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Формирование аналитических умений на основе использования знаний грам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оспитание нравственно-эстетических ценностей и ориентиров на основе понимания  идейного содержания и авторск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224000" y="503280"/>
            <a:ext cx="6624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6000" y="1368360"/>
            <a:ext cx="8424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высказывание по                      прочитанному тек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ть навыки анализа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ть навыки монологической и диалогической 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1254240" y="0"/>
            <a:ext cx="7056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31640" y="1079640"/>
            <a:ext cx="8136000" cy="61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Метапредме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Познавательные У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буждать к поиску ответов на вопрос, к совершенствованию приёмов сопоставления,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изводить отбор, преобразование информации для создания высказывания о неповторимости ценности человеческ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Регулятивные У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нимать и определять цели работы, подводить итоги своего учас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анировать пути решения учебной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основывать высказываемое с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оммуникатив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ть умение слушать и понимать речь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учиться доброжелательной работе в груп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улировать мысли в устной и письмен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Личност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ть способность осмысления своего эмоционального состоя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ировать нравственные гуманистические принц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1728720" y="287280"/>
            <a:ext cx="62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16000" y="936720"/>
            <a:ext cx="835164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мет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понимать предложенный текст, на основе его анализа прийти к пониманию авторской картины мира в рассказ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зовать языковые явления, совершенствовать технику чтения, знание и употребление  лингвистических тер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чност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е интереса к литературе и русскому языку; осмысление восприятия текста и авторской позиции, формирование потребности выражать собственную позицию, оценивать результаты своего участия в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слушать и понимать речь учащихся и учителя; оформление собственных суждений в письменной и устной форме, развитие навыков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чать на вопросы, задавать вопросы, сопоставлять явления, делать выводы; осмысленно и выразительно читать, развивать воображение, аргументировать своё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цели учебной работы, определять пути её достижения, понимать прочитанное, соотносить исходное и итоговое суждение, оценивать результаты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03280" y="1944720"/>
            <a:ext cx="80136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03280" y="250920"/>
            <a:ext cx="78487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60000"/>
                </a:solidFill>
                <a:latin typeface="Arial"/>
              </a:rPr>
              <a:t>Самое страшное, что несет собой война человечеству, - это смер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-216000" y="534960"/>
            <a:ext cx="914400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91f15"/>
                </a:solidFill>
                <a:latin typeface="Arial"/>
              </a:rPr>
              <a:t>Апофеоз</a:t>
            </a:r>
            <a:r>
              <a:rPr b="1" lang="ru-RU" sz="4000" spc="-1" strike="noStrike">
                <a:solidFill>
                  <a:srgbClr val="460000"/>
                </a:solidFill>
                <a:latin typeface="Arial"/>
              </a:rPr>
              <a:t> - обожествление, прославление, возвеличение какого-либо лица, события или я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92000" y="3419640"/>
            <a:ext cx="74152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460000"/>
                </a:solidFill>
                <a:latin typeface="Arial"/>
              </a:rPr>
              <a:t>...Самое страшное, что несет с собой война человечеству, - это смерть самого человека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040360" y="6012000"/>
            <a:ext cx="5040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60000"/>
                </a:solidFill>
                <a:latin typeface="Arial"/>
              </a:rPr>
              <a:t>Андре Дюн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8:32:24Z</dcterms:created>
  <dc:creator/>
  <dc:description/>
  <dc:language>en-US</dc:language>
  <cp:lastModifiedBy>Елена</cp:lastModifiedBy>
  <dcterms:modified xsi:type="dcterms:W3CDTF">2013-11-25T07:21:56Z</dcterms:modified>
  <cp:revision>11</cp:revision>
  <dc:subject/>
  <dc:title>Слайд 1</dc:title>
</cp:coreProperties>
</file>