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368CB-54AF-45C1-9EEF-1DDF02ACFC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BF0C6-AF65-4661-A057-7FECB67CE2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04FCC-D49E-4309-92A0-73038C16D1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ACAC2-463F-497C-8BE4-EE9F43C7EB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3D987-EEA4-4657-B6C0-CB5BFE79C0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29BCE-E888-470C-9B1B-3B6F5B54C6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10FEA-790D-4C13-AD5C-E209B1D480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0A968-8A10-4E71-B3A4-37157C2E5F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04054-446B-4D8D-A918-BB2E9584F9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FC649-ED13-4948-BAE8-513B204463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65C07-9215-484F-BEAD-ECECEB17C7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41564-0DE0-4BA5-8490-D9C925D2FE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7C7B2-63B6-4FBF-8E22-2420D9F91D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4F15C-6521-46BB-A0F9-DC5BAD435F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8C64D-3A80-48EF-AAF2-DC5FEA6BF3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B65FF-570A-4420-BAE5-FDC058BECF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D4E02-2144-4393-9547-7F22828640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90DC9-4DFA-4DD2-91B7-A0EF8D7F94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E74A5-719C-4151-9782-CA3D85F8E1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D9100-73A5-4549-B606-24E4F57BB2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0E14D-F372-4732-8D53-45A879B267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585BC-7F13-4202-BFB5-87262CC31A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96F20-B5D3-443D-883F-05EB8C5CBF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7A11-C8A3-4F7F-978E-5E50ED03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3119-E508-4CF7-A862-F121E744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D45E-8BEA-4F3D-9000-AA73ED31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1587-0ACB-4E8C-BE4F-C8E6A5B0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307E-02EC-4CCE-B1B7-82BE4ABE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79EB-6536-4D20-8EE9-0630FC37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95C6-4006-4BC4-90E0-1873BB7A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A46B-B1B1-4A8A-86B1-A5179370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FBE4-EC8A-45EA-95AF-752964C3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037C-E9B4-45E3-A0F7-06AEAED6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1368-B348-4BC4-B3B1-5E7E55FC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76A4-14EB-448E-9D23-29FFA605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79C1FF-5596-4DBB-984B-5374831044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"/>
          <p:cNvSpPr/>
          <p:nvPr/>
        </p:nvSpPr>
        <p:spPr>
          <a:xfrm>
            <a:off x="396720" y="1779480"/>
            <a:ext cx="799164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460000"/>
                </a:solidFill>
                <a:latin typeface="Arial"/>
              </a:rPr>
              <a:t>Комплексный анализ </a:t>
            </a:r>
            <a:r>
              <a:rPr b="1" lang="ru-RU" sz="4800" spc="-1" strike="noStrike">
                <a:solidFill>
                  <a:srgbClr val="460000"/>
                </a:solidFill>
                <a:latin typeface="Arial"/>
                <a:ea typeface="Times New Roman"/>
              </a:rPr>
              <a:t>текста рассказа </a:t>
            </a:r>
            <a:r>
              <a:rPr b="1" lang="ru-RU" sz="4800" spc="-1" strike="noStrike">
                <a:solidFill>
                  <a:srgbClr val="460000"/>
                </a:solidFill>
                <a:latin typeface="Arial"/>
              </a:rPr>
              <a:t>Ю.Бондарев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 u="sng">
                <a:solidFill>
                  <a:srgbClr val="460000"/>
                </a:solidFill>
                <a:uFillTx/>
                <a:latin typeface="Arial"/>
              </a:rPr>
              <a:t>«Оружие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460000"/>
                </a:solidFill>
                <a:latin typeface="Arial"/>
              </a:rPr>
              <a:t>из сборника «Мгновен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25440" y="351000"/>
            <a:ext cx="82152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ое автоном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его профессионального обра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нингра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основоборский политехнический колледж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5116680" y="6637320"/>
            <a:ext cx="3309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подаватель: Мизина М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"/>
          <p:cNvSpPr/>
          <p:nvPr/>
        </p:nvSpPr>
        <p:spPr>
          <a:xfrm>
            <a:off x="0" y="108000"/>
            <a:ext cx="8569440" cy="75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-то очень давно на фронте я любил рассматривать трофейное оруж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дко отшлифованный металл офицерских парабеллумов отливал воронёной чернотой рукоятка как бы сама просилась в объятия ладони, спусковая скоба требовала погладить её просунуть указательный палец к твёрдой упругости спускового крючка во всём готовом к убийству механизме была чужая томящая красота какая-то тупая сила призыва к власти над другим человеком к угрозе и подавл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унинги и маленькие «Вальтеры» поражали своей игрушечной миниатюрностью пленительным перламутром рукояток в этих пистолетах всё было аккуратно выточено всё сияло женственной нежностью и была ласковая смертельная красота в прохладных крошечных пуль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к гармонично сконструирован был немецкий «шмайсер» совершенный по своей форме автомат сколько человеческого таланта было вложено в эстетическую стройность линий и изгибов манящих покорностью и словно бы ждущих прикосновения к се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я многого не понимал и думал наше оружие грубее немецкого и лишь подсознательно чувствовал некую противоестественность в утончённой красоте орудия смерти оформленного как дорогая игрушка руками самих людей смертных недолговеч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же проходя по залам музеев увешанных оружием всех времён саблями кинжалами секирами пистолетами видя роскошную инкрустацию оружейных лож золото сверкающее в рукоятках мечей я с тошнотным чувством сопротивления спрашиваю себя «Почему люди подверженные как и все на земле ранней или поздней смерти делали и делают оружие красивым даже изящным подобно предмету искусства? Есть ли какой-нибудь смысл в том что железная красота убивает самую высшую красоту творения человеческую жизнь?»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Ю. Бондаре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"/>
          <p:cNvSpPr/>
          <p:nvPr/>
        </p:nvSpPr>
        <p:spPr>
          <a:xfrm>
            <a:off x="682560" y="493560"/>
            <a:ext cx="7559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460000"/>
                </a:solidFill>
                <a:latin typeface="Arial"/>
                <a:ea typeface="Times New Roman"/>
              </a:rPr>
              <a:t>Работа с текстом по групп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584360" y="1619280"/>
            <a:ext cx="5832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ый абзац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87280" y="2771640"/>
            <a:ext cx="799164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marL="673200" indent="-44316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ние первой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ый абзац – это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сказчик «я» -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ая мысль -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ложени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На фронте» - синони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"/>
          <p:cNvSpPr/>
          <p:nvPr/>
        </p:nvSpPr>
        <p:spPr>
          <a:xfrm>
            <a:off x="896760" y="493560"/>
            <a:ext cx="7560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460000"/>
                </a:solidFill>
                <a:latin typeface="Arial"/>
                <a:ea typeface="Times New Roman"/>
              </a:rPr>
              <a:t>Работа с текстом по групп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944720" y="1187280"/>
            <a:ext cx="55436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Второй абза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68360" y="2208240"/>
            <a:ext cx="7704000" cy="49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marL="673200" indent="-44316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второй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кие чувства автора отражены в абзац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кие слова помогают понять эт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храняется ли это чувство к концу абзац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кие слова помогают понять эт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кое художественное средство использовано автор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заглавить текс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"/>
          <p:cNvSpPr/>
          <p:nvPr/>
        </p:nvSpPr>
        <p:spPr>
          <a:xfrm>
            <a:off x="896760" y="351000"/>
            <a:ext cx="756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460000"/>
                </a:solidFill>
                <a:latin typeface="Arial"/>
                <a:ea typeface="Times New Roman"/>
              </a:rPr>
              <a:t>Работа с текстом по групп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079640" y="1440000"/>
            <a:ext cx="69832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тий абза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720720" y="2124000"/>
            <a:ext cx="784872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marL="673200" indent="-44316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ние третьей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текс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акие ассоциации вызывают у вас так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лова: «миниатюрный»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«пленительный», «женственная», «нежность»,   «ласковая красота»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 ком или о чём так можно сказать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А о чём говорит автор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дчеркните слова, которые являются ключевыми в понимании смысла этого абзаца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ак озаглавим третий абзац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896760" y="493560"/>
            <a:ext cx="7560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460000"/>
                </a:solidFill>
                <a:latin typeface="Arial"/>
                <a:ea typeface="Times New Roman"/>
              </a:rPr>
              <a:t>Работа с текстом по групп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792000" y="1474920"/>
            <a:ext cx="763272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marL="673200" indent="-44316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Четвёртый абза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четвертой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заглавьте абза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ова основная мысл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чем морфологические особенности абзаца? Почему преобладают причастия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лагательные? Какова их функция?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5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чему, говоря об оружейных мастерах, мы гордимся, восторгаемся плодами их труда, в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3200" indent="-44316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ни делают орудия смер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"/>
          <p:cNvSpPr/>
          <p:nvPr/>
        </p:nvSpPr>
        <p:spPr>
          <a:xfrm>
            <a:off x="585720" y="216000"/>
            <a:ext cx="812664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60000"/>
                </a:solidFill>
                <a:latin typeface="Arial"/>
                <a:ea typeface="Times New Roman"/>
              </a:rPr>
              <a:t>Каково чувство автора к талантливы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60000"/>
                </a:solidFill>
                <a:latin typeface="Arial"/>
                <a:ea typeface="Times New Roman"/>
              </a:rPr>
              <a:t>оружейным мастерам?</a:t>
            </a:r>
            <a:r>
              <a:rPr b="0" lang="ru-RU" sz="1400" spc="-1" strike="noStrike">
                <a:solidFill>
                  <a:srgbClr val="46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6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460000"/>
                </a:solidFill>
                <a:latin typeface="Times New Roman"/>
                <a:ea typeface="Times New Roman"/>
              </a:rPr>
              <a:t>вывод самостоятельно</a:t>
            </a:r>
            <a:r>
              <a:rPr b="0" lang="ru-RU" sz="2800" spc="-1" strike="noStrike">
                <a:solidFill>
                  <a:srgbClr val="46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431640" y="1521000"/>
            <a:ext cx="3405240" cy="5678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3822840" y="4329000"/>
            <a:ext cx="4241520" cy="2851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4"/>
          <a:stretch/>
        </p:blipFill>
        <p:spPr>
          <a:xfrm>
            <a:off x="3822840" y="1521000"/>
            <a:ext cx="424152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896760" y="422280"/>
            <a:ext cx="75600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460000"/>
                </a:solidFill>
                <a:latin typeface="Arial"/>
                <a:ea typeface="Times New Roman"/>
              </a:rPr>
              <a:t>Работа с текстом по групп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76360" y="1332000"/>
            <a:ext cx="813600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marL="216000" indent="-2160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Пятый абза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ние пятой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ова основная мысль абза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заглавьте е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едыдущем абзаце преобладали причастия и прилагательные. Обратите внимание, почему здесь изменился морфологический строй речи, почему появились глаголы «не понимал, думал, чувствовал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ова роль инвер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ем осложнено пятое предло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"/>
          <p:cNvSpPr/>
          <p:nvPr/>
        </p:nvSpPr>
        <p:spPr>
          <a:xfrm>
            <a:off x="360360" y="144360"/>
            <a:ext cx="8207280" cy="73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768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ой абзац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 со словарем (объяснить значение терминов: секира, инкрустация, оружейное ложе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озаглавим абзац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можно сказать об авторе, его жизненной позиции? Сразу ли автор пришёл к такому пониманию? Вернёмся  началу рассказа. Почему важно уточнение  «кода-то, очень давно ...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ова же идея произведени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автор акцентирует на этом наше внимание, какой приём для этого используе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автор показывает бессмысленность, античеловечность войны? Найдите грамматическую основу последнего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о ведь красота убивать не может! Тем более, что «красота убивает (что?) красоту …» Взаимоуничтожение. Какая красота? «Железная». А какую красоту убивает? – «высшую». В какой форме стоит прилагательн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63640" y="0"/>
            <a:ext cx="741528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02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460000"/>
                </a:solidFill>
                <a:latin typeface="Times New Roman"/>
                <a:ea typeface="Times New Roman"/>
              </a:rPr>
              <a:t>Коллективная рабо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"/>
          <p:cNvSpPr/>
          <p:nvPr/>
        </p:nvSpPr>
        <p:spPr>
          <a:xfrm>
            <a:off x="1008000" y="287280"/>
            <a:ext cx="74152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460000"/>
                </a:solidFill>
                <a:latin typeface="Arial"/>
              </a:rPr>
              <a:t>Проверим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503280" y="1305000"/>
            <a:ext cx="8064360" cy="56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кир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— древнее рубящее холодное оружие, представляет собой топор с широким и длинным металлическим лезвием в виде полумесяц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крустац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— вид декорировки изделий и зданий, интерьера узорами и изображениями из кусочков мрамора, керамики, металла, дерева, перламутра и т. 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ужейное лож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— деталь ручного стрелкового оружия, включающая приклад и цевье(верхняя часть оружейной ложки), обеспечивающая соединение частей оружия в единое цело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"/>
          <p:cNvSpPr/>
          <p:nvPr/>
        </p:nvSpPr>
        <p:spPr>
          <a:xfrm>
            <a:off x="468360" y="208080"/>
            <a:ext cx="3600360" cy="66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60000"/>
                </a:solidFill>
                <a:latin typeface="Arial"/>
                <a:ea typeface="Times New Roman"/>
              </a:rPr>
              <a:t>Вывод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последнем предложении содержится риторический вопрос. Сам вопрос о противоестественности войны, оружия и человеческой жизни – это вопрос очень сложный, философский. Любая красота не может быть сильнее и выше жизни человека, который смертен и жизнь которого недолговечна. Нет ничего выше, дороже человеческой жизни. Весь ужас смерти, бесчеловечность любой войны выразил в картине «Апофеоз войны» художник Верещаги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4319640" y="363600"/>
            <a:ext cx="4176720" cy="61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431640" y="360360"/>
            <a:ext cx="799164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60000"/>
                </a:solidFill>
                <a:latin typeface="Arial"/>
              </a:rPr>
              <a:t>Комплексный анализ </a:t>
            </a:r>
            <a:r>
              <a:rPr b="1" lang="ru-RU" sz="3200" spc="-1" strike="noStrike">
                <a:solidFill>
                  <a:srgbClr val="460000"/>
                </a:solidFill>
                <a:latin typeface="Arial"/>
                <a:ea typeface="Times New Roman"/>
              </a:rPr>
              <a:t>текс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60000"/>
                </a:solidFill>
                <a:latin typeface="Arial"/>
                <a:ea typeface="Times New Roman"/>
              </a:rPr>
              <a:t>рассказа </a:t>
            </a:r>
            <a:r>
              <a:rPr b="1" lang="ru-RU" sz="3200" spc="-1" strike="noStrike">
                <a:solidFill>
                  <a:srgbClr val="460000"/>
                </a:solidFill>
                <a:latin typeface="Arial"/>
              </a:rPr>
              <a:t>Ю.Бондарева «Оружи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60000"/>
                </a:solidFill>
                <a:latin typeface="Arial"/>
              </a:rPr>
              <a:t>из сборника «Мгнов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750960" y="2160720"/>
            <a:ext cx="3209760" cy="4724280"/>
          </a:xfrm>
          <a:prstGeom prst="rect">
            <a:avLst/>
          </a:prstGeom>
          <a:ln w="72000">
            <a:solidFill>
              <a:srgbClr val="808080"/>
            </a:solidFill>
            <a:round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4187880" y="2376360"/>
            <a:ext cx="1931760" cy="295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4"/>
          <a:stretch/>
        </p:blipFill>
        <p:spPr>
          <a:xfrm>
            <a:off x="6375240" y="2324160"/>
            <a:ext cx="1905120" cy="3076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5"/>
          <a:stretch/>
        </p:blipFill>
        <p:spPr>
          <a:xfrm>
            <a:off x="5460840" y="4135320"/>
            <a:ext cx="190512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31640" y="1187280"/>
            <a:ext cx="8013960" cy="52563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2532960" y="250920"/>
            <a:ext cx="42649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460000"/>
                </a:solidFill>
                <a:latin typeface="Arial"/>
              </a:rPr>
              <a:t>Апофеоз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5491440" y="6659640"/>
            <a:ext cx="29376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460000"/>
                </a:solidFill>
                <a:latin typeface="Arial"/>
              </a:rPr>
              <a:t>В.В. Верещаг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"/>
          <p:cNvSpPr/>
          <p:nvPr/>
        </p:nvSpPr>
        <p:spPr>
          <a:xfrm>
            <a:off x="360360" y="144360"/>
            <a:ext cx="8136000" cy="70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460000"/>
                </a:solidFill>
                <a:latin typeface="Arial"/>
                <a:ea typeface="Times New Roman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о этот рассказ заставил                     задуматься над ценностью     человеческой жиз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то раньше уже задумывался над этим вопро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то, работая в группах, чувствовал себя уверен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то, сегодня придя домой, поделится впечатлениями с родителя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кого сегодняшний урок способствовал отработке навыка анализа тек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"/>
          <p:cNvSpPr/>
          <p:nvPr/>
        </p:nvSpPr>
        <p:spPr>
          <a:xfrm>
            <a:off x="360360" y="144360"/>
            <a:ext cx="8136000" cy="70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460000"/>
                </a:solidFill>
                <a:latin typeface="Arial"/>
                <a:ea typeface="Times New Roman"/>
              </a:rPr>
              <a:t>Дифференцированное 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"/>
          <p:cNvSpPr/>
          <p:nvPr/>
        </p:nvSpPr>
        <p:spPr>
          <a:xfrm>
            <a:off x="611280" y="2009520"/>
            <a:ext cx="750096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492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читать любой очерк из сборника «Мгновения» и составить к нему 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исать сочинение-эссе «Самое страшное, что несёт с собой война человечеству, - это смерть самого человека». (А. Дюна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2519280" y="576360"/>
            <a:ext cx="417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60000"/>
                </a:solidFill>
                <a:latin typeface="Arial"/>
                <a:ea typeface="Times New Roman"/>
              </a:rPr>
              <a:t>Сверхзадача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682560" y="1422360"/>
            <a:ext cx="777564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Через «погружение» в текст, осмысление авторской позиции совершенствовать нравственные качества личности учащихся, формировать гуманистические взгляды на жизнь. Учащиеся должны прийти к выводу, что война, оружие разрушают самое ценное и хрупкое – жизнь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"/>
          <p:cNvSpPr/>
          <p:nvPr/>
        </p:nvSpPr>
        <p:spPr>
          <a:xfrm>
            <a:off x="1511280" y="503280"/>
            <a:ext cx="55436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60000"/>
                </a:solidFill>
                <a:latin typeface="Arial"/>
                <a:ea typeface="Times New Roman"/>
              </a:rPr>
              <a:t>Ц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576360" y="1782720"/>
            <a:ext cx="7991280" cy="49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Создание условий для исследовательской, творческой деятельности учащихся, развития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Формирование аналитических умений на основе использования знаний грамма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 Воспитание нравственно-эстетических ценностей и ориентиров на основе понимания  идейного содержания и авторской пози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1224000" y="503280"/>
            <a:ext cx="6624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60000"/>
                </a:solidFill>
                <a:latin typeface="Arial"/>
                <a:ea typeface="Times New Roman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16000" y="1368360"/>
            <a:ext cx="842472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marL="514440" indent="-51444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мет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лять высказывание по                      прочитанному текс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вершенствовать навыки анализа тек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вершенствовать навыки монологической и диалогической  деятельности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1254240" y="0"/>
            <a:ext cx="70563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60000"/>
                </a:solidFill>
                <a:latin typeface="Arial"/>
                <a:ea typeface="Times New Roman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431640" y="1079640"/>
            <a:ext cx="8136000" cy="61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Метапредмет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 Познавательные УУ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побуждать к поиску ответов на вопрос, к совершенствованию приёмов сопоставления, обобщ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оизводить отбор, преобразование информации для создания высказывания о неповторимости ценности человеческ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 Регулятивные УУ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понимать и определять цели работы, подводить итоги своего учас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планировать пути решения учебной зада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обосновывать высказываемое су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 Коммуникативные УУД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развивать умение слушать и понимать речь други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учиться доброжелательной работе в групп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формулировать мысли в устной и письменной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Личностные УУД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развивать способность осмысления своего эмоционального состоя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формировать нравственные гуманистические принци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"/>
          <p:cNvSpPr/>
          <p:nvPr/>
        </p:nvSpPr>
        <p:spPr>
          <a:xfrm>
            <a:off x="1728720" y="287280"/>
            <a:ext cx="626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60000"/>
                </a:solidFill>
                <a:latin typeface="Arial"/>
                <a:ea typeface="Times New Roman"/>
              </a:rPr>
              <a:t>Планируем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16000" y="936720"/>
            <a:ext cx="835164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едметны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ние понимать предложенный текст, на основе его анализа прийти к пониманию авторской картины мира в рассказ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изовать языковые явления, совершенствовать технику чтения, знание и употребление  лингвистических терми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Личностны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ышение интереса к литературе и русскому языку; осмысление восприятия текста и авторской позиции, формирование потребности выражать собственную позицию, оценивать результаты своего участия в рабо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Коммуникатив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ние слушать и понимать речь учащихся и учителя; оформление собственных суждений в письменной и устной форме, развитие навыков сотрудниче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Познаватель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чать на вопросы, задавать вопросы, сопоставлять явления, делать выводы; осмысленно и выразительно читать, развивать воображение, аргументировать своё представл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Регулятив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нимать цели учебной работы, определять пути её достижения, понимать прочитанное, соотносить исходное и итоговое суждение, оценивать результаты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503280" y="1944720"/>
            <a:ext cx="8013600" cy="5256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503280" y="250920"/>
            <a:ext cx="78487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60000"/>
                </a:solidFill>
                <a:latin typeface="Arial"/>
              </a:rPr>
              <a:t>Самое страшное, что несет собой война человечеству, - это смерть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"/>
          <p:cNvSpPr/>
          <p:nvPr/>
        </p:nvSpPr>
        <p:spPr>
          <a:xfrm>
            <a:off x="-216000" y="534960"/>
            <a:ext cx="9144000" cy="19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791f15"/>
                </a:solidFill>
                <a:latin typeface="Arial"/>
              </a:rPr>
              <a:t>Апофеоз</a:t>
            </a:r>
            <a:r>
              <a:rPr b="1" lang="ru-RU" sz="4000" spc="-1" strike="noStrike">
                <a:solidFill>
                  <a:srgbClr val="460000"/>
                </a:solidFill>
                <a:latin typeface="Arial"/>
              </a:rPr>
              <a:t> - обожествление, прославление, возвеличение какого-либо лица, события или явл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92000" y="3419640"/>
            <a:ext cx="7415280" cy="19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460000"/>
                </a:solidFill>
                <a:latin typeface="Arial"/>
              </a:rPr>
              <a:t>...Самое страшное, что несет с собой война человечеству, - это смерть самого человека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040360" y="6012000"/>
            <a:ext cx="5040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460000"/>
                </a:solidFill>
                <a:latin typeface="Arial"/>
              </a:rPr>
              <a:t>Андре Дюн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1T18:32:24Z</dcterms:created>
  <dc:creator/>
  <dc:description/>
  <dc:language>en-US</dc:language>
  <cp:lastModifiedBy>Елена</cp:lastModifiedBy>
  <dcterms:modified xsi:type="dcterms:W3CDTF">2013-11-25T07:21:56Z</dcterms:modified>
  <cp:revision>11</cp:revision>
  <dc:subject/>
  <dc:title>Слайд 1</dc:title>
</cp:coreProperties>
</file>