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7397-3C37-492C-97AB-D9E419E1C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0A9E-E7C3-46EB-AE72-149A88E9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D2B7-424E-4887-BA15-6C924ED41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DDD4-2772-42FD-9ABD-E9CD25972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6DBD-92B4-4162-949A-0A8B38F73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BC14-D07B-4A5D-90EF-2076169E8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0A5C-2575-4BBE-927A-9AF52CDE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6C90-5D3F-4F21-B1E0-88095BC39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68F8-4E10-48B1-B317-D56864A63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DB5A-92FF-4C85-9194-F760B73E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7383-B517-4FF8-BA46-909D6119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6280-882E-41B1-BA66-6E928F93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8C79-0D51-45B4-850D-0CD109788A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тчёт по самообразованию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  Тема: «Развитие мелкой моторики у детей дошкольного возраста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готовила: Евсеева Н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G:\DCIM\100PHOTO\SAM_2893.JPG"/>
          <p:cNvPicPr/>
          <p:nvPr/>
        </p:nvPicPr>
        <p:blipFill>
          <a:blip r:embed="rId1"/>
          <a:stretch/>
        </p:blipFill>
        <p:spPr>
          <a:xfrm>
            <a:off x="5943600" y="3483000"/>
            <a:ext cx="3228840" cy="3171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G:\DCIM\100PHOTO\SAM_2894.JPG"/>
          <p:cNvPicPr/>
          <p:nvPr/>
        </p:nvPicPr>
        <p:blipFill>
          <a:blip r:embed="rId2"/>
          <a:stretch/>
        </p:blipFill>
        <p:spPr>
          <a:xfrm>
            <a:off x="5943600" y="149400"/>
            <a:ext cx="3157560" cy="3323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G:\DCIM\100PHOTO\SAM_2892.JPG"/>
          <p:cNvPicPr/>
          <p:nvPr/>
        </p:nvPicPr>
        <p:blipFill>
          <a:blip r:embed="rId3"/>
          <a:stretch/>
        </p:blipFill>
        <p:spPr>
          <a:xfrm>
            <a:off x="1495440" y="3463920"/>
            <a:ext cx="4086360" cy="3065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G:\DCIM\100PHOTO\SAM_2888.JPG"/>
          <p:cNvPicPr/>
          <p:nvPr/>
        </p:nvPicPr>
        <p:blipFill>
          <a:blip r:embed="rId4"/>
          <a:stretch/>
        </p:blipFill>
        <p:spPr>
          <a:xfrm>
            <a:off x="1873080" y="281160"/>
            <a:ext cx="3708720" cy="28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1752480" y="304920"/>
            <a:ext cx="63248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пальчиковых упражнений кисти рук и пальцы приобретут сил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ую подвижность и гибкость, а это в дальнейшем облегчит овла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ыком пись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9144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Развитие мелкой моторики рук у детей дошкольного возраста через различные виды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азвивать координацию и точность движений рук, гибкость ру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азвивать мелкую моторику пальцев рук у детей дошкольного возраста через использование разнообразных форм, методов и прие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азвивать общую двигательную актив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одействовать нормализации речевой фун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Развивать воображение, логическое мышление, произвольное внимание, зрительное и слуховое восприя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Создавать эмоционально-комфортную обстановку в общении со сверстниками и взросл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1295280" y="457200"/>
            <a:ext cx="7696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, конечно, в дошкольном возрасте работа по развитию мелкой моторики и координации движений руки должна стать важной частью развития детской речи, формирования навыков самообслуживания и подготовки к письму. От того, насколько ловко научится ребенок управлять своими пальчиками, зависит его дальнейшее развитие. Наряду с развитием мелкой моторики развиваются память, внимание, а также словарный зап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C:\Users\Admin\Desktop\солнышко\SAM_2881.JPG"/>
          <p:cNvPicPr/>
          <p:nvPr/>
        </p:nvPicPr>
        <p:blipFill>
          <a:blip r:embed="rId1"/>
          <a:stretch/>
        </p:blipFill>
        <p:spPr>
          <a:xfrm>
            <a:off x="1447920" y="2819520"/>
            <a:ext cx="4630680" cy="3595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Users\Admin\Desktop\солнышко\SAM_2880.JPG"/>
          <p:cNvPicPr/>
          <p:nvPr/>
        </p:nvPicPr>
        <p:blipFill>
          <a:blip r:embed="rId2"/>
          <a:stretch/>
        </p:blipFill>
        <p:spPr>
          <a:xfrm>
            <a:off x="4648320" y="228600"/>
            <a:ext cx="412092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Admin\Desktop\солнышко\SAM_2882.JPG"/>
          <p:cNvPicPr/>
          <p:nvPr/>
        </p:nvPicPr>
        <p:blipFill>
          <a:blip r:embed="rId1"/>
          <a:stretch/>
        </p:blipFill>
        <p:spPr>
          <a:xfrm>
            <a:off x="1371600" y="3405240"/>
            <a:ext cx="4057560" cy="3043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Users\Admin\Desktop\солнышко\SAM_2883.JPG"/>
          <p:cNvPicPr/>
          <p:nvPr/>
        </p:nvPicPr>
        <p:blipFill>
          <a:blip r:embed="rId2"/>
          <a:stretch/>
        </p:blipFill>
        <p:spPr>
          <a:xfrm>
            <a:off x="5823000" y="561960"/>
            <a:ext cx="321624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Admin\Desktop\солнышко\SAM_2884.JPG"/>
          <p:cNvPicPr/>
          <p:nvPr/>
        </p:nvPicPr>
        <p:blipFill>
          <a:blip r:embed="rId1"/>
          <a:stretch/>
        </p:blipFill>
        <p:spPr>
          <a:xfrm>
            <a:off x="1714680" y="1847880"/>
            <a:ext cx="3476520" cy="3771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Users\Admin\Desktop\солнышко\SAM_2885.JPG"/>
          <p:cNvPicPr/>
          <p:nvPr/>
        </p:nvPicPr>
        <p:blipFill>
          <a:blip r:embed="rId2"/>
          <a:srcRect l="0" t="0" r="-1363" b="-30522"/>
          <a:stretch/>
        </p:blipFill>
        <p:spPr>
          <a:xfrm>
            <a:off x="5867280" y="228600"/>
            <a:ext cx="2968920" cy="3543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Users\Admin\Desktop\солнышко\SAM_2886.JPG"/>
          <p:cNvPicPr/>
          <p:nvPr/>
        </p:nvPicPr>
        <p:blipFill>
          <a:blip r:embed="rId3"/>
          <a:stretch/>
        </p:blipFill>
        <p:spPr>
          <a:xfrm>
            <a:off x="5486400" y="3429000"/>
            <a:ext cx="277956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571920" y="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1539720" y="3048120"/>
            <a:ext cx="4064040" cy="3504960"/>
          </a:xfrm>
          <a:prstGeom prst="rect">
            <a:avLst/>
          </a:prstGeom>
          <a:ln w="0">
            <a:noFill/>
          </a:ln>
        </p:spPr>
      </p:pic>
      <p:pic>
        <p:nvPicPr>
          <p:cNvPr id="54" name="TextBox 1" descr=""/>
          <p:cNvPicPr/>
          <p:nvPr/>
        </p:nvPicPr>
        <p:blipFill>
          <a:blip r:embed="rId3"/>
          <a:stretch/>
        </p:blipFill>
        <p:spPr>
          <a:xfrm>
            <a:off x="3260880" y="176040"/>
            <a:ext cx="354780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914400" y="44784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4648320" y="228600"/>
            <a:ext cx="4165560" cy="3124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3"/>
          <a:stretch/>
        </p:blipFill>
        <p:spPr>
          <a:xfrm>
            <a:off x="3486240" y="3171960"/>
            <a:ext cx="4292640" cy="3219480"/>
          </a:xfrm>
          <a:prstGeom prst="rect">
            <a:avLst/>
          </a:prstGeom>
          <a:ln w="0">
            <a:noFill/>
          </a:ln>
        </p:spPr>
      </p:pic>
      <p:pic>
        <p:nvPicPr>
          <p:cNvPr id="58" name="TextBox 1" descr=""/>
          <p:cNvPicPr/>
          <p:nvPr/>
        </p:nvPicPr>
        <p:blipFill>
          <a:blip r:embed="rId4"/>
          <a:stretch/>
        </p:blipFill>
        <p:spPr>
          <a:xfrm>
            <a:off x="3359160" y="189000"/>
            <a:ext cx="490680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G:\DCIM\100PHOTO\SAM_2890.JPG"/>
          <p:cNvPicPr/>
          <p:nvPr/>
        </p:nvPicPr>
        <p:blipFill>
          <a:blip r:embed="rId1"/>
          <a:stretch/>
        </p:blipFill>
        <p:spPr>
          <a:xfrm>
            <a:off x="5987880" y="260280"/>
            <a:ext cx="2811600" cy="3749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G:\DCIM\100PHOTO\SAM_2889.JPG"/>
          <p:cNvPicPr/>
          <p:nvPr/>
        </p:nvPicPr>
        <p:blipFill>
          <a:blip r:embed="rId2"/>
          <a:stretch/>
        </p:blipFill>
        <p:spPr>
          <a:xfrm>
            <a:off x="2257560" y="79200"/>
            <a:ext cx="3082680" cy="4110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3"/>
          <a:stretch/>
        </p:blipFill>
        <p:spPr>
          <a:xfrm>
            <a:off x="4038480" y="4122720"/>
            <a:ext cx="3049560" cy="2287440"/>
          </a:xfrm>
          <a:prstGeom prst="rect">
            <a:avLst/>
          </a:prstGeom>
          <a:ln w="0">
            <a:noFill/>
          </a:ln>
        </p:spPr>
      </p:pic>
      <p:pic>
        <p:nvPicPr>
          <p:cNvPr id="62" name="TextBox 1" descr=""/>
          <p:cNvPicPr/>
          <p:nvPr/>
        </p:nvPicPr>
        <p:blipFill>
          <a:blip r:embed="rId4"/>
          <a:stretch/>
        </p:blipFill>
        <p:spPr>
          <a:xfrm>
            <a:off x="2567160" y="208080"/>
            <a:ext cx="550368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8-08-01T18:05:04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