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png" ContentType="image/png"/>
  <Override PartName="/ppt/media/image17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15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6C69-C5BB-47E6-B15E-589E804D5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3732-33D1-4295-9AC7-740C8BBBD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AD94-1E4A-45C4-8572-94E844F67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03DE-BB2A-417D-9EAA-CDB710995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8672-CB1F-4C96-9B68-ED086B5C6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F8D4-9641-4C66-BB06-7AE89DE18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25D4-4C5F-4B36-B3C9-D3D246F52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4F00-246B-4160-A6C2-CC830D004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4821-3566-4DE0-AA96-22C3F630A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D588-5501-4303-93FE-1B997BE78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6F11-8BA4-4079-8B28-9BD8AC3B7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F424-F6BB-4B4A-8207-2500EF969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BD51B-C372-481B-8338-CCF2237CC1C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Отчёт по самообразованию</a:t>
            </a:r>
            <a:br>
              <a:rPr sz="3200"/>
            </a:b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   Тема: «Развитие мелкой моторики у детей дошкольного возраста»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Подготовила: Евсеева Н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G:\DCIM\100PHOTO\SAM_2893.JPG"/>
          <p:cNvPicPr/>
          <p:nvPr/>
        </p:nvPicPr>
        <p:blipFill>
          <a:blip r:embed="rId1"/>
          <a:stretch/>
        </p:blipFill>
        <p:spPr>
          <a:xfrm>
            <a:off x="5943600" y="3483000"/>
            <a:ext cx="3228840" cy="31719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G:\DCIM\100PHOTO\SAM_2894.JPG"/>
          <p:cNvPicPr/>
          <p:nvPr/>
        </p:nvPicPr>
        <p:blipFill>
          <a:blip r:embed="rId2"/>
          <a:stretch/>
        </p:blipFill>
        <p:spPr>
          <a:xfrm>
            <a:off x="5943600" y="149400"/>
            <a:ext cx="3157560" cy="33238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G:\DCIM\100PHOTO\SAM_2892.JPG"/>
          <p:cNvPicPr/>
          <p:nvPr/>
        </p:nvPicPr>
        <p:blipFill>
          <a:blip r:embed="rId3"/>
          <a:stretch/>
        </p:blipFill>
        <p:spPr>
          <a:xfrm>
            <a:off x="1495440" y="3463920"/>
            <a:ext cx="4086360" cy="30654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G:\DCIM\100PHOTO\SAM_2888.JPG"/>
          <p:cNvPicPr/>
          <p:nvPr/>
        </p:nvPicPr>
        <p:blipFill>
          <a:blip r:embed="rId4"/>
          <a:stretch/>
        </p:blipFill>
        <p:spPr>
          <a:xfrm>
            <a:off x="1873080" y="281160"/>
            <a:ext cx="3708720" cy="283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Прямоугольник 1"/>
          <p:cNvSpPr/>
          <p:nvPr/>
        </p:nvSpPr>
        <p:spPr>
          <a:xfrm>
            <a:off x="1752480" y="304920"/>
            <a:ext cx="63248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езультате пальчиковых упражнений кисти рук и пальцы приобретут силу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рошую подвижность и гибкость, а это в дальнейшем облегчит овлад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выком пись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9144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 Развитие мелкой моторики рук у детей дошкольного возраста через различные виды деяте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Развивать координацию и точность движений рук, гибкость ру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Развивать мелкую моторику пальцев рук у детей дошкольного возраста через использование разнообразных форм, методов и прием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Развивать общую двигательную актив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Содействовать нормализации речевой функ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Развивать воображение, логическое мышление, произвольное внимание, зрительное и слуховое восприят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Создавать эмоционально-комфортную обстановку в общении со сверстниками и взрослы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"/>
          <p:cNvSpPr/>
          <p:nvPr/>
        </p:nvSpPr>
        <p:spPr>
          <a:xfrm>
            <a:off x="1295280" y="457200"/>
            <a:ext cx="76964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, конечно, в дошкольном возрасте работа по развитию мелкой моторики и координации движений руки должна стать важной частью развития детской речи, формирования навыков самообслуживания и подготовки к письму. От того, насколько ловко научится ребенок управлять своими пальчиками, зависит его дальнейшее развитие. Наряду с развитием мелкой моторики развиваются память, внимание, а также словарный запа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" descr="C:\Users\Admin\Desktop\солнышко\SAM_2881.JPG"/>
          <p:cNvPicPr/>
          <p:nvPr/>
        </p:nvPicPr>
        <p:blipFill>
          <a:blip r:embed="rId1"/>
          <a:stretch/>
        </p:blipFill>
        <p:spPr>
          <a:xfrm>
            <a:off x="1447920" y="2819520"/>
            <a:ext cx="4630680" cy="35956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C:\Users\Admin\Desktop\солнышко\SAM_2880.JPG"/>
          <p:cNvPicPr/>
          <p:nvPr/>
        </p:nvPicPr>
        <p:blipFill>
          <a:blip r:embed="rId2"/>
          <a:stretch/>
        </p:blipFill>
        <p:spPr>
          <a:xfrm>
            <a:off x="4648320" y="228600"/>
            <a:ext cx="4120920" cy="30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C:\Users\Admin\Desktop\солнышко\SAM_2882.JPG"/>
          <p:cNvPicPr/>
          <p:nvPr/>
        </p:nvPicPr>
        <p:blipFill>
          <a:blip r:embed="rId1"/>
          <a:stretch/>
        </p:blipFill>
        <p:spPr>
          <a:xfrm>
            <a:off x="1371600" y="3405240"/>
            <a:ext cx="4057560" cy="30430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C:\Users\Admin\Desktop\солнышко\SAM_2883.JPG"/>
          <p:cNvPicPr/>
          <p:nvPr/>
        </p:nvPicPr>
        <p:blipFill>
          <a:blip r:embed="rId2"/>
          <a:stretch/>
        </p:blipFill>
        <p:spPr>
          <a:xfrm>
            <a:off x="5823000" y="561960"/>
            <a:ext cx="3216240" cy="42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C:\Users\Admin\Desktop\солнышко\SAM_2884.JPG"/>
          <p:cNvPicPr/>
          <p:nvPr/>
        </p:nvPicPr>
        <p:blipFill>
          <a:blip r:embed="rId1"/>
          <a:stretch/>
        </p:blipFill>
        <p:spPr>
          <a:xfrm>
            <a:off x="1714680" y="1847880"/>
            <a:ext cx="3476520" cy="37717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C:\Users\Admin\Desktop\солнышко\SAM_2885.JPG"/>
          <p:cNvPicPr/>
          <p:nvPr/>
        </p:nvPicPr>
        <p:blipFill>
          <a:blip r:embed="rId2"/>
          <a:srcRect l="0" t="0" r="-1363" b="-30522"/>
          <a:stretch/>
        </p:blipFill>
        <p:spPr>
          <a:xfrm>
            <a:off x="5867280" y="228600"/>
            <a:ext cx="2968920" cy="35434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C:\Users\Admin\Desktop\солнышко\SAM_2886.JPG"/>
          <p:cNvPicPr/>
          <p:nvPr/>
        </p:nvPicPr>
        <p:blipFill>
          <a:blip r:embed="rId3"/>
          <a:stretch/>
        </p:blipFill>
        <p:spPr>
          <a:xfrm>
            <a:off x="5486400" y="3429000"/>
            <a:ext cx="2779560" cy="30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3571920" y="0"/>
            <a:ext cx="5486400" cy="41148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"/>
          <p:cNvPicPr/>
          <p:nvPr/>
        </p:nvPicPr>
        <p:blipFill>
          <a:blip r:embed="rId2"/>
          <a:stretch/>
        </p:blipFill>
        <p:spPr>
          <a:xfrm>
            <a:off x="1539720" y="3048120"/>
            <a:ext cx="4064040" cy="3504960"/>
          </a:xfrm>
          <a:prstGeom prst="rect">
            <a:avLst/>
          </a:prstGeom>
          <a:ln w="0">
            <a:noFill/>
          </a:ln>
        </p:spPr>
      </p:pic>
      <p:pic>
        <p:nvPicPr>
          <p:cNvPr id="54" name="TextBox 1" descr=""/>
          <p:cNvPicPr/>
          <p:nvPr/>
        </p:nvPicPr>
        <p:blipFill>
          <a:blip r:embed="rId3"/>
          <a:stretch/>
        </p:blipFill>
        <p:spPr>
          <a:xfrm>
            <a:off x="3260880" y="176040"/>
            <a:ext cx="3547800" cy="5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914400" y="447840"/>
            <a:ext cx="4191120" cy="31431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4648320" y="228600"/>
            <a:ext cx="4165560" cy="31240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"/>
          <p:cNvPicPr/>
          <p:nvPr/>
        </p:nvPicPr>
        <p:blipFill>
          <a:blip r:embed="rId3"/>
          <a:stretch/>
        </p:blipFill>
        <p:spPr>
          <a:xfrm>
            <a:off x="3486240" y="3171960"/>
            <a:ext cx="4292640" cy="3219480"/>
          </a:xfrm>
          <a:prstGeom prst="rect">
            <a:avLst/>
          </a:prstGeom>
          <a:ln w="0">
            <a:noFill/>
          </a:ln>
        </p:spPr>
      </p:pic>
      <p:pic>
        <p:nvPicPr>
          <p:cNvPr id="58" name="TextBox 1" descr=""/>
          <p:cNvPicPr/>
          <p:nvPr/>
        </p:nvPicPr>
        <p:blipFill>
          <a:blip r:embed="rId4"/>
          <a:stretch/>
        </p:blipFill>
        <p:spPr>
          <a:xfrm>
            <a:off x="3359160" y="189000"/>
            <a:ext cx="4906800" cy="5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G:\DCIM\100PHOTO\SAM_2890.JPG"/>
          <p:cNvPicPr/>
          <p:nvPr/>
        </p:nvPicPr>
        <p:blipFill>
          <a:blip r:embed="rId1"/>
          <a:stretch/>
        </p:blipFill>
        <p:spPr>
          <a:xfrm>
            <a:off x="5987880" y="260280"/>
            <a:ext cx="2811600" cy="37497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G:\DCIM\100PHOTO\SAM_2889.JPG"/>
          <p:cNvPicPr/>
          <p:nvPr/>
        </p:nvPicPr>
        <p:blipFill>
          <a:blip r:embed="rId2"/>
          <a:stretch/>
        </p:blipFill>
        <p:spPr>
          <a:xfrm>
            <a:off x="2257560" y="79200"/>
            <a:ext cx="3082680" cy="41101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"/>
          <p:cNvPicPr/>
          <p:nvPr/>
        </p:nvPicPr>
        <p:blipFill>
          <a:blip r:embed="rId3"/>
          <a:stretch/>
        </p:blipFill>
        <p:spPr>
          <a:xfrm>
            <a:off x="4038480" y="4122720"/>
            <a:ext cx="3049560" cy="2287440"/>
          </a:xfrm>
          <a:prstGeom prst="rect">
            <a:avLst/>
          </a:prstGeom>
          <a:ln w="0">
            <a:noFill/>
          </a:ln>
        </p:spPr>
      </p:pic>
      <p:pic>
        <p:nvPicPr>
          <p:cNvPr id="62" name="TextBox 1" descr=""/>
          <p:cNvPicPr/>
          <p:nvPr/>
        </p:nvPicPr>
        <p:blipFill>
          <a:blip r:embed="rId4"/>
          <a:stretch/>
        </p:blipFill>
        <p:spPr>
          <a:xfrm>
            <a:off x="2567160" y="208080"/>
            <a:ext cx="550368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8-08-01T18:05:04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