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E8E-62BF-4E17-891D-E7C0EC3B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66AE-5351-4DE1-B870-7038DEC9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EA7-2B34-4D9C-953A-8CE6D4E0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9C04-C51D-421F-B041-1B46A9F2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7F87-E68F-475C-8F93-E57E712B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72B9-0CA2-4856-AE7E-61E90D28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2DF3-DB9B-41EC-80C0-23288D71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3756-F412-4690-B9AF-3377DE22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5DEF0-56C8-4403-87D0-D4F57B31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34C2-8C89-49CF-939A-75769B0F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E680-9635-4BC8-B30D-71FA20D96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39BD-BFF1-432A-A853-BA096DA6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A977-5090-4303-B204-2B1CB395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2029-8433-45CD-A8AD-EA254457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761B-C32D-442E-B5BF-1E66604A0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1D87-A227-4402-BF5A-FF84076D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B450-9465-40F5-B816-C61F3C922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242-1CA7-4C8D-8D95-63728EB5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042-E37D-4A52-ADF1-C6152ED1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21E7-0905-4EE1-9C68-4C7E82B1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E4A-9823-4E56-8B05-20726D4E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08E9-CE23-434D-AA07-28943C42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58E4-320B-454B-9FBE-785848A66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3FA6-688C-40DD-9D55-474A4ED5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01BD-9E19-48D6-9BE2-4243139E2ED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A7BF-F135-45FD-88A0-829E3A16628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755640" y="1071720"/>
            <a:ext cx="7777080" cy="40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59"/>
                </a:solidFill>
                <a:latin typeface="Tahoma"/>
              </a:rPr>
              <a:t>Ознакомление дошкольников с профессиями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59"/>
                </a:solidFill>
                <a:latin typeface="Times New Roman"/>
                <a:ea typeface="Times New Roman"/>
              </a:rPr>
              <a:t>Выполнила: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59"/>
                </a:solidFill>
                <a:latin typeface="Times New Roman"/>
                <a:ea typeface="Times New Roman"/>
              </a:rPr>
              <a:t>воспитатель МДОУ «Детский сад №15 «Лужок»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59"/>
                </a:solidFill>
                <a:latin typeface="Times New Roman"/>
                <a:ea typeface="Times New Roman"/>
              </a:rPr>
              <a:t>Паймолова И.П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48320" y="1600200"/>
            <a:ext cx="4209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Ходит в белом колпак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 поварешкою в рук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готовит нам обед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шу, щи и винегре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4187520" cy="51850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ожет делать он буфет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улья, тумбы, табурет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стружках весь его верста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от работать надо как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76280" y="1557360"/>
            <a:ext cx="378936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размеру в самый раз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 костюм сошьет для ва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 исполнить по науке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 ходите руки в брю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95280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642920" y="714240"/>
            <a:ext cx="42865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часах настенных стрел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тали прыгать словно бел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астер тут на них взглянут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руглый винтик подтяну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сменил пружину срочно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 часы ходили точ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6560" y="1413000"/>
            <a:ext cx="398628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428720" y="1600200"/>
            <a:ext cx="4714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истит мастер башма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ибивает каблу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инит туфли и сандали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тоб как новенькие ста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017960" cy="5112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приучает детишек к порядк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проверяет ребячьи тетрадк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учит детей и читать, и писа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 складывать цифры, и вычит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85920" y="1413000"/>
            <a:ext cx="410040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ahoma"/>
              </a:rPr>
              <a:t>ТВОЁ   ПРИЗВАНИЕ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Строитель нам построит до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 мы в нем дружно зажив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Костюм нарядный выходн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скусно нам сошьет порт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Даст книги нам библиотекар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Хлеб испечет в пекарне пекар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Учитель выучит всему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Научит грамоте, письм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Письмо доставит почтальо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А повар сварит нам бульо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Я думаю, ты подрастеш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И дело по душе найдеш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ЦЕЛЬ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ширять и закреплять знания детей о разных профессиях. Воспитывать уважение к труду взрослых, желание выбрать профессию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5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0720" y="1600200"/>
            <a:ext cx="464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меня не мало дел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сли кто-то заболе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сех я вылечу друзья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гадайте кто же 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3641760" cy="4608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143240" y="1600200"/>
            <a:ext cx="4786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правляюсь я в по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абираюсь в самол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 лечу я над земл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тгадай, кто я тако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782880" cy="468144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29120" y="1600200"/>
            <a:ext cx="4214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ждый день сажусь в кабину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авожу мотор машины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Еду в дальние кра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тгадали, кто же 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03704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квартирам и дом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Много писем, телеграм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н приносит адресата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Как зовут его, ребята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5760" y="1413000"/>
            <a:ext cx="3966840" cy="49687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Кисти, краски и мольбер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Мамин я пишу портрет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ля картинной галере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гадай меня скорее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404496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вдруг пожар случиться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то быстрее всех примчить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 машине ярко-красной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б залить огонь опасный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4280" y="1341360"/>
            <a:ext cx="4257720" cy="5040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00720" y="2174760"/>
            <a:ext cx="4643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ожницы, шампунь, расческа –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сем я делаю причес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тригу и взрослых и дет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гадай меня скорей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30200" y="1557360"/>
            <a:ext cx="3994200" cy="4824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6:10:22Z</dcterms:created>
  <dc:creator>санек</dc:creator>
  <dc:description/>
  <dc:language>en-US</dc:language>
  <cp:lastModifiedBy>User</cp:lastModifiedBy>
  <dcterms:modified xsi:type="dcterms:W3CDTF">2011-11-26T15:13:56Z</dcterms:modified>
  <cp:revision>42</cp:revision>
  <dc:subject/>
  <dc:title>П Р Е З Е Н Т А Ц И Я Елисеевой Екатерины Александровны МДОУ «Детский сад № 15 «Лужок»</dc:title>
</cp:coreProperties>
</file>