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D10-1235-480C-9E5E-BA645B1E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F4A-AE21-4900-861C-09FD035A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BB8-0478-4A4A-BA6E-1ACF7F16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7AD2-F050-4827-BB80-E3EFC07F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2E31-FCFC-45EF-A3FE-E0FFA705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4453-EF5A-42E1-9482-E95F3C63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E1E1-B497-477F-ABA0-A30579AA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A4B1-F273-4ACD-ACFB-56D8E947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F4B7-724D-4979-B295-85B4A398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7B6E-B140-4FD2-9ED5-51B1B240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8A92-83B5-43EB-9AA2-C9B2538A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AE85-DF48-4809-ACC0-8670848F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33C8-FE35-4473-8E0D-BBEAE48D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F0F7-C25E-4A68-81DB-C62F9F4A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6B85-E979-4953-9B1F-CB5F5E0B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29D8-61AB-44AE-BE71-43911E0D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5D44-F4A2-45E1-A04A-4B0EDCF5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EEBF-06AD-48B5-960F-CAF0826C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CBBB-E2F6-4483-9F29-18954BCC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696D-3CF5-4A43-8FDF-4366A5B0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BC2C-25DE-47A8-AC22-A2F8AD9D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09AB-A471-4089-A41F-6A50C2A2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D62-7908-4DC3-8BAA-5DB603ED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54CD-E14A-4371-919E-E30FE2AF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7555-55A9-4997-A2A0-C9DBF68BBB1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2DC5-CC6D-4FEA-B428-D07B7588580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755640" y="1071720"/>
            <a:ext cx="777708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59"/>
                </a:solidFill>
                <a:latin typeface="Tahoma"/>
              </a:rPr>
              <a:t>Ознакомление дошкольников с профессиями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59"/>
                </a:solidFill>
                <a:latin typeface="Times New Roman"/>
                <a:ea typeface="Times New Roman"/>
              </a:rPr>
              <a:t>Выполнила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59"/>
                </a:solidFill>
                <a:latin typeface="Times New Roman"/>
                <a:ea typeface="Times New Roman"/>
              </a:rPr>
              <a:t>воспитатель МДОУ «Детский сад №15 «Лужок»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59"/>
                </a:solidFill>
                <a:latin typeface="Times New Roman"/>
                <a:ea typeface="Times New Roman"/>
              </a:rPr>
              <a:t>Паймолова И.П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1600200"/>
            <a:ext cx="4209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Ходит в белом колпак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поварешкою в ру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готовит нам обед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шу, щи и винегр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4187520" cy="5185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00720" y="160020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жет делать он буфет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улья, тумбы, табурет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стружках весь его верста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т работать надо как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6280" y="1557360"/>
            <a:ext cx="378936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00720" y="160020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размеру в самый раз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 костюм сошьет для ва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е исполнить по науке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 ходите руки в брю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95280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2920" y="714240"/>
            <a:ext cx="42865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часах настенных стрел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ли прыгать словно бел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стер тут на них взгляну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углый винтик подтяну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сменил пружину срочн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 часы ходили точ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6560" y="1413000"/>
            <a:ext cx="398628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428720" y="1600200"/>
            <a:ext cx="4714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истит мастер башма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бивает каблу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инит туфли и сандали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 как новенькие ста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017960" cy="5112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приучает детишек к порядк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проверяет ребячьи тетрад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учит детей и читать, и пис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складывать цифры, и вычит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5920" y="1413000"/>
            <a:ext cx="410040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ТВОЁ   ПРИЗВАНИ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Строитель нам построит до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И мы в нем дружно зажив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Костюм нарядный выход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Искусно нам сошьет порт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Даст книги нам библиотекар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Хлеб испечет в пекарне пекар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Учитель выучит всему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Научит грамоте, пись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исьмо доставит почтальо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А повар сварит нам бульо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Я думаю, ты подрастеш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И дело по душе найдеш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ширять и закреплять знания детей о разных профессиях. Воспитывать уважение к труду взрослых, желание выбрать профессию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меня не мало де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сли кто-то заболе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ех я вылечу друзья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гадайте кто же 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64176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43240" y="1600200"/>
            <a:ext cx="4786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правляюсь я в пол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бираюсь в самол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лечу я над зем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гадай, кто я тако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782880" cy="4681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29120" y="1600200"/>
            <a:ext cx="4214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ждый день сажусь в кабин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вожу мотор машин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ду в дальние кр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гадали, кто же 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03704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квартирам и дома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ного писем, телеграм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приносит адресат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 зовут его, ребят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5760" y="1413000"/>
            <a:ext cx="3966840" cy="4968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исти, краски и мольбер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амин я пишу портр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картинной галере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гадай меня скоре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04496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вдруг пожар случитьс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то быстрее всех примчить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машине ярко-красно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 залить огонь опасны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4280" y="1341360"/>
            <a:ext cx="425772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00720" y="2174760"/>
            <a:ext cx="4643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ожницы, шампунь, расческа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м я делаю причес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ригу и взрослых и де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гадай меня скорей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30200" y="1557360"/>
            <a:ext cx="399420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6:10:22Z</dcterms:created>
  <dc:creator>санек</dc:creator>
  <dc:description/>
  <dc:language>en-US</dc:language>
  <cp:lastModifiedBy>User</cp:lastModifiedBy>
  <dcterms:modified xsi:type="dcterms:W3CDTF">2011-11-26T15:13:56Z</dcterms:modified>
  <cp:revision>42</cp:revision>
  <dc:subject/>
  <dc:title>П Р Е З Е Н Т А Ц И Я Елисеевой Екатерины Александровны МДОУ «Детский сад № 15 «Лужок»</dc:title>
</cp:coreProperties>
</file>