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3D6-C369-4049-A74D-879213594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57A9-4E7E-4CF6-8147-AF0C4A674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076D-8365-4542-A05E-2ECF03B25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651-F3D6-4499-8774-2D7A869D8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91C-95BA-4DBF-BD9F-D7BAF4090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8246-270C-4219-83D5-A44A71A63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7E8-F745-4F59-8EC7-AD60B884E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3D0-513C-49A1-94F2-FDC486D1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C3C-ACCD-4B9C-B774-88021DCE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E04-488F-431C-B67D-16568F9F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612-11A7-4B82-B0D1-28DF5B9B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3DD-9812-4249-B2D8-7AF8D0A3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4C87-BBCE-478E-94D5-309471C3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2E51-3267-478F-BF3D-09C1314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F123-1A0D-4B00-BF1B-1380A34E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39F0-61FD-48DE-BE18-41A83722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F30D-A8FC-4CEE-81FD-AD662AAF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337-D2ED-46B6-97E6-4C30752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18B-9EED-401A-A33A-1406228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B4C-D596-4D8E-B53B-993238D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A8F-406D-4386-9511-A34363E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C66D-2A35-4CFF-B132-F7FDD49F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80C6-910A-4A57-9548-68ACEA4B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B81E-E603-4C43-B112-0CC31FD9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E97-66E2-4D73-9D10-D37797DE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016-A936-4E45-9D3F-359CE54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ED6-DBDF-4EAC-BE75-16714A4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12B-775E-4687-9F3D-1A5B071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BE6-6CD7-490F-BC29-AB4E0FE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9FC-86BA-45C9-9F71-641C61F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B76-BF0E-4FD8-829E-3F442346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C4C8-0306-4ABF-AE6D-8728B3C9F9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867280"/>
            <a:ext cx="1287000" cy="919080"/>
            <a:chOff x="7920" y="5867280"/>
            <a:chExt cx="1287000" cy="919080"/>
          </a:xfrm>
        </p:grpSpPr>
        <p:sp>
          <p:nvSpPr>
            <p:cNvPr id="9" name="Freeform 11"/>
            <p:cNvSpPr/>
            <p:nvPr/>
          </p:nvSpPr>
          <p:spPr>
            <a:xfrm>
              <a:off x="29520" y="5884560"/>
              <a:ext cx="1247040" cy="75996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172520" y="5974920"/>
              <a:ext cx="81000" cy="150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840" y="6199560"/>
              <a:ext cx="907200" cy="479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49760" y="6239520"/>
              <a:ext cx="601200" cy="437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57640" y="5916240"/>
              <a:ext cx="154440" cy="141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36200" y="6655320"/>
              <a:ext cx="86760" cy="1310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79240" y="6004080"/>
              <a:ext cx="220680" cy="448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67160" y="5984280"/>
              <a:ext cx="416520" cy="203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99240" y="6104880"/>
              <a:ext cx="178560" cy="78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867280"/>
              <a:ext cx="1287000" cy="913320"/>
              <a:chOff x="7920" y="5867280"/>
              <a:chExt cx="1287000" cy="91332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73480" y="5951160"/>
                <a:ext cx="627480" cy="829440"/>
                <a:chOff x="573480" y="5951160"/>
                <a:chExt cx="627480" cy="82944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73480" y="5980320"/>
                  <a:ext cx="17964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30440" y="6624720"/>
                  <a:ext cx="131400" cy="15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51640" y="5951160"/>
                  <a:ext cx="4932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88920" y="6150600"/>
                <a:ext cx="681480" cy="29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299880" y="6330960"/>
                <a:ext cx="279360" cy="17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49080" y="6089760"/>
                <a:ext cx="12240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867280"/>
                <a:ext cx="1287000" cy="794160"/>
                <a:chOff x="7920" y="5867280"/>
                <a:chExt cx="1287000" cy="79416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68240" y="6520680"/>
                  <a:ext cx="8568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6145920"/>
                  <a:ext cx="964080" cy="51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3480" y="6195240"/>
                  <a:ext cx="91440" cy="195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16240" y="5867280"/>
                  <a:ext cx="3686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64200" y="6054480"/>
                  <a:ext cx="109800" cy="2952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77640" y="6031080"/>
                  <a:ext cx="223200" cy="15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55640" y="5923440"/>
                  <a:ext cx="539280" cy="248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23320" y="6003000"/>
                  <a:ext cx="28044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5E2-D49B-479B-BFB5-AD5562F1C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670572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ави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и правила мы должны соблюдать во время учебы, игры и отдыха в течение год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ход  в  школ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76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ходя  в школу, не забывайте здороватьс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день сменную обувь в вестибюле и  одежду сдай в гардероб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веди  в порядок свою одежду и причес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мотри расписание  уро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 время учебного дня покидать школу нельз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FAIRY1"/>
          <p:cNvPicPr/>
          <p:nvPr/>
        </p:nvPicPr>
        <p:blipFill>
          <a:blip r:embed="rId1"/>
          <a:stretch/>
        </p:blipFill>
        <p:spPr>
          <a:xfrm>
            <a:off x="6732720" y="1989000"/>
            <a:ext cx="56016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авила поведения в клас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66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важайте других и проявляйте доброт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имательно слушайте и выполняйте указ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мешайте д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айте тих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людайте правила безопасности во время работы и иг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нимайте руку, прежде чем задать вопро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нимательно слушайте друг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риносите в класс игрушки или жевательную резин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ученик"/>
          <p:cNvPicPr/>
          <p:nvPr/>
        </p:nvPicPr>
        <p:blipFill>
          <a:blip r:embed="rId1"/>
          <a:stretch/>
        </p:blipFill>
        <p:spPr>
          <a:xfrm>
            <a:off x="6804000" y="1700280"/>
            <a:ext cx="17352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-91440"/>
            <a:ext cx="68706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авила поведения в рекре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блюдайте все правила нашей школ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ережно относитесь к имуществу школ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шумите стоя в очередях или находясь в коридорах и классных комнат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бегайте, это  опасно для Вас и окружающ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я  в очереди за одеждой,  держитесь правильной стороны коридора, не толкайтес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Aft>
                <a:spcPts val="901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гда имейте при себе бейдж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1" descr="78"/>
          <p:cNvPicPr/>
          <p:nvPr/>
        </p:nvPicPr>
        <p:blipFill>
          <a:blip r:embed="rId1"/>
          <a:stretch/>
        </p:blipFill>
        <p:spPr>
          <a:xfrm>
            <a:off x="6948360" y="4292640"/>
            <a:ext cx="194796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12"/>
          <p:cNvPicPr/>
          <p:nvPr/>
        </p:nvPicPr>
        <p:blipFill>
          <a:blip r:embed="rId2"/>
          <a:stretch/>
        </p:blipFill>
        <p:spPr>
          <a:xfrm>
            <a:off x="6443640" y="3141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guitarist1"/>
          <p:cNvPicPr/>
          <p:nvPr/>
        </p:nvPicPr>
        <p:blipFill>
          <a:blip r:embed="rId3"/>
          <a:stretch/>
        </p:blipFill>
        <p:spPr>
          <a:xfrm>
            <a:off x="6732720" y="1484280"/>
            <a:ext cx="1131840" cy="121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ила поведения в столов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таньте в очередь и дождитесь, когда вас обслужа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грайте и не кидайтесь ед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жде чем уходить, уберите со своего сто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бегай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Aft>
                <a:spcPts val="119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выносите еду из стол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21" descr="8r4"/>
          <p:cNvPicPr/>
          <p:nvPr/>
        </p:nvPicPr>
        <p:blipFill>
          <a:blip r:embed="rId1"/>
          <a:stretch/>
        </p:blipFill>
        <p:spPr>
          <a:xfrm>
            <a:off x="7236000" y="256536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4" descr="8r6"/>
          <p:cNvPicPr/>
          <p:nvPr/>
        </p:nvPicPr>
        <p:blipFill>
          <a:blip r:embed="rId2"/>
          <a:stretch/>
        </p:blipFill>
        <p:spPr>
          <a:xfrm>
            <a:off x="7524720" y="5229360"/>
            <a:ext cx="61740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5" descr="messagek"/>
          <p:cNvPicPr/>
          <p:nvPr/>
        </p:nvPicPr>
        <p:blipFill>
          <a:blip r:embed="rId3"/>
          <a:stretch/>
        </p:blipFill>
        <p:spPr>
          <a:xfrm>
            <a:off x="7667640" y="4149720"/>
            <a:ext cx="855720" cy="1069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6" descr="17"/>
          <p:cNvPicPr/>
          <p:nvPr/>
        </p:nvPicPr>
        <p:blipFill>
          <a:blip r:embed="rId4"/>
          <a:stretch/>
        </p:blipFill>
        <p:spPr>
          <a:xfrm>
            <a:off x="6300720" y="1197000"/>
            <a:ext cx="1577880" cy="107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22M5"/>
          <p:cNvPicPr/>
          <p:nvPr/>
        </p:nvPicPr>
        <p:blipFill>
          <a:blip r:embed="rId5"/>
          <a:stretch/>
        </p:blipFill>
        <p:spPr>
          <a:xfrm>
            <a:off x="6659640" y="4076640"/>
            <a:ext cx="993600" cy="14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ы обещ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6261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сориться друг с другом и с учителе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желюбно относиться ко все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являть доброту друг к другу (не обижать, не высмеивать и не преследовать никог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лать все по очереди и делиться друг с дру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1480" indent="-501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ережно относиться к имуществу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192" descr="av-6924"/>
          <p:cNvPicPr/>
          <p:nvPr/>
        </p:nvPicPr>
        <p:blipFill>
          <a:blip r:embed="rId1"/>
          <a:stretch/>
        </p:blipFill>
        <p:spPr>
          <a:xfrm>
            <a:off x="6877080" y="981000"/>
            <a:ext cx="97164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6" descr="men10"/>
          <p:cNvPicPr/>
          <p:nvPr/>
        </p:nvPicPr>
        <p:blipFill>
          <a:blip r:embed="rId2"/>
          <a:stretch/>
        </p:blipFill>
        <p:spPr>
          <a:xfrm>
            <a:off x="6659640" y="386064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8" descr="peopl"/>
          <p:cNvPicPr/>
          <p:nvPr/>
        </p:nvPicPr>
        <p:blipFill>
          <a:blip r:embed="rId3"/>
          <a:stretch/>
        </p:blipFill>
        <p:spPr>
          <a:xfrm>
            <a:off x="5796000" y="2133720"/>
            <a:ext cx="3051000" cy="9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ше соглаш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 прочитал(а) правила класса и согласен(на) их выполн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мя и подпись ученика(цы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5:54:23Z</dcterms:created>
  <dc:creator>.</dc:creator>
  <dc:description/>
  <cp:keywords/>
  <dc:language>en-US</dc:language>
  <cp:lastModifiedBy>HP</cp:lastModifiedBy>
  <dcterms:modified xsi:type="dcterms:W3CDTF">2018-08-01T20:24:12Z</dcterms:modified>
  <cp:revision>7</cp:revision>
  <dc:subject/>
  <dc:title>Правила для 3 класса начальной школы (учитель мистер Джонс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3649261049</vt:lpwstr>
  </property>
</Properties>
</file>