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EB9C-D00B-4E67-80E4-1E10448DC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16B1-7BB5-4699-978E-2DC584DCF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FC1E-9AE6-4277-8C00-E61F1A635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4CE4-6FBA-45E6-92E6-C6D11B66C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E908-D3D4-4E08-B9F4-7EFE0FB8D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3E45-70F3-4410-AB8F-594C9B7B82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27F6-B497-4C5C-8750-8A13220ED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1B5-B1E1-443A-8C83-349D3BAB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199-850D-428C-A136-2EEB95B7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01D-5813-460F-B417-B235A8E3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204-DC68-47F0-8233-9F46D16D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30A3-2258-4BFD-B08A-1B17407F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5103-03CE-440C-BF00-7992444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9ECF-0576-436E-B04A-81238C14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14CC-5878-4CE4-8AD1-F50166F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2991-3B87-4F98-A15A-32078031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ABFB-BC06-4D64-9427-BF11AAF2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27FC-8BB8-46C3-B8C4-C36B9B9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896-023F-44D6-A162-C366F2B1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6AC8-B3BC-4735-8645-B4B6841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8F9E-63F8-4963-86E0-5ECB500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665B-CE7B-4010-AEE5-AB16535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096D-7D03-4CB2-B08E-AB9629B2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0DEC-EA9E-4122-A52D-3EC1DEE1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B28-82CA-46D8-BE02-0B9140A8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1CF-3028-4D69-AE2B-18CABCF9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7E3-5D39-4E13-BB6D-CA52068E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520-6783-4EDD-A069-9F062069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D17-FF2E-4B20-817E-4C651E3D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3D7-EAED-46FB-8EFD-F2A5D751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99E-5AA6-4A3B-A75A-F405ED35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2292-641D-47F1-B0BB-C7901FE7B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867280"/>
            <a:ext cx="1287000" cy="919080"/>
            <a:chOff x="7920" y="5867280"/>
            <a:chExt cx="1287000" cy="919080"/>
          </a:xfrm>
        </p:grpSpPr>
        <p:sp>
          <p:nvSpPr>
            <p:cNvPr id="9" name="Freeform 11"/>
            <p:cNvSpPr/>
            <p:nvPr/>
          </p:nvSpPr>
          <p:spPr>
            <a:xfrm>
              <a:off x="29520" y="5884560"/>
              <a:ext cx="1247040" cy="7599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172520" y="5974920"/>
              <a:ext cx="81000" cy="150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840" y="6199560"/>
              <a:ext cx="907200" cy="479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49760" y="6239520"/>
              <a:ext cx="601200" cy="437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57640" y="5916240"/>
              <a:ext cx="154440" cy="141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36200" y="6655320"/>
              <a:ext cx="86760" cy="131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79240" y="6004080"/>
              <a:ext cx="220680" cy="448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67160" y="5984280"/>
              <a:ext cx="416520" cy="203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99240" y="6104880"/>
              <a:ext cx="178560" cy="78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867280"/>
              <a:ext cx="1287000" cy="913320"/>
              <a:chOff x="7920" y="5867280"/>
              <a:chExt cx="1287000" cy="91332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73480" y="5951160"/>
                <a:ext cx="627480" cy="829440"/>
                <a:chOff x="573480" y="5951160"/>
                <a:chExt cx="627480" cy="82944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73480" y="5980320"/>
                  <a:ext cx="179640" cy="10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30440" y="6624720"/>
                  <a:ext cx="131400" cy="155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51640" y="5951160"/>
                  <a:ext cx="4932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88920" y="6150600"/>
                <a:ext cx="681480" cy="29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299880" y="6330960"/>
                <a:ext cx="279360" cy="17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49080" y="6089760"/>
                <a:ext cx="12240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867280"/>
                <a:ext cx="1287000" cy="794160"/>
                <a:chOff x="7920" y="5867280"/>
                <a:chExt cx="1287000" cy="79416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68240" y="6520680"/>
                  <a:ext cx="85680" cy="10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6145920"/>
                  <a:ext cx="964080" cy="51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3480" y="6195240"/>
                  <a:ext cx="91440" cy="195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16240" y="5867280"/>
                  <a:ext cx="3686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64200" y="6054480"/>
                  <a:ext cx="109800" cy="295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77640" y="6031080"/>
                  <a:ext cx="223200" cy="158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55640" y="5923440"/>
                  <a:ext cx="539280" cy="248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23320" y="6003000"/>
                  <a:ext cx="280440" cy="10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ED76-E309-4129-AD9F-0754D95D3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6705720" cy="144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ави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и правила мы должны соблюдать во время учебы, игры и отдыха в течение год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ход  в  школ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76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ходя  в школу, не забывайте здороваться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день сменную обувь в вестибюле и  одежду сдай в гардероб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веди  в порядок свою одежду и причес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смотри расписание  уро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 время учебного дня покидать школу нельзя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FAIRY1"/>
          <p:cNvPicPr/>
          <p:nvPr/>
        </p:nvPicPr>
        <p:blipFill>
          <a:blip r:embed="rId1"/>
          <a:stretch/>
        </p:blipFill>
        <p:spPr>
          <a:xfrm>
            <a:off x="6732720" y="1989000"/>
            <a:ext cx="560160" cy="6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авила поведения в клас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66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важайте других и проявляйте доброт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нимательно слушайте и выполняйте указа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мешайте д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айте тих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блюдайте правила безопасности во время работы и иг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нимайте руку, прежде чем задать вопро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нимательно слушайте друг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риносите в класс игрушки или жевательную резин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ученик"/>
          <p:cNvPicPr/>
          <p:nvPr/>
        </p:nvPicPr>
        <p:blipFill>
          <a:blip r:embed="rId1"/>
          <a:stretch/>
        </p:blipFill>
        <p:spPr>
          <a:xfrm>
            <a:off x="6804000" y="1700280"/>
            <a:ext cx="173520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91440"/>
            <a:ext cx="68706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авила поведения в рекре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блюдайте все правила нашей школ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ережно относитесь к имуществу школ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шумите стоя в очередях или находясь в коридорах и классных комнатах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бегайте, это  опасно для Вас и окружающ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оя  в очереди за одеждой,  держитесь правильной стороны коридора, не толкайтес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егда имейте при себе бейдж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1" descr="78"/>
          <p:cNvPicPr/>
          <p:nvPr/>
        </p:nvPicPr>
        <p:blipFill>
          <a:blip r:embed="rId1"/>
          <a:stretch/>
        </p:blipFill>
        <p:spPr>
          <a:xfrm>
            <a:off x="6948360" y="4292640"/>
            <a:ext cx="1947960" cy="1752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12"/>
          <p:cNvPicPr/>
          <p:nvPr/>
        </p:nvPicPr>
        <p:blipFill>
          <a:blip r:embed="rId2"/>
          <a:stretch/>
        </p:blipFill>
        <p:spPr>
          <a:xfrm>
            <a:off x="6443640" y="3141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guitarist1"/>
          <p:cNvPicPr/>
          <p:nvPr/>
        </p:nvPicPr>
        <p:blipFill>
          <a:blip r:embed="rId3"/>
          <a:stretch/>
        </p:blipFill>
        <p:spPr>
          <a:xfrm>
            <a:off x="6732720" y="1484280"/>
            <a:ext cx="1131840" cy="121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ила поведения в столов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6985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таньте в очередь и дождитесь, когда вас обслужа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играйте и не кидайтесь ед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ежде чем уходить, уберите со своего сто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бегай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выносите еду из столов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21" descr="8r4"/>
          <p:cNvPicPr/>
          <p:nvPr/>
        </p:nvPicPr>
        <p:blipFill>
          <a:blip r:embed="rId1"/>
          <a:stretch/>
        </p:blipFill>
        <p:spPr>
          <a:xfrm>
            <a:off x="7236000" y="256536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4" descr="8r6"/>
          <p:cNvPicPr/>
          <p:nvPr/>
        </p:nvPicPr>
        <p:blipFill>
          <a:blip r:embed="rId2"/>
          <a:stretch/>
        </p:blipFill>
        <p:spPr>
          <a:xfrm>
            <a:off x="7524720" y="5229360"/>
            <a:ext cx="61740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5" descr="messagek"/>
          <p:cNvPicPr/>
          <p:nvPr/>
        </p:nvPicPr>
        <p:blipFill>
          <a:blip r:embed="rId3"/>
          <a:stretch/>
        </p:blipFill>
        <p:spPr>
          <a:xfrm>
            <a:off x="7667640" y="4149720"/>
            <a:ext cx="855720" cy="1069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17"/>
          <p:cNvPicPr/>
          <p:nvPr/>
        </p:nvPicPr>
        <p:blipFill>
          <a:blip r:embed="rId4"/>
          <a:stretch/>
        </p:blipFill>
        <p:spPr>
          <a:xfrm>
            <a:off x="6300720" y="1197000"/>
            <a:ext cx="1577880" cy="107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22M5"/>
          <p:cNvPicPr/>
          <p:nvPr/>
        </p:nvPicPr>
        <p:blipFill>
          <a:blip r:embed="rId5"/>
          <a:stretch/>
        </p:blipFill>
        <p:spPr>
          <a:xfrm>
            <a:off x="6659640" y="4076640"/>
            <a:ext cx="993600" cy="14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ы обещ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62616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сориться друг с другом и с учителе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желюбно относиться ко все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являть доброту друг к другу (не обижать, не высмеивать и не преследовать никого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елать все по очереди и делиться друг с дру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ережно относиться к имуществу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192" descr="av-6924"/>
          <p:cNvPicPr/>
          <p:nvPr/>
        </p:nvPicPr>
        <p:blipFill>
          <a:blip r:embed="rId1"/>
          <a:stretch/>
        </p:blipFill>
        <p:spPr>
          <a:xfrm>
            <a:off x="6877080" y="981000"/>
            <a:ext cx="97164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6" descr="men10"/>
          <p:cNvPicPr/>
          <p:nvPr/>
        </p:nvPicPr>
        <p:blipFill>
          <a:blip r:embed="rId2"/>
          <a:stretch/>
        </p:blipFill>
        <p:spPr>
          <a:xfrm>
            <a:off x="6659640" y="386064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8" descr="peopl"/>
          <p:cNvPicPr/>
          <p:nvPr/>
        </p:nvPicPr>
        <p:blipFill>
          <a:blip r:embed="rId3"/>
          <a:stretch/>
        </p:blipFill>
        <p:spPr>
          <a:xfrm>
            <a:off x="5796000" y="2133720"/>
            <a:ext cx="3051000" cy="90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ше соглаш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 прочитал(а) правила класса и согласен(на) их выполня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мя и подпись ученика(цы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5:54:23Z</dcterms:created>
  <dc:creator>.</dc:creator>
  <dc:description/>
  <cp:keywords/>
  <dc:language>en-US</dc:language>
  <cp:lastModifiedBy>HP</cp:lastModifiedBy>
  <dcterms:modified xsi:type="dcterms:W3CDTF">2018-08-01T20:24:12Z</dcterms:modified>
  <cp:revision>7</cp:revision>
  <dc:subject/>
  <dc:title>Правила для 3 класса начальной школы (учитель мистер Джонс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3649261049</vt:lpwstr>
  </property>
</Properties>
</file>