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916-843F-49C8-B9D7-A1474546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039-54DC-4D0E-8DAE-227900AD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C57-AB71-4DEE-89CC-22DFDB4B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43E-0B96-4CED-9782-2435112F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D50D-5607-4E28-A14F-1AAAC662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955-14E6-4FCB-A884-0D4DF377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118-8F36-4378-87EC-9DF332F9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E4B9-B284-4C0F-AF9D-AEF1057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3874-EF8C-40F0-BED4-0921EE6A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8D68-0A42-449E-A47B-64C23C46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A7B8-6FFD-4770-9458-6BA537F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0A3-DC4B-4FFB-AC3F-20A9E468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5DB1-457D-413C-A8D2-840D759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5EBA-B241-4A86-9919-52801029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88BB-FDCC-4CA6-B4A1-02F403AB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98F5-A49B-40A8-846B-7ED6C565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1E2-E272-41BA-A925-EB15433E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74C-274C-44D2-884F-1DBD214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41C-DF29-4F33-928F-AB0E657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D9B-F822-4549-AC02-F809BDDA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342-63CD-4367-B88B-A42878F0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DD3-D683-4A6D-A609-81C54E98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C8D-3A0A-4653-8BF6-E5BBEDC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ED7-7024-4079-9162-4BA003A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FD59-15C0-43A2-BA37-DCF07FE57F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3578-E473-4B22-9DAC-4D568EFA34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: «Занимательная математика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4149360"/>
            <a:ext cx="60325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ыполнил: Бакуменко Игор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чащийся 6А класс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. Белореченс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уководитель: Бакуменко Наталия Владимиров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. Белореченс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таблиц;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Таблицы не только позволяют </a:t>
            </a: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наглядно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едставить условие задач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ли ее ответ, но в значительной степени </a:t>
            </a: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помогают делать правильные логические выводы в ходе решения зада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дача 2.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Первые буквы фамил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ня,Петя и Саша и Коля носят фамилии, начинающиеся с букв «В», «П», «С»и «К». Известно, чт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аня и С. – отличн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етя и В.- троечн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. и Коля ростом ниже П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аша и Петя имеют одинаковый рос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какой буквы начинается фамилия каждого ребён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Обоснование темы: я очень люблю решать занимательные задачи. Мне захотелось узнать можно их решать таблицей или схемой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Я поставил перед собой цель и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Цель: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изучение способов решения занимательных задач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йти и прочитать литературу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явить разные виды задач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пределить способы решени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учиться решать такие зада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Актуальность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 получить дополнительны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ния в решении занимательных задач и могу развить логическое мышле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Гипотеза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некоторые задачи можно решить таблицей или схем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Метод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сследования: сравнение, анализ, сбор материала,  сбор задач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Объект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оей деятельности были занимательные зада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редмет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сследования– задачи, схемы, таблиц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ассужден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68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В» и Коля ростом ниже «П», значит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А если Ваня, Петя, Коля не «В», значит,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значит,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ля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В» и Коля ростом ниже «П», значит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значит,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ля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В» и Коля ростом ниже «П», значит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значит,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ля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А если Ваня, Петя, Коля не «В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А если Ваня, Петя, Коля не «В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а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696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тематические развлечен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эт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решение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занимательных задач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еометрические построен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адывание числовых и механических головоломок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еские игры и фокус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ни развиваю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еские способ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образитель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огическое мышл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крепляют пам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а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Задача на перелив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тмерить 3 л, имея сосуд 5 л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е наименьшее число переливаний потребуется для того, чтобы в четырехлитровую кастрюлю с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омощью кран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пятилитровой банки налить 3 литра вод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ешении этой задачи использую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рассужден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ешение задачи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Comic Sans MS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ваем в кастрюлю 4 литр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Comic Sans MS"/>
              </a:rPr>
              <a:t>2</a:t>
            </a: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иваем воду из кастрюли в  5-ти литровую банк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 Наливаем в кастрюлю 4 литр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4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оливаем полную банку 5-ти литровую, и </a:t>
            </a: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в кастрюле остается 3 литра.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 algn="r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потребуется 4 переливания, чтобы налить 3 л во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Отмерить 3 л, имея сосуд 5 л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57" name="Text Box 35"/>
          <p:cNvSpPr/>
          <p:nvPr/>
        </p:nvSpPr>
        <p:spPr>
          <a:xfrm>
            <a:off x="2050920" y="5877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ливаю в кастрюлю 4 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0" name="Text Box 34"/>
          <p:cNvSpPr/>
          <p:nvPr/>
        </p:nvSpPr>
        <p:spPr>
          <a:xfrm>
            <a:off x="2050920" y="57340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реливаю в сосуд 5 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3" name="Text Box 35"/>
          <p:cNvSpPr/>
          <p:nvPr/>
        </p:nvSpPr>
        <p:spPr>
          <a:xfrm>
            <a:off x="1979640" y="60102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ливаю опять в кастрюлю 4 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6" name="Text Box 34"/>
          <p:cNvSpPr/>
          <p:nvPr/>
        </p:nvSpPr>
        <p:spPr>
          <a:xfrm>
            <a:off x="1979640" y="59500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т: необходимо сделать 4 переливания, чтобы налить 3 л вод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2050920" y="5589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ливаю сосуд 5л,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в кастрюле остаётся 3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ля решения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нимательных задач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ужн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ля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упорство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стойчивость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в достижении цел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дача на переливание из сосудов. Имеем 3 сосу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Деление 10 л поровну, имея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сосуды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3, 6 и 7 л.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Разделить на 2 равные части воду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находящуюся в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6-литрово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уде (4 л) и в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7-литров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6 л), пользуясь этими и 3-литровым сосудами. Какое наименьшее количество переливаний потребует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пишу решение в таблицу. (эта задача более сложная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48"/>
          <p:cNvSpPr/>
          <p:nvPr/>
        </p:nvSpPr>
        <p:spPr>
          <a:xfrm>
            <a:off x="2268360" y="5794200"/>
            <a:ext cx="597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Переливаю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1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№ 2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7"/>
          <p:cNvSpPr/>
          <p:nvPr/>
        </p:nvSpPr>
        <p:spPr>
          <a:xfrm>
            <a:off x="1835280" y="5805360"/>
            <a:ext cx="66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иваю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2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47"/>
          <p:cNvSpPr/>
          <p:nvPr/>
        </p:nvSpPr>
        <p:spPr>
          <a:xfrm>
            <a:off x="2195640" y="580536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иваю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2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№ 2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46"/>
          <p:cNvSpPr/>
          <p:nvPr/>
        </p:nvSpPr>
        <p:spPr>
          <a:xfrm>
            <a:off x="2627280" y="5877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2700360" y="5661000"/>
            <a:ext cx="568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Доливаю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5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№ 2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87" name="Text Box 47"/>
          <p:cNvSpPr/>
          <p:nvPr/>
        </p:nvSpPr>
        <p:spPr>
          <a:xfrm>
            <a:off x="1908000" y="6093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т: необходимо сделать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5 переливаний, чтобы 10 литров разделить на 2 равные ча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2124000" y="565164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ливаю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Песочные ча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Рисунок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1143000" cy="187632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4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143000" cy="18763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1042920" y="3417840"/>
            <a:ext cx="76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еются двое песочных часов на 7 мин. и 11 мин.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Яйцо варитс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15 мин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ак отмерить это время с помощи имеющихся часов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Рассмотрю решение этой задачи на пересыпание тоже  табличным способ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755640" y="3059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7 ми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34000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11 ми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ешение задачи на пересып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95280" y="1773360"/>
          <a:ext cx="8209080" cy="3678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7мин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1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сы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в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(ост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63"/>
          <p:cNvSpPr/>
          <p:nvPr/>
        </p:nvSpPr>
        <p:spPr>
          <a:xfrm>
            <a:off x="2195640" y="5661000"/>
            <a:ext cx="63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асы пересыпаем одновременно, пересыпалос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7 мин.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В часах 11 мин. осталось 4 мин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ешение задачи на пересып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95280" y="1773360"/>
          <a:ext cx="8209080" cy="319716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7мин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1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сы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в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(ост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тор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72"/>
          <p:cNvSpPr/>
          <p:nvPr/>
        </p:nvSpPr>
        <p:spPr>
          <a:xfrm>
            <a:off x="2124000" y="5300640"/>
            <a:ext cx="60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Переворачиваем часы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а 7ми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Пересыпание идёт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а 4 ми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Часы в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11 м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. пересыпались, в часах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7 м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 осталось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3 м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Я изучил несколько различных способов решения логических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рассуждени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таблиц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схем;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ешение задачи на пересып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95280" y="1773360"/>
          <a:ext cx="8209080" cy="319716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7мин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1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сы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в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(ост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тор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ть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ост.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ост.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35"/>
          <p:cNvSpPr/>
          <p:nvPr/>
        </p:nvSpPr>
        <p:spPr>
          <a:xfrm>
            <a:off x="2411280" y="5084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2916360" y="529128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843280" y="5218200"/>
            <a:ext cx="576108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ереворачиваем часы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на 11мин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Пересыпание идёт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на 3 мин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сы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а 7 мин. пересыпалис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а в часах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на 11 мин. осталось 8 мин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так, мы имеем время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на часах 7 мин. и 8 мин., т. е. 15 мин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ставленную перед собой цель и задачи я выполни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зучил литерату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явил различные типы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шел способы решения занимательных задач с помощью рассуждений, схем и табли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учился решать такие зада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рассуждений;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им способом решаются самые простые логические задач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идея состоит в том, что мы проводим рассуждения, используя последовательно все условия задачи, и приходим к выводу, который и будет являться ответом задач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Аня, Женя и Нина спросили, какие им поставили оценки за контрольную работу по математике, учительница ответила: «Попробуйте догадаться сами, если я скажу, что в вашем классе «двоек» нет, а у вас троих оценки разные, причём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Ани не «трой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Нины не «тройка» и не «пятёр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ую оценку получила каждая из учениц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но:                 Рассужд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я(А)              А             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еня(Ж)           Ж             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на (Н)           Н             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какую оценку получи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о условию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Ани не «трой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Нины не «тройка» и не «пятёр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4140360" y="1773360"/>
            <a:ext cx="1223640" cy="79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40360" y="2708280"/>
            <a:ext cx="12952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97000" y="4653000"/>
            <a:ext cx="7696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43280" y="105264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А                   3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Ж                  4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Н                  5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843280" y="2276640"/>
            <a:ext cx="36734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2916360" y="2421000"/>
            <a:ext cx="3600360" cy="1512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2843280" y="4076640"/>
            <a:ext cx="35290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8"/>
          <p:cNvSpPr/>
          <p:nvPr/>
        </p:nvSpPr>
        <p:spPr>
          <a:xfrm flipV="1">
            <a:off x="2843280" y="3141360"/>
            <a:ext cx="3600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843280" y="2349360"/>
            <a:ext cx="3600360" cy="7192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843280" y="2492280"/>
            <a:ext cx="3457440" cy="136836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2916360" y="3141720"/>
            <a:ext cx="331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2916360" y="3284640"/>
            <a:ext cx="3311280" cy="649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4"/>
          <p:cNvSpPr/>
          <p:nvPr/>
        </p:nvSpPr>
        <p:spPr>
          <a:xfrm flipV="1">
            <a:off x="2916360" y="2349360"/>
            <a:ext cx="3456000" cy="648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47:47Z</dcterms:created>
  <dc:creator>User</dc:creator>
  <dc:description/>
  <dc:language>en-US</dc:language>
  <cp:lastModifiedBy>Натали</cp:lastModifiedBy>
  <dcterms:modified xsi:type="dcterms:W3CDTF">2017-03-19T17:36:48Z</dcterms:modified>
  <cp:revision>32</cp:revision>
  <dc:subject/>
  <dc:title>математика</dc:title>
</cp:coreProperties>
</file>