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EF4-E76C-43C2-A422-DB8F517A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997-5F51-4F4C-97AF-CD27017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18D-A04B-42FE-A68E-D2226E12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512-23A0-44B2-83AB-72D3AD3F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847C-01F2-4F45-AFBD-139C3AFF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3D9-E77E-4144-B4E6-9269AE3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D1D8-E792-46D0-A0B6-271C00A1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FD0B-CDDE-47F2-B1B6-C6504E4C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0A2A-58C8-4B97-A5D1-B6473367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28F8-A5C3-44A5-BAD3-4FEE839D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FEF-9DCA-4734-9184-2DB6A07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059-A972-4A3E-9ACC-BDC6E3F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1930-1BF7-40CC-9924-A49AEC6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204A-D0A5-4144-A591-36C152B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3A7-64AD-49F3-B3EB-AC34A54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769-AEAA-44DA-A916-63BF4706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3130-EA31-4E4C-A70D-2EA0DD65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8A3-EBDA-4B34-B619-E89902C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E17-B5A2-4E02-B688-0FF3A101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084-CBC9-413A-AFD4-5FEAD6E7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55E-CD68-4CBF-904A-466CFB2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E6A-E86D-4012-A478-D41DC77D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15B-AD34-4E96-B40D-B0440BD8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8ED-AD4B-4059-8C80-27F03228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C5A-92E6-45C2-BDE8-15A302CC47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190-F0B1-4D9B-8FEF-4F4FC41B5E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: «Занимательная математика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149360"/>
            <a:ext cx="60325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ыполнил: Бакуменко Игор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чащийся 6А класс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. Белореченс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уководитель: Бакуменко Наталия Владимиров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Г. Белореченск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таблиц;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Таблицы не только позволяют </a:t>
            </a: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наглядно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едставить условие задач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ли ее ответ, но в значительной степени </a:t>
            </a: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помогают делать правильные логические выводы в ходе решения зада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2700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br>
              <a:rPr sz="2000"/>
            </a:b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абличный спосо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92360" y="3573360"/>
          <a:ext cx="6553080" cy="2691000"/>
        </p:xfrm>
        <a:graphic>
          <a:graphicData uri="http://schemas.openxmlformats.org/drawingml/2006/table">
            <a:tbl>
              <a:tblPr/>
              <a:tblGrid>
                <a:gridCol w="1638360"/>
                <a:gridCol w="1639800"/>
                <a:gridCol w="1636560"/>
                <a:gridCol w="1638360"/>
              </a:tblGrid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30"/>
          <p:cNvSpPr/>
          <p:nvPr/>
        </p:nvSpPr>
        <p:spPr>
          <a:xfrm>
            <a:off x="611280" y="836640"/>
            <a:ext cx="7696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ча 2.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ервые буквы фамил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ня,Петя и Саша и Коля носят фамилии, начинающиеся с букв «В», «П», «С»и «К». Известно, чт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аня и С. – отличн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етя и В.- троечник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В. и Коля ростом ниже П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аша и Петя имеют одинаковый рос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какой буквы начинается фамилия каждого ребён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Обоснование темы: я очень люблю решать занимательные задачи. Мне захотелось узнать можно их решать таблицей или схемой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Я поставил перед собой цель и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Цель: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изучение способов решения занимательных задач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йти и прочитать литературу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явить разные виды задач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ределить способы решения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учиться решать такие зада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Актуальность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 получить дополнительны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ния в решении занимательных задач и могу развить логическое мышле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Гипотеза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некоторые задачи можно решить таблицей или схем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Метод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сследования: сравнение, анализ, сбор материала,  сбор задач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Объект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оей деятельности были занимательные задач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редмет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сследования– задачи, схемы, таблиц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ассуждени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68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В» и Коля ростом ниже «П», значит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А если Ваня, Петя, Коля не «В», значит,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значит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ля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В» и Коля ростом ниже «П», значит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значит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ля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«В» и Коля ростом ниже «П», значит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значит,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оля «С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А если Ваня, Петя, Коля не «В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 А если Ваня, Петя, Коля не «В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41"/>
          <p:cNvSpPr/>
          <p:nvPr/>
        </p:nvSpPr>
        <p:spPr>
          <a:xfrm>
            <a:off x="1116000" y="404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Ваня и «С» - отличники, значит, Ваня не может быть «С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 не может быть «В», так как Ваня «5», а «В» - «3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Петя и «В».- троечники, значит, Петя не может быть «В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и не может быть «С», так как Петя «3», а «С» - «5»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В» и Коля ростом ниже «П», значи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, Коля не может быть «В» и «П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если Ваня, Петя, Коля не «В»,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аша «В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ит, Саша не «С», не «П»,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аня, Петя, Саша не «С», значит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Коля «С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ля не «К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а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696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тематические развлечен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эт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решение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занимательных задач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еометрические построени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адывание числовых и механических головоломок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еские игры и фокус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ни развиваю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еские способност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образительность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огическое мышл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крепляют пам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а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 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ссужд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268280"/>
          <a:ext cx="7913520" cy="2590920"/>
        </p:xfrm>
        <a:graphic>
          <a:graphicData uri="http://schemas.openxmlformats.org/drawingml/2006/table">
            <a:tbl>
              <a:tblPr/>
              <a:tblGrid>
                <a:gridCol w="1655640"/>
                <a:gridCol w="1508040"/>
                <a:gridCol w="1586160"/>
                <a:gridCol w="1581120"/>
                <a:gridCol w="1582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П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С»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н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т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ш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4221000"/>
            <a:ext cx="784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ша  и Петя имеют одинаковый рост (по условию), а Саша «В» ниже «П» (по условию), а Саша=Пети, значит, Петя не «П», 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Петя «К»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Если Петя «К» (по доказательству), то Ваня не «К», </a:t>
            </a:r>
            <a:r>
              <a:rPr b="1" lang="ru-RU" sz="1600" spc="-1" strike="noStrike" u="sng">
                <a:solidFill>
                  <a:srgbClr val="703dff"/>
                </a:solidFill>
                <a:uFillTx/>
                <a:latin typeface="Comic Sans MS"/>
              </a:rPr>
              <a:t>а Ваня  «П»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 доказательству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Ответ: Ваня «П», Петя «К», Саша «В» и Коля «С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Задача на перелив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тмерить 3 л, имея сосуд 5 л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е наименьшее число переливаний потребуется для того, чтобы в четырехлитровую кастрюлю с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помощью кран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пятилитровой банки налить 3 литра вод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 решении этой задачи использую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рассужде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ешение задачи 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Comic Sans MS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ливаем в кастрюлю 4 литр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0a0"/>
                </a:solidFill>
                <a:uFillTx/>
                <a:latin typeface="Comic Sans MS"/>
              </a:rPr>
              <a:t>2</a:t>
            </a: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иваем воду из кастрюли в  5-ти литровую банк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 Наливаем в кастрюлю 4 литр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Доливаем полную банку 5-ти литровую, и </a:t>
            </a: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в кастрюле остается 3 литра.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 algn="r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потребуется 4 переливания, чтобы налить 3 л во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Отмерить 3 л, имея сосуд 5 л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57" name="Text Box 35"/>
          <p:cNvSpPr/>
          <p:nvPr/>
        </p:nvSpPr>
        <p:spPr>
          <a:xfrm>
            <a:off x="2050920" y="5877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ливаю в кастрюлю 4 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0" name="Text Box 34"/>
          <p:cNvSpPr/>
          <p:nvPr/>
        </p:nvSpPr>
        <p:spPr>
          <a:xfrm>
            <a:off x="2050920" y="57340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еливаю в сосуд 5 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3" name="Text Box 35"/>
          <p:cNvSpPr/>
          <p:nvPr/>
        </p:nvSpPr>
        <p:spPr>
          <a:xfrm>
            <a:off x="1979640" y="60102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ливаю опять в кастрюлю 4 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Эту же задачу попробую записать с помощью табл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5 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стрюля 4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ое 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перели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sp>
        <p:nvSpPr>
          <p:cNvPr id="266" name="Text Box 34"/>
          <p:cNvSpPr/>
          <p:nvPr/>
        </p:nvSpPr>
        <p:spPr>
          <a:xfrm>
            <a:off x="1979640" y="59500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т: необходимо сделать 4 переливания, чтобы налить 3 л вод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35"/>
          <p:cNvSpPr/>
          <p:nvPr/>
        </p:nvSpPr>
        <p:spPr>
          <a:xfrm>
            <a:off x="2050920" y="5589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ливаю сосуд 5л,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в кастрюле остаётся 3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ля решения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нимательных задач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ужн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ля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упорство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стойчивость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 достижении цел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дача на переливание из сосудов. Имеем 3 сосу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Деление 10 л поровну, имея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сосуды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3, 6 и 7 л.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Разделить на 2 равные части воду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аходящуюся в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6-литрово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уде (4 л) и в </a:t>
            </a: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7-литров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6 л), пользуясь этими и 3-литровым сосудами. Какое наименьшее количество переливаний потребуетс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ишу решение в таблицу. (эта задача более сложная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48"/>
          <p:cNvSpPr/>
          <p:nvPr/>
        </p:nvSpPr>
        <p:spPr>
          <a:xfrm>
            <a:off x="2268360" y="5794200"/>
            <a:ext cx="597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. Переливаю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1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№ 2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7"/>
          <p:cNvSpPr/>
          <p:nvPr/>
        </p:nvSpPr>
        <p:spPr>
          <a:xfrm>
            <a:off x="1835280" y="580536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иваю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2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47"/>
          <p:cNvSpPr/>
          <p:nvPr/>
        </p:nvSpPr>
        <p:spPr>
          <a:xfrm>
            <a:off x="2195640" y="5805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иваю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2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№ 2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46"/>
          <p:cNvSpPr/>
          <p:nvPr/>
        </p:nvSpPr>
        <p:spPr>
          <a:xfrm>
            <a:off x="2627280" y="5877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2700360" y="5661000"/>
            <a:ext cx="568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. Доливаю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суде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6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остаётся 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5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Решение задачи № 2 с помощью таблицы.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6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3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суд 7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-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- е перели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287" name="Text Box 47"/>
          <p:cNvSpPr/>
          <p:nvPr/>
        </p:nvSpPr>
        <p:spPr>
          <a:xfrm>
            <a:off x="1908000" y="6093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т: необходимо сделать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5 переливаний, чтобы 10 литров разделить на 2 равные ча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2124000" y="565164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ливаю из сосуда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3 л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сосуд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7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Песочные час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Рисунок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1143000" cy="187632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4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143000" cy="18763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1042920" y="3417840"/>
            <a:ext cx="76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еются двое песочных часов на 7 мин. и 11 мин.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Яйцо варитс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15 мин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ак отмерить это время с помощи имеющихся часов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Рассмотрю решение этой задачи на пересыпание тоже  табличным способ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755640" y="3059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7 ми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34000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11 ми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ешение задачи на пересып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95280" y="1773360"/>
          <a:ext cx="8209080" cy="3678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7мин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1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сы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(ост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63"/>
          <p:cNvSpPr/>
          <p:nvPr/>
        </p:nvSpPr>
        <p:spPr>
          <a:xfrm>
            <a:off x="2195640" y="5661000"/>
            <a:ext cx="63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асы пересыпаем одновременно, пересыпалос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7 мин.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В часах 11 мин. осталось 4 мин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ешение задачи на пересып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95280" y="1773360"/>
          <a:ext cx="8209080" cy="31971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7мин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1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сы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(ост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тор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72"/>
          <p:cNvSpPr/>
          <p:nvPr/>
        </p:nvSpPr>
        <p:spPr>
          <a:xfrm>
            <a:off x="2124000" y="5300640"/>
            <a:ext cx="60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. Переворачиваем часы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а 7ми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 Пересыпание идёт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а 4 ми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Часы в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11 м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. пересыпались, в часах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7 м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 осталось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3 м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Я изучил несколько различных способов решения логических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рассуждени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таблиц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схем;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ешение задачи на пересып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95280" y="1773360"/>
          <a:ext cx="8209080" cy="319716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7мин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асы 1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о пересып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в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(ост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торо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(ост.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тье пересып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ост.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(ост.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35"/>
          <p:cNvSpPr/>
          <p:nvPr/>
        </p:nvSpPr>
        <p:spPr>
          <a:xfrm>
            <a:off x="2411280" y="5084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2916360" y="529128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843280" y="5218200"/>
            <a:ext cx="576108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ереворачиваем часы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на 11мин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 Пересыпание идёт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на 3 мин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сы </a:t>
            </a:r>
            <a:r>
              <a:rPr b="1" lang="ru-RU" sz="1800" spc="-1" strike="noStrike">
                <a:solidFill>
                  <a:srgbClr val="703dff"/>
                </a:solidFill>
                <a:latin typeface="Comic Sans MS"/>
              </a:rPr>
              <a:t>на 7 мин. пересыпались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а в часах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на 11 мин. осталось 8 мин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так, мы имеем время </a:t>
            </a:r>
            <a:r>
              <a:rPr b="1" lang="ru-RU" sz="1800" spc="-1" strike="noStrike" u="sng">
                <a:solidFill>
                  <a:srgbClr val="703dff"/>
                </a:solidFill>
                <a:uFillTx/>
                <a:latin typeface="Comic Sans MS"/>
              </a:rPr>
              <a:t>на часах 7 мин. и 8 мин., т. е. 15 мин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omic Sans MS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ставленную перед собой цель и задачи я выполни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зучил литерату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явил различные типы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шел способы решения занимательных задач с помощью рассуждений, схем и табли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учился решать такие задач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Метод рассуждений;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им способом решаются самые простые логические задач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идея состоит в том, что мы проводим рассуждения, используя последовательно все условия задачи, и приходим к выводу, который и будет являться ответом задач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ча 1.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У кого какая оценк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Аня, Женя и Нина спросили, какие им поставили оценки за контрольную работу по математике, учительница ответила: «Попробуйте догадаться сами, если я скажу, что в вашем классе «двоек» нет, а у вас троих оценки разные, причём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Ани не «трой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Нины не «тройка» и не «пятёр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ую оценку получила каждая из учениц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но:                 Рассужд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ня(А)              А             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Женя(Ж)           Ж             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на (Н)           Н             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то какую оценку получи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о условию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Ани не «трой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У Нины не «тройка» и не «пятёрка»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4140360" y="1773360"/>
            <a:ext cx="1223640" cy="79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40360" y="2708280"/>
            <a:ext cx="12952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97000" y="4653000"/>
            <a:ext cx="7696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Ани не  «3» (по условию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(по условию) у Нины не «3» и не «5», значит,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Нины «4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Нины «4» ( по доказательству), значит, у Ани и Жени  не «4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Ани не «3»(по условию) и не «4» (по доказательству), значит,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Ани «5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Ани «5» (по доказательству), значит, у Жени не «5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ак как у Жени не «4» и не «5» (по доказательству), значит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у Жени «3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 Аня получила оценку «5», Нина – «4», Женя – «3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943280" y="105264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Рассуждения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А                   3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Ж                  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Н                  5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843280" y="2276640"/>
            <a:ext cx="367344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2916360" y="2421000"/>
            <a:ext cx="3600360" cy="1512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2843280" y="4076640"/>
            <a:ext cx="35290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8"/>
          <p:cNvSpPr/>
          <p:nvPr/>
        </p:nvSpPr>
        <p:spPr>
          <a:xfrm flipV="1">
            <a:off x="2843280" y="3141360"/>
            <a:ext cx="3600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843280" y="2349360"/>
            <a:ext cx="3600360" cy="7192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843280" y="2492280"/>
            <a:ext cx="3457440" cy="136836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2916360" y="3141720"/>
            <a:ext cx="33112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2916360" y="3284640"/>
            <a:ext cx="3311280" cy="6490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4"/>
          <p:cNvSpPr/>
          <p:nvPr/>
        </p:nvSpPr>
        <p:spPr>
          <a:xfrm flipV="1">
            <a:off x="2916360" y="2349360"/>
            <a:ext cx="3456000" cy="64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47:47Z</dcterms:created>
  <dc:creator>User</dc:creator>
  <dc:description/>
  <dc:language>en-US</dc:language>
  <cp:lastModifiedBy>Натали</cp:lastModifiedBy>
  <dcterms:modified xsi:type="dcterms:W3CDTF">2017-03-19T17:36:48Z</dcterms:modified>
  <cp:revision>32</cp:revision>
  <dc:subject/>
  <dc:title>математика</dc:title>
</cp:coreProperties>
</file>