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9.png" ContentType="image/png"/>
  <Override PartName="/ppt/media/image8.gif" ContentType="image/gif"/>
  <Override PartName="/ppt/media/image18.jpeg" ContentType="image/jpeg"/>
  <Override PartName="/ppt/media/image11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jpeg" ContentType="image/jpeg"/>
  <Override PartName="/ppt/media/image14.gif" ContentType="image/gif"/>
  <Override PartName="/ppt/media/image1.png" ContentType="image/png"/>
  <Override PartName="/ppt/media/image2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C888-7BDF-4B88-8B64-90F0978150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857F-BDAB-47A7-99C8-2898C0ACD6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92E-4F24-49AF-BF86-CC831371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450-4D6B-4A71-8A61-FF8D7776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062-0AA7-4A1C-96FB-3E51E191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D5BC-A6D2-4AC7-B8E6-903F3D81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C07F-B911-48AF-8E79-F6E2B113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FDF9-AE00-4F7E-B002-2063F39F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8855-5F9D-4415-A054-1F83AE6A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6625-57CD-4DF0-A7BB-A05B8B54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621C-0ACE-4EA6-ACE9-23756B74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E386-B24C-4EE5-843D-58BDE902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D34B-E1EA-40C9-8B9A-3A6A8A5F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641-DF4F-452D-ABCE-105F0D41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299B-B68A-45B1-AAA0-2C5A1788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0BFF-7518-4563-AF26-487D0E21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4321-642C-4C2A-AFD2-EBC01259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FF9C-4F7B-4CEC-B0BC-AA3C3DB2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67C5-4B7A-421B-A4F1-0A724E54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6F89A-3F4B-4CC3-9C8E-C7278FA8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A9735-131B-4657-930E-0C23CC19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CEA9A-786B-49E0-B73E-9C26E00A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AFE19-ECDF-42A6-A663-4332A7D5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31643-F3E3-46A1-BA0B-C0F00784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124-421D-49BE-AA48-0AE267B7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232E1-BCEE-4E05-BEC1-13EF27CE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35737-546C-4633-904E-D8B0FE2E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435F2-0A94-4788-BB7B-51F9CF8E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45C62-738A-4DF2-A727-2D6C24DB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32E09-4A6D-467D-90BE-90EE99E9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2231B-25DB-4615-BC5A-D019F2CF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799AA-577C-4D11-A5B2-741D8D79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1E6B3-2748-4149-9BE4-5A150C9D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54A35-0F04-4131-9DEC-68A1E7A6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B87BA-3D49-4189-8C85-5BC997A6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2327-68FE-478E-A413-020B9D01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04A97-3A98-4E31-8EDF-5977B78E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8CAD-BFA6-460E-8FF7-C70B22C1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42B6F-23B8-4326-8099-D42A8520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01658-C80E-4EA7-AF63-B48AE133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5E824-5F7B-4CA9-9EF9-80953D13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78FC6-D1DD-4B49-8777-2BD71964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37B29-9FA3-4C8E-B436-D9A33CCE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8BCC3-95C3-4F78-9BCD-26693347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8B78F-E15F-4D08-904F-7C431AB3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B5C20-1F8C-4597-8D5D-7C124BF9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71CA-7F6E-42AB-A519-E218C4AD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EE50C-04D7-4E78-9B19-8FC7B8AC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C281F-2E59-406F-9CD1-AA5ACEAC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4706B-1781-4441-882D-E4E01213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143A2-F0D1-433E-8C70-8177A246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6E16A-5D24-498B-8980-9214E218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F096A-E98C-49A0-B09C-DFB15F96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EED2B-B764-4A80-90AD-D7B34624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4B446-5F15-49A4-AD7C-DA558C39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02C12-F972-489A-9561-B45001A7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1D836-06E7-4C0C-A1E3-8551E509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2CFA-DC96-4F76-BCC6-3B266F8E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617E8-5AA7-49D4-A700-AA829D6D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13B-9FAD-46E2-8230-C57655AA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CE1D-4ADD-43B3-B14D-2B9CCC2D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8CE-0551-482F-894A-2A921F8E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C444-B837-43D9-A112-BC949B2D8AD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691D-E97A-4287-BC30-27D8C13C7E1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A4C5-B687-4598-AA34-1E931436227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2F7B-96EF-4D11-B798-8AED401656E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28D0-AA76-4282-85EE-C47283D1344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nsportal.ru/nachalnaya-shkola/matematika/2012/12/19/prezentatsiya-k-uroku-nazvaniya-komponentov-deystviy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Группа 6"/>
          <p:cNvGrpSpPr/>
          <p:nvPr/>
        </p:nvGrpSpPr>
        <p:grpSpPr>
          <a:xfrm>
            <a:off x="1476360" y="260280"/>
            <a:ext cx="7002360" cy="6573600"/>
            <a:chOff x="1476360" y="260280"/>
            <a:chExt cx="7002360" cy="6573600"/>
          </a:xfrm>
        </p:grpSpPr>
        <p:pic>
          <p:nvPicPr>
            <p:cNvPr id="228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585080" y="260280"/>
              <a:ext cx="6893640" cy="22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Прямоугольник 5"/>
            <p:cNvSpPr/>
            <p:nvPr/>
          </p:nvSpPr>
          <p:spPr>
            <a:xfrm>
              <a:off x="1476360" y="3906000"/>
              <a:ext cx="3486240" cy="29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0243c"/>
                  </a:solidFill>
                  <a:latin typeface="Monotype Corsiva"/>
                </a:rPr>
                <a:t>Урок математики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0243c"/>
                  </a:solidFill>
                  <a:latin typeface="Monotype Corsiva"/>
                </a:rPr>
                <a:t>во 2 Б класс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Автор : Косарева Оксана Николаев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учитель начальных класс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МОБУ СОШ №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onotype Corsiva"/>
                </a:rPr>
                <a:t>г. Липецк,20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Picture 4" descr="title"/>
          <p:cNvPicPr/>
          <p:nvPr/>
        </p:nvPicPr>
        <p:blipFill>
          <a:blip r:embed="rId2"/>
          <a:stretch/>
        </p:blipFill>
        <p:spPr>
          <a:xfrm>
            <a:off x="5219640" y="4255920"/>
            <a:ext cx="3637080" cy="23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Девиз нашего урока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41120" y="1285560"/>
            <a:ext cx="8102520" cy="450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Verdana"/>
              </a:rPr>
              <a:t>Внимательно слушайте – и всё услышите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Verdana"/>
              </a:rPr>
              <a:t>Внимательно смотрите – и всё увидите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Verdana"/>
              </a:rPr>
              <a:t>Думайте – и всё обязательно поймёте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4429080" y="4643280"/>
            <a:ext cx="471492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483920"/>
            <a:ext cx="8183520" cy="3233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Arial"/>
              </a:rPr>
              <a:t>Логическая разминка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365200" y="549000"/>
            <a:ext cx="6778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Verdana"/>
              </a:rPr>
              <a:t>Проверка  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5280" y="1413000"/>
            <a:ext cx="8748720" cy="468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Verdana"/>
              </a:rPr>
              <a:t>36, 9, 64, 28,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Verdana"/>
              </a:rPr>
              <a:t>66, 8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85840" y="452520"/>
            <a:ext cx="8572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на купила 12 апельсинов и раздала по одному 6 подругам. Сколько апельсинов осталось у Лен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ета решила 6 примеров, а Оля -12. Сколько всего примеров они решил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дерева улетели сначала 12 птиц, потом еще 6 птиц. Сколько всего птиц улетело с дерев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ыбаки поймали 12 рыб, из них 6 окуней, остальные-лещи. Сколько лещей поймали рыба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428840" y="1008720"/>
            <a:ext cx="638316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3 + 3 + 3 + 3 +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4 + 4 + 44 +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5 + 5 + 6 +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7 + 7 +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9 +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33200" y="188640"/>
            <a:ext cx="7210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мени действием умножения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5572080" y="4143240"/>
            <a:ext cx="29289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500040" y="1158120"/>
            <a:ext cx="814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23+45=68   76-16=60          4+4+8           0•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8•4=32        6-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428760" y="78588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23+45=68   76-16=6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8•4=3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Тема урока: </a:t>
            </a:r>
            <a:br>
              <a:rPr sz="3200"/>
            </a:br>
            <a:r>
              <a:rPr b="1" lang="ru-RU" sz="5400" spc="-1" strike="noStrike">
                <a:solidFill>
                  <a:srgbClr val="006666"/>
                </a:solidFill>
                <a:latin typeface="Verdana"/>
              </a:rPr>
              <a:t>Названия компонентов умножения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123640" y="3789000"/>
            <a:ext cx="6769080" cy="375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243c"/>
                </a:solidFill>
                <a:latin typeface="Verdana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243c"/>
                </a:solidFill>
                <a:latin typeface="Verdana"/>
              </a:rPr>
              <a:t>Узнать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243c"/>
                </a:solidFill>
                <a:latin typeface="Verdana"/>
              </a:rPr>
              <a:t>Запомнить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243c"/>
                </a:solidFill>
                <a:latin typeface="Verdana"/>
              </a:rPr>
              <a:t>Использовать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1285920" y="185724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Times New Roman"/>
              </a:rPr>
              <a:t>множите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1285920" y="185724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Times New Roman"/>
              </a:rPr>
              <a:t>множите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Verdana"/>
              </a:rPr>
              <a:t>Цель урока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9640" y="1988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познакомить с названием компонентов и результата действия умножени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тработать вычислительные навыки;  умение решать логические задач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2"/>
          <p:cNvSpPr/>
          <p:nvPr/>
        </p:nvSpPr>
        <p:spPr>
          <a:xfrm>
            <a:off x="1619280" y="40464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Calibri"/>
              </a:rPr>
              <a:t>ЗАГА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1476360" y="126828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«Оно бывает литературным, музыкальным,  бывает в искусстве и, наконец-то, бывает  математически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TextBox 4" descr=""/>
          <p:cNvPicPr/>
          <p:nvPr/>
        </p:nvPicPr>
        <p:blipFill>
          <a:blip r:embed="rId1"/>
          <a:stretch/>
        </p:blipFill>
        <p:spPr>
          <a:xfrm>
            <a:off x="-103320" y="2219400"/>
            <a:ext cx="8643960" cy="2554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http://cis.edu.yar.ru/data/projects/files/70/3485/3485.medium.jpg"/>
          <p:cNvPicPr/>
          <p:nvPr/>
        </p:nvPicPr>
        <p:blipFill>
          <a:blip r:embed="rId2"/>
          <a:stretch/>
        </p:blipFill>
        <p:spPr>
          <a:xfrm>
            <a:off x="4861080" y="3892680"/>
            <a:ext cx="3762360" cy="2498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0" y="733680"/>
            <a:ext cx="8858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 • </a:t>
            </a:r>
            <a:r>
              <a:rPr b="1" lang="ru-RU" sz="6600" spc="-1" strike="noStrike">
                <a:solidFill>
                  <a:srgbClr val="1b587c"/>
                </a:solidFill>
                <a:latin typeface="Arial"/>
                <a:ea typeface="Times New Roman"/>
              </a:rPr>
              <a:t>8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ru-RU" sz="6600" spc="-1" strike="noStrike">
                <a:solidFill>
                  <a:srgbClr val="7030a0"/>
                </a:solidFill>
                <a:latin typeface="Arial"/>
                <a:ea typeface="Times New Roman"/>
              </a:rPr>
              <a:t>16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Times New Roman"/>
              </a:rPr>
              <a:t>множитель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6600" spc="-1" strike="noStrike">
                <a:solidFill>
                  <a:srgbClr val="1b587c"/>
                </a:solidFill>
                <a:latin typeface="Arial"/>
                <a:ea typeface="Times New Roman"/>
              </a:rPr>
              <a:t>множитель </a:t>
            </a:r>
            <a:r>
              <a:rPr b="1" lang="ru-RU" sz="6600" spc="-1" strike="noStrike">
                <a:solidFill>
                  <a:srgbClr val="7030a0"/>
                </a:solidFill>
                <a:latin typeface="Arial"/>
                <a:ea typeface="Times New Roman"/>
              </a:rPr>
              <a:t>произвед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1403280" y="33336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РАВНЕНИЕ С НАУЧНЫМ ЭТАЛ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1116000" y="1413000"/>
            <a:ext cx="76327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Откройте страницу 54 учебника и прочитайте дружно правило-табли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ЭТО НУЖНО ЗАПОМНИ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Заголовок 1"/>
          <p:cNvSpPr/>
          <p:nvPr/>
        </p:nvSpPr>
        <p:spPr>
          <a:xfrm>
            <a:off x="1476360" y="274680"/>
            <a:ext cx="721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2" descr="zaryadka.jpg"/>
          <p:cNvPicPr/>
          <p:nvPr/>
        </p:nvPicPr>
        <p:blipFill>
          <a:blip r:embed="rId1"/>
          <a:stretch/>
        </p:blipFill>
        <p:spPr>
          <a:xfrm>
            <a:off x="1692360" y="1844640"/>
            <a:ext cx="4761000" cy="266400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3" descr="718535686.gif"/>
          <p:cNvPicPr/>
          <p:nvPr/>
        </p:nvPicPr>
        <p:blipFill>
          <a:blip r:embed="rId2"/>
          <a:stretch/>
        </p:blipFill>
        <p:spPr>
          <a:xfrm>
            <a:off x="6300720" y="4149720"/>
            <a:ext cx="2592360" cy="2502000"/>
          </a:xfrm>
          <a:prstGeom prst="rect">
            <a:avLst/>
          </a:prstGeom>
          <a:ln w="0">
            <a:noFill/>
          </a:ln>
        </p:spPr>
      </p:pic>
      <p:pic>
        <p:nvPicPr>
          <p:cNvPr id="273" name="detskie_pesni_dvazhdy_dva_chetyre_(NaitiMP3.ru).mp3" descr=""/>
          <p:cNvPicPr/>
          <p:nvPr/>
        </p:nvPicPr>
        <p:blipFill>
          <a:blip r:embed="rId3"/>
          <a:stretch/>
        </p:blipFill>
        <p:spPr>
          <a:xfrm>
            <a:off x="838836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76379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00ff"/>
                </a:solidFill>
                <a:latin typeface="Times New Roman"/>
              </a:rPr>
              <a:t>Работа с учебником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lang="ru-RU" sz="4100" spc="-1" strike="noStrike">
                <a:solidFill>
                  <a:srgbClr val="006666"/>
                </a:solidFill>
                <a:latin typeface="Verdana"/>
              </a:rPr>
              <a:t>Закончи предложения :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9680" y="1628280"/>
            <a:ext cx="8358120" cy="3745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 сложении числа называются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 умножении числа называются…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мое ,вычитаемое ,……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ножитель, множитель ,……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1071720" y="4214880"/>
            <a:ext cx="27860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2484360" y="404640"/>
            <a:ext cx="55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ефлекс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"/>
          <p:cNvSpPr/>
          <p:nvPr/>
        </p:nvSpPr>
        <p:spPr>
          <a:xfrm>
            <a:off x="1692360" y="2060640"/>
            <a:ext cx="69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2-14"/>
          <p:cNvPicPr/>
          <p:nvPr/>
        </p:nvPicPr>
        <p:blipFill>
          <a:blip r:embed="rId1"/>
          <a:srcRect l="0" t="0" r="0" b="8478"/>
          <a:stretch/>
        </p:blipFill>
        <p:spPr>
          <a:xfrm>
            <a:off x="3780000" y="5084640"/>
            <a:ext cx="5113080" cy="11131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971640" y="3933720"/>
            <a:ext cx="1296720" cy="122400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565360"/>
            <a:ext cx="1296720" cy="1224000"/>
          </a:xfrm>
          <a:prstGeom prst="smileyFace">
            <a:avLst>
              <a:gd name="adj" fmla="val 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59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00" y="1598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27280" y="1356480"/>
            <a:ext cx="45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е было интерес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 меня всё получилос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16360" y="2454120"/>
            <a:ext cx="526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е было интерес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у меня не всё получи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3585960"/>
            <a:ext cx="436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е было неинтерес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ого не получа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42920" y="1268280"/>
            <a:ext cx="1225440" cy="1224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1"/>
          <p:cNvSpPr/>
          <p:nvPr/>
        </p:nvSpPr>
        <p:spPr>
          <a:xfrm>
            <a:off x="2484360" y="404640"/>
            <a:ext cx="55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ефлекс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"/>
          <p:cNvSpPr/>
          <p:nvPr/>
        </p:nvSpPr>
        <p:spPr>
          <a:xfrm>
            <a:off x="1692360" y="2060640"/>
            <a:ext cx="69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5977080" cy="3384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2-14"/>
          <p:cNvPicPr/>
          <p:nvPr/>
        </p:nvPicPr>
        <p:blipFill>
          <a:blip r:embed="rId2"/>
          <a:srcRect l="0" t="0" r="0" b="8478"/>
          <a:stretch/>
        </p:blipFill>
        <p:spPr>
          <a:xfrm>
            <a:off x="3780000" y="4305240"/>
            <a:ext cx="5113080" cy="18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1"/>
          <p:cNvSpPr/>
          <p:nvPr/>
        </p:nvSpPr>
        <p:spPr>
          <a:xfrm>
            <a:off x="395280" y="549360"/>
            <a:ext cx="831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"/>
          <p:cNvSpPr/>
          <p:nvPr/>
        </p:nvSpPr>
        <p:spPr>
          <a:xfrm>
            <a:off x="428760" y="2060640"/>
            <a:ext cx="8175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b587c"/>
                </a:solidFill>
                <a:latin typeface="Arial"/>
              </a:rPr>
              <a:t>Учебник стр.54,№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учить названия компонентов умнож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857160" y="3714840"/>
            <a:ext cx="314352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b6431"/>
                </a:solidFill>
                <a:latin typeface="Verdana"/>
              </a:rPr>
              <a:t>Задачи:</a:t>
            </a:r>
            <a:br>
              <a:rPr sz="4000"/>
            </a:b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95280" y="1125360"/>
            <a:ext cx="8183520" cy="5196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знакомить обучающихся с названием компонентов и результата действия умножения и соответствующего выраж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оздать условия для практического применения знаний названия компонентов и результата умнож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овершенствовать вычислительные навы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Развивать умения решать текстовые задач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Использованные ресурс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227664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/>
              </a:rPr>
              <a:t>https://nsportal.ru/nachalnaya-shkola/matematika/2012/12/19/prezentatsiya-k-uroku-nazvaniya-komponentov-deystvi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chool2100.com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идова Т.Е., Козлова С.А., Тонких А.П. и  др. Математика. 2 класс. Часть 2. – М. : Баласс, 201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93680" y="259920"/>
            <a:ext cx="714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Verdana"/>
              </a:rPr>
              <a:t>Технологии обучения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962000" y="1603080"/>
            <a:ext cx="7182000" cy="4498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243c"/>
                </a:solidFill>
                <a:latin typeface="Times New Roman"/>
                <a:ea typeface="Times New Roman"/>
              </a:rPr>
              <a:t>Проблемно - диалогическое обучени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243c"/>
                </a:solidFill>
                <a:latin typeface="Times New Roman"/>
                <a:ea typeface="Times New Roman"/>
              </a:rPr>
              <a:t>Технология оценки учебных успех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243c"/>
                </a:solidFill>
                <a:latin typeface="Times New Roman"/>
                <a:ea typeface="Times New Roman"/>
              </a:rPr>
              <a:t>Информационно-коммуникационные технолог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243c"/>
                </a:solidFill>
                <a:latin typeface="Times New Roman"/>
                <a:ea typeface="Times New Roman"/>
              </a:rPr>
              <a:t>Дифференцированное обучени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243c"/>
                </a:solidFill>
                <a:latin typeface="Times New Roman"/>
                <a:ea typeface="Times New Roman"/>
              </a:rPr>
              <a:t>Обучение в сотрудничестве (командная, групповая работа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243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0243c"/>
                </a:solidFill>
                <a:latin typeface="Times New Roman"/>
                <a:ea typeface="Times New Roman"/>
              </a:rPr>
              <a:t>Здоровье сберегающие технологии.</a:t>
            </a:r>
            <a:r>
              <a:rPr b="1" lang="ru-RU" sz="4000" spc="-1" strike="noStrike">
                <a:solidFill>
                  <a:srgbClr val="26262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1196640"/>
            <a:ext cx="8534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Познавательные УУД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19280" y="119664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-самостоятельно «читать» и объяснять информацию, заданную с помощью схематических рисунков, схем, кратких запис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– составлять, понимать и объяснять простейшие алгоритмы (план действий) при работе с конкретным задание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– строить вспомогательные модели к задачам в виде рисунков, схематических рисунков, схе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– анализировать тексты простых и составных задач с опорой на краткую запись, схематический рисунок, схе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- строить объяснение в устной форме по предложенному план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- уметь сравнивать и группировать такие математические объекты, как числа, выраж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Verdana"/>
              </a:rPr>
              <a:t>Коммуникативные УУД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63280" y="981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. – работать в команде разного наполнения (паре, малой группе, целым классом)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. – вносить свой вклад в работу для достижения общих результат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. – активно участвовать в обсуждениях, возникающих на уроке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. – учитывать разные мнения, уметь сотруднича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 – ясно формулировать ответы на вопросы других учеников и педагога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6. – участвовать в обсуждениях, работая в паре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7. - ясно формулировать свои  затруднения, возникшие при выполнении зада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8. – не бояться собственных ошибок и участвовать в их обсужде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9. – работать консультантом и помощником для других ребя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0. – работать с консультантами и помощниками в своей групп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1.- уметь донести свою позицию до других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6666"/>
                </a:solidFill>
                <a:latin typeface="Verdana"/>
              </a:rPr>
              <a:t>Регулятивные УУД</a:t>
            </a:r>
            <a:endParaRPr b="1" lang="en-US" sz="47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1557360"/>
            <a:ext cx="8352000" cy="4896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1. – принимать участие в обсуждении и формулировании цели конкретного задани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2. – принимать участие в обсуждении и формулировании алгоритма выполнения конкретного задания (составление плана действий)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3. – выполнять работу в соответствии с заданным плано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4. – участвовать в оценке и обсуждении полученного результата;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5. - выбирать действия в соответствии с поставленной задачей и условиями её реализации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6.  - осуществлять итоговый и пошаговый контроль по результат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Verdana"/>
              </a:rPr>
              <a:t>Личностные УУД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79280" y="1628640"/>
            <a:ext cx="8064360" cy="4499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ть и оценивать свой вклад в решение общих задач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ть толерантным к чужим ошибкам и другому мнению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бояться собственных ошибок и понимать, что ошибки – обязательная часть решения любой задач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9T13:05:35Z</dcterms:created>
  <dc:creator>User</dc:creator>
  <dc:description/>
  <dc:language>en-US</dc:language>
  <cp:lastModifiedBy>Пользователь</cp:lastModifiedBy>
  <dcterms:modified xsi:type="dcterms:W3CDTF">2018-03-20T06:58:26Z</dcterms:modified>
  <cp:revision>37</cp:revision>
  <dc:subject/>
  <dc:title>Слайд 1</dc:title>
</cp:coreProperties>
</file>