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1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8BF-A793-4F0A-9A61-2F5B008150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9A49-D742-4497-B389-2ED9232DA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286-38C7-4141-B513-9CC86D2F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9FE-2629-465D-B932-076EACCD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F41-7382-4836-BA90-A2834650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432-E778-4093-9381-DCE2B6F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840-CF73-47CF-9103-AAB75075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8F9D-86CC-4201-971B-F818BF60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9525-3581-43DB-9CE4-2996230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7A8-CCA0-4881-BD10-D64A9F91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B25-7E15-4215-A250-F69BE6F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6953-4CEC-4615-AB44-D9AEE56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96F-9D0D-428C-9E4C-4F73270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CB8-13B4-4B6F-933C-463B482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E263-8B40-4D87-BB41-4F51DE3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6228-806B-41CD-A00E-CABA9EA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115B-7151-474A-B9F9-11FBEFF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7D2-EC79-419B-854C-2C0F011F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1A75-962A-4C45-934D-AEF7125C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4145-CD13-4F01-878A-D83115C3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C9DD-9646-4904-90D3-C0C5F9D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647B-0EC8-4E7A-8645-1C912AA6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719C-ED2F-4684-A32D-E420DF3B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CE28-AF8D-47FD-9E1C-9B79500D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F15-1049-46D0-9F43-AA9556B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CB9B-D805-4EDC-B868-635D73C9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420B-6E40-4A34-B07F-C65C068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AE5A-377C-4977-8F56-1DC4D07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EA1F-ACA5-4EF3-99D5-AB03233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A5F7-BF76-464F-A35E-5C8300F5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EE9B-3E26-4E27-8F03-DF5A704E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E3F8-9CE2-4302-942B-4946B14B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AC59-6D57-4614-A3C4-AC4CD404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A6FE-1493-4DFB-A392-8F04E05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75AB-BF16-4C48-8D4D-DDF82E3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2C6-041C-46E2-A7A0-C9D5EB47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71A9-F969-4F4A-AEE6-11D4A8E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9236-0CD5-4176-B70D-4DDBC03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9CFD-E01C-4C02-819A-30269B26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6182-192E-4C59-8B4B-6E5FA92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F658-E137-4D2A-998C-516F013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13FD-979F-4B46-AC50-C1F4BBE0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34D7-F989-46BA-80A6-10698281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FBEF-EF04-43C3-8C3C-09C773A0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01BA-4374-4D2B-8AA4-6A7C620F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89B5E-8931-45C1-80A3-2EEC3DBC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B33-1A3A-4A82-A92F-4764AD8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5E4F-9B48-4BAC-88B2-9B8983A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B2E2-7DF0-461E-9F0A-7584991D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8C43-0BD2-4426-BD5D-3AA0D933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5CA6-87CB-425C-BC54-5A9230A2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D4D0-45D5-4A93-862F-6ADD358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6C73-8488-45C8-A724-E96EDA9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CA4F-536E-4325-A4FC-D73D4C2A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23D9-ADBB-404C-ABEC-A195E86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F9787-2923-4B1F-8384-3B455A0F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7F2B-B778-4F22-8791-6F62F8EE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E80-816A-4CF6-9445-7A8F5208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BD00-3E6A-45F8-85F1-3E9084A5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95E-2969-4CBA-80A3-0EA226B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EC7-F579-4290-8235-B4C0641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0D9-D5F6-4152-80C4-06FCD12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D49-6616-4FF7-9E95-3A60D097BFE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501-3EB5-4B59-8CB9-4ABE3077629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19C3-3D60-4977-8BF1-873A0A0C591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B72-19BD-4CDF-B1E1-E40EDDC5EEE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068-D8E3-4339-AEF9-5EFEBA7B8E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nsportal.ru/nachalnaya-shkola/matematika/2012/12/19/prezentatsiya-k-uroku-nazvaniya-komponentov-deystviy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6"/>
          <p:cNvGrpSpPr/>
          <p:nvPr/>
        </p:nvGrpSpPr>
        <p:grpSpPr>
          <a:xfrm>
            <a:off x="1476360" y="260280"/>
            <a:ext cx="7002360" cy="6573600"/>
            <a:chOff x="1476360" y="260280"/>
            <a:chExt cx="7002360" cy="6573600"/>
          </a:xfrm>
        </p:grpSpPr>
        <p:pic>
          <p:nvPicPr>
            <p:cNvPr id="22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585080" y="260280"/>
              <a:ext cx="6893640" cy="22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Прямоугольник 5"/>
            <p:cNvSpPr/>
            <p:nvPr/>
          </p:nvSpPr>
          <p:spPr>
            <a:xfrm>
              <a:off x="1476360" y="3906000"/>
              <a:ext cx="348624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243c"/>
                  </a:solidFill>
                  <a:latin typeface="Monotype Corsiva"/>
                </a:rPr>
                <a:t>Урок математик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243c"/>
                  </a:solidFill>
                  <a:latin typeface="Monotype Corsiva"/>
                </a:rPr>
                <a:t>во 2 Б класс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Автор : Косарева Оксана Никола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учитель начальных клас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МОБУ СОШ №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г. Липецк,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title"/>
          <p:cNvPicPr/>
          <p:nvPr/>
        </p:nvPicPr>
        <p:blipFill>
          <a:blip r:embed="rId2"/>
          <a:stretch/>
        </p:blipFill>
        <p:spPr>
          <a:xfrm>
            <a:off x="5219640" y="4255920"/>
            <a:ext cx="36370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Девиз нашего урока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41120" y="1285560"/>
            <a:ext cx="8102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Внимательно слушайте – и всё услыши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Внимательно смотрите – и всё увиди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Думайте – и всё обязательно поймё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4429080" y="4643280"/>
            <a:ext cx="4714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483920"/>
            <a:ext cx="8183520" cy="3233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Логическая разминк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65200" y="549000"/>
            <a:ext cx="6778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Проверка  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1413000"/>
            <a:ext cx="8748720" cy="468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Verdana"/>
              </a:rPr>
              <a:t>36, 9, 64, 28,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Verdana"/>
              </a:rPr>
              <a:t>66, 8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85840" y="45252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на купила 12 апельсинов и раздала по одному 6 подругам. Сколько апельсинов осталось у Ле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а решила 6 примеров, а Оля -12. Сколько всего примеров они реши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дерева улетели сначала 12 птиц, потом еще 6 птиц. Сколько всего птиц улетело с дер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ыбаки поймали 12 рыб, из них 6 окуней, остальные-лещи. Сколько лещей поймали рыба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428840" y="1008720"/>
            <a:ext cx="6383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 + 3 + 3 + 3 +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4 + 4 + 44 +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5 + 5 + 6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 + 7 +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 +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33200" y="188640"/>
            <a:ext cx="7210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мени действием умножения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5572080" y="414324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500040" y="115812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23+45=68   76-16=60          4+4+8           0•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8•4=32        6-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28760" y="7858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23+45=68   76-16=6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8•4=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Тема урока: </a:t>
            </a:r>
            <a:br>
              <a:rPr sz="3200"/>
            </a:b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Названия компонентов умножения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23640" y="3789000"/>
            <a:ext cx="6769080" cy="375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Узнат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Запомнит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Использоват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1285920" y="185724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1285920" y="185724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Цель урок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988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знакомить с названием компонентов и результата действия умнож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тработать вычислительные навыки;  умение решать логические задач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2"/>
          <p:cNvSpPr/>
          <p:nvPr/>
        </p:nvSpPr>
        <p:spPr>
          <a:xfrm>
            <a:off x="1619280" y="404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Calibri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476360" y="1268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Оно бывает литературным, музыкальным,  бывает в искусстве и, наконец-то, бывает  математическ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TextBox 4" descr=""/>
          <p:cNvPicPr/>
          <p:nvPr/>
        </p:nvPicPr>
        <p:blipFill>
          <a:blip r:embed="rId1"/>
          <a:stretch/>
        </p:blipFill>
        <p:spPr>
          <a:xfrm>
            <a:off x="-103320" y="2219400"/>
            <a:ext cx="8643960" cy="255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cis.edu.yar.ru/data/projects/files/70/3485/3485.medium.jpg"/>
          <p:cNvPicPr/>
          <p:nvPr/>
        </p:nvPicPr>
        <p:blipFill>
          <a:blip r:embed="rId2"/>
          <a:stretch/>
        </p:blipFill>
        <p:spPr>
          <a:xfrm>
            <a:off x="4861080" y="3892680"/>
            <a:ext cx="3762360" cy="2498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0" y="733680"/>
            <a:ext cx="885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1" lang="ru-RU" sz="6600" spc="-1" strike="noStrike">
                <a:solidFill>
                  <a:srgbClr val="1b587c"/>
                </a:solidFill>
                <a:latin typeface="Arial"/>
                <a:ea typeface="Times New Roman"/>
              </a:rPr>
              <a:t>8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  <a:ea typeface="Times New Roman"/>
              </a:rPr>
              <a:t>16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1b587c"/>
                </a:solidFill>
                <a:latin typeface="Arial"/>
                <a:ea typeface="Times New Roman"/>
              </a:rPr>
              <a:t>множитель 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извед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403280" y="333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РАВНЕНИЕ С НАУЧНЫМ ЭТАЛ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1116000" y="1413000"/>
            <a:ext cx="7632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Откройте страницу 54 учебника и прочитайте дружно правило-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ТО НУЖНО ЗА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2" descr="zaryadka.jpg"/>
          <p:cNvPicPr/>
          <p:nvPr/>
        </p:nvPicPr>
        <p:blipFill>
          <a:blip r:embed="rId1"/>
          <a:stretch/>
        </p:blipFill>
        <p:spPr>
          <a:xfrm>
            <a:off x="1692360" y="1844640"/>
            <a:ext cx="4761000" cy="2664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718535686.gif"/>
          <p:cNvPicPr/>
          <p:nvPr/>
        </p:nvPicPr>
        <p:blipFill>
          <a:blip r:embed="rId2"/>
          <a:stretch/>
        </p:blipFill>
        <p:spPr>
          <a:xfrm>
            <a:off x="6300720" y="4149720"/>
            <a:ext cx="2592360" cy="2502000"/>
          </a:xfrm>
          <a:prstGeom prst="rect">
            <a:avLst/>
          </a:prstGeom>
          <a:ln w="0">
            <a:noFill/>
          </a:ln>
        </p:spPr>
      </p:pic>
      <p:pic>
        <p:nvPicPr>
          <p:cNvPr id="273" name="detskie_pesni_dvazhdy_dva_chetyre_(NaitiMP3.ru).mp3" descr=""/>
          <p:cNvPicPr/>
          <p:nvPr/>
        </p:nvPicPr>
        <p:blipFill>
          <a:blip r:embed="rId3"/>
          <a:stretch/>
        </p:blipFill>
        <p:spPr>
          <a:xfrm>
            <a:off x="838836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7637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ff"/>
                </a:solidFill>
                <a:latin typeface="Times New Roman"/>
              </a:rPr>
              <a:t>Работа с учебником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4100" spc="-1" strike="noStrike">
                <a:solidFill>
                  <a:srgbClr val="006666"/>
                </a:solidFill>
                <a:latin typeface="Verdana"/>
              </a:rPr>
              <a:t>Закончи предложения 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9680" y="1628280"/>
            <a:ext cx="8358120" cy="3745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сложении числа называются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умножении числа называются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мое ,вычитаемое ,…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ножитель, множитель ,…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071720" y="421488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484360" y="404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1692360" y="20606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2-14"/>
          <p:cNvPicPr/>
          <p:nvPr/>
        </p:nvPicPr>
        <p:blipFill>
          <a:blip r:embed="rId1"/>
          <a:srcRect l="0" t="0" r="0" b="8478"/>
          <a:stretch/>
        </p:blipFill>
        <p:spPr>
          <a:xfrm>
            <a:off x="3780000" y="5084640"/>
            <a:ext cx="5113080" cy="111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71640" y="3933720"/>
            <a:ext cx="1296720" cy="12240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565360"/>
            <a:ext cx="1296720" cy="1224000"/>
          </a:xfrm>
          <a:prstGeom prst="smileyFace">
            <a:avLst>
              <a:gd name="adj" fmla="val 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00" y="1598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135648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меня всё получилос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6360" y="2454120"/>
            <a:ext cx="526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у меня не всё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3585960"/>
            <a:ext cx="436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не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не получ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1268280"/>
            <a:ext cx="1225440" cy="1224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484360" y="404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1692360" y="20606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33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2-14"/>
          <p:cNvPicPr/>
          <p:nvPr/>
        </p:nvPicPr>
        <p:blipFill>
          <a:blip r:embed="rId2"/>
          <a:srcRect l="0" t="0" r="0" b="8478"/>
          <a:stretch/>
        </p:blipFill>
        <p:spPr>
          <a:xfrm>
            <a:off x="3780000" y="4305240"/>
            <a:ext cx="511308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395280" y="549360"/>
            <a:ext cx="83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428760" y="2060640"/>
            <a:ext cx="817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587c"/>
                </a:solidFill>
                <a:latin typeface="Arial"/>
              </a:rPr>
              <a:t>Учебник стр.54,№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учить названия компонентов умн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857160" y="3714840"/>
            <a:ext cx="31435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6431"/>
                </a:solidFill>
                <a:latin typeface="Verdana"/>
              </a:rPr>
              <a:t>Задачи:</a:t>
            </a: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125360"/>
            <a:ext cx="8183520" cy="5196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знакомить обучающихся с названием компонентов и результата действия умножения и соответствующего выра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здать условия для практического применения знаний названия компонентов и результата умн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вершенствовать вычислительные навы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звивать умения решать текстовые зада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Использованные ресур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https://nsportal.ru/nachalnaya-shkola/matematika/2012/12/19/prezentatsiya-k-uroku-nazvaniya-komponentov-deystvi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2100.com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дова Т.Е., Козлова С.А., Тонких А.П. и  др. Математика. 2 класс. Часть 2. – М. : Баласс, 20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93680" y="259920"/>
            <a:ext cx="714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Технологии обучени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962000" y="1603080"/>
            <a:ext cx="718200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Проблемно - диалогическое обу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Технология оценки учебных успех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Информационно-коммуникацион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Дифференцированное обу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Обучение в сотрудничестве (командная, групповая работ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Здоровье сберегающие технологии.</a:t>
            </a:r>
            <a:r>
              <a:rPr b="1" lang="ru-RU" sz="40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19664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знавательные УУД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1928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-самостоятельно «читать» и объяснять информацию, заданную с помощью схематических рисунков, схем, кратких запис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– составлять, понимать и объяснять простейшие алгоритмы (план действий) при работе с конкретным задан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– строить вспомогательные модели к задачам в виде рисунков, схематических рисунков, сх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анализировать тексты простых и составных задач с опорой на краткую запись, схематический рисунок, сх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- строить объяснение в устной форме по предложенному план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- уметь сравнивать и группировать такие математические объекты, как числа,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Коммуникативные УУ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63280" y="981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– работать в команде разного наполнения (паре, малой группе, целым классом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– вносить свой вклад в работу для достижения общих результа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– активно участвовать в обсуждениях, возникающих на урок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– учитывать разные мнения, уметь сотруднич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– ясно формулировать ответы на вопросы других учеников и педагог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– участвовать в обсуждениях, работая в пар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7. - ясно формулировать свои  затруднения, возникшие при выполнении зад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8. – не бояться собственных ошибок и участвовать в их обсужд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9. – работать консультантом и помощником для других ребя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0. – работать с консультантами и помощниками в своей групп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1.- уметь донести свою позицию до други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66"/>
                </a:solidFill>
                <a:latin typeface="Verdana"/>
              </a:rPr>
              <a:t>Регулятивные УУД</a:t>
            </a:r>
            <a:endParaRPr b="1" lang="en-US" sz="4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557360"/>
            <a:ext cx="8352000" cy="489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– принимать участие в обсуждении и формулировании цели конкретного зада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– принимать участие в обсуждении и формулировании алгоритма выполнения конкретного задания (составление плана действий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– выполнять работу в соответствии с заданным плано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 – участвовать в оценке и обсуждении полученного результата;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- выбирать действия в соответствии с поставленной задачей и условиями её реализаци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 - осуществлять итоговый и пошаговый контроль по результат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Личностные УУ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79280" y="1628640"/>
            <a:ext cx="8064360" cy="449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ть и оценивать свой вклад в решение общих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ть толерантным к чужим ошибкам и другому мнени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ояться собственных ошибок и понимать, что ошибки – обязательная часть решения любой зада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3:05:35Z</dcterms:created>
  <dc:creator>User</dc:creator>
  <dc:description/>
  <dc:language>en-US</dc:language>
  <cp:lastModifiedBy>Пользователь</cp:lastModifiedBy>
  <dcterms:modified xsi:type="dcterms:W3CDTF">2018-03-20T06:58:26Z</dcterms:modified>
  <cp:revision>37</cp:revision>
  <dc:subject/>
  <dc:title>Слайд 1</dc:title>
</cp:coreProperties>
</file>