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2.png" ContentType="image/png"/>
  <Override PartName="/ppt/media/image40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29.jpeg" ContentType="image/jpeg"/>
  <Override PartName="/ppt/media/image37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31.jpeg" ContentType="image/jpeg"/>
  <Override PartName="/ppt/media/image41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827B-5C00-4D06-B9E3-F1D56F60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66F-985C-431F-89AA-7E151B17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1A88-6192-4714-BB24-7A190D82A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239E-E440-411E-975D-1D430291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BC18E-78EB-4A1D-8AA6-188EF35B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57B87-BD02-47A5-8F50-EF3C01F6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B562A-0FF1-4DAD-AC33-1F62E271D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07A0A-7FD7-47B6-ACED-07E6132C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BE0218-57EA-4C11-9272-E1EC4562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C3D4D-BBED-4F79-8718-6D82895E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F46AD-91D1-475E-A30B-FE3BC78D5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1114-4D2A-41DD-8A2B-40E59BC5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A7EBE-5D43-43FD-B76F-774D9115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67C6C-579B-499D-B098-C3C423FD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1AF47-B360-4E01-B0AD-5FA186E7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6316C-1C2F-4054-AB2F-CCABA06C1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FDF4E-E8E3-4875-AA76-5A48DC74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DE538-6DE0-4E34-925D-E6B1F74DE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1C803-197D-4F6F-8E76-8D55E483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7F297-0BF9-41B0-A441-184D61813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2FABF-9AE7-4AA7-B822-B336D8F2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26D94-57F4-49EC-AD6F-2EE31311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9B7F-C088-487D-94D1-DE2C37BD1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0F8F2-2FDD-44E4-A242-30A1CAFA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5E86C-E834-4A77-BC9A-D87554F40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0D9B5-5AA0-416E-AA59-3B5F789A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21125-09E2-4775-BDD1-D58E90CF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43953-B6D5-4CEA-99FC-1E251D55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AAD87-82CD-4885-9EA5-AD23EEB41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95883-DAA5-4BFB-893B-88A1140F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92D70E-150A-47B9-AF9E-D85824E2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70355C-55C2-4A9E-9C48-057543B7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DC35A3-64BB-43C7-A3D1-184D6B7D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F39B-7CFD-401E-950B-BF62245F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6126A4-0124-4C77-A31F-99BA2898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3B9A9A-1A2C-4573-8D74-710CC115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0EA890-A693-468B-9B2B-126DB1C9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C7ADCC-016C-45D8-BE7D-6C0A3E23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B2D4BE-7353-4E42-9B10-9CDC501B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65E0AE-9D02-4FCB-A60C-6FC5A86D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4FC047-D9AF-4BAD-86BE-614C4ACF5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43C84E-2602-4824-B302-0B1955DA9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6AD481-493F-4A84-8CBA-EC7FABEBA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5D13-C1B5-4ABE-AA51-AB290204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066-BA40-492F-AAF5-A0FFAEC8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76ED-E924-4FB2-886F-A287C198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38A5-710C-4236-9B29-FF77D315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DCAE-45D3-4687-ABF0-DF2C0C18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D275-6637-4BD2-89BC-B9D28A94702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3E53-26EC-4F9A-A4F8-B6A0760B562B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9C10-529A-4E64-B768-76F35EE83B7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3500-8BB0-463D-B3B9-8A6FC01F55B0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31.jpeg"/><Relationship Id="rId4" Type="http://schemas.openxmlformats.org/officeDocument/2006/relationships/image" Target="../media/image30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9.jpeg"/><Relationship Id="rId4" Type="http://schemas.openxmlformats.org/officeDocument/2006/relationships/image" Target="../media/image38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219240" y="1639800"/>
            <a:ext cx="8864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Текст 1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198" name="Содержимое 6" descr="улицкая.jpg"/>
          <p:cNvPicPr/>
          <p:nvPr/>
        </p:nvPicPr>
        <p:blipFill>
          <a:blip r:embed="rId2"/>
          <a:stretch/>
        </p:blipFill>
        <p:spPr>
          <a:xfrm>
            <a:off x="428760" y="2214720"/>
            <a:ext cx="3500280" cy="4071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64976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« В нашем обществе нарастает фашизм, пропагандируется насилие по телевидению. Все нельзя победить сразу, но надо ему противостоять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Заголовок 4" descr=""/>
          <p:cNvPicPr/>
          <p:nvPr/>
        </p:nvPicPr>
        <p:blipFill>
          <a:blip r:embed="rId3"/>
          <a:stretch/>
        </p:blipFill>
        <p:spPr>
          <a:xfrm>
            <a:off x="334800" y="-49320"/>
            <a:ext cx="8577360" cy="1354320"/>
          </a:xfrm>
          <a:prstGeom prst="rect">
            <a:avLst/>
          </a:prstGeom>
          <a:ln w="0">
            <a:noFill/>
          </a:ln>
        </p:spPr>
      </p:pic>
      <p:grpSp>
        <p:nvGrpSpPr>
          <p:cNvPr id="201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202" name="Текст 5" descr=""/>
            <p:cNvPicPr/>
            <p:nvPr/>
          </p:nvPicPr>
          <p:blipFill>
            <a:blip r:embed="rId4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onstantia"/>
                </a:rPr>
                <a:t>Детский проект «Другой, другие о других»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Текст 1" descr=""/>
          <p:cNvPicPr/>
          <p:nvPr/>
        </p:nvPicPr>
        <p:blipFill>
          <a:blip r:embed="rId1"/>
          <a:stretch/>
        </p:blipFill>
        <p:spPr>
          <a:xfrm>
            <a:off x="450720" y="1225440"/>
            <a:ext cx="4054680" cy="944640"/>
          </a:xfrm>
          <a:prstGeom prst="rect">
            <a:avLst/>
          </a:prstGeom>
          <a:ln w="0">
            <a:noFill/>
          </a:ln>
        </p:spPr>
      </p:pic>
      <p:pic>
        <p:nvPicPr>
          <p:cNvPr id="205" name="Содержимое 6" descr="Valerij_Voskobojnikov.jpg"/>
          <p:cNvPicPr/>
          <p:nvPr/>
        </p:nvPicPr>
        <p:blipFill>
          <a:blip r:embed="rId2"/>
          <a:stretch/>
        </p:blipFill>
        <p:spPr>
          <a:xfrm>
            <a:off x="428760" y="2286000"/>
            <a:ext cx="3857400" cy="4000680"/>
          </a:xfrm>
          <a:prstGeom prst="rect">
            <a:avLst/>
          </a:prstGeom>
          <a:ln w="0">
            <a:noFill/>
          </a:ln>
        </p:spPr>
      </p:pic>
      <p:pic>
        <p:nvPicPr>
          <p:cNvPr id="206" name="Содержимое 7" descr="все будет хорошо.jpg"/>
          <p:cNvPicPr/>
          <p:nvPr/>
        </p:nvPicPr>
        <p:blipFill>
          <a:blip r:embed="rId3"/>
          <a:stretch/>
        </p:blipFill>
        <p:spPr>
          <a:xfrm>
            <a:off x="5310360" y="2201760"/>
            <a:ext cx="2717640" cy="3913200"/>
          </a:xfrm>
          <a:prstGeom prst="rect">
            <a:avLst/>
          </a:prstGeom>
          <a:ln w="0">
            <a:noFill/>
          </a:ln>
        </p:spPr>
      </p:pic>
      <p:pic>
        <p:nvPicPr>
          <p:cNvPr id="207" name="Заголовок 4" descr=""/>
          <p:cNvPicPr/>
          <p:nvPr/>
        </p:nvPicPr>
        <p:blipFill>
          <a:blip r:embed="rId4"/>
          <a:stretch/>
        </p:blipFill>
        <p:spPr>
          <a:xfrm>
            <a:off x="450720" y="152280"/>
            <a:ext cx="82425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208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209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«Все будет в порядке»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Текст 1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212" name="Содержимое 6" descr="мурашова.JPG"/>
          <p:cNvPicPr/>
          <p:nvPr/>
        </p:nvPicPr>
        <p:blipFill>
          <a:blip r:embed="rId2"/>
          <a:stretch/>
        </p:blipFill>
        <p:spPr>
          <a:xfrm>
            <a:off x="357120" y="2286000"/>
            <a:ext cx="4575240" cy="4000680"/>
          </a:xfrm>
          <a:prstGeom prst="rect">
            <a:avLst/>
          </a:prstGeom>
          <a:ln w="0">
            <a:noFill/>
          </a:ln>
        </p:spPr>
      </p:pic>
      <p:pic>
        <p:nvPicPr>
          <p:cNvPr id="213" name="Содержимое 7" descr="класс коррекции.jpg"/>
          <p:cNvPicPr/>
          <p:nvPr/>
        </p:nvPicPr>
        <p:blipFill>
          <a:blip r:embed="rId3"/>
          <a:stretch/>
        </p:blipFill>
        <p:spPr>
          <a:xfrm>
            <a:off x="5262480" y="2201760"/>
            <a:ext cx="2813040" cy="3913200"/>
          </a:xfrm>
          <a:prstGeom prst="rect">
            <a:avLst/>
          </a:prstGeom>
          <a:ln w="0">
            <a:noFill/>
          </a:ln>
        </p:spPr>
      </p:pic>
      <p:pic>
        <p:nvPicPr>
          <p:cNvPr id="214" name="Заголовок 4" descr=""/>
          <p:cNvPicPr/>
          <p:nvPr/>
        </p:nvPicPr>
        <p:blipFill>
          <a:blip r:embed="rId4"/>
          <a:stretch/>
        </p:blipFill>
        <p:spPr>
          <a:xfrm>
            <a:off x="450720" y="152280"/>
            <a:ext cx="82425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215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216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«Класс коррекции»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Текст 1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219" name="Содержимое 6" descr="геласимов.jpg"/>
          <p:cNvPicPr/>
          <p:nvPr/>
        </p:nvPicPr>
        <p:blipFill>
          <a:blip r:embed="rId2"/>
          <a:stretch/>
        </p:blipFill>
        <p:spPr>
          <a:xfrm>
            <a:off x="1079640" y="2201760"/>
            <a:ext cx="2793960" cy="3913200"/>
          </a:xfrm>
          <a:prstGeom prst="rect">
            <a:avLst/>
          </a:prstGeom>
          <a:ln w="0">
            <a:noFill/>
          </a:ln>
        </p:spPr>
      </p:pic>
      <p:pic>
        <p:nvPicPr>
          <p:cNvPr id="220" name="Содержимое 7" descr="нежный возраст.jpg"/>
          <p:cNvPicPr/>
          <p:nvPr/>
        </p:nvPicPr>
        <p:blipFill>
          <a:blip r:embed="rId3"/>
          <a:stretch/>
        </p:blipFill>
        <p:spPr>
          <a:xfrm>
            <a:off x="5403960" y="2201760"/>
            <a:ext cx="2530440" cy="391320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4" descr=""/>
          <p:cNvPicPr/>
          <p:nvPr/>
        </p:nvPicPr>
        <p:blipFill>
          <a:blip r:embed="rId4"/>
          <a:stretch/>
        </p:blipFill>
        <p:spPr>
          <a:xfrm>
            <a:off x="450720" y="152280"/>
            <a:ext cx="82425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222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223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«Нежный возраст»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Текст 1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226" name="Содержимое 6" descr="геласимов.jpg"/>
          <p:cNvPicPr/>
          <p:nvPr/>
        </p:nvPicPr>
        <p:blipFill>
          <a:blip r:embed="rId2"/>
          <a:stretch/>
        </p:blipFill>
        <p:spPr>
          <a:xfrm>
            <a:off x="1079640" y="2201760"/>
            <a:ext cx="2793960" cy="3913200"/>
          </a:xfrm>
          <a:prstGeom prst="rect">
            <a:avLst/>
          </a:prstGeom>
          <a:ln w="0">
            <a:noFill/>
          </a:ln>
        </p:spPr>
      </p:pic>
      <p:pic>
        <p:nvPicPr>
          <p:cNvPr id="227" name="Содержимое 7" descr="фокс малдер.jpg"/>
          <p:cNvPicPr/>
          <p:nvPr/>
        </p:nvPicPr>
        <p:blipFill>
          <a:blip r:embed="rId3"/>
          <a:stretch/>
        </p:blipFill>
        <p:spPr>
          <a:xfrm>
            <a:off x="5381640" y="2201760"/>
            <a:ext cx="2575080" cy="3913200"/>
          </a:xfrm>
          <a:prstGeom prst="rect">
            <a:avLst/>
          </a:prstGeom>
          <a:ln w="0">
            <a:noFill/>
          </a:ln>
        </p:spPr>
      </p:pic>
      <p:pic>
        <p:nvPicPr>
          <p:cNvPr id="228" name="Заголовок 4" descr=""/>
          <p:cNvPicPr/>
          <p:nvPr/>
        </p:nvPicPr>
        <p:blipFill>
          <a:blip r:embed="rId4"/>
          <a:stretch/>
        </p:blipFill>
        <p:spPr>
          <a:xfrm>
            <a:off x="450720" y="152280"/>
            <a:ext cx="82425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229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230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«Фокс Малдер похож на свинью»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Текст 1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233" name="Содержимое 6" descr="dolgopiat.jpg"/>
          <p:cNvPicPr/>
          <p:nvPr/>
        </p:nvPicPr>
        <p:blipFill>
          <a:blip r:embed="rId2"/>
          <a:stretch/>
        </p:blipFill>
        <p:spPr>
          <a:xfrm>
            <a:off x="457200" y="2673360"/>
            <a:ext cx="4038480" cy="2970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64976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уть домой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«Два сюжета в жанре мелодрамы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5" name="Заголовок 4" descr=""/>
          <p:cNvPicPr/>
          <p:nvPr/>
        </p:nvPicPr>
        <p:blipFill>
          <a:blip r:embed="rId3"/>
          <a:stretch/>
        </p:blipFill>
        <p:spPr>
          <a:xfrm>
            <a:off x="450720" y="152280"/>
            <a:ext cx="82425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236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237" name="Текст 5" descr=""/>
            <p:cNvPicPr/>
            <p:nvPr/>
          </p:nvPicPr>
          <p:blipFill>
            <a:blip r:embed="rId4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onstantia"/>
                </a:rPr>
                <a:t>Выморочная, извращенная СМИ жизнь ребен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Текст 1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240" name="Содержимое 6" descr="иванов.jpg"/>
          <p:cNvPicPr/>
          <p:nvPr/>
        </p:nvPicPr>
        <p:blipFill>
          <a:blip r:embed="rId2"/>
          <a:stretch/>
        </p:blipFill>
        <p:spPr>
          <a:xfrm>
            <a:off x="1173240" y="2201760"/>
            <a:ext cx="2606760" cy="391320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7" descr="географ глобус пропил.jpg"/>
          <p:cNvPicPr/>
          <p:nvPr/>
        </p:nvPicPr>
        <p:blipFill>
          <a:blip r:embed="rId3"/>
          <a:stretch/>
        </p:blipFill>
        <p:spPr>
          <a:xfrm>
            <a:off x="5143680" y="2286000"/>
            <a:ext cx="2786040" cy="3857760"/>
          </a:xfrm>
          <a:prstGeom prst="rect">
            <a:avLst/>
          </a:prstGeom>
          <a:ln w="0">
            <a:noFill/>
          </a:ln>
        </p:spPr>
      </p:pic>
      <p:pic>
        <p:nvPicPr>
          <p:cNvPr id="242" name="Заголовок 4" descr=""/>
          <p:cNvPicPr/>
          <p:nvPr/>
        </p:nvPicPr>
        <p:blipFill>
          <a:blip r:embed="rId4"/>
          <a:stretch/>
        </p:blipFill>
        <p:spPr>
          <a:xfrm>
            <a:off x="450720" y="-49320"/>
            <a:ext cx="8242560" cy="1354320"/>
          </a:xfrm>
          <a:prstGeom prst="rect">
            <a:avLst/>
          </a:prstGeom>
          <a:ln w="0">
            <a:noFill/>
          </a:ln>
        </p:spPr>
      </p:pic>
      <p:grpSp>
        <p:nvGrpSpPr>
          <p:cNvPr id="243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244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«Географ глобус пропил»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Текст 1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247" name="Содержимое 6" descr="иванов.jpg"/>
          <p:cNvPicPr/>
          <p:nvPr/>
        </p:nvPicPr>
        <p:blipFill>
          <a:blip r:embed="rId2"/>
          <a:stretch/>
        </p:blipFill>
        <p:spPr>
          <a:xfrm>
            <a:off x="1173240" y="2201760"/>
            <a:ext cx="2606760" cy="3913200"/>
          </a:xfrm>
          <a:prstGeom prst="rect">
            <a:avLst/>
          </a:prstGeom>
          <a:ln w="0">
            <a:noFill/>
          </a:ln>
        </p:spPr>
      </p:pic>
      <p:pic>
        <p:nvPicPr>
          <p:cNvPr id="248" name="Содержимое 7" descr="блуда и мудо.jpg"/>
          <p:cNvPicPr/>
          <p:nvPr/>
        </p:nvPicPr>
        <p:blipFill>
          <a:blip r:embed="rId3"/>
          <a:stretch/>
        </p:blipFill>
        <p:spPr>
          <a:xfrm>
            <a:off x="5500800" y="2214720"/>
            <a:ext cx="2430360" cy="3857400"/>
          </a:xfrm>
          <a:prstGeom prst="rect">
            <a:avLst/>
          </a:prstGeom>
          <a:ln w="0">
            <a:noFill/>
          </a:ln>
        </p:spPr>
      </p:pic>
      <p:pic>
        <p:nvPicPr>
          <p:cNvPr id="249" name="Заголовок 4" descr=""/>
          <p:cNvPicPr/>
          <p:nvPr/>
        </p:nvPicPr>
        <p:blipFill>
          <a:blip r:embed="rId4"/>
          <a:stretch/>
        </p:blipFill>
        <p:spPr>
          <a:xfrm>
            <a:off x="450720" y="-49320"/>
            <a:ext cx="8242560" cy="1354320"/>
          </a:xfrm>
          <a:prstGeom prst="rect">
            <a:avLst/>
          </a:prstGeom>
          <a:ln w="0">
            <a:noFill/>
          </a:ln>
        </p:spPr>
      </p:pic>
      <p:grpSp>
        <p:nvGrpSpPr>
          <p:cNvPr id="250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251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«Блуда и МУДО»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50720" y="1779480"/>
            <a:ext cx="82425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Е. Белжеларский, критик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У нас школьная беллетристика пребывает в летаргическом состоянии. Времена меняются – вместе с ними должна меняться и литература. Однако школьная повесть не изменилась, а скорее испарилась из литературного обихода. Почему? Период подросткового взросления перестал быть значимым и потому  не попадает в фокус литературы. Если социальное государство позволяет продлить «пору юности», то в странах третьего мира ребенок вынужден взрослеть резко и сразу. Из состояния А в состояние Б, без лишних рефлексий и мерихлюндий, так и не побывав «юношей, обдумывающим житье». Стоит ли говорить, что на качестве взрослости это сказывается не лучшим образом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Детектив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Фэнтези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«женский детектив на вырост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«розовые романы» для девочек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иные развлекательные литературные вариации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2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Повесть о душевном мире юного человека, познающего окружающий мир, переживающего первую любовь, получающего настоящие уроки жизни от своих учителе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хар Прилепин «Грех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ев Усыскин «Длинный день после детств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лауреаты литературной премии Ю.Казакова 2007 года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Художественная литература о животных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Путешествия по реальному миру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Произведения, основанные на русском фольклоре и мифологии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Школьные повести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Литература не успевает за стремительными изменениями жизн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«устарели» произведения В.Драгунского, Е.Носова, А.Алексина, А.Лиханова и др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ытаются «выжить» произведения В.Крапивина (фантастическое направление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качестве героя востребован «сверхмальчик», воюющий со взрослыми-предателям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Ч.Айтматов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«Мы сами, наверное, виноваты в том, что происходит, с неоперившейся юной частью общества.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&lt;…&gt;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ельзя благодушествовать, надеясь, что ничего страшного не происходит: сейчас они жестокие, бессердечные, высокомерные, а подрастут – исправятся, мы их исправим. Не исправим. Исправлять трудно…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К.Молдавская, член литературного совета премии детской литературы «Заветная мечта»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« Ребенок хочет найти в книжке не только приключения, но и подсказки, ответы на свои вопросы. Ассоциации со своей реальной жизнью, выходы за пределы собственной личности. Это важный психологический и нравственный опыт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 2006 по 2009 присуждалась российская национальная премия в области детской литературы «Заветная мечта», учрежденная МИАН (Математическим институтом им. В.А.Стеклова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емия помогла обозначить основные направления развития современной детской литератур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Текст 1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184" name="Содержимое 6" descr="ренат янышев.jpg"/>
          <p:cNvPicPr/>
          <p:nvPr/>
        </p:nvPicPr>
        <p:blipFill>
          <a:blip r:embed="rId2"/>
          <a:stretch/>
        </p:blipFill>
        <p:spPr>
          <a:xfrm>
            <a:off x="357120" y="2201760"/>
            <a:ext cx="4286160" cy="4370400"/>
          </a:xfrm>
          <a:prstGeom prst="rect">
            <a:avLst/>
          </a:prstGeom>
          <a:ln w="0">
            <a:noFill/>
          </a:ln>
        </p:spPr>
      </p:pic>
      <p:pic>
        <p:nvPicPr>
          <p:cNvPr id="185" name="Содержимое 7" descr="сражение в интернете.jpg"/>
          <p:cNvPicPr/>
          <p:nvPr/>
        </p:nvPicPr>
        <p:blipFill>
          <a:blip r:embed="rId3"/>
          <a:stretch/>
        </p:blipFill>
        <p:spPr>
          <a:xfrm>
            <a:off x="5364000" y="2201760"/>
            <a:ext cx="3065760" cy="4370400"/>
          </a:xfrm>
          <a:prstGeom prst="rect">
            <a:avLst/>
          </a:prstGeom>
          <a:ln w="0">
            <a:noFill/>
          </a:ln>
        </p:spPr>
      </p:pic>
      <p:pic>
        <p:nvPicPr>
          <p:cNvPr id="186" name="Заголовок 4" descr=""/>
          <p:cNvPicPr/>
          <p:nvPr/>
        </p:nvPicPr>
        <p:blipFill>
          <a:blip r:embed="rId4"/>
          <a:stretch/>
        </p:blipFill>
        <p:spPr>
          <a:xfrm>
            <a:off x="334800" y="-49320"/>
            <a:ext cx="8577360" cy="1354320"/>
          </a:xfrm>
          <a:prstGeom prst="rect">
            <a:avLst/>
          </a:prstGeom>
          <a:ln w="0">
            <a:noFill/>
          </a:ln>
        </p:spPr>
      </p:pic>
      <p:grpSp>
        <p:nvGrpSpPr>
          <p:cNvPr id="187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188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«Сражение в интернете»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Текст 1" descr=""/>
          <p:cNvPicPr/>
          <p:nvPr/>
        </p:nvPicPr>
        <p:blipFill>
          <a:blip r:embed="rId1"/>
          <a:stretch/>
        </p:blipFill>
        <p:spPr>
          <a:xfrm>
            <a:off x="450720" y="1225440"/>
            <a:ext cx="4078440" cy="944640"/>
          </a:xfrm>
          <a:prstGeom prst="rect">
            <a:avLst/>
          </a:prstGeom>
          <a:ln w="0">
            <a:noFill/>
          </a:ln>
        </p:spPr>
      </p:pic>
      <p:pic>
        <p:nvPicPr>
          <p:cNvPr id="191" name="Содержимое 6" descr="Тварк Мэн.jpg"/>
          <p:cNvPicPr/>
          <p:nvPr/>
        </p:nvPicPr>
        <p:blipFill>
          <a:blip r:embed="rId2"/>
          <a:stretch/>
        </p:blipFill>
        <p:spPr>
          <a:xfrm>
            <a:off x="357120" y="2357280"/>
            <a:ext cx="4646520" cy="4000680"/>
          </a:xfrm>
          <a:prstGeom prst="rect">
            <a:avLst/>
          </a:prstGeom>
          <a:ln w="0">
            <a:noFill/>
          </a:ln>
        </p:spPr>
      </p:pic>
      <p:pic>
        <p:nvPicPr>
          <p:cNvPr id="192" name="Содержимое 7" descr="книга белоглазкина.jpg"/>
          <p:cNvPicPr/>
          <p:nvPr/>
        </p:nvPicPr>
        <p:blipFill>
          <a:blip r:embed="rId3"/>
          <a:stretch/>
        </p:blipFill>
        <p:spPr>
          <a:xfrm>
            <a:off x="5219640" y="2481120"/>
            <a:ext cx="3424320" cy="4019760"/>
          </a:xfrm>
          <a:prstGeom prst="rect">
            <a:avLst/>
          </a:prstGeom>
          <a:ln w="0">
            <a:noFill/>
          </a:ln>
        </p:spPr>
      </p:pic>
      <p:pic>
        <p:nvPicPr>
          <p:cNvPr id="193" name="Заголовок 4" descr=""/>
          <p:cNvPicPr/>
          <p:nvPr/>
        </p:nvPicPr>
        <p:blipFill>
          <a:blip r:embed="rId4"/>
          <a:stretch/>
        </p:blipFill>
        <p:spPr>
          <a:xfrm>
            <a:off x="334800" y="-49320"/>
            <a:ext cx="8577360" cy="1354320"/>
          </a:xfrm>
          <a:prstGeom prst="rect">
            <a:avLst/>
          </a:prstGeom>
          <a:ln w="0">
            <a:noFill/>
          </a:ln>
        </p:spPr>
      </p:pic>
      <p:grpSp>
        <p:nvGrpSpPr>
          <p:cNvPr id="194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195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«Козел»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2:06:56Z</dcterms:created>
  <dc:creator>Михаил</dc:creator>
  <dc:description/>
  <dc:language>en-US</dc:language>
  <cp:lastModifiedBy>СЕВ</cp:lastModifiedBy>
  <dcterms:modified xsi:type="dcterms:W3CDTF">2012-12-11T07:33:58Z</dcterms:modified>
  <cp:revision>38</cp:revision>
  <dc:subject/>
  <dc:title>Тема детства и школы в современной прозе</dc:title>
</cp:coreProperties>
</file>