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1.jpeg" ContentType="image/jpeg"/>
  <Override PartName="/ppt/media/image28.jpeg" ContentType="image/jpeg"/>
  <Override PartName="/ppt/media/image20.png" ContentType="image/png"/>
  <Override PartName="/ppt/media/image36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2.png" ContentType="image/png"/>
  <Override PartName="/ppt/media/image40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13.png" ContentType="image/png"/>
  <Override PartName="/ppt/media/image29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png" ContentType="image/png"/>
  <Override PartName="/ppt/media/image31.jpeg" ContentType="image/jpeg"/>
  <Override PartName="/ppt/media/image41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9.png" ContentType="image/png"/>
  <Override PartName="/ppt/media/image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0.jpeg" ContentType="image/jpe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C5E4-C2A2-4238-8B2E-F94EA1CB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CD24-D66B-4884-9387-1F3C6EF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479E-14C8-465D-9BBD-8CE114D5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E837-79F0-4B2B-B5A8-36DE8F69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EDCC1-AD0D-45A8-82F7-59D8729F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2F922-0E5C-4D35-AFE1-1CDE46F6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6EAC9-5906-46AF-89D1-E801BD0B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AD854-01CC-4087-BD9E-3F928FADE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6C613F-6768-492D-9BD0-8CCA05C72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155882-BC6C-4A35-9A57-C0E36246E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98FB7-9CD8-4892-A781-40C348C0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3ADF-5FDC-4190-BED5-CBA58222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18BAB-E110-4196-8C84-DFFC7CE7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28E47-02F9-405E-B5C9-F5627D64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F93D6-05F8-4673-AD6E-41E04922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8354A3-EAF0-4C7E-B174-4686DA523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414B3-9095-46C9-B026-B79FF02F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F399C-546C-41E2-8C8C-1063BFED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D6853-EE3A-42AF-BE05-60F0B06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4BC783-9CAE-46E7-8DC8-E0B73F29C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0CE55-C6F7-44C0-AD05-6DD0E238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A5A83-4443-4155-AEF1-DD614584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1E0-D5B7-4F46-B0B1-861CE855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AC57B-EA3A-49F6-8EFD-8D12115F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A3E24-C26E-4F7E-979B-917B9806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2B51A-4C27-4627-BBF8-B54E6E98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F130D-00B4-498B-BD6D-E30DC09A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5AF9-C106-4097-B8B7-CF5AD6EA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3819A-9446-4709-8E6A-24E48C4BD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B86A4B-BF70-4B1D-8934-F97D5C659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8894DF-532F-4C70-B5FA-2BF2A1D3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2265E-D91B-493D-98D2-B7B89FB76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3851C-04E3-4FC5-99D5-FC0F2E59B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15C0-BC2D-4B8D-9035-3912A68E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8F5040-E0DF-4079-BD9E-2E2BAB43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E122D0-7893-41F1-BCD2-2C60D9242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C9A9B8D-5C9A-44BD-8743-0E01A9D9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B15321-59B6-419E-840C-42C7C92D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58E83B-2856-41FD-B4C1-89413DC3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AA84F1-25F4-47BF-872D-96E9E494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4DC69-338D-4386-9168-EA67E6A4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1CDE50-6CF5-4F4D-957A-9454E651B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97F01F-360F-4D29-AE54-5A330DBA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C44A-C767-4532-9E02-47E671E7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33D4-2DFA-4051-9ED9-D8E63B7C1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A612-BBDB-4CF7-AEF1-5883AA81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7193-F1A2-4289-8745-E199637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D83E-D647-44F1-9A7A-D04BEBF4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BB1F-36CE-424D-BD3E-F25D471BCE2A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085E2-0748-4C36-B8F7-8CBBC8E63DA1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2E66F-2D08-4A86-8CD1-C2577799952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CA33E-3027-43C1-8096-DD844F8EB68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31.jpeg"/><Relationship Id="rId4" Type="http://schemas.openxmlformats.org/officeDocument/2006/relationships/image" Target="../media/image3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9.jpeg"/><Relationship Id="rId4" Type="http://schemas.openxmlformats.org/officeDocument/2006/relationships/image" Target="../media/image38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1" descr=""/>
          <p:cNvPicPr/>
          <p:nvPr/>
        </p:nvPicPr>
        <p:blipFill>
          <a:blip r:embed="rId1"/>
          <a:stretch/>
        </p:blipFill>
        <p:spPr>
          <a:xfrm>
            <a:off x="219240" y="1639800"/>
            <a:ext cx="8864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98" name="Содержимое 6" descr="улицкая.jpg"/>
          <p:cNvPicPr/>
          <p:nvPr/>
        </p:nvPicPr>
        <p:blipFill>
          <a:blip r:embed="rId2"/>
          <a:stretch/>
        </p:blipFill>
        <p:spPr>
          <a:xfrm>
            <a:off x="428760" y="2214720"/>
            <a:ext cx="3500280" cy="4071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 В нашем обществе нарастает фашизм, пропагандируется насилие по телевидению. Все нельзя победить сразу, но надо ему противостоять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Заголовок 4" descr=""/>
          <p:cNvPicPr/>
          <p:nvPr/>
        </p:nvPicPr>
        <p:blipFill>
          <a:blip r:embed="rId3"/>
          <a:stretch/>
        </p:blipFill>
        <p:spPr>
          <a:xfrm>
            <a:off x="334800" y="-49320"/>
            <a:ext cx="85773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01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02" name="Текст 5" descr=""/>
            <p:cNvPicPr/>
            <p:nvPr/>
          </p:nvPicPr>
          <p:blipFill>
            <a:blip r:embed="rId4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Constantia"/>
                </a:rPr>
                <a:t>Детский проект «Другой, другие о других»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Текст 1" descr=""/>
          <p:cNvPicPr/>
          <p:nvPr/>
        </p:nvPicPr>
        <p:blipFill>
          <a:blip r:embed="rId1"/>
          <a:stretch/>
        </p:blipFill>
        <p:spPr>
          <a:xfrm>
            <a:off x="450720" y="1225440"/>
            <a:ext cx="4054680" cy="944640"/>
          </a:xfrm>
          <a:prstGeom prst="rect">
            <a:avLst/>
          </a:prstGeom>
          <a:ln w="0">
            <a:noFill/>
          </a:ln>
        </p:spPr>
      </p:pic>
      <p:pic>
        <p:nvPicPr>
          <p:cNvPr id="205" name="Содержимое 6" descr="Valerij_Voskobojnikov.jpg"/>
          <p:cNvPicPr/>
          <p:nvPr/>
        </p:nvPicPr>
        <p:blipFill>
          <a:blip r:embed="rId2"/>
          <a:stretch/>
        </p:blipFill>
        <p:spPr>
          <a:xfrm>
            <a:off x="428760" y="2286000"/>
            <a:ext cx="3857400" cy="4000680"/>
          </a:xfrm>
          <a:prstGeom prst="rect">
            <a:avLst/>
          </a:prstGeom>
          <a:ln w="0">
            <a:noFill/>
          </a:ln>
        </p:spPr>
      </p:pic>
      <p:pic>
        <p:nvPicPr>
          <p:cNvPr id="206" name="Содержимое 7" descr="все будет хорошо.jpg"/>
          <p:cNvPicPr/>
          <p:nvPr/>
        </p:nvPicPr>
        <p:blipFill>
          <a:blip r:embed="rId3"/>
          <a:stretch/>
        </p:blipFill>
        <p:spPr>
          <a:xfrm>
            <a:off x="5310360" y="2201760"/>
            <a:ext cx="2717640" cy="3913200"/>
          </a:xfrm>
          <a:prstGeom prst="rect">
            <a:avLst/>
          </a:prstGeom>
          <a:ln w="0">
            <a:noFill/>
          </a:ln>
        </p:spPr>
      </p:pic>
      <p:pic>
        <p:nvPicPr>
          <p:cNvPr id="207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08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09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Все будет в порядке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6" descr="мурашова.JPG"/>
          <p:cNvPicPr/>
          <p:nvPr/>
        </p:nvPicPr>
        <p:blipFill>
          <a:blip r:embed="rId2"/>
          <a:stretch/>
        </p:blipFill>
        <p:spPr>
          <a:xfrm>
            <a:off x="357120" y="2286000"/>
            <a:ext cx="4575240" cy="4000680"/>
          </a:xfrm>
          <a:prstGeom prst="rect">
            <a:avLst/>
          </a:prstGeom>
          <a:ln w="0">
            <a:noFill/>
          </a:ln>
        </p:spPr>
      </p:pic>
      <p:pic>
        <p:nvPicPr>
          <p:cNvPr id="213" name="Содержимое 7" descr="класс коррекции.jpg"/>
          <p:cNvPicPr/>
          <p:nvPr/>
        </p:nvPicPr>
        <p:blipFill>
          <a:blip r:embed="rId3"/>
          <a:stretch/>
        </p:blipFill>
        <p:spPr>
          <a:xfrm>
            <a:off x="5262480" y="2201760"/>
            <a:ext cx="2813040" cy="3913200"/>
          </a:xfrm>
          <a:prstGeom prst="rect">
            <a:avLst/>
          </a:prstGeom>
          <a:ln w="0">
            <a:noFill/>
          </a:ln>
        </p:spPr>
      </p:pic>
      <p:pic>
        <p:nvPicPr>
          <p:cNvPr id="214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15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16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Класс коррекции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19" name="Содержимое 6" descr="геласимов.jpg"/>
          <p:cNvPicPr/>
          <p:nvPr/>
        </p:nvPicPr>
        <p:blipFill>
          <a:blip r:embed="rId2"/>
          <a:stretch/>
        </p:blipFill>
        <p:spPr>
          <a:xfrm>
            <a:off x="1079640" y="2201760"/>
            <a:ext cx="2793960" cy="3913200"/>
          </a:xfrm>
          <a:prstGeom prst="rect">
            <a:avLst/>
          </a:prstGeom>
          <a:ln w="0">
            <a:noFill/>
          </a:ln>
        </p:spPr>
      </p:pic>
      <p:pic>
        <p:nvPicPr>
          <p:cNvPr id="220" name="Содержимое 7" descr="нежный возраст.jpg"/>
          <p:cNvPicPr/>
          <p:nvPr/>
        </p:nvPicPr>
        <p:blipFill>
          <a:blip r:embed="rId3"/>
          <a:stretch/>
        </p:blipFill>
        <p:spPr>
          <a:xfrm>
            <a:off x="5403960" y="2201760"/>
            <a:ext cx="2530440" cy="3913200"/>
          </a:xfrm>
          <a:prstGeom prst="rect">
            <a:avLst/>
          </a:prstGeom>
          <a:ln w="0">
            <a:noFill/>
          </a:ln>
        </p:spPr>
      </p:pic>
      <p:pic>
        <p:nvPicPr>
          <p:cNvPr id="221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22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23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Нежный возраст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26" name="Содержимое 6" descr="геласимов.jpg"/>
          <p:cNvPicPr/>
          <p:nvPr/>
        </p:nvPicPr>
        <p:blipFill>
          <a:blip r:embed="rId2"/>
          <a:stretch/>
        </p:blipFill>
        <p:spPr>
          <a:xfrm>
            <a:off x="1079640" y="2201760"/>
            <a:ext cx="2793960" cy="3913200"/>
          </a:xfrm>
          <a:prstGeom prst="rect">
            <a:avLst/>
          </a:prstGeom>
          <a:ln w="0">
            <a:noFill/>
          </a:ln>
        </p:spPr>
      </p:pic>
      <p:pic>
        <p:nvPicPr>
          <p:cNvPr id="227" name="Содержимое 7" descr="фокс малдер.jpg"/>
          <p:cNvPicPr/>
          <p:nvPr/>
        </p:nvPicPr>
        <p:blipFill>
          <a:blip r:embed="rId3"/>
          <a:stretch/>
        </p:blipFill>
        <p:spPr>
          <a:xfrm>
            <a:off x="5381640" y="2201760"/>
            <a:ext cx="2575080" cy="3913200"/>
          </a:xfrm>
          <a:prstGeom prst="rect">
            <a:avLst/>
          </a:prstGeom>
          <a:ln w="0">
            <a:noFill/>
          </a:ln>
        </p:spPr>
      </p:pic>
      <p:pic>
        <p:nvPicPr>
          <p:cNvPr id="228" name="Заголовок 4" descr=""/>
          <p:cNvPicPr/>
          <p:nvPr/>
        </p:nvPicPr>
        <p:blipFill>
          <a:blip r:embed="rId4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29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30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Фокс Малдер похож на свинью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33" name="Содержимое 6" descr="dolgopiat.jpg"/>
          <p:cNvPicPr/>
          <p:nvPr/>
        </p:nvPicPr>
        <p:blipFill>
          <a:blip r:embed="rId2"/>
          <a:stretch/>
        </p:blipFill>
        <p:spPr>
          <a:xfrm>
            <a:off x="457200" y="2673360"/>
            <a:ext cx="4038480" cy="297036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4649760" y="2201760"/>
            <a:ext cx="4038480" cy="39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уть домой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Два сюжета в жанре мелодрамы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35" name="Заголовок 4" descr=""/>
          <p:cNvPicPr/>
          <p:nvPr/>
        </p:nvPicPr>
        <p:blipFill>
          <a:blip r:embed="rId3"/>
          <a:stretch/>
        </p:blipFill>
        <p:spPr>
          <a:xfrm>
            <a:off x="450720" y="152280"/>
            <a:ext cx="8242560" cy="1152720"/>
          </a:xfrm>
          <a:prstGeom prst="rect">
            <a:avLst/>
          </a:prstGeom>
          <a:ln w="0">
            <a:noFill/>
          </a:ln>
        </p:spPr>
      </p:pic>
      <p:grpSp>
        <p:nvGrpSpPr>
          <p:cNvPr id="236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37" name="Текст 5" descr=""/>
            <p:cNvPicPr/>
            <p:nvPr/>
          </p:nvPicPr>
          <p:blipFill>
            <a:blip r:embed="rId4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Constantia"/>
                </a:rPr>
                <a:t>Выморочная, извращенная СМИ жизнь ребен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40" name="Содержимое 6" descr="иванов.jpg"/>
          <p:cNvPicPr/>
          <p:nvPr/>
        </p:nvPicPr>
        <p:blipFill>
          <a:blip r:embed="rId2"/>
          <a:stretch/>
        </p:blipFill>
        <p:spPr>
          <a:xfrm>
            <a:off x="1173240" y="2201760"/>
            <a:ext cx="2606760" cy="391320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7" descr="географ глобус пропил.jpg"/>
          <p:cNvPicPr/>
          <p:nvPr/>
        </p:nvPicPr>
        <p:blipFill>
          <a:blip r:embed="rId3"/>
          <a:stretch/>
        </p:blipFill>
        <p:spPr>
          <a:xfrm>
            <a:off x="5143680" y="2286000"/>
            <a:ext cx="2786040" cy="3857760"/>
          </a:xfrm>
          <a:prstGeom prst="rect">
            <a:avLst/>
          </a:prstGeom>
          <a:ln w="0">
            <a:noFill/>
          </a:ln>
        </p:spPr>
      </p:pic>
      <p:pic>
        <p:nvPicPr>
          <p:cNvPr id="242" name="Заголовок 4" descr=""/>
          <p:cNvPicPr/>
          <p:nvPr/>
        </p:nvPicPr>
        <p:blipFill>
          <a:blip r:embed="rId4"/>
          <a:stretch/>
        </p:blipFill>
        <p:spPr>
          <a:xfrm>
            <a:off x="450720" y="-49320"/>
            <a:ext cx="82425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43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44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Географ глобус пропил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247" name="Содержимое 6" descr="иванов.jpg"/>
          <p:cNvPicPr/>
          <p:nvPr/>
        </p:nvPicPr>
        <p:blipFill>
          <a:blip r:embed="rId2"/>
          <a:stretch/>
        </p:blipFill>
        <p:spPr>
          <a:xfrm>
            <a:off x="1173240" y="2201760"/>
            <a:ext cx="2606760" cy="3913200"/>
          </a:xfrm>
          <a:prstGeom prst="rect">
            <a:avLst/>
          </a:prstGeom>
          <a:ln w="0">
            <a:noFill/>
          </a:ln>
        </p:spPr>
      </p:pic>
      <p:pic>
        <p:nvPicPr>
          <p:cNvPr id="248" name="Содержимое 7" descr="блуда и мудо.jpg"/>
          <p:cNvPicPr/>
          <p:nvPr/>
        </p:nvPicPr>
        <p:blipFill>
          <a:blip r:embed="rId3"/>
          <a:stretch/>
        </p:blipFill>
        <p:spPr>
          <a:xfrm>
            <a:off x="5500800" y="2214720"/>
            <a:ext cx="2430360" cy="3857400"/>
          </a:xfrm>
          <a:prstGeom prst="rect">
            <a:avLst/>
          </a:prstGeom>
          <a:ln w="0">
            <a:noFill/>
          </a:ln>
        </p:spPr>
      </p:pic>
      <p:pic>
        <p:nvPicPr>
          <p:cNvPr id="249" name="Заголовок 4" descr=""/>
          <p:cNvPicPr/>
          <p:nvPr/>
        </p:nvPicPr>
        <p:blipFill>
          <a:blip r:embed="rId4"/>
          <a:stretch/>
        </p:blipFill>
        <p:spPr>
          <a:xfrm>
            <a:off x="450720" y="-49320"/>
            <a:ext cx="82425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250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251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Блуда и МУДО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450720" y="1779480"/>
            <a:ext cx="8242560" cy="17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onstantia"/>
              </a:rPr>
              <a:t>Е. Белжеларский, критик: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«У нас школьная беллетристика пребывает в летаргическом состоянии. Времена меняются – вместе с ними должна меняться и литература. Однако школьная повесть не изменилась, а скорее испарилась из литературного обихода. Почему? Период подросткового взросления перестал быть значимым и потому  не попадает в фокус литературы. Если социальное государство позволяет продлить «пору юности», то в странах третьего мира ребенок вынужден взрослеть резко и сразу. Из состояния А в состояние Б, без лишних рефлексий и мерихлюндий, так и не побывав «юношей, обдумывающим житье». Стоит ли говорить, что на качестве взрослости это сказывается не лучшим образом»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56320" indent="-2563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55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Детективы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Фэнтез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женский детектив на вырост»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«розовые романы» для девочек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иные развлекательные литературные вариаци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2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523880"/>
            <a:ext cx="40593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Повесть о душевном мире юного человека, познающего окружающий мир, переживающего первую любовь, получающего настоящие уроки жизни от своих учител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Захар Прилепин «Грех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Лев Усыскин «Длинный день после детств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(лауреаты литературной премии Ю.Казакова 2007 года)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Художественная литература о животных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утешествия по реальному миру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Произведения, основанные на русском фольклоре и мифологи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Школьные повести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Литература не успевает за стремительными изменениями жизни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«устарели» произведения В.Драгунского, Е.Носова, А.Алексина, А.Лиханова и др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Пытаются «выжить» произведения В.Крапивина (фантастическое направление)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В качестве героя востребован «сверхмальчик», воюющий со взрослыми-предателями.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6" name="Заголовок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Ч.Айтматов: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Мы сами, наверное, виноваты в том, что происходит, с неоперившейся юной частью общества. </a:t>
            </a:r>
            <a:r>
              <a:rPr b="0" lang="en-US" sz="3200" spc="-1" strike="noStrike">
                <a:solidFill>
                  <a:srgbClr val="ffffff"/>
                </a:solidFill>
                <a:latin typeface="Constantia"/>
              </a:rPr>
              <a:t>&lt;…&gt;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Нельзя благодушествовать, надеясь, что ничего страшного не происходит: сейчас они жестокие, бессердечные, высокомерные, а подрастут – исправятся, мы их исправим. Не исправим. Исправлять трудно…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8" name="Заголовок 3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2060"/>
                </a:solidFill>
                <a:latin typeface="Constantia"/>
              </a:rPr>
              <a:t>К.Молдавская, член литературного совета премии детской литературы «Заветная мечта»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« Ребенок хочет найти в книжке не только приключения, но и подсказки, ответы на свои вопросы. Ассоциации со своей реальной жизнью, выходы за пределы собственной личности. Это важный психологический и нравственный опыт»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3760"/>
            <a:ext cx="824256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С 2006 по 2009 присуждалась российская национальная премия в области детской литературы «Заветная мечта», учрежденная МИАН (Математическим институтом им. В.А.Стеклова)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Премия помогла обозначить основные направления развития современной детской литературы.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82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Текст 1" descr=""/>
          <p:cNvPicPr/>
          <p:nvPr/>
        </p:nvPicPr>
        <p:blipFill>
          <a:blip r:embed="rId1"/>
          <a:stretch/>
        </p:blipFill>
        <p:spPr>
          <a:xfrm>
            <a:off x="450720" y="1395360"/>
            <a:ext cx="4054680" cy="774720"/>
          </a:xfrm>
          <a:prstGeom prst="rect">
            <a:avLst/>
          </a:prstGeom>
          <a:ln w="0">
            <a:noFill/>
          </a:ln>
        </p:spPr>
      </p:pic>
      <p:pic>
        <p:nvPicPr>
          <p:cNvPr id="184" name="Содержимое 6" descr="ренат янышев.jpg"/>
          <p:cNvPicPr/>
          <p:nvPr/>
        </p:nvPicPr>
        <p:blipFill>
          <a:blip r:embed="rId2"/>
          <a:stretch/>
        </p:blipFill>
        <p:spPr>
          <a:xfrm>
            <a:off x="357120" y="2201760"/>
            <a:ext cx="4286160" cy="4370400"/>
          </a:xfrm>
          <a:prstGeom prst="rect">
            <a:avLst/>
          </a:prstGeom>
          <a:ln w="0">
            <a:noFill/>
          </a:ln>
        </p:spPr>
      </p:pic>
      <p:pic>
        <p:nvPicPr>
          <p:cNvPr id="185" name="Содержимое 7" descr="сражение в интернете.jpg"/>
          <p:cNvPicPr/>
          <p:nvPr/>
        </p:nvPicPr>
        <p:blipFill>
          <a:blip r:embed="rId3"/>
          <a:stretch/>
        </p:blipFill>
        <p:spPr>
          <a:xfrm>
            <a:off x="5364000" y="2201760"/>
            <a:ext cx="3065760" cy="4370400"/>
          </a:xfrm>
          <a:prstGeom prst="rect">
            <a:avLst/>
          </a:prstGeom>
          <a:ln w="0">
            <a:noFill/>
          </a:ln>
        </p:spPr>
      </p:pic>
      <p:pic>
        <p:nvPicPr>
          <p:cNvPr id="186" name="Заголовок 4" descr=""/>
          <p:cNvPicPr/>
          <p:nvPr/>
        </p:nvPicPr>
        <p:blipFill>
          <a:blip r:embed="rId4"/>
          <a:stretch/>
        </p:blipFill>
        <p:spPr>
          <a:xfrm>
            <a:off x="334800" y="-49320"/>
            <a:ext cx="85773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87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88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Сражение в интернете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Текст 1" descr=""/>
          <p:cNvPicPr/>
          <p:nvPr/>
        </p:nvPicPr>
        <p:blipFill>
          <a:blip r:embed="rId1"/>
          <a:stretch/>
        </p:blipFill>
        <p:spPr>
          <a:xfrm>
            <a:off x="450720" y="1225440"/>
            <a:ext cx="4078440" cy="944640"/>
          </a:xfrm>
          <a:prstGeom prst="rect">
            <a:avLst/>
          </a:prstGeom>
          <a:ln w="0">
            <a:noFill/>
          </a:ln>
        </p:spPr>
      </p:pic>
      <p:pic>
        <p:nvPicPr>
          <p:cNvPr id="191" name="Содержимое 6" descr="Тварк Мэн.jpg"/>
          <p:cNvPicPr/>
          <p:nvPr/>
        </p:nvPicPr>
        <p:blipFill>
          <a:blip r:embed="rId2"/>
          <a:stretch/>
        </p:blipFill>
        <p:spPr>
          <a:xfrm>
            <a:off x="357120" y="2357280"/>
            <a:ext cx="4646520" cy="4000680"/>
          </a:xfrm>
          <a:prstGeom prst="rect">
            <a:avLst/>
          </a:prstGeom>
          <a:ln w="0">
            <a:noFill/>
          </a:ln>
        </p:spPr>
      </p:pic>
      <p:pic>
        <p:nvPicPr>
          <p:cNvPr id="192" name="Содержимое 7" descr="книга белоглазкина.jpg"/>
          <p:cNvPicPr/>
          <p:nvPr/>
        </p:nvPicPr>
        <p:blipFill>
          <a:blip r:embed="rId3"/>
          <a:stretch/>
        </p:blipFill>
        <p:spPr>
          <a:xfrm>
            <a:off x="5219640" y="2481120"/>
            <a:ext cx="3424320" cy="4019760"/>
          </a:xfrm>
          <a:prstGeom prst="rect">
            <a:avLst/>
          </a:prstGeom>
          <a:ln w="0">
            <a:noFill/>
          </a:ln>
        </p:spPr>
      </p:pic>
      <p:pic>
        <p:nvPicPr>
          <p:cNvPr id="193" name="Заголовок 4" descr=""/>
          <p:cNvPicPr/>
          <p:nvPr/>
        </p:nvPicPr>
        <p:blipFill>
          <a:blip r:embed="rId4"/>
          <a:stretch/>
        </p:blipFill>
        <p:spPr>
          <a:xfrm>
            <a:off x="334800" y="-49320"/>
            <a:ext cx="8577360" cy="1354320"/>
          </a:xfrm>
          <a:prstGeom prst="rect">
            <a:avLst/>
          </a:prstGeom>
          <a:ln w="0">
            <a:noFill/>
          </a:ln>
        </p:spPr>
      </p:pic>
      <p:grpSp>
        <p:nvGrpSpPr>
          <p:cNvPr id="194" name="Текст 5"/>
          <p:cNvGrpSpPr/>
          <p:nvPr/>
        </p:nvGrpSpPr>
        <p:grpSpPr>
          <a:xfrm>
            <a:off x="4645080" y="1395360"/>
            <a:ext cx="4048200" cy="774720"/>
            <a:chOff x="4645080" y="1395360"/>
            <a:chExt cx="4048200" cy="774720"/>
          </a:xfrm>
        </p:grpSpPr>
        <p:pic>
          <p:nvPicPr>
            <p:cNvPr id="195" name="Текст 5" descr=""/>
            <p:cNvPicPr/>
            <p:nvPr/>
          </p:nvPicPr>
          <p:blipFill>
            <a:blip r:embed="rId5"/>
            <a:stretch/>
          </p:blipFill>
          <p:spPr>
            <a:xfrm>
              <a:off x="4645080" y="1395360"/>
              <a:ext cx="404820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4648320" y="1400040"/>
              <a:ext cx="40399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600" spc="-1" strike="noStrike">
                  <a:solidFill>
                    <a:srgbClr val="002060"/>
                  </a:solidFill>
                  <a:latin typeface="Constantia"/>
                </a:rPr>
                <a:t>«Козел»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0T12:06:56Z</dcterms:created>
  <dc:creator>Михаил</dc:creator>
  <dc:description/>
  <dc:language>en-US</dc:language>
  <cp:lastModifiedBy>СЕВ</cp:lastModifiedBy>
  <dcterms:modified xsi:type="dcterms:W3CDTF">2012-12-11T07:33:58Z</dcterms:modified>
  <cp:revision>38</cp:revision>
  <dc:subject/>
  <dc:title>Тема детства и школы в современной прозе</dc:title>
</cp:coreProperties>
</file>