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gif" ContentType="image/gif"/>
  <Override PartName="/ppt/media/image24.gif" ContentType="image/gif"/>
  <Override PartName="/ppt/media/image23.jpeg" ContentType="image/jpeg"/>
  <Override PartName="/ppt/media/image56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6.gif" ContentType="image/gif"/>
  <Override PartName="/ppt/media/image15.gif" ContentType="image/gif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2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48.jpeg" ContentType="image/jpeg"/>
  <Override PartName="/ppt/media/image34.gif" ContentType="image/gif"/>
  <Override PartName="/ppt/media/image39.gif" ContentType="image/gif"/>
  <Override PartName="/ppt/media/image45.jpeg" ContentType="image/jpeg"/>
  <Override PartName="/ppt/media/image29.gif" ContentType="image/gif"/>
  <Override PartName="/ppt/media/image44.jpeg" ContentType="image/jpeg"/>
  <Override PartName="/ppt/media/image52.gif" ContentType="image/gif"/>
  <Override PartName="/ppt/media/image43.gif" ContentType="image/gif"/>
  <Override PartName="/ppt/media/image57.jpeg" ContentType="image/jpeg"/>
  <Override PartName="/ppt/media/image40.jpeg" ContentType="image/jpeg"/>
  <Override PartName="/ppt/media/image51.gif" ContentType="image/gif"/>
  <Override PartName="/ppt/media/image47.jpeg" ContentType="image/jpeg"/>
  <Override PartName="/ppt/media/image49.jpeg" ContentType="image/jpeg"/>
  <Override PartName="/ppt/media/image53.gif" ContentType="image/gif"/>
  <Override PartName="/ppt/media/image42.gif" ContentType="image/gif"/>
  <Override PartName="/ppt/media/image33.gif" ContentType="image/gif"/>
  <Override PartName="/ppt/media/image31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55.gif" ContentType="image/gif"/>
  <Override PartName="/ppt/media/image9.jpeg" ContentType="image/jpeg"/>
  <Override PartName="/ppt/media/image37.gif" ContentType="image/gif"/>
  <Override PartName="/ppt/media/image7.gif" ContentType="image/gif"/>
  <Override PartName="/ppt/media/image11.gif" ContentType="image/gif"/>
  <Override PartName="/ppt/media/image10.gif" ContentType="image/gif"/>
  <Override PartName="/ppt/media/image41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0DE-8F5B-497A-A791-0AE3B7A4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29A-065A-4BEA-BD43-52FEA41C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CC0-FC69-4525-AEC9-5ED9612A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412-069E-4641-8E87-91F21960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FC6-C75F-4E81-9824-9C2EEFD1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B41-D091-444F-8D70-B7F186B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04AC-AE1F-46C2-BE8F-ADFAA07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282-BBB5-4074-AD34-7A3E58DD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BA6-EE4D-40D3-8A25-CC9C0B39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6AC-7D95-4733-8F4D-F731B29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865-B65B-4DC8-845B-BC93AE3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765-7292-46BB-A15A-B8C766F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83A-DF9C-4C49-A3BF-59738C8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80A-D53A-481F-B44F-4E7C8079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D0F-2C01-402C-BB5C-2FC5F94F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655C-4A91-42E4-9A30-AF4571DB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55DA-CEE5-4DE9-B0DD-D1D490E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F5F-E54F-49BC-BBFE-1192A7F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BCC-6031-4D71-9DFA-CFB4097F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1B-319C-43B5-8AD6-9E932F1D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694-E023-42A9-8CAB-742875F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6E4-4FBB-4647-9F6E-DC74770F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AE1-DE28-4CEE-96F4-1CA2E36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3BF-F62C-4AA5-9B7F-A568865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F0E114-729E-4D0B-82B9-DC8C4FDFFEC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E35E80-1982-4ABA-B3FF-F097FAF3AA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3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6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obbies.metroland.ru/gallery/data/media/1853/159.jpg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image" Target="../media/image56.gif"/><Relationship Id="rId15" Type="http://schemas.openxmlformats.org/officeDocument/2006/relationships/image" Target="../media/image56.gif"/><Relationship Id="rId16" Type="http://schemas.openxmlformats.org/officeDocument/2006/relationships/image" Target="../media/image56.gif"/><Relationship Id="rId17" Type="http://schemas.openxmlformats.org/officeDocument/2006/relationships/image" Target="../media/image56.gif"/><Relationship Id="rId18" Type="http://schemas.openxmlformats.org/officeDocument/2006/relationships/image" Target="../media/image56.gif"/><Relationship Id="rId19" Type="http://schemas.openxmlformats.org/officeDocument/2006/relationships/image" Target="../media/image56.gif"/><Relationship Id="rId20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www.stihi.ru/2008/11/16/1072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7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безопасного поведения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       во время  зимних    каникул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http://s47.radikal.ru/i116/0812/08/52fef66ac43e.jpg"/>
          <p:cNvPicPr/>
          <p:nvPr/>
        </p:nvPicPr>
        <p:blipFill>
          <a:blip r:embed="rId2"/>
          <a:stretch/>
        </p:blipFill>
        <p:spPr>
          <a:xfrm>
            <a:off x="0" y="3000240"/>
            <a:ext cx="3857400" cy="3857400"/>
          </a:xfrm>
          <a:prstGeom prst="rect">
            <a:avLst/>
          </a:prstGeom>
          <a:ln w="9525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900000" y="-140400"/>
            <a:ext cx="6840000" cy="557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ли вышел на ка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играть в хоккей раз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удь осторожен, не гоня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ньком друзей не задев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88000" y="2930760"/>
            <a:ext cx="223920" cy="27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59927e0ab9e88942ee66aae34ae09cb7"/>
          <p:cNvPicPr/>
          <p:nvPr/>
        </p:nvPicPr>
        <p:blipFill>
          <a:blip r:embed="rId3"/>
          <a:stretch/>
        </p:blipFill>
        <p:spPr>
          <a:xfrm>
            <a:off x="6643800" y="4357800"/>
            <a:ext cx="2296800" cy="14824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13" descr="49fcb8fc5b049d43c6f81b1a20b8105a"/>
          <p:cNvPicPr/>
          <p:nvPr/>
        </p:nvPicPr>
        <p:blipFill>
          <a:blip r:embed="rId4"/>
          <a:stretch/>
        </p:blipFill>
        <p:spPr>
          <a:xfrm>
            <a:off x="-142920" y="214200"/>
            <a:ext cx="1590480" cy="13996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14" descr="58a95fef3d34e8ab696096002984c37c"/>
          <p:cNvPicPr/>
          <p:nvPr/>
        </p:nvPicPr>
        <p:blipFill>
          <a:blip r:embed="rId5"/>
          <a:stretch/>
        </p:blipFill>
        <p:spPr>
          <a:xfrm>
            <a:off x="7451640" y="692280"/>
            <a:ext cx="1142640" cy="5713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2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700"/>
                            </p:stCondLst>
                            <p:childTnLst>
                              <p:par>
                                <p:cTn id="34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01758E-007 C 0.02482 -0.00417 0.04149 -0.00255 0.06475 0.0037 C 0.06875 0.01156 0.07569 0.01364 0.08177 0.01873 C 0.08559 0.02613 0.09045 0.03191 0.09444 0.03931 C 0.09392 0.04116 0.09271 0.04301 0.09288 0.04486 C 0.09323 0.04718 0.09496 0.04856 0.09583 0.05064 C 0.09739 0.05481 0.09843 0.05943 0.1 0.0636 C 0.10052 0.06984 0.10139 0.07632 0.10139 0.08256 C 0.10139 0.08996 0.10069 0.09759 0.1 0.10499 C 0.09774 0.12928 0.07673 0.12465 0.06337 0.12558 C 0.05173 0.12766 0.04913 0.13136 0.03663 0.13321 C 0.02587 0.13668 0.02066 0.14015 0.01128 0.14824 C 0.0085 0.15078 0.00278 0.15564 0.00278 0.15564 C -0.00035 0.16188 -0.00243 0.16489 -0.00712 0.16882 C -0.00938 0.17807 -0.00903 0.18755 -0.01129 0.19681 C -0.01233 0.20559 -0.01354 0.21646 -0.01545 0.22502 C -0.01684 0.23126 -0.01962 0.23751 -0.02118 0.24375 C -0.02344 0.26249 -0.02795 0.28978 -0.01407 0.30203 C -0.0125 0.30805 -0.01216 0.31521 -0.0099 0.32076 C -0.00747 0.32678 -0.00295 0.33117 -0.00139 0.33765 C 0.00052 0.34505 0.00139 0.34829 0.00712 0.35083 C 0.02083 0.3691 0.00312 0.34713 0.01545 0.35823 C 0.01718 0.35985 0.01788 0.36286 0.01979 0.36401 C 0.02187 0.3654 0.02448 0.36494 0.02673 0.36586 C 0.02968 0.36679 0.03229 0.36864 0.03524 0.36956 C 0.03715 0.37026 0.03889 0.37072 0.0408 0.37141 C 0.04392 0.38367 0.04566 0.39408 0.0408 0.40703 C 0.03941 0.4105 0.03524 0.41443 0.03524 0.41836 E">
                                      <p:cBhvr>
                                        <p:cTn id="3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403280" y="260280"/>
            <a:ext cx="619236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ы без друга на ка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один ка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 не стукнуться об лё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до за руки держ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193941759"/>
          <p:cNvPicPr/>
          <p:nvPr/>
        </p:nvPicPr>
        <p:blipFill>
          <a:blip r:embed="rId1"/>
          <a:stretch/>
        </p:blipFill>
        <p:spPr>
          <a:xfrm>
            <a:off x="3419640" y="3141720"/>
            <a:ext cx="507636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9" descr="4d0ae927a3abdfc6c966ad5fb5842b74"/>
          <p:cNvPicPr/>
          <p:nvPr/>
        </p:nvPicPr>
        <p:blipFill>
          <a:blip r:embed="rId2"/>
          <a:stretch/>
        </p:blipFill>
        <p:spPr>
          <a:xfrm>
            <a:off x="7667640" y="404640"/>
            <a:ext cx="1238040" cy="123804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11" descr="48"/>
          <p:cNvPicPr/>
          <p:nvPr/>
        </p:nvPicPr>
        <p:blipFill>
          <a:blip r:embed="rId3"/>
          <a:stretch/>
        </p:blipFill>
        <p:spPr>
          <a:xfrm>
            <a:off x="611280" y="3645000"/>
            <a:ext cx="1976040" cy="21603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8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00"/>
                            </p:stCondLst>
                            <p:childTnLst>
                              <p:par>
                                <p:cTn id="36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9852 L 0.04253 0.75948 E">
                                      <p:cBhvr>
                                        <p:cTn id="3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3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285840" y="0"/>
            <a:ext cx="885780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щеры в снегу рыли реб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рали они в игру «медвежата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лубокий тоннель прорыли о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о выход оттуда найти не смог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untitle90"/>
          <p:cNvPicPr/>
          <p:nvPr/>
        </p:nvPicPr>
        <p:blipFill>
          <a:blip r:embed="rId1"/>
          <a:stretch/>
        </p:blipFill>
        <p:spPr>
          <a:xfrm>
            <a:off x="3059280" y="2924280"/>
            <a:ext cx="5148000" cy="367164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6" descr="8387439bae733029d081bb2a53ef4a82"/>
          <p:cNvPicPr/>
          <p:nvPr/>
        </p:nvPicPr>
        <p:blipFill>
          <a:blip r:embed="rId2"/>
          <a:stretch/>
        </p:blipFill>
        <p:spPr>
          <a:xfrm>
            <a:off x="-1895400" y="4869000"/>
            <a:ext cx="1895040" cy="1638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100"/>
                            </p:stCondLst>
                            <p:childTnLst>
                              <p:par>
                                <p:cTn id="38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60315E-007 L 0.37014 -8.60315E-007 E">
                                      <p:cBhvr>
                                        <p:cTn id="38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1258159790_517817587_509060"/>
          <p:cNvPicPr/>
          <p:nvPr/>
        </p:nvPicPr>
        <p:blipFill>
          <a:blip r:embed="rId2"/>
          <a:stretch/>
        </p:blipFill>
        <p:spPr>
          <a:xfrm>
            <a:off x="7093080" y="476280"/>
            <a:ext cx="1815840" cy="2420640"/>
          </a:xfrm>
          <a:prstGeom prst="rect">
            <a:avLst/>
          </a:prstGeom>
          <a:ln w="9525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57120" y="369720"/>
            <a:ext cx="7929360" cy="252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Если за окном метел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ы ложись скорей в п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из дома не х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погоду переж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newy41"/>
          <p:cNvPicPr/>
          <p:nvPr/>
        </p:nvPicPr>
        <p:blipFill>
          <a:blip r:embed="rId3"/>
          <a:stretch/>
        </p:blipFill>
        <p:spPr>
          <a:xfrm>
            <a:off x="539640" y="4653000"/>
            <a:ext cx="2161800" cy="193176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7" descr="2ec3c2e82265474d2531fe8290be5514"/>
          <p:cNvPicPr/>
          <p:nvPr/>
        </p:nvPicPr>
        <p:blipFill>
          <a:blip r:embed="rId4"/>
          <a:stretch/>
        </p:blipFill>
        <p:spPr>
          <a:xfrm>
            <a:off x="6588000" y="260280"/>
            <a:ext cx="1114200" cy="1009440"/>
          </a:xfrm>
          <a:prstGeom prst="rect">
            <a:avLst/>
          </a:prstGeom>
          <a:ln w="9525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1169 из 2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00280"/>
            <a:ext cx="2285640" cy="3095280"/>
          </a:xfrm>
          <a:prstGeom prst="rect">
            <a:avLst/>
          </a:prstGeom>
          <a:ln w="9525">
            <a:noFill/>
          </a:ln>
        </p:spPr>
      </p:pic>
      <p:sp>
        <p:nvSpPr>
          <p:cNvPr id="154" name="TextBox 2"/>
          <p:cNvSpPr/>
          <p:nvPr/>
        </p:nvSpPr>
        <p:spPr>
          <a:xfrm>
            <a:off x="142920" y="0"/>
            <a:ext cx="83577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нег  летает и круж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под ноги к нам лож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рот его ты не бер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 весь грязный изнут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рязь – вредна, она опас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ней микробы – это я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schaste"/>
          <p:cNvPicPr/>
          <p:nvPr/>
        </p:nvPicPr>
        <p:blipFill>
          <a:blip r:embed="rId3"/>
          <a:stretch/>
        </p:blipFill>
        <p:spPr>
          <a:xfrm>
            <a:off x="6877080" y="260280"/>
            <a:ext cx="1847520" cy="178092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7" descr="fb9530dbf3139944f2672bbbdc1db78c"/>
          <p:cNvPicPr/>
          <p:nvPr/>
        </p:nvPicPr>
        <p:blipFill>
          <a:blip r:embed="rId4"/>
          <a:stretch/>
        </p:blipFill>
        <p:spPr>
          <a:xfrm>
            <a:off x="3400560" y="4221000"/>
            <a:ext cx="1642680" cy="201564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10" descr="00000001_801"/>
          <p:cNvPicPr/>
          <p:nvPr/>
        </p:nvPicPr>
        <p:blipFill>
          <a:blip r:embed="rId5"/>
          <a:stretch/>
        </p:blipFill>
        <p:spPr>
          <a:xfrm>
            <a:off x="5364000" y="3573360"/>
            <a:ext cx="2912760" cy="2912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2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4176360" cy="221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оди зимой по льду: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жешь ты попасть в беду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лунку или в полынью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загубишь жизнь свою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6" descr="effe52b2227b1454da753c4755634cb6"/>
          <p:cNvPicPr/>
          <p:nvPr/>
        </p:nvPicPr>
        <p:blipFill>
          <a:blip r:embed="rId2"/>
          <a:stretch/>
        </p:blipFill>
        <p:spPr>
          <a:xfrm>
            <a:off x="4284720" y="1052640"/>
            <a:ext cx="4858920" cy="47494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57120" y="357120"/>
            <a:ext cx="7500600" cy="264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мороз начнёт кус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шь морж идёт тогда куп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будешь закалятьс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бе мороза не бо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ostya-piter-576x768"/>
          <p:cNvPicPr/>
          <p:nvPr/>
        </p:nvPicPr>
        <p:blipFill>
          <a:blip r:embed="rId2"/>
          <a:stretch/>
        </p:blipFill>
        <p:spPr>
          <a:xfrm>
            <a:off x="5796000" y="2781360"/>
            <a:ext cx="2925360" cy="390168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6" descr="morgy09_2"/>
          <p:cNvPicPr/>
          <p:nvPr/>
        </p:nvPicPr>
        <p:blipFill>
          <a:blip r:embed="rId3"/>
          <a:stretch/>
        </p:blipFill>
        <p:spPr>
          <a:xfrm>
            <a:off x="900000" y="2852640"/>
            <a:ext cx="2823840" cy="371592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7" descr="f45366990c43291a3d46ecee707e2524"/>
          <p:cNvPicPr/>
          <p:nvPr/>
        </p:nvPicPr>
        <p:blipFill>
          <a:blip r:embed="rId4"/>
          <a:stretch/>
        </p:blipFill>
        <p:spPr>
          <a:xfrm>
            <a:off x="7308720" y="404640"/>
            <a:ext cx="1598400" cy="201564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9" descr="39"/>
          <p:cNvPicPr/>
          <p:nvPr/>
        </p:nvPicPr>
        <p:blipFill>
          <a:blip r:embed="rId5"/>
          <a:stretch/>
        </p:blipFill>
        <p:spPr>
          <a:xfrm>
            <a:off x="4211640" y="4149720"/>
            <a:ext cx="1266480" cy="2376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6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1042920" y="189000"/>
            <a:ext cx="7957800" cy="374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ила эти помни всегд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Чтоб не случилась с тобою б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мни, жизнь всего од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ольше всех она важ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елка"/>
          <p:cNvPicPr/>
          <p:nvPr/>
        </p:nvPicPr>
        <p:blipFill>
          <a:blip r:embed="rId2"/>
          <a:stretch/>
        </p:blipFill>
        <p:spPr>
          <a:xfrm>
            <a:off x="250920" y="4049640"/>
            <a:ext cx="2096640" cy="280800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8" descr="a86ae4b4ba5804030960ec85e4b24d13"/>
          <p:cNvPicPr/>
          <p:nvPr/>
        </p:nvPicPr>
        <p:blipFill>
          <a:blip r:embed="rId3"/>
          <a:stretch/>
        </p:blipFill>
        <p:spPr>
          <a:xfrm>
            <a:off x="6659640" y="4581360"/>
            <a:ext cx="2072880" cy="208872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13" descr="star7"/>
          <p:cNvPicPr/>
          <p:nvPr/>
        </p:nvPicPr>
        <p:blipFill>
          <a:blip r:embed="rId4"/>
          <a:stretch/>
        </p:blipFill>
        <p:spPr>
          <a:xfrm>
            <a:off x="539640" y="2349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14" descr="star7"/>
          <p:cNvPicPr/>
          <p:nvPr/>
        </p:nvPicPr>
        <p:blipFill>
          <a:blip r:embed="rId5"/>
          <a:stretch/>
        </p:blipFill>
        <p:spPr>
          <a:xfrm>
            <a:off x="7740720" y="357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15" descr="star7"/>
          <p:cNvPicPr/>
          <p:nvPr/>
        </p:nvPicPr>
        <p:blipFill>
          <a:blip r:embed="rId6"/>
          <a:stretch/>
        </p:blipFill>
        <p:spPr>
          <a:xfrm>
            <a:off x="468360" y="112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16" descr="star7"/>
          <p:cNvPicPr/>
          <p:nvPr/>
        </p:nvPicPr>
        <p:blipFill>
          <a:blip r:embed="rId7"/>
          <a:stretch/>
        </p:blipFill>
        <p:spPr>
          <a:xfrm>
            <a:off x="395280" y="465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17" descr="star7"/>
          <p:cNvPicPr/>
          <p:nvPr/>
        </p:nvPicPr>
        <p:blipFill>
          <a:blip r:embed="rId8"/>
          <a:stretch/>
        </p:blipFill>
        <p:spPr>
          <a:xfrm>
            <a:off x="611280" y="3645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18" descr="star7"/>
          <p:cNvPicPr/>
          <p:nvPr/>
        </p:nvPicPr>
        <p:blipFill>
          <a:blip r:embed="rId9"/>
          <a:stretch/>
        </p:blipFill>
        <p:spPr>
          <a:xfrm>
            <a:off x="5003640" y="616572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19" descr="star7"/>
          <p:cNvPicPr/>
          <p:nvPr/>
        </p:nvPicPr>
        <p:blipFill>
          <a:blip r:embed="rId10"/>
          <a:stretch/>
        </p:blipFill>
        <p:spPr>
          <a:xfrm>
            <a:off x="2987640" y="609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0" descr="star7"/>
          <p:cNvPicPr/>
          <p:nvPr/>
        </p:nvPicPr>
        <p:blipFill>
          <a:blip r:embed="rId11"/>
          <a:stretch/>
        </p:blipFill>
        <p:spPr>
          <a:xfrm>
            <a:off x="8459640" y="2708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21" descr="star7"/>
          <p:cNvPicPr/>
          <p:nvPr/>
        </p:nvPicPr>
        <p:blipFill>
          <a:blip r:embed="rId12"/>
          <a:stretch/>
        </p:blipFill>
        <p:spPr>
          <a:xfrm>
            <a:off x="8244000" y="1916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22" descr="star7"/>
          <p:cNvPicPr/>
          <p:nvPr/>
        </p:nvPicPr>
        <p:blipFill>
          <a:blip r:embed="rId13"/>
          <a:stretch/>
        </p:blipFill>
        <p:spPr>
          <a:xfrm>
            <a:off x="5796000" y="407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23" descr="star7"/>
          <p:cNvPicPr/>
          <p:nvPr/>
        </p:nvPicPr>
        <p:blipFill>
          <a:blip r:embed="rId14"/>
          <a:stretch/>
        </p:blipFill>
        <p:spPr>
          <a:xfrm>
            <a:off x="2195640" y="4437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24" descr="star7"/>
          <p:cNvPicPr/>
          <p:nvPr/>
        </p:nvPicPr>
        <p:blipFill>
          <a:blip r:embed="rId15"/>
          <a:stretch/>
        </p:blipFill>
        <p:spPr>
          <a:xfrm>
            <a:off x="7308720" y="1557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5" descr="star7"/>
          <p:cNvPicPr/>
          <p:nvPr/>
        </p:nvPicPr>
        <p:blipFill>
          <a:blip r:embed="rId16"/>
          <a:stretch/>
        </p:blipFill>
        <p:spPr>
          <a:xfrm>
            <a:off x="8101080" y="33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6" descr="star7"/>
          <p:cNvPicPr/>
          <p:nvPr/>
        </p:nvPicPr>
        <p:blipFill>
          <a:blip r:embed="rId17"/>
          <a:stretch/>
        </p:blipFill>
        <p:spPr>
          <a:xfrm>
            <a:off x="8244000" y="400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27" descr="star7"/>
          <p:cNvPicPr/>
          <p:nvPr/>
        </p:nvPicPr>
        <p:blipFill>
          <a:blip r:embed="rId18"/>
          <a:stretch/>
        </p:blipFill>
        <p:spPr>
          <a:xfrm>
            <a:off x="4140360" y="551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28" descr="star7"/>
          <p:cNvPicPr/>
          <p:nvPr/>
        </p:nvPicPr>
        <p:blipFill>
          <a:blip r:embed="rId19"/>
          <a:stretch/>
        </p:blipFill>
        <p:spPr>
          <a:xfrm>
            <a:off x="6084720" y="6165720"/>
            <a:ext cx="495000" cy="437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0330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С наступающим Новым годом!!!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езентации использованы стих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.Звягинцевой, А.Кротова ,З.Ф.Богапов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ихотворение «Ура! Каникулы!» взято с сайта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tihi.ru/2008/11/16/107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томатериалы взяты из Интерне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79280" y="189000"/>
            <a:ext cx="8642160" cy="593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! Каникулы! Каникулы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утра до ночи можно много, 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и гонять на льду в хокк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за пол года изучили много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енье клеток и решенье теор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ванья рек по географии пр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т каникулы веселые при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на каникулах встречаем Нов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со Снегурочкою кружим хоров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ходит сказка и приходит Дед Мо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зле ёлочки смеёмся мы до сле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 каникулы! Каникулы у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5dd8b6520963ef62f768b6a0099f7081"/>
          <p:cNvPicPr/>
          <p:nvPr/>
        </p:nvPicPr>
        <p:blipFill>
          <a:blip r:embed="rId2"/>
          <a:stretch/>
        </p:blipFill>
        <p:spPr>
          <a:xfrm>
            <a:off x="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10" descr="5dd8b6520963ef62f768b6a0099f7081"/>
          <p:cNvPicPr/>
          <p:nvPr/>
        </p:nvPicPr>
        <p:blipFill>
          <a:blip r:embed="rId3"/>
          <a:stretch/>
        </p:blipFill>
        <p:spPr>
          <a:xfrm>
            <a:off x="730872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11" descr="5dd8b6520963ef62f768b6a0099f7081"/>
          <p:cNvPicPr/>
          <p:nvPr/>
        </p:nvPicPr>
        <p:blipFill>
          <a:blip r:embed="rId4"/>
          <a:stretch/>
        </p:blipFill>
        <p:spPr>
          <a:xfrm>
            <a:off x="817236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12" descr="5dd8b6520963ef62f768b6a0099f7081"/>
          <p:cNvPicPr/>
          <p:nvPr/>
        </p:nvPicPr>
        <p:blipFill>
          <a:blip r:embed="rId5"/>
          <a:stretch/>
        </p:blipFill>
        <p:spPr>
          <a:xfrm>
            <a:off x="55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3" descr="5dd8b6520963ef62f768b6a0099f7081"/>
          <p:cNvPicPr/>
          <p:nvPr/>
        </p:nvPicPr>
        <p:blipFill>
          <a:blip r:embed="rId6"/>
          <a:stretch/>
        </p:blipFill>
        <p:spPr>
          <a:xfrm>
            <a:off x="6443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14" descr="5dd8b6520963ef62f768b6a0099f7081"/>
          <p:cNvPicPr/>
          <p:nvPr/>
        </p:nvPicPr>
        <p:blipFill>
          <a:blip r:embed="rId7"/>
          <a:stretch/>
        </p:blipFill>
        <p:spPr>
          <a:xfrm>
            <a:off x="37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5" descr="5dd8b6520963ef62f768b6a0099f7081"/>
          <p:cNvPicPr/>
          <p:nvPr/>
        </p:nvPicPr>
        <p:blipFill>
          <a:blip r:embed="rId8"/>
          <a:stretch/>
        </p:blipFill>
        <p:spPr>
          <a:xfrm>
            <a:off x="46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6" descr="5dd8b6520963ef62f768b6a0099f7081"/>
          <p:cNvPicPr/>
          <p:nvPr/>
        </p:nvPicPr>
        <p:blipFill>
          <a:blip r:embed="rId9"/>
          <a:stretch/>
        </p:blipFill>
        <p:spPr>
          <a:xfrm>
            <a:off x="1908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7" descr="5dd8b6520963ef62f768b6a0099f7081"/>
          <p:cNvPicPr/>
          <p:nvPr/>
        </p:nvPicPr>
        <p:blipFill>
          <a:blip r:embed="rId10"/>
          <a:stretch/>
        </p:blipFill>
        <p:spPr>
          <a:xfrm>
            <a:off x="28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8" descr="5dd8b6520963ef62f768b6a0099f7081"/>
          <p:cNvPicPr/>
          <p:nvPr/>
        </p:nvPicPr>
        <p:blipFill>
          <a:blip r:embed="rId11"/>
          <a:stretch/>
        </p:blipFill>
        <p:spPr>
          <a:xfrm>
            <a:off x="971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20" descr="d0c9aecd4365d6bf64432cd0a0328083"/>
          <p:cNvPicPr/>
          <p:nvPr/>
        </p:nvPicPr>
        <p:blipFill>
          <a:blip r:embed="rId12"/>
          <a:stretch/>
        </p:blipFill>
        <p:spPr>
          <a:xfrm>
            <a:off x="8039160" y="4724280"/>
            <a:ext cx="1104480" cy="160920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21" descr="2ddc887fdf59507d5f4ceef720a00df2"/>
          <p:cNvPicPr/>
          <p:nvPr/>
        </p:nvPicPr>
        <p:blipFill>
          <a:blip r:embed="rId13"/>
          <a:stretch/>
        </p:blipFill>
        <p:spPr>
          <a:xfrm>
            <a:off x="7812000" y="0"/>
            <a:ext cx="1888920" cy="18889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22" descr="snow"/>
          <p:cNvPicPr/>
          <p:nvPr/>
        </p:nvPicPr>
        <p:blipFill>
          <a:blip r:embed="rId14"/>
          <a:stretch/>
        </p:blipFill>
        <p:spPr>
          <a:xfrm>
            <a:off x="8388360" y="191628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23" descr="snow"/>
          <p:cNvPicPr/>
          <p:nvPr/>
        </p:nvPicPr>
        <p:blipFill>
          <a:blip r:embed="rId15"/>
          <a:stretch/>
        </p:blipFill>
        <p:spPr>
          <a:xfrm>
            <a:off x="8388360" y="314172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3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2.57169E-006 L 0.00782 -0.90217 E">
                                      <p:cBhvr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0.0177 -0.9031 E">
                                      <p:cBhvr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4301 L 0.00209 -0.9031 E">
                                      <p:cBhvr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383 L 0.00208 -0.9031 E">
                                      <p:cBhvr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-0.01389 -0.9031 E">
                                      <p:cBhvr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4680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шла зима. Трещат морозы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щиплет уши ,щёки, нос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денься лучше потеплее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б очень сильно не замёр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780d316d09451072870ca9d7eeb62060"/>
          <p:cNvPicPr/>
          <p:nvPr/>
        </p:nvPicPr>
        <p:blipFill>
          <a:blip r:embed="rId2"/>
          <a:stretch/>
        </p:blipFill>
        <p:spPr>
          <a:xfrm>
            <a:off x="0" y="5229360"/>
            <a:ext cx="1234800" cy="1628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5" descr="60eec5a934fb0c1ca602bb96c4b9c1d0"/>
          <p:cNvPicPr/>
          <p:nvPr/>
        </p:nvPicPr>
        <p:blipFill>
          <a:blip r:embed="rId3"/>
          <a:stretch/>
        </p:blipFill>
        <p:spPr>
          <a:xfrm>
            <a:off x="6877080" y="4699080"/>
            <a:ext cx="1517400" cy="21585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100"/>
                            </p:stCondLst>
                            <p:childTnLst>
                              <p:par>
                                <p:cTn id="5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13228E-006 L 0.30712 -0.26225 E">
                                      <p:cBhvr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6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26226 L 9.44444E-006 0.01064 E">
                                      <p:cBhvr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6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04995E-006 L -0.19688 -0.33579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100"/>
                            </p:stCondLst>
                            <p:childTnLst>
                              <p:par>
                                <p:cTn id="6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-0.3358 L 0.00781 0.01041 E">
                                      <p:cBhvr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46240"/>
            <a:ext cx="5435280" cy="447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любишь с ветерком Лихо пока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машины част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ишь зац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, плохо ты 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збуку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 легко переломать руки , да и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1002464"/>
          <p:cNvPicPr/>
          <p:nvPr/>
        </p:nvPicPr>
        <p:blipFill>
          <a:blip r:embed="rId2"/>
          <a:stretch/>
        </p:blipFill>
        <p:spPr>
          <a:xfrm>
            <a:off x="5292720" y="260280"/>
            <a:ext cx="3593880" cy="504144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9" descr="ed209e1e422387281c64e9be1b8da85e"/>
          <p:cNvPicPr/>
          <p:nvPr/>
        </p:nvPicPr>
        <p:blipFill>
          <a:blip r:embed="rId3"/>
          <a:stretch/>
        </p:blipFill>
        <p:spPr>
          <a:xfrm>
            <a:off x="17928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11" descr="ed209e1e422387281c64e9be1b8da85e"/>
          <p:cNvPicPr/>
          <p:nvPr/>
        </p:nvPicPr>
        <p:blipFill>
          <a:blip r:embed="rId4"/>
          <a:stretch/>
        </p:blipFill>
        <p:spPr>
          <a:xfrm>
            <a:off x="118728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16" descr="ed209e1e422387281c64e9be1b8da85e"/>
          <p:cNvPicPr/>
          <p:nvPr/>
        </p:nvPicPr>
        <p:blipFill>
          <a:blip r:embed="rId5"/>
          <a:stretch/>
        </p:blipFill>
        <p:spPr>
          <a:xfrm>
            <a:off x="-97308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7" descr="ed209e1e422387281c64e9be1b8da85e"/>
          <p:cNvPicPr/>
          <p:nvPr/>
        </p:nvPicPr>
        <p:blipFill>
          <a:blip r:embed="rId6"/>
          <a:stretch/>
        </p:blipFill>
        <p:spPr>
          <a:xfrm>
            <a:off x="-212400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18" descr="ed209e1e422387281c64e9be1b8da85e"/>
          <p:cNvPicPr/>
          <p:nvPr/>
        </p:nvPicPr>
        <p:blipFill>
          <a:blip r:embed="rId7"/>
          <a:stretch/>
        </p:blipFill>
        <p:spPr>
          <a:xfrm>
            <a:off x="-334980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19" descr="ed209e1e422387281c64e9be1b8da85e"/>
          <p:cNvPicPr/>
          <p:nvPr/>
        </p:nvPicPr>
        <p:blipFill>
          <a:blip r:embed="rId8"/>
          <a:stretch/>
        </p:blipFill>
        <p:spPr>
          <a:xfrm>
            <a:off x="-4500720" y="501336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20" descr="ed209e1e422387281c64e9be1b8da85e"/>
          <p:cNvPicPr/>
          <p:nvPr/>
        </p:nvPicPr>
        <p:blipFill>
          <a:blip r:embed="rId9"/>
          <a:stretch/>
        </p:blipFill>
        <p:spPr>
          <a:xfrm>
            <a:off x="-6300720" y="5013360"/>
            <a:ext cx="1266480" cy="153324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9325E-006 L 0.84253 -3.29325E-006 E">
                                      <p:cBhvr>
                                        <p:cTn id="11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025E-007 L 0.63785 -0.01041 E">
                                      <p:cBhvr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259E-006 L 0.76389 -0.01041 E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025E-007 L 0.76372 3.33025E-007 E">
                                      <p:cBhvr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7188 2.03515E-006 E">
                                      <p:cBhvr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03515E-006 L 0.75608 2.03515E-006 E">
                                      <p:cBhvr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559 0.01041 E">
                                      <p:cBhvr>
                                        <p:cTn id="1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189000"/>
            <a:ext cx="698148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гда на санках быстро ед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горы высокой прямо вн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ы друга можешь не зам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ждёт тебя ,конечно, гип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click?url=http%3A%2F%2Ftyumen"/>
          <p:cNvPicPr/>
          <p:nvPr/>
        </p:nvPicPr>
        <p:blipFill>
          <a:blip r:embed="rId2"/>
          <a:stretch/>
        </p:blipFill>
        <p:spPr>
          <a:xfrm>
            <a:off x="826920" y="3141720"/>
            <a:ext cx="4249440" cy="31888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9" descr="b11cdcd8c4e41d949a390a0ac4ed8342"/>
          <p:cNvPicPr/>
          <p:nvPr/>
        </p:nvPicPr>
        <p:blipFill>
          <a:blip r:embed="rId3"/>
          <a:stretch/>
        </p:blipFill>
        <p:spPr>
          <a:xfrm>
            <a:off x="7093080" y="260280"/>
            <a:ext cx="1742760" cy="174276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12" descr="c2d0368ff7e2"/>
          <p:cNvPicPr/>
          <p:nvPr/>
        </p:nvPicPr>
        <p:blipFill>
          <a:blip r:embed="rId4"/>
          <a:stretch/>
        </p:blipFill>
        <p:spPr>
          <a:xfrm>
            <a:off x="6948360" y="5229360"/>
            <a:ext cx="1164960" cy="116496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15" descr="д"/>
          <p:cNvPicPr/>
          <p:nvPr/>
        </p:nvPicPr>
        <p:blipFill>
          <a:blip r:embed="rId5"/>
          <a:stretch/>
        </p:blipFill>
        <p:spPr>
          <a:xfrm>
            <a:off x="5940360" y="2276640"/>
            <a:ext cx="2584080" cy="2592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100"/>
                            </p:stCondLst>
                            <p:childTnLst>
                              <p:par>
                                <p:cTn id="18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506E-006 L -0.74028 0.19936 E">
                                      <p:cBhvr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100"/>
                            </p:stCondLst>
                            <p:childTnLst>
                              <p:par>
                                <p:cTn id="1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89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3.9778E-007 L 0.00972 3.9778E-007 E">
                                      <p:cBhvr>
                                        <p:cTn id="1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s4134_1258120140_1"/>
          <p:cNvPicPr/>
          <p:nvPr/>
        </p:nvPicPr>
        <p:blipFill>
          <a:blip r:embed="rId2"/>
          <a:stretch/>
        </p:blipFill>
        <p:spPr>
          <a:xfrm>
            <a:off x="4643280" y="260280"/>
            <a:ext cx="4211280" cy="2841120"/>
          </a:xfrm>
          <a:prstGeom prst="rect">
            <a:avLst/>
          </a:prstGeom>
          <a:ln w="9525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675280" cy="264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к прекра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 у дорог-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всегда опасно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чатся по дорога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стрые машин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е попасть вы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ямо к ним под шины.</a:t>
            </a: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12" descr="1259556050_konkursbig"/>
          <p:cNvPicPr/>
          <p:nvPr/>
        </p:nvPicPr>
        <p:blipFill>
          <a:blip r:embed="rId3"/>
          <a:stretch/>
        </p:blipFill>
        <p:spPr>
          <a:xfrm>
            <a:off x="2700360" y="3860640"/>
            <a:ext cx="5249520" cy="262548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13" descr="fa0f18dbae16ae8e6888978a1d201394"/>
          <p:cNvPicPr/>
          <p:nvPr/>
        </p:nvPicPr>
        <p:blipFill>
          <a:blip r:embed="rId4"/>
          <a:stretch/>
        </p:blipFill>
        <p:spPr>
          <a:xfrm>
            <a:off x="611280" y="4365720"/>
            <a:ext cx="1561680" cy="16570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8"/>
          <p:cNvSpPr/>
          <p:nvPr/>
        </p:nvSpPr>
        <p:spPr>
          <a:xfrm>
            <a:off x="3857760" y="2714760"/>
            <a:ext cx="24998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2286000" y="2644920"/>
            <a:ext cx="457164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0" y="2133720"/>
            <a:ext cx="75006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под крышей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 крыше снег и лё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сульки могут пад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кто-то и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_222d6_988d16f4_XL"/>
          <p:cNvPicPr/>
          <p:nvPr/>
        </p:nvPicPr>
        <p:blipFill>
          <a:blip r:embed="rId2"/>
          <a:stretch/>
        </p:blipFill>
        <p:spPr>
          <a:xfrm>
            <a:off x="5330880" y="1413000"/>
            <a:ext cx="3812760" cy="50842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4" descr="sm"/>
          <p:cNvPicPr/>
          <p:nvPr/>
        </p:nvPicPr>
        <p:blipFill>
          <a:blip r:embed="rId2"/>
          <a:stretch/>
        </p:blipFill>
        <p:spPr>
          <a:xfrm>
            <a:off x="2124000" y="2592360"/>
            <a:ext cx="5689080" cy="4265280"/>
          </a:xfrm>
          <a:prstGeom prst="rect">
            <a:avLst/>
          </a:prstGeom>
          <a:ln w="9525">
            <a:noFill/>
          </a:ln>
        </p:spPr>
      </p:pic>
      <p:sp>
        <p:nvSpPr>
          <p:cNvPr id="126" name="TextBox 1"/>
          <p:cNvSpPr/>
          <p:nvPr/>
        </p:nvSpPr>
        <p:spPr>
          <a:xfrm>
            <a:off x="250920" y="189000"/>
            <a:ext cx="72007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мороз до минус двадц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 друзьями ты идёшь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 прежде ,чем в снежки игр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омни, лёд нельзя брос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9a55ab6439131b9664ba9b02caca30bc"/>
          <p:cNvPicPr/>
          <p:nvPr/>
        </p:nvPicPr>
        <p:blipFill>
          <a:blip r:embed="rId3"/>
          <a:stretch/>
        </p:blipFill>
        <p:spPr>
          <a:xfrm>
            <a:off x="7040520" y="0"/>
            <a:ext cx="2103120" cy="210312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7" descr="8c52cc508b4ef9be2e3314bf7c7d8543"/>
          <p:cNvPicPr/>
          <p:nvPr/>
        </p:nvPicPr>
        <p:blipFill>
          <a:blip r:embed="rId4"/>
          <a:stretch/>
        </p:blipFill>
        <p:spPr>
          <a:xfrm>
            <a:off x="0" y="5403960"/>
            <a:ext cx="3293640" cy="145368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10" descr="83f1e75717b5fa86d7738b0177522c82"/>
          <p:cNvPicPr/>
          <p:nvPr/>
        </p:nvPicPr>
        <p:blipFill>
          <a:blip r:embed="rId5"/>
          <a:stretch/>
        </p:blipFill>
        <p:spPr>
          <a:xfrm>
            <a:off x="7381800" y="5172120"/>
            <a:ext cx="1761840" cy="16855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50920" y="260280"/>
            <a:ext cx="792936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лки лыжные остр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ми сильно не ма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жешь другу навред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лаз ему один подб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lick?url=http%3A%2F%2Fwww"/>
          <p:cNvPicPr/>
          <p:nvPr/>
        </p:nvPicPr>
        <p:blipFill>
          <a:blip r:embed="rId2"/>
          <a:stretch/>
        </p:blipFill>
        <p:spPr>
          <a:xfrm>
            <a:off x="2484360" y="2997360"/>
            <a:ext cx="5333760" cy="361908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7" descr="f1be40646cca1d8e57f6f80000a82835"/>
          <p:cNvPicPr/>
          <p:nvPr/>
        </p:nvPicPr>
        <p:blipFill>
          <a:blip r:embed="rId3"/>
          <a:stretch/>
        </p:blipFill>
        <p:spPr>
          <a:xfrm>
            <a:off x="7596360" y="-674640"/>
            <a:ext cx="2693520" cy="20966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8" descr="a7c9f285a96ee2d4fffdc8da8af4c432"/>
          <p:cNvPicPr/>
          <p:nvPr/>
        </p:nvPicPr>
        <p:blipFill>
          <a:blip r:embed="rId4"/>
          <a:stretch/>
        </p:blipFill>
        <p:spPr>
          <a:xfrm>
            <a:off x="7740720" y="1989000"/>
            <a:ext cx="1179000" cy="117900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9" descr="ece3f295188d5c4003755c539c37338e"/>
          <p:cNvPicPr/>
          <p:nvPr/>
        </p:nvPicPr>
        <p:blipFill>
          <a:blip r:embed="rId5"/>
          <a:stretch/>
        </p:blipFill>
        <p:spPr>
          <a:xfrm>
            <a:off x="0" y="2924280"/>
            <a:ext cx="1825200" cy="18252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2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7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200"/>
                            </p:stCondLst>
                            <p:childTnLst>
                              <p:par>
                                <p:cTn id="29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26457E-006 C -0.17187 0.11702 -0.34375 0.23428 -0.41962 0.28515 C -0.49549 0.33603 -0.44878 0.30227 -0.45486 0.30574 E">
                                      <p:cBhvr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29047E-006 C 0.34791 0.09205 0.69583 0.18433 0.83385 0.22133 E">
                                      <p:cBhvr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7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876E-007 L -0.82691 0.52451 E">
                                      <p:cBhvr>
                                        <p:cTn id="3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  <Words>412</Words>
  <Paragraphs>76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4:09:56Z</dcterms:created>
  <dc:creator>Рустемка</dc:creator>
  <dc:description/>
  <dc:language>en-US</dc:language>
  <cp:lastModifiedBy>HP</cp:lastModifiedBy>
  <dcterms:modified xsi:type="dcterms:W3CDTF">2018-08-01T20:19:56Z</dcterms:modified>
  <cp:revision>2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