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61CD-01B5-4417-97B1-AF73464284C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5A88-B2C9-4463-AE0E-477EF5731F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712B-FE4C-4009-B30D-1D65B0277E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7CF2-DB19-4F67-8F32-73B5F8BBBF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7E48-075F-449D-B64A-106802133CB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835C5-D64B-4D2E-A47C-367FCED79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1C322-D870-44B9-A13F-934FD027C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420F2-03F1-4E0D-ACBA-F4CD46074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B02C0-EE6F-47C6-9D44-E64EAF6C2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79D00-AC57-4231-9B68-C8D40B261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BB65A-7B70-498F-B3B1-DC1BCD2C6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CE425-ABA8-4411-8158-5562C9740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0E0F3-1D1A-478B-A1A9-109DA7FAB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7C312-4AF8-469B-A364-3861E0328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BA026-E20C-42DA-ADC3-0FD74EF76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39C3C-431F-40CF-BBED-8B03F6241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8E6F-DA08-4012-9A70-C9E530AC4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90109-A828-42E4-9C5A-FCECEAD42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4B7D8-E44A-4751-A1C5-64630D093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AFBDA-5C07-49B8-B6FA-226E197C0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2CAE1-525E-4D0C-A669-DFAB0F83E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8EAB6-CF13-425B-859C-A2A92B655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3FFDE-E9AA-4140-9328-0AC070D05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58C7F-DF18-451F-82ED-2D6BFAD5F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8E841-E755-4592-8AA8-D1601E03F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6C597-496F-408E-A0E6-E8F75AC70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BAAB4-C046-47C9-9E87-E8AB00CDD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2D0A5-4143-435C-94ED-9FCCFE2F4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68E8-04E4-4264-B853-57158B4CC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6539-4C38-4196-AB4B-6E05335E4BD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C83D-5562-439E-B62B-3E339934C7CB}"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6"/>
          <p:cNvSpPr/>
          <p:nvPr/>
        </p:nvSpPr>
        <p:spPr>
          <a:xfrm>
            <a:off x="1377000" y="1650960"/>
            <a:ext cx="615636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ЕКТНАЯ   РАБОТА</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йна и моя семьи»</a:t>
            </a:r>
            <a:endParaRPr b="0" lang="en-US" sz="4400" spc="-1" strike="noStrike">
              <a:solidFill>
                <a:srgbClr val="000000"/>
              </a:solidFill>
              <a:latin typeface="Arial"/>
            </a:endParaRPr>
          </a:p>
        </p:txBody>
      </p:sp>
      <p:sp>
        <p:nvSpPr>
          <p:cNvPr id="90" name="Text Box 8"/>
          <p:cNvSpPr/>
          <p:nvPr/>
        </p:nvSpPr>
        <p:spPr>
          <a:xfrm>
            <a:off x="3939120" y="4797360"/>
            <a:ext cx="45392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нитель: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орваева Айлана, ученица 4 класс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уководитель: Альчинова Н.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120" name="TextBox 2"/>
          <p:cNvSpPr/>
          <p:nvPr/>
        </p:nvSpPr>
        <p:spPr>
          <a:xfrm>
            <a:off x="395280" y="18900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неных она  перевязывала, лечила, кормила, ухаживала за ними. Из ее воспоминаний: «Вокруг стрельба, грохот, дым, а я тащу на себе раненного солдата и все думаю, как бы в меня не попали. Было очень страшно и тяжело. Думала о детях, вдруг совсем осиротеют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5" descr="tmp11B-126"/>
          <p:cNvPicPr/>
          <p:nvPr/>
        </p:nvPicPr>
        <p:blipFill>
          <a:blip r:embed="rId1"/>
          <a:stretch/>
        </p:blipFill>
        <p:spPr>
          <a:xfrm>
            <a:off x="2357280" y="2428920"/>
            <a:ext cx="4572000" cy="3773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7" descr="C:\Users\Raider\Desktop\ПЕРВЫЕ ШАГИ В НАУКУ\война и моя семья\DSC02634.JPG"/>
          <p:cNvPicPr/>
          <p:nvPr/>
        </p:nvPicPr>
        <p:blipFill>
          <a:blip r:embed="rId1"/>
          <a:stretch/>
        </p:blipFill>
        <p:spPr>
          <a:xfrm>
            <a:off x="714240" y="1143000"/>
            <a:ext cx="3321360" cy="4429080"/>
          </a:xfrm>
          <a:prstGeom prst="rect">
            <a:avLst/>
          </a:prstGeom>
          <a:ln w="0">
            <a:noFill/>
          </a:ln>
        </p:spPr>
      </p:pic>
      <p:sp>
        <p:nvSpPr>
          <p:cNvPr id="123" name="Прямоугольник 6"/>
          <p:cNvSpPr/>
          <p:nvPr/>
        </p:nvSpPr>
        <p:spPr>
          <a:xfrm>
            <a:off x="4286160" y="67140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мурым и морозным декабрьским утром 1943 г калмыков объявили изменниками  родины и сослали в далекую холодную Сибир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9 января 1957 году вышел указ о реабилитации калмыцкого народа и возвращении их на родину. Прабабушка с сыном Михаилом вернулась в мае 1957 года. Своих домов уже не был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начале 70-х годов прабабушка вышла на пенсию, которой состояла из 8 руб. Но и после пенсии она помогала то там, то здесь. Она была очень трудолюбивой, добросовестной и справедливой. Жила и работала ради своего сына, вынося все невзгоды и трудности, доставшиеся на долю ее суровой жизн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428840" y="1357200"/>
            <a:ext cx="6400800" cy="413856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 2007 году прабабушка отмечала свой 100-летний  юбилей. Приехало очень много гостей ото всюду. Были знакомые и не знакомые. Они говорили о ней с любовью и уважением. И это говорит мне о том, какой она хороший и уважаемый человек. Калмыцким телевидением был выпущен и показан фильм о ней «Җирһлин халһар». Описание ее биографии вошло в книгу под названием «Выдающиеся люди Калмыкии». Стихи о ней вошли в сборник стихов «Белокрылая песня моя». Каждый юбилейный год Победы награждалась медалями. </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Raider\Desktop\ПЕРВЫЕ ШАГИ В НАУКУ\война и моя семья\DSC02629.JPG"/>
          <p:cNvPicPr/>
          <p:nvPr/>
        </p:nvPicPr>
        <p:blipFill>
          <a:blip r:embed="rId1"/>
          <a:stretch/>
        </p:blipFill>
        <p:spPr>
          <a:xfrm>
            <a:off x="571680" y="500040"/>
            <a:ext cx="3749400" cy="5000760"/>
          </a:xfrm>
          <a:prstGeom prst="rect">
            <a:avLst/>
          </a:prstGeom>
          <a:ln w="0">
            <a:noFill/>
          </a:ln>
        </p:spPr>
      </p:pic>
      <p:pic>
        <p:nvPicPr>
          <p:cNvPr id="126" name="Picture 3" descr="C:\Users\Raider\Desktop\ПЕРВЫЕ ШАГИ В НАУКУ\война и моя семья\DSC02628.JPG"/>
          <p:cNvPicPr/>
          <p:nvPr/>
        </p:nvPicPr>
        <p:blipFill>
          <a:blip r:embed="rId2"/>
          <a:stretch/>
        </p:blipFill>
        <p:spPr>
          <a:xfrm>
            <a:off x="4500720" y="500040"/>
            <a:ext cx="4340160" cy="578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14240" y="4071600"/>
            <a:ext cx="7772400" cy="1500120"/>
          </a:xfrm>
          <a:prstGeom prst="rect">
            <a:avLst/>
          </a:prstGeom>
          <a:noFill/>
          <a:ln w="0">
            <a:noFill/>
          </a:ln>
        </p:spPr>
        <p:txBody>
          <a:bodyPr anchor="b">
            <a:normAutofit fontScale="5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ейчас моя прабабушка наверное самая богатая бабушка на свете. Хоть у нее остался один сын, но она имеет 7 внуков, 19 правнуков, 8 праправнуков. Моя прабабушка очень добрый и  светлый человек. И в свои 107 лет она находится в здравом  уме. Всегда дает всем нам мудрые советы. Любит пошутить, посмеяться. Часто рассказывает нам правнуком, праправнуком  истории из жизни наших родителей. Как они росли, учились. Ведь она растила их. Моя мама, любимая внучка и имя ей прабабушка дала свое Буштина. С тех пор она взяла себе другое имя, теперь она Тевкнке.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normal_9may_pictures43"/>
          <p:cNvPicPr/>
          <p:nvPr/>
        </p:nvPicPr>
        <p:blipFill>
          <a:blip r:embed="rId1"/>
          <a:stretch/>
        </p:blipFill>
        <p:spPr>
          <a:xfrm>
            <a:off x="324000" y="333360"/>
            <a:ext cx="8569080" cy="6191280"/>
          </a:xfrm>
          <a:prstGeom prst="rect">
            <a:avLst/>
          </a:prstGeom>
          <a:ln w="0">
            <a:noFill/>
          </a:ln>
        </p:spPr>
      </p:pic>
      <p:sp>
        <p:nvSpPr>
          <p:cNvPr id="129" name="TextBox 5"/>
          <p:cNvSpPr/>
          <p:nvPr/>
        </p:nvSpPr>
        <p:spPr>
          <a:xfrm>
            <a:off x="539640" y="692280"/>
            <a:ext cx="8209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d60093"/>
                </a:solidFill>
                <a:latin typeface="Arial"/>
              </a:rPr>
              <a:t>Я  горжусь моей прабабушкой! </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179280" y="189000"/>
            <a:ext cx="792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Цель: </a:t>
            </a:r>
            <a:r>
              <a:rPr b="0" lang="ru-RU" sz="2400" spc="-1" strike="noStrike">
                <a:solidFill>
                  <a:srgbClr val="000000"/>
                </a:solidFill>
                <a:latin typeface="Arial"/>
              </a:rPr>
              <a:t>на примере биографии моей прабабушки Эрдниевой Тевкнке  Сангаевне  , прошедшей войну , показать мужество, героизм, любовь к Родине, стойкость советского солдата – защитника Отече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3"/>
          <p:cNvSpPr/>
          <p:nvPr/>
        </p:nvSpPr>
        <p:spPr>
          <a:xfrm>
            <a:off x="179280" y="1989000"/>
            <a:ext cx="878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дачи:</a:t>
            </a:r>
            <a:r>
              <a:rPr b="0" lang="ru-RU" sz="2400" spc="-1" strike="noStrike">
                <a:solidFill>
                  <a:srgbClr val="000000"/>
                </a:solidFill>
                <a:latin typeface="Arial"/>
              </a:rPr>
              <a:t>) Изучить и систематизировать документальные источники об истории моей семь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пределить роль моей семьи в истории Великой Отечественной войн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Привлечь внимание моих сверстников к изучению истории Родин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На примере прабабушки воспитывать патриотизм, чувства гордости за свою семь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2"/>
                                        </p:tgtEl>
                                        <p:attrNameLst>
                                          <p:attrName>style.visibility</p:attrName>
                                        </p:attrNameLst>
                                      </p:cBhvr>
                                      <p:to>
                                        <p:strVal val="visible"/>
                                      </p:to>
                                    </p:set>
                                    <p:animEffect filter="wipe(down)" transition="in">
                                      <p:cBhvr additive="repl">
                                        <p:cTn id="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
          <p:cNvSpPr/>
          <p:nvPr/>
        </p:nvSpPr>
        <p:spPr>
          <a:xfrm>
            <a:off x="549720" y="189000"/>
            <a:ext cx="493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рдниева Тевкн  Сангаевна </a:t>
            </a:r>
            <a:endParaRPr b="0" lang="en-US" sz="2800" spc="-1" strike="noStrike">
              <a:solidFill>
                <a:srgbClr val="000000"/>
              </a:solidFill>
              <a:latin typeface="Arial"/>
            </a:endParaRPr>
          </a:p>
        </p:txBody>
      </p:sp>
      <p:pic>
        <p:nvPicPr>
          <p:cNvPr id="94" name="Picture 6" descr="C:\Users\Raider\Desktop\ПЕРВЫЕ ШАГИ В НАУКУ\война и моя семья\DSC02632.JPG"/>
          <p:cNvPicPr/>
          <p:nvPr/>
        </p:nvPicPr>
        <p:blipFill>
          <a:blip r:embed="rId1"/>
          <a:stretch/>
        </p:blipFill>
        <p:spPr>
          <a:xfrm>
            <a:off x="214200" y="1357200"/>
            <a:ext cx="4060800" cy="4286520"/>
          </a:xfrm>
          <a:prstGeom prst="rect">
            <a:avLst/>
          </a:prstGeom>
          <a:ln w="0">
            <a:noFill/>
          </a:ln>
        </p:spPr>
      </p:pic>
      <p:sp>
        <p:nvSpPr>
          <p:cNvPr id="95" name="Прямоугольник 5"/>
          <p:cNvSpPr/>
          <p:nvPr/>
        </p:nvSpPr>
        <p:spPr>
          <a:xfrm>
            <a:off x="4357800" y="164304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одилась 20 мая 1907 году в Волгоградской области в селе Абганерово. Там она росла, училась, провела свою юность. В раннем детстве со своей сестренкой Аней они остались без матери. Их воспитывал дедушка, папа их мамы. Ей рано осиротевшей приходилось не легко. Очень рано она стала помогать по дому, присматривала за сестренкой, нанималась к богатым на работ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611280" y="189000"/>
            <a:ext cx="748800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4"/>
          <p:cNvSpPr/>
          <p:nvPr/>
        </p:nvSpPr>
        <p:spPr>
          <a:xfrm>
            <a:off x="285840" y="4500720"/>
            <a:ext cx="864072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а свой длинный вековой жизненный путь прабабушка повидала и пережила не малое. Она современница Великой октябрьской революции, гражданской войны, рождения СССР, двух Мировых воин, включая Великой Отечественной войны, рождение и становление Калмыкии как автономной Республики, депортации калмыцкого народа в Сибир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98" name="Picture 6" descr="C:\Users\Raider\Desktop\ПЕРВЫЕ ШАГИ В НАУКУ\война и моя семья\DSC02633.JPG"/>
          <p:cNvPicPr/>
          <p:nvPr/>
        </p:nvPicPr>
        <p:blipFill>
          <a:blip r:embed="rId1"/>
          <a:stretch/>
        </p:blipFill>
        <p:spPr>
          <a:xfrm>
            <a:off x="1928880" y="785880"/>
            <a:ext cx="4929120" cy="3697200"/>
          </a:xfrm>
          <a:prstGeom prst="rect">
            <a:avLst/>
          </a:prstGeom>
          <a:ln w="0">
            <a:noFill/>
          </a:ln>
        </p:spPr>
      </p:pic>
      <p:sp>
        <p:nvSpPr>
          <p:cNvPr id="99" name="PlaceHolder 1"/>
          <p:cNvSpPr>
            <a:spLocks noGrp="1"/>
          </p:cNvSpPr>
          <p:nvPr>
            <p:ph type="title"/>
          </p:nvPr>
        </p:nvSpPr>
        <p:spPr>
          <a:xfrm>
            <a:off x="914400" y="14256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Эрдниева Тевкн  Сангаевна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79280" y="4500720"/>
            <a:ext cx="896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начале 30-х годов вышла замуж и приехала  жить в Калмыкию, с мужем они поселились в поселке Чарлакта. Родила троих детей. Старший сын Бембя умер еще в детстве. Остались двое детей - мой дедушка Михаил и его сестренка Булгун. С конца 30-х годов прабабушка работала в больнице санитаркой и истопником</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01" name="Picture 3" descr="Фото0022"/>
          <p:cNvPicPr/>
          <p:nvPr/>
        </p:nvPicPr>
        <p:blipFill>
          <a:blip r:embed="rId1"/>
          <a:stretch/>
        </p:blipFill>
        <p:spPr>
          <a:xfrm>
            <a:off x="1042920" y="476280"/>
            <a:ext cx="7058160" cy="3703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103" name="TextBox 4"/>
          <p:cNvSpPr/>
          <p:nvPr/>
        </p:nvSpPr>
        <p:spPr>
          <a:xfrm>
            <a:off x="179280" y="189000"/>
            <a:ext cx="87854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О Великой Отечественной войне я знаю из рассказов взрослых, из книг и фильмов. Я очень горжусь теми людьми, кто защищал нашу Родину и теми, кто помогал своим ударным трудом фронту.</a:t>
            </a:r>
            <a:endParaRPr b="0" lang="en-US" sz="2200" spc="-1" strike="noStrike">
              <a:solidFill>
                <a:srgbClr val="000000"/>
              </a:solidFill>
              <a:latin typeface="Arial"/>
            </a:endParaRPr>
          </a:p>
        </p:txBody>
      </p:sp>
      <p:pic>
        <p:nvPicPr>
          <p:cNvPr id="104" name="Picture 2" descr="Великая отечественная война. Фото тех времен."/>
          <p:cNvPicPr/>
          <p:nvPr/>
        </p:nvPicPr>
        <p:blipFill>
          <a:blip r:embed="rId1"/>
          <a:stretch/>
        </p:blipFill>
        <p:spPr>
          <a:xfrm>
            <a:off x="4643280" y="1773360"/>
            <a:ext cx="4321440" cy="4824360"/>
          </a:xfrm>
          <a:prstGeom prst="rect">
            <a:avLst/>
          </a:prstGeom>
          <a:ln w="0">
            <a:noFill/>
          </a:ln>
        </p:spPr>
      </p:pic>
      <p:pic>
        <p:nvPicPr>
          <p:cNvPr id="105" name="Picture 7" descr="http://www.ont2007.info/War/war_new/pics/big/0009.jpg"/>
          <p:cNvPicPr/>
          <p:nvPr/>
        </p:nvPicPr>
        <p:blipFill>
          <a:blip r:embed="rId2"/>
          <a:stretch/>
        </p:blipFill>
        <p:spPr>
          <a:xfrm>
            <a:off x="179280" y="1773360"/>
            <a:ext cx="4248360" cy="4824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107" name="TextBox 2"/>
          <p:cNvSpPr/>
          <p:nvPr/>
        </p:nvSpPr>
        <p:spPr>
          <a:xfrm>
            <a:off x="395280" y="18900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ою семью, также война не обошла стороной</a:t>
            </a:r>
            <a:r>
              <a:rPr b="0" lang="ru-RU" sz="2400" spc="-1" strike="noStrike">
                <a:solidFill>
                  <a:srgbClr val="000000"/>
                </a:solidFill>
                <a:latin typeface="Arial"/>
              </a:rPr>
              <a:t>  В 1942-м году  мужа моей прабабушки призвали на войну, там он пропал без вести. В 1942-1943 гг. когда боевые действия проходили на озере Сарпа рядом с их поселком Чарлакта, прабабушка помогала выносить из-под перестрелки раненных солда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4" descr="Картинка 4 из 748"/>
          <p:cNvPicPr/>
          <p:nvPr/>
        </p:nvPicPr>
        <p:blipFill>
          <a:blip r:embed="rId1"/>
          <a:stretch/>
        </p:blipFill>
        <p:spPr>
          <a:xfrm>
            <a:off x="3995640" y="2571840"/>
            <a:ext cx="4969080" cy="4025880"/>
          </a:xfrm>
          <a:prstGeom prst="rect">
            <a:avLst/>
          </a:prstGeom>
          <a:ln w="0">
            <a:noFill/>
          </a:ln>
        </p:spPr>
      </p:pic>
      <p:pic>
        <p:nvPicPr>
          <p:cNvPr id="109" name="Picture 4" descr="Рисунок1"/>
          <p:cNvPicPr/>
          <p:nvPr/>
        </p:nvPicPr>
        <p:blipFill>
          <a:blip r:embed="rId2"/>
          <a:stretch/>
        </p:blipFill>
        <p:spPr>
          <a:xfrm>
            <a:off x="179280" y="2500200"/>
            <a:ext cx="3600720" cy="412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1"/>
          <p:cNvSpPr/>
          <p:nvPr/>
        </p:nvSpPr>
        <p:spPr>
          <a:xfrm>
            <a:off x="395280" y="476280"/>
            <a:ext cx="381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армии она служила фельдшером. </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11" name="Picture 5" descr="1941_32"/>
          <p:cNvPicPr/>
          <p:nvPr/>
        </p:nvPicPr>
        <p:blipFill>
          <a:blip r:embed="rId1"/>
          <a:stretch/>
        </p:blipFill>
        <p:spPr>
          <a:xfrm>
            <a:off x="179280" y="1357200"/>
            <a:ext cx="4249800" cy="4953240"/>
          </a:xfrm>
          <a:prstGeom prst="rect">
            <a:avLst/>
          </a:prstGeom>
          <a:ln w="0">
            <a:noFill/>
          </a:ln>
        </p:spPr>
      </p:pic>
      <p:pic>
        <p:nvPicPr>
          <p:cNvPr id="112" name="Picture 6" descr="risunok0381"/>
          <p:cNvPicPr/>
          <p:nvPr/>
        </p:nvPicPr>
        <p:blipFill>
          <a:blip r:embed="rId2"/>
          <a:stretch/>
        </p:blipFill>
        <p:spPr>
          <a:xfrm>
            <a:off x="4427640" y="836640"/>
            <a:ext cx="4541760" cy="5472000"/>
          </a:xfrm>
          <a:prstGeom prst="rect">
            <a:avLst/>
          </a:prstGeom>
          <a:ln w="0">
            <a:noFill/>
          </a:ln>
        </p:spPr>
      </p:pic>
      <p:pic>
        <p:nvPicPr>
          <p:cNvPr id="113" name="Picture 7" descr="http://www.vseokrasote.ru/linked/userpic/preview/news_news_pic_534.jpg"/>
          <p:cNvPicPr/>
          <p:nvPr/>
        </p:nvPicPr>
        <p:blipFill>
          <a:blip r:embed="rId3"/>
          <a:stretch/>
        </p:blipFill>
        <p:spPr>
          <a:xfrm>
            <a:off x="7667640" y="0"/>
            <a:ext cx="1476360" cy="217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Прямоугольник 1"/>
          <p:cNvSpPr/>
          <p:nvPr/>
        </p:nvSpPr>
        <p:spPr>
          <a:xfrm>
            <a:off x="357120" y="69228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рдниева Тевкн  Сангаев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войну была награждена медалями и орденами. </a:t>
            </a:r>
            <a:endParaRPr b="0" lang="en-US" sz="2400" spc="-1" strike="noStrike">
              <a:solidFill>
                <a:srgbClr val="000000"/>
              </a:solidFill>
              <a:latin typeface="Arial"/>
            </a:endParaRPr>
          </a:p>
        </p:txBody>
      </p:sp>
      <p:pic>
        <p:nvPicPr>
          <p:cNvPr id="115" name="Picture 7" descr="http://www.vseokrasote.ru/linked/userpic/preview/news_news_pic_534.jpg"/>
          <p:cNvPicPr/>
          <p:nvPr/>
        </p:nvPicPr>
        <p:blipFill>
          <a:blip r:embed="rId1"/>
          <a:stretch/>
        </p:blipFill>
        <p:spPr>
          <a:xfrm>
            <a:off x="7667640" y="0"/>
            <a:ext cx="1476360" cy="2174760"/>
          </a:xfrm>
          <a:prstGeom prst="rect">
            <a:avLst/>
          </a:prstGeom>
          <a:ln w="0">
            <a:noFill/>
          </a:ln>
        </p:spPr>
      </p:pic>
      <p:pic>
        <p:nvPicPr>
          <p:cNvPr id="116" name="Picture 8" descr="Безымянный"/>
          <p:cNvPicPr/>
          <p:nvPr/>
        </p:nvPicPr>
        <p:blipFill>
          <a:blip r:embed="rId2"/>
          <a:stretch/>
        </p:blipFill>
        <p:spPr>
          <a:xfrm>
            <a:off x="179280" y="2133720"/>
            <a:ext cx="2108160" cy="3960720"/>
          </a:xfrm>
          <a:prstGeom prst="rect">
            <a:avLst/>
          </a:prstGeom>
          <a:ln w="0">
            <a:noFill/>
          </a:ln>
        </p:spPr>
      </p:pic>
      <p:pic>
        <p:nvPicPr>
          <p:cNvPr id="117" name="Picture 10" descr="zobz03"/>
          <p:cNvPicPr/>
          <p:nvPr/>
        </p:nvPicPr>
        <p:blipFill>
          <a:blip r:embed="rId3"/>
          <a:stretch/>
        </p:blipFill>
        <p:spPr>
          <a:xfrm>
            <a:off x="5087880" y="2133720"/>
            <a:ext cx="3732120" cy="3960720"/>
          </a:xfrm>
          <a:prstGeom prst="rect">
            <a:avLst/>
          </a:prstGeom>
          <a:ln w="0">
            <a:noFill/>
          </a:ln>
        </p:spPr>
      </p:pic>
      <p:pic>
        <p:nvPicPr>
          <p:cNvPr id="118" name="Picture 9" descr="ooblokada"/>
          <p:cNvPicPr/>
          <p:nvPr/>
        </p:nvPicPr>
        <p:blipFill>
          <a:blip r:embed="rId4"/>
          <a:stretch/>
        </p:blipFill>
        <p:spPr>
          <a:xfrm>
            <a:off x="2484360" y="2133720"/>
            <a:ext cx="2644920" cy="396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21:44:05Z</dcterms:created>
  <dc:creator>Федотова Виктория Александровна</dc:creator>
  <dc:description/>
  <dc:language>en-US</dc:language>
  <cp:lastModifiedBy>Raider</cp:lastModifiedBy>
  <dcterms:modified xsi:type="dcterms:W3CDTF">2014-03-13T18:02:16Z</dcterms:modified>
  <cp:revision>18</cp:revision>
  <dc:subject/>
  <dc:title>Слайд 1</dc:title>
</cp:coreProperties>
</file>