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384-CA10-447A-86E8-C284400E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CBF-0670-4642-A93A-2E16CFFB8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1089-175A-439D-919B-6217D9D24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B160-9B3B-45B0-B3E1-292A95FF4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64EC-C547-4C46-A65B-B3A188EF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C6D0-D4D5-4C27-ABA7-BF3C939E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46F4-22E9-4323-9CE1-4091C40FF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1FE8-A3C7-4DAE-9A45-2D256E0A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EC3F-AF87-4E79-A16F-93AD2585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92A4-447D-411A-AE1E-DEA87F1B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A67D-8A17-44BE-8743-A459EF0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748C-3F34-48B6-950C-DBE108D3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4DDA6-92DA-42BC-BECE-C89AD79129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644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cc00"/>
                </a:solidFill>
                <a:latin typeface="Arial"/>
              </a:rPr>
              <a:t>Декупаж</a:t>
            </a:r>
            <a:endParaRPr b="0" lang="en-US" sz="96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декупажа Вам понадобятся: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юбая понравившаяся салфетк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лей П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исть средней жесткости из синте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ожниц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корируемый предме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P1030226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01680" y="333000"/>
            <a:ext cx="85406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режьте рисун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4" descr="P1030228"/>
          <p:cNvPicPr/>
          <p:nvPr/>
        </p:nvPicPr>
        <p:blipFill>
          <a:blip r:embed="rId1"/>
          <a:stretch/>
        </p:blipFill>
        <p:spPr>
          <a:xfrm>
            <a:off x="684360" y="107964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Разделите салфетку на слои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7" name="Picture 4" descr="P1030232"/>
          <p:cNvPicPr/>
          <p:nvPr/>
        </p:nvPicPr>
        <p:blipFill>
          <a:blip r:embed="rId1"/>
          <a:stretch/>
        </p:blipFill>
        <p:spPr>
          <a:xfrm>
            <a:off x="1042920" y="1541520"/>
            <a:ext cx="70884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ля декупажа Вам понадобится верхний слой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59" name="Picture 4" descr="P1030233"/>
          <p:cNvPicPr/>
          <p:nvPr/>
        </p:nvPicPr>
        <p:blipFill>
          <a:blip r:embed="rId1"/>
          <a:stretch/>
        </p:blipFill>
        <p:spPr>
          <a:xfrm>
            <a:off x="1042920" y="1565280"/>
            <a:ext cx="705636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ыложите композицию на основе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1" name="Picture 4" descr="P1030234"/>
          <p:cNvPicPr/>
          <p:nvPr/>
        </p:nvPicPr>
        <p:blipFill>
          <a:blip r:embed="rId1"/>
          <a:stretch/>
        </p:blipFill>
        <p:spPr>
          <a:xfrm>
            <a:off x="900000" y="1325520"/>
            <a:ext cx="73771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щательно покройте клеем начиная с середины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3" name="Picture 4" descr="P1030236"/>
          <p:cNvPicPr/>
          <p:nvPr/>
        </p:nvPicPr>
        <p:blipFill>
          <a:blip r:embed="rId1"/>
          <a:stretch/>
        </p:blipFill>
        <p:spPr>
          <a:xfrm>
            <a:off x="971640" y="1457280"/>
            <a:ext cx="720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е забывая при этом приподнимать кра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5" name="Picture 4" descr="P1030239"/>
          <p:cNvPicPr/>
          <p:nvPr/>
        </p:nvPicPr>
        <p:blipFill>
          <a:blip r:embed="rId1"/>
          <a:stretch/>
        </p:blipFill>
        <p:spPr>
          <a:xfrm>
            <a:off x="1042920" y="1487520"/>
            <a:ext cx="715968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щательно разглаживаем рисунок для удаления воздуха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7" name="Picture 4" descr="P1030242"/>
          <p:cNvPicPr/>
          <p:nvPr/>
        </p:nvPicPr>
        <p:blipFill>
          <a:blip r:embed="rId1"/>
          <a:stretch/>
        </p:blipFill>
        <p:spPr>
          <a:xfrm>
            <a:off x="1116000" y="1541520"/>
            <a:ext cx="708804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от такая получается красот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69" name="Picture 4" descr="P1030244"/>
          <p:cNvPicPr/>
          <p:nvPr/>
        </p:nvPicPr>
        <p:blipFill>
          <a:blip r:embed="rId1"/>
          <a:stretch/>
        </p:blipFill>
        <p:spPr>
          <a:xfrm>
            <a:off x="900000" y="1325520"/>
            <a:ext cx="737712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b7e7ff"/>
                </a:solidFill>
                <a:latin typeface="Arial"/>
              </a:rPr>
              <a:t>Цель декупажа:</a:t>
            </a:r>
            <a:br>
              <a:rPr sz="4000"/>
            </a:br>
            <a:endParaRPr b="0" lang="en-US" sz="7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обиться эффекта нарисованной картины на декорируемом предме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(это может быть фарфор, стекло, дерево, керамика, пластмасса)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дачи Вам в Вашем творчеств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429000"/>
            <a:ext cx="914400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01680" y="4220640"/>
            <a:ext cx="8540640" cy="187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стер-класс подготовила воспитатель МДОУ № 37 г. Ленинска-Кузнецк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абанова Лариса Викторов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P1030197"/>
          <p:cNvPicPr/>
          <p:nvPr/>
        </p:nvPicPr>
        <p:blipFill>
          <a:blip r:embed="rId1"/>
          <a:stretch/>
        </p:blipFill>
        <p:spPr>
          <a:xfrm>
            <a:off x="468360" y="260280"/>
            <a:ext cx="8262720" cy="629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P1030198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P1030201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P1030203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1030205"/>
          <p:cNvPicPr/>
          <p:nvPr/>
        </p:nvPicPr>
        <p:blipFill>
          <a:blip r:embed="rId1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DSC00188"/>
          <p:cNvPicPr/>
          <p:nvPr/>
        </p:nvPicPr>
        <p:blipFill>
          <a:blip r:embed="rId1"/>
          <a:stretch/>
        </p:blipFill>
        <p:spPr>
          <a:xfrm>
            <a:off x="197964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DSC00187"/>
          <p:cNvPicPr/>
          <p:nvPr/>
        </p:nvPicPr>
        <p:blipFill>
          <a:blip r:embed="rId1"/>
          <a:stretch/>
        </p:blipFill>
        <p:spPr>
          <a:xfrm>
            <a:off x="468360" y="333360"/>
            <a:ext cx="835020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3T14:50:52Z</dcterms:created>
  <dc:creator>Александр</dc:creator>
  <dc:description/>
  <dc:language>en-US</dc:language>
  <cp:lastModifiedBy>Александр</cp:lastModifiedBy>
  <dcterms:modified xsi:type="dcterms:W3CDTF">2018-08-02T15:55:19Z</dcterms:modified>
  <cp:revision>8</cp:revision>
  <dc:subject/>
  <dc:title>Декупаж</dc:title>
</cp:coreProperties>
</file>