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CB1-453A-48E0-B9FC-2DB03C4C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D071-A503-41C8-AFCF-E28D326F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CD8-F2A8-46C5-B7F5-4EDABCFB1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039-52BF-4DE3-9F4F-7959A9A95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907-7734-4EAD-86BB-A38AD868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2502-7018-4750-B15B-7E57219A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707-758C-42DC-8DA9-66EE2756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6027-B796-402C-A254-1D63B2FB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6B18-B571-4C5B-B2F6-18766AE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EB7-5D57-4624-B8B6-78B56724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557-C2BE-4643-866C-A186244F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D37F-FF5F-4B1F-A975-E3AD305ED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213B1-446B-48A1-B801-7FC093D433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00"/>
                </a:solidFill>
                <a:latin typeface="Arial"/>
              </a:rPr>
              <a:t>Декупаж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декупажа Вам понадобятся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бая понравившаяся салфет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сть средней жесткости из синте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корируемый предм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1030226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1680" y="33300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режьте рису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P1030228"/>
          <p:cNvPicPr/>
          <p:nvPr/>
        </p:nvPicPr>
        <p:blipFill>
          <a:blip r:embed="rId1"/>
          <a:stretch/>
        </p:blipFill>
        <p:spPr>
          <a:xfrm>
            <a:off x="684360" y="107964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зделите салфетку на сло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P1030232"/>
          <p:cNvPicPr/>
          <p:nvPr/>
        </p:nvPicPr>
        <p:blipFill>
          <a:blip r:embed="rId1"/>
          <a:stretch/>
        </p:blipFill>
        <p:spPr>
          <a:xfrm>
            <a:off x="1042920" y="1541520"/>
            <a:ext cx="70884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декупажа Вам понадобится верхний сло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P1030233"/>
          <p:cNvPicPr/>
          <p:nvPr/>
        </p:nvPicPr>
        <p:blipFill>
          <a:blip r:embed="rId1"/>
          <a:stretch/>
        </p:blipFill>
        <p:spPr>
          <a:xfrm>
            <a:off x="104292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ложите композицию на основ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4" descr="P1030234"/>
          <p:cNvPicPr/>
          <p:nvPr/>
        </p:nvPicPr>
        <p:blipFill>
          <a:blip r:embed="rId1"/>
          <a:stretch/>
        </p:blipFill>
        <p:spPr>
          <a:xfrm>
            <a:off x="900000" y="1325520"/>
            <a:ext cx="73771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щательно покройте клеем начиная с середин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4" descr="P1030236"/>
          <p:cNvPicPr/>
          <p:nvPr/>
        </p:nvPicPr>
        <p:blipFill>
          <a:blip r:embed="rId1"/>
          <a:stretch/>
        </p:blipFill>
        <p:spPr>
          <a:xfrm>
            <a:off x="971640" y="145728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забывая при этом приподнимать кр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P1030239"/>
          <p:cNvPicPr/>
          <p:nvPr/>
        </p:nvPicPr>
        <p:blipFill>
          <a:blip r:embed="rId1"/>
          <a:stretch/>
        </p:blipFill>
        <p:spPr>
          <a:xfrm>
            <a:off x="1042920" y="1487520"/>
            <a:ext cx="71596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щательно разглаживаем рисунок для удаления воздух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4" descr="P1030242"/>
          <p:cNvPicPr/>
          <p:nvPr/>
        </p:nvPicPr>
        <p:blipFill>
          <a:blip r:embed="rId1"/>
          <a:stretch/>
        </p:blipFill>
        <p:spPr>
          <a:xfrm>
            <a:off x="1116000" y="1541520"/>
            <a:ext cx="70880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т такая получается красо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P1030244"/>
          <p:cNvPicPr/>
          <p:nvPr/>
        </p:nvPicPr>
        <p:blipFill>
          <a:blip r:embed="rId1"/>
          <a:stretch/>
        </p:blipFill>
        <p:spPr>
          <a:xfrm>
            <a:off x="900000" y="1325520"/>
            <a:ext cx="73771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7e7ff"/>
                </a:solidFill>
                <a:latin typeface="Arial"/>
              </a:rPr>
              <a:t>Цель декупажа:</a:t>
            </a:r>
            <a:br>
              <a:rPr sz="4000"/>
            </a:b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биться эффекта нарисованной картины на декорируемом предме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это может быть фарфор, стекло, дерево, керамика, пластмасса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дачи Вам в Вашем творчеств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1680" y="4220640"/>
            <a:ext cx="8540640" cy="18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тер-класс подготовила воспитатель МДОУ № 37 г. Ленинска-Кузнец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банова Ларис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1030197"/>
          <p:cNvPicPr/>
          <p:nvPr/>
        </p:nvPicPr>
        <p:blipFill>
          <a:blip r:embed="rId1"/>
          <a:stretch/>
        </p:blipFill>
        <p:spPr>
          <a:xfrm>
            <a:off x="468360" y="260280"/>
            <a:ext cx="8262720" cy="62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103019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1030201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1030203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030205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SC00188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SC00187"/>
          <p:cNvPicPr/>
          <p:nvPr/>
        </p:nvPicPr>
        <p:blipFill>
          <a:blip r:embed="rId1"/>
          <a:stretch/>
        </p:blipFill>
        <p:spPr>
          <a:xfrm>
            <a:off x="468360" y="333360"/>
            <a:ext cx="835020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4:50:52Z</dcterms:created>
  <dc:creator>Александр</dc:creator>
  <dc:description/>
  <dc:language>en-US</dc:language>
  <cp:lastModifiedBy>Александр</cp:lastModifiedBy>
  <dcterms:modified xsi:type="dcterms:W3CDTF">2018-08-02T15:55:19Z</dcterms:modified>
  <cp:revision>8</cp:revision>
  <dc:subject/>
  <dc:title>Декупаж</dc:title>
</cp:coreProperties>
</file>