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2.wmf" ContentType="image/x-wmf"/>
  <Override PartName="/ppt/media/image20.png" ContentType="image/png"/>
  <Override PartName="/ppt/media/image2.jpeg" ContentType="image/jpeg"/>
  <Override PartName="/ppt/media/image23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1.gif" ContentType="image/gif"/>
  <Override PartName="/ppt/media/image19.gif" ContentType="image/gif"/>
  <Override PartName="/ppt/media/image17.wmf" ContentType="image/x-wmf"/>
  <Override PartName="/ppt/media/image16.png" ContentType="image/png"/>
  <Override PartName="/ppt/media/image14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10CA-A4F3-45E0-B9CF-B0750EF9E41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5E24-9853-482E-AD78-A19958FB7D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378E5-6067-45AB-8ABF-E8B860ECE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7833D-873C-437B-A28A-0E6D0147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44BDE-AA95-420A-8DC4-FC0176ABC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1B4F0-CEE7-4A44-BCE9-26A60D3A8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19BD-F3A3-4CB6-AA58-3DF0DDA2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FA03-A29C-4C5D-9A27-F423F8EC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EBA6-5A9B-4912-A9AD-51943F0F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3539-49F0-4EF0-998B-D32EFBF6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2D05-5C5E-4275-A17F-45E624BE5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58DD-8D3B-4861-9307-E13EC102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6358-2524-44FC-886C-8CFE8109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4520A-29D5-466D-919F-4404ADAD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35B1B-A13E-4148-A3C0-031F7F24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FE03-9C5A-452E-A3B9-98910A84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03AA5-800B-4708-9198-CB86F4B7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35A7-4B84-4DA5-BFF5-211FD5A1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8CB2-C6F8-4720-AD83-F4AD9AD33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7D33F-12C0-4CF7-96BB-231B1EEA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27D75-4BE1-438E-87F3-0DC2F59E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F075E-732F-4FDA-AECD-180D5AB4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AD230-DA50-4FAE-BB4C-5EF35F66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6C588-D6ED-4BCE-8015-F21D1489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2E074-6C9A-4C32-B4DA-CBD85F52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94127-C833-4D3D-8A96-72F05D5D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27C2-8304-462F-B256-739B92028FF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FCD6-FA6A-43CE-8A1E-525C2DA8B9C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0000" y="836640"/>
            <a:ext cx="622764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Система  словарно – орфографической  работы 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в  начальных  классах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как  средство  повышения  грамотности  учащихс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071880" y="4286160"/>
            <a:ext cx="5790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ерх– Ирменская спец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коррекционная) школа – интернат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и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ставила: 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нькина И. Н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B1B14-A5F7-4D67-9F01-2DB5B33BB1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e01832_"/>
          <p:cNvPicPr/>
          <p:nvPr/>
        </p:nvPicPr>
        <p:blipFill>
          <a:blip r:embed="rId1"/>
          <a:stretch/>
        </p:blipFill>
        <p:spPr>
          <a:xfrm>
            <a:off x="3198960" y="2174760"/>
            <a:ext cx="2744640" cy="2508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bs00554_"/>
          <p:cNvPicPr/>
          <p:nvPr/>
        </p:nvPicPr>
        <p:blipFill>
          <a:blip r:embed="rId2"/>
          <a:stretch/>
        </p:blipFill>
        <p:spPr>
          <a:xfrm>
            <a:off x="304920" y="2403360"/>
            <a:ext cx="5105160" cy="4454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-15840" y="449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547640" y="549360"/>
            <a:ext cx="70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Ассоциативная связь может быть по:</a:t>
            </a:r>
            <a:endParaRPr b="1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867280" y="159228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цвету и форме,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1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019920" y="2362320"/>
            <a:ext cx="2819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звучанию и вкусу,</a:t>
            </a:r>
            <a:endParaRPr b="1" i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действию,</a:t>
            </a:r>
            <a:endParaRPr b="1" i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месту расположения,</a:t>
            </a:r>
            <a:endParaRPr b="1" i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материалу,</a:t>
            </a:r>
            <a:endParaRPr b="1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5943600" y="4952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назначению,</a:t>
            </a:r>
            <a:endParaRPr b="1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6172200" y="54864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колличеству и т.д.</a:t>
            </a:r>
            <a:endParaRPr b="1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1698480" y="9064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736640" y="457200"/>
            <a:ext cx="565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 advTm="7000">
    <p:newsflash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a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1"/>
          <p:cNvGrpSpPr/>
          <p:nvPr/>
        </p:nvGrpSpPr>
        <p:grpSpPr>
          <a:xfrm>
            <a:off x="-34920" y="0"/>
            <a:ext cx="9178920" cy="6858000"/>
            <a:chOff x="-34920" y="0"/>
            <a:chExt cx="9178920" cy="6858000"/>
          </a:xfrm>
        </p:grpSpPr>
        <p:sp>
          <p:nvSpPr>
            <p:cNvPr id="182" name="Line 12"/>
            <p:cNvSpPr/>
            <p:nvPr/>
          </p:nvSpPr>
          <p:spPr>
            <a:xfrm>
              <a:off x="0" y="981000"/>
              <a:ext cx="9144000" cy="0"/>
            </a:xfrm>
            <a:prstGeom prst="line">
              <a:avLst/>
            </a:prstGeom>
            <a:ln w="3816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0" y="1484280"/>
              <a:ext cx="9144000" cy="0"/>
            </a:xfrm>
            <a:prstGeom prst="line">
              <a:avLst/>
            </a:prstGeom>
            <a:ln w="3816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0" y="2852640"/>
              <a:ext cx="9144000" cy="0"/>
            </a:xfrm>
            <a:prstGeom prst="line">
              <a:avLst/>
            </a:prstGeom>
            <a:ln w="3816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0" y="3429000"/>
              <a:ext cx="9144000" cy="0"/>
            </a:xfrm>
            <a:prstGeom prst="line">
              <a:avLst/>
            </a:prstGeom>
            <a:ln w="3816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0" y="4941720"/>
              <a:ext cx="9144000" cy="0"/>
            </a:xfrm>
            <a:prstGeom prst="line">
              <a:avLst/>
            </a:prstGeom>
            <a:ln w="3816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-34920" y="5516640"/>
              <a:ext cx="9144000" cy="0"/>
            </a:xfrm>
            <a:prstGeom prst="line">
              <a:avLst/>
            </a:prstGeom>
            <a:ln w="3816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" name="Line 18"/>
            <p:cNvSpPr/>
            <p:nvPr/>
          </p:nvSpPr>
          <p:spPr>
            <a:xfrm flipH="1">
              <a:off x="-360" y="0"/>
              <a:ext cx="2771640" cy="4005360"/>
            </a:xfrm>
            <a:prstGeom prst="line">
              <a:avLst/>
            </a:prstGeom>
            <a:ln w="3816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9" name="Line 19"/>
            <p:cNvSpPr/>
            <p:nvPr/>
          </p:nvSpPr>
          <p:spPr>
            <a:xfrm flipH="1">
              <a:off x="1403280" y="0"/>
              <a:ext cx="4464000" cy="6858000"/>
            </a:xfrm>
            <a:prstGeom prst="line">
              <a:avLst/>
            </a:prstGeom>
            <a:ln w="3816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Line 20"/>
            <p:cNvSpPr/>
            <p:nvPr/>
          </p:nvSpPr>
          <p:spPr>
            <a:xfrm flipH="1">
              <a:off x="4642920" y="0"/>
              <a:ext cx="4249800" cy="6858000"/>
            </a:xfrm>
            <a:prstGeom prst="line">
              <a:avLst/>
            </a:prstGeom>
            <a:ln w="3816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Line 21"/>
            <p:cNvSpPr/>
            <p:nvPr/>
          </p:nvSpPr>
          <p:spPr>
            <a:xfrm flipH="1">
              <a:off x="7451280" y="3860640"/>
              <a:ext cx="1692360" cy="2997360"/>
            </a:xfrm>
            <a:prstGeom prst="line">
              <a:avLst/>
            </a:prstGeom>
            <a:ln w="3816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192" name="Picture 3" descr="sw055"/>
          <p:cNvPicPr/>
          <p:nvPr/>
        </p:nvPicPr>
        <p:blipFill>
          <a:blip r:embed="rId1"/>
          <a:stretch/>
        </p:blipFill>
        <p:spPr>
          <a:xfrm>
            <a:off x="2341440" y="2203560"/>
            <a:ext cx="1233720" cy="1368360"/>
          </a:xfrm>
          <a:prstGeom prst="rect">
            <a:avLst/>
          </a:prstGeom>
          <a:ln w="0">
            <a:noFill/>
          </a:ln>
        </p:spPr>
      </p:pic>
      <p:sp>
        <p:nvSpPr>
          <p:cNvPr id="193" name="WordArt 4"/>
          <p:cNvSpPr txBox="1"/>
          <p:nvPr/>
        </p:nvSpPr>
        <p:spPr>
          <a:xfrm>
            <a:off x="1405080" y="2781360"/>
            <a:ext cx="669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    м   дор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4" name="WordArt 5"/>
          <p:cNvSpPr txBox="1"/>
          <p:nvPr/>
        </p:nvSpPr>
        <p:spPr>
          <a:xfrm>
            <a:off x="4932360" y="2492280"/>
            <a:ext cx="720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95" name="AutoShape 10"/>
          <p:cNvSpPr/>
          <p:nvPr/>
        </p:nvSpPr>
        <p:spPr>
          <a:xfrm flipH="1" rot="11986200">
            <a:off x="7165080" y="1915920"/>
            <a:ext cx="271440" cy="771120"/>
          </a:xfrm>
          <a:prstGeom prst="triangle">
            <a:avLst>
              <a:gd name="adj" fmla="val 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Рисунок1в"/>
          <p:cNvPicPr/>
          <p:nvPr/>
        </p:nvPicPr>
        <p:blipFill>
          <a:blip r:embed="rId1"/>
          <a:stretch/>
        </p:blipFill>
        <p:spPr>
          <a:xfrm>
            <a:off x="5292720" y="3645000"/>
            <a:ext cx="3851280" cy="3213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апк"/>
          <p:cNvPicPr/>
          <p:nvPr/>
        </p:nvPicPr>
        <p:blipFill>
          <a:blip r:embed="rId2"/>
          <a:stretch/>
        </p:blipFill>
        <p:spPr>
          <a:xfrm>
            <a:off x="250920" y="260280"/>
            <a:ext cx="2089080" cy="1468440"/>
          </a:xfrm>
          <a:prstGeom prst="rect">
            <a:avLst/>
          </a:prstGeom>
          <a:ln w="0">
            <a:noFill/>
          </a:ln>
        </p:spPr>
      </p:pic>
      <p:sp>
        <p:nvSpPr>
          <p:cNvPr id="198" name="WordArt 4"/>
          <p:cNvSpPr txBox="1"/>
          <p:nvPr/>
        </p:nvSpPr>
        <p:spPr>
          <a:xfrm>
            <a:off x="684360" y="1989000"/>
            <a:ext cx="626400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ловарные слова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ребусах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503280" y="4869000"/>
            <a:ext cx="810108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cce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  ньки</a:t>
            </a:r>
            <a:endParaRPr b="1" i="1" lang="en-US" sz="2000" spc="1" strike="noStrike">
              <a:ln w="0">
                <a:noFill/>
              </a:ln>
              <a:solidFill>
                <a:srgbClr val="cce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0" name="Oval 3"/>
          <p:cNvSpPr/>
          <p:nvPr/>
        </p:nvSpPr>
        <p:spPr>
          <a:xfrm>
            <a:off x="2195640" y="5734080"/>
            <a:ext cx="576000" cy="576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7740720" y="350028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0" spc="-1" strike="noStrike">
                <a:solidFill>
                  <a:srgbClr val="000066"/>
                </a:solidFill>
                <a:latin typeface="Symbol"/>
                <a:ea typeface="Symbol"/>
              </a:rPr>
              <a:t></a:t>
            </a:r>
            <a:endParaRPr b="1" i="1" lang="en-US" sz="1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2" name="Picture 5" descr="Рисунок2"/>
          <p:cNvPicPr/>
          <p:nvPr/>
        </p:nvPicPr>
        <p:blipFill>
          <a:blip r:embed="rId1"/>
          <a:stretch/>
        </p:blipFill>
        <p:spPr>
          <a:xfrm>
            <a:off x="1187280" y="549360"/>
            <a:ext cx="1944720" cy="2881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image051"/>
          <p:cNvPicPr/>
          <p:nvPr/>
        </p:nvPicPr>
        <p:blipFill>
          <a:blip r:embed="rId2"/>
          <a:stretch/>
        </p:blipFill>
        <p:spPr>
          <a:xfrm rot="20382000">
            <a:off x="4643280" y="549000"/>
            <a:ext cx="3076560" cy="3743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7236000" y="18900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66"/>
                </a:solidFill>
                <a:latin typeface="Arial"/>
              </a:rPr>
              <a:t>,</a:t>
            </a:r>
            <a:endParaRPr b="1" i="1" lang="en-US" sz="9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WordArt 8"/>
          <p:cNvSpPr txBox="1"/>
          <p:nvPr/>
        </p:nvSpPr>
        <p:spPr>
          <a:xfrm>
            <a:off x="1835280" y="4941720"/>
            <a:ext cx="122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i="1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Monotype Corsiva"/>
              </a:rPr>
              <a:t>5.Введение  нового слова в активный словарь учащихся.  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47280" y="1844280"/>
            <a:ext cx="713916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lvl="1" marL="649080" indent="-3243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Подбор однокоренных с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080" indent="-3243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Составление словосочет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080" indent="-3243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Подбор синонимов или антоним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080" indent="-3243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Использование слов в предложе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080" indent="-3243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Пословицы, поговорки, загад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080" indent="-3243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Игры. Кроссвор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080" indent="-324360"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49080" indent="-324360"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B494-31B1-44E5-A57E-3CB271CE5E8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2"/>
          <p:cNvSpPr/>
          <p:nvPr/>
        </p:nvSpPr>
        <p:spPr>
          <a:xfrm>
            <a:off x="0" y="6597720"/>
            <a:ext cx="9144000" cy="260280"/>
          </a:xfrm>
          <a:prstGeom prst="roundRect">
            <a:avLst>
              <a:gd name="adj" fmla="val 16667"/>
            </a:avLst>
          </a:prstGeom>
          <a:solidFill>
            <a:srgbClr val="89ff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AutoShape 3"/>
          <p:cNvSpPr/>
          <p:nvPr/>
        </p:nvSpPr>
        <p:spPr>
          <a:xfrm rot="16200000">
            <a:off x="-3303360" y="3303360"/>
            <a:ext cx="6858000" cy="250920"/>
          </a:xfrm>
          <a:prstGeom prst="roundRect">
            <a:avLst>
              <a:gd name="adj" fmla="val 16667"/>
            </a:avLst>
          </a:prstGeom>
          <a:solidFill>
            <a:srgbClr val="89ff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-33480" y="6340320"/>
            <a:ext cx="1005120" cy="54468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1"/>
          <p:cNvGrpSpPr/>
          <p:nvPr/>
        </p:nvGrpSpPr>
        <p:grpSpPr>
          <a:xfrm>
            <a:off x="4067280" y="333360"/>
            <a:ext cx="5076720" cy="2731680"/>
            <a:chOff x="4067280" y="333360"/>
            <a:chExt cx="5076720" cy="2731680"/>
          </a:xfrm>
        </p:grpSpPr>
        <p:sp>
          <p:nvSpPr>
            <p:cNvPr id="213" name="Text Box 5"/>
            <p:cNvSpPr/>
            <p:nvPr/>
          </p:nvSpPr>
          <p:spPr>
            <a:xfrm>
              <a:off x="4105440" y="685080"/>
              <a:ext cx="5038560" cy="2379960"/>
            </a:xfrm>
            <a:prstGeom prst="rect">
              <a:avLst/>
            </a:prstGeom>
            <a:solidFill>
              <a:srgbClr val="df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1. К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пуста любит воду да хорошую погоду.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2. К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пуста не пуста, сама летит в уста. 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Text Box 6"/>
            <p:cNvSpPr/>
            <p:nvPr/>
          </p:nvSpPr>
          <p:spPr>
            <a:xfrm>
              <a:off x="4067280" y="333360"/>
              <a:ext cx="47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6600"/>
                  </a:solidFill>
                  <a:latin typeface="Arial"/>
                </a:rPr>
                <a:t>Работа с пословицами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5" name="Text Box 7"/>
          <p:cNvSpPr/>
          <p:nvPr/>
        </p:nvSpPr>
        <p:spPr>
          <a:xfrm>
            <a:off x="108000" y="44280"/>
            <a:ext cx="331308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Подбор </a:t>
            </a: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однокоренных слов</a:t>
            </a: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755640" y="765000"/>
            <a:ext cx="2031840" cy="1679400"/>
          </a:xfrm>
          <a:prstGeom prst="rect">
            <a:avLst/>
          </a:prstGeom>
          <a:solidFill>
            <a:srgbClr val="dff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апустка</a:t>
            </a: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апусточка</a:t>
            </a: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апустница</a:t>
            </a: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апустный</a:t>
            </a: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7" name="Group 12"/>
          <p:cNvGrpSpPr/>
          <p:nvPr/>
        </p:nvGrpSpPr>
        <p:grpSpPr>
          <a:xfrm>
            <a:off x="250920" y="2492280"/>
            <a:ext cx="8893080" cy="4123800"/>
            <a:chOff x="250920" y="2492280"/>
            <a:chExt cx="8893080" cy="4123800"/>
          </a:xfrm>
        </p:grpSpPr>
        <p:sp>
          <p:nvSpPr>
            <p:cNvPr id="218" name="Text Box 9"/>
            <p:cNvSpPr/>
            <p:nvPr/>
          </p:nvSpPr>
          <p:spPr>
            <a:xfrm>
              <a:off x="1332000" y="2492280"/>
              <a:ext cx="295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6600"/>
                  </a:solidFill>
                  <a:latin typeface="Arial"/>
                </a:rPr>
                <a:t>Задания для самостоятельной работы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Text Box 10"/>
            <p:cNvSpPr/>
            <p:nvPr/>
          </p:nvSpPr>
          <p:spPr>
            <a:xfrm>
              <a:off x="250920" y="3213000"/>
              <a:ext cx="8893080" cy="3403080"/>
            </a:xfrm>
            <a:prstGeom prst="rect">
              <a:avLst/>
            </a:prstGeom>
            <a:solidFill>
              <a:srgbClr val="df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70000"/>
                </a:lnSpc>
                <a:buClr>
                  <a:srgbClr val="000066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Напиши слово 3 раза, проговаривая его по слогам, выдели орфограмму, 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поставь знак ударения и раздели на слоги.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2. Придумай и запиши предложение с этим словом, определи грамматические признаки.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3. Спиши, вставляя пропущенные буквы:  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К.пуста  - это ов.щ.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К.пуста (какая?) большая, …, … .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Из ка.пусты варят щи.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6"/>
          <p:cNvSpPr/>
          <p:nvPr/>
        </p:nvSpPr>
        <p:spPr>
          <a:xfrm>
            <a:off x="0" y="6597720"/>
            <a:ext cx="9144000" cy="260280"/>
          </a:xfrm>
          <a:prstGeom prst="roundRect">
            <a:avLst>
              <a:gd name="adj" fmla="val 16667"/>
            </a:avLst>
          </a:prstGeom>
          <a:solidFill>
            <a:srgbClr val="89ff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 rot="16200000">
            <a:off x="-3303360" y="3303360"/>
            <a:ext cx="6858000" cy="250920"/>
          </a:xfrm>
          <a:prstGeom prst="roundRect">
            <a:avLst>
              <a:gd name="adj" fmla="val 16667"/>
            </a:avLst>
          </a:prstGeom>
          <a:solidFill>
            <a:srgbClr val="89ff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1"/>
          <a:stretch/>
        </p:blipFill>
        <p:spPr>
          <a:xfrm>
            <a:off x="-33480" y="6340320"/>
            <a:ext cx="1005120" cy="54468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16"/>
          <p:cNvGrpSpPr/>
          <p:nvPr/>
        </p:nvGrpSpPr>
        <p:grpSpPr>
          <a:xfrm>
            <a:off x="3924360" y="44280"/>
            <a:ext cx="5038560" cy="3265920"/>
            <a:chOff x="3924360" y="44280"/>
            <a:chExt cx="5038560" cy="3265920"/>
          </a:xfrm>
        </p:grpSpPr>
        <p:sp>
          <p:nvSpPr>
            <p:cNvPr id="224" name="Text Box 9"/>
            <p:cNvSpPr/>
            <p:nvPr/>
          </p:nvSpPr>
          <p:spPr>
            <a:xfrm>
              <a:off x="3924360" y="473040"/>
              <a:ext cx="5038560" cy="2837160"/>
            </a:xfrm>
            <a:prstGeom prst="rect">
              <a:avLst/>
            </a:prstGeom>
            <a:solidFill>
              <a:srgbClr val="df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1. Щипал Фрол г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рох да заболел поперёк.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2. И за морем г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рох не под печью сеют.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3. Репу да г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рох не сей подле дорог.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Text Box 10"/>
            <p:cNvSpPr/>
            <p:nvPr/>
          </p:nvSpPr>
          <p:spPr>
            <a:xfrm>
              <a:off x="4067280" y="44280"/>
              <a:ext cx="47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6600"/>
                  </a:solidFill>
                  <a:latin typeface="Arial"/>
                </a:rPr>
                <a:t>Работа с пословицами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6" name="Group 15"/>
          <p:cNvGrpSpPr/>
          <p:nvPr/>
        </p:nvGrpSpPr>
        <p:grpSpPr>
          <a:xfrm>
            <a:off x="466560" y="44280"/>
            <a:ext cx="2810160" cy="2543040"/>
            <a:chOff x="466560" y="44280"/>
            <a:chExt cx="2810160" cy="2543040"/>
          </a:xfrm>
        </p:grpSpPr>
        <p:sp>
          <p:nvSpPr>
            <p:cNvPr id="227" name="Text Box 11"/>
            <p:cNvSpPr/>
            <p:nvPr/>
          </p:nvSpPr>
          <p:spPr>
            <a:xfrm>
              <a:off x="466560" y="44280"/>
              <a:ext cx="2810160" cy="5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6600"/>
                  </a:solidFill>
                  <a:latin typeface="Arial"/>
                </a:rPr>
                <a:t>Подбор 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6600"/>
                  </a:solidFill>
                  <a:latin typeface="Arial"/>
                </a:rPr>
                <a:t>однокоренных слов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826920" y="907920"/>
              <a:ext cx="2032200" cy="1679400"/>
            </a:xfrm>
            <a:prstGeom prst="rect">
              <a:avLst/>
            </a:prstGeom>
            <a:solidFill>
              <a:srgbClr val="df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Гороховый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Горошница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Горошина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Горошек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9" name="Group 17"/>
          <p:cNvGrpSpPr/>
          <p:nvPr/>
        </p:nvGrpSpPr>
        <p:grpSpPr>
          <a:xfrm>
            <a:off x="0" y="2637000"/>
            <a:ext cx="9144000" cy="4339080"/>
            <a:chOff x="0" y="2637000"/>
            <a:chExt cx="9144000" cy="4339080"/>
          </a:xfrm>
        </p:grpSpPr>
        <p:sp>
          <p:nvSpPr>
            <p:cNvPr id="230" name="Text Box 13"/>
            <p:cNvSpPr/>
            <p:nvPr/>
          </p:nvSpPr>
          <p:spPr>
            <a:xfrm>
              <a:off x="324000" y="2637000"/>
              <a:ext cx="3528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6600"/>
                  </a:solidFill>
                  <a:latin typeface="Arial"/>
                </a:rPr>
                <a:t>Задания для самостоятельной  работы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Text Box 14"/>
            <p:cNvSpPr/>
            <p:nvPr/>
          </p:nvSpPr>
          <p:spPr>
            <a:xfrm>
              <a:off x="0" y="3573000"/>
              <a:ext cx="9144000" cy="3403080"/>
            </a:xfrm>
            <a:prstGeom prst="rect">
              <a:avLst/>
            </a:prstGeom>
            <a:solidFill>
              <a:srgbClr val="df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70000"/>
                </a:lnSpc>
                <a:buClr>
                  <a:srgbClr val="000066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Напиши слово 3 раза, проговаривая его по слогам, выдели орфограмму, 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поставь знак ударения и раздели на слоги.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2. Придумай и запиши предложение с этим словом, определи грамматические признаки.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3. Спиши, вставляя пропущенные буквы:  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Г.рох  - это растение.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Г.рох растет в поле.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Из г.роха варят суп.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76000" y="457200"/>
            <a:ext cx="74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6. Усвоение и закрепление знаний о словарных 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                                словах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341000"/>
            <a:ext cx="8640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ды дикта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рительный  диктант с предварительным разбор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тинный диктан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борочный диктан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ктант с использованием загад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ктант по памя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ктант с комментирова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ческий диктан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тный диктан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ктант «Проверяй себя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ольный диктан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тоговый контрольный диктан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24891-0C31-4B8D-8322-541B8E71A71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1547640" y="373320"/>
            <a:ext cx="67694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.  Обобщение  и  систематизация  знаний.            </a:t>
            </a: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      </a:t>
            </a: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  <a:ea typeface="Times New Roman"/>
              </a:rPr>
              <a:t>Таблица № 1.   Общая  для  группы  слов  тема.</a:t>
            </a:r>
            <a:endParaRPr b="1" i="1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  группа:  «Школа».</a:t>
            </a:r>
            <a:endParaRPr b="1" i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  группа:  «Овощи».</a:t>
            </a:r>
            <a:endParaRPr b="1" i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  группа:  «Животные».</a:t>
            </a:r>
            <a:endParaRPr b="1" i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  группа:  «Птицы».</a:t>
            </a:r>
            <a:endParaRPr b="1" i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  группа  «Инструменты».</a:t>
            </a:r>
            <a:endParaRPr b="1" i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  группа:  «Посуда».</a:t>
            </a:r>
            <a:endParaRPr b="1" i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7  группа:  «Погода».</a:t>
            </a:r>
            <a:endParaRPr b="1" i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8  группа:  «Город».                                     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 2 класс</a:t>
            </a:r>
            <a:endParaRPr b="1" i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332000" y="3573360"/>
          <a:ext cx="7056360" cy="3140280"/>
        </p:xfrm>
        <a:graphic>
          <a:graphicData uri="http://schemas.openxmlformats.org/drawingml/2006/table">
            <a:tbl>
              <a:tblPr/>
              <a:tblGrid>
                <a:gridCol w="1411200"/>
                <a:gridCol w="1411200"/>
                <a:gridCol w="1411200"/>
                <a:gridCol w="1411560"/>
                <a:gridCol w="1411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  групп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  групп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  групп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  групп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  групп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карандаш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ребят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пенал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тетрадь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дежурный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горох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капуст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помидор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огурец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морковь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собак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заяц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коров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воробей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ворон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лопат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топор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молоток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6  групп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7  групп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8  группа 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тарелк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стакан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ветер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мороз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рабочий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машин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улиц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37" name="Rectangle 134"/>
          <p:cNvSpPr/>
          <p:nvPr/>
        </p:nvSpPr>
        <p:spPr>
          <a:xfrm>
            <a:off x="0" y="644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a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179280" y="260280"/>
            <a:ext cx="597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 день  "Знакомство  с  группой".</a:t>
            </a:r>
            <a:endParaRPr b="1" i="1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WordArt 5"/>
          <p:cNvSpPr txBox="1"/>
          <p:nvPr/>
        </p:nvSpPr>
        <p:spPr>
          <a:xfrm>
            <a:off x="179280" y="1413000"/>
            <a:ext cx="597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 день  "Запись  слов,  используя  таблицу".</a:t>
            </a:r>
            <a:endParaRPr b="1" i="1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WordArt 6"/>
          <p:cNvSpPr txBox="1"/>
          <p:nvPr/>
        </p:nvSpPr>
        <p:spPr>
          <a:xfrm>
            <a:off x="250920" y="2565360"/>
            <a:ext cx="611964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  день  "Запоминание  слов,  используя  таблицу".</a:t>
            </a:r>
            <a:endParaRPr b="1" i="1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WordArt 7"/>
          <p:cNvSpPr txBox="1"/>
          <p:nvPr/>
        </p:nvSpPr>
        <p:spPr>
          <a:xfrm>
            <a:off x="250920" y="3716280"/>
            <a:ext cx="626580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  день  "Запись  слов  без  помощи  таблицы".</a:t>
            </a:r>
            <a:endParaRPr b="1" i="1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2" name="WordArt 9" descr=""/>
          <p:cNvPicPr/>
          <p:nvPr/>
        </p:nvPicPr>
        <p:blipFill>
          <a:blip r:embed="rId1"/>
          <a:stretch/>
        </p:blipFill>
        <p:spPr>
          <a:xfrm>
            <a:off x="237960" y="4784760"/>
            <a:ext cx="6175440" cy="9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чины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920" y="1197000"/>
            <a:ext cx="8678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юбой алгоритм работы над словарными словами вызывает большие трудности, вследствие недоразвития навыков самоконтроля и высокого истощения психических процесс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ительная работа по запоминанию этих слов не всегда результативна, вследствие недостатка объёма долговременной памя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глядно- иллюстративный материал из школьного «Картинного словаря» лишь привлекает внимание учащихся к работе, а запоминанию непроверяемой буквы не способству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6D4D2-6CCB-4F3D-9FA8-6B7C414902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ship2-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"/>
          <p:cNvSpPr/>
          <p:nvPr/>
        </p:nvSpPr>
        <p:spPr>
          <a:xfrm>
            <a:off x="0" y="457200"/>
            <a:ext cx="845820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Методика</a:t>
            </a:r>
            <a:r>
              <a:rPr b="1" i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- не догма, а источник творчества.</a:t>
            </a:r>
            <a:endParaRPr b="1" i="1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Успехов Вам, здоровья,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творческих поисков,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ярких и полезных дел!</a:t>
            </a:r>
            <a:endParaRPr b="1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8075520" cy="20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Спасибо  за  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44E9-3501-421F-B233-D6AF27938A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Средства обучен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9640" y="1700280"/>
            <a:ext cx="835344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ечатные средства обуч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Материально – предметны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Наглядные средства обуч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Технические средства обуч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7F914-C0B5-4E84-903B-FA36EDBC6AA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Методы работы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1700280"/>
            <a:ext cx="835344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ловесный метод (рассказы, бесед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глядный мет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Игровой метод (кроссворды, ребусы, дидактические игры, игровые задания, упражнения и т. д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Метод ярких ассоциаций (трудная орфограмма связывается с ярким ассоциативным образо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Частично – поисковый метод  (в процессе которого идут поиск, анализ, сопоставление и обобщени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7B66-B5BC-4E71-99A3-765512E323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Этапы работы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4000" y="1143000"/>
            <a:ext cx="8640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ставление нового с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лкование лексе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мологическая справ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воение орфограммы с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едение нового слова в активный словарь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воение и закрепление знаний о словарных слов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бщение  и систематизация зн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A08E-CE63-4EBD-AAEA-EAA2B300E21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738E0-C917-470F-B96A-3752744FDC3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Picture 7" descr="DSC00901"/>
          <p:cNvPicPr/>
          <p:nvPr/>
        </p:nvPicPr>
        <p:blipFill>
          <a:blip r:embed="rId1"/>
          <a:stretch/>
        </p:blipFill>
        <p:spPr>
          <a:xfrm>
            <a:off x="0" y="333360"/>
            <a:ext cx="4500720" cy="604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38" name="Picture 8" descr="DSC00902"/>
          <p:cNvPicPr/>
          <p:nvPr/>
        </p:nvPicPr>
        <p:blipFill>
          <a:blip r:embed="rId2"/>
          <a:stretch/>
        </p:blipFill>
        <p:spPr>
          <a:xfrm>
            <a:off x="4572000" y="333360"/>
            <a:ext cx="4572000" cy="604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Monotype Corsiva"/>
              </a:rPr>
              <a:t>1. Введение нового словарного слова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348E-3207-46D2-8537-953A48F3A6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Picture 8" descr="img016"/>
          <p:cNvPicPr/>
          <p:nvPr/>
        </p:nvPicPr>
        <p:blipFill>
          <a:blip r:embed="rId1"/>
          <a:stretch/>
        </p:blipFill>
        <p:spPr>
          <a:xfrm>
            <a:off x="0" y="1341360"/>
            <a:ext cx="4643280" cy="5516640"/>
          </a:xfrm>
          <a:prstGeom prst="rect">
            <a:avLst/>
          </a:prstGeom>
          <a:ln w="9360">
            <a:solidFill>
              <a:srgbClr val="ff3399"/>
            </a:solidFill>
            <a:miter/>
          </a:ln>
        </p:spPr>
      </p:pic>
      <p:pic>
        <p:nvPicPr>
          <p:cNvPr id="142" name="Picture 9" descr="img015"/>
          <p:cNvPicPr/>
          <p:nvPr/>
        </p:nvPicPr>
        <p:blipFill>
          <a:blip r:embed="rId2"/>
          <a:stretch/>
        </p:blipFill>
        <p:spPr>
          <a:xfrm>
            <a:off x="4716360" y="1341360"/>
            <a:ext cx="4427640" cy="5516640"/>
          </a:xfrm>
          <a:prstGeom prst="rect">
            <a:avLst/>
          </a:prstGeom>
          <a:ln w="9360">
            <a:solidFill>
              <a:srgbClr val="ff3399"/>
            </a:solidFill>
            <a:miter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0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ёлка 007"/>
          <p:cNvPicPr/>
          <p:nvPr/>
        </p:nvPicPr>
        <p:blipFill>
          <a:blip r:embed="rId1"/>
          <a:stretch/>
        </p:blipFill>
        <p:spPr>
          <a:xfrm>
            <a:off x="0" y="1628640"/>
            <a:ext cx="2736720" cy="52293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44" name="WordArt 7"/>
          <p:cNvSpPr txBox="1"/>
          <p:nvPr/>
        </p:nvSpPr>
        <p:spPr>
          <a:xfrm>
            <a:off x="2340000" y="333360"/>
            <a:ext cx="273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.  Что  такое  сапоги ?</a:t>
            </a:r>
            <a:endParaRPr b="1" i="1" lang="en-US" sz="2400" spc="1" strike="noStrike">
              <a:ln w="9360">
                <a:solidFill>
                  <a:srgbClr val="9900cc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5" name="WordArt 8" descr=""/>
          <p:cNvPicPr/>
          <p:nvPr/>
        </p:nvPicPr>
        <p:blipFill>
          <a:blip r:embed="rId2"/>
          <a:stretch/>
        </p:blipFill>
        <p:spPr>
          <a:xfrm>
            <a:off x="2475000" y="755640"/>
            <a:ext cx="2475000" cy="371520"/>
          </a:xfrm>
          <a:prstGeom prst="rect">
            <a:avLst/>
          </a:prstGeom>
          <a:ln w="0">
            <a:noFill/>
          </a:ln>
        </p:spPr>
      </p:pic>
      <p:pic>
        <p:nvPicPr>
          <p:cNvPr id="146" name="WordArt 9" descr=""/>
          <p:cNvPicPr/>
          <p:nvPr/>
        </p:nvPicPr>
        <p:blipFill>
          <a:blip r:embed="rId3"/>
          <a:stretch/>
        </p:blipFill>
        <p:spPr>
          <a:xfrm>
            <a:off x="2328840" y="1189080"/>
            <a:ext cx="4950000" cy="347760"/>
          </a:xfrm>
          <a:prstGeom prst="rect">
            <a:avLst/>
          </a:prstGeom>
          <a:ln w="0">
            <a:noFill/>
          </a:ln>
        </p:spPr>
      </p:pic>
      <p:pic>
        <p:nvPicPr>
          <p:cNvPr id="147" name="WordArt 10" descr=""/>
          <p:cNvPicPr/>
          <p:nvPr/>
        </p:nvPicPr>
        <p:blipFill>
          <a:blip r:embed="rId4"/>
          <a:stretch/>
        </p:blipFill>
        <p:spPr>
          <a:xfrm>
            <a:off x="2255760" y="1616040"/>
            <a:ext cx="6748560" cy="37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ёлка 011"/>
          <p:cNvPicPr/>
          <p:nvPr/>
        </p:nvPicPr>
        <p:blipFill>
          <a:blip r:embed="rId5"/>
          <a:stretch/>
        </p:blipFill>
        <p:spPr>
          <a:xfrm>
            <a:off x="2700360" y="1989000"/>
            <a:ext cx="1511280" cy="105588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pic>
        <p:nvPicPr>
          <p:cNvPr id="149" name="Picture 12" descr="ёлка 015"/>
          <p:cNvPicPr/>
          <p:nvPr/>
        </p:nvPicPr>
        <p:blipFill>
          <a:blip r:embed="rId6"/>
          <a:stretch/>
        </p:blipFill>
        <p:spPr>
          <a:xfrm>
            <a:off x="4356000" y="1989000"/>
            <a:ext cx="1486080" cy="107964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pic>
        <p:nvPicPr>
          <p:cNvPr id="150" name="Picture 13" descr="ёлка 010"/>
          <p:cNvPicPr/>
          <p:nvPr/>
        </p:nvPicPr>
        <p:blipFill>
          <a:blip r:embed="rId7"/>
          <a:stretch/>
        </p:blipFill>
        <p:spPr>
          <a:xfrm>
            <a:off x="5940360" y="1989000"/>
            <a:ext cx="1451160" cy="105408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pic>
        <p:nvPicPr>
          <p:cNvPr id="151" name="Picture 14" descr="ёлка 012"/>
          <p:cNvPicPr/>
          <p:nvPr/>
        </p:nvPicPr>
        <p:blipFill>
          <a:blip r:embed="rId8"/>
          <a:stretch/>
        </p:blipFill>
        <p:spPr>
          <a:xfrm>
            <a:off x="7524720" y="1989000"/>
            <a:ext cx="1451160" cy="105408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sp>
        <p:nvSpPr>
          <p:cNvPr id="152" name="WordArt 15"/>
          <p:cNvSpPr txBox="1"/>
          <p:nvPr/>
        </p:nvSpPr>
        <p:spPr>
          <a:xfrm>
            <a:off x="2268360" y="3357720"/>
            <a:ext cx="656280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.  Верно,  но  туфли,  кроссовки,  тапочки - это  тоже  обувь.</a:t>
            </a:r>
            <a:endParaRPr b="1" i="1" lang="en-US" sz="2000" spc="1" strike="noStrike">
              <a:ln w="9360">
                <a:solidFill>
                  <a:srgbClr val="9900cc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16"/>
          <p:cNvSpPr txBox="1"/>
          <p:nvPr/>
        </p:nvSpPr>
        <p:spPr>
          <a:xfrm>
            <a:off x="2556000" y="3789360"/>
            <a:ext cx="260028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м  они  отличаются ?</a:t>
            </a:r>
            <a:endParaRPr b="1" i="1" lang="en-US" sz="2000" spc="1" strike="noStrike">
              <a:ln w="9360">
                <a:solidFill>
                  <a:srgbClr val="9900cc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17"/>
          <p:cNvSpPr txBox="1"/>
          <p:nvPr/>
        </p:nvSpPr>
        <p:spPr>
          <a:xfrm>
            <a:off x="2268360" y="4221000"/>
            <a:ext cx="6659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.  Сапоги - это  высокая  обувь,  а  туфли,  кроссовки,  тапочки - низкая.</a:t>
            </a:r>
            <a:endParaRPr b="1" i="1" lang="en-US" sz="2000" spc="1" strike="noStrike">
              <a:ln w="9360">
                <a:solidFill>
                  <a:srgbClr val="9900cc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18"/>
          <p:cNvSpPr txBox="1"/>
          <p:nvPr/>
        </p:nvSpPr>
        <p:spPr>
          <a:xfrm>
            <a:off x="2340000" y="4653000"/>
            <a:ext cx="44956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.  Из  какого  материала  шьют  сапоги ?</a:t>
            </a:r>
            <a:endParaRPr b="1" i="1" lang="en-US" sz="2000" spc="1" strike="noStrike">
              <a:ln w="9360">
                <a:solidFill>
                  <a:srgbClr val="9900cc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9"/>
          <p:cNvSpPr txBox="1"/>
          <p:nvPr/>
        </p:nvSpPr>
        <p:spPr>
          <a:xfrm>
            <a:off x="2340000" y="5084640"/>
            <a:ext cx="648648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.  Сапоги  шьют  из  кожи,  резины  и  другого  материала.</a:t>
            </a:r>
            <a:endParaRPr b="1" i="1" lang="en-US" sz="2000" spc="1" strike="noStrike">
              <a:ln w="9360">
                <a:solidFill>
                  <a:srgbClr val="9900cc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20"/>
          <p:cNvSpPr txBox="1"/>
          <p:nvPr/>
        </p:nvSpPr>
        <p:spPr>
          <a:xfrm>
            <a:off x="2771640" y="5589720"/>
            <a:ext cx="57628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.  Дайте  полное  определение,  что  такое  сапоги ?</a:t>
            </a:r>
            <a:endParaRPr b="1" i="1" lang="en-US" sz="2000" spc="1" strike="noStrike">
              <a:ln w="9360">
                <a:solidFill>
                  <a:srgbClr val="9900cc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21"/>
          <p:cNvSpPr txBox="1"/>
          <p:nvPr/>
        </p:nvSpPr>
        <p:spPr>
          <a:xfrm>
            <a:off x="826920" y="6021360"/>
            <a:ext cx="811548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.  Сапоги - это  высокая  обувь  из  кожи,  резины  и  другого  материала.</a:t>
            </a:r>
            <a:endParaRPr b="1" i="1" lang="en-US" sz="2000" spc="1" strike="noStrike">
              <a:ln w="9360">
                <a:solidFill>
                  <a:srgbClr val="9900cc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0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img006"/>
          <p:cNvPicPr/>
          <p:nvPr/>
        </p:nvPicPr>
        <p:blipFill>
          <a:blip r:embed="rId1"/>
          <a:stretch/>
        </p:blipFill>
        <p:spPr>
          <a:xfrm>
            <a:off x="0" y="1413000"/>
            <a:ext cx="3203640" cy="52560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160" name="WordArt 6"/>
          <p:cNvSpPr txBox="1"/>
          <p:nvPr/>
        </p:nvSpPr>
        <p:spPr>
          <a:xfrm>
            <a:off x="2411280" y="404640"/>
            <a:ext cx="4321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.   Этимология.</a:t>
            </a:r>
            <a:endParaRPr b="1" i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WordArt 10"/>
          <p:cNvSpPr txBox="1"/>
          <p:nvPr/>
        </p:nvSpPr>
        <p:spPr>
          <a:xfrm>
            <a:off x="3851280" y="1197000"/>
            <a:ext cx="529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рёза</a:t>
            </a:r>
            <a:endParaRPr b="1" i="1" lang="en-US" sz="2000" spc="1" strike="noStrike">
              <a:ln w="9360">
                <a:solidFill>
                  <a:srgbClr val="ff0066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рёза  растёт  в  России  с  незапамятных  времён.</a:t>
            </a:r>
            <a:endParaRPr b="1" i="1" lang="en-US" sz="2000" spc="1" strike="noStrike">
              <a:ln w="9360">
                <a:solidFill>
                  <a:srgbClr val="ff0066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WordArt 12"/>
          <p:cNvSpPr txBox="1"/>
          <p:nvPr/>
        </p:nvSpPr>
        <p:spPr>
          <a:xfrm>
            <a:off x="3851280" y="2349360"/>
            <a:ext cx="529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  цвета  коры  получила  она  своё  имя,  которое  означает</a:t>
            </a:r>
            <a:endParaRPr b="1" i="1" lang="en-US" sz="2000" spc="1" strike="noStrike">
              <a:ln w="9360">
                <a:solidFill>
                  <a:srgbClr val="ff0066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3" name="WordArt 13" descr=""/>
          <p:cNvPicPr/>
          <p:nvPr/>
        </p:nvPicPr>
        <p:blipFill>
          <a:blip r:embed="rId2"/>
          <a:stretch/>
        </p:blipFill>
        <p:spPr>
          <a:xfrm>
            <a:off x="3767040" y="2914560"/>
            <a:ext cx="5413320" cy="620640"/>
          </a:xfrm>
          <a:prstGeom prst="rect">
            <a:avLst/>
          </a:prstGeom>
          <a:ln w="0">
            <a:noFill/>
          </a:ln>
        </p:spPr>
      </p:pic>
      <p:sp>
        <p:nvSpPr>
          <p:cNvPr id="164" name="WordArt 14"/>
          <p:cNvSpPr txBox="1"/>
          <p:nvPr/>
        </p:nvSpPr>
        <p:spPr>
          <a:xfrm>
            <a:off x="3851280" y="3500280"/>
            <a:ext cx="5292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древние   времена  Новый  год  начинался  праздничным</a:t>
            </a:r>
            <a:endParaRPr b="1" i="1" lang="en-US" sz="2000" spc="1" strike="noStrike">
              <a:ln w="9360">
                <a:solidFill>
                  <a:srgbClr val="ff0066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WordArt 15"/>
          <p:cNvSpPr txBox="1"/>
          <p:nvPr/>
        </p:nvSpPr>
        <p:spPr>
          <a:xfrm>
            <a:off x="3851280" y="3933720"/>
            <a:ext cx="529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ядом  не  у  ёлки,  а  у  берёзы.  Берёзовый  Новый  год</a:t>
            </a:r>
            <a:endParaRPr b="1" i="1" lang="en-US" sz="2000" spc="1" strike="noStrike">
              <a:ln w="9360">
                <a:solidFill>
                  <a:srgbClr val="ff0066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WordArt 16" descr=""/>
          <p:cNvPicPr/>
          <p:nvPr/>
        </p:nvPicPr>
        <p:blipFill>
          <a:blip r:embed="rId3"/>
          <a:stretch/>
        </p:blipFill>
        <p:spPr>
          <a:xfrm>
            <a:off x="3767040" y="4352760"/>
            <a:ext cx="5413320" cy="554040"/>
          </a:xfrm>
          <a:prstGeom prst="rect">
            <a:avLst/>
          </a:prstGeom>
          <a:ln w="0">
            <a:noFill/>
          </a:ln>
        </p:spPr>
      </p:pic>
      <p:sp>
        <p:nvSpPr>
          <p:cNvPr id="167" name="WordArt 17"/>
          <p:cNvSpPr txBox="1"/>
          <p:nvPr/>
        </p:nvSpPr>
        <p:spPr>
          <a:xfrm>
            <a:off x="3780000" y="4797360"/>
            <a:ext cx="536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дяных  и  небесных  духов.  Но  главной  богиней  среди</a:t>
            </a:r>
            <a:endParaRPr b="1" i="1" lang="en-US" sz="2000" spc="1" strike="noStrike">
              <a:ln w="9360">
                <a:solidFill>
                  <a:srgbClr val="ff0066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18"/>
          <p:cNvSpPr txBox="1"/>
          <p:nvPr/>
        </p:nvSpPr>
        <p:spPr>
          <a:xfrm>
            <a:off x="3780000" y="5300640"/>
            <a:ext cx="5084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их  считалась  Берегиня.  Её  изображение  не  сохранилось.</a:t>
            </a:r>
            <a:endParaRPr b="1" i="1" lang="en-US" sz="2000" spc="1" strike="noStrike">
              <a:ln w="9360">
                <a:solidFill>
                  <a:srgbClr val="ff0066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WordArt 19"/>
          <p:cNvSpPr txBox="1"/>
          <p:nvPr/>
        </p:nvSpPr>
        <p:spPr>
          <a:xfrm>
            <a:off x="3762360" y="5734080"/>
            <a:ext cx="53816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днако  некоторые  историки  считают,  что  оно  имело</a:t>
            </a:r>
            <a:endParaRPr b="1" i="1" lang="en-US" sz="2000" spc="1" strike="noStrike">
              <a:ln w="9360">
                <a:solidFill>
                  <a:srgbClr val="ff0066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0" name="WordArt 20" descr=""/>
          <p:cNvPicPr/>
          <p:nvPr/>
        </p:nvPicPr>
        <p:blipFill>
          <a:blip r:embed="rId4"/>
          <a:stretch/>
        </p:blipFill>
        <p:spPr>
          <a:xfrm>
            <a:off x="3767040" y="6297480"/>
            <a:ext cx="5059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0:39:28Z</dcterms:created>
  <dc:creator>татьяна</dc:creator>
  <dc:description/>
  <dc:language>en-US</dc:language>
  <cp:lastModifiedBy>Anton</cp:lastModifiedBy>
  <dcterms:modified xsi:type="dcterms:W3CDTF">2018-08-02T15:43:16Z</dcterms:modified>
  <cp:revision>99</cp:revision>
  <dc:subject/>
  <dc:title>Организация и содержание методической работы</dc:title>
</cp:coreProperties>
</file>