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45D-045F-4EBB-97F9-2082120E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A82-6B57-4659-93AD-EDC9F62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F56-0C5F-4892-A148-6F526F04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AC5-D80B-4C22-AE41-F27C2C82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6D9-13DC-4107-877B-9B2D93A8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D97-0453-4545-966A-805C78A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67B-DF37-4912-B96C-57FBB08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6C2-A1B6-499A-A998-5C80F25D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8B5-975D-41BC-A5DD-A1F859D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E26-A369-4D8D-BBC7-7FAF214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BB5-1F9B-40F6-A90C-036F659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3DB-8C9E-4ED7-A3FE-620E275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666A-1F26-4993-B738-439E3C5B3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6894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№ 3 г. Амур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мурского муниципального района Хабаровского кра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2362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о 2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9480" y="2971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много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419720" y="49528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шко Татьяна Сергеевна,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1148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533520" y="1600200"/>
            <a:ext cx="815328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</a:t>
            </a:r>
            <a:r>
              <a:rPr b="1" lang="ru-RU" sz="96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ОМКР</a:t>
            </a:r>
            <a:r>
              <a:rPr b="1" lang="en-US" sz="96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D </a:t>
            </a:r>
            <a:r>
              <a:rPr b="1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10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</a:t>
            </a:r>
            <a:r>
              <a:rPr b="1" lang="en-US" sz="96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ABCH </a:t>
            </a:r>
            <a:r>
              <a:rPr b="1" lang="en-US" sz="9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 10</a:t>
            </a:r>
            <a:r>
              <a:rPr b="1" lang="ru-RU" sz="9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2362320" y="559440"/>
            <a:ext cx="472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  <a:ea typeface="Calibri"/>
              </a:rPr>
              <a:t>Р = 36 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AB = 9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imes New Roman"/>
                <a:ea typeface="Calibri"/>
              </a:rPr>
              <a:t>BC = 7 </a:t>
            </a:r>
            <a:r>
              <a:rPr b="0" lang="ru-RU" sz="7200" spc="-1" strike="noStrike">
                <a:solidFill>
                  <a:srgbClr val="660066"/>
                </a:solidFill>
                <a:latin typeface="Times New Roman"/>
                <a:ea typeface="Calibri"/>
              </a:rPr>
              <a:t>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  <a:ea typeface="Calibri"/>
              </a:rPr>
              <a:t>CD = </a:t>
            </a:r>
            <a:r>
              <a:rPr b="0" lang="ru-RU" sz="7200" spc="-1" strike="noStrike">
                <a:solidFill>
                  <a:srgbClr val="008000"/>
                </a:solidFill>
                <a:latin typeface="Times New Roman"/>
                <a:ea typeface="Calibri"/>
              </a:rPr>
              <a:t>12 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Times New Roman"/>
                <a:ea typeface="Calibri"/>
              </a:rPr>
              <a:t>DA</a:t>
            </a:r>
            <a:r>
              <a:rPr b="0" lang="ru-RU" sz="7200" spc="-1" strike="noStrike">
                <a:solidFill>
                  <a:srgbClr val="a50021"/>
                </a:solidFill>
                <a:latin typeface="Times New Roman"/>
                <a:ea typeface="Calibri"/>
              </a:rPr>
              <a:t> =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457200" y="2143800"/>
            <a:ext cx="1082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Calibri"/>
              </a:rPr>
              <a:t>Я научился (научилась)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  <a:ea typeface="Calibri"/>
              </a:rPr>
              <a:t>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не было интересно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Calibri"/>
              </a:rPr>
              <a:t>Я затруднялся (затруднялась)</a:t>
            </a:r>
            <a:r>
              <a:rPr b="1" lang="ru-RU" sz="4800" spc="-1" strike="noStrike">
                <a:solidFill>
                  <a:srgbClr val="009900"/>
                </a:solidFill>
                <a:latin typeface="Calibri"/>
                <a:ea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8-01-22T09:54:1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