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C07-259E-4BE6-AC12-2AC65DEC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A6F-DD96-4AD8-8A94-38480573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789-18C1-46DF-BFD7-DD6400FC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197-5C5E-4574-A6E7-CF2F3DA7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04A-7F5F-4D7C-87D0-64087198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5C5-294B-4817-945F-4639AD57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A24-828F-495E-A952-721462E9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458-8D55-4E37-AA17-C28D5D48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7AA-2FA5-4F95-B477-F7184B03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B96-D60F-49F3-9845-CBE9CB49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CD6-2736-4EDA-8A97-EB00A42F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B8D-75F1-4622-BC39-7E715974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2CB2-B6A6-462C-8D01-44AB9CC92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809880" y="-285840"/>
            <a:ext cx="1524240" cy="742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33520" y="6894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бюджет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общеобразовательная школа № 3 г. Амур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мурского муниципального района Хабаровского кра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33520" y="2362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математики во 2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09480" y="29718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метр многоугольн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419720" y="49528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шко Татьяна Сергеевна,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11480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809880" y="-285840"/>
            <a:ext cx="1524240" cy="742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533520" y="1600200"/>
            <a:ext cx="815328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</a:t>
            </a:r>
            <a:r>
              <a:rPr b="1" lang="ru-RU" sz="96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ОМКР</a:t>
            </a:r>
            <a:r>
              <a:rPr b="1" lang="en-US" sz="96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D </a:t>
            </a:r>
            <a:r>
              <a:rPr b="1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10 с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</a:t>
            </a:r>
            <a:r>
              <a:rPr b="1" lang="en-US" sz="96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ABCH </a:t>
            </a:r>
            <a:r>
              <a:rPr b="1" lang="en-US" sz="9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 10</a:t>
            </a:r>
            <a:r>
              <a:rPr b="1" lang="ru-RU" sz="9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с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809880" y="-285840"/>
            <a:ext cx="1524240" cy="742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2362320" y="559440"/>
            <a:ext cx="472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imes New Roman"/>
                <a:ea typeface="Calibri"/>
              </a:rPr>
              <a:t>Р = 36 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AB = 9 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imes New Roman"/>
                <a:ea typeface="Calibri"/>
              </a:rPr>
              <a:t>BC = 7 </a:t>
            </a:r>
            <a:r>
              <a:rPr b="0" lang="ru-RU" sz="7200" spc="-1" strike="noStrike">
                <a:solidFill>
                  <a:srgbClr val="660066"/>
                </a:solidFill>
                <a:latin typeface="Times New Roman"/>
                <a:ea typeface="Calibri"/>
              </a:rPr>
              <a:t>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  <a:ea typeface="Calibri"/>
              </a:rPr>
              <a:t>CD = </a:t>
            </a:r>
            <a:r>
              <a:rPr b="0" lang="ru-RU" sz="7200" spc="-1" strike="noStrike">
                <a:solidFill>
                  <a:srgbClr val="008000"/>
                </a:solidFill>
                <a:latin typeface="Times New Roman"/>
                <a:ea typeface="Calibri"/>
              </a:rPr>
              <a:t>12 с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Times New Roman"/>
                <a:ea typeface="Calibri"/>
              </a:rPr>
              <a:t>DA</a:t>
            </a:r>
            <a:r>
              <a:rPr b="0" lang="ru-RU" sz="7200" spc="-1" strike="noStrike">
                <a:solidFill>
                  <a:srgbClr val="a50021"/>
                </a:solidFill>
                <a:latin typeface="Times New Roman"/>
                <a:ea typeface="Calibri"/>
              </a:rPr>
              <a:t> =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3809880" y="-285840"/>
            <a:ext cx="1524240" cy="742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457200" y="2143800"/>
            <a:ext cx="10820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Calibri"/>
              </a:rPr>
              <a:t>Я научился (научилась)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  <a:ea typeface="Calibri"/>
              </a:rPr>
              <a:t>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Calibri"/>
              </a:rPr>
              <a:t>Мне было интересно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  <a:ea typeface="Calibri"/>
              </a:rPr>
              <a:t>Я затруднялся (затруднялась)</a:t>
            </a:r>
            <a:r>
              <a:rPr b="1" lang="ru-RU" sz="4800" spc="-1" strike="noStrike">
                <a:solidFill>
                  <a:srgbClr val="009900"/>
                </a:solidFill>
                <a:latin typeface="Calibri"/>
                <a:ea typeface="Calibri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8-01-22T09:54:10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