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5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D140-A0D4-4866-B37A-202CE710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570A-2CAE-4C21-9880-D10ED517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0289-438B-4E4E-9045-5BBF93779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889C-1022-41AF-8158-1D647341F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A31D-0DBA-41A9-92A2-3ED50E38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4A0-D416-4B98-851D-206F13BA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52C-EB1D-462A-8020-D5AC4C5E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757-5B41-4A3E-8FC7-AEBB1C22E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934D-726E-4E63-ABB8-E1B337E1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716-A986-4CFD-BF9D-2118E727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719D-FF32-4A36-8084-CC14C9C2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7C8D-5970-4ECD-914E-5B8E35F4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1D7A-AB0F-4E77-9BB8-3B35FF3E6F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Admin\Рабочий стол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Подвижные игры с детьми  младшего дошкольного возрас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Администратор\Desktop\deva216_27.gif"/>
          <p:cNvPicPr/>
          <p:nvPr/>
        </p:nvPicPr>
        <p:blipFill>
          <a:blip r:embed="rId2"/>
          <a:stretch/>
        </p:blipFill>
        <p:spPr>
          <a:xfrm>
            <a:off x="395280" y="4497480"/>
            <a:ext cx="1379520" cy="1655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85920" y="285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АДОУ ЦРР д/ с №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роливец Е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Прямоугольник 5"/>
          <p:cNvSpPr/>
          <p:nvPr/>
        </p:nvSpPr>
        <p:spPr>
          <a:xfrm>
            <a:off x="237960" y="189000"/>
            <a:ext cx="8498160" cy="6480000"/>
          </a:xfrm>
          <a:prstGeom prst="rect">
            <a:avLst/>
          </a:prstGeom>
          <a:solidFill>
            <a:srgbClr val="41bec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хема 2" descr=""/>
          <p:cNvPicPr/>
          <p:nvPr/>
        </p:nvPicPr>
        <p:blipFill>
          <a:blip r:embed="rId3"/>
          <a:stretch/>
        </p:blipFill>
        <p:spPr>
          <a:xfrm>
            <a:off x="1517760" y="1682640"/>
            <a:ext cx="6108480" cy="410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лияние подвижных игр на развитие ребенка</a:t>
            </a: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Марат\Desktop\t8415.gif"/>
          <p:cNvPicPr/>
          <p:nvPr/>
        </p:nvPicPr>
        <p:blipFill>
          <a:blip r:embed="rId4"/>
          <a:stretch/>
        </p:blipFill>
        <p:spPr>
          <a:xfrm>
            <a:off x="7230960" y="4869000"/>
            <a:ext cx="1333440" cy="142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5"/>
          <a:stretch/>
        </p:blipFill>
        <p:spPr>
          <a:xfrm>
            <a:off x="468360" y="963720"/>
            <a:ext cx="1359000" cy="213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322200" y="260280"/>
            <a:ext cx="8210520" cy="6438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1042920" y="190440"/>
            <a:ext cx="727416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Задачи работы с детьми 3-4 лет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322200" y="1063800"/>
            <a:ext cx="83534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етей согласовывать свои действия с движениями других, начинать и заканчивать упражнения одновременно, соблюдать предложенный тем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етей реагировать на сигнал и действовать в соответствии с 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етей самостоятельно выполнять простейшие построения и перестроения, уверенно, в соответствии с указаниями воспитателя выполнять физически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имать активное участие в подвижных иг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но развивать скоростно-силовые качества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Марат\Desktop\2249457-6795badcaa856337.gif"/>
          <p:cNvPicPr/>
          <p:nvPr/>
        </p:nvPicPr>
        <p:blipFill>
          <a:blip r:embed="rId4"/>
          <a:stretch/>
        </p:blipFill>
        <p:spPr>
          <a:xfrm>
            <a:off x="6570720" y="5618160"/>
            <a:ext cx="196200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Прямоугольник 5"/>
          <p:cNvSpPr/>
          <p:nvPr/>
        </p:nvSpPr>
        <p:spPr>
          <a:xfrm>
            <a:off x="237960" y="81000"/>
            <a:ext cx="8498160" cy="6480000"/>
          </a:xfrm>
          <a:prstGeom prst="rect">
            <a:avLst/>
          </a:prstGeom>
          <a:solidFill>
            <a:srgbClr val="41bec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-171360"/>
            <a:ext cx="6337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0" descr=""/>
          <p:cNvPicPr/>
          <p:nvPr/>
        </p:nvPicPr>
        <p:blipFill>
          <a:blip r:embed="rId3"/>
          <a:stretch/>
        </p:blipFill>
        <p:spPr>
          <a:xfrm>
            <a:off x="2124000" y="3448080"/>
            <a:ext cx="2087640" cy="30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5076720" y="3608280"/>
            <a:ext cx="203544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5"/>
          <a:stretch/>
        </p:blipFill>
        <p:spPr>
          <a:xfrm>
            <a:off x="6788160" y="1033560"/>
            <a:ext cx="1928880" cy="293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6"/>
          <a:srcRect l="10394" t="0" r="10162" b="12"/>
          <a:stretch/>
        </p:blipFill>
        <p:spPr>
          <a:xfrm>
            <a:off x="3081240" y="947880"/>
            <a:ext cx="2811600" cy="265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http://fantasticbook.ru/pict/1019240392.jpg"/>
          <p:cNvPicPr/>
          <p:nvPr/>
        </p:nvPicPr>
        <p:blipFill>
          <a:blip r:embed="rId7"/>
          <a:stretch/>
        </p:blipFill>
        <p:spPr>
          <a:xfrm>
            <a:off x="500040" y="785880"/>
            <a:ext cx="19112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:\Documents and Settings\Admin\Рабочий стол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237960" y="81000"/>
            <a:ext cx="8498160" cy="6480000"/>
          </a:xfrm>
          <a:prstGeom prst="rect">
            <a:avLst/>
          </a:prstGeom>
          <a:solidFill>
            <a:srgbClr val="41bec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40000" y="163440"/>
            <a:ext cx="44640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ассифика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116000" y="1025640"/>
            <a:ext cx="7169040" cy="963360"/>
          </a:xfrm>
          <a:prstGeom prst="rect">
            <a:avLst/>
          </a:prstGeom>
          <a:ln w="0">
            <a:noFill/>
          </a:ln>
        </p:spPr>
      </p:pic>
      <p:pic>
        <p:nvPicPr>
          <p:cNvPr id="76" name="Group 63" descr=""/>
          <p:cNvPicPr/>
          <p:nvPr/>
        </p:nvPicPr>
        <p:blipFill>
          <a:blip r:embed="rId3"/>
          <a:stretch/>
        </p:blipFill>
        <p:spPr>
          <a:xfrm>
            <a:off x="1171440" y="1859040"/>
            <a:ext cx="7094520" cy="988920"/>
          </a:xfrm>
          <a:prstGeom prst="rect">
            <a:avLst/>
          </a:prstGeom>
          <a:ln w="0">
            <a:noFill/>
          </a:ln>
        </p:spPr>
      </p:pic>
      <p:pic>
        <p:nvPicPr>
          <p:cNvPr id="77" name="Group 59" descr=""/>
          <p:cNvPicPr/>
          <p:nvPr/>
        </p:nvPicPr>
        <p:blipFill>
          <a:blip r:embed="rId4"/>
          <a:stretch/>
        </p:blipFill>
        <p:spPr>
          <a:xfrm>
            <a:off x="1386000" y="2722680"/>
            <a:ext cx="7169040" cy="974520"/>
          </a:xfrm>
          <a:prstGeom prst="rect">
            <a:avLst/>
          </a:prstGeom>
          <a:ln w="0">
            <a:noFill/>
          </a:ln>
        </p:spPr>
      </p:pic>
      <p:pic>
        <p:nvPicPr>
          <p:cNvPr id="78" name="Group 63" descr=""/>
          <p:cNvPicPr/>
          <p:nvPr/>
        </p:nvPicPr>
        <p:blipFill>
          <a:blip r:embed="rId5"/>
          <a:stretch/>
        </p:blipFill>
        <p:spPr>
          <a:xfrm>
            <a:off x="1147680" y="3708360"/>
            <a:ext cx="7105680" cy="930240"/>
          </a:xfrm>
          <a:prstGeom prst="rect">
            <a:avLst/>
          </a:prstGeom>
          <a:ln w="0">
            <a:noFill/>
          </a:ln>
        </p:spPr>
      </p:pic>
      <p:pic>
        <p:nvPicPr>
          <p:cNvPr id="79" name="Group 59" descr=""/>
          <p:cNvPicPr/>
          <p:nvPr/>
        </p:nvPicPr>
        <p:blipFill>
          <a:blip r:embed="rId6"/>
          <a:stretch/>
        </p:blipFill>
        <p:spPr>
          <a:xfrm>
            <a:off x="1192320" y="4638600"/>
            <a:ext cx="7167600" cy="1144800"/>
          </a:xfrm>
          <a:prstGeom prst="rect">
            <a:avLst/>
          </a:prstGeom>
          <a:ln w="0">
            <a:noFill/>
          </a:ln>
        </p:spPr>
      </p:pic>
      <p:pic>
        <p:nvPicPr>
          <p:cNvPr id="80" name="Group 51" descr=""/>
          <p:cNvPicPr/>
          <p:nvPr/>
        </p:nvPicPr>
        <p:blipFill>
          <a:blip r:embed="rId7"/>
          <a:stretch/>
        </p:blipFill>
        <p:spPr>
          <a:xfrm>
            <a:off x="1135080" y="5675400"/>
            <a:ext cx="7138800" cy="8604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309600" y="1025640"/>
            <a:ext cx="1547280" cy="863640"/>
            <a:chOff x="309600" y="1025640"/>
            <a:chExt cx="1547280" cy="863640"/>
          </a:xfrm>
        </p:grpSpPr>
        <p:sp>
          <p:nvSpPr>
            <p:cNvPr id="82" name="Oval 6"/>
            <p:cNvSpPr/>
            <p:nvPr/>
          </p:nvSpPr>
          <p:spPr>
            <a:xfrm>
              <a:off x="309600" y="1025640"/>
              <a:ext cx="154728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7"/>
            <p:cNvSpPr/>
            <p:nvPr/>
          </p:nvSpPr>
          <p:spPr>
            <a:xfrm>
              <a:off x="372960" y="1060200"/>
              <a:ext cx="141840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5"/>
          <p:cNvGrpSpPr/>
          <p:nvPr/>
        </p:nvGrpSpPr>
        <p:grpSpPr>
          <a:xfrm>
            <a:off x="252360" y="2705040"/>
            <a:ext cx="1604520" cy="895320"/>
            <a:chOff x="252360" y="2705040"/>
            <a:chExt cx="1604520" cy="895320"/>
          </a:xfrm>
        </p:grpSpPr>
        <p:sp>
          <p:nvSpPr>
            <p:cNvPr id="85" name="Oval 6"/>
            <p:cNvSpPr/>
            <p:nvPr/>
          </p:nvSpPr>
          <p:spPr>
            <a:xfrm>
              <a:off x="252360" y="2705040"/>
              <a:ext cx="1604520" cy="89532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318240" y="2741760"/>
              <a:ext cx="1469160" cy="82260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5"/>
          <p:cNvGrpSpPr/>
          <p:nvPr/>
        </p:nvGrpSpPr>
        <p:grpSpPr>
          <a:xfrm>
            <a:off x="279360" y="4660920"/>
            <a:ext cx="1547640" cy="863640"/>
            <a:chOff x="279360" y="4660920"/>
            <a:chExt cx="1547640" cy="863640"/>
          </a:xfrm>
        </p:grpSpPr>
        <p:sp>
          <p:nvSpPr>
            <p:cNvPr id="88" name="Oval 6"/>
            <p:cNvSpPr/>
            <p:nvPr/>
          </p:nvSpPr>
          <p:spPr>
            <a:xfrm>
              <a:off x="279360" y="4660920"/>
              <a:ext cx="154764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7"/>
            <p:cNvSpPr/>
            <p:nvPr/>
          </p:nvSpPr>
          <p:spPr>
            <a:xfrm>
              <a:off x="342720" y="4695480"/>
              <a:ext cx="141876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5"/>
          <p:cNvGrpSpPr/>
          <p:nvPr/>
        </p:nvGrpSpPr>
        <p:grpSpPr>
          <a:xfrm>
            <a:off x="7477200" y="5675400"/>
            <a:ext cx="1547280" cy="863640"/>
            <a:chOff x="7477200" y="5675400"/>
            <a:chExt cx="1547280" cy="863640"/>
          </a:xfrm>
        </p:grpSpPr>
        <p:sp>
          <p:nvSpPr>
            <p:cNvPr id="91" name="Oval 6"/>
            <p:cNvSpPr/>
            <p:nvPr/>
          </p:nvSpPr>
          <p:spPr>
            <a:xfrm>
              <a:off x="7477200" y="5675400"/>
              <a:ext cx="154728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7540560" y="5709960"/>
              <a:ext cx="141840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5"/>
          <p:cNvGrpSpPr/>
          <p:nvPr/>
        </p:nvGrpSpPr>
        <p:grpSpPr>
          <a:xfrm>
            <a:off x="7413480" y="3768840"/>
            <a:ext cx="1547640" cy="863640"/>
            <a:chOff x="7413480" y="3768840"/>
            <a:chExt cx="1547640" cy="863640"/>
          </a:xfrm>
        </p:grpSpPr>
        <p:sp>
          <p:nvSpPr>
            <p:cNvPr id="94" name="Oval 6"/>
            <p:cNvSpPr/>
            <p:nvPr/>
          </p:nvSpPr>
          <p:spPr>
            <a:xfrm>
              <a:off x="7413480" y="3768840"/>
              <a:ext cx="154764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7476840" y="3803400"/>
              <a:ext cx="141876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7412040" y="1859040"/>
            <a:ext cx="1547280" cy="863640"/>
            <a:chOff x="7412040" y="1859040"/>
            <a:chExt cx="1547280" cy="863640"/>
          </a:xfrm>
        </p:grpSpPr>
        <p:sp>
          <p:nvSpPr>
            <p:cNvPr id="97" name="Oval 6"/>
            <p:cNvSpPr/>
            <p:nvPr/>
          </p:nvSpPr>
          <p:spPr>
            <a:xfrm>
              <a:off x="7412040" y="1859040"/>
              <a:ext cx="154728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7"/>
            <p:cNvSpPr/>
            <p:nvPr/>
          </p:nvSpPr>
          <p:spPr>
            <a:xfrm>
              <a:off x="7475400" y="1893600"/>
              <a:ext cx="141840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9" name="Picture 6" descr="C:\Documents and Settings\Admin\Рабочий стол\Без имени-2.png"/>
          <p:cNvPicPr/>
          <p:nvPr/>
        </p:nvPicPr>
        <p:blipFill>
          <a:blip r:embed="rId8"/>
          <a:stretch/>
        </p:blipFill>
        <p:spPr>
          <a:xfrm>
            <a:off x="7172280" y="31680"/>
            <a:ext cx="172548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8"/>
          <p:cNvSpPr/>
          <p:nvPr/>
        </p:nvSpPr>
        <p:spPr>
          <a:xfrm>
            <a:off x="437400" y="130320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по возрас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187200" y="2905200"/>
            <a:ext cx="179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по степени подви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144360" y="4721400"/>
            <a:ext cx="18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По содержани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7396200" y="198900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по видам движ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2047"/>
          <p:cNvSpPr/>
          <p:nvPr/>
        </p:nvSpPr>
        <p:spPr>
          <a:xfrm>
            <a:off x="7354800" y="391176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по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048"/>
          <p:cNvSpPr/>
          <p:nvPr/>
        </p:nvSpPr>
        <p:spPr>
          <a:xfrm>
            <a:off x="7130880" y="5805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по пособия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использующим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в иг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053"/>
          <p:cNvSpPr/>
          <p:nvPr/>
        </p:nvSpPr>
        <p:spPr>
          <a:xfrm>
            <a:off x="1941480" y="1271520"/>
            <a:ext cx="57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Для младшей, средней и старшей возрастных груп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2054"/>
          <p:cNvSpPr/>
          <p:nvPr/>
        </p:nvSpPr>
        <p:spPr>
          <a:xfrm>
            <a:off x="1542960" y="1989000"/>
            <a:ext cx="60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ходьбой, прыжками, бегом, с элемент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лазания, мет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2055"/>
          <p:cNvSpPr/>
          <p:nvPr/>
        </p:nvSpPr>
        <p:spPr>
          <a:xfrm>
            <a:off x="1959120" y="2951280"/>
            <a:ext cx="58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Игры малой, средней и высокой подви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056"/>
          <p:cNvSpPr/>
          <p:nvPr/>
        </p:nvSpPr>
        <p:spPr>
          <a:xfrm>
            <a:off x="2464920" y="391788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Линейные, круговые, врассыпную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057"/>
          <p:cNvSpPr/>
          <p:nvPr/>
        </p:nvSpPr>
        <p:spPr>
          <a:xfrm>
            <a:off x="1386000" y="4660920"/>
            <a:ext cx="697392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Calibri"/>
              </a:rPr>
              <a:t>Подвижные игры с правилами (сюжетные, бессюжетные, игры – аттракционы, игры-забавы, народные игры). Спортивные игры (баскетбол, городки, настольный теннис, хоккей, футбол и др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058"/>
          <p:cNvSpPr/>
          <p:nvPr/>
        </p:nvSpPr>
        <p:spPr>
          <a:xfrm>
            <a:off x="1992240" y="5805360"/>
            <a:ext cx="51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Игры с мячами, лентами, обручами и т. 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Прямоугольник 5"/>
          <p:cNvSpPr/>
          <p:nvPr/>
        </p:nvSpPr>
        <p:spPr>
          <a:xfrm>
            <a:off x="324000" y="279360"/>
            <a:ext cx="8339040" cy="6299280"/>
          </a:xfrm>
          <a:prstGeom prst="rect">
            <a:avLst/>
          </a:prstGeom>
          <a:solidFill>
            <a:srgbClr val="41bec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заимодействие с родителям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14240" y="980640"/>
            <a:ext cx="806472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нформация в родительских уголках, в папках передвижк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зличные консультации, устные журналы и дискуссии с участием психолога, медиков, специалистов по физическому образованию, а также родителей с опытом семейного воспит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«открытые дни» с проведением разнообразных занятий в физкультурном зале, на стадионе, закаливающих и лечебных процеду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вместные физкультурные досуги, праздн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нкетирование и тестирование родителей по вопросу воспитания здорового ребе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7607160" y="4805280"/>
            <a:ext cx="1500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22:01:46Z</dcterms:created>
  <dc:creator>Марат</dc:creator>
  <dc:description/>
  <dc:language>en-US</dc:language>
  <cp:lastModifiedBy>Алла</cp:lastModifiedBy>
  <dcterms:modified xsi:type="dcterms:W3CDTF">2018-08-03T15:06:40Z</dcterms:modified>
  <cp:revision>165</cp:revision>
  <dc:subject/>
  <dc:title>Презентация PowerPoint</dc:title>
</cp:coreProperties>
</file>