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EC1-FD6E-4C3D-BBB5-818B592A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1672-0FC1-4C0F-8965-6127E487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97C2-45BF-4585-ADCF-E2C9880B0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1651-8A93-4164-8CDF-B156D25BB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8644-6F01-4216-8646-D261ADAC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094B-98A9-441A-8B0C-FF97D64D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41F2-3997-414B-9091-33EC71D8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AAE5-926C-4256-BC9F-A9A9BF1E3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01C-8E51-406D-A225-F8B8EA87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053-6CAC-408F-9A3A-18FDEB98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C02-8884-4955-88A3-3BF22343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FB7B-1329-48A0-ADBE-49B4B89F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05AF-7399-4354-8DE8-DC4747F8AB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57120" y="500040"/>
            <a:ext cx="7934400" cy="508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епен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равнения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илагательных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Составьте предложения с данными существительными, используя прилагательные  в превосходной степен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4000" y="23320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Кит, подснежник, Плутон, гепард, Эверест, Пе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лова для справок: высокий, удаленный, большой, популярный, быстрый, древний, ран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2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1.Что узнали нового на урок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2.Для чего в речи нужны прилагательные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3.Как образуются степени сравнения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Можно ли сказать, что перед нами набор разрозненных предложени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очему это текс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а тема тек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И так, что такое текст? Дайте дословный перевод латинского слова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textum 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Назовите признаки текс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ие средства связи частей текста вы знает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й может быть композиция текста, как может быть построен тек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С помощью, каких слов  этот текст  стал более точным  и выразительны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й частью речи являются эти сло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Что знаете о прилагательно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кст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-это сочетание предложений , связанных по смыслу и грамматичес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ема  текст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это то, о чем  (или о ком ) в нем  говорится. Очень часто тема текста отражается в его заглав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лавное в тексте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– идея ,основная мысл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Основная мысль текст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- это  то, к чему он призывает , чему учит,  ради чего он написа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Отсканировано 29"/>
          <p:cNvPicPr/>
          <p:nvPr/>
        </p:nvPicPr>
        <p:blipFill>
          <a:blip r:embed="rId1"/>
          <a:stretch/>
        </p:blipFill>
        <p:spPr>
          <a:xfrm>
            <a:off x="1476360" y="2781360"/>
            <a:ext cx="27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Отсканировано 29"/>
          <p:cNvPicPr/>
          <p:nvPr/>
        </p:nvPicPr>
        <p:blipFill>
          <a:blip r:embed="rId2"/>
          <a:stretch/>
        </p:blipFill>
        <p:spPr>
          <a:xfrm>
            <a:off x="5651640" y="2708280"/>
            <a:ext cx="1800000" cy="1671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1187280" y="4653000"/>
            <a:ext cx="3009960" cy="151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Впереди - тайга, и чем дальше,  тем она величественнее и суров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219640" y="4653000"/>
            <a:ext cx="3529080" cy="178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660033"/>
                </a:solidFill>
                <a:latin typeface="Arial"/>
                <a:ea typeface="Times New Roman"/>
              </a:rPr>
              <a:t>   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  <a:ea typeface="Times New Roman"/>
              </a:rPr>
              <a:t>Жарки-красивоцветущие растения.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  <a:ea typeface="Times New Roman"/>
              </a:rPr>
              <a:t>Они по праву считаются  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660033"/>
                </a:solidFill>
                <a:latin typeface="Arial"/>
                <a:ea typeface="Times New Roman"/>
              </a:rPr>
              <a:t>прекраснейшими полевыми цветами</a:t>
            </a:r>
            <a:r>
              <a:rPr b="0" lang="ru-RU" sz="2100" spc="-1" strike="noStrike">
                <a:solidFill>
                  <a:srgbClr val="660033"/>
                </a:solidFill>
                <a:latin typeface="Arial"/>
                <a:ea typeface="Times New Roman"/>
              </a:rPr>
              <a:t> .                                    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0033"/>
                </a:solidFill>
                <a:latin typeface="Arial"/>
                <a:ea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1647720" y="394560"/>
            <a:ext cx="609300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i="1" lang="ru-RU" sz="2200" spc="-1" strike="noStrike">
                <a:solidFill>
                  <a:srgbClr val="ff00ff"/>
                </a:solidFill>
                <a:latin typeface="Arial"/>
                <a:ea typeface="Times New Roman"/>
              </a:rPr>
              <a:t>Степени сравнения прилагатель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ff"/>
                </a:solidFill>
                <a:latin typeface="Arial"/>
                <a:ea typeface="Times New Roman"/>
              </a:rPr>
              <a:t>       </a:t>
            </a:r>
            <a:r>
              <a:rPr b="1" i="1" lang="ru-RU" sz="1800" spc="-1" strike="noStrike">
                <a:solidFill>
                  <a:srgbClr val="ff00ff"/>
                </a:solidFill>
                <a:latin typeface="Arial"/>
                <a:ea typeface="Times New Roman"/>
              </a:rPr>
              <a:t>Сравнительная                              Превосход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  <a:ea typeface="Times New Roman"/>
              </a:rPr>
              <a:t>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Красивее(-ей)    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 П                  Красивейш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(к/ч) легче            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Р                  (к\ч) легчайший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плохой- хуже?  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О                  плохой-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Не изм.по Р,Ч,П.                      С                  Изм по Р.,Ч.,П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0"/>
          <p:cNvSpPr/>
          <p:nvPr/>
        </p:nvSpPr>
        <p:spPr>
          <a:xfrm>
            <a:off x="1261080" y="4606200"/>
            <a:ext cx="31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4789800" y="2171520"/>
            <a:ext cx="345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</a:rPr>
              <a:t>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 </a:t>
            </a:r>
            <a:r>
              <a:rPr b="1" lang="ru-RU" sz="1300" spc="-1" strike="noStrike">
                <a:solidFill>
                  <a:srgbClr val="333399"/>
                </a:solidFill>
                <a:latin typeface="Arial"/>
                <a:ea typeface="Times New Roman"/>
              </a:rPr>
              <a:t>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2" descr="Отсканировано 29"/>
          <p:cNvPicPr/>
          <p:nvPr/>
        </p:nvPicPr>
        <p:blipFill>
          <a:blip r:embed="rId1"/>
          <a:stretch/>
        </p:blipFill>
        <p:spPr>
          <a:xfrm>
            <a:off x="5086440" y="2205000"/>
            <a:ext cx="4057560" cy="157176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4932360" y="4221000"/>
            <a:ext cx="388944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  <a:ea typeface="Times New Roman"/>
              </a:rPr>
              <a:t>Озеро Беле самое крупное озеро в Хака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Отсканировано 29"/>
          <p:cNvPicPr/>
          <p:nvPr/>
        </p:nvPicPr>
        <p:blipFill>
          <a:blip r:embed="rId2"/>
          <a:stretch/>
        </p:blipFill>
        <p:spPr>
          <a:xfrm>
            <a:off x="611280" y="1989000"/>
            <a:ext cx="3240000" cy="16574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179280" y="127440"/>
            <a:ext cx="915984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    </a:t>
            </a:r>
            <a:r>
              <a:rPr b="1" lang="ru-RU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Степени сравнения прилагательных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Более                                 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С                   Самы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красивый      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О                  Наиболее          спокойный    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Менее                     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С                   Наимение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                                                  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</a:rPr>
              <a:t>           </a:t>
            </a:r>
            <a:r>
              <a:rPr b="1" lang="ru-RU" sz="1700" spc="-1" strike="noStrike">
                <a:solidFill>
                  <a:srgbClr val="333399"/>
                </a:solidFill>
                <a:latin typeface="Arial"/>
                <a:ea typeface="Times New Roman"/>
              </a:rPr>
              <a:t>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Н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3399"/>
                </a:solidFill>
                <a:latin typeface="Arial"/>
              </a:rPr>
              <a:t>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468360" y="4149720"/>
            <a:ext cx="388944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Животный мир участка «Холл- Богаз» более разнообраз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Велика наша Хакасия. Сказочно богата и прекрасна её природа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Удивительная картина открывается с высоты: то выжженная солнцем степь, то травяной ковер с разноцветными головками цветов, то горные пастбища и пасущиеся   на них стада. Простираются  голубые  ленты рек Енисея и Абак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Хакасия - неповторимый по уникальности край. На её территории находится много заповедных территорий: озеро Иткуль - крупнейший пресный водоём, вода которого считается самой чистой из всех озер Хакасии. Озеро Шира - сильноминерализованный водоём, обладающий ценнейшими лечебными качеств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Богата Хакасия лесами. Они прекрасны всегда. И в зимние дни, когда темное небо низко висит над лохматым снежным убором, и весной, когда цветёт черёмуха, и в жаркое лето, когда нагретый воздух пахнет смол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cc"/>
                </a:solidFill>
                <a:latin typeface="Arial"/>
              </a:rPr>
              <a:t>Но  более  прекрасные  леса   осенью, когда летит на землю золотая  ли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cc"/>
                </a:solidFill>
                <a:latin typeface="Arial"/>
              </a:rPr>
              <a:t>Тренировочные упражнени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С  каким вопросом обратилась злая царица к своему  волшебному зеркальц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-Вставьте вместо точек  в отрывок из сказки прилагате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Но скажи: как можно ей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Быть  во всем меня   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Признавайся: всех я 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33"/>
                </a:solidFill>
                <a:latin typeface="Arial"/>
              </a:rPr>
              <a:t>Обойди все царство наш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9" descr="Отсканировано 29"/>
          <p:cNvPicPr/>
          <p:nvPr/>
        </p:nvPicPr>
        <p:blipFill>
          <a:blip r:embed="rId1"/>
          <a:stretch/>
        </p:blipFill>
        <p:spPr>
          <a:xfrm>
            <a:off x="5435640" y="3141720"/>
            <a:ext cx="3708360" cy="25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рочитайте строки из сказки П.Ершова « Конек – горбунок». Вставьте вместо точек прилагательные в сравнительной степени. Объясните свой выб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А  Иван им стал кричать: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«Стыдно, братья, ворова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Хоть Ивана вы  …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Да Иван – то вас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cc"/>
                </a:solidFill>
                <a:latin typeface="Arial"/>
              </a:rPr>
              <a:t>Он у вас коней не крал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Рисунок 8" descr="Отсканировано 29"/>
          <p:cNvPicPr/>
          <p:nvPr/>
        </p:nvPicPr>
        <p:blipFill>
          <a:blip r:embed="rId1"/>
          <a:stretch/>
        </p:blipFill>
        <p:spPr>
          <a:xfrm>
            <a:off x="5560920" y="2852640"/>
            <a:ext cx="35830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Подберите определения к данным существительным и поставьте их в простой форме превосходной степени. Составьте предложения с полученными словосочет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852640"/>
            <a:ext cx="868680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рок, опыт, уважение, просьба, полководец, поступок, пробле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Слова для справок: великий, благородный, богатый,  краткий, глубокий, покорный, интересны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4:58:45Z</dcterms:created>
  <dc:creator>user</dc:creator>
  <dc:description/>
  <dc:language>en-US</dc:language>
  <cp:lastModifiedBy>user</cp:lastModifiedBy>
  <dcterms:modified xsi:type="dcterms:W3CDTF">2018-08-03T08:57:30Z</dcterms:modified>
  <cp:revision>8</cp:revision>
  <dc:subject/>
  <dc:title>Слайд 1</dc:title>
</cp:coreProperties>
</file>