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69B6-B804-4CB1-8104-19AA9540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7442-4631-47A0-9FF5-A87A5F01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C14B-915D-4534-A75F-DA8BF3820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FB2-846E-4079-B1B3-BA40D73D9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BBB7-DF35-45A3-B593-AC46CA25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95AE-8B0D-4572-8F28-9B09D61A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018-78D0-4545-BBB7-89D2479B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F890-1D6F-4AF9-8B2E-399B9BA6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033-3C56-4DC2-9FAA-F9B04762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0E8-9E13-427E-AF5C-40CD5C10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DB32-A9EC-4D38-BC2E-7C82A2DE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191C-EA11-41F8-866F-AAADCA19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66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BAD5-526C-41A5-A5D7-444A29DD75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57120" y="500040"/>
            <a:ext cx="7934400" cy="508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епен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равнени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лагательных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Составьте предложения с данными существительными, используя прилагательные  в превосходной степен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Кит, подснежник, Плутон, гепард, Эверест, Пе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лова для справок: высокий, удаленный, большой, популярный, быстрый, древний, ран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Итог урок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1.Что узнали нового 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2.Для чего в речи нужны прилагательн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3.Как образуются степени сравн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Можно ли сказать, что перед нами набор разрозненных предлож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очему это текс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Какова тема текс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И так, что такое текст? Дайте дословный перевод латинского слова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textum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Назовите признаки текс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Какие средства связи частей текста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Какой может быть композиция текста, как может быть построен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С помощью, каких слов  этот текст  стал более точным  и выразитель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Какой частью речи являются эти сл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Что знаете о прилагательн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екст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-это сочетание предложений , связанных по смыслу и грамматичес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ема  текст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- это то, о чем  (или о ком ) в нем  говорится. Очень часто тема текста отражается в его загла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лавное в тексте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– идея ,основная мыс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сновная мысль текст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- это  то, к чему он призывает , чему учит,  ради чего он напис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Отсканировано 29"/>
          <p:cNvPicPr/>
          <p:nvPr/>
        </p:nvPicPr>
        <p:blipFill>
          <a:blip r:embed="rId1"/>
          <a:stretch/>
        </p:blipFill>
        <p:spPr>
          <a:xfrm>
            <a:off x="1476360" y="2781360"/>
            <a:ext cx="27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3" descr="Отсканировано 29"/>
          <p:cNvPicPr/>
          <p:nvPr/>
        </p:nvPicPr>
        <p:blipFill>
          <a:blip r:embed="rId2"/>
          <a:stretch/>
        </p:blipFill>
        <p:spPr>
          <a:xfrm>
            <a:off x="5651640" y="2708280"/>
            <a:ext cx="1800000" cy="16714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1187280" y="4653000"/>
            <a:ext cx="300996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Впереди - тайга, и чем дальше,  тем она величественнее и суров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19640" y="4653000"/>
            <a:ext cx="3529080" cy="178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0033"/>
                </a:solidFill>
                <a:latin typeface="Arial"/>
                <a:ea typeface="Times New Roman"/>
              </a:rPr>
              <a:t>   </a:t>
            </a:r>
            <a:r>
              <a:rPr b="1" lang="ru-RU" sz="2100" spc="-1" strike="noStrike">
                <a:solidFill>
                  <a:srgbClr val="660033"/>
                </a:solidFill>
                <a:latin typeface="Arial"/>
                <a:ea typeface="Times New Roman"/>
              </a:rPr>
              <a:t>Жарки-красивоцветущие растения.</a:t>
            </a:r>
            <a:r>
              <a:rPr b="1" lang="ru-RU" sz="21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660033"/>
                </a:solidFill>
                <a:latin typeface="Arial"/>
                <a:ea typeface="Times New Roman"/>
              </a:rPr>
              <a:t>Они по праву считаются  </a:t>
            </a:r>
            <a:r>
              <a:rPr b="1" lang="ru-RU" sz="21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660033"/>
                </a:solidFill>
                <a:latin typeface="Arial"/>
                <a:ea typeface="Times New Roman"/>
              </a:rPr>
              <a:t>прекраснейшими полевыми цветами</a:t>
            </a:r>
            <a:r>
              <a:rPr b="0" lang="ru-RU" sz="2100" spc="-1" strike="noStrike">
                <a:solidFill>
                  <a:srgbClr val="660033"/>
                </a:solidFill>
                <a:latin typeface="Arial"/>
                <a:ea typeface="Times New Roman"/>
              </a:rPr>
              <a:t> .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647720" y="394560"/>
            <a:ext cx="6093000" cy="22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i="1" lang="ru-RU" sz="2200" spc="-1" strike="noStrike">
                <a:solidFill>
                  <a:srgbClr val="ff00ff"/>
                </a:solidFill>
                <a:latin typeface="Arial"/>
                <a:ea typeface="Times New Roman"/>
              </a:rPr>
              <a:t>Степени сравнения прилагатель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Arial"/>
                <a:ea typeface="Times New Roman"/>
              </a:rPr>
              <a:t>       </a:t>
            </a:r>
            <a:r>
              <a:rPr b="1" i="1" lang="ru-RU" sz="1800" spc="-1" strike="noStrike">
                <a:solidFill>
                  <a:srgbClr val="ff00ff"/>
                </a:solidFill>
                <a:latin typeface="Arial"/>
                <a:ea typeface="Times New Roman"/>
              </a:rPr>
              <a:t>Сравнительная                              Превосхо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  <a:ea typeface="Times New Roman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Красивее(-ей)                       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   П                  Красивейш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(к/ч) легче                               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Р                  (к\ч) легчайш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плохой- хуже?                     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  О                  плохой-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Не изм.по Р,Ч,П.                      С                  Изм по Р.,Ч.,П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1261080" y="4606200"/>
            <a:ext cx="317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789800" y="2171520"/>
            <a:ext cx="345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Отсканировано 29"/>
          <p:cNvPicPr/>
          <p:nvPr/>
        </p:nvPicPr>
        <p:blipFill>
          <a:blip r:embed="rId1"/>
          <a:stretch/>
        </p:blipFill>
        <p:spPr>
          <a:xfrm>
            <a:off x="5086440" y="2205000"/>
            <a:ext cx="4057560" cy="15717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4932360" y="4221000"/>
            <a:ext cx="388944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Times New Roman"/>
              </a:rPr>
              <a:t>Озеро Беле самое крупное озеро в Хака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7" descr="Отсканировано 29"/>
          <p:cNvPicPr/>
          <p:nvPr/>
        </p:nvPicPr>
        <p:blipFill>
          <a:blip r:embed="rId2"/>
          <a:stretch/>
        </p:blipFill>
        <p:spPr>
          <a:xfrm>
            <a:off x="611280" y="1989000"/>
            <a:ext cx="3240000" cy="16574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179280" y="127440"/>
            <a:ext cx="915984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1" lang="ru-RU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Степени сравнения прилагательных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Более                                                    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С                   Сам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красивый                         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О                  Наиболее          спокойный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Менее                                        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С                   Наимение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                                       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68360" y="4149720"/>
            <a:ext cx="388944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Животный мир участка «Холл- Богаз» более разнообраз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Велика наша Хакасия. Сказочно богата и прекрасна её природ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Удивительная картина открывается с высоты: то выжженная солнцем степь, то травяной ковер с разноцветными головками цветов, то горные пастбища и пасущиеся   на них стада. Простираются  голубые  ленты рек Енисея и Абак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Хакасия - неповторимый по уникальности край. На её территории находится много заповедных территорий: озеро Иткуль - крупнейший пресный водоём, вода которого считается самой чистой из всех озер Хакасии. Озеро Шира - сильноминерализованный водоём, обладающий ценнейшими лечебными каче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Богата Хакасия лесами. Они прекрасны всегда. И в зимние дни, когда темное небо низко висит над лохматым снежным убором, и весной, когда цветёт черёмуха, и в жаркое лето, когда нагретый воздух пахнет смол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Но  более  прекрасные  леса   осенью, когда летит на землю золотая  ли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Тренировочные упражнени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  каким вопросом обратилась злая царица к своему  волшебному зеркальц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-Вставьте вместо точек  в отрывок из сказки прилагатель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Но скажи: как можно ей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Быть  во всем меня  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Признавайся: всех я 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Обойди все царство на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9" descr="Отсканировано 29"/>
          <p:cNvPicPr/>
          <p:nvPr/>
        </p:nvPicPr>
        <p:blipFill>
          <a:blip r:embed="rId1"/>
          <a:stretch/>
        </p:blipFill>
        <p:spPr>
          <a:xfrm>
            <a:off x="5435640" y="3141720"/>
            <a:ext cx="37083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Прочитайте строки из сказки П.Ершова « Конек – горбунок». Вставьте вместо точек прилагательные в сравнительной степени. Объясните свой выб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А  Иван им стал кричать: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«Стыдно, братья, воро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Хоть Ивана вы  …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Да Иван – то вас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н у вас коней не крал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8" descr="Отсканировано 29"/>
          <p:cNvPicPr/>
          <p:nvPr/>
        </p:nvPicPr>
        <p:blipFill>
          <a:blip r:embed="rId1"/>
          <a:stretch/>
        </p:blipFill>
        <p:spPr>
          <a:xfrm>
            <a:off x="5560920" y="2852640"/>
            <a:ext cx="35830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Подберите определения к данным существительным и поставьте их в простой форме превосходной степени. Составьте предложения с полученными словосочета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6868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рок, опыт, уважение, просьба, полководец, поступок, пробле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лова для справок: великий, благородный, богатый,  краткий, глубокий, покорный, интересн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04:58:45Z</dcterms:created>
  <dc:creator>user</dc:creator>
  <dc:description/>
  <dc:language>en-US</dc:language>
  <cp:lastModifiedBy>user</cp:lastModifiedBy>
  <dcterms:modified xsi:type="dcterms:W3CDTF">2018-08-03T08:57:30Z</dcterms:modified>
  <cp:revision>8</cp:revision>
  <dc:subject/>
  <dc:title>Слайд 1</dc:title>
</cp:coreProperties>
</file>