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985-6EF0-44D1-B786-A47A9EDA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5C3-4649-4646-B017-FD91EFA5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E8F-77A3-4DA1-8F59-4B01981B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967-B909-4694-8237-52BDDB01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5534-7466-4FBE-936F-45567386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70AE-E155-4F47-8DF3-052A100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44BA-A284-48F2-A4F3-B0030691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A365-D787-4B85-916E-5665BE5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FD4B-43F1-4AF6-BB2A-5BCE84D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9B4A-F838-49A4-8573-73C64881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04ED-97E0-469A-9E6D-21A8D2F3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40C-03C3-4CD0-B467-5476ACB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18AB-97E9-44A3-A07A-9949E56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CC0D-9211-428A-AD89-2DAEAC61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EE9-2E1A-42E5-9E9C-23263927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E90-6F55-41F3-96AC-10F8B0BC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E5F7-2F1A-4046-BCDE-74658F3C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7DF-730C-4F62-8200-C4A5EDFE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7E2-31E1-4C58-B1BF-B06A7BFE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76D-331B-45B9-AA73-B1E621BF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E16-62AE-4DE1-9703-840E80A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D4D-7783-40E9-B76C-96582B9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E1A-F0B7-4121-A5BE-4037C3E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FAB-69E9-4CD3-A2F5-8D4725D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33FC-DF39-4C18-90CF-EE8957DDE0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0AA8-936F-40E7-A772-1F5349D1B8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042920" y="155736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ОВА КАТЕГОРИИ СОСТОЯНИЯ В ТВОРЧЕСТВЕ С.А. ЕСЕН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76364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полнила: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Шуралёва Анн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ченица 7Б класс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БОУ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Гимназия №1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611280" y="1117800"/>
            <a:ext cx="853272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отрицается сам факт существования субъекта действ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проявляются значения неизбежности, необходимости или желательности действ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указывается на то, что лирический герой испытывает (или, наоборот, не испытывает) потребность в ком-, чем-либ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даётся оценка условий реализации действия (невозможность выполнения действия, отрицание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826920" y="907920"/>
            <a:ext cx="7921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Самые частотные слова</a:t>
            </a:r>
            <a:r>
              <a:rPr b="1" lang="ru-RU" sz="24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нет </a:t>
            </a:r>
            <a:r>
              <a:rPr b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и </a:t>
            </a:r>
            <a:r>
              <a:rPr b="1" i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надо</a:t>
            </a:r>
            <a:r>
              <a:rPr b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/</a:t>
            </a:r>
            <a:r>
              <a:rPr b="1" i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не над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48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тихотворениях «Вот уже вечер. Роса…», «Выткался на озере…», «Пороша» Есенин использует слова </a:t>
            </a:r>
            <a:r>
              <a:rPr b="0" i="1" lang="ru-RU" sz="2800" spc="-1" strike="noStrike">
                <a:solidFill>
                  <a:srgbClr val="269999"/>
                </a:solidFill>
                <a:latin typeface="Verdana"/>
                <a:ea typeface="Times New Roman"/>
              </a:rPr>
              <a:t>хорошо, тепло, светло, тихо</a:t>
            </a:r>
            <a:r>
              <a:rPr b="0" lang="ru-RU" sz="2800" spc="-1" strike="noStrike">
                <a:solidFill>
                  <a:srgbClr val="269999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чтобы показать своё душевное состояние: восхищение  безмятежной жизнью глубинки, полной гармонии с окружающей природой и любование ее красотой и бесконечность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0510_2834_bkg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108000" y="405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тихотворении «Письмо от матери» слова категории состояния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больней</a:t>
            </a:r>
            <a:r>
              <a:rPr b="0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горше</a:t>
            </a:r>
            <a:r>
              <a:rPr b="0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казывают горечь чувств родителей, их заботу о сыне, обеспокоенность его судь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406_0017_bkg"/>
          <p:cNvPicPr/>
          <p:nvPr/>
        </p:nvPicPr>
        <p:blipFill>
          <a:blip r:embed="rId1"/>
          <a:srcRect l="21420" t="0" r="3716" b="0"/>
          <a:stretch/>
        </p:blipFill>
        <p:spPr>
          <a:xfrm>
            <a:off x="4084560" y="1844640"/>
            <a:ext cx="4664160" cy="4105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4883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«Я усталым таким ещё не был»</a:t>
            </a:r>
            <a:br>
              <a:rPr sz="4000"/>
            </a:br>
            <a:r>
              <a:rPr b="1" lang="ru-RU" sz="40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«Отговорила роща золотая»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3640" y="1827360"/>
            <a:ext cx="3600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не жаль</a:t>
            </a:r>
            <a:r>
              <a:rPr b="0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означает определённое эмоциональное состояние: нет возврата к старому, навсегда утрачена молодость души и свежесть чувст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категории состояния </a:t>
            </a:r>
            <a:r>
              <a:rPr b="0" i="1" lang="ru-RU" sz="3600" spc="-1" strike="noStrike">
                <a:solidFill>
                  <a:srgbClr val="269999"/>
                </a:solidFill>
                <a:latin typeface="Verdana"/>
                <a:ea typeface="Times New Roman"/>
              </a:rPr>
              <a:t>над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7527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«Ты такая ж простая…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2421000"/>
            <a:ext cx="40402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втор сознательно акцентирует присутствие этого слова в структуре поэтического текста: располагает в сильной позиции (в конце строки перед точко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773360"/>
            <a:ext cx="3754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«Письмо матери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472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употребляется  в значении оценки условий реализации действия (невозможности реализации) и отрицания необходимости выполнения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203640" y="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Выводы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87280" y="177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052640"/>
            <a:ext cx="489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слов категории состояния в структуре поэтического текста С.А. Есенина заключается в выражении психологического и эмоционального состояния и настроения лирического героя, оценке его жизненного пространства.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319200" cy="453564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68360" y="1989000"/>
          <a:ext cx="8280360" cy="4470480"/>
        </p:xfrm>
        <a:graphic>
          <a:graphicData uri="http://schemas.openxmlformats.org/drawingml/2006/table">
            <a:tbl>
              <a:tblPr/>
              <a:tblGrid>
                <a:gridCol w="3878280"/>
                <a:gridCol w="4402080"/>
              </a:tblGrid>
              <a:tr h="91440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ово категории со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обенности употреб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 ж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езысходность лирического гер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очарование и ир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ег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вобода, смелость, реш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льз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возможность выполнения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Поэтический эксперимент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900000" y="692280"/>
            <a:ext cx="49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269999"/>
                </a:solidFill>
                <a:latin typeface="Monotype Corsiva"/>
              </a:rPr>
              <a:t>Цель работы</a:t>
            </a:r>
            <a:r>
              <a:rPr b="0" lang="ru-RU" sz="3700" spc="-1" strike="noStrike">
                <a:solidFill>
                  <a:srgbClr val="269999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едставить слова категории состояния и выявить особенности их употребления  в структуре поэтических текстов С.Есенин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9" descr="esenin_sergey"/>
          <p:cNvPicPr/>
          <p:nvPr/>
        </p:nvPicPr>
        <p:blipFill>
          <a:blip r:embed="rId1"/>
          <a:stretch/>
        </p:blipFill>
        <p:spPr>
          <a:xfrm>
            <a:off x="6012000" y="620640"/>
            <a:ext cx="2889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826920" y="282960"/>
            <a:ext cx="7705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  <a:ea typeface="Calibri"/>
              </a:rPr>
              <a:t>Гипотеза исследовани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9999"/>
                </a:solidFill>
                <a:latin typeface="Monotype Corsiva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Calibri"/>
              </a:rPr>
              <a:t>слова категории состояния позволяют С. Есенину более точно отразить внутренний мир лирических героев  и способны организовывать смысловой центр стихотво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1042920" y="765000"/>
            <a:ext cx="7561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269999"/>
                </a:solidFill>
                <a:latin typeface="Monotype Corsiva"/>
              </a:rPr>
              <a:t>Предмет исследования</a:t>
            </a:r>
            <a:r>
              <a:rPr b="0" lang="ru-RU" sz="3300" spc="-1" strike="noStrike">
                <a:solidFill>
                  <a:srgbClr val="269999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– слова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  <a:ea typeface="Verdana"/>
              </a:rPr>
              <a:t>категории состояния в стихотворениях С.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269999"/>
                </a:solidFill>
                <a:latin typeface="Monotype Corsiva"/>
              </a:rPr>
              <a:t>Объект исследования</a:t>
            </a:r>
            <a:r>
              <a:rPr b="0" lang="ru-RU" sz="3300" spc="-1" strike="noStrike">
                <a:solidFill>
                  <a:srgbClr val="269999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– особенности употребления слов категории состояния в стихотворениях С.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1187280" y="404640"/>
            <a:ext cx="770580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Задачи</a:t>
            </a:r>
            <a:r>
              <a:rPr b="1" lang="ru-RU" sz="4400" spc="-1" strike="noStrike">
                <a:solidFill>
                  <a:srgbClr val="269999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Рассмотреть слова категории состояния как часть реч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Рассмотреть особенности художественного мира С.Есени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одобрать стихотворения С.Есенина, в которых используются слова категории состоя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Исследовать особенности употребления слов категории состояния в стихотворениях С.Есен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539640" y="69228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9999"/>
                </a:solidFill>
                <a:latin typeface="Monotype Corsiva"/>
              </a:rPr>
              <a:t>                         </a:t>
            </a:r>
            <a:r>
              <a:rPr b="1" lang="ru-RU" sz="4000" spc="-1" strike="noStrike">
                <a:solidFill>
                  <a:srgbClr val="269999"/>
                </a:solidFill>
                <a:latin typeface="Monotype Corsiva"/>
              </a:rPr>
              <a:t>Академик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9999"/>
                </a:solidFill>
                <a:latin typeface="Monotype Corsiva"/>
              </a:rPr>
              <a:t>Л.В. Щерба                        В.В.Виноград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Бесплатная электронная библиотека ЛИБ: учебная литература, книги, рефераты бесплатно &quot; Страница 103"/>
          <p:cNvPicPr/>
          <p:nvPr/>
        </p:nvPicPr>
        <p:blipFill>
          <a:blip r:embed="rId1"/>
          <a:stretch/>
        </p:blipFill>
        <p:spPr>
          <a:xfrm>
            <a:off x="468360" y="2060640"/>
            <a:ext cx="3173400" cy="452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ВИНОГРАДОВ Виктор Владимирович (1895, Зарайск- 1969, Москва)…"/>
          <p:cNvPicPr/>
          <p:nvPr/>
        </p:nvPicPr>
        <p:blipFill>
          <a:blip r:embed="rId2"/>
          <a:stretch/>
        </p:blipFill>
        <p:spPr>
          <a:xfrm>
            <a:off x="5364000" y="2060640"/>
            <a:ext cx="326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826920" y="549360"/>
            <a:ext cx="7993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269999"/>
                </a:solidFill>
                <a:latin typeface="Monotype Corsiva"/>
              </a:rPr>
              <a:t>Категория состояния</a:t>
            </a:r>
            <a:r>
              <a:rPr b="1" lang="ru-RU" sz="2800" spc="-1" strike="noStrike">
                <a:solidFill>
                  <a:srgbClr val="2699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знаменательная часть речи, обозначающая динамическое состояние и выражающая это значение в категориях времени, наклонения и безлич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Рисунок 7" descr="f8d86d852f7c.png"/>
          <p:cNvPicPr/>
          <p:nvPr/>
        </p:nvPicPr>
        <p:blipFill>
          <a:blip r:embed="rId1"/>
          <a:stretch/>
        </p:blipFill>
        <p:spPr>
          <a:xfrm>
            <a:off x="6156360" y="4581360"/>
            <a:ext cx="24843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556000" y="69228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9999"/>
                </a:solidFill>
                <a:latin typeface="Monotype Corsiva"/>
              </a:rPr>
              <a:t>Поэты ХХ в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Знаменитости на букву - И / Страница 1 :: Знаменитые имена на WebCountry.Name"/>
          <p:cNvPicPr/>
          <p:nvPr/>
        </p:nvPicPr>
        <p:blipFill>
          <a:blip r:embed="rId1"/>
          <a:stretch/>
        </p:blipFill>
        <p:spPr>
          <a:xfrm>
            <a:off x="0" y="155736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Лев ШИЛОВ Голоса, зазвучавшие вновь Газета&quot;Первое сентября&quot; N 40/2004"/>
          <p:cNvPicPr/>
          <p:nvPr/>
        </p:nvPicPr>
        <p:blipFill>
          <a:blip r:embed="rId2"/>
          <a:stretch/>
        </p:blipFill>
        <p:spPr>
          <a:xfrm>
            <a:off x="3492360" y="1557360"/>
            <a:ext cx="2127240" cy="381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Анна Ахматова."/>
          <p:cNvPicPr/>
          <p:nvPr/>
        </p:nvPicPr>
        <p:blipFill>
          <a:blip r:embed="rId3"/>
          <a:srcRect l="6857" t="0" r="5886" b="0"/>
          <a:stretch/>
        </p:blipFill>
        <p:spPr>
          <a:xfrm>
            <a:off x="6480000" y="1557360"/>
            <a:ext cx="2664000" cy="3816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0" y="5445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нокентий Аннен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434760" y="544500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лла Ахмаду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6659640" y="544500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900000" y="1700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.А.Есенина особенно актуальны следующие слова категории состояния: 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хорошо, тепло, светло, тихо, надо, не жаль, не надо, здорово, смешно, довольно, больней, горше, нет.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Рисунок 4" descr="books.JPG"/>
          <p:cNvPicPr/>
          <p:nvPr/>
        </p:nvPicPr>
        <p:blipFill>
          <a:blip r:embed="rId1"/>
          <a:stretch/>
        </p:blipFill>
        <p:spPr>
          <a:xfrm>
            <a:off x="6804000" y="521964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547640" y="765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Анализ стихотворений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2:05:13Z</dcterms:created>
  <dc:creator>User</dc:creator>
  <dc:description/>
  <dc:language>en-US</dc:language>
  <cp:lastModifiedBy>307</cp:lastModifiedBy>
  <dcterms:modified xsi:type="dcterms:W3CDTF">2015-04-10T08:32:35Z</dcterms:modified>
  <cp:revision>13</cp:revision>
  <dc:subject/>
  <dc:title>Категория состояния</dc:title>
</cp:coreProperties>
</file>