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CE60-0D8F-49EF-8E9F-587047A922D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709C-B9B8-4E12-A378-B2F86A219CBB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ишки одеваются в теплые комбинезонч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м тоже холодно. Они заранее еще осенью сбрасывают листья и "засыпают" на зи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лько елочки и сосны не расстаются со своими иголками. (Только елки и сосны стоят зеленые, потому что у них специальные свернутые в трубочку листью. Такие листья не замерзают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хорошо выделяются среди коричневых и серых деревьев своим зеленым наря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вотные тоже меняют свои шубки на более пушистые и тепл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меняют и цвет своего меха: у заяца беляка летом мех серый, а зимой - белый, чтобы лучше прятаться в белом сне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животные прячутся в теплые норки и берлоги и всю зиму спят. Одни из этих соней - медвед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ой часто идет снег. Он укрывает землю, деревья, кусты, крыши домов толстым белым покрывал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нег бывает разный. Иногда это легкие красивые снежин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это маленькие комочки снега. Такой снег называется "крупа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к снегопаду присоединяется ветер, который не дает снегу опуститься на землю, кружит 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большой ветер со снегом называется поземкой. Когда ветер становиться сильным, то он называется метел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ермя сильной метели, ничего не видно и можно потеряться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ой дети и взрослые кататься на санках, коньках и лыж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снега можно слепить много интересного: куличики, снеговика, крепос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36C9-FDE2-438C-A568-AC5195EC2B8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СИЛИЙ ИВАНОВИ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Р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ятие зимнего горо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05D9-82F3-4CE5-939E-34464BB0783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ИВАН</a:t>
            </a:r>
            <a:r>
              <a:rPr b="1" lang="en-US" sz="10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 ИВАНОВИЧ 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ШИШК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а в лесу. И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2B92-DA44-44A3-B5C2-9DDA3DE9AD5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бужинский Домик в петербург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9746-6DBF-42EC-95BB-A71C5D233AD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ванов Сем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7E17-72EF-4FD9-8ECC-21007E629C4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рымовНикифор Зимний пейз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7648-8C55-409D-A02F-BE79D661186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ЕНТИ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ЕКСАНДРОВИ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 в Абрамцев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лько елки и сосны стоят зеленые, потому что у них специальные свернутые в трубочку листью. Такие листья не замерзают. 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9C7-3051-4844-A7BB-A7D2E958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2C3-55A3-4239-863B-209D30F7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298-2722-4CE3-BAC8-FC09BE08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B23-0C13-4C3B-A768-AABAED6A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C3F-F493-42C4-8120-31FEE3A2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C5BE-31C9-4340-808F-1E40BC75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DC2-C787-4A06-A706-0C61200E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7DC-23EF-4E13-8150-A03B6D58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577-183B-4E52-9E06-3C772727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B10B-DB3A-4426-902C-0A02E28D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18D-A6AC-4720-9E9C-08F0121D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71C-B210-4F67-8330-082F38CD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6156-FDC1-4783-98BC-EFE2BC4D17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00600" y="3805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ЗИ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МА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:\My\Изображения\Рисунки\Дерево Зимой.JPG"/>
          <p:cNvPicPr/>
          <p:nvPr/>
        </p:nvPicPr>
        <p:blipFill>
          <a:blip r:embed="rId1"/>
          <a:stretch/>
        </p:blipFill>
        <p:spPr>
          <a:xfrm>
            <a:off x="249120" y="428760"/>
            <a:ext cx="4322880" cy="600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D:\My\Изображения\Рисунки\Месяца и времена года\Зима\зима2.jpg"/>
          <p:cNvPicPr/>
          <p:nvPr/>
        </p:nvPicPr>
        <p:blipFill>
          <a:blip r:embed="rId2"/>
          <a:stretch/>
        </p:blipFill>
        <p:spPr>
          <a:xfrm>
            <a:off x="5638680" y="2514600"/>
            <a:ext cx="28828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 снегу на санк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D:\My\Изображения\Рисунки\Месяца и времена года\Зима\санки.jpg"/>
          <p:cNvPicPr/>
          <p:nvPr/>
        </p:nvPicPr>
        <p:blipFill>
          <a:blip r:embed="rId1"/>
          <a:stretch/>
        </p:blipFill>
        <p:spPr>
          <a:xfrm>
            <a:off x="1219320" y="173160"/>
            <a:ext cx="5943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ыжах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D:\My\Изображения\Рисунки\Месяца и времена года\Зима\лыжи.jpg"/>
          <p:cNvPicPr/>
          <p:nvPr/>
        </p:nvPicPr>
        <p:blipFill>
          <a:blip r:embed="rId1"/>
          <a:stretch/>
        </p:blipFill>
        <p:spPr>
          <a:xfrm>
            <a:off x="1371600" y="457200"/>
            <a:ext cx="601992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снега можно слепить много интересного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ичи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D:\My\Photo\Надюхины фотки\Надюха зимой 1.jpg"/>
          <p:cNvPicPr/>
          <p:nvPr/>
        </p:nvPicPr>
        <p:blipFill>
          <a:blip r:embed="rId1"/>
          <a:stretch/>
        </p:blipFill>
        <p:spPr>
          <a:xfrm>
            <a:off x="2209680" y="76320"/>
            <a:ext cx="47498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овика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D:\My\Photo\зима.jpg"/>
          <p:cNvPicPr/>
          <p:nvPr/>
        </p:nvPicPr>
        <p:blipFill>
          <a:blip r:embed="rId1"/>
          <a:stretch/>
        </p:blipFill>
        <p:spPr>
          <a:xfrm>
            <a:off x="1676520" y="228600"/>
            <a:ext cx="640080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епость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surikov2"/>
          <p:cNvPicPr/>
          <p:nvPr/>
        </p:nvPicPr>
        <p:blipFill>
          <a:blip r:embed="rId1"/>
          <a:stretch/>
        </p:blipFill>
        <p:spPr>
          <a:xfrm>
            <a:off x="990720" y="255600"/>
            <a:ext cx="716256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имой очень красив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Зима в лесу (Иней)"/>
          <p:cNvPicPr/>
          <p:nvPr/>
        </p:nvPicPr>
        <p:blipFill>
          <a:blip r:embed="rId1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имой часто идет снег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укрывает землю, деревья, кусты, крыши домов толстым белым покрывалом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D:\My\Изображения\Картины\Добужинский Домик в петербурге 1.JPG"/>
          <p:cNvPicPr/>
          <p:nvPr/>
        </p:nvPicPr>
        <p:blipFill>
          <a:blip r:embed="rId1"/>
          <a:stretch/>
        </p:blipFill>
        <p:spPr>
          <a:xfrm>
            <a:off x="304920" y="0"/>
            <a:ext cx="807696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улице становиться холодно. Люди одевают теплые шубы, пальто, курт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D:\My\Изображения\Картины\Иванов Семья.JPG"/>
          <p:cNvPicPr/>
          <p:nvPr/>
        </p:nvPicPr>
        <p:blipFill>
          <a:blip r:embed="rId1"/>
          <a:stretch/>
        </p:blipFill>
        <p:spPr>
          <a:xfrm>
            <a:off x="609480" y="304920"/>
            <a:ext cx="84312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м и кустам тоже холодно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и заранее еще осенью сбрасывают листья и "засыпают" на зим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D:\My\Изображения\Картины\КрымовНикифор Зимний пейзаж 1.JPG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елочки и сосны не расстаются со своими иголкам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и хорошо выделяются среди коричневых и серых деревьев своим зеленым нарядо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Valentin Serov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876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вотным и птицам тоже холодн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ие птицы осенью улетают в более теплые ме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которые животные чтобы не мерзнуть прячутся в теплые норки и берлоги. И спят там всю зиму. Одни из этих соней - медвед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вотные, остающиеся бодрствовать, меняют свои летние шубки на более пушистые и теплы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ая пушистая шубка у лис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3" descr="D:\My\Photo\Clipart Животные\Животный мир\Собаки, Волки, Шакалы, Лисы\Лисы\Dog&amp;Wolf135.jpg"/>
          <p:cNvPicPr/>
          <p:nvPr/>
        </p:nvPicPr>
        <p:blipFill>
          <a:blip r:embed="rId1"/>
          <a:stretch/>
        </p:blipFill>
        <p:spPr>
          <a:xfrm>
            <a:off x="800280" y="76320"/>
            <a:ext cx="75816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Некоторые звери меняют цвет своего меха, чтобы лучше было прятаться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зайца беляка летом мех серый, а зимой – белый как снег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D:\My\Photo\LiveNature6\6278.JPG"/>
          <p:cNvPicPr/>
          <p:nvPr/>
        </p:nvPicPr>
        <p:blipFill>
          <a:blip r:embed="rId1"/>
          <a:stretch/>
        </p:blipFill>
        <p:spPr>
          <a:xfrm>
            <a:off x="228600" y="228600"/>
            <a:ext cx="4861080" cy="563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D:\My\Photo\Clipart Животные\Животный мир\Кролики, Белки, Грызуны\Зайцы, кролики\Rab&amp;Squir061.jpg"/>
          <p:cNvPicPr/>
          <p:nvPr/>
        </p:nvPicPr>
        <p:blipFill>
          <a:blip r:embed="rId2"/>
          <a:stretch/>
        </p:blipFill>
        <p:spPr>
          <a:xfrm>
            <a:off x="5562720" y="228600"/>
            <a:ext cx="327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У горностая летняя  шубка коричневая, а зимняя тоже бела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29" descr="D:\My\Photo\Clipart Животные\Животный мир\Кролики, Белки, Грызуны\Прочее\Rab&amp;Squir033.jpg"/>
          <p:cNvPicPr/>
          <p:nvPr/>
        </p:nvPicPr>
        <p:blipFill>
          <a:blip r:embed="rId1"/>
          <a:stretch/>
        </p:blipFill>
        <p:spPr>
          <a:xfrm>
            <a:off x="228600" y="228600"/>
            <a:ext cx="488304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30" descr="D:\My\Photo\Прочее\Животные\Горностай 2.jpg"/>
          <p:cNvPicPr/>
          <p:nvPr/>
        </p:nvPicPr>
        <p:blipFill>
          <a:blip r:embed="rId2"/>
          <a:stretch/>
        </p:blipFill>
        <p:spPr>
          <a:xfrm>
            <a:off x="5334120" y="228600"/>
            <a:ext cx="358128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мороза вода в речках, прудах и озерах покрывается льдом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льду очень весело кататься на коньках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28" descr="Winter Landscape with Skaters and Bird Trap"/>
          <p:cNvPicPr/>
          <p:nvPr/>
        </p:nvPicPr>
        <p:blipFill>
          <a:blip r:embed="rId1"/>
          <a:stretch/>
        </p:blipFill>
        <p:spPr>
          <a:xfrm>
            <a:off x="533520" y="380880"/>
            <a:ext cx="81342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Артур Юрьевич</cp:lastModifiedBy>
  <dcterms:modified xsi:type="dcterms:W3CDTF">2018-08-03T11:10:58Z</dcterms:modified>
  <cp:revision>55</cp:revision>
  <dc:subject/>
  <dc:title>ЗИМА</dc:title>
</cp:coreProperties>
</file>