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D656-24FE-4745-A2D7-6825562ACA7D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8CDD-1586-4914-9365-4515E3F0D551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ишки одеваются в теплые комбинезонч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ревьям тоже холодно. Они заранее еще осенью сбрасывают листья и "засыпают" на зи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лько елочки и сосны не расстаются со своими иголками. (Только елки и сосны стоят зеленые, потому что у них специальные свернутые в трубочку листью. Такие листья не замерзают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хорошо выделяются среди коричневых и серых деревьев своим зеленым наря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вотные тоже меняют свои шубки на более пушистые и тепл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которые меняют и цвет своего меха: у заяца беляка летом мех серый, а зимой - белый, чтобы лучше прятаться в белом снег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животные прячутся в теплые норки и берлоги и всю зиму спят. Одни из этих соней - медвед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ой часто идет снег. Он укрывает землю, деревья, кусты, крыши домов толстым белым покрывал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нег бывает разный. Иногда это легкие красивые снежин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это маленькие комочки снега. Такой снег называется "крупа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гда к снегопаду присоединяется ветер, который не дает снегу опуститься на землю, кружит 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большой ветер со снегом называется поземкой. Когда ветер становиться сильным, то он называется метел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ермя сильной метели, ничего не видно и можно потеряться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ой дети и взрослые кататься на санках, коньках и лыж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 снега можно слепить много интересного: куличики, снеговика, крепос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C7C4-A3B8-426C-AB55-E493925480C9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СИЛИЙ ИВАНОВИ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РИК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ятие зимнего город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3BBA-BB25-4C51-B5D6-55B2166073BC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00"/>
                </a:solidFill>
                <a:latin typeface="Arial Black"/>
              </a:rPr>
              <a:t>ИВАН</a:t>
            </a:r>
            <a:r>
              <a:rPr b="1" lang="en-US" sz="10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ru-RU" sz="1000" spc="-1" strike="noStrike">
                <a:solidFill>
                  <a:srgbClr val="008000"/>
                </a:solidFill>
                <a:latin typeface="Arial Black"/>
              </a:rPr>
              <a:t> ИВАНОВИЧ </a:t>
            </a: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ШИШК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а в лесу. И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5A9B-AEBB-4539-8EAF-269C5687603B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обужинский Домик в петербург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1279-CD51-4A05-BF9E-27FC53631D97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ванов Сем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CDAF-6724-4623-AF94-357430640BEA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рымовНикифор Зимний пейз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875C-10E4-4FC8-BC8F-FE5452A157D6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ЕНТИ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ЕКСАНДРОВИ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а в Абрамцев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лько елки и сосны стоят зеленые, потому что у них специальные свернутые в трубочку листью. Такие листья не замерзают. 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BC0C-255B-44B0-BCE2-6F74A3BF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1CAC-2BA2-4D3E-9648-6B94C73E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28B-D700-46D8-87AF-3F5924D6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5D6-E287-4343-A330-94FFDBB2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8A6-7F31-4FC2-8BAE-3FD485E7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F00-7F73-4991-A423-6DC795A3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EB6-002C-47C7-89DD-94F8B894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0B8-CEAF-449F-8E75-7BA6AE3E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5D4-341C-4A11-9DFC-D93C2072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77D-53D5-4895-BC33-B3DB063F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92FF-FB67-4045-8FA0-FB8DE860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A79A-7146-47C1-AF89-FEDC106D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3333cc"/>
              </a:solidFill>
              <a:latin typeface="Chicag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FFBC-D92D-429C-A25B-ED0D28A755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cc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00600" y="3805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Arial"/>
              </a:rPr>
              <a:t>ЗИ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МА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:\My\Изображения\Рисунки\Дерево Зимой.JPG"/>
          <p:cNvPicPr/>
          <p:nvPr/>
        </p:nvPicPr>
        <p:blipFill>
          <a:blip r:embed="rId1"/>
          <a:stretch/>
        </p:blipFill>
        <p:spPr>
          <a:xfrm>
            <a:off x="249120" y="428760"/>
            <a:ext cx="4322880" cy="600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D:\My\Изображения\Рисунки\Месяца и времена года\Зима\зима2.jpg"/>
          <p:cNvPicPr/>
          <p:nvPr/>
        </p:nvPicPr>
        <p:blipFill>
          <a:blip r:embed="rId2"/>
          <a:stretch/>
        </p:blipFill>
        <p:spPr>
          <a:xfrm>
            <a:off x="5638680" y="2514600"/>
            <a:ext cx="28828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по снегу на санках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D:\My\Изображения\Рисунки\Месяца и времена года\Зима\санки.jpg"/>
          <p:cNvPicPr/>
          <p:nvPr/>
        </p:nvPicPr>
        <p:blipFill>
          <a:blip r:embed="rId1"/>
          <a:stretch/>
        </p:blipFill>
        <p:spPr>
          <a:xfrm>
            <a:off x="1219320" y="173160"/>
            <a:ext cx="5943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ыжах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D:\My\Изображения\Рисунки\Месяца и времена года\Зима\лыжи.jpg"/>
          <p:cNvPicPr/>
          <p:nvPr/>
        </p:nvPicPr>
        <p:blipFill>
          <a:blip r:embed="rId1"/>
          <a:stretch/>
        </p:blipFill>
        <p:spPr>
          <a:xfrm>
            <a:off x="1371600" y="457200"/>
            <a:ext cx="601992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снега можно слепить много интересного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ичи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D:\My\Photo\Надюхины фотки\Надюха зимой 1.jpg"/>
          <p:cNvPicPr/>
          <p:nvPr/>
        </p:nvPicPr>
        <p:blipFill>
          <a:blip r:embed="rId1"/>
          <a:stretch/>
        </p:blipFill>
        <p:spPr>
          <a:xfrm>
            <a:off x="2209680" y="76320"/>
            <a:ext cx="47498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еговика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D:\My\Photo\зима.jpg"/>
          <p:cNvPicPr/>
          <p:nvPr/>
        </p:nvPicPr>
        <p:blipFill>
          <a:blip r:embed="rId1"/>
          <a:stretch/>
        </p:blipFill>
        <p:spPr>
          <a:xfrm>
            <a:off x="1676520" y="228600"/>
            <a:ext cx="640080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епость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surikov2"/>
          <p:cNvPicPr/>
          <p:nvPr/>
        </p:nvPicPr>
        <p:blipFill>
          <a:blip r:embed="rId1"/>
          <a:stretch/>
        </p:blipFill>
        <p:spPr>
          <a:xfrm>
            <a:off x="990720" y="255600"/>
            <a:ext cx="716256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имой очень красив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Зима в лесу (Иней)"/>
          <p:cNvPicPr/>
          <p:nvPr/>
        </p:nvPicPr>
        <p:blipFill>
          <a:blip r:embed="rId1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имой часто идет снег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 укрывает землю, деревья, кусты, крыши домов толстым белым покрывалом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D:\My\Изображения\Картины\Добужинский Домик в петербурге 1.JPG"/>
          <p:cNvPicPr/>
          <p:nvPr/>
        </p:nvPicPr>
        <p:blipFill>
          <a:blip r:embed="rId1"/>
          <a:stretch/>
        </p:blipFill>
        <p:spPr>
          <a:xfrm>
            <a:off x="304920" y="0"/>
            <a:ext cx="807696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улице становиться холодно. Люди одевают теплые шубы, пальто, куртк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D:\My\Изображения\Картины\Иванов Семья.JPG"/>
          <p:cNvPicPr/>
          <p:nvPr/>
        </p:nvPicPr>
        <p:blipFill>
          <a:blip r:embed="rId1"/>
          <a:stretch/>
        </p:blipFill>
        <p:spPr>
          <a:xfrm>
            <a:off x="609480" y="304920"/>
            <a:ext cx="84312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м и кустам тоже холодно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и заранее еще осенью сбрасывают листья и "засыпают" на зим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D:\My\Изображения\Картины\КрымовНикифор Зимний пейзаж 1.JPG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ько елочки и сосны не расстаются со своими иголкам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и хорошо выделяются среди коричневых и серых деревьев своим зеленым нарядо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Valentin Serov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876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вотным и птицам тоже холодн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ногие птицы осенью улетают в более теплые ме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которые животные чтобы не мерзнуть прячутся в теплые норки и берлоги. И спят там всю зиму. Одни из этих соней - медвед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вотные, остающиеся бодрствовать, меняют свои летние шубки на более пушистые и теплы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ая пушистая шубка у лис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3" descr="D:\My\Photo\Clipart Животные\Животный мир\Собаки, Волки, Шакалы, Лисы\Лисы\Dog&amp;Wolf135.jpg"/>
          <p:cNvPicPr/>
          <p:nvPr/>
        </p:nvPicPr>
        <p:blipFill>
          <a:blip r:embed="rId1"/>
          <a:stretch/>
        </p:blipFill>
        <p:spPr>
          <a:xfrm>
            <a:off x="800280" y="76320"/>
            <a:ext cx="75816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Некоторые звери меняют цвет своего меха, чтобы лучше было прятаться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зайца беляка летом мех серый, а зимой – белый как снег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D:\My\Photo\LiveNature6\6278.JPG"/>
          <p:cNvPicPr/>
          <p:nvPr/>
        </p:nvPicPr>
        <p:blipFill>
          <a:blip r:embed="rId1"/>
          <a:stretch/>
        </p:blipFill>
        <p:spPr>
          <a:xfrm>
            <a:off x="228600" y="228600"/>
            <a:ext cx="4861080" cy="563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D:\My\Photo\Clipart Животные\Животный мир\Кролики, Белки, Грызуны\Зайцы, кролики\Rab&amp;Squir061.jpg"/>
          <p:cNvPicPr/>
          <p:nvPr/>
        </p:nvPicPr>
        <p:blipFill>
          <a:blip r:embed="rId2"/>
          <a:stretch/>
        </p:blipFill>
        <p:spPr>
          <a:xfrm>
            <a:off x="5562720" y="228600"/>
            <a:ext cx="327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У горностая летняя  шубка коричневая, а зимняя тоже бела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29" descr="D:\My\Photo\Clipart Животные\Животный мир\Кролики, Белки, Грызуны\Прочее\Rab&amp;Squir033.jpg"/>
          <p:cNvPicPr/>
          <p:nvPr/>
        </p:nvPicPr>
        <p:blipFill>
          <a:blip r:embed="rId1"/>
          <a:stretch/>
        </p:blipFill>
        <p:spPr>
          <a:xfrm>
            <a:off x="228600" y="228600"/>
            <a:ext cx="488304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30" descr="D:\My\Photo\Прочее\Животные\Горностай 2.jpg"/>
          <p:cNvPicPr/>
          <p:nvPr/>
        </p:nvPicPr>
        <p:blipFill>
          <a:blip r:embed="rId2"/>
          <a:stretch/>
        </p:blipFill>
        <p:spPr>
          <a:xfrm>
            <a:off x="5334120" y="228600"/>
            <a:ext cx="358128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 мороза вода в речках, прудах и озерах покрывается льдом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льду очень весело кататься на коньках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28" descr="Winter Landscape with Skaters and Bird Trap"/>
          <p:cNvPicPr/>
          <p:nvPr/>
        </p:nvPicPr>
        <p:blipFill>
          <a:blip r:embed="rId1"/>
          <a:stretch/>
        </p:blipFill>
        <p:spPr>
          <a:xfrm>
            <a:off x="533520" y="380880"/>
            <a:ext cx="81342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Артур Юрьевич</cp:lastModifiedBy>
  <dcterms:modified xsi:type="dcterms:W3CDTF">2018-08-03T11:10:58Z</dcterms:modified>
  <cp:revision>55</cp:revision>
  <dc:subject/>
  <dc:title>ЗИМА</dc:title>
</cp:coreProperties>
</file>