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F235-6F6E-4543-8EB9-4321D01D7F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66FB-59FE-405E-8D7E-7FAE9687BF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EC1-46CB-435B-8B23-4F7436E7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C5E-262C-4551-A7B0-512DD2AC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F39-2B29-48FB-9BAC-F992CBC2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22DE-D175-41E7-8775-7A3BA2D6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E67-7D8D-4D77-8F04-3C397AFA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EC0-7856-44BD-AC1F-0EF74B47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16C-3828-4B95-A91D-BF4C88AC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9E64-B7FA-47F0-B320-DA63706E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BD7-C8EB-4E22-A301-3FF59AE1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D44F-91F8-4268-A0A4-F73C6979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51C8-F146-4798-8070-06C86922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58D4-A3EF-462A-A82B-88C4F25C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357F-0111-42D9-B669-18810673D7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69F2-0A5D-456F-8148-65AB03250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1400" y="4568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ология языка – экология душ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1371600" y="2895480"/>
            <a:ext cx="64771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усь, куда же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ешься ты? Дай ответ! Не дает ответа...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В.Г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4495680" y="495288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я выполнена учителем русского языка и литературы МБОУ «Гимназия №1» г. Нижневартовска Артиковой Е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2286000" y="18590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C:\Users\Евгения\Desktop\Картинки мобильного\pic16036983.jpg"/>
          <p:cNvPicPr/>
          <p:nvPr/>
        </p:nvPicPr>
        <p:blipFill>
          <a:blip r:embed="rId1"/>
          <a:stretch/>
        </p:blipFill>
        <p:spPr>
          <a:xfrm>
            <a:off x="1295280" y="228600"/>
            <a:ext cx="6629400" cy="640080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304920" y="474840"/>
            <a:ext cx="8534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как пишет о сквернословии  В. Ирзабек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вернословие проникло в наши жилища и дворы, школы и улицы, укромные уголки тенистых скверов и бескрайние поля, сам воздух России, кажется, напоен до предела миазмами этой зара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ернословят стар и млад: отцы семейств и хранительницы очага, подрастающие мужчины и будущие матери, мальчики, недавно расставшиеся с памперсами, и ангелочки с белокурыми локон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Евгения\Desktop\Картинки мобильного\A133046.JPG"/>
          <p:cNvPicPr/>
          <p:nvPr/>
        </p:nvPicPr>
        <p:blipFill>
          <a:blip r:embed="rId1"/>
          <a:stretch/>
        </p:blipFill>
        <p:spPr>
          <a:xfrm>
            <a:off x="3733920" y="914400"/>
            <a:ext cx="5257800" cy="44197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152280" y="380880"/>
            <a:ext cx="358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ем слабая половина нашего общества ныне дает фору мужской. Ожидающие своего благословенного появления на свет Божий младенцы еще в утробе своих матерей вместе со смрадом удушливого сигаретного дыма заглатывают грязь брани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яющее и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ерзительно и богохульн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2"/>
          <p:cNvSpPr/>
          <p:nvPr/>
        </p:nvSpPr>
        <p:spPr>
          <a:xfrm>
            <a:off x="380880" y="685800"/>
            <a:ext cx="8153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жет не вызвать интереса и научная точка зрения на эту пробле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исследования, проведенные Российской Академией наук, позволяют говорить о том, что ДНК способна воспринимать человеческую речь и читаемый текст по электромагнитным канал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ем одни тексты оздоравливают гены, а проклятия и матерщина вызывают мутации, ведущие к вырождению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е предупреждают, что любое произнесенное слово есть не что иное, как волновая генетическая программа, влияющая не только на нашу жизнь, но и на жизнь наших потом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Евгения\Desktop\Картинки мобильного\1267282401_familie_9576952_m2.jpg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83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28600" y="634320"/>
            <a:ext cx="4419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же помнить о том, что граница языка отдельно взятого человека есть в то же самое время и некая граница его духовного ми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дивительно поэтому, что объем лексики у Пушкина составляет 313 тысяч слов, а у Лермонтова и того больше - 326 тысяч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Евгения\Desktop\Картинки мобильного\1242181298_geniy_020.jpg"/>
          <p:cNvPicPr/>
          <p:nvPr/>
        </p:nvPicPr>
        <p:blipFill>
          <a:blip r:embed="rId1"/>
          <a:stretch/>
        </p:blipFill>
        <p:spPr>
          <a:xfrm>
            <a:off x="4648320" y="609480"/>
            <a:ext cx="4267080" cy="510552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609480" y="68580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налицо ли стремительная лексическая (а значит, и духовная, и интеллектуальная!) деградация нашего общества в сторону печально знаменитой героини И. Ильфа и Е. Петрова - Эллочки-Людоедочки?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Евгения\Desktop\Картинки мобильного\20108.jpg"/>
          <p:cNvPicPr/>
          <p:nvPr/>
        </p:nvPicPr>
        <p:blipFill>
          <a:blip r:embed="rId1"/>
          <a:stretch/>
        </p:blipFill>
        <p:spPr>
          <a:xfrm>
            <a:off x="2133720" y="3048120"/>
            <a:ext cx="4876560" cy="3581280"/>
          </a:xfrm>
          <a:prstGeom prst="rect">
            <a:avLst/>
          </a:prstGeom>
          <a:ln w="0">
            <a:noFill/>
          </a:ln>
        </p:spPr>
      </p:pic>
      <p:sp>
        <p:nvSpPr>
          <p:cNvPr id="8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533520" y="181440"/>
            <a:ext cx="8076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ие катаклизмы порубежной поры изменили условия функционирования русского язы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осшая роль средств массовой информации в современном нам мире и их установка на непринужденное общение обусловили либерализацию языка, изменили отношение к нему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и дни мы повсеместно наблюдаем расшатывание литературных норм, расширение неформального об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457200" y="533520"/>
            <a:ext cx="8153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м этих процессов стало перемещение периферийных элементов языка (жаргона, сленга, просторечья)  в центр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а форм выражения породила тенденцию к словотворчеству, отметим, не всегда удачн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ется ослабление официальности в сфере публичной коммуник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еская система нашего языка никогда еще не была так открыта, активна и, как бы парадоксально это не звучало, жизнеспособ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380880" y="1066680"/>
            <a:ext cx="4267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ся духовность    речи, утрата высокого стиля ведёт к росту значимости жаргона и площадной брани (ненормативной лексики), к опошлению и вульгаризации ре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Евгения\Desktop\Картинки мобильного\9ab35f403f47.jpg"/>
          <p:cNvPicPr/>
          <p:nvPr/>
        </p:nvPicPr>
        <p:blipFill>
          <a:blip r:embed="rId1"/>
          <a:stretch/>
        </p:blipFill>
        <p:spPr>
          <a:xfrm>
            <a:off x="4800600" y="914400"/>
            <a:ext cx="3809880" cy="472428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457200" y="712080"/>
            <a:ext cx="8305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ной язык - мощный фактор консолидации, интеграции народа, нации, важнейшее средство связи покол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 - среда обитания народа и каждого человека. Мы «дышим» речевой продукцией своих современников в повседневном общении дома и в школе, на улице, в автобусе, магазине, слушая радио или телевизор. Сегодня остро встала проблем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и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304920" y="3049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старшеклассники  гимназии отмечают, что проблема употребления нецензурной лексики актуальна в современном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дается ли русский язык в защи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ответили на этот вопрос утвердительно. Но мнения были раз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одим выдержки из сочин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Евгения\Desktop\Картинки мобильного\97096_image_large.jpg"/>
          <p:cNvPicPr/>
          <p:nvPr/>
        </p:nvPicPr>
        <p:blipFill>
          <a:blip r:embed="rId1"/>
          <a:stretch/>
        </p:blipFill>
        <p:spPr>
          <a:xfrm>
            <a:off x="1371600" y="3048120"/>
            <a:ext cx="6400800" cy="3504960"/>
          </a:xfrm>
          <a:prstGeom prst="rect">
            <a:avLst/>
          </a:prstGeom>
          <a:ln w="0">
            <a:noFill/>
          </a:ln>
        </p:spPr>
      </p:pic>
      <p:sp>
        <p:nvSpPr>
          <p:cNvPr id="9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286000" y="15825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380880" y="334440"/>
            <a:ext cx="84582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тный плод всегда сладок, а этот сладок вдвойне, потому как не только запрещают, но и оттягивают за уш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мат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плохо и некультурно, но это неотъемлемая часть русского народа. Может быть, это даже часть русской культуры. И мы не сможем от этого никуда деть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 допустим в нашей речи, но он должен быть вовремя и к месту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380880" y="44640"/>
            <a:ext cx="8458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вижу проблемы в использовании мата. Русский мат, по моему мнению, придает языку точность и выразительность.  Стоит хоть раз  взять в руки академическое издание любого автора, и мы увидим, что мат так или иначе использовали вс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вают моменты, когда ни одно приличное слово не может выразить все то, что внутри. Более того, ругаться можно красиво. И даже великий Пушкин употреблял бранные слова в своем творчеств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-моему, когда  в семье сквернословие витает и лезет из всех щелей, не остается выбора, как подражать отцу, матери, брату. А пото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ычк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Евгения\Desktop\Картинки мобильного\nenorm2.jpg"/>
          <p:cNvPicPr/>
          <p:nvPr/>
        </p:nvPicPr>
        <p:blipFill>
          <a:blip r:embed="rId1"/>
          <a:stretch/>
        </p:blipFill>
        <p:spPr>
          <a:xfrm>
            <a:off x="685800" y="38088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380880" y="62280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ой взгляд, сквернословие вызвано коммерцией:  самые популярные передачи, статьи в журналах, сайты – это сплетни, насилие, разврат - все, что пробуждает в человеке животные инстинкты и уничтожает духовное. Пусть по телевизору показывают театр и оперу, познавательные передачи, а не стрельбу, пьянство, сцены насилия, где все кричат друг на друга. Пусть среди молодежи будет модно быть развитым и физически, и духовно, быть образованны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304920" y="3745800"/>
            <a:ext cx="853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 чтение книг позволяет нам вносить красивые и грамотные изменения в нашу речь, а значит, и в сознани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принять меры по фильтрации мата в СМ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проводить просмотры художественных фильмов, снятых  по классическим произведениям русской литератур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80880" y="710280"/>
            <a:ext cx="8534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ться с матом очень тяжело… Человек должен сам понять и отказаться от н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услышал от красивой молодой девушки «трехэтажный» мат. Мне стало не по себе. Сразу почувствовал отвращение…Мат не красит людей, он делает их злее  и отталкивает от окружающи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вают моменты, когда мат так и норовит вырваться из меня. Я задумываюсь и говорю слово помягче…Решил для себя больше не материться и заменить все эти слов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228600" y="329400"/>
            <a:ext cx="8686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люди  используют нецензурную лекси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несколько причин: повышение эмоциональности речи, эмоциональная разрядка, оскорбление адресата, демонстрация агрессии, демонстрация отсутствия страха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я считаю, что употребляя мат, человек просто не может подобрать  нужное слово, что говорит о его бедном запасе слов, а это, в свою очередь, о не очень хорошем умственном развитии…Нет ни одного плюса в использовании ненормативной лексики, из чего можно сделать вывод: 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 жизни состояться, матом лучше не ругатьс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228600" y="3448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 - это будущее нашей страны, но разве мы хотим, чтобы  наш русский язык потерял свою силу и могущество? Нет красивее человека, чем человек грамотный, знающий все многообразие своего родного языка и умеющий красиво и правильно на нем говор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Users\Евгения\Desktop\Картинки мобильного\russian1.jpg"/>
          <p:cNvPicPr/>
          <p:nvPr/>
        </p:nvPicPr>
        <p:blipFill>
          <a:blip r:embed="rId1"/>
          <a:stretch/>
        </p:blipFill>
        <p:spPr>
          <a:xfrm>
            <a:off x="762120" y="2438280"/>
            <a:ext cx="7619760" cy="419112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1981080" y="457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838080" y="1143000"/>
            <a:ext cx="7467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алия Соллогуб. «Экология слова и экология языка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roza.ru/2017/02/22/2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силий Ирзабеков - Тайна русского слова. Заметки нерусского человек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s://profilib.net/chtenie/145473/vasiliy-irzabekov-tayna-russkogo-slova-zametki-nerusskogo-cheloveka-8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ж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s://yandex.ru/images/search?text=%D0%BE%20%D0%BD%D0%B5%D1%86%D0%B5%D0%BD%D0%B7%D1%83%D1%80%D0%BD%D0%BE%D0%B9%20%D0%BB%D0%B5%D0%BA%D1%81%D0%B8%D0%BA%D0%B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лгина Н.С. Активные процессы в русском язык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hi-edu.ru/e-books/xbook050/01/part-009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ржки из сочинений учащихся МБОУ «Гимназия №1» г. Нижневарто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80880" y="491400"/>
            <a:ext cx="83822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олучное состояние природной среды может подорвать здоровье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олучное состояние языковой среды вызывает духовную деградацию отдельной личности и всего народа, может уничтожить народ как культурно-исторический феномен. Народ и язык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ятия нераздельные, как тело и душа. Издревле народ на Руси называли языком: В Священном Писании язык употребляется в значении «народ»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380880" y="440640"/>
            <a:ext cx="4648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исследователи новейшего  русского языка правы: наступило время резкой активизации просторечной лексики и жарг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полне образованные люди с удовольствием стали употреблять в своей речи жаргониз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ргонизмы широким потоком льются с экранов телевизоров, звучат  в радиоэфире, прочно входят в язык художественной литературы. Мы слышим их даже в парламентских дебатах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Евгения\Desktop\Картинки мобильного\Жириновский.jpg"/>
          <p:cNvPicPr/>
          <p:nvPr/>
        </p:nvPicPr>
        <p:blipFill>
          <a:blip r:embed="rId1"/>
          <a:stretch/>
        </p:blipFill>
        <p:spPr>
          <a:xfrm>
            <a:off x="5105520" y="152280"/>
            <a:ext cx="3809880" cy="3124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Евгения\Desktop\Картинки мобильного\политика.jpg"/>
          <p:cNvPicPr/>
          <p:nvPr/>
        </p:nvPicPr>
        <p:blipFill>
          <a:blip r:embed="rId2"/>
          <a:stretch/>
        </p:blipFill>
        <p:spPr>
          <a:xfrm>
            <a:off x="5181480" y="3657600"/>
            <a:ext cx="3581640" cy="304812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380880" y="486720"/>
            <a:ext cx="8382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ксты новейшего русского языка приходят элементы его периферии: жаргон, просторечие, разговорная лексика, всё то, что до 1990-х годов практически не употреблялось в средствах массовой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 — не та область, в которой полностью должны отсутствовать запреты. Особенно, если речь идет о публичном выступ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838080" y="449568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епощение языка — признак нашего времени, но не стоит подменять раскованность распущенностью и вседозволен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Евгения\Desktop\Картинки мобильного\9221e6302dfea255b0100cb1e4e93e19.jpg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533520" y="228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ревогой наблюдаем мы пришедшую плеяду непрофессиональных теле- и радиожурналистов, мастеров "жёлтого" пера, калечащих наш язык и засоряющих его непристойными выражен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533520" y="2209680"/>
            <a:ext cx="8305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 журналисты не желают понять, что свобода слова, свобода печати ничего общего не имеет со «свободой язы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этом смысле вполне можно говорить о своего рода агрессии, результатом которой, как известно, являются всего два состояния: или ответная агрессия, или подчин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 состояния для языка — отрицательн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609480" y="685800"/>
            <a:ext cx="8077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человеку (или обществу в целом) все равно, как о нем говорят, то в конечном итоге это приводит к безразличному отношению к тому, что о нем говорят и что ему говор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ие криминального жаргона и сленга в СМИ само по себе не приводит к новым преступлениям, но оно приближает, делает привычным, бытовым наше представление о преступлении. Мнение, что слово виртуально, не имеет материальной силы — мнение глубоко ошибоч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457200" y="612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57200" y="642240"/>
            <a:ext cx="8381880" cy="67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русский язык подвергается опасности разрушения, обесцвечивания. Мёртвых, уродливых слов в нашем языке сегодня очень мн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к пчёлы в улье опустелом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рно пахнут мёртвые слова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»…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С. Гумиле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нижается духовность речи, утрата высокого стиля ведёт к росту значимости жаргона и площадной брани (ненормативной лексик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икова Евгения Борис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2:48:38Z</dcterms:created>
  <dc:creator>Мама</dc:creator>
  <dc:description/>
  <dc:language>en-US</dc:language>
  <cp:lastModifiedBy>Яна</cp:lastModifiedBy>
  <dcterms:modified xsi:type="dcterms:W3CDTF">2018-08-04T19:35:02Z</dcterms:modified>
  <cp:revision>79</cp:revision>
  <dc:subject/>
  <dc:title>Слайд 1</dc:title>
</cp:coreProperties>
</file>