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D228-E0E6-4192-9E25-D1AAB311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B5A3-8AFD-4C3D-BA42-AD17ED24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43D-7432-4FC1-B77E-72326C61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D0F0-6568-4610-9A71-E4561849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AC22-95AA-44DF-A5E3-272D7BAE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8803-1EB1-4C88-A934-E00F1280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6AE0-E130-46A9-BD93-E002F4E2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0523-B892-49D2-8CBD-9739FCC3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81E7-C125-4937-A0B3-08A5937F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5C53-A00C-4B1A-848A-EABBDBE9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9B27-75DA-417B-A1F5-316D0049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89F0-C960-405B-A572-FA0FADAB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66C2-AFBB-4D94-A149-169CD9BD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8345-C0D6-4728-A44A-BBF8BB8F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43DF-B8DE-489B-9766-16741DC2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48CE-B195-4E70-827D-21A3AA46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06CA-6C37-47EA-B2C8-55B63FEF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E884-5533-4DB0-BDEB-CC0B84AB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61C-0AA3-4F68-BE87-93EF0EDA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61DB-F84A-4188-AD0D-51681827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714-94B0-4A65-BE11-88AE0FCC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366F-EB38-410B-B7EC-CA657BC6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3CF-2C7F-4FA2-934C-62AC24FB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B6A-90D9-4402-A221-4ADD1928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9416-8DEA-4D97-A274-FD397E0C43F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CD01-650F-4A68-AF55-368923EA90A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Идея мотивированности обучения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дрешова Валентина Геннад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БОУ СОШ №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b7"/>
                </a:solidFill>
                <a:latin typeface="Arial Black"/>
              </a:rPr>
              <a:t>«Крест способностей»</a:t>
            </a:r>
            <a:endParaRPr b="1" lang="en-US" sz="35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гласно схеме, предложенной К. Юнгом все множество способностей человека можно условно разделить на 4 группы (4 оси креста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циональн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оциональн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уитивн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ятельност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циональные способн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им из ведущих мотивов обучения является познание истины. Учащиеся опираются на хорошо развитый интеллект, логику, умеют и любят анализировать, сравнивать. Для них важны точность, логичность, аргументированность изложения учебного материа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моциональные способн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учащихся важна доброжелательная атмосфера, внешний вид кабинета, эмоциональное состояние учи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них важен яркий, выразительный и наглядный учебный материал, возможность действовать сообщ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нтуитивные способн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ащиеся с наибольшим удовольствием выполняют задания с высоким уровнем неопределенности, творческие, проблемные задачи, когда есть возможность свободно генерировать свои идеи. Они импульсивны по своей натуре  и легко переключаются на новые задачи. Доводка собственных идей не доставляет им удовольствия. Для них наиболее приемлемо условия игрового об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еятельные способн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щиеся охотно выполняют различные практические и физические действия: действия с реальными предметами, раздаточным материал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тивами обучения для них является практическая польза, материальный результат их учебных усил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нешняя и внутренняя мотивац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нутренняя мотивация придает деятельности ребенка целенаправленность, энергию, оптимиз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ли нет внутренней мотивации, то возникает необходимость перехода к режиму внешней принудительн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новная проблема состоит в том, что внешне и внутренне мотивированная деятельность – антагонисты, т.е. внешняя мотивация снижает внутренню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Увеличение мотивационной силы учебной ситуаци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чимый, интересный для учащихся материа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ния, предполагающие разнообразные умения для их выпол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жительная обратная связ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ния с очевидным результа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ь действовать самостоятельно при условии сформированности навыка самостоятельных действий у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ределения мотива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. Маслоу: «Мотивация – человеческое стремление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проявить себя в том, к чему он чувствует себя потенциально способным»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 мотивацией понимают генетическое стремление человека к самореализации в соответствии с его способностями, к определенным видам деятельности и настойчивость в овладении ими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ути разрешения проблемы мотивац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908000" y="1844640"/>
            <a:ext cx="122400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1844640"/>
            <a:ext cx="1185840" cy="1333440"/>
          </a:xfrm>
          <a:custGeom>
            <a:avLst/>
            <a:gdLst/>
            <a:ahLst/>
            <a:rect l="l" t="t" r="r" b="b"/>
            <a:pathLst>
              <a:path w="747" h="840">
                <a:moveTo>
                  <a:pt x="0" y="0"/>
                </a:moveTo>
                <a:lnTo>
                  <a:pt x="747" y="84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213000"/>
            <a:ext cx="381636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инимизаци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ричин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нежелания учитьс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3213000"/>
            <a:ext cx="3744720" cy="302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аксимизация того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что вызывае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 поддерживае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ознавательную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отивацию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учащихс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ричины нежелания учиться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груз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логический дискомфор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интересность и, как следствие, отсутствие вним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нотонность однообразие учебного процесс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очевидность результ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b7"/>
                </a:solidFill>
                <a:latin typeface="Arial Black"/>
              </a:rPr>
              <a:t>Что вызывает и поддерживает познавательную мотивацию учащихся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нтересность учебного материала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сихологический комфорт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Разнообразие действий как возможность самореализации учащихся с различными способностями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онкретность и очевидность конечного результа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b7"/>
                </a:solidFill>
                <a:latin typeface="Arial Black"/>
              </a:rPr>
              <a:t>Психологическая безопасность</a:t>
            </a:r>
            <a:endParaRPr b="1" lang="en-US" sz="35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реализация личности определяется возможностью наиболее полного удовлетворения физиологических и психологических потребност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b7"/>
                </a:solidFill>
                <a:latin typeface="Arial Black"/>
              </a:rPr>
              <a:t>Удовлетворение физиологических потребностей</a:t>
            </a:r>
            <a:endParaRPr b="1" lang="en-US" sz="3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орошо освещенное простран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орошо проветренное простран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оровые, выспавшиеся, сытые  де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ли физиологические потребности удовлетворены хотя бы на 85 %, человек может переключиться на удовлетворение потребностей более высокого уровня, в т.ч. психологическ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556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b7"/>
                </a:solidFill>
                <a:latin typeface="Arial Black"/>
              </a:rPr>
              <a:t>Познавательная потребность как одна из ключевых психологических потребностей  </a:t>
            </a:r>
            <a:endParaRPr b="1" lang="en-US" sz="3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2060640"/>
            <a:ext cx="576108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знавательная потреб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3860640"/>
            <a:ext cx="251928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ребность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сихологическ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зопас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3860640"/>
            <a:ext cx="2736720" cy="1513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ребность бы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нят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124000" y="2997360"/>
            <a:ext cx="1295640" cy="86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5867280" y="2997360"/>
            <a:ext cx="1441440" cy="86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нимание на урок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нимание актуализируется в двух случаях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гроза безопасности (утрата комфорт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терес (контраст в сравнении с тем, что мы сейчас делаем или чувствуем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12:50:10Z</dcterms:created>
  <dc:creator>ПОНЧИК У АППАРАТА</dc:creator>
  <dc:description/>
  <dc:language>en-US</dc:language>
  <cp:lastModifiedBy>ПОНЧИК У АППАРАТА</cp:lastModifiedBy>
  <dcterms:modified xsi:type="dcterms:W3CDTF">2018-08-04T06:14:45Z</dcterms:modified>
  <cp:revision>3</cp:revision>
  <dc:subject/>
  <dc:title>Идея мотивированности обучения </dc:title>
</cp:coreProperties>
</file>