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D481-D490-4DDD-8802-429D63BB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AE10-AADA-4451-90E4-AE33F0F1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A74-72FF-4014-85E0-044A5384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C4E3-98A8-42A2-80FC-EB50ABF7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430F-A925-4264-9EEF-105D9A11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60FE-F4EF-480D-9272-AA8B4BE6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0B3C-800A-4E8F-AFA2-1151D051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0C5F-CBCB-4DD5-9192-D5B0DD56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0883-8A38-4DFD-BA86-69E48008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4537-B364-43C8-880C-CBA0CF03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FD8B-E84E-4EC4-986D-5D23CEE7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FDBA-D1BB-4A9F-9403-BD154D7B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4248-9836-4907-9AEB-EB3500B6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DC80-07C1-4300-BE0D-ACBC1C03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31E3-CD1E-4D7E-949B-87106A3F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C84A-B503-4B8F-85FD-A794A1E1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E94F-6857-4B41-B69F-01659F0C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A9C-A1BA-465F-A4CC-19D77383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AF3-085B-43CC-95E3-8DB4C912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145-8EF0-475D-86D3-C99D0C23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CF0C-6345-485C-8540-A5357AA0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B0B-A891-4C6F-A23C-2EDB7138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4EE0-BED1-4921-A4B9-4D8B9B8C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D5AB-7D5E-4350-A17B-E1AD321A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D671-3C5C-4F2B-B13A-FFBE418A89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90E5-B075-4D7E-A3E0-11EB77C78D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Идея мотивированности обучения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дрешова Валентина Геннад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ОУ СОШ №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b7"/>
                </a:solidFill>
                <a:latin typeface="Arial Black"/>
              </a:rPr>
              <a:t>«Крест способностей»</a:t>
            </a:r>
            <a:endParaRPr b="1" lang="en-US" sz="35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гласно схеме, предложенной К. Юнгом все множество способностей человека можно условно разделить на 4 группы (4 оси креста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циональн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оциональн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уитивн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ятельност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циональные способн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им из ведущих мотивов обучения является познание истины. Учащиеся опираются на хорошо развитый интеллект, логику, умеют и любят анализировать, сравнивать. Для них важны точность, логичность, аргументированность изложения учебного материа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моциональные способн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учащихся важна доброжелательная атмосфера, внешний вид кабинета, эмоциональное состояние учи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них важен яркий, выразительный и наглядный учебный материал, возможность действовать сообщ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нтуитивные способн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щиеся с наибольшим удовольствием выполняют задания с высоким уровнем неопределенности, творческие, проблемные задачи, когда есть возможность свободно генерировать свои идеи. Они импульсивны по своей натуре  и легко переключаются на новые задачи. Доводка собственных идей не доставляет им удовольствия. Для них наиболее приемлемо условия игрового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еятельные способн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щиеся охотно выполняют различные практические и физические действия: действия с реальными предметами, раздаточным материал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тивами обучения для них является практическая польза, материальный результат их учебных усил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нешняя и внутренняя мотивац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утренняя мотивация придает деятельности ребенка целенаправленность, энергию, оптимиз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ли нет внутренней мотивации, то возникает необходимость перехода к режиму внешней принудительн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новная проблема состоит в том, что внешне и внутренне мотивированная деятельность – антагонисты, т.е. внешняя мотивация снижает внутренню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Увеличение мотивационной силы учебной ситуац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чимый, интересный для учащихся материа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ния, предполагающие разнообразные умения для их выпол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ительная обратная связ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ния с очевидным результа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действовать самостоятельно при условии сформированности навыка самостоятельных действий у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ределения мотива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. Маслоу: «Мотивация – человеческое стремление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проявить себя в том, к чему он чувствует себя потенциально способным»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 мотивацией понимают генетическое стремление человека к самореализации в соответствии с его способностями, к определенным видам деятельности и настойчивость в овладении ими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ути разрешения проблемы мотивац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908000" y="1844640"/>
            <a:ext cx="122400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1844640"/>
            <a:ext cx="1185840" cy="1333440"/>
          </a:xfrm>
          <a:custGeom>
            <a:avLst/>
            <a:gdLst/>
            <a:ahLst/>
            <a:rect l="l" t="t" r="r" b="b"/>
            <a:pathLst>
              <a:path w="747" h="840">
                <a:moveTo>
                  <a:pt x="0" y="0"/>
                </a:moveTo>
                <a:lnTo>
                  <a:pt x="747" y="84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213000"/>
            <a:ext cx="381636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инимизац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ричин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ежелания учитьс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3213000"/>
            <a:ext cx="3744720" cy="302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аксимизация того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что вызывае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 поддерживае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ознавательную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отивацию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учащихс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ичины нежелания учиться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груз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логический дискомфор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интересность и, как следствие, отсутствие вним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нотонность однообразие учебного процесс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очевидность результ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b7"/>
                </a:solidFill>
                <a:latin typeface="Arial Black"/>
              </a:rPr>
              <a:t>Что вызывает и поддерживает познавательную мотивацию учащихся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нтересность учебного материала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сихологический комфорт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Разнообразие действий как возможность самореализации учащихся с различными способностями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онкретность и очевидность конечного результа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b7"/>
                </a:solidFill>
                <a:latin typeface="Arial Black"/>
              </a:rPr>
              <a:t>Психологическая безопасность</a:t>
            </a:r>
            <a:endParaRPr b="1" lang="en-US" sz="35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реализация личности определяется возможностью наиболее полного удовлетворения физиологических и психологических потребност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b7"/>
                </a:solidFill>
                <a:latin typeface="Arial Black"/>
              </a:rPr>
              <a:t>Удовлетворение физиологических потребностей</a:t>
            </a:r>
            <a:endParaRPr b="1" lang="en-US" sz="3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орошо освещенное простран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орошо проветренное простран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оровые, выспавшиеся, сытые  де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ли физиологические потребности удовлетворены хотя бы на 85 %, человек может переключиться на удовлетворение потребностей более высокого уровня, в т.ч. психологическ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556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b7"/>
                </a:solidFill>
                <a:latin typeface="Arial Black"/>
              </a:rPr>
              <a:t>Познавательная потребность как одна из ключевых психологических потребностей  </a:t>
            </a:r>
            <a:endParaRPr b="1" lang="en-US" sz="3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2060640"/>
            <a:ext cx="576108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знавательная потреб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3860640"/>
            <a:ext cx="251928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ребность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сихологическ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зопас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3860640"/>
            <a:ext cx="2736720" cy="1513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ребность бы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ят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124000" y="2997360"/>
            <a:ext cx="1295640" cy="86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5867280" y="2997360"/>
            <a:ext cx="1441440" cy="86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нимание на урок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нимание актуализируется в двух случаях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гроза безопасности (утрата комфорт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терес (контраст в сравнении с тем, что мы сейчас делаем или чувствуем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12:50:10Z</dcterms:created>
  <dc:creator>ПОНЧИК У АППАРАТА</dc:creator>
  <dc:description/>
  <dc:language>en-US</dc:language>
  <cp:lastModifiedBy>ПОНЧИК У АППАРАТА</cp:lastModifiedBy>
  <dcterms:modified xsi:type="dcterms:W3CDTF">2018-08-04T06:14:45Z</dcterms:modified>
  <cp:revision>3</cp:revision>
  <dc:subject/>
  <dc:title>Идея мотивированности обучения </dc:title>
</cp:coreProperties>
</file>