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2AF8-8A59-4065-B857-73A7F03BF4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CEF4-9D65-4FB2-92A9-8CE4B24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B7AA-20C6-4853-93B5-A5DF87A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9462-2AF1-4A09-9297-206E7A173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C58EC-2169-454A-A6A2-4FE341A12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ECF28-F0BF-46D4-976D-53E3F49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FC1A3-BD8C-40BF-B47C-659CDC7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B4E6F-F48D-469A-AA3B-435C895F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E24A0-0EC8-48F1-8C09-146C55E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3D40F-663B-404A-9B93-A719F36A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5B40F-7B0C-4482-BA60-74B0AC52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2473-D644-45EB-80F6-95F80CF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D39B-179D-48EE-8DC1-0E8E8581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80FD3-0E30-4658-91B3-3DEC0C25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0B0CE-7403-498E-BD5A-F9A21DCB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AD52A-84F8-4B88-99A5-6C8A570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FA17E-6ED8-454D-8B88-FBC5B87BF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348A-0A97-4651-B825-5830E40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46D60-436E-412D-924A-101703F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C935-52FA-47AF-BB64-06F818E3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6ACA-1874-4C2E-9EE6-1406D0E7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F759-2662-4B35-93D1-C9BBDA6E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95C1-7099-440E-B2BA-F2655F3D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5B5E-E5ED-4BDE-8E0D-132D7DC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3855e"/>
              </a:gs>
              <a:gs pos="100000">
                <a:srgbClr val="4aab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5879e"/>
              </a:gs>
              <a:gs pos="100000">
                <a:srgbClr val="8aa3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3" name="Freeform 4"/>
            <p:cNvSpPr/>
            <p:nvPr/>
          </p:nvSpPr>
          <p:spPr>
            <a:xfrm rot="21420000">
              <a:off x="-28080" y="-15840"/>
              <a:ext cx="9180000" cy="1083960"/>
            </a:xfrm>
            <a:prstGeom prst="pie">
              <a:avLst/>
            </a:prstGeom>
            <a:noFill/>
            <a:ln w="10800">
              <a:solidFill>
                <a:srgbClr val="899b7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 rot="21420000">
              <a:off x="-24840" y="106200"/>
              <a:ext cx="9192600" cy="884520"/>
            </a:xfrm>
            <a:prstGeom prst="pie">
              <a:avLst/>
            </a:prstGeom>
            <a:noFill/>
            <a:ln w="9360">
              <a:solidFill>
                <a:srgbClr val="9cb08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1836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8.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2E0297-7287-4863-A2A3-F5A35D6C1975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3855e"/>
              </a:gs>
              <a:gs pos="100000">
                <a:srgbClr val="4aab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2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5879e"/>
              </a:gs>
              <a:gs pos="100000">
                <a:srgbClr val="8aa3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-50400" y="-255600"/>
            <a:ext cx="9235080" cy="1563120"/>
            <a:chOff x="-50400" y="-255600"/>
            <a:chExt cx="9235080" cy="1563120"/>
          </a:xfrm>
        </p:grpSpPr>
        <p:sp>
          <p:nvSpPr>
            <p:cNvPr id="49" name="Freeform 4"/>
            <p:cNvSpPr/>
            <p:nvPr/>
          </p:nvSpPr>
          <p:spPr>
            <a:xfrm rot="21420000">
              <a:off x="-28080" y="-15840"/>
              <a:ext cx="9180000" cy="1083960"/>
            </a:xfrm>
            <a:prstGeom prst="pie">
              <a:avLst/>
            </a:prstGeom>
            <a:noFill/>
            <a:ln w="10800">
              <a:solidFill>
                <a:srgbClr val="899b7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 rot="21420000">
              <a:off x="-24840" y="106200"/>
              <a:ext cx="9192600" cy="884520"/>
            </a:xfrm>
            <a:prstGeom prst="pie">
              <a:avLst/>
            </a:prstGeom>
            <a:noFill/>
            <a:ln w="9360">
              <a:solidFill>
                <a:srgbClr val="9cb084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8.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8DDCD4-5C8D-49B7-A986-69E58C5B43FF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03280" y="1320840"/>
          <a:ext cx="8281800" cy="501660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35000"/>
                <a:gridCol w="1036800"/>
                <a:gridCol w="1035000"/>
                <a:gridCol w="1035000"/>
                <a:gridCol w="1035000"/>
                <a:gridCol w="1035000"/>
              </a:tblGrid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00332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35"/>
          <p:cNvSpPr/>
          <p:nvPr/>
        </p:nvSpPr>
        <p:spPr>
          <a:xfrm>
            <a:off x="2308320" y="287280"/>
            <a:ext cx="4964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Логически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63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  <a:ea typeface="Tahoma"/>
              </a:rPr>
              <a:t>Реши математический ребус. Нужно вместо каждой буквы подставить нужную цифру, чтобы выражение было верным. Одни и те же буквы обозначают одну и ту же цифру. </a:t>
            </a:r>
            <a:br>
              <a:rPr sz="5000"/>
            </a:b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8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6346" t="0" r="31717" b="0"/>
          <a:stretch/>
        </p:blipFill>
        <p:spPr>
          <a:xfrm>
            <a:off x="358920" y="1440000"/>
            <a:ext cx="5760720" cy="355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4" name="AutoShape 4"/>
          <p:cNvSpPr/>
          <p:nvPr/>
        </p:nvSpPr>
        <p:spPr>
          <a:xfrm>
            <a:off x="1871640" y="2735280"/>
            <a:ext cx="503280" cy="647640"/>
          </a:xfrm>
          <a:custGeom>
            <a:avLst/>
            <a:gdLst>
              <a:gd name="textAreaLeft" fmla="*/ 360 w 503280"/>
              <a:gd name="textAreaRight" fmla="*/ 502920 w 503280"/>
              <a:gd name="textAreaTop" fmla="*/ 360 h 647640"/>
              <a:gd name="textAreaBottom" fmla="*/ 647280 h 647640"/>
            </a:gdLst>
            <a:ahLst/>
            <a:rect l="textAreaLeft" t="textAreaTop" r="textAreaRight" b="textAreaBottom"/>
            <a:pathLst>
              <a:path w="21600" h="27791">
                <a:moveTo>
                  <a:pt x="68" y="0"/>
                </a:moveTo>
                <a:arcTo wR="68" hR="68" stAng="16200000" swAng="-5400000"/>
                <a:lnTo>
                  <a:pt x="0" y="27723"/>
                </a:lnTo>
                <a:arcTo wR="68" hR="68" stAng="10800000" swAng="-5400000"/>
                <a:lnTo>
                  <a:pt x="21532" y="27791"/>
                </a:lnTo>
                <a:arcTo wR="68" hR="68" stAng="5400000" swAng="-5400000"/>
                <a:lnTo>
                  <a:pt x="21600" y="68"/>
                </a:lnTo>
                <a:arcTo wR="68" hR="68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44720" y="2664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3527280"/>
            <a:ext cx="1079640" cy="79236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22400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61928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44720" y="3591000"/>
            <a:ext cx="647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Arial"/>
                <a:ea typeface="Lucida Sans Unicod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4248000" y="1800360"/>
            <a:ext cx="432000" cy="647640"/>
          </a:xfrm>
          <a:custGeom>
            <a:avLst/>
            <a:gdLst>
              <a:gd name="textAreaLeft" fmla="*/ 360 w 432000"/>
              <a:gd name="textAreaRight" fmla="*/ 431640 w 432000"/>
              <a:gd name="textAreaTop" fmla="*/ 360 h 647640"/>
              <a:gd name="textAreaBottom" fmla="*/ 647280 h 647640"/>
            </a:gdLst>
            <a:ahLst/>
            <a:rect l="textAreaLeft" t="textAreaTop" r="textAreaRight" b="textAreaBottom"/>
            <a:pathLst>
              <a:path w="21600" h="32373">
                <a:moveTo>
                  <a:pt x="79" y="0"/>
                </a:moveTo>
                <a:arcTo wR="79" hR="79" stAng="16200000" swAng="-5400000"/>
                <a:lnTo>
                  <a:pt x="0" y="32294"/>
                </a:lnTo>
                <a:arcTo wR="79" hR="79" stAng="10800000" swAng="-5400000"/>
                <a:lnTo>
                  <a:pt x="21521" y="32373"/>
                </a:lnTo>
                <a:arcTo wR="79" hR="79" stAng="5400000" swAng="-5400000"/>
                <a:lnTo>
                  <a:pt x="21600" y="79"/>
                </a:lnTo>
                <a:arcTo wR="79" hR="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680000" y="2664000"/>
            <a:ext cx="720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535640" y="2664000"/>
            <a:ext cx="8794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4680000" y="3743280"/>
            <a:ext cx="287280" cy="576360"/>
          </a:xfrm>
          <a:custGeom>
            <a:avLst/>
            <a:gdLst>
              <a:gd name="textAreaLeft" fmla="*/ 360 w 287280"/>
              <a:gd name="textAreaRight" fmla="*/ 286920 w 287280"/>
              <a:gd name="textAreaTop" fmla="*/ 360 h 576360"/>
              <a:gd name="textAreaBottom" fmla="*/ 576000 h 576360"/>
            </a:gdLst>
            <a:ahLst/>
            <a:rect l="textAreaLeft" t="textAreaTop" r="textAreaRight" b="textAreaBottom"/>
            <a:pathLst>
              <a:path w="21600" h="43308">
                <a:moveTo>
                  <a:pt x="120" y="0"/>
                </a:moveTo>
                <a:arcTo wR="120" hR="120" stAng="16200000" swAng="-5400000"/>
                <a:lnTo>
                  <a:pt x="0" y="43188"/>
                </a:lnTo>
                <a:arcTo wR="120" hR="120" stAng="10800000" swAng="-5400000"/>
                <a:lnTo>
                  <a:pt x="21480" y="43308"/>
                </a:lnTo>
                <a:arcTo wR="120" hR="120" stAng="5400000" swAng="-5400000"/>
                <a:lnTo>
                  <a:pt x="21600" y="120"/>
                </a:lnTo>
                <a:arcTo wR="120" hR="12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484520" y="3635280"/>
            <a:ext cx="663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ff3333"/>
                </a:solidFill>
                <a:latin typeface="Arial"/>
                <a:ea typeface="Lucida Sans Unicode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1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92000" y="1079640"/>
            <a:ext cx="7705800" cy="3671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857680" y="4761000"/>
            <a:ext cx="27572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Ром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504720" y="358920"/>
            <a:ext cx="8207640" cy="3673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311640" y="4255920"/>
            <a:ext cx="2368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4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Уг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7848720" y="5975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2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7280" y="863640"/>
            <a:ext cx="849636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Times New Roman"/>
                <a:ea typeface="Lucida Sans Unicode"/>
              </a:rPr>
              <a:t>Ребята измеряли шагами длину игровой площадки. У Лизы получилось 25 шагов, у Полины – 27, у Максима – 22, а у Юры – 24. У кого из ребят самый короткий шаг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27280" y="5213520"/>
            <a:ext cx="273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У Полин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015640" y="77760"/>
            <a:ext cx="482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</a:rPr>
              <a:t>3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431640" y="647640"/>
            <a:ext cx="849636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У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На рыбалке был Вади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Вот улов е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Налим, Лещ, Карасик, 3 линя, 5 плотвичек, Уклея,Щу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2x2 бычка, 2 красавца-судачка, 6 подустов, 7 берш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8 маленьких ершей, 9 добрых окунь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Да!Хороший был у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Вы же Вместе всё слож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Сколько рыбок всех? Скаж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983280" y="568800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4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Груша тяжелее яблока, но легче апельсина. Яблоко тяжелее персика, а апельсин легче ананаса. Найди самый лёгкий и самый тяжёлый фрукт.</a:t>
            </a:r>
            <a:br>
              <a:rPr sz="50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4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60360" y="4424400"/>
            <a:ext cx="878364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7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Самый тяжелый фрукт — анан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33"/>
                </a:solidFill>
                <a:latin typeface="Times New Roman"/>
                <a:ea typeface="Lucida Sans Unicode"/>
              </a:rPr>
              <a:t>самый лёгкий - перс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5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ложи 1 палочку таким образом, чтобы домик был перевернут в другую сторону</a:t>
            </a:r>
            <a:br>
              <a:rPr sz="50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6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3480" t="10867" r="51162" b="8703"/>
          <a:stretch/>
        </p:blipFill>
        <p:spPr>
          <a:xfrm>
            <a:off x="792000" y="3240000"/>
            <a:ext cx="3240360" cy="302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rcRect l="49396" t="5892" r="3088" b="11957"/>
          <a:stretch/>
        </p:blipFill>
        <p:spPr>
          <a:xfrm>
            <a:off x="4535640" y="3240000"/>
            <a:ext cx="2879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863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  <a:ea typeface="Tahoma"/>
              </a:rPr>
              <a:t>сложить 2 рядом стоящих числа и сумму записать в верхнем кружочке. </a:t>
            </a:r>
            <a:br>
              <a:rPr sz="5000"/>
            </a:b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016000" y="125280"/>
            <a:ext cx="482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69676d"/>
                </a:solidFill>
                <a:latin typeface="Calibri"/>
                <a:ea typeface="Lucida Sans Unicode"/>
              </a:rPr>
              <a:t>7 занят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848720" y="597708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cfe7f5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0" t="33240" r="0" b="7961"/>
          <a:stretch/>
        </p:blipFill>
        <p:spPr>
          <a:xfrm>
            <a:off x="1800360" y="2303640"/>
            <a:ext cx="5543280" cy="41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3024360" y="46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140360" y="46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327640" y="4608360"/>
            <a:ext cx="72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3600360" y="371016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680000" y="3672000"/>
            <a:ext cx="72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95640" y="2735280"/>
            <a:ext cx="1008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1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8-02-05T05:27:52Z</dcterms:modified>
  <cp:revision>2</cp:revision>
  <dc:subject/>
  <dc:title>Слайд 1</dc:title>
</cp:coreProperties>
</file>