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AEEC-4CC0-48A8-9778-6ACD6FA56F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8C4F-33FC-4476-A47A-A26106F5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3ADA-374C-41FE-B861-CF283B6B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B9F6-0D32-4071-8FDE-E59073AA8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CCE75-7F91-4AA5-B438-4279CD2F6B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D8206-49D7-4CBA-8C8D-DB31E064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5AB39-96AD-47DC-8DD5-FBDC2CDA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A7C56-EC2D-4F97-87CA-86D521BA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8F98F-5B02-4FF8-AD46-3479131E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5C51A-3389-41E1-A250-7EBF0B18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1D103-BF6E-4E4A-B849-309F4580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266B-B02D-4FCF-8581-4ECD4EA4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58A55-DE2F-4948-A9C3-6B21CB68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8A69C-26AF-4E1D-83C6-BDC11FBF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4003D-7A14-4521-BFA2-ADEA82CE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518CE-C02A-4D99-A86C-5939E206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A74F0-B8A0-4956-8A23-24FB9C2E9F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3741-7A30-43F9-8B2A-6B26A2D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C83C-1DB2-4F92-A3A7-5219B45E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ACA1-F0F8-4A77-8B18-702EE96B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3921-406D-4479-91A5-EE0CB669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3289-73B2-4EE8-AE45-012859CE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1E30-4681-433F-ADF0-2CA731F3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BE8D-6D24-4F43-BBE4-5E2768C8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3855e"/>
              </a:gs>
              <a:gs pos="100000">
                <a:srgbClr val="4aab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5879e"/>
              </a:gs>
              <a:gs pos="100000">
                <a:srgbClr val="8aa3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3" name="Freeform 4"/>
            <p:cNvSpPr/>
            <p:nvPr/>
          </p:nvSpPr>
          <p:spPr>
            <a:xfrm rot="21420000">
              <a:off x="-28080" y="-15840"/>
              <a:ext cx="9180000" cy="1083960"/>
            </a:xfrm>
            <a:prstGeom prst="pie">
              <a:avLst/>
            </a:prstGeom>
            <a:noFill/>
            <a:ln w="10800">
              <a:solidFill>
                <a:srgbClr val="899b74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 rot="21420000">
              <a:off x="-24840" y="106200"/>
              <a:ext cx="9192600" cy="884520"/>
            </a:xfrm>
            <a:prstGeom prst="pie">
              <a:avLst/>
            </a:prstGeom>
            <a:noFill/>
            <a:ln w="9360">
              <a:solidFill>
                <a:srgbClr val="9cb084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8.1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8CB3E0-AE57-4A69-9188-D6682512BCA7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3855e"/>
              </a:gs>
              <a:gs pos="100000">
                <a:srgbClr val="4aab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5879e"/>
              </a:gs>
              <a:gs pos="100000">
                <a:srgbClr val="8aa3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49" name="Freeform 4"/>
            <p:cNvSpPr/>
            <p:nvPr/>
          </p:nvSpPr>
          <p:spPr>
            <a:xfrm rot="21420000">
              <a:off x="-28080" y="-15840"/>
              <a:ext cx="9180000" cy="1083960"/>
            </a:xfrm>
            <a:prstGeom prst="pie">
              <a:avLst/>
            </a:prstGeom>
            <a:noFill/>
            <a:ln w="10800">
              <a:solidFill>
                <a:srgbClr val="899b74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 rot="21420000">
              <a:off x="-24840" y="106200"/>
              <a:ext cx="9192600" cy="884520"/>
            </a:xfrm>
            <a:prstGeom prst="pie">
              <a:avLst/>
            </a:prstGeom>
            <a:noFill/>
            <a:ln w="9360">
              <a:solidFill>
                <a:srgbClr val="9cb084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8.1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F0AC8C-5DD4-4A4B-B234-CBC8508A23EB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03280" y="1320840"/>
          <a:ext cx="8281800" cy="5016600"/>
        </p:xfrm>
        <a:graphic>
          <a:graphicData uri="http://schemas.openxmlformats.org/drawingml/2006/table">
            <a:tbl>
              <a:tblPr/>
              <a:tblGrid>
                <a:gridCol w="1035000"/>
                <a:gridCol w="1035000"/>
                <a:gridCol w="1035000"/>
                <a:gridCol w="1036800"/>
                <a:gridCol w="1035000"/>
                <a:gridCol w="1035000"/>
                <a:gridCol w="1035000"/>
                <a:gridCol w="1035000"/>
              </a:tblGrid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135"/>
          <p:cNvSpPr/>
          <p:nvPr/>
        </p:nvSpPr>
        <p:spPr>
          <a:xfrm>
            <a:off x="2308320" y="287280"/>
            <a:ext cx="4964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Логически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63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  <a:ea typeface="Tahoma"/>
              </a:rPr>
              <a:t>Реши математический ребус. Нужно вместо каждой буквы подставить нужную цифру, чтобы выражение было верным. Одни и те же буквы обозначают одну и ту же цифру. </a:t>
            </a:r>
            <a:br>
              <a:rPr sz="5000"/>
            </a:b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8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rcRect l="6346" t="0" r="31717" b="0"/>
          <a:stretch/>
        </p:blipFill>
        <p:spPr>
          <a:xfrm>
            <a:off x="358920" y="1440000"/>
            <a:ext cx="5760720" cy="3557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4" name="AutoShape 4"/>
          <p:cNvSpPr/>
          <p:nvPr/>
        </p:nvSpPr>
        <p:spPr>
          <a:xfrm>
            <a:off x="1871640" y="2735280"/>
            <a:ext cx="503280" cy="647640"/>
          </a:xfrm>
          <a:custGeom>
            <a:avLst/>
            <a:gdLst>
              <a:gd name="textAreaLeft" fmla="*/ 360 w 503280"/>
              <a:gd name="textAreaRight" fmla="*/ 502920 w 503280"/>
              <a:gd name="textAreaTop" fmla="*/ 360 h 647640"/>
              <a:gd name="textAreaBottom" fmla="*/ 647280 h 647640"/>
            </a:gdLst>
            <a:ahLst/>
            <a:rect l="textAreaLeft" t="textAreaTop" r="textAreaRight" b="textAreaBottom"/>
            <a:pathLst>
              <a:path w="21600" h="27791">
                <a:moveTo>
                  <a:pt x="68" y="0"/>
                </a:moveTo>
                <a:arcTo wR="68" hR="68" stAng="16200000" swAng="-5400000"/>
                <a:lnTo>
                  <a:pt x="0" y="27723"/>
                </a:lnTo>
                <a:arcTo wR="68" hR="68" stAng="10800000" swAng="-5400000"/>
                <a:lnTo>
                  <a:pt x="21532" y="27791"/>
                </a:lnTo>
                <a:arcTo wR="68" hR="68" stAng="5400000" swAng="-5400000"/>
                <a:lnTo>
                  <a:pt x="21600" y="68"/>
                </a:lnTo>
                <a:arcTo wR="68" hR="68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944720" y="2664000"/>
            <a:ext cx="64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Arial"/>
                <a:ea typeface="Lucida Sans Unicod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3527280"/>
            <a:ext cx="1079640" cy="79236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224000" y="3591000"/>
            <a:ext cx="64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Arial"/>
                <a:ea typeface="Lucida Sans Unicod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619280" y="3591000"/>
            <a:ext cx="64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Arial"/>
                <a:ea typeface="Lucida Sans Unicod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44720" y="3591000"/>
            <a:ext cx="64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Arial"/>
                <a:ea typeface="Lucida Sans Unicod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4248000" y="1800360"/>
            <a:ext cx="432000" cy="647640"/>
          </a:xfrm>
          <a:custGeom>
            <a:avLst/>
            <a:gdLst>
              <a:gd name="textAreaLeft" fmla="*/ 360 w 432000"/>
              <a:gd name="textAreaRight" fmla="*/ 431640 w 432000"/>
              <a:gd name="textAreaTop" fmla="*/ 360 h 647640"/>
              <a:gd name="textAreaBottom" fmla="*/ 647280 h 647640"/>
            </a:gdLst>
            <a:ahLst/>
            <a:rect l="textAreaLeft" t="textAreaTop" r="textAreaRight" b="textAreaBottom"/>
            <a:pathLst>
              <a:path w="21600" h="32373">
                <a:moveTo>
                  <a:pt x="79" y="0"/>
                </a:moveTo>
                <a:arcTo wR="79" hR="79" stAng="16200000" swAng="-5400000"/>
                <a:lnTo>
                  <a:pt x="0" y="32294"/>
                </a:lnTo>
                <a:arcTo wR="79" hR="79" stAng="10800000" swAng="-5400000"/>
                <a:lnTo>
                  <a:pt x="21521" y="32373"/>
                </a:lnTo>
                <a:arcTo wR="79" hR="79" stAng="5400000" swAng="-5400000"/>
                <a:lnTo>
                  <a:pt x="21600" y="79"/>
                </a:lnTo>
                <a:arcTo wR="79" hR="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3333"/>
                </a:solidFill>
                <a:latin typeface="Arial"/>
                <a:ea typeface="Lucida Sans Unicode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680000" y="2664000"/>
            <a:ext cx="72072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535640" y="2664000"/>
            <a:ext cx="8794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ff3333"/>
                </a:solidFill>
                <a:latin typeface="Arial"/>
                <a:ea typeface="Lucida Sans Unicode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4680000" y="3743280"/>
            <a:ext cx="287280" cy="576360"/>
          </a:xfrm>
          <a:custGeom>
            <a:avLst/>
            <a:gdLst>
              <a:gd name="textAreaLeft" fmla="*/ 360 w 287280"/>
              <a:gd name="textAreaRight" fmla="*/ 286920 w 287280"/>
              <a:gd name="textAreaTop" fmla="*/ 360 h 576360"/>
              <a:gd name="textAreaBottom" fmla="*/ 576000 h 576360"/>
            </a:gdLst>
            <a:ahLst/>
            <a:rect l="textAreaLeft" t="textAreaTop" r="textAreaRight" b="textAreaBottom"/>
            <a:pathLst>
              <a:path w="21600" h="43308">
                <a:moveTo>
                  <a:pt x="120" y="0"/>
                </a:moveTo>
                <a:arcTo wR="120" hR="120" stAng="16200000" swAng="-5400000"/>
                <a:lnTo>
                  <a:pt x="0" y="43188"/>
                </a:lnTo>
                <a:arcTo wR="120" hR="120" stAng="10800000" swAng="-5400000"/>
                <a:lnTo>
                  <a:pt x="21480" y="43308"/>
                </a:lnTo>
                <a:arcTo wR="120" hR="120" stAng="5400000" swAng="-5400000"/>
                <a:lnTo>
                  <a:pt x="21600" y="120"/>
                </a:lnTo>
                <a:arcTo wR="120" hR="12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484520" y="3635280"/>
            <a:ext cx="6638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3333"/>
                </a:solidFill>
                <a:latin typeface="Arial"/>
                <a:ea typeface="Lucida Sans Unicode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015640" y="77760"/>
            <a:ext cx="4824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</a:rPr>
              <a:t>1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92000" y="1079640"/>
            <a:ext cx="7705800" cy="3671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857680" y="4761000"/>
            <a:ext cx="27572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4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Ром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504720" y="358920"/>
            <a:ext cx="8207640" cy="3673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3311640" y="4255920"/>
            <a:ext cx="2368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4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Уг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7848720" y="5975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015640" y="77760"/>
            <a:ext cx="4824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</a:rPr>
              <a:t>2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7280" y="863640"/>
            <a:ext cx="849636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2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80"/>
                </a:solidFill>
                <a:latin typeface="Times New Roman"/>
                <a:ea typeface="Lucida Sans Unicode"/>
              </a:rPr>
              <a:t>Ребята измеряли шагами длину игровой площадки. У Лизы получилось 25 шагов, у Полины – 27, у Максима – 22, а у Юры – 24. У кого из ребят самый короткий шаг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527280" y="5213520"/>
            <a:ext cx="273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У Полин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015640" y="77760"/>
            <a:ext cx="4824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</a:rPr>
              <a:t>3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31640" y="647640"/>
            <a:ext cx="849636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У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На рыбалке был Вад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Вот улов ег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Налим, Лещ, Карасик, 3 линя, 5 плотвичек, Уклея,Щу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2x2 бычка, 2 красавца-судачка, 6 подустов, 7 берш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8 маленьких ершей, 9 добрых окунь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Да!Хороший был у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Вы же Вместе всё слож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Сколько рыбок всех? Скаж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983280" y="5688000"/>
            <a:ext cx="9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4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863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Груша тяжелее яблока, но легче апельсина. Яблоко тяжелее персика, а апельсин легче ананаса. Найди самый лёгкий и самый тяжёлый фрукт.</a:t>
            </a:r>
            <a:br>
              <a:rPr sz="50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4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60360" y="4424400"/>
            <a:ext cx="87836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Самый тяжелый фрукт — анан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самый лёгкий - перс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5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63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Переложи 1 палочку таким образом, чтобы домик был перевернут в другую сторону</a:t>
            </a:r>
            <a:br>
              <a:rPr sz="50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6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3480" t="10867" r="51162" b="8703"/>
          <a:stretch/>
        </p:blipFill>
        <p:spPr>
          <a:xfrm>
            <a:off x="792000" y="3240000"/>
            <a:ext cx="3240360" cy="302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rcRect l="49396" t="5892" r="3088" b="11957"/>
          <a:stretch/>
        </p:blipFill>
        <p:spPr>
          <a:xfrm>
            <a:off x="4535640" y="3240000"/>
            <a:ext cx="28796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863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  <a:ea typeface="Tahoma"/>
              </a:rPr>
              <a:t>сложить 2 рядом стоящих числа и сумму записать в верхнем кружочке. </a:t>
            </a:r>
            <a:br>
              <a:rPr sz="5000"/>
            </a:b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7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0" t="33240" r="0" b="7961"/>
          <a:stretch/>
        </p:blipFill>
        <p:spPr>
          <a:xfrm>
            <a:off x="1800360" y="2303640"/>
            <a:ext cx="5543280" cy="41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024360" y="4610160"/>
            <a:ext cx="72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140360" y="4610160"/>
            <a:ext cx="72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327640" y="4608360"/>
            <a:ext cx="72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00360" y="3710160"/>
            <a:ext cx="72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680000" y="3672000"/>
            <a:ext cx="72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995640" y="2735280"/>
            <a:ext cx="1008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1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8-02-05T05:27:52Z</dcterms:modified>
  <cp:revision>2</cp:revision>
  <dc:subject/>
  <dc:title>Слайд 1</dc:title>
</cp:coreProperties>
</file>