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Scrip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8EEE-36FB-4626-A269-BFB1809002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86B7-66F5-4486-9165-A8091DB3E5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0B6D-59EB-4533-AB32-9E5EA3B7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383004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427E-0E73-4D2E-9601-37CC7029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0E2C-5F46-4810-ABA2-0848D327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616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392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616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392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8BF4-E33F-4164-9523-21EE90A5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CDB9-4E7B-4A87-A12C-75C75CBD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4A23-B2C9-4538-9F75-8485A3FE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6318-0C32-4677-9F91-F40F88A6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E049-7573-47B9-BE94-8A888973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285840"/>
            <a:ext cx="821520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D4CA-AA6F-482E-B480-0C0BC2F7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F457-9AEF-4C0B-B15A-0D2C9EC9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CC03-41CF-4D1C-AB03-127611DB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A054-9D6D-43D9-9AE6-A2ACF820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546F-431F-4AF7-87D5-DFF124A428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286000"/>
            <a:ext cx="874872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орфология и орфография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орфологический разбор слова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71840" y="4071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984807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шите, объяснив орфограммы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спол..житься на площад.., на станци.., на лини.., на линейк..; 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пр..виться к рощ.., к пристан.., к речк..;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бывать в Австрали.., Африк.., Инди.., Америк..;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ишет в тетрад..., в тетрадк..;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..стет у дорог..; лечился в больниц..; служил в арми..; был на собрани.., в здани..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428760" y="476280"/>
            <a:ext cx="821520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428760" y="260280"/>
            <a:ext cx="821520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428760" y="260280"/>
            <a:ext cx="821520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82152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Выпишите прилагательные, определите их разряд, качественные прилагательные поставьте во все возможные степени сравнения</a:t>
            </a:r>
            <a:endParaRPr b="0" lang="en-US" sz="25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амая древняя (старо) славянская (руко)писная книга была написана 1000 лет назад, а (древне) русская (Остромирово Евангелие) – в середине  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I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века.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амые старые ножницы (они были изготовлены в 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еке) в северо-восточной Европе были найдены во время археологических раскопок под Смоленском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428760" y="333360"/>
            <a:ext cx="821520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428760" y="260280"/>
            <a:ext cx="821520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Выпишите числительные, укажите их разряд, поставьте в Р.П., Д.П. Тв.п </a:t>
            </a:r>
            <a:endParaRPr b="0" lang="en-US" sz="29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28760" y="1413000"/>
            <a:ext cx="82152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ройка; семилетка; десять; единица; один; три; шестой; шестилетний; четырехугольный; четырехмиллионный; пять шестых; пятидневка; пятак.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Запишите числительные словами, укажите падеж</a:t>
            </a:r>
            <a:endParaRPr b="0" lang="en-US" sz="29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строенная в 1889 году; </a:t>
            </a:r>
            <a:endParaRPr b="0" lang="en-US" sz="44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остигает 380 метров; </a:t>
            </a:r>
            <a:endParaRPr b="0" lang="en-US" sz="44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вна 137 метрам; </a:t>
            </a:r>
            <a:endParaRPr b="0" lang="en-US" sz="44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течение 28 дней.</a:t>
            </a:r>
            <a:endParaRPr b="0" lang="en-US" sz="44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ем упражнение 32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215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52920"/>
            <a:ext cx="82152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428760" y="404640"/>
            <a:ext cx="82152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 ИСКЛЮЧЕНИЯ!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о 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II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спряжению относятся: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лышать, дышать, держать, гнать;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мотреть, видеть, обидеть, ненавидеть, зависеть, терпеть, вертеть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 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I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спряжению относятся: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рить, стелить, зиждиться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те глаголы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ряжения на -ять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142640"/>
            <a:ext cx="871380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е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ь, ве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ь, ре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ь,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а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ь, чу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ь, ла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ь, 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а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ься, ма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ься, наде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ься,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леле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ь, зате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ь, ча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ь,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ле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ь, ха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ь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ставьте эти глаголы в форму 2 лица , ед. числа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шите, вставив пропущенные буквы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ерж..тся, подморажива..т, усе..ва..т, ве..т, совпада..т, догора..т, приветству..т, наход..т, стро..т;</a:t>
            </a:r>
            <a:endParaRPr b="0" lang="en-US" sz="36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ыш..ш.., слуша..ш.., се..ш.., та..ш.., стел..ш.., кле..ш….</a:t>
            </a:r>
            <a:endParaRPr b="0" lang="en-US" sz="36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ЕМ!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ерж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т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я (держать, 2 спр, искл), 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моражив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т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подмораживать, 1),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с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т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(усеиваю,усеивать 1 спр), 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т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(веять, 1), совпад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т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(совпадать, 1), 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огор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т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(догорать, 1), 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иветству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т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(приветствовать, 1), 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ход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т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(находить, 2), стро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т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(строить, 2);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ыш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шь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слуш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шь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с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шь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т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шь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стел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шь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кл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шь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428760" y="260280"/>
            <a:ext cx="4287600" cy="648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4859280" y="1484280"/>
            <a:ext cx="3995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2:12:02Z</dcterms:created>
  <dc:creator>Ларикова</dc:creator>
  <dc:description/>
  <dc:language>en-US</dc:language>
  <cp:lastModifiedBy>user</cp:lastModifiedBy>
  <dcterms:modified xsi:type="dcterms:W3CDTF">2012-12-20T20:00:09Z</dcterms:modified>
  <cp:revision>11</cp:revision>
  <dc:subject/>
  <dc:title>Морфология и орфография. Морфологический разбор слова</dc:title>
</cp:coreProperties>
</file>