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F0D-CFED-4A99-9EA7-9448E0BC2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B0E-E3C4-4F44-B7A0-7479223E1A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1FD-F58C-44AD-9EF1-60548219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27D-9BEF-4F95-AB40-0619885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753-8890-4B7F-8F71-423B8918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84C-4215-4119-B2CC-9916CC97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0E3-883D-4D53-B595-66B14D4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584-802B-4EF1-ADE6-E980BA65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330-573C-4608-8642-AF0F7E2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7F6-B592-49DB-B2AC-15E2614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1DA-4BDD-41C1-B2A3-F9EA02D3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E5B-F987-4AB7-962A-33476665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538-9FBC-4E42-B39B-FE8EAD2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835-2D98-47C2-A30E-FCC38A6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0935-9DC5-4662-88BF-65646D0C3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86000"/>
            <a:ext cx="87487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орфология и орфографи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орфологический разбор слова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7184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84807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объяснив орфограммы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ол..житься на площад.., на станци.., на лини.., на линейк..;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..виться к рощ.., к пристан.., к реч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бывать в Австрали.., Африк.., Инди.., Амери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ишет в тетрад..., в тетрадк..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..стет у дорог..; лечился в больниц..; служил в арми..; был на собрани.., в здани.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28760" y="476280"/>
            <a:ext cx="8215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Выпишите прилагательные, определите их разряд, качественные прилагательные поставьте во все возможные степени сравнения</a:t>
            </a:r>
            <a:endParaRPr b="0" lang="en-US" sz="25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амая древняя (старо) славянская (руко)писная книга была написана 1000 лет назад, а (древне) русская (Остромирово Евангелие) – в середине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ека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амые старые ножницы (они были изготовлены в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ке) в северо-восточной Европе были найдены во время археологических раскопок под Смоленском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28760" y="333360"/>
            <a:ext cx="821520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82152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Выпишите числительные, укажите их разряд, поставьте в Р.П., Д.П. Тв.п </a:t>
            </a:r>
            <a:endParaRPr b="0" lang="en-US" sz="29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141300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ойка; семилетка; десять; единица; один; три; шестой; шестилетний; четырехугольный; четырехмиллионный; пять шестых; пятидневка; пятак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Запишите числительные словами, укажите падеж</a:t>
            </a:r>
            <a:endParaRPr b="0" lang="en-US" sz="29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роенная в 1889 году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стигает 380 метров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вна 137 метрам; 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течение 28 дней.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 упражнение 32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2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52920"/>
            <a:ext cx="82152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404640"/>
            <a:ext cx="82152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ИСКЛЮЧЕНИЯ!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спряжению относятся: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лышать, дышать, держать, гнать;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мотреть, видеть, обидеть, ненавидеть, зависеть, терпеть, вертеть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спряжению относятся: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рить, стелить, зиждиться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 глаголы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ряжения на -ять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42640"/>
            <a:ext cx="87138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в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р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чу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л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 м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 над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ся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л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зат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ч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, х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ь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ставьте эти глаголы в форму 2 лица , ед. числа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рж..тся, подморажива..т, усе..ва..т, ве..т, совпада..т, догора..т, приветству..т, наход..т, стро..т;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ыш..ш.., слуша..ш.., се..ш.., та..ш.., стел..ш.., кле..ш…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р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я (держать, 2 спр, искл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моражив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дмораживать, 1),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усеиваю,усеивать 1 спр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веять, 1), совпад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совпад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гор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догор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ветству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приветствовать, 1),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ход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находить, 2), стро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(строить, 2);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ы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луш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стел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л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шь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28760" y="260280"/>
            <a:ext cx="4287600" cy="648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9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2:12:02Z</dcterms:created>
  <dc:creator>Ларикова</dc:creator>
  <dc:description/>
  <dc:language>en-US</dc:language>
  <cp:lastModifiedBy>user</cp:lastModifiedBy>
  <dcterms:modified xsi:type="dcterms:W3CDTF">2012-12-20T20:00:09Z</dcterms:modified>
  <cp:revision>11</cp:revision>
  <dc:subject/>
  <dc:title>Морфология и орфография. Морфологический разбор слова</dc:title>
</cp:coreProperties>
</file>