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401-ACC5-472E-BB99-33FF0D232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015F-8FBF-41DE-A4B2-A35E5A295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ADCF-7F21-4323-84A1-C9181D55AF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проводится в режиме списка рассылки для всех зарегистрированных участников, материалы включают в себя вопросы, ответы, отклики, предложения, высказываемые всеми зарегистрированными участниками конференции). Использование присланных материалов в устных выступлениях на пленарных заседаниях и секциях. Очное обсуждение присланных материалов на местах, формулирование и пересылка вопросов авторам материа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EB2A-FC45-4EF7-9EE4-F68FD5B5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B6E5-EF61-463F-9C92-1D5A22A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1475-DFC5-4CCC-A0C2-DFE389B7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B31C-4BD7-4C7D-845C-FD6EAF9E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A8024-EA44-4203-89B0-38AE621C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713A0-D18F-4D9C-98DD-8BEB832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2AFC-582A-49C4-AD77-BF342E7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0CA39-1DA3-408D-A239-C5DAE84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28F84-1273-40D9-B15F-BAA971A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48DE-33FF-487E-A2E2-95F7992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CD15-9220-4891-A0A6-635BF081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EC5C-18D5-4489-9328-22CBDFE0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0A65-2114-477B-8364-F1AD130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E9429-53B1-495F-961E-E05119F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C73E8-ABC3-4549-A49C-229C70D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230EB-F7E3-4C41-ACBF-34A1AD74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6A803-20CB-4538-AC26-8AD2C374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EECA-C725-4929-BB31-1221D7D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F1EE-9E0C-4665-BBE7-EF0E3640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32C7-2E4E-425F-AD49-9042A4C5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F934-9D58-4C25-B200-9114AC7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F348-A72A-4550-8F3B-7641BAF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3366-4302-4370-808F-1929717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D24F-C3DB-425C-A4F6-481C2CD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E17-6AA3-494C-BAB6-1DD462D25C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A7D5-2FBF-45F3-B6AA-A9E160C1DD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391840"/>
            <a:ext cx="7772400" cy="6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Информационно-образовательная среда. Система   повышения квалификации педагогических кадров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4098600"/>
            <a:ext cx="730404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Выполнила Тришичева А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imes New Roman"/>
              </a:rPr>
              <a:t>г.Кадников,201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>
            <a:hlinkClick r:id="" action="ppaction://hlinkshowjump?jump=nextslide"/>
          </p:cNvPr>
          <p:cNvSpPr/>
          <p:nvPr/>
        </p:nvSpPr>
        <p:spPr>
          <a:xfrm>
            <a:off x="85327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18640" y="1028880"/>
            <a:ext cx="8325000" cy="33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сероссийский конкурс «Дистанционный учитель года»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1840" y="1913040"/>
            <a:ext cx="7122960" cy="38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Главные цели конкур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ыявление и поддержка талантливых педагогов и методистов, применяющих в обучении телекоммуникационные средства и возможности сети Интерн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популяризация новейших информационных технологий, форм и методов дистанционного обучения в практике работы отечественных образовательных учреж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8317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rId1" action="ppaction://hlinksldjump"/>
          </p:cNvPr>
          <p:cNvSpPr/>
          <p:nvPr/>
        </p:nvSpPr>
        <p:spPr>
          <a:xfrm>
            <a:off x="7451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1690" y="3837"/>
                </a:moveTo>
                <a:lnTo>
                  <a:pt x="24266" y="6448"/>
                </a:ln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lnTo>
                  <a:pt x="28653" y="10800"/>
                </a:lnTo>
                <a:lnTo>
                  <a:pt x="26999" y="10800"/>
                </a:lnTo>
                <a:lnTo>
                  <a:pt x="26999" y="17989"/>
                </a:lnTo>
                <a:lnTo>
                  <a:pt x="16381" y="17989"/>
                </a:lnTo>
                <a:lnTo>
                  <a:pt x="16381" y="10800"/>
                </a:lnTo>
                <a:lnTo>
                  <a:pt x="14727" y="10800"/>
                </a:lnTo>
                <a:close/>
              </a:path>
              <a:path fill="darkenLess" w="43380" h="21600">
                <a:moveTo>
                  <a:pt x="24266" y="6448"/>
                </a:move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close/>
              </a:path>
              <a:path fill="darkenLess" w="43380" h="21600">
                <a:moveTo>
                  <a:pt x="20767" y="14299"/>
                </a:moveTo>
                <a:lnTo>
                  <a:pt x="22613" y="14299"/>
                </a:lnTo>
                <a:lnTo>
                  <a:pt x="22613" y="17989"/>
                </a:lnTo>
                <a:lnTo>
                  <a:pt x="26999" y="17989"/>
                </a:lnTo>
                <a:lnTo>
                  <a:pt x="26999" y="10800"/>
                </a:lnTo>
                <a:lnTo>
                  <a:pt x="16381" y="10800"/>
                </a:lnTo>
                <a:lnTo>
                  <a:pt x="16381" y="17989"/>
                </a:lnTo>
                <a:lnTo>
                  <a:pt x="20767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188604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860436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3794"/>
                </a:moveTo>
                <a:lnTo>
                  <a:pt x="24893" y="10800"/>
                </a:lnTo>
                <a:lnTo>
                  <a:pt x="108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previousslide"/>
          </p:cNvPr>
          <p:cNvSpPr/>
          <p:nvPr/>
        </p:nvSpPr>
        <p:spPr>
          <a:xfrm>
            <a:off x="824400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10800"/>
                </a:moveTo>
                <a:lnTo>
                  <a:pt x="24893" y="3794"/>
                </a:lnTo>
                <a:lnTo>
                  <a:pt x="248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6">
            <a:hlinkClick r:id="rId1" action="ppaction://hlinksldjump"/>
          </p:cNvPr>
          <p:cNvSpPr/>
          <p:nvPr/>
        </p:nvSpPr>
        <p:spPr>
          <a:xfrm>
            <a:off x="7885080" y="6524640"/>
            <a:ext cx="358920" cy="217440"/>
          </a:xfrm>
          <a:custGeom>
            <a:avLst/>
            <a:gdLst>
              <a:gd name="textAreaLeft" fmla="*/ 14040 w 358920"/>
              <a:gd name="textAreaRight" fmla="*/ 344880 w 358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631" h="21600">
                <a:moveTo>
                  <a:pt x="0" y="0"/>
                </a:moveTo>
                <a:lnTo>
                  <a:pt x="35631" y="0"/>
                </a:lnTo>
                <a:lnTo>
                  <a:pt x="35631" y="21600"/>
                </a:lnTo>
                <a:lnTo>
                  <a:pt x="0" y="21600"/>
                </a:lnTo>
                <a:close/>
              </a:path>
              <a:path fill="lightenLess" w="35631" h="21600">
                <a:moveTo>
                  <a:pt x="0" y="0"/>
                </a:moveTo>
                <a:lnTo>
                  <a:pt x="35631" y="0"/>
                </a:lnTo>
                <a:lnTo>
                  <a:pt x="34231" y="1400"/>
                </a:lnTo>
                <a:lnTo>
                  <a:pt x="1400" y="1400"/>
                </a:lnTo>
                <a:close/>
              </a:path>
              <a:path fill="darken" w="35631" h="21600">
                <a:moveTo>
                  <a:pt x="35631" y="0"/>
                </a:moveTo>
                <a:lnTo>
                  <a:pt x="35631" y="21600"/>
                </a:lnTo>
                <a:lnTo>
                  <a:pt x="34231" y="20200"/>
                </a:lnTo>
                <a:lnTo>
                  <a:pt x="34231" y="1400"/>
                </a:lnTo>
                <a:close/>
              </a:path>
              <a:path fill="darkenLess" w="35631" h="21600">
                <a:moveTo>
                  <a:pt x="3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31" y="20200"/>
                </a:lnTo>
                <a:close/>
              </a:path>
              <a:path fill="lighten" w="3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31" h="21600">
                <a:moveTo>
                  <a:pt x="17816" y="3837"/>
                </a:moveTo>
                <a:lnTo>
                  <a:pt x="20392" y="6448"/>
                </a:lnTo>
                <a:lnTo>
                  <a:pt x="20392" y="4707"/>
                </a:lnTo>
                <a:lnTo>
                  <a:pt x="22167" y="4707"/>
                </a:lnTo>
                <a:lnTo>
                  <a:pt x="22167" y="8224"/>
                </a:lnTo>
                <a:lnTo>
                  <a:pt x="24779" y="10800"/>
                </a:lnTo>
                <a:lnTo>
                  <a:pt x="23125" y="10800"/>
                </a:lnTo>
                <a:lnTo>
                  <a:pt x="23125" y="17989"/>
                </a:lnTo>
                <a:lnTo>
                  <a:pt x="12506" y="17989"/>
                </a:lnTo>
                <a:lnTo>
                  <a:pt x="12506" y="10800"/>
                </a:lnTo>
                <a:lnTo>
                  <a:pt x="10853" y="10800"/>
                </a:lnTo>
                <a:close/>
              </a:path>
              <a:path fill="darkenLess" w="35631" h="21600">
                <a:moveTo>
                  <a:pt x="20392" y="6448"/>
                </a:moveTo>
                <a:lnTo>
                  <a:pt x="20392" y="4707"/>
                </a:lnTo>
                <a:lnTo>
                  <a:pt x="22167" y="4707"/>
                </a:lnTo>
                <a:lnTo>
                  <a:pt x="22167" y="8224"/>
                </a:lnTo>
                <a:close/>
              </a:path>
              <a:path fill="darkenLess" w="35631" h="21600">
                <a:moveTo>
                  <a:pt x="16893" y="14299"/>
                </a:moveTo>
                <a:lnTo>
                  <a:pt x="18738" y="14299"/>
                </a:lnTo>
                <a:lnTo>
                  <a:pt x="18738" y="17989"/>
                </a:lnTo>
                <a:lnTo>
                  <a:pt x="23125" y="17989"/>
                </a:lnTo>
                <a:lnTo>
                  <a:pt x="23125" y="10800"/>
                </a:lnTo>
                <a:lnTo>
                  <a:pt x="12506" y="10800"/>
                </a:lnTo>
                <a:lnTo>
                  <a:pt x="12506" y="17989"/>
                </a:lnTo>
                <a:lnTo>
                  <a:pt x="1689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724360" y="3429000"/>
            <a:ext cx="2376720" cy="1655640"/>
          </a:xfrm>
          <a:prstGeom prst="can">
            <a:avLst>
              <a:gd name="adj" fmla="val 24259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етодист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тью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348000" y="981000"/>
            <a:ext cx="2448000" cy="1943280"/>
          </a:xfrm>
          <a:prstGeom prst="can">
            <a:avLst>
              <a:gd name="adj" fmla="val 24259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ча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кон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1258920" y="3429000"/>
            <a:ext cx="2376360" cy="1655640"/>
          </a:xfrm>
          <a:prstGeom prst="can">
            <a:avLst>
              <a:gd name="adj" fmla="val 24259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Педаг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2411280" y="2708280"/>
            <a:ext cx="936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5796000" y="2708280"/>
            <a:ext cx="1008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2000" y="5490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Э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тапы конкур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5-31 октя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дготовительный эта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-30 ноя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основной эта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-15 дека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финальный этап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5-25 дека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определение победителей и лауреатов конкурса, награждение, подведение итогов конкур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6">
            <a:hlinkClick r:id="rId1" action="ppaction://hlinksldjump"/>
          </p:cNvPr>
          <p:cNvSpPr/>
          <p:nvPr/>
        </p:nvSpPr>
        <p:spPr>
          <a:xfrm>
            <a:off x="7667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1690" y="3837"/>
                </a:moveTo>
                <a:lnTo>
                  <a:pt x="24266" y="6448"/>
                </a:ln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lnTo>
                  <a:pt x="28653" y="10800"/>
                </a:lnTo>
                <a:lnTo>
                  <a:pt x="26999" y="10800"/>
                </a:lnTo>
                <a:lnTo>
                  <a:pt x="26999" y="17989"/>
                </a:lnTo>
                <a:lnTo>
                  <a:pt x="16381" y="17989"/>
                </a:lnTo>
                <a:lnTo>
                  <a:pt x="16381" y="10800"/>
                </a:lnTo>
                <a:lnTo>
                  <a:pt x="14727" y="10800"/>
                </a:lnTo>
                <a:close/>
              </a:path>
              <a:path fill="darkenLess" w="43380" h="21600">
                <a:moveTo>
                  <a:pt x="24266" y="6448"/>
                </a:move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close/>
              </a:path>
              <a:path fill="darkenLess" w="43380" h="21600">
                <a:moveTo>
                  <a:pt x="20767" y="14299"/>
                </a:moveTo>
                <a:lnTo>
                  <a:pt x="22613" y="14299"/>
                </a:lnTo>
                <a:lnTo>
                  <a:pt x="22613" y="17989"/>
                </a:lnTo>
                <a:lnTo>
                  <a:pt x="26999" y="17989"/>
                </a:lnTo>
                <a:lnTo>
                  <a:pt x="26999" y="10800"/>
                </a:lnTo>
                <a:lnTo>
                  <a:pt x="16381" y="10800"/>
                </a:lnTo>
                <a:lnTo>
                  <a:pt x="16381" y="17989"/>
                </a:lnTo>
                <a:lnTo>
                  <a:pt x="20767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686880"/>
            <a:ext cx="8324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Проблемы дистанционного обучения и пути их решения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9280" y="1815840"/>
            <a:ext cx="7074000" cy="4338360"/>
          </a:xfrm>
          <a:prstGeom prst="rect">
            <a:avLst/>
          </a:prstGeom>
          <a:noFill/>
          <a:ln w="9360">
            <a:solidFill>
              <a:srgbClr val="99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лизируя состояния дистанционного обучения в Росс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формулируются проблемы и предлагаются способы их решения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м направлени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дистанционная деятельность учителя и уче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дидактика дистанционного обуч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философия дистанционно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материально-технические и программные</a:t>
            </a:r>
            <a:r>
              <a:rPr b="0" lang="ru-RU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oft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) вопросы</a:t>
            </a:r>
            <a:r>
              <a:rPr b="0" lang="ru-RU" sz="26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2600"/>
            </a:br>
            <a:br>
              <a:rPr sz="1000"/>
            </a:br>
            <a:r>
              <a:rPr b="0" lang="ru-RU" sz="1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>
            <a:hlinkClick r:id="rId1" action="ppaction://hlinksldjump"/>
          </p:cNvPr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639360"/>
            <a:ext cx="8324640" cy="72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Разработка конспекта дистанционного занятия</a:t>
            </a:r>
            <a:r>
              <a:rPr b="0" i="1" lang="ru-RU" sz="3200" spc="-1" strike="noStrike">
                <a:solidFill>
                  <a:srgbClr val="ffcc66"/>
                </a:solidFill>
                <a:latin typeface="Garamond"/>
              </a:rPr>
              <a:t>.</a:t>
            </a:r>
            <a:r>
              <a:rPr b="0" lang="ru-RU" sz="59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9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previousslide"/>
          </p:cNvPr>
          <p:cNvSpPr/>
          <p:nvPr/>
        </p:nvSpPr>
        <p:spPr>
          <a:xfrm>
            <a:off x="8172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6">
            <a:hlinkClick r:id="rId1" action="ppaction://hlinksldjump"/>
          </p:cNvPr>
          <p:cNvSpPr/>
          <p:nvPr/>
        </p:nvSpPr>
        <p:spPr>
          <a:xfrm>
            <a:off x="7812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j0299125"/>
          <p:cNvPicPr/>
          <p:nvPr/>
        </p:nvPicPr>
        <p:blipFill>
          <a:blip r:embed="rId2"/>
          <a:stretch/>
        </p:blipFill>
        <p:spPr>
          <a:xfrm>
            <a:off x="1692360" y="4941720"/>
            <a:ext cx="1873080" cy="1656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1"/>
          <p:cNvSpPr/>
          <p:nvPr/>
        </p:nvSpPr>
        <p:spPr>
          <a:xfrm>
            <a:off x="1619280" y="2060640"/>
            <a:ext cx="7056360" cy="3168720"/>
          </a:xfrm>
          <a:custGeom>
            <a:avLst/>
            <a:gdLst>
              <a:gd name="textAreaLeft" fmla="*/ 0 w 7056360"/>
              <a:gd name="textAreaRight" fmla="*/ 7056720 w 7056360"/>
              <a:gd name="textAreaTop" fmla="*/ 410760 h 3168720"/>
              <a:gd name="textAreaBottom" fmla="*/ 275796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Конспект разрабатывается по предложенной оргкомитетом сх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одну из тем выбранного общеобразовательного предм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атериалы занятия могут быть размещ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веб-сайта для использования их на прак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3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6080" y="455400"/>
            <a:ext cx="7385040" cy="7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ведем фрагмент дискуссии финалистов конкурса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Соцков Андрей Владими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Вопрос: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8532720" y="6381720"/>
            <a:ext cx="468360" cy="216000"/>
          </a:xfrm>
          <a:custGeom>
            <a:avLst/>
            <a:gdLst>
              <a:gd name="textAreaLeft" fmla="*/ 13680 w 468360"/>
              <a:gd name="textAreaRight" fmla="*/ 454680 w 468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6794" h="21600">
                <a:moveTo>
                  <a:pt x="0" y="0"/>
                </a:moveTo>
                <a:lnTo>
                  <a:pt x="46794" y="0"/>
                </a:lnTo>
                <a:lnTo>
                  <a:pt x="46794" y="21600"/>
                </a:lnTo>
                <a:lnTo>
                  <a:pt x="0" y="21600"/>
                </a:lnTo>
                <a:close/>
              </a:path>
              <a:path fill="lightenLess" w="46794" h="21600">
                <a:moveTo>
                  <a:pt x="0" y="0"/>
                </a:moveTo>
                <a:lnTo>
                  <a:pt x="46794" y="0"/>
                </a:lnTo>
                <a:lnTo>
                  <a:pt x="45394" y="1400"/>
                </a:lnTo>
                <a:lnTo>
                  <a:pt x="1400" y="1400"/>
                </a:lnTo>
                <a:close/>
              </a:path>
              <a:path fill="darken" w="46794" h="21600">
                <a:moveTo>
                  <a:pt x="46794" y="0"/>
                </a:moveTo>
                <a:lnTo>
                  <a:pt x="46794" y="21600"/>
                </a:lnTo>
                <a:lnTo>
                  <a:pt x="45394" y="20200"/>
                </a:lnTo>
                <a:lnTo>
                  <a:pt x="45394" y="1400"/>
                </a:lnTo>
                <a:close/>
              </a:path>
              <a:path fill="darkenLess" w="46794" h="21600">
                <a:moveTo>
                  <a:pt x="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4" y="20200"/>
                </a:lnTo>
                <a:close/>
              </a:path>
              <a:path fill="lighten" w="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4" h="21600">
                <a:moveTo>
                  <a:pt x="16391" y="3794"/>
                </a:moveTo>
                <a:lnTo>
                  <a:pt x="30403" y="10800"/>
                </a:lnTo>
                <a:lnTo>
                  <a:pt x="1639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>
            <a:hlinkClick r:id="rId1" action="ppaction://hlinksldjump"/>
          </p:cNvPr>
          <p:cNvSpPr/>
          <p:nvPr/>
        </p:nvSpPr>
        <p:spPr>
          <a:xfrm>
            <a:off x="774072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692360" y="2997360"/>
            <a:ext cx="6983280" cy="266364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 помощью чего следует задать мотивацию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истанционном обуч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58800" y="1816200"/>
            <a:ext cx="7072560" cy="42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ff"/>
                </a:solidFill>
                <a:uFillTx/>
                <a:latin typeface="Times New Roman"/>
              </a:rPr>
              <a:t>Монахов Олег Валер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К вопросу о мо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042920" y="2637000"/>
            <a:ext cx="7201080" cy="381636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тивация учеников, живущих в отдаленных регион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недостаток или недостаточ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ровень преподаваемого материала они должны стремить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осполнить дистанционно, используя ресурсы Интер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крупных городах  полно образовательных учреждений  ку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жно пойти учиться, отсюда отсутствие мотивации 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пользованию дистанционных мет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Самосушев Виктор Леонид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763640" y="2637000"/>
            <a:ext cx="6985080" cy="306864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наше время многие способные учащиеся лиш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остаточного количества знаний, поэт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ни вынуждены обратиться к дистанцион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бразованию, чтобы насыт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вой интеллектуальный аппет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Garamond"/>
              </a:rPr>
              <a:t>Вопросы 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очему многие страны озабочены подготовкой педагогических кадров способных работать с информаци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акие причины наталкивают общество на создание единого информационно-образовательного пространства для подготовки педагогических кад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еречислите основные требования информационно-образовательных ресурсов сети для системы повышения квалифик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акие существуют дистанционные формы повышения квалификации работников образова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еречислите преимущества дистантных форм повышения квалификации перед очны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nex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885080" y="6453360"/>
            <a:ext cx="358920" cy="215640"/>
          </a:xfrm>
          <a:custGeom>
            <a:avLst/>
            <a:gdLst>
              <a:gd name="textAreaLeft" fmla="*/ 13680 w 358920"/>
              <a:gd name="textAreaRight" fmla="*/ 345240 w 358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7964" y="3837"/>
                </a:moveTo>
                <a:lnTo>
                  <a:pt x="20540" y="6448"/>
                </a:lnTo>
                <a:lnTo>
                  <a:pt x="20540" y="4707"/>
                </a:lnTo>
                <a:lnTo>
                  <a:pt x="22316" y="4707"/>
                </a:lnTo>
                <a:lnTo>
                  <a:pt x="22316" y="8224"/>
                </a:lnTo>
                <a:lnTo>
                  <a:pt x="24927" y="10800"/>
                </a:lnTo>
                <a:lnTo>
                  <a:pt x="23273" y="10800"/>
                </a:lnTo>
                <a:lnTo>
                  <a:pt x="23273" y="17989"/>
                </a:lnTo>
                <a:lnTo>
                  <a:pt x="12655" y="17989"/>
                </a:lnTo>
                <a:lnTo>
                  <a:pt x="12655" y="10800"/>
                </a:lnTo>
                <a:lnTo>
                  <a:pt x="11001" y="10800"/>
                </a:lnTo>
                <a:close/>
              </a:path>
              <a:path fill="darkenLess" w="35928" h="21600">
                <a:moveTo>
                  <a:pt x="20540" y="6448"/>
                </a:moveTo>
                <a:lnTo>
                  <a:pt x="20540" y="4707"/>
                </a:lnTo>
                <a:lnTo>
                  <a:pt x="22316" y="4707"/>
                </a:lnTo>
                <a:lnTo>
                  <a:pt x="22316" y="8224"/>
                </a:lnTo>
                <a:close/>
              </a:path>
              <a:path fill="darkenLess" w="35928" h="21600">
                <a:moveTo>
                  <a:pt x="17041" y="14299"/>
                </a:moveTo>
                <a:lnTo>
                  <a:pt x="18887" y="14299"/>
                </a:lnTo>
                <a:lnTo>
                  <a:pt x="18887" y="17989"/>
                </a:lnTo>
                <a:lnTo>
                  <a:pt x="23273" y="17989"/>
                </a:lnTo>
                <a:lnTo>
                  <a:pt x="23273" y="10800"/>
                </a:lnTo>
                <a:lnTo>
                  <a:pt x="12655" y="10800"/>
                </a:lnTo>
                <a:lnTo>
                  <a:pt x="12655" y="17989"/>
                </a:lnTo>
                <a:lnTo>
                  <a:pt x="17041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Garamond"/>
              </a:rPr>
              <a:t>Практические задания :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Докажите на примерах, что рефлексивный подход является преимущественным условием дистанционного повышения квалификации педагогических кад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ридумайте свою тему конференции, относящуюся к проблемам дистанционного повышения квалификации работников образования. Обоснуйте ее актуа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3794"/>
                </a:moveTo>
                <a:lnTo>
                  <a:pt x="24893" y="10800"/>
                </a:lnTo>
                <a:lnTo>
                  <a:pt x="108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358560" cy="217440"/>
          </a:xfrm>
          <a:custGeom>
            <a:avLst/>
            <a:gdLst>
              <a:gd name="textAreaLeft" fmla="*/ 14040 w 358560"/>
              <a:gd name="textAreaRight" fmla="*/ 344520 w 3585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595" h="21600">
                <a:moveTo>
                  <a:pt x="0" y="0"/>
                </a:moveTo>
                <a:lnTo>
                  <a:pt x="35595" y="0"/>
                </a:lnTo>
                <a:lnTo>
                  <a:pt x="35595" y="21600"/>
                </a:lnTo>
                <a:lnTo>
                  <a:pt x="0" y="21600"/>
                </a:lnTo>
                <a:close/>
              </a:path>
              <a:path fill="lightenLess" w="35595" h="21600">
                <a:moveTo>
                  <a:pt x="0" y="0"/>
                </a:moveTo>
                <a:lnTo>
                  <a:pt x="35595" y="0"/>
                </a:lnTo>
                <a:lnTo>
                  <a:pt x="34195" y="1400"/>
                </a:lnTo>
                <a:lnTo>
                  <a:pt x="1400" y="1400"/>
                </a:lnTo>
                <a:close/>
              </a:path>
              <a:path fill="darken" w="35595" h="21600">
                <a:moveTo>
                  <a:pt x="35595" y="0"/>
                </a:moveTo>
                <a:lnTo>
                  <a:pt x="35595" y="21600"/>
                </a:lnTo>
                <a:lnTo>
                  <a:pt x="34195" y="20200"/>
                </a:lnTo>
                <a:lnTo>
                  <a:pt x="34195" y="1400"/>
                </a:lnTo>
                <a:close/>
              </a:path>
              <a:path fill="darkenLess" w="35595" h="21600">
                <a:moveTo>
                  <a:pt x="35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5" y="20200"/>
                </a:lnTo>
                <a:close/>
              </a:path>
              <a:path fill="lighten" w="35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95" h="21600">
                <a:moveTo>
                  <a:pt x="10791" y="10800"/>
                </a:moveTo>
                <a:lnTo>
                  <a:pt x="24804" y="3794"/>
                </a:lnTo>
                <a:lnTo>
                  <a:pt x="248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одержание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700280"/>
            <a:ext cx="80010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Курсы по подготовке и переподготовке учителей дистанционного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истанционная форма повышения квалификации работников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истанционные педагогические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Этапы дистанционной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сероссийский конкурс «Дистанционный учитель год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облемы дистанционного обучения и пути их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оведение дистанционного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просы к ле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акти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8821800" y="1989000"/>
            <a:ext cx="322200" cy="216000"/>
          </a:xfrm>
          <a:custGeom>
            <a:avLst/>
            <a:gdLst>
              <a:gd name="textAreaLeft" fmla="*/ 13680 w 322200"/>
              <a:gd name="textAreaRight" fmla="*/ 308520 w 322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202" h="21600">
                <a:moveTo>
                  <a:pt x="0" y="0"/>
                </a:moveTo>
                <a:lnTo>
                  <a:pt x="32202" y="0"/>
                </a:lnTo>
                <a:lnTo>
                  <a:pt x="32202" y="21600"/>
                </a:lnTo>
                <a:lnTo>
                  <a:pt x="0" y="21600"/>
                </a:lnTo>
                <a:close/>
              </a:path>
              <a:path fill="lightenLess" w="32202" h="21600">
                <a:moveTo>
                  <a:pt x="0" y="0"/>
                </a:moveTo>
                <a:lnTo>
                  <a:pt x="32202" y="0"/>
                </a:lnTo>
                <a:lnTo>
                  <a:pt x="30802" y="1400"/>
                </a:lnTo>
                <a:lnTo>
                  <a:pt x="1400" y="1400"/>
                </a:lnTo>
                <a:close/>
              </a:path>
              <a:path fill="darken" w="32202" h="21600">
                <a:moveTo>
                  <a:pt x="32202" y="0"/>
                </a:moveTo>
                <a:lnTo>
                  <a:pt x="32202" y="21600"/>
                </a:lnTo>
                <a:lnTo>
                  <a:pt x="30802" y="20200"/>
                </a:lnTo>
                <a:lnTo>
                  <a:pt x="30802" y="1400"/>
                </a:lnTo>
                <a:close/>
              </a:path>
              <a:path fill="darkenLess" w="32202" h="21600">
                <a:moveTo>
                  <a:pt x="32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02" y="20200"/>
                </a:lnTo>
                <a:close/>
              </a:path>
              <a:path fill="lighten" w="32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02" h="21600">
                <a:moveTo>
                  <a:pt x="9095" y="3794"/>
                </a:moveTo>
                <a:lnTo>
                  <a:pt x="23108" y="10800"/>
                </a:lnTo>
                <a:lnTo>
                  <a:pt x="909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2" action="ppaction://hlinksldjump"/>
          </p:cNvPr>
          <p:cNvSpPr/>
          <p:nvPr/>
        </p:nvSpPr>
        <p:spPr>
          <a:xfrm>
            <a:off x="8820000" y="2708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>
            <a:hlinkClick r:id="rId3" action="ppaction://hlinksldjump"/>
          </p:cNvPr>
          <p:cNvSpPr/>
          <p:nvPr/>
        </p:nvSpPr>
        <p:spPr>
          <a:xfrm>
            <a:off x="8820000" y="3068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>
            <a:hlinkClick r:id="rId4" action="ppaction://hlinksldjump"/>
          </p:cNvPr>
          <p:cNvSpPr/>
          <p:nvPr/>
        </p:nvSpPr>
        <p:spPr>
          <a:xfrm>
            <a:off x="8820000" y="3500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>
            <a:hlinkClick r:id="rId5" action="ppaction://hlinksldjump"/>
          </p:cNvPr>
          <p:cNvSpPr/>
          <p:nvPr/>
        </p:nvSpPr>
        <p:spPr>
          <a:xfrm>
            <a:off x="8820000" y="4292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>
            <a:hlinkClick r:id="rId6" action="ppaction://hlinksldjump"/>
          </p:cNvPr>
          <p:cNvSpPr/>
          <p:nvPr/>
        </p:nvSpPr>
        <p:spPr>
          <a:xfrm>
            <a:off x="8820000" y="4724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>
            <a:hlinkClick r:id="rId7" action="ppaction://hlinksldjump"/>
          </p:cNvPr>
          <p:cNvSpPr/>
          <p:nvPr/>
        </p:nvSpPr>
        <p:spPr>
          <a:xfrm>
            <a:off x="8820000" y="515772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>
            <a:hlinkClick r:id="rId8" action="ppaction://hlinksldjump"/>
          </p:cNvPr>
          <p:cNvSpPr/>
          <p:nvPr/>
        </p:nvSpPr>
        <p:spPr>
          <a:xfrm>
            <a:off x="8820000" y="5589720"/>
            <a:ext cx="324000" cy="21564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6" h="21600">
                <a:moveTo>
                  <a:pt x="9212" y="3794"/>
                </a:moveTo>
                <a:lnTo>
                  <a:pt x="23224" y="10800"/>
                </a:lnTo>
                <a:lnTo>
                  <a:pt x="92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>
            <a:hlinkClick r:id="rId9" action="ppaction://hlinksldjump"/>
          </p:cNvPr>
          <p:cNvSpPr/>
          <p:nvPr/>
        </p:nvSpPr>
        <p:spPr>
          <a:xfrm>
            <a:off x="8388360" y="501336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>
            <a:hlinkClick r:id="rId10" action="ppaction://hlinksldjump"/>
          </p:cNvPr>
          <p:cNvSpPr/>
          <p:nvPr/>
        </p:nvSpPr>
        <p:spPr>
          <a:xfrm rot="943800">
            <a:off x="5508360" y="544500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5">
            <a:hlinkClick r:id="rId11" action="ppaction://hlinksldjump"/>
          </p:cNvPr>
          <p:cNvSpPr/>
          <p:nvPr/>
        </p:nvSpPr>
        <p:spPr>
          <a:xfrm>
            <a:off x="8820000" y="5950080"/>
            <a:ext cx="324000" cy="21564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6" h="21600">
                <a:moveTo>
                  <a:pt x="9212" y="3794"/>
                </a:moveTo>
                <a:lnTo>
                  <a:pt x="23224" y="10800"/>
                </a:lnTo>
                <a:lnTo>
                  <a:pt x="92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6">
            <a:hlinkClick r:id="rId12" action="ppaction://hlinksldjump"/>
          </p:cNvPr>
          <p:cNvSpPr/>
          <p:nvPr/>
        </p:nvSpPr>
        <p:spPr>
          <a:xfrm>
            <a:off x="8820000" y="6308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3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8720" y="658440"/>
            <a:ext cx="71485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Дистанционное обучения в настоящее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является наиболее эффективным способом повышения квалификации работников в сфере образ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Оно помогает быстрее освоить нововведени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системе образования и в педагогическом процесс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95672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>
            <a:hlinkClick r:id="" action="ppaction://hlinkshowjump?jump=firstslide"/>
          </p:cNvPr>
          <p:cNvSpPr/>
          <p:nvPr/>
        </p:nvSpPr>
        <p:spPr>
          <a:xfrm>
            <a:off x="752472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7493"/>
                </a:moveTo>
                <a:lnTo>
                  <a:pt x="18083" y="7493"/>
                </a:lnTo>
                <a:lnTo>
                  <a:pt x="18083" y="12828"/>
                </a:lnTo>
                <a:cubicBezTo>
                  <a:pt x="18083" y="13751"/>
                  <a:pt x="18884" y="14482"/>
                  <a:pt x="19920" y="14482"/>
                </a:cubicBezTo>
                <a:lnTo>
                  <a:pt x="21582" y="14482"/>
                </a:lnTo>
                <a:cubicBezTo>
                  <a:pt x="22618" y="14482"/>
                  <a:pt x="23419" y="13751"/>
                  <a:pt x="23419" y="12828"/>
                </a:cubicBezTo>
                <a:lnTo>
                  <a:pt x="23419" y="7493"/>
                </a:lnTo>
                <a:lnTo>
                  <a:pt x="21582" y="7493"/>
                </a:lnTo>
                <a:lnTo>
                  <a:pt x="25090" y="3985"/>
                </a:lnTo>
                <a:lnTo>
                  <a:pt x="28763" y="7493"/>
                </a:lnTo>
                <a:lnTo>
                  <a:pt x="26926" y="7493"/>
                </a:lnTo>
                <a:lnTo>
                  <a:pt x="26926" y="12828"/>
                </a:lnTo>
                <a:cubicBezTo>
                  <a:pt x="26926" y="15596"/>
                  <a:pt x="24350" y="18155"/>
                  <a:pt x="21582" y="18155"/>
                </a:cubicBezTo>
                <a:lnTo>
                  <a:pt x="19920" y="18155"/>
                </a:lnTo>
                <a:cubicBezTo>
                  <a:pt x="17152" y="18155"/>
                  <a:pt x="14576" y="15596"/>
                  <a:pt x="14576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>
            <a:hlinkClick r:id="" action="ppaction://hlinkshowjump?jump=nextslide"/>
          </p:cNvPr>
          <p:cNvSpPr/>
          <p:nvPr/>
        </p:nvSpPr>
        <p:spPr>
          <a:xfrm>
            <a:off x="8675640" y="638172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j0195384"/>
          <p:cNvPicPr/>
          <p:nvPr/>
        </p:nvPicPr>
        <p:blipFill>
          <a:blip r:embed="rId1"/>
          <a:stretch/>
        </p:blipFill>
        <p:spPr>
          <a:xfrm>
            <a:off x="395280" y="4797360"/>
            <a:ext cx="1870200" cy="1801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wind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преподавание — искусство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, и ч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истинный учит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— артист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, — общепризнанно. Но право самого учителя считаться артистом измеряется его умением воспитать настроение артиста в тех, с кем он занимается, будь то юноши или маленькие д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ж.Дью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317080" y="6453360"/>
            <a:ext cx="576000" cy="21564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36" h="21600">
                <a:moveTo>
                  <a:pt x="21812" y="3794"/>
                </a:moveTo>
                <a:lnTo>
                  <a:pt x="35824" y="10800"/>
                </a:lnTo>
                <a:lnTo>
                  <a:pt x="218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j0301252"/>
          <p:cNvPicPr/>
          <p:nvPr/>
        </p:nvPicPr>
        <p:blipFill>
          <a:blip r:embed="rId1"/>
          <a:stretch/>
        </p:blipFill>
        <p:spPr>
          <a:xfrm>
            <a:off x="3419640" y="4221000"/>
            <a:ext cx="3095640" cy="23767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6080" y="585720"/>
            <a:ext cx="73850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урсы по подготовке и переподготовке учителей дистанционного обучения</a:t>
            </a: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81360" y="1815840"/>
            <a:ext cx="675000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Общие проблемы использования интернет-технологий в системе образов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Дистанционное образование — новая форма образов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Педагогические технологии дистанционного обуче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Преподаватель дистанционного обучения»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>
            <a:hlinkClick r:id="" action="ppaction://hlinkshowjump?jump=nextslide"/>
          </p:cNvPr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7596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2160" y="260280"/>
            <a:ext cx="869148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Дистанционная форма повышения квалификации работников образования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>
            <a:hlinkClick r:id="rId1" action="ppaction://hlinksldjump"/>
          </p:cNvPr>
          <p:cNvSpPr/>
          <p:nvPr/>
        </p:nvSpPr>
        <p:spPr>
          <a:xfrm>
            <a:off x="766764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971640" y="2565360"/>
            <a:ext cx="3529080" cy="360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 flipH="1">
            <a:off x="3994920" y="1557360"/>
            <a:ext cx="2808360" cy="1800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4"/>
          <p:cNvSpPr/>
          <p:nvPr/>
        </p:nvSpPr>
        <p:spPr>
          <a:xfrm>
            <a:off x="324000" y="1844640"/>
            <a:ext cx="2160360" cy="11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395280" y="1628640"/>
            <a:ext cx="3095640" cy="165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826920" y="1773360"/>
            <a:ext cx="223236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>
            <a:off x="395280" y="1628640"/>
            <a:ext cx="2232000" cy="144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>
            <a:off x="611280" y="1773360"/>
            <a:ext cx="2952720" cy="16556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2843280" y="1557360"/>
            <a:ext cx="2881080" cy="1584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1835280" y="1484280"/>
            <a:ext cx="2663640" cy="1800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3635280" y="1484280"/>
            <a:ext cx="1873440" cy="1513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5003640" y="5300640"/>
            <a:ext cx="1944720" cy="1330200"/>
          </a:xfrm>
          <a:prstGeom prst="borderCallout2">
            <a:avLst>
              <a:gd name="adj1" fmla="val 18750"/>
              <a:gd name="adj2" fmla="val -8333"/>
              <a:gd name="adj3" fmla="val 8592"/>
              <a:gd name="adj4" fmla="val -22041"/>
              <a:gd name="adj5" fmla="val -18495"/>
              <a:gd name="adj6" fmla="val -40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250920" y="1557360"/>
            <a:ext cx="1728720" cy="1265040"/>
          </a:xfrm>
          <a:prstGeom prst="borderCallout1">
            <a:avLst>
              <a:gd name="adj1" fmla="val 18750"/>
              <a:gd name="adj2" fmla="val -8333"/>
              <a:gd name="adj3" fmla="val 132120"/>
              <a:gd name="adj4" fmla="val 1560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0"/>
          <p:cNvSpPr/>
          <p:nvPr/>
        </p:nvSpPr>
        <p:spPr>
          <a:xfrm>
            <a:off x="250920" y="1628640"/>
            <a:ext cx="1873080" cy="1584360"/>
          </a:xfrm>
          <a:prstGeom prst="borderCallout1">
            <a:avLst>
              <a:gd name="adj1" fmla="val 18750"/>
              <a:gd name="adj2" fmla="val -8333"/>
              <a:gd name="adj3" fmla="val 20041"/>
              <a:gd name="adj4" fmla="val 214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Схема 22" descr=""/>
          <p:cNvPicPr/>
          <p:nvPr/>
        </p:nvPicPr>
        <p:blipFill>
          <a:blip r:embed="rId2"/>
          <a:stretch/>
        </p:blipFill>
        <p:spPr>
          <a:xfrm>
            <a:off x="-30240" y="920880"/>
            <a:ext cx="9210600" cy="56131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66920" cy="215640"/>
          </a:xfrm>
          <a:custGeom>
            <a:avLst/>
            <a:gdLst>
              <a:gd name="textAreaLeft" fmla="*/ 13680 w 466920"/>
              <a:gd name="textAreaRight" fmla="*/ 453240 w 466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6728" h="21600">
                <a:moveTo>
                  <a:pt x="0" y="0"/>
                </a:moveTo>
                <a:lnTo>
                  <a:pt x="46728" y="0"/>
                </a:lnTo>
                <a:lnTo>
                  <a:pt x="46728" y="21600"/>
                </a:lnTo>
                <a:lnTo>
                  <a:pt x="0" y="21600"/>
                </a:lnTo>
                <a:close/>
              </a:path>
              <a:path fill="lightenLess" w="46728" h="21600">
                <a:moveTo>
                  <a:pt x="0" y="0"/>
                </a:moveTo>
                <a:lnTo>
                  <a:pt x="46728" y="0"/>
                </a:lnTo>
                <a:lnTo>
                  <a:pt x="45328" y="1400"/>
                </a:lnTo>
                <a:lnTo>
                  <a:pt x="1400" y="1400"/>
                </a:lnTo>
                <a:close/>
              </a:path>
              <a:path fill="darken" w="46728" h="21600">
                <a:moveTo>
                  <a:pt x="46728" y="0"/>
                </a:moveTo>
                <a:lnTo>
                  <a:pt x="46728" y="21600"/>
                </a:lnTo>
                <a:lnTo>
                  <a:pt x="45328" y="20200"/>
                </a:lnTo>
                <a:lnTo>
                  <a:pt x="45328" y="1400"/>
                </a:lnTo>
                <a:close/>
              </a:path>
              <a:path fill="darkenLess" w="46728" h="21600">
                <a:moveTo>
                  <a:pt x="4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8" y="20200"/>
                </a:lnTo>
                <a:close/>
              </a:path>
              <a:path fill="lighten" w="4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8" h="21600">
                <a:moveTo>
                  <a:pt x="16358" y="3794"/>
                </a:moveTo>
                <a:lnTo>
                  <a:pt x="30370" y="10800"/>
                </a:lnTo>
                <a:lnTo>
                  <a:pt x="163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10800"/>
                </a:moveTo>
                <a:lnTo>
                  <a:pt x="32260" y="3794"/>
                </a:lnTo>
                <a:lnTo>
                  <a:pt x="3226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7740720" y="645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4382" y="3837"/>
                </a:moveTo>
                <a:lnTo>
                  <a:pt x="16958" y="6448"/>
                </a:lnTo>
                <a:lnTo>
                  <a:pt x="16958" y="4707"/>
                </a:lnTo>
                <a:lnTo>
                  <a:pt x="18734" y="4707"/>
                </a:lnTo>
                <a:lnTo>
                  <a:pt x="18734" y="8224"/>
                </a:lnTo>
                <a:lnTo>
                  <a:pt x="21345" y="10800"/>
                </a:lnTo>
                <a:lnTo>
                  <a:pt x="19691" y="10800"/>
                </a:lnTo>
                <a:lnTo>
                  <a:pt x="19691" y="17989"/>
                </a:lnTo>
                <a:lnTo>
                  <a:pt x="9073" y="17989"/>
                </a:lnTo>
                <a:lnTo>
                  <a:pt x="9073" y="10800"/>
                </a:lnTo>
                <a:lnTo>
                  <a:pt x="7419" y="10800"/>
                </a:lnTo>
                <a:close/>
              </a:path>
              <a:path fill="darkenLess" w="28764" h="21600">
                <a:moveTo>
                  <a:pt x="16958" y="6448"/>
                </a:moveTo>
                <a:lnTo>
                  <a:pt x="16958" y="4707"/>
                </a:lnTo>
                <a:lnTo>
                  <a:pt x="18734" y="4707"/>
                </a:lnTo>
                <a:lnTo>
                  <a:pt x="18734" y="8224"/>
                </a:lnTo>
                <a:close/>
              </a:path>
              <a:path fill="darkenLess" w="28764" h="21600">
                <a:moveTo>
                  <a:pt x="13459" y="14299"/>
                </a:moveTo>
                <a:lnTo>
                  <a:pt x="15305" y="14299"/>
                </a:lnTo>
                <a:lnTo>
                  <a:pt x="15305" y="17989"/>
                </a:lnTo>
                <a:lnTo>
                  <a:pt x="19691" y="17989"/>
                </a:lnTo>
                <a:lnTo>
                  <a:pt x="19691" y="10800"/>
                </a:lnTo>
                <a:lnTo>
                  <a:pt x="9073" y="10800"/>
                </a:lnTo>
                <a:lnTo>
                  <a:pt x="9073" y="17989"/>
                </a:lnTo>
                <a:lnTo>
                  <a:pt x="13459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5"/>
          <p:cNvSpPr/>
          <p:nvPr/>
        </p:nvSpPr>
        <p:spPr>
          <a:xfrm>
            <a:off x="5867280" y="3429000"/>
            <a:ext cx="2087640" cy="1800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ганиз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школы, институ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6"/>
          <p:cNvSpPr/>
          <p:nvPr/>
        </p:nvSpPr>
        <p:spPr>
          <a:xfrm>
            <a:off x="3348000" y="404640"/>
            <a:ext cx="2664000" cy="2016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Зарегистрир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в конфере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огу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7"/>
          <p:cNvSpPr/>
          <p:nvPr/>
        </p:nvSpPr>
        <p:spPr>
          <a:xfrm>
            <a:off x="1692360" y="3429000"/>
            <a:ext cx="2087640" cy="1800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астные 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 flipH="1">
            <a:off x="3634920" y="2421000"/>
            <a:ext cx="108108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54"/>
          <p:cNvSpPr/>
          <p:nvPr/>
        </p:nvSpPr>
        <p:spPr>
          <a:xfrm>
            <a:off x="4716360" y="2421000"/>
            <a:ext cx="1224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38116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nextslide"/>
          </p:cNvPr>
          <p:cNvSpPr/>
          <p:nvPr/>
        </p:nvSpPr>
        <p:spPr>
          <a:xfrm>
            <a:off x="8459640" y="630864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766764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Diagram 8"/>
          <p:cNvGrpSpPr/>
          <p:nvPr/>
        </p:nvGrpSpPr>
        <p:grpSpPr>
          <a:xfrm>
            <a:off x="56880" y="-5400"/>
            <a:ext cx="9032760" cy="6847560"/>
            <a:chOff x="56880" y="-5400"/>
            <a:chExt cx="9032760" cy="6847560"/>
          </a:xfrm>
        </p:grpSpPr>
        <p:sp>
          <p:nvSpPr>
            <p:cNvPr id="155" name="_s1028"/>
            <p:cNvSpPr/>
            <p:nvPr/>
          </p:nvSpPr>
          <p:spPr>
            <a:xfrm flipH="1" flipV="1">
              <a:off x="2955960" y="2025000"/>
              <a:ext cx="960480" cy="87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29"/>
            <p:cNvSpPr/>
            <p:nvPr/>
          </p:nvSpPr>
          <p:spPr>
            <a:xfrm>
              <a:off x="1269000" y="628200"/>
              <a:ext cx="206028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Улан-Удэ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Уф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Ч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Южно-Ураль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Якут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0"/>
            <p:cNvSpPr/>
            <p:nvPr/>
          </p:nvSpPr>
          <p:spPr>
            <a:xfrm flipH="1" flipV="1">
              <a:off x="2099160" y="3166920"/>
              <a:ext cx="1466640" cy="19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31"/>
            <p:cNvSpPr/>
            <p:nvPr/>
          </p:nvSpPr>
          <p:spPr>
            <a:xfrm>
              <a:off x="56880" y="223812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.-Петербург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молен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оч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Тамб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Твер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 flipH="1">
              <a:off x="2399400" y="3888720"/>
              <a:ext cx="1287720" cy="57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480240" y="406692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ренбург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Перм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Пск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Ряз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ама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034"/>
            <p:cNvSpPr/>
            <p:nvPr/>
          </p:nvSpPr>
          <p:spPr>
            <a:xfrm flipH="1">
              <a:off x="3718080" y="4233240"/>
              <a:ext cx="506880" cy="107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35"/>
            <p:cNvSpPr/>
            <p:nvPr/>
          </p:nvSpPr>
          <p:spPr>
            <a:xfrm>
              <a:off x="2334960" y="526212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ерюнгр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ефтюган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ижний Новгород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овосиби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лекмин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4922280" y="4233240"/>
              <a:ext cx="513720" cy="107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037"/>
            <p:cNvSpPr/>
            <p:nvPr/>
          </p:nvSpPr>
          <p:spPr>
            <a:xfrm>
              <a:off x="4758120" y="525888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Липец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гнитого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йкоп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лоярославец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оск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1038"/>
            <p:cNvSpPr/>
            <p:nvPr/>
          </p:nvSpPr>
          <p:spPr>
            <a:xfrm>
              <a:off x="5458680" y="3888720"/>
              <a:ext cx="1291320" cy="56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039"/>
            <p:cNvSpPr/>
            <p:nvPr/>
          </p:nvSpPr>
          <p:spPr>
            <a:xfrm>
              <a:off x="6609600" y="406440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аз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алуг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иров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расноя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ур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 flipV="1">
              <a:off x="5581440" y="3161160"/>
              <a:ext cx="1465920" cy="19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41"/>
            <p:cNvSpPr/>
            <p:nvPr/>
          </p:nvSpPr>
          <p:spPr>
            <a:xfrm>
              <a:off x="7028640" y="223488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ладивосто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Енисе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Зеленого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гарк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Ижев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1042"/>
            <p:cNvSpPr/>
            <p:nvPr/>
          </p:nvSpPr>
          <p:spPr>
            <a:xfrm flipV="1">
              <a:off x="5230800" y="2021400"/>
              <a:ext cx="956160" cy="87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1043"/>
            <p:cNvSpPr/>
            <p:nvPr/>
          </p:nvSpPr>
          <p:spPr>
            <a:xfrm>
              <a:off x="5817240" y="62820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и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иробиджан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еликий Новгород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ерхневилю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Грод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44"/>
            <p:cNvSpPr/>
            <p:nvPr/>
          </p:nvSpPr>
          <p:spPr>
            <a:xfrm flipV="1">
              <a:off x="4571640" y="1571400"/>
              <a:ext cx="0" cy="113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1045"/>
            <p:cNvSpPr/>
            <p:nvPr/>
          </p:nvSpPr>
          <p:spPr>
            <a:xfrm>
              <a:off x="3542760" y="-540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бакан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патиты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ртем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страх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елгор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1046"/>
            <p:cNvSpPr/>
            <p:nvPr/>
          </p:nvSpPr>
          <p:spPr>
            <a:xfrm>
              <a:off x="3542760" y="271152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В конферен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(1999г.) участв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вали 45 гор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lus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66440" y="606600"/>
            <a:ext cx="7155000" cy="69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Этапы дистанционной конференц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01840" y="1989000"/>
            <a:ext cx="7270560" cy="39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4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начал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онферен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5-30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тиражирование материалов дистанционной конференции на местах для участ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5-28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формулирование предложений по проблеме перехода к 12-летней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31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одведение итогов дистанционной конфере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7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8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9">
            <a:hlinkClick r:id="rId1" action="ppaction://hlinksldjump"/>
          </p:cNvPr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8324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ведем пример отклика о дистанционной конференции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600" spc="-1" strike="noStrike" u="sng">
                <a:solidFill>
                  <a:srgbClr val="ff66ff"/>
                </a:solidFill>
                <a:uFillTx/>
                <a:latin typeface="Times New Roman"/>
              </a:rPr>
              <a:t>Моисейченко Елена Василь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«Принимая участие в конференции, я хотела услышать ответы на собственные вопросы , "прочувствовать" процесс перехода на 12-летнее обучение.  Привлекло и порадовало отсутствие эмоциональных выступлений; наоборот - только деловые, точные, чёткие суждения, вопросы и ответы на ни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459640" y="6524640"/>
            <a:ext cx="433440" cy="217440"/>
          </a:xfrm>
          <a:custGeom>
            <a:avLst/>
            <a:gdLst>
              <a:gd name="textAreaLeft" fmla="*/ 14040 w 433440"/>
              <a:gd name="textAreaRight" fmla="*/ 419400 w 4334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8101080" y="6524640"/>
            <a:ext cx="358560" cy="217440"/>
          </a:xfrm>
          <a:custGeom>
            <a:avLst/>
            <a:gdLst>
              <a:gd name="textAreaLeft" fmla="*/ 14040 w 358560"/>
              <a:gd name="textAreaRight" fmla="*/ 344520 w 3585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595" h="21600">
                <a:moveTo>
                  <a:pt x="0" y="0"/>
                </a:moveTo>
                <a:lnTo>
                  <a:pt x="35595" y="0"/>
                </a:lnTo>
                <a:lnTo>
                  <a:pt x="35595" y="21600"/>
                </a:lnTo>
                <a:lnTo>
                  <a:pt x="0" y="21600"/>
                </a:lnTo>
                <a:close/>
              </a:path>
              <a:path fill="lightenLess" w="35595" h="21600">
                <a:moveTo>
                  <a:pt x="0" y="0"/>
                </a:moveTo>
                <a:lnTo>
                  <a:pt x="35595" y="0"/>
                </a:lnTo>
                <a:lnTo>
                  <a:pt x="34195" y="1400"/>
                </a:lnTo>
                <a:lnTo>
                  <a:pt x="1400" y="1400"/>
                </a:lnTo>
                <a:close/>
              </a:path>
              <a:path fill="darken" w="35595" h="21600">
                <a:moveTo>
                  <a:pt x="35595" y="0"/>
                </a:moveTo>
                <a:lnTo>
                  <a:pt x="35595" y="21600"/>
                </a:lnTo>
                <a:lnTo>
                  <a:pt x="34195" y="20200"/>
                </a:lnTo>
                <a:lnTo>
                  <a:pt x="34195" y="1400"/>
                </a:lnTo>
                <a:close/>
              </a:path>
              <a:path fill="darkenLess" w="35595" h="21600">
                <a:moveTo>
                  <a:pt x="35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5" y="20200"/>
                </a:lnTo>
                <a:close/>
              </a:path>
              <a:path fill="lighten" w="35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95" h="21600">
                <a:moveTo>
                  <a:pt x="10791" y="10800"/>
                </a:moveTo>
                <a:lnTo>
                  <a:pt x="24804" y="3794"/>
                </a:lnTo>
                <a:lnTo>
                  <a:pt x="248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774072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7887" y="3837"/>
                </a:moveTo>
                <a:lnTo>
                  <a:pt x="20463" y="6448"/>
                </a:lnTo>
                <a:lnTo>
                  <a:pt x="20463" y="4707"/>
                </a:lnTo>
                <a:lnTo>
                  <a:pt x="22239" y="4707"/>
                </a:lnTo>
                <a:lnTo>
                  <a:pt x="22239" y="8224"/>
                </a:lnTo>
                <a:lnTo>
                  <a:pt x="24850" y="10800"/>
                </a:lnTo>
                <a:lnTo>
                  <a:pt x="23196" y="10800"/>
                </a:lnTo>
                <a:lnTo>
                  <a:pt x="23196" y="17989"/>
                </a:lnTo>
                <a:lnTo>
                  <a:pt x="12578" y="17989"/>
                </a:lnTo>
                <a:lnTo>
                  <a:pt x="12578" y="10800"/>
                </a:lnTo>
                <a:lnTo>
                  <a:pt x="10924" y="10800"/>
                </a:lnTo>
                <a:close/>
              </a:path>
              <a:path fill="darkenLess" w="35774" h="21600">
                <a:moveTo>
                  <a:pt x="20463" y="6448"/>
                </a:moveTo>
                <a:lnTo>
                  <a:pt x="20463" y="4707"/>
                </a:lnTo>
                <a:lnTo>
                  <a:pt x="22239" y="4707"/>
                </a:lnTo>
                <a:lnTo>
                  <a:pt x="22239" y="8224"/>
                </a:lnTo>
                <a:close/>
              </a:path>
              <a:path fill="darkenLess" w="35774" h="21600">
                <a:moveTo>
                  <a:pt x="16964" y="14299"/>
                </a:moveTo>
                <a:lnTo>
                  <a:pt x="18810" y="14299"/>
                </a:lnTo>
                <a:lnTo>
                  <a:pt x="18810" y="17989"/>
                </a:lnTo>
                <a:lnTo>
                  <a:pt x="23196" y="17989"/>
                </a:lnTo>
                <a:lnTo>
                  <a:pt x="23196" y="10800"/>
                </a:lnTo>
                <a:lnTo>
                  <a:pt x="12578" y="10800"/>
                </a:lnTo>
                <a:lnTo>
                  <a:pt x="12578" y="17989"/>
                </a:lnTo>
                <a:lnTo>
                  <a:pt x="16964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j0297749"/>
          <p:cNvPicPr/>
          <p:nvPr/>
        </p:nvPicPr>
        <p:blipFill>
          <a:blip r:embed="rId2"/>
          <a:stretch/>
        </p:blipFill>
        <p:spPr>
          <a:xfrm>
            <a:off x="0" y="2276640"/>
            <a:ext cx="1547640" cy="15840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8:26:41Z</dcterms:created>
  <dc:creator>Привет бобер!</dc:creator>
  <dc:description/>
  <dc:language>en-US</dc:language>
  <cp:lastModifiedBy>User</cp:lastModifiedBy>
  <dcterms:modified xsi:type="dcterms:W3CDTF">2016-01-20T15:59:13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