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5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D3C9-22F2-4A6B-9061-4B3E032F05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B3AA-5345-47F8-B7FA-9451B0B45E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301C-6F3F-4509-8F62-0BA90A2F1C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(проводится в режиме списка рассылки для всех зарегистрированных участников, материалы включают в себя вопросы, ответы, отклики, предложения, высказываемые всеми зарегистрированными участниками конференции). Использование присланных материалов в устных выступлениях на пленарных заседаниях и секциях. Очное обсуждение присланных материалов на местах, формулирование и пересылка вопросов авторам материал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96AC-8F21-4B45-AB9B-F74251A1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E22D-1496-4147-8A05-FF7329A5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6046-89CE-4C6D-B40E-92EE9CB8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8088-4F7D-4178-9878-E28DAE01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6A0EE-BFD8-4C4C-9693-8B419380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5C09A-EC56-4F9D-AC5A-EDEFF19E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B5C86-FEF9-4C03-A710-A37EEDE9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79FFB-E1C9-4315-9ABB-78B7900B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6BF92-AA37-4563-B256-1D1CFC11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B4A4C-EF13-491B-951A-011F4360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6D963-8DE7-4A10-8236-F1F1FA44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FAC0-90B5-4856-9E88-76C6D239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50958-BF95-4E75-A7FC-6D6E31B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6FD4B-16DF-4135-BA36-C381B461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53A4D-3DC9-4C18-8D73-EE23B29B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05287-8F6B-4736-ACA4-CD57E62C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CF34A-812A-4F83-AA29-38768B16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FD71-B961-4A55-BB8A-F51F67CE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2D94-62B2-4D69-BF8A-6DB26220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7218-A906-448F-B13D-C68354BC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CB0F-5F73-45B1-A84A-EAB0EA69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9836-9D90-4C5D-8A82-76BC7E08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710E-4149-482C-9E6F-83D619B9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9371-8846-4E96-A591-EB46F748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7C85-B8ED-4EEE-B562-F5511F52A1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3CCD-DFD1-4294-A9D5-EFCE91813B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2391840"/>
            <a:ext cx="7772400" cy="67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Информационно-образовательная среда. Система   повышения квалификации педагогических кадров.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4098600"/>
            <a:ext cx="7304040" cy="15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Выполнила Тришичева А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Times New Roman"/>
              </a:rPr>
              <a:t>г.Кадников,2015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6">
            <a:hlinkClick r:id="" action="ppaction://hlinkshowjump?jump=nextslide"/>
          </p:cNvPr>
          <p:cNvSpPr/>
          <p:nvPr/>
        </p:nvSpPr>
        <p:spPr>
          <a:xfrm>
            <a:off x="8532720" y="6381720"/>
            <a:ext cx="468360" cy="287280"/>
          </a:xfrm>
          <a:custGeom>
            <a:avLst/>
            <a:gdLst>
              <a:gd name="textAreaLeft" fmla="*/ 18360 w 468360"/>
              <a:gd name="textAreaRight" fmla="*/ 450000 w 46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5198" h="21600">
                <a:moveTo>
                  <a:pt x="0" y="0"/>
                </a:moveTo>
                <a:lnTo>
                  <a:pt x="35198" y="0"/>
                </a:lnTo>
                <a:lnTo>
                  <a:pt x="35198" y="21600"/>
                </a:lnTo>
                <a:lnTo>
                  <a:pt x="0" y="21600"/>
                </a:lnTo>
                <a:close/>
              </a:path>
              <a:path fill="lightenLess" w="35198" h="21600">
                <a:moveTo>
                  <a:pt x="0" y="0"/>
                </a:moveTo>
                <a:lnTo>
                  <a:pt x="35198" y="0"/>
                </a:lnTo>
                <a:lnTo>
                  <a:pt x="33798" y="1400"/>
                </a:lnTo>
                <a:lnTo>
                  <a:pt x="1400" y="1400"/>
                </a:lnTo>
                <a:close/>
              </a:path>
              <a:path fill="darken" w="35198" h="21600">
                <a:moveTo>
                  <a:pt x="35198" y="0"/>
                </a:moveTo>
                <a:lnTo>
                  <a:pt x="35198" y="21600"/>
                </a:lnTo>
                <a:lnTo>
                  <a:pt x="33798" y="20200"/>
                </a:lnTo>
                <a:lnTo>
                  <a:pt x="33798" y="1400"/>
                </a:lnTo>
                <a:close/>
              </a:path>
              <a:path fill="darkenLess" w="35198" h="21600">
                <a:moveTo>
                  <a:pt x="35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98" y="20200"/>
                </a:lnTo>
                <a:close/>
              </a:path>
              <a:path fill="lighten" w="35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98" h="21600">
                <a:moveTo>
                  <a:pt x="10593" y="3794"/>
                </a:moveTo>
                <a:lnTo>
                  <a:pt x="24605" y="10800"/>
                </a:lnTo>
                <a:lnTo>
                  <a:pt x="105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18640" y="1028880"/>
            <a:ext cx="8325000" cy="33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Всероссийский конкурс «Дистанционный учитель года»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01840" y="1913040"/>
            <a:ext cx="7122960" cy="38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Главные цели конкурс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выявление и поддержка талантливых педагогов и методистов, применяющих в обучении телекоммуникационные средства и возможности сети Интерн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популяризация новейших информационных технологий, форм и методов дистанционного обучения в практике работы отечественных образовательных учреж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">
            <a:hlinkClick r:id="" action="ppaction://hlinkshowjump?jump=nextslide"/>
          </p:cNvPr>
          <p:cNvSpPr/>
          <p:nvPr/>
        </p:nvSpPr>
        <p:spPr>
          <a:xfrm>
            <a:off x="8317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previousslide"/>
          </p:cNvPr>
          <p:cNvSpPr/>
          <p:nvPr/>
        </p:nvSpPr>
        <p:spPr>
          <a:xfrm>
            <a:off x="788508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10800"/>
                </a:moveTo>
                <a:lnTo>
                  <a:pt x="28624" y="3794"/>
                </a:lnTo>
                <a:lnTo>
                  <a:pt x="2862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rId1" action="ppaction://hlinksldjump"/>
          </p:cNvPr>
          <p:cNvSpPr/>
          <p:nvPr/>
        </p:nvSpPr>
        <p:spPr>
          <a:xfrm>
            <a:off x="7451640" y="645336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21690" y="3837"/>
                </a:moveTo>
                <a:lnTo>
                  <a:pt x="24266" y="6448"/>
                </a:lnTo>
                <a:lnTo>
                  <a:pt x="24266" y="4707"/>
                </a:lnTo>
                <a:lnTo>
                  <a:pt x="26042" y="4707"/>
                </a:lnTo>
                <a:lnTo>
                  <a:pt x="26042" y="8224"/>
                </a:lnTo>
                <a:lnTo>
                  <a:pt x="28653" y="10800"/>
                </a:lnTo>
                <a:lnTo>
                  <a:pt x="26999" y="10800"/>
                </a:lnTo>
                <a:lnTo>
                  <a:pt x="26999" y="17989"/>
                </a:lnTo>
                <a:lnTo>
                  <a:pt x="16381" y="17989"/>
                </a:lnTo>
                <a:lnTo>
                  <a:pt x="16381" y="10800"/>
                </a:lnTo>
                <a:lnTo>
                  <a:pt x="14727" y="10800"/>
                </a:lnTo>
                <a:close/>
              </a:path>
              <a:path fill="darkenLess" w="43380" h="21600">
                <a:moveTo>
                  <a:pt x="24266" y="6448"/>
                </a:moveTo>
                <a:lnTo>
                  <a:pt x="24266" y="4707"/>
                </a:lnTo>
                <a:lnTo>
                  <a:pt x="26042" y="4707"/>
                </a:lnTo>
                <a:lnTo>
                  <a:pt x="26042" y="8224"/>
                </a:lnTo>
                <a:close/>
              </a:path>
              <a:path fill="darkenLess" w="43380" h="21600">
                <a:moveTo>
                  <a:pt x="20767" y="14299"/>
                </a:moveTo>
                <a:lnTo>
                  <a:pt x="22613" y="14299"/>
                </a:lnTo>
                <a:lnTo>
                  <a:pt x="22613" y="17989"/>
                </a:lnTo>
                <a:lnTo>
                  <a:pt x="26999" y="17989"/>
                </a:lnTo>
                <a:lnTo>
                  <a:pt x="26999" y="10800"/>
                </a:lnTo>
                <a:lnTo>
                  <a:pt x="16381" y="10800"/>
                </a:lnTo>
                <a:lnTo>
                  <a:pt x="16381" y="17989"/>
                </a:lnTo>
                <a:lnTo>
                  <a:pt x="20767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3000" y="1886040"/>
            <a:ext cx="777240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8604360" y="6524640"/>
            <a:ext cx="360360" cy="217440"/>
          </a:xfrm>
          <a:custGeom>
            <a:avLst/>
            <a:gdLst>
              <a:gd name="textAreaLeft" fmla="*/ 14040 w 360360"/>
              <a:gd name="textAreaRight" fmla="*/ 346320 w 360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374" y="1400"/>
                </a:lnTo>
                <a:lnTo>
                  <a:pt x="1400" y="140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374" y="20200"/>
                </a:lnTo>
                <a:lnTo>
                  <a:pt x="34374" y="140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74" y="2020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74" h="21600">
                <a:moveTo>
                  <a:pt x="10880" y="3794"/>
                </a:moveTo>
                <a:lnTo>
                  <a:pt x="24893" y="10800"/>
                </a:lnTo>
                <a:lnTo>
                  <a:pt x="108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5">
            <a:hlinkClick r:id="" action="ppaction://hlinkshowjump?jump=previousslide"/>
          </p:cNvPr>
          <p:cNvSpPr/>
          <p:nvPr/>
        </p:nvSpPr>
        <p:spPr>
          <a:xfrm>
            <a:off x="8244000" y="6524640"/>
            <a:ext cx="360360" cy="217440"/>
          </a:xfrm>
          <a:custGeom>
            <a:avLst/>
            <a:gdLst>
              <a:gd name="textAreaLeft" fmla="*/ 14040 w 360360"/>
              <a:gd name="textAreaRight" fmla="*/ 346320 w 360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374" y="1400"/>
                </a:lnTo>
                <a:lnTo>
                  <a:pt x="1400" y="140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374" y="20200"/>
                </a:lnTo>
                <a:lnTo>
                  <a:pt x="34374" y="140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74" y="2020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74" h="21600">
                <a:moveTo>
                  <a:pt x="10880" y="10800"/>
                </a:moveTo>
                <a:lnTo>
                  <a:pt x="24893" y="3794"/>
                </a:lnTo>
                <a:lnTo>
                  <a:pt x="24893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6">
            <a:hlinkClick r:id="rId1" action="ppaction://hlinksldjump"/>
          </p:cNvPr>
          <p:cNvSpPr/>
          <p:nvPr/>
        </p:nvSpPr>
        <p:spPr>
          <a:xfrm>
            <a:off x="7885080" y="6524640"/>
            <a:ext cx="358920" cy="217440"/>
          </a:xfrm>
          <a:custGeom>
            <a:avLst/>
            <a:gdLst>
              <a:gd name="textAreaLeft" fmla="*/ 14040 w 358920"/>
              <a:gd name="textAreaRight" fmla="*/ 344880 w 358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631" h="21600">
                <a:moveTo>
                  <a:pt x="0" y="0"/>
                </a:moveTo>
                <a:lnTo>
                  <a:pt x="35631" y="0"/>
                </a:lnTo>
                <a:lnTo>
                  <a:pt x="35631" y="21600"/>
                </a:lnTo>
                <a:lnTo>
                  <a:pt x="0" y="21600"/>
                </a:lnTo>
                <a:close/>
              </a:path>
              <a:path fill="lightenLess" w="35631" h="21600">
                <a:moveTo>
                  <a:pt x="0" y="0"/>
                </a:moveTo>
                <a:lnTo>
                  <a:pt x="35631" y="0"/>
                </a:lnTo>
                <a:lnTo>
                  <a:pt x="34231" y="1400"/>
                </a:lnTo>
                <a:lnTo>
                  <a:pt x="1400" y="1400"/>
                </a:lnTo>
                <a:close/>
              </a:path>
              <a:path fill="darken" w="35631" h="21600">
                <a:moveTo>
                  <a:pt x="35631" y="0"/>
                </a:moveTo>
                <a:lnTo>
                  <a:pt x="35631" y="21600"/>
                </a:lnTo>
                <a:lnTo>
                  <a:pt x="34231" y="20200"/>
                </a:lnTo>
                <a:lnTo>
                  <a:pt x="34231" y="1400"/>
                </a:lnTo>
                <a:close/>
              </a:path>
              <a:path fill="darkenLess" w="35631" h="21600">
                <a:moveTo>
                  <a:pt x="35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31" y="20200"/>
                </a:lnTo>
                <a:close/>
              </a:path>
              <a:path fill="lighten" w="35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631" h="21600">
                <a:moveTo>
                  <a:pt x="17816" y="3837"/>
                </a:moveTo>
                <a:lnTo>
                  <a:pt x="20392" y="6448"/>
                </a:lnTo>
                <a:lnTo>
                  <a:pt x="20392" y="4707"/>
                </a:lnTo>
                <a:lnTo>
                  <a:pt x="22167" y="4707"/>
                </a:lnTo>
                <a:lnTo>
                  <a:pt x="22167" y="8224"/>
                </a:lnTo>
                <a:lnTo>
                  <a:pt x="24779" y="10800"/>
                </a:lnTo>
                <a:lnTo>
                  <a:pt x="23125" y="10800"/>
                </a:lnTo>
                <a:lnTo>
                  <a:pt x="23125" y="17989"/>
                </a:lnTo>
                <a:lnTo>
                  <a:pt x="12506" y="17989"/>
                </a:lnTo>
                <a:lnTo>
                  <a:pt x="12506" y="10800"/>
                </a:lnTo>
                <a:lnTo>
                  <a:pt x="10853" y="10800"/>
                </a:lnTo>
                <a:close/>
              </a:path>
              <a:path fill="darkenLess" w="35631" h="21600">
                <a:moveTo>
                  <a:pt x="20392" y="6448"/>
                </a:moveTo>
                <a:lnTo>
                  <a:pt x="20392" y="4707"/>
                </a:lnTo>
                <a:lnTo>
                  <a:pt x="22167" y="4707"/>
                </a:lnTo>
                <a:lnTo>
                  <a:pt x="22167" y="8224"/>
                </a:lnTo>
                <a:close/>
              </a:path>
              <a:path fill="darkenLess" w="35631" h="21600">
                <a:moveTo>
                  <a:pt x="16893" y="14299"/>
                </a:moveTo>
                <a:lnTo>
                  <a:pt x="18738" y="14299"/>
                </a:lnTo>
                <a:lnTo>
                  <a:pt x="18738" y="17989"/>
                </a:lnTo>
                <a:lnTo>
                  <a:pt x="23125" y="17989"/>
                </a:lnTo>
                <a:lnTo>
                  <a:pt x="23125" y="10800"/>
                </a:lnTo>
                <a:lnTo>
                  <a:pt x="12506" y="10800"/>
                </a:lnTo>
                <a:lnTo>
                  <a:pt x="12506" y="17989"/>
                </a:lnTo>
                <a:lnTo>
                  <a:pt x="1689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5724360" y="3429000"/>
            <a:ext cx="2376720" cy="1655640"/>
          </a:xfrm>
          <a:prstGeom prst="can">
            <a:avLst>
              <a:gd name="adj" fmla="val 24259"/>
            </a:avLst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Методисты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тью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3348000" y="981000"/>
            <a:ext cx="2448000" cy="1943280"/>
          </a:xfrm>
          <a:prstGeom prst="can">
            <a:avLst>
              <a:gd name="adj" fmla="val 24259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Участ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конкур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1258920" y="3429000"/>
            <a:ext cx="2376360" cy="1655640"/>
          </a:xfrm>
          <a:prstGeom prst="can">
            <a:avLst>
              <a:gd name="adj" fmla="val 24259"/>
            </a:avLst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Педаг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работ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 flipH="1">
            <a:off x="2411280" y="2708280"/>
            <a:ext cx="93672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5796000" y="2708280"/>
            <a:ext cx="1008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32000" y="54900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Arial"/>
              </a:rPr>
              <a:t>Э</a:t>
            </a: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тапы конкурс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15-31 октябр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одготовительный эта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1-30 ноябр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- основной эта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1-15 декабр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- финальный этап</a:t>
            </a: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15-25 декабр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- определение победителей и лауреатов конкурса, награждение, подведение итогов конкур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5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6">
            <a:hlinkClick r:id="rId1" action="ppaction://hlinksldjump"/>
          </p:cNvPr>
          <p:cNvSpPr/>
          <p:nvPr/>
        </p:nvSpPr>
        <p:spPr>
          <a:xfrm>
            <a:off x="7667640" y="645336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21690" y="3837"/>
                </a:moveTo>
                <a:lnTo>
                  <a:pt x="24266" y="6448"/>
                </a:lnTo>
                <a:lnTo>
                  <a:pt x="24266" y="4707"/>
                </a:lnTo>
                <a:lnTo>
                  <a:pt x="26042" y="4707"/>
                </a:lnTo>
                <a:lnTo>
                  <a:pt x="26042" y="8224"/>
                </a:lnTo>
                <a:lnTo>
                  <a:pt x="28653" y="10800"/>
                </a:lnTo>
                <a:lnTo>
                  <a:pt x="26999" y="10800"/>
                </a:lnTo>
                <a:lnTo>
                  <a:pt x="26999" y="17989"/>
                </a:lnTo>
                <a:lnTo>
                  <a:pt x="16381" y="17989"/>
                </a:lnTo>
                <a:lnTo>
                  <a:pt x="16381" y="10800"/>
                </a:lnTo>
                <a:lnTo>
                  <a:pt x="14727" y="10800"/>
                </a:lnTo>
                <a:close/>
              </a:path>
              <a:path fill="darkenLess" w="43380" h="21600">
                <a:moveTo>
                  <a:pt x="24266" y="6448"/>
                </a:moveTo>
                <a:lnTo>
                  <a:pt x="24266" y="4707"/>
                </a:lnTo>
                <a:lnTo>
                  <a:pt x="26042" y="4707"/>
                </a:lnTo>
                <a:lnTo>
                  <a:pt x="26042" y="8224"/>
                </a:lnTo>
                <a:close/>
              </a:path>
              <a:path fill="darkenLess" w="43380" h="21600">
                <a:moveTo>
                  <a:pt x="20767" y="14299"/>
                </a:moveTo>
                <a:lnTo>
                  <a:pt x="22613" y="14299"/>
                </a:lnTo>
                <a:lnTo>
                  <a:pt x="22613" y="17989"/>
                </a:lnTo>
                <a:lnTo>
                  <a:pt x="26999" y="17989"/>
                </a:lnTo>
                <a:lnTo>
                  <a:pt x="26999" y="10800"/>
                </a:lnTo>
                <a:lnTo>
                  <a:pt x="16381" y="10800"/>
                </a:lnTo>
                <a:lnTo>
                  <a:pt x="16381" y="17989"/>
                </a:lnTo>
                <a:lnTo>
                  <a:pt x="20767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686880"/>
            <a:ext cx="8324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Проблемы дистанционного обучения и пути их решения</a:t>
            </a:r>
            <a:r>
              <a:rPr b="0" lang="ru-RU" sz="5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19280" y="1815840"/>
            <a:ext cx="7074000" cy="4338360"/>
          </a:xfrm>
          <a:prstGeom prst="rect">
            <a:avLst/>
          </a:prstGeom>
          <a:noFill/>
          <a:ln w="9360">
            <a:solidFill>
              <a:srgbClr val="99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лизируя состояния дистанционного обучения в Росси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формулируются проблемы и предлагаются способы их решения п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м направления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дистанционная деятельность учителя и уче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дидактика дистанционного обуч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философия дистанционного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материально-технические и программные</a:t>
            </a:r>
            <a:r>
              <a:rPr b="0" lang="ru-RU" sz="2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oft</a:t>
            </a: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) вопросы</a:t>
            </a:r>
            <a:r>
              <a:rPr b="0" lang="ru-RU" sz="2600" spc="-1" strike="noStrike">
                <a:solidFill>
                  <a:srgbClr val="ffcc66"/>
                </a:solidFill>
                <a:latin typeface="Times New Roman"/>
              </a:rPr>
              <a:t>.</a:t>
            </a:r>
            <a:br>
              <a:rPr sz="2600"/>
            </a:br>
            <a:br>
              <a:rPr sz="1000"/>
            </a:br>
            <a:r>
              <a:rPr b="0" lang="ru-RU" sz="1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>
            <a:hlinkClick r:id="rId1" action="ppaction://hlinksldjump"/>
          </p:cNvPr>
          <p:cNvSpPr/>
          <p:nvPr/>
        </p:nvSpPr>
        <p:spPr>
          <a:xfrm>
            <a:off x="774072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639360"/>
            <a:ext cx="8324640" cy="72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Разработка конспекта дистанционного занятия</a:t>
            </a:r>
            <a:r>
              <a:rPr b="0" i="1" lang="ru-RU" sz="3200" spc="-1" strike="noStrike">
                <a:solidFill>
                  <a:srgbClr val="ffcc66"/>
                </a:solidFill>
                <a:latin typeface="Garamond"/>
              </a:rPr>
              <a:t>.</a:t>
            </a:r>
            <a:r>
              <a:rPr b="0" lang="ru-RU" sz="59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9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5">
            <a:hlinkClick r:id="" action="ppaction://hlinkshowjump?jump=previousslide"/>
          </p:cNvPr>
          <p:cNvSpPr/>
          <p:nvPr/>
        </p:nvSpPr>
        <p:spPr>
          <a:xfrm>
            <a:off x="817236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10800"/>
                </a:moveTo>
                <a:lnTo>
                  <a:pt x="25042" y="3794"/>
                </a:lnTo>
                <a:lnTo>
                  <a:pt x="2504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6">
            <a:hlinkClick r:id="rId1" action="ppaction://hlinksldjump"/>
          </p:cNvPr>
          <p:cNvSpPr/>
          <p:nvPr/>
        </p:nvSpPr>
        <p:spPr>
          <a:xfrm>
            <a:off x="781200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j0299125"/>
          <p:cNvPicPr/>
          <p:nvPr/>
        </p:nvPicPr>
        <p:blipFill>
          <a:blip r:embed="rId2"/>
          <a:stretch/>
        </p:blipFill>
        <p:spPr>
          <a:xfrm>
            <a:off x="1692360" y="4941720"/>
            <a:ext cx="1873080" cy="165600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1"/>
          <p:cNvSpPr/>
          <p:nvPr/>
        </p:nvSpPr>
        <p:spPr>
          <a:xfrm>
            <a:off x="1619280" y="2060640"/>
            <a:ext cx="7056360" cy="3168720"/>
          </a:xfrm>
          <a:custGeom>
            <a:avLst/>
            <a:gdLst>
              <a:gd name="textAreaLeft" fmla="*/ 0 w 7056360"/>
              <a:gd name="textAreaRight" fmla="*/ 7056720 w 7056360"/>
              <a:gd name="textAreaTop" fmla="*/ 410760 h 3168720"/>
              <a:gd name="textAreaBottom" fmla="*/ 275796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Конспект разрабатывается по предложенной оргкомитетом сх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 одну из тем выбранного общеобразовательного предм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Материалы занятия могут быть размеще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 веб-сайта для использования их на практи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3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6080" y="455400"/>
            <a:ext cx="7385040" cy="73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иведем фрагмент дискуссии финалистов конкурса</a:t>
            </a:r>
            <a:r>
              <a:rPr b="0" lang="ru-RU" sz="5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Соцков Андрей Владимир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Вопрос:</a:t>
            </a: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4">
            <a:hlinkClick r:id="" action="ppaction://hlinkshowjump?jump=nextslide"/>
          </p:cNvPr>
          <p:cNvSpPr/>
          <p:nvPr/>
        </p:nvSpPr>
        <p:spPr>
          <a:xfrm>
            <a:off x="8532720" y="6381720"/>
            <a:ext cx="468360" cy="216000"/>
          </a:xfrm>
          <a:custGeom>
            <a:avLst/>
            <a:gdLst>
              <a:gd name="textAreaLeft" fmla="*/ 13680 w 468360"/>
              <a:gd name="textAreaRight" fmla="*/ 454680 w 468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6794" h="21600">
                <a:moveTo>
                  <a:pt x="0" y="0"/>
                </a:moveTo>
                <a:lnTo>
                  <a:pt x="46794" y="0"/>
                </a:lnTo>
                <a:lnTo>
                  <a:pt x="46794" y="21600"/>
                </a:lnTo>
                <a:lnTo>
                  <a:pt x="0" y="21600"/>
                </a:lnTo>
                <a:close/>
              </a:path>
              <a:path fill="lightenLess" w="46794" h="21600">
                <a:moveTo>
                  <a:pt x="0" y="0"/>
                </a:moveTo>
                <a:lnTo>
                  <a:pt x="46794" y="0"/>
                </a:lnTo>
                <a:lnTo>
                  <a:pt x="45394" y="1400"/>
                </a:lnTo>
                <a:lnTo>
                  <a:pt x="1400" y="1400"/>
                </a:lnTo>
                <a:close/>
              </a:path>
              <a:path fill="darken" w="46794" h="21600">
                <a:moveTo>
                  <a:pt x="46794" y="0"/>
                </a:moveTo>
                <a:lnTo>
                  <a:pt x="46794" y="21600"/>
                </a:lnTo>
                <a:lnTo>
                  <a:pt x="45394" y="20200"/>
                </a:lnTo>
                <a:lnTo>
                  <a:pt x="45394" y="1400"/>
                </a:lnTo>
                <a:close/>
              </a:path>
              <a:path fill="darkenLess" w="46794" h="21600">
                <a:moveTo>
                  <a:pt x="46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4" y="20200"/>
                </a:lnTo>
                <a:close/>
              </a:path>
              <a:path fill="lighten" w="46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4" h="21600">
                <a:moveTo>
                  <a:pt x="16391" y="3794"/>
                </a:moveTo>
                <a:lnTo>
                  <a:pt x="30403" y="10800"/>
                </a:lnTo>
                <a:lnTo>
                  <a:pt x="16391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>
            <a:hlinkClick r:id="" action="ppaction://hlinkshowjump?jump=previousslide"/>
          </p:cNvPr>
          <p:cNvSpPr/>
          <p:nvPr/>
        </p:nvSpPr>
        <p:spPr>
          <a:xfrm>
            <a:off x="8101080" y="6381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>
            <a:hlinkClick r:id="rId1" action="ppaction://hlinksldjump"/>
          </p:cNvPr>
          <p:cNvSpPr/>
          <p:nvPr/>
        </p:nvSpPr>
        <p:spPr>
          <a:xfrm>
            <a:off x="7740720" y="638172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8006" y="3837"/>
                </a:moveTo>
                <a:lnTo>
                  <a:pt x="20582" y="6448"/>
                </a:ln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lnTo>
                  <a:pt x="24969" y="10800"/>
                </a:lnTo>
                <a:lnTo>
                  <a:pt x="23315" y="10800"/>
                </a:lnTo>
                <a:lnTo>
                  <a:pt x="23315" y="17989"/>
                </a:lnTo>
                <a:lnTo>
                  <a:pt x="12697" y="17989"/>
                </a:lnTo>
                <a:lnTo>
                  <a:pt x="12697" y="10800"/>
                </a:lnTo>
                <a:lnTo>
                  <a:pt x="11043" y="10800"/>
                </a:lnTo>
                <a:close/>
              </a:path>
              <a:path fill="darkenLess" w="36012" h="21600">
                <a:moveTo>
                  <a:pt x="20582" y="6448"/>
                </a:move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close/>
              </a:path>
              <a:path fill="darkenLess" w="36012" h="21600">
                <a:moveTo>
                  <a:pt x="17083" y="14299"/>
                </a:moveTo>
                <a:lnTo>
                  <a:pt x="18929" y="14299"/>
                </a:lnTo>
                <a:lnTo>
                  <a:pt x="18929" y="17989"/>
                </a:lnTo>
                <a:lnTo>
                  <a:pt x="23315" y="17989"/>
                </a:lnTo>
                <a:lnTo>
                  <a:pt x="23315" y="10800"/>
                </a:lnTo>
                <a:lnTo>
                  <a:pt x="12697" y="10800"/>
                </a:lnTo>
                <a:lnTo>
                  <a:pt x="12697" y="17989"/>
                </a:lnTo>
                <a:lnTo>
                  <a:pt x="1708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692360" y="2997360"/>
            <a:ext cx="6983280" cy="2663640"/>
          </a:xfrm>
          <a:prstGeom prst="horizontalScroll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 помощью чего следует задать мотивацию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дистанционном обучен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0040" y="723600"/>
            <a:ext cx="8325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ОТВЕТЫ: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58800" y="1816200"/>
            <a:ext cx="7072560" cy="421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ff"/>
                </a:solidFill>
                <a:uFillTx/>
                <a:latin typeface="Times New Roman"/>
              </a:rPr>
              <a:t>Монахов Олег Валерь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К вопросу о мо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774072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042920" y="2637000"/>
            <a:ext cx="7201080" cy="3816360"/>
          </a:xfrm>
          <a:prstGeom prst="horizontalScroll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Мотивация учеников, живущих в отдаленных регион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- недостаток или недостаточ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уровень преподаваемого материала они должны стремить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осполнить дистанционно, используя ресурсы Интерн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 крупных городах  полно образовательных учреждений  куд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можно пойти учиться, отсюда отсутствие мотивации 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спользованию дистанционных мето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Самосушев Виктор Леонид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5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774072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1763640" y="2637000"/>
            <a:ext cx="6985080" cy="3068640"/>
          </a:xfrm>
          <a:prstGeom prst="horizontalScroll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наше время многие способные учащиеся лиш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достаточного количества знаний, поэто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ни вынуждены обратиться к дистанционн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бразованию, чтобы насыт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вой интеллектуальный аппет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90040" y="723600"/>
            <a:ext cx="8325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Garamond"/>
              </a:rPr>
              <a:t>Вопросы :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очему многие страны озабочены подготовкой педагогических кадров способных работать с информацие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Какие причины наталкивают общество на создание единого информационно-образовательного пространства для подготовки педагогических кадр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еречислите основные требования информационно-образовательных ресурсов сети для системы повышения квалифик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Какие существуют дистанционные формы повышения квалификации работников образова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еречислите преимущества дистантных форм повышения квалификации перед очны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>
            <a:hlinkClick r:id="" action="ppaction://hlinkshowjump?jump=nextslide"/>
          </p:cNvPr>
          <p:cNvSpPr/>
          <p:nvPr/>
        </p:nvSpPr>
        <p:spPr>
          <a:xfrm>
            <a:off x="860436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25042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5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10800"/>
                </a:moveTo>
                <a:lnTo>
                  <a:pt x="25042" y="3794"/>
                </a:lnTo>
                <a:lnTo>
                  <a:pt x="2504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7885080" y="6453360"/>
            <a:ext cx="358920" cy="215640"/>
          </a:xfrm>
          <a:custGeom>
            <a:avLst/>
            <a:gdLst>
              <a:gd name="textAreaLeft" fmla="*/ 13680 w 358920"/>
              <a:gd name="textAreaRight" fmla="*/ 345240 w 3589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5928" h="21600">
                <a:moveTo>
                  <a:pt x="0" y="0"/>
                </a:moveTo>
                <a:lnTo>
                  <a:pt x="35928" y="0"/>
                </a:lnTo>
                <a:lnTo>
                  <a:pt x="35928" y="21600"/>
                </a:lnTo>
                <a:lnTo>
                  <a:pt x="0" y="21600"/>
                </a:lnTo>
                <a:close/>
              </a:path>
              <a:path fill="lightenLess" w="35928" h="21600">
                <a:moveTo>
                  <a:pt x="0" y="0"/>
                </a:moveTo>
                <a:lnTo>
                  <a:pt x="35928" y="0"/>
                </a:lnTo>
                <a:lnTo>
                  <a:pt x="34528" y="1400"/>
                </a:lnTo>
                <a:lnTo>
                  <a:pt x="1400" y="1400"/>
                </a:lnTo>
                <a:close/>
              </a:path>
              <a:path fill="darken" w="35928" h="21600">
                <a:moveTo>
                  <a:pt x="35928" y="0"/>
                </a:moveTo>
                <a:lnTo>
                  <a:pt x="35928" y="21600"/>
                </a:lnTo>
                <a:lnTo>
                  <a:pt x="34528" y="20200"/>
                </a:lnTo>
                <a:lnTo>
                  <a:pt x="34528" y="1400"/>
                </a:lnTo>
                <a:close/>
              </a:path>
              <a:path fill="darkenLess" w="35928" h="21600">
                <a:moveTo>
                  <a:pt x="35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28" y="20200"/>
                </a:lnTo>
                <a:close/>
              </a:path>
              <a:path fill="lighten" w="35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28" h="21600">
                <a:moveTo>
                  <a:pt x="17964" y="3837"/>
                </a:moveTo>
                <a:lnTo>
                  <a:pt x="20540" y="6448"/>
                </a:lnTo>
                <a:lnTo>
                  <a:pt x="20540" y="4707"/>
                </a:lnTo>
                <a:lnTo>
                  <a:pt x="22316" y="4707"/>
                </a:lnTo>
                <a:lnTo>
                  <a:pt x="22316" y="8224"/>
                </a:lnTo>
                <a:lnTo>
                  <a:pt x="24927" y="10800"/>
                </a:lnTo>
                <a:lnTo>
                  <a:pt x="23273" y="10800"/>
                </a:lnTo>
                <a:lnTo>
                  <a:pt x="23273" y="17989"/>
                </a:lnTo>
                <a:lnTo>
                  <a:pt x="12655" y="17989"/>
                </a:lnTo>
                <a:lnTo>
                  <a:pt x="12655" y="10800"/>
                </a:lnTo>
                <a:lnTo>
                  <a:pt x="11001" y="10800"/>
                </a:lnTo>
                <a:close/>
              </a:path>
              <a:path fill="darkenLess" w="35928" h="21600">
                <a:moveTo>
                  <a:pt x="20540" y="6448"/>
                </a:moveTo>
                <a:lnTo>
                  <a:pt x="20540" y="4707"/>
                </a:lnTo>
                <a:lnTo>
                  <a:pt x="22316" y="4707"/>
                </a:lnTo>
                <a:lnTo>
                  <a:pt x="22316" y="8224"/>
                </a:lnTo>
                <a:close/>
              </a:path>
              <a:path fill="darkenLess" w="35928" h="21600">
                <a:moveTo>
                  <a:pt x="17041" y="14299"/>
                </a:moveTo>
                <a:lnTo>
                  <a:pt x="18887" y="14299"/>
                </a:lnTo>
                <a:lnTo>
                  <a:pt x="18887" y="17989"/>
                </a:lnTo>
                <a:lnTo>
                  <a:pt x="23273" y="17989"/>
                </a:lnTo>
                <a:lnTo>
                  <a:pt x="23273" y="10800"/>
                </a:lnTo>
                <a:lnTo>
                  <a:pt x="12655" y="10800"/>
                </a:lnTo>
                <a:lnTo>
                  <a:pt x="12655" y="17989"/>
                </a:lnTo>
                <a:lnTo>
                  <a:pt x="17041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0040" y="723600"/>
            <a:ext cx="8325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Garamond"/>
              </a:rPr>
              <a:t>Практические задания :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Докажите на примерах, что рефлексивный подход является преимущественным условием дистанционного повышения квалификации педагогических кад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ридумайте свою тему конференции, относящуюся к проблемам дистанционного повышения квалификации работников образования. Обоснуйте ее актуаль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360360" cy="217440"/>
          </a:xfrm>
          <a:custGeom>
            <a:avLst/>
            <a:gdLst>
              <a:gd name="textAreaLeft" fmla="*/ 14040 w 360360"/>
              <a:gd name="textAreaRight" fmla="*/ 346320 w 360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374" y="1400"/>
                </a:lnTo>
                <a:lnTo>
                  <a:pt x="1400" y="140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374" y="20200"/>
                </a:lnTo>
                <a:lnTo>
                  <a:pt x="34374" y="140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74" y="2020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74" h="21600">
                <a:moveTo>
                  <a:pt x="10880" y="3794"/>
                </a:moveTo>
                <a:lnTo>
                  <a:pt x="24893" y="10800"/>
                </a:lnTo>
                <a:lnTo>
                  <a:pt x="108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5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358560" cy="217440"/>
          </a:xfrm>
          <a:custGeom>
            <a:avLst/>
            <a:gdLst>
              <a:gd name="textAreaLeft" fmla="*/ 14040 w 358560"/>
              <a:gd name="textAreaRight" fmla="*/ 344520 w 3585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595" h="21600">
                <a:moveTo>
                  <a:pt x="0" y="0"/>
                </a:moveTo>
                <a:lnTo>
                  <a:pt x="35595" y="0"/>
                </a:lnTo>
                <a:lnTo>
                  <a:pt x="35595" y="21600"/>
                </a:lnTo>
                <a:lnTo>
                  <a:pt x="0" y="21600"/>
                </a:lnTo>
                <a:close/>
              </a:path>
              <a:path fill="lightenLess" w="35595" h="21600">
                <a:moveTo>
                  <a:pt x="0" y="0"/>
                </a:moveTo>
                <a:lnTo>
                  <a:pt x="35595" y="0"/>
                </a:lnTo>
                <a:lnTo>
                  <a:pt x="34195" y="1400"/>
                </a:lnTo>
                <a:lnTo>
                  <a:pt x="1400" y="1400"/>
                </a:lnTo>
                <a:close/>
              </a:path>
              <a:path fill="darken" w="35595" h="21600">
                <a:moveTo>
                  <a:pt x="35595" y="0"/>
                </a:moveTo>
                <a:lnTo>
                  <a:pt x="35595" y="21600"/>
                </a:lnTo>
                <a:lnTo>
                  <a:pt x="34195" y="20200"/>
                </a:lnTo>
                <a:lnTo>
                  <a:pt x="34195" y="1400"/>
                </a:lnTo>
                <a:close/>
              </a:path>
              <a:path fill="darkenLess" w="35595" h="21600">
                <a:moveTo>
                  <a:pt x="35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5" y="20200"/>
                </a:lnTo>
                <a:close/>
              </a:path>
              <a:path fill="lighten" w="35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595" h="21600">
                <a:moveTo>
                  <a:pt x="10791" y="10800"/>
                </a:moveTo>
                <a:lnTo>
                  <a:pt x="24804" y="3794"/>
                </a:lnTo>
                <a:lnTo>
                  <a:pt x="2480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774072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723600"/>
            <a:ext cx="8325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Содержание: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700280"/>
            <a:ext cx="80010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Курсы по подготовке и переподготовке учителей дистанционного об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Дистанционная форма повышения квалификации работников обра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Дистанционные педагогические конфер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Этапы дистанционной конферен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сероссийский конкурс «Дистанционный учитель года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роблемы дистанционного обучения и пути их ре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роведение дистанционного уро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опросы к ле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рактические зад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ыв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8821800" y="1989000"/>
            <a:ext cx="322200" cy="216000"/>
          </a:xfrm>
          <a:custGeom>
            <a:avLst/>
            <a:gdLst>
              <a:gd name="textAreaLeft" fmla="*/ 13680 w 322200"/>
              <a:gd name="textAreaRight" fmla="*/ 308520 w 3222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202" h="21600">
                <a:moveTo>
                  <a:pt x="0" y="0"/>
                </a:moveTo>
                <a:lnTo>
                  <a:pt x="32202" y="0"/>
                </a:lnTo>
                <a:lnTo>
                  <a:pt x="32202" y="21600"/>
                </a:lnTo>
                <a:lnTo>
                  <a:pt x="0" y="21600"/>
                </a:lnTo>
                <a:close/>
              </a:path>
              <a:path fill="lightenLess" w="32202" h="21600">
                <a:moveTo>
                  <a:pt x="0" y="0"/>
                </a:moveTo>
                <a:lnTo>
                  <a:pt x="32202" y="0"/>
                </a:lnTo>
                <a:lnTo>
                  <a:pt x="30802" y="1400"/>
                </a:lnTo>
                <a:lnTo>
                  <a:pt x="1400" y="1400"/>
                </a:lnTo>
                <a:close/>
              </a:path>
              <a:path fill="darken" w="32202" h="21600">
                <a:moveTo>
                  <a:pt x="32202" y="0"/>
                </a:moveTo>
                <a:lnTo>
                  <a:pt x="32202" y="21600"/>
                </a:lnTo>
                <a:lnTo>
                  <a:pt x="30802" y="20200"/>
                </a:lnTo>
                <a:lnTo>
                  <a:pt x="30802" y="1400"/>
                </a:lnTo>
                <a:close/>
              </a:path>
              <a:path fill="darkenLess" w="32202" h="21600">
                <a:moveTo>
                  <a:pt x="32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02" y="20200"/>
                </a:lnTo>
                <a:close/>
              </a:path>
              <a:path fill="lighten" w="32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02" h="21600">
                <a:moveTo>
                  <a:pt x="9095" y="3794"/>
                </a:moveTo>
                <a:lnTo>
                  <a:pt x="23108" y="10800"/>
                </a:lnTo>
                <a:lnTo>
                  <a:pt x="909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5">
            <a:hlinkClick r:id="rId2" action="ppaction://hlinksldjump"/>
          </p:cNvPr>
          <p:cNvSpPr/>
          <p:nvPr/>
        </p:nvSpPr>
        <p:spPr>
          <a:xfrm>
            <a:off x="8820000" y="270828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6">
            <a:hlinkClick r:id="rId3" action="ppaction://hlinksldjump"/>
          </p:cNvPr>
          <p:cNvSpPr/>
          <p:nvPr/>
        </p:nvSpPr>
        <p:spPr>
          <a:xfrm>
            <a:off x="8820000" y="306864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>
            <a:hlinkClick r:id="rId4" action="ppaction://hlinksldjump"/>
          </p:cNvPr>
          <p:cNvSpPr/>
          <p:nvPr/>
        </p:nvSpPr>
        <p:spPr>
          <a:xfrm>
            <a:off x="8820000" y="350028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>
            <a:hlinkClick r:id="rId5" action="ppaction://hlinksldjump"/>
          </p:cNvPr>
          <p:cNvSpPr/>
          <p:nvPr/>
        </p:nvSpPr>
        <p:spPr>
          <a:xfrm>
            <a:off x="8820000" y="429264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">
            <a:hlinkClick r:id="rId6" action="ppaction://hlinksldjump"/>
          </p:cNvPr>
          <p:cNvSpPr/>
          <p:nvPr/>
        </p:nvSpPr>
        <p:spPr>
          <a:xfrm>
            <a:off x="8820000" y="472428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0">
            <a:hlinkClick r:id="rId7" action="ppaction://hlinksldjump"/>
          </p:cNvPr>
          <p:cNvSpPr/>
          <p:nvPr/>
        </p:nvSpPr>
        <p:spPr>
          <a:xfrm>
            <a:off x="8820000" y="515772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2">
            <a:hlinkClick r:id="rId8" action="ppaction://hlinksldjump"/>
          </p:cNvPr>
          <p:cNvSpPr/>
          <p:nvPr/>
        </p:nvSpPr>
        <p:spPr>
          <a:xfrm>
            <a:off x="8820000" y="5589720"/>
            <a:ext cx="324000" cy="21564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2436" h="21600">
                <a:moveTo>
                  <a:pt x="0" y="0"/>
                </a:moveTo>
                <a:lnTo>
                  <a:pt x="32436" y="0"/>
                </a:lnTo>
                <a:lnTo>
                  <a:pt x="32436" y="21600"/>
                </a:lnTo>
                <a:lnTo>
                  <a:pt x="0" y="21600"/>
                </a:lnTo>
                <a:close/>
              </a:path>
              <a:path fill="lightenLess" w="32436" h="21600">
                <a:moveTo>
                  <a:pt x="0" y="0"/>
                </a:moveTo>
                <a:lnTo>
                  <a:pt x="32436" y="0"/>
                </a:lnTo>
                <a:lnTo>
                  <a:pt x="31036" y="1400"/>
                </a:lnTo>
                <a:lnTo>
                  <a:pt x="1400" y="1400"/>
                </a:lnTo>
                <a:close/>
              </a:path>
              <a:path fill="darken" w="32436" h="21600">
                <a:moveTo>
                  <a:pt x="32436" y="0"/>
                </a:moveTo>
                <a:lnTo>
                  <a:pt x="32436" y="21600"/>
                </a:lnTo>
                <a:lnTo>
                  <a:pt x="31036" y="20200"/>
                </a:lnTo>
                <a:lnTo>
                  <a:pt x="31036" y="1400"/>
                </a:lnTo>
                <a:close/>
              </a:path>
              <a:path fill="darkenLess" w="32436" h="21600">
                <a:moveTo>
                  <a:pt x="32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6" y="20200"/>
                </a:lnTo>
                <a:close/>
              </a:path>
              <a:path fill="lighten" w="32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6" h="21600">
                <a:moveTo>
                  <a:pt x="9212" y="3794"/>
                </a:moveTo>
                <a:lnTo>
                  <a:pt x="23224" y="10800"/>
                </a:lnTo>
                <a:lnTo>
                  <a:pt x="92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3">
            <a:hlinkClick r:id="rId9" action="ppaction://hlinksldjump"/>
          </p:cNvPr>
          <p:cNvSpPr/>
          <p:nvPr/>
        </p:nvSpPr>
        <p:spPr>
          <a:xfrm>
            <a:off x="8388360" y="5013360"/>
            <a:ext cx="538200" cy="360360"/>
          </a:xfrm>
          <a:custGeom>
            <a:avLst/>
            <a:gdLst>
              <a:gd name="textAreaLeft" fmla="*/ 23040 w 538200"/>
              <a:gd name="textAreaRight" fmla="*/ 515160 w 5382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249" h="21600">
                <a:moveTo>
                  <a:pt x="0" y="0"/>
                </a:moveTo>
                <a:lnTo>
                  <a:pt x="32249" y="0"/>
                </a:lnTo>
                <a:lnTo>
                  <a:pt x="32249" y="21600"/>
                </a:lnTo>
                <a:lnTo>
                  <a:pt x="0" y="21600"/>
                </a:lnTo>
                <a:close/>
              </a:path>
              <a:path fill="lightenLess" w="32249" h="21600">
                <a:moveTo>
                  <a:pt x="0" y="0"/>
                </a:moveTo>
                <a:lnTo>
                  <a:pt x="32249" y="0"/>
                </a:lnTo>
                <a:lnTo>
                  <a:pt x="30849" y="1400"/>
                </a:lnTo>
                <a:lnTo>
                  <a:pt x="1400" y="1400"/>
                </a:lnTo>
                <a:close/>
              </a:path>
              <a:path fill="darken" w="32249" h="21600">
                <a:moveTo>
                  <a:pt x="32249" y="0"/>
                </a:moveTo>
                <a:lnTo>
                  <a:pt x="32249" y="21600"/>
                </a:lnTo>
                <a:lnTo>
                  <a:pt x="30849" y="20200"/>
                </a:lnTo>
                <a:lnTo>
                  <a:pt x="30849" y="1400"/>
                </a:lnTo>
                <a:close/>
              </a:path>
              <a:path fill="darkenLess" w="32249" h="21600">
                <a:moveTo>
                  <a:pt x="32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49" y="20200"/>
                </a:lnTo>
                <a:close/>
              </a:path>
              <a:path fill="lighten" w="32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49" h="21600">
                <a:moveTo>
                  <a:pt x="9118" y="3794"/>
                </a:moveTo>
                <a:lnTo>
                  <a:pt x="23131" y="10800"/>
                </a:lnTo>
                <a:lnTo>
                  <a:pt x="911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4">
            <a:hlinkClick r:id="rId10" action="ppaction://hlinksldjump"/>
          </p:cNvPr>
          <p:cNvSpPr/>
          <p:nvPr/>
        </p:nvSpPr>
        <p:spPr>
          <a:xfrm rot="943800">
            <a:off x="5508360" y="544500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3794"/>
                </a:moveTo>
                <a:lnTo>
                  <a:pt x="32978" y="10800"/>
                </a:lnTo>
                <a:lnTo>
                  <a:pt x="1896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5">
            <a:hlinkClick r:id="rId11" action="ppaction://hlinksldjump"/>
          </p:cNvPr>
          <p:cNvSpPr/>
          <p:nvPr/>
        </p:nvSpPr>
        <p:spPr>
          <a:xfrm>
            <a:off x="8820000" y="5950080"/>
            <a:ext cx="324000" cy="21564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2436" h="21600">
                <a:moveTo>
                  <a:pt x="0" y="0"/>
                </a:moveTo>
                <a:lnTo>
                  <a:pt x="32436" y="0"/>
                </a:lnTo>
                <a:lnTo>
                  <a:pt x="32436" y="21600"/>
                </a:lnTo>
                <a:lnTo>
                  <a:pt x="0" y="21600"/>
                </a:lnTo>
                <a:close/>
              </a:path>
              <a:path fill="lightenLess" w="32436" h="21600">
                <a:moveTo>
                  <a:pt x="0" y="0"/>
                </a:moveTo>
                <a:lnTo>
                  <a:pt x="32436" y="0"/>
                </a:lnTo>
                <a:lnTo>
                  <a:pt x="31036" y="1400"/>
                </a:lnTo>
                <a:lnTo>
                  <a:pt x="1400" y="1400"/>
                </a:lnTo>
                <a:close/>
              </a:path>
              <a:path fill="darken" w="32436" h="21600">
                <a:moveTo>
                  <a:pt x="32436" y="0"/>
                </a:moveTo>
                <a:lnTo>
                  <a:pt x="32436" y="21600"/>
                </a:lnTo>
                <a:lnTo>
                  <a:pt x="31036" y="20200"/>
                </a:lnTo>
                <a:lnTo>
                  <a:pt x="31036" y="1400"/>
                </a:lnTo>
                <a:close/>
              </a:path>
              <a:path fill="darkenLess" w="32436" h="21600">
                <a:moveTo>
                  <a:pt x="32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6" y="20200"/>
                </a:lnTo>
                <a:close/>
              </a:path>
              <a:path fill="lighten" w="32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6" h="21600">
                <a:moveTo>
                  <a:pt x="9212" y="3794"/>
                </a:moveTo>
                <a:lnTo>
                  <a:pt x="23224" y="10800"/>
                </a:lnTo>
                <a:lnTo>
                  <a:pt x="92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6">
            <a:hlinkClick r:id="rId12" action="ppaction://hlinksldjump"/>
          </p:cNvPr>
          <p:cNvSpPr/>
          <p:nvPr/>
        </p:nvSpPr>
        <p:spPr>
          <a:xfrm>
            <a:off x="8820000" y="630864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13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58720" y="658440"/>
            <a:ext cx="71485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Вывод: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Дистанционное обучения в настоящее врем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является наиболее эффективным способом повышения квалификации работников в сфере образо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Оно помогает быстрее освоить нововведения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системе образования и в педагогическом процессе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4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10800"/>
                </a:moveTo>
                <a:lnTo>
                  <a:pt x="25012" y="3794"/>
                </a:lnTo>
                <a:lnTo>
                  <a:pt x="250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7956720" y="638172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8006" y="3837"/>
                </a:moveTo>
                <a:lnTo>
                  <a:pt x="20582" y="6448"/>
                </a:ln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lnTo>
                  <a:pt x="24969" y="10800"/>
                </a:lnTo>
                <a:lnTo>
                  <a:pt x="23315" y="10800"/>
                </a:lnTo>
                <a:lnTo>
                  <a:pt x="23315" y="17989"/>
                </a:lnTo>
                <a:lnTo>
                  <a:pt x="12697" y="17989"/>
                </a:lnTo>
                <a:lnTo>
                  <a:pt x="12697" y="10800"/>
                </a:lnTo>
                <a:lnTo>
                  <a:pt x="11043" y="10800"/>
                </a:lnTo>
                <a:close/>
              </a:path>
              <a:path fill="darkenLess" w="36012" h="21600">
                <a:moveTo>
                  <a:pt x="20582" y="6448"/>
                </a:move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close/>
              </a:path>
              <a:path fill="darkenLess" w="36012" h="21600">
                <a:moveTo>
                  <a:pt x="17083" y="14299"/>
                </a:moveTo>
                <a:lnTo>
                  <a:pt x="18929" y="14299"/>
                </a:lnTo>
                <a:lnTo>
                  <a:pt x="18929" y="17989"/>
                </a:lnTo>
                <a:lnTo>
                  <a:pt x="23315" y="17989"/>
                </a:lnTo>
                <a:lnTo>
                  <a:pt x="23315" y="10800"/>
                </a:lnTo>
                <a:lnTo>
                  <a:pt x="12697" y="10800"/>
                </a:lnTo>
                <a:lnTo>
                  <a:pt x="12697" y="17989"/>
                </a:lnTo>
                <a:lnTo>
                  <a:pt x="1708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>
            <a:hlinkClick r:id="" action="ppaction://hlinkshowjump?jump=firstslide"/>
          </p:cNvPr>
          <p:cNvSpPr/>
          <p:nvPr/>
        </p:nvSpPr>
        <p:spPr>
          <a:xfrm>
            <a:off x="752472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7493"/>
                </a:moveTo>
                <a:lnTo>
                  <a:pt x="18083" y="7493"/>
                </a:lnTo>
                <a:lnTo>
                  <a:pt x="18083" y="12828"/>
                </a:lnTo>
                <a:cubicBezTo>
                  <a:pt x="18083" y="13751"/>
                  <a:pt x="18884" y="14482"/>
                  <a:pt x="19920" y="14482"/>
                </a:cubicBezTo>
                <a:lnTo>
                  <a:pt x="21582" y="14482"/>
                </a:lnTo>
                <a:cubicBezTo>
                  <a:pt x="22618" y="14482"/>
                  <a:pt x="23419" y="13751"/>
                  <a:pt x="23419" y="12828"/>
                </a:cubicBezTo>
                <a:lnTo>
                  <a:pt x="23419" y="7493"/>
                </a:lnTo>
                <a:lnTo>
                  <a:pt x="21582" y="7493"/>
                </a:lnTo>
                <a:lnTo>
                  <a:pt x="25090" y="3985"/>
                </a:lnTo>
                <a:lnTo>
                  <a:pt x="28763" y="7493"/>
                </a:lnTo>
                <a:lnTo>
                  <a:pt x="26926" y="7493"/>
                </a:lnTo>
                <a:lnTo>
                  <a:pt x="26926" y="12828"/>
                </a:lnTo>
                <a:cubicBezTo>
                  <a:pt x="26926" y="15596"/>
                  <a:pt x="24350" y="18155"/>
                  <a:pt x="21582" y="18155"/>
                </a:cubicBezTo>
                <a:lnTo>
                  <a:pt x="19920" y="18155"/>
                </a:lnTo>
                <a:cubicBezTo>
                  <a:pt x="17152" y="18155"/>
                  <a:pt x="14576" y="15596"/>
                  <a:pt x="14576" y="12828"/>
                </a:cubicBez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">
            <a:hlinkClick r:id="" action="ppaction://hlinkshowjump?jump=nextslide"/>
          </p:cNvPr>
          <p:cNvSpPr/>
          <p:nvPr/>
        </p:nvSpPr>
        <p:spPr>
          <a:xfrm>
            <a:off x="8675640" y="638172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3794"/>
                </a:moveTo>
                <a:lnTo>
                  <a:pt x="23197" y="10800"/>
                </a:lnTo>
                <a:lnTo>
                  <a:pt x="9185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j0195384"/>
          <p:cNvPicPr/>
          <p:nvPr/>
        </p:nvPicPr>
        <p:blipFill>
          <a:blip r:embed="rId1"/>
          <a:stretch/>
        </p:blipFill>
        <p:spPr>
          <a:xfrm>
            <a:off x="395280" y="4797360"/>
            <a:ext cx="1870200" cy="180180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wind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Чт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преподавание — искусство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, и чт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истинный учител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— артист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, — общепризнанно. Но право самого учителя считаться артистом измеряется его умением воспитать настроение артиста в тех, с кем он занимается, будь то юноши или маленькие де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Дж.Дью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317080" y="6453360"/>
            <a:ext cx="576000" cy="215640"/>
          </a:xfrm>
          <a:custGeom>
            <a:avLst/>
            <a:gdLst>
              <a:gd name="textAreaLeft" fmla="*/ 13680 w 576000"/>
              <a:gd name="textAreaRight" fmla="*/ 562320 w 57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36" h="21600">
                <a:moveTo>
                  <a:pt x="21812" y="3794"/>
                </a:moveTo>
                <a:lnTo>
                  <a:pt x="35824" y="10800"/>
                </a:lnTo>
                <a:lnTo>
                  <a:pt x="218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j0301252"/>
          <p:cNvPicPr/>
          <p:nvPr/>
        </p:nvPicPr>
        <p:blipFill>
          <a:blip r:embed="rId1"/>
          <a:stretch/>
        </p:blipFill>
        <p:spPr>
          <a:xfrm>
            <a:off x="3419640" y="4221000"/>
            <a:ext cx="3095640" cy="23767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86080" y="585720"/>
            <a:ext cx="738504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Курсы по подготовке и переподготовке учителей дистанционного обучения</a:t>
            </a:r>
            <a:r>
              <a:rPr b="0" lang="ru-RU" sz="48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81360" y="1815840"/>
            <a:ext cx="6750000" cy="43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«Общие проблемы использования интернет-технологий в системе образован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«Дистанционное образование — новая форма образован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«Педагогические технологии дистанционного обучени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«Преподаватель дистанционного обучения» и друг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4">
            <a:hlinkClick r:id="" action="ppaction://hlinkshowjump?jump=nextslide"/>
          </p:cNvPr>
          <p:cNvSpPr/>
          <p:nvPr/>
        </p:nvSpPr>
        <p:spPr>
          <a:xfrm>
            <a:off x="853272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3794"/>
                </a:moveTo>
                <a:lnTo>
                  <a:pt x="23240" y="10800"/>
                </a:lnTo>
                <a:lnTo>
                  <a:pt x="9227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>
            <a:hlinkClick r:id="rId1" action="ppaction://hlinksldjump"/>
          </p:cNvPr>
          <p:cNvSpPr/>
          <p:nvPr/>
        </p:nvSpPr>
        <p:spPr>
          <a:xfrm>
            <a:off x="7596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837"/>
                </a:moveTo>
                <a:lnTo>
                  <a:pt x="16120" y="6448"/>
                </a:ln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lnTo>
                  <a:pt x="20507" y="10800"/>
                </a:lnTo>
                <a:lnTo>
                  <a:pt x="18853" y="10800"/>
                </a:lnTo>
                <a:lnTo>
                  <a:pt x="18853" y="17989"/>
                </a:lnTo>
                <a:lnTo>
                  <a:pt x="8235" y="17989"/>
                </a:lnTo>
                <a:lnTo>
                  <a:pt x="8235" y="10800"/>
                </a:lnTo>
                <a:lnTo>
                  <a:pt x="6581" y="10800"/>
                </a:lnTo>
                <a:close/>
              </a:path>
              <a:path fill="darkenLess" w="27088" h="21600">
                <a:moveTo>
                  <a:pt x="16120" y="6448"/>
                </a:moveTo>
                <a:lnTo>
                  <a:pt x="16120" y="4707"/>
                </a:lnTo>
                <a:lnTo>
                  <a:pt x="17896" y="4707"/>
                </a:lnTo>
                <a:lnTo>
                  <a:pt x="17896" y="8224"/>
                </a:lnTo>
                <a:close/>
              </a:path>
              <a:path fill="darkenLess" w="27088" h="21600">
                <a:moveTo>
                  <a:pt x="12621" y="14299"/>
                </a:moveTo>
                <a:lnTo>
                  <a:pt x="14467" y="14299"/>
                </a:lnTo>
                <a:lnTo>
                  <a:pt x="14467" y="17989"/>
                </a:lnTo>
                <a:lnTo>
                  <a:pt x="18853" y="17989"/>
                </a:lnTo>
                <a:lnTo>
                  <a:pt x="18853" y="10800"/>
                </a:lnTo>
                <a:lnTo>
                  <a:pt x="8235" y="10800"/>
                </a:lnTo>
                <a:lnTo>
                  <a:pt x="8235" y="17989"/>
                </a:lnTo>
                <a:lnTo>
                  <a:pt x="12621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2160" y="260280"/>
            <a:ext cx="8691480" cy="8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Дистанционная форма повышения квалификации работников образования</a:t>
            </a:r>
            <a:endParaRPr b="0" lang="en-US" sz="2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8459640" y="6453360"/>
            <a:ext cx="433440" cy="21564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4" y="3794"/>
                </a:moveTo>
                <a:lnTo>
                  <a:pt x="28696" y="10800"/>
                </a:lnTo>
                <a:lnTo>
                  <a:pt x="1468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5">
            <a:hlinkClick r:id="" action="ppaction://hlinkshowjump?jump=previousslide"/>
          </p:cNvPr>
          <p:cNvSpPr/>
          <p:nvPr/>
        </p:nvSpPr>
        <p:spPr>
          <a:xfrm>
            <a:off x="802800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6">
            <a:hlinkClick r:id="rId1" action="ppaction://hlinksldjump"/>
          </p:cNvPr>
          <p:cNvSpPr/>
          <p:nvPr/>
        </p:nvSpPr>
        <p:spPr>
          <a:xfrm>
            <a:off x="766764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20"/>
          <p:cNvSpPr/>
          <p:nvPr/>
        </p:nvSpPr>
        <p:spPr>
          <a:xfrm>
            <a:off x="971640" y="2565360"/>
            <a:ext cx="3529080" cy="360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 flipH="1">
            <a:off x="3994920" y="1557360"/>
            <a:ext cx="2808360" cy="1800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4"/>
          <p:cNvSpPr/>
          <p:nvPr/>
        </p:nvSpPr>
        <p:spPr>
          <a:xfrm>
            <a:off x="324000" y="1844640"/>
            <a:ext cx="2160360" cy="115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395280" y="1628640"/>
            <a:ext cx="3095640" cy="165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826920" y="1773360"/>
            <a:ext cx="2232360" cy="187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37"/>
          <p:cNvSpPr/>
          <p:nvPr/>
        </p:nvSpPr>
        <p:spPr>
          <a:xfrm>
            <a:off x="395280" y="1628640"/>
            <a:ext cx="2232000" cy="144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8"/>
          <p:cNvSpPr/>
          <p:nvPr/>
        </p:nvSpPr>
        <p:spPr>
          <a:xfrm>
            <a:off x="611280" y="1773360"/>
            <a:ext cx="2952720" cy="165564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>
            <a:off x="2843280" y="1557360"/>
            <a:ext cx="2881080" cy="1584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2"/>
          <p:cNvSpPr/>
          <p:nvPr/>
        </p:nvSpPr>
        <p:spPr>
          <a:xfrm>
            <a:off x="1835280" y="1484280"/>
            <a:ext cx="2663640" cy="1800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3"/>
          <p:cNvSpPr/>
          <p:nvPr/>
        </p:nvSpPr>
        <p:spPr>
          <a:xfrm>
            <a:off x="3635280" y="1484280"/>
            <a:ext cx="1873440" cy="1513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4"/>
          <p:cNvSpPr/>
          <p:nvPr/>
        </p:nvSpPr>
        <p:spPr>
          <a:xfrm>
            <a:off x="5003640" y="5300640"/>
            <a:ext cx="1944720" cy="1330200"/>
          </a:xfrm>
          <a:prstGeom prst="borderCallout2">
            <a:avLst>
              <a:gd name="adj1" fmla="val 18750"/>
              <a:gd name="adj2" fmla="val -8333"/>
              <a:gd name="adj3" fmla="val 8592"/>
              <a:gd name="adj4" fmla="val -22041"/>
              <a:gd name="adj5" fmla="val -18495"/>
              <a:gd name="adj6" fmla="val -408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55"/>
          <p:cNvSpPr/>
          <p:nvPr/>
        </p:nvSpPr>
        <p:spPr>
          <a:xfrm>
            <a:off x="250920" y="1557360"/>
            <a:ext cx="1728720" cy="1265040"/>
          </a:xfrm>
          <a:prstGeom prst="borderCallout1">
            <a:avLst>
              <a:gd name="adj1" fmla="val 18750"/>
              <a:gd name="adj2" fmla="val -8333"/>
              <a:gd name="adj3" fmla="val 132120"/>
              <a:gd name="adj4" fmla="val 1560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0"/>
          <p:cNvSpPr/>
          <p:nvPr/>
        </p:nvSpPr>
        <p:spPr>
          <a:xfrm>
            <a:off x="250920" y="1628640"/>
            <a:ext cx="1873080" cy="1584360"/>
          </a:xfrm>
          <a:prstGeom prst="borderCallout1">
            <a:avLst>
              <a:gd name="adj1" fmla="val 18750"/>
              <a:gd name="adj2" fmla="val -8333"/>
              <a:gd name="adj3" fmla="val 20041"/>
              <a:gd name="adj4" fmla="val 21449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Схема 22" descr=""/>
          <p:cNvPicPr/>
          <p:nvPr/>
        </p:nvPicPr>
        <p:blipFill>
          <a:blip r:embed="rId2"/>
          <a:stretch/>
        </p:blipFill>
        <p:spPr>
          <a:xfrm>
            <a:off x="-30240" y="920880"/>
            <a:ext cx="9210600" cy="56131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>
            <a:hlinkClick r:id="" action="ppaction://hlinkshowjump?jump=nextslide"/>
          </p:cNvPr>
          <p:cNvSpPr/>
          <p:nvPr/>
        </p:nvSpPr>
        <p:spPr>
          <a:xfrm>
            <a:off x="8532720" y="6453360"/>
            <a:ext cx="466920" cy="215640"/>
          </a:xfrm>
          <a:custGeom>
            <a:avLst/>
            <a:gdLst>
              <a:gd name="textAreaLeft" fmla="*/ 13680 w 466920"/>
              <a:gd name="textAreaRight" fmla="*/ 453240 w 4669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6728" h="21600">
                <a:moveTo>
                  <a:pt x="0" y="0"/>
                </a:moveTo>
                <a:lnTo>
                  <a:pt x="46728" y="0"/>
                </a:lnTo>
                <a:lnTo>
                  <a:pt x="46728" y="21600"/>
                </a:lnTo>
                <a:lnTo>
                  <a:pt x="0" y="21600"/>
                </a:lnTo>
                <a:close/>
              </a:path>
              <a:path fill="lightenLess" w="46728" h="21600">
                <a:moveTo>
                  <a:pt x="0" y="0"/>
                </a:moveTo>
                <a:lnTo>
                  <a:pt x="46728" y="0"/>
                </a:lnTo>
                <a:lnTo>
                  <a:pt x="45328" y="1400"/>
                </a:lnTo>
                <a:lnTo>
                  <a:pt x="1400" y="1400"/>
                </a:lnTo>
                <a:close/>
              </a:path>
              <a:path fill="darken" w="46728" h="21600">
                <a:moveTo>
                  <a:pt x="46728" y="0"/>
                </a:moveTo>
                <a:lnTo>
                  <a:pt x="46728" y="21600"/>
                </a:lnTo>
                <a:lnTo>
                  <a:pt x="45328" y="20200"/>
                </a:lnTo>
                <a:lnTo>
                  <a:pt x="45328" y="1400"/>
                </a:lnTo>
                <a:close/>
              </a:path>
              <a:path fill="darkenLess" w="46728" h="21600">
                <a:moveTo>
                  <a:pt x="46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8" y="20200"/>
                </a:lnTo>
                <a:close/>
              </a:path>
              <a:path fill="lighten" w="46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8" h="21600">
                <a:moveTo>
                  <a:pt x="16358" y="3794"/>
                </a:moveTo>
                <a:lnTo>
                  <a:pt x="30370" y="10800"/>
                </a:lnTo>
                <a:lnTo>
                  <a:pt x="16358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previousslide"/>
          </p:cNvPr>
          <p:cNvSpPr/>
          <p:nvPr/>
        </p:nvSpPr>
        <p:spPr>
          <a:xfrm>
            <a:off x="8028000" y="645336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18248" y="10800"/>
                </a:moveTo>
                <a:lnTo>
                  <a:pt x="32260" y="3794"/>
                </a:lnTo>
                <a:lnTo>
                  <a:pt x="3226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7740720" y="645336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14382" y="3837"/>
                </a:moveTo>
                <a:lnTo>
                  <a:pt x="16958" y="6448"/>
                </a:lnTo>
                <a:lnTo>
                  <a:pt x="16958" y="4707"/>
                </a:lnTo>
                <a:lnTo>
                  <a:pt x="18734" y="4707"/>
                </a:lnTo>
                <a:lnTo>
                  <a:pt x="18734" y="8224"/>
                </a:lnTo>
                <a:lnTo>
                  <a:pt x="21345" y="10800"/>
                </a:lnTo>
                <a:lnTo>
                  <a:pt x="19691" y="10800"/>
                </a:lnTo>
                <a:lnTo>
                  <a:pt x="19691" y="17989"/>
                </a:lnTo>
                <a:lnTo>
                  <a:pt x="9073" y="17989"/>
                </a:lnTo>
                <a:lnTo>
                  <a:pt x="9073" y="10800"/>
                </a:lnTo>
                <a:lnTo>
                  <a:pt x="7419" y="10800"/>
                </a:lnTo>
                <a:close/>
              </a:path>
              <a:path fill="darkenLess" w="28764" h="21600">
                <a:moveTo>
                  <a:pt x="16958" y="6448"/>
                </a:moveTo>
                <a:lnTo>
                  <a:pt x="16958" y="4707"/>
                </a:lnTo>
                <a:lnTo>
                  <a:pt x="18734" y="4707"/>
                </a:lnTo>
                <a:lnTo>
                  <a:pt x="18734" y="8224"/>
                </a:lnTo>
                <a:close/>
              </a:path>
              <a:path fill="darkenLess" w="28764" h="21600">
                <a:moveTo>
                  <a:pt x="13459" y="14299"/>
                </a:moveTo>
                <a:lnTo>
                  <a:pt x="15305" y="14299"/>
                </a:lnTo>
                <a:lnTo>
                  <a:pt x="15305" y="17989"/>
                </a:lnTo>
                <a:lnTo>
                  <a:pt x="19691" y="17989"/>
                </a:lnTo>
                <a:lnTo>
                  <a:pt x="19691" y="10800"/>
                </a:lnTo>
                <a:lnTo>
                  <a:pt x="9073" y="10800"/>
                </a:lnTo>
                <a:lnTo>
                  <a:pt x="9073" y="17989"/>
                </a:lnTo>
                <a:lnTo>
                  <a:pt x="13459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5"/>
          <p:cNvSpPr/>
          <p:nvPr/>
        </p:nvSpPr>
        <p:spPr>
          <a:xfrm>
            <a:off x="5867280" y="3429000"/>
            <a:ext cx="2087640" cy="180036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рганиз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школы, институ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6"/>
          <p:cNvSpPr/>
          <p:nvPr/>
        </p:nvSpPr>
        <p:spPr>
          <a:xfrm>
            <a:off x="3348000" y="404640"/>
            <a:ext cx="2664000" cy="201636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Зарегистрирова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в конферен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могу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7"/>
          <p:cNvSpPr/>
          <p:nvPr/>
        </p:nvSpPr>
        <p:spPr>
          <a:xfrm>
            <a:off x="1692360" y="3429000"/>
            <a:ext cx="2087640" cy="180036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астные л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53"/>
          <p:cNvSpPr/>
          <p:nvPr/>
        </p:nvSpPr>
        <p:spPr>
          <a:xfrm flipH="1">
            <a:off x="3634920" y="2421000"/>
            <a:ext cx="108108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54"/>
          <p:cNvSpPr/>
          <p:nvPr/>
        </p:nvSpPr>
        <p:spPr>
          <a:xfrm>
            <a:off x="4716360" y="2421000"/>
            <a:ext cx="122400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43000" y="1790280"/>
            <a:ext cx="38116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4">
            <a:hlinkClick r:id="" action="ppaction://hlinkshowjump?jump=nextslide"/>
          </p:cNvPr>
          <p:cNvSpPr/>
          <p:nvPr/>
        </p:nvSpPr>
        <p:spPr>
          <a:xfrm>
            <a:off x="8459640" y="630864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3794"/>
                </a:moveTo>
                <a:lnTo>
                  <a:pt x="28660" y="10800"/>
                </a:lnTo>
                <a:lnTo>
                  <a:pt x="14647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10800"/>
                </a:moveTo>
                <a:lnTo>
                  <a:pt x="28571" y="3794"/>
                </a:lnTo>
                <a:lnTo>
                  <a:pt x="28571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7667640" y="630864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8006" y="3837"/>
                </a:moveTo>
                <a:lnTo>
                  <a:pt x="20582" y="6448"/>
                </a:ln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lnTo>
                  <a:pt x="24969" y="10800"/>
                </a:lnTo>
                <a:lnTo>
                  <a:pt x="23315" y="10800"/>
                </a:lnTo>
                <a:lnTo>
                  <a:pt x="23315" y="17989"/>
                </a:lnTo>
                <a:lnTo>
                  <a:pt x="12697" y="17989"/>
                </a:lnTo>
                <a:lnTo>
                  <a:pt x="12697" y="10800"/>
                </a:lnTo>
                <a:lnTo>
                  <a:pt x="11043" y="10800"/>
                </a:lnTo>
                <a:close/>
              </a:path>
              <a:path fill="darkenLess" w="36012" h="21600">
                <a:moveTo>
                  <a:pt x="20582" y="6448"/>
                </a:move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close/>
              </a:path>
              <a:path fill="darkenLess" w="36012" h="21600">
                <a:moveTo>
                  <a:pt x="17083" y="14299"/>
                </a:moveTo>
                <a:lnTo>
                  <a:pt x="18929" y="14299"/>
                </a:lnTo>
                <a:lnTo>
                  <a:pt x="18929" y="17989"/>
                </a:lnTo>
                <a:lnTo>
                  <a:pt x="23315" y="17989"/>
                </a:lnTo>
                <a:lnTo>
                  <a:pt x="23315" y="10800"/>
                </a:lnTo>
                <a:lnTo>
                  <a:pt x="12697" y="10800"/>
                </a:lnTo>
                <a:lnTo>
                  <a:pt x="12697" y="17989"/>
                </a:lnTo>
                <a:lnTo>
                  <a:pt x="1708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Diagram 8"/>
          <p:cNvGrpSpPr/>
          <p:nvPr/>
        </p:nvGrpSpPr>
        <p:grpSpPr>
          <a:xfrm>
            <a:off x="56880" y="-5400"/>
            <a:ext cx="9032760" cy="6847560"/>
            <a:chOff x="56880" y="-5400"/>
            <a:chExt cx="9032760" cy="6847560"/>
          </a:xfrm>
        </p:grpSpPr>
        <p:sp>
          <p:nvSpPr>
            <p:cNvPr id="155" name="_s1028"/>
            <p:cNvSpPr/>
            <p:nvPr/>
          </p:nvSpPr>
          <p:spPr>
            <a:xfrm flipH="1" flipV="1">
              <a:off x="2955960" y="2025000"/>
              <a:ext cx="960480" cy="870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029"/>
            <p:cNvSpPr/>
            <p:nvPr/>
          </p:nvSpPr>
          <p:spPr>
            <a:xfrm>
              <a:off x="1269000" y="628200"/>
              <a:ext cx="2060280" cy="158004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Улан-Удэ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Уф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Чит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Южно-Ураль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Якутс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1030"/>
            <p:cNvSpPr/>
            <p:nvPr/>
          </p:nvSpPr>
          <p:spPr>
            <a:xfrm flipH="1" flipV="1">
              <a:off x="2099160" y="3166920"/>
              <a:ext cx="1466640" cy="19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1031"/>
            <p:cNvSpPr/>
            <p:nvPr/>
          </p:nvSpPr>
          <p:spPr>
            <a:xfrm>
              <a:off x="56880" y="2238120"/>
              <a:ext cx="2061000" cy="158004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С.-Петербург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Смолен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Соч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Тамбов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Твер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1032"/>
            <p:cNvSpPr/>
            <p:nvPr/>
          </p:nvSpPr>
          <p:spPr>
            <a:xfrm flipH="1">
              <a:off x="2399400" y="3888720"/>
              <a:ext cx="1287720" cy="57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1033"/>
            <p:cNvSpPr/>
            <p:nvPr/>
          </p:nvSpPr>
          <p:spPr>
            <a:xfrm>
              <a:off x="480240" y="4066920"/>
              <a:ext cx="2061000" cy="15807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Оренбург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Пермь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Псков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Рязань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Самар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1034"/>
            <p:cNvSpPr/>
            <p:nvPr/>
          </p:nvSpPr>
          <p:spPr>
            <a:xfrm flipH="1">
              <a:off x="3718080" y="4233240"/>
              <a:ext cx="506880" cy="107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1035"/>
            <p:cNvSpPr/>
            <p:nvPr/>
          </p:nvSpPr>
          <p:spPr>
            <a:xfrm>
              <a:off x="2334960" y="5262120"/>
              <a:ext cx="2061000" cy="158004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Нерюнгр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Нефтюган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Нижний Новгород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Новосибир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Олекминс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1036"/>
            <p:cNvSpPr/>
            <p:nvPr/>
          </p:nvSpPr>
          <p:spPr>
            <a:xfrm>
              <a:off x="4922280" y="4233240"/>
              <a:ext cx="513720" cy="107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1037"/>
            <p:cNvSpPr/>
            <p:nvPr/>
          </p:nvSpPr>
          <p:spPr>
            <a:xfrm>
              <a:off x="4758120" y="5258880"/>
              <a:ext cx="2061000" cy="15807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Липец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Магнитогор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Майкоп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Малоярославец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Моск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1038"/>
            <p:cNvSpPr/>
            <p:nvPr/>
          </p:nvSpPr>
          <p:spPr>
            <a:xfrm>
              <a:off x="5458680" y="3888720"/>
              <a:ext cx="1291320" cy="56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1039"/>
            <p:cNvSpPr/>
            <p:nvPr/>
          </p:nvSpPr>
          <p:spPr>
            <a:xfrm>
              <a:off x="6609600" y="4064400"/>
              <a:ext cx="2061000" cy="158004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Казань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Калуг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Киров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Краснояр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Курс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1040"/>
            <p:cNvSpPr/>
            <p:nvPr/>
          </p:nvSpPr>
          <p:spPr>
            <a:xfrm flipV="1">
              <a:off x="5581440" y="3161160"/>
              <a:ext cx="1465920" cy="198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1041"/>
            <p:cNvSpPr/>
            <p:nvPr/>
          </p:nvSpPr>
          <p:spPr>
            <a:xfrm>
              <a:off x="7028640" y="2234880"/>
              <a:ext cx="2061000" cy="15807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Владивосто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Енисей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Зеленогор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Огарк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Ижевс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1042"/>
            <p:cNvSpPr/>
            <p:nvPr/>
          </p:nvSpPr>
          <p:spPr>
            <a:xfrm flipV="1">
              <a:off x="5230800" y="2021400"/>
              <a:ext cx="956160" cy="87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1043"/>
            <p:cNvSpPr/>
            <p:nvPr/>
          </p:nvSpPr>
          <p:spPr>
            <a:xfrm>
              <a:off x="5817240" y="628200"/>
              <a:ext cx="2061000" cy="158004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Бий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Биробиджан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Великий Новгород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Верхневилюйск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Грод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1044"/>
            <p:cNvSpPr/>
            <p:nvPr/>
          </p:nvSpPr>
          <p:spPr>
            <a:xfrm flipV="1">
              <a:off x="4571640" y="1571400"/>
              <a:ext cx="0" cy="113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1045"/>
            <p:cNvSpPr/>
            <p:nvPr/>
          </p:nvSpPr>
          <p:spPr>
            <a:xfrm>
              <a:off x="3542760" y="-5400"/>
              <a:ext cx="2061000" cy="15807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Абакан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Апатиты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Артем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Астрахань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Times New Roman"/>
                </a:rPr>
                <a:t>Белгоро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1046"/>
            <p:cNvSpPr/>
            <p:nvPr/>
          </p:nvSpPr>
          <p:spPr>
            <a:xfrm>
              <a:off x="3542760" y="2711520"/>
              <a:ext cx="2061000" cy="158076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66"/>
                  </a:solidFill>
                  <a:latin typeface="Times New Roman"/>
                </a:rPr>
                <a:t>В конферен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66"/>
                  </a:solidFill>
                  <a:latin typeface="Times New Roman"/>
                </a:rPr>
                <a:t>(1999г.) участв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66"/>
                  </a:solidFill>
                  <a:latin typeface="Times New Roman"/>
                </a:rPr>
                <a:t>вали 45 город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lus/>
    <p:sndAc>
      <p:stSnd>
        <p:snd r:embed="rId2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66440" y="606600"/>
            <a:ext cx="7155000" cy="69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Этапы дистанционной конференции</a:t>
            </a:r>
            <a:endParaRPr b="0" lang="en-US" sz="2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01840" y="1989000"/>
            <a:ext cx="7270560" cy="39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24 авгу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начало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онферен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25-30 авгу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тиражирование материалов дистанционной конференции на местах для участ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25-28 авгу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формулирование предложений по проблеме перехода к 12-летней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ff"/>
                </a:solidFill>
                <a:uFillTx/>
                <a:latin typeface="Times New Roman"/>
              </a:rPr>
              <a:t>31 авгу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подведение итогов дистанционной конферен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7">
            <a:hlinkClick r:id="" action="ppaction://hlinkshowjump?jump=nextslide"/>
          </p:cNvPr>
          <p:cNvSpPr/>
          <p:nvPr/>
        </p:nvSpPr>
        <p:spPr>
          <a:xfrm>
            <a:off x="853272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8">
            <a:hlinkClick r:id="" action="ppaction://hlinkshowjump?jump=previousslide"/>
          </p:cNvPr>
          <p:cNvSpPr/>
          <p:nvPr/>
        </p:nvSpPr>
        <p:spPr>
          <a:xfrm>
            <a:off x="810108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9">
            <a:hlinkClick r:id="rId1" action="ppaction://hlinksldjump"/>
          </p:cNvPr>
          <p:cNvSpPr/>
          <p:nvPr/>
        </p:nvSpPr>
        <p:spPr>
          <a:xfrm>
            <a:off x="774072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8036" y="3837"/>
                </a:moveTo>
                <a:lnTo>
                  <a:pt x="20612" y="6448"/>
                </a:ln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lnTo>
                  <a:pt x="24999" y="10800"/>
                </a:lnTo>
                <a:lnTo>
                  <a:pt x="23345" y="10800"/>
                </a:lnTo>
                <a:lnTo>
                  <a:pt x="23345" y="17989"/>
                </a:lnTo>
                <a:lnTo>
                  <a:pt x="12727" y="17989"/>
                </a:lnTo>
                <a:lnTo>
                  <a:pt x="12727" y="10800"/>
                </a:lnTo>
                <a:lnTo>
                  <a:pt x="11073" y="10800"/>
                </a:lnTo>
                <a:close/>
              </a:path>
              <a:path fill="darkenLess" w="36072" h="21600">
                <a:moveTo>
                  <a:pt x="20612" y="6448"/>
                </a:moveTo>
                <a:lnTo>
                  <a:pt x="20612" y="4707"/>
                </a:lnTo>
                <a:lnTo>
                  <a:pt x="22388" y="4707"/>
                </a:lnTo>
                <a:lnTo>
                  <a:pt x="22388" y="8224"/>
                </a:lnTo>
                <a:close/>
              </a:path>
              <a:path fill="darkenLess" w="36072" h="21600">
                <a:moveTo>
                  <a:pt x="17113" y="14299"/>
                </a:moveTo>
                <a:lnTo>
                  <a:pt x="18959" y="14299"/>
                </a:lnTo>
                <a:lnTo>
                  <a:pt x="18959" y="17989"/>
                </a:lnTo>
                <a:lnTo>
                  <a:pt x="23345" y="17989"/>
                </a:lnTo>
                <a:lnTo>
                  <a:pt x="23345" y="10800"/>
                </a:lnTo>
                <a:lnTo>
                  <a:pt x="12727" y="10800"/>
                </a:lnTo>
                <a:lnTo>
                  <a:pt x="12727" y="17989"/>
                </a:lnTo>
                <a:lnTo>
                  <a:pt x="17113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8324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иведем пример отклика о дистанционной конференции</a:t>
            </a:r>
            <a:r>
              <a:rPr b="0" lang="ru-RU" sz="5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600" spc="-1" strike="noStrike" u="sng">
                <a:solidFill>
                  <a:srgbClr val="ff66ff"/>
                </a:solidFill>
                <a:uFillTx/>
                <a:latin typeface="Times New Roman"/>
              </a:rPr>
              <a:t>Моисейченко Елена Василь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«Принимая участие в конференции, я хотела услышать ответы на собственные вопросы , "прочувствовать" процесс перехода на 12-летнее обучение.  Привлекло и порадовало отсутствие эмоциональных выступлений; наоборот - только деловые, точные, чёткие суждения, вопросы и ответы на них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8459640" y="6524640"/>
            <a:ext cx="433440" cy="217440"/>
          </a:xfrm>
          <a:custGeom>
            <a:avLst/>
            <a:gdLst>
              <a:gd name="textAreaLeft" fmla="*/ 14040 w 433440"/>
              <a:gd name="textAreaRight" fmla="*/ 419400 w 4334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>
            <a:hlinkClick r:id="" action="ppaction://hlinkshowjump?jump=previousslide"/>
          </p:cNvPr>
          <p:cNvSpPr/>
          <p:nvPr/>
        </p:nvSpPr>
        <p:spPr>
          <a:xfrm>
            <a:off x="8101080" y="6524640"/>
            <a:ext cx="358560" cy="217440"/>
          </a:xfrm>
          <a:custGeom>
            <a:avLst/>
            <a:gdLst>
              <a:gd name="textAreaLeft" fmla="*/ 14040 w 358560"/>
              <a:gd name="textAreaRight" fmla="*/ 344520 w 3585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595" h="21600">
                <a:moveTo>
                  <a:pt x="0" y="0"/>
                </a:moveTo>
                <a:lnTo>
                  <a:pt x="35595" y="0"/>
                </a:lnTo>
                <a:lnTo>
                  <a:pt x="35595" y="21600"/>
                </a:lnTo>
                <a:lnTo>
                  <a:pt x="0" y="21600"/>
                </a:lnTo>
                <a:close/>
              </a:path>
              <a:path fill="lightenLess" w="35595" h="21600">
                <a:moveTo>
                  <a:pt x="0" y="0"/>
                </a:moveTo>
                <a:lnTo>
                  <a:pt x="35595" y="0"/>
                </a:lnTo>
                <a:lnTo>
                  <a:pt x="34195" y="1400"/>
                </a:lnTo>
                <a:lnTo>
                  <a:pt x="1400" y="1400"/>
                </a:lnTo>
                <a:close/>
              </a:path>
              <a:path fill="darken" w="35595" h="21600">
                <a:moveTo>
                  <a:pt x="35595" y="0"/>
                </a:moveTo>
                <a:lnTo>
                  <a:pt x="35595" y="21600"/>
                </a:lnTo>
                <a:lnTo>
                  <a:pt x="34195" y="20200"/>
                </a:lnTo>
                <a:lnTo>
                  <a:pt x="34195" y="1400"/>
                </a:lnTo>
                <a:close/>
              </a:path>
              <a:path fill="darkenLess" w="35595" h="21600">
                <a:moveTo>
                  <a:pt x="35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5" y="20200"/>
                </a:lnTo>
                <a:close/>
              </a:path>
              <a:path fill="lighten" w="35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595" h="21600">
                <a:moveTo>
                  <a:pt x="10791" y="10800"/>
                </a:moveTo>
                <a:lnTo>
                  <a:pt x="24804" y="3794"/>
                </a:lnTo>
                <a:lnTo>
                  <a:pt x="24804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7">
            <a:hlinkClick r:id="rId1" action="ppaction://hlinksldjump"/>
          </p:cNvPr>
          <p:cNvSpPr/>
          <p:nvPr/>
        </p:nvSpPr>
        <p:spPr>
          <a:xfrm>
            <a:off x="7740720" y="6524640"/>
            <a:ext cx="360360" cy="217440"/>
          </a:xfrm>
          <a:custGeom>
            <a:avLst/>
            <a:gdLst>
              <a:gd name="textAreaLeft" fmla="*/ 14040 w 360360"/>
              <a:gd name="textAreaRight" fmla="*/ 346320 w 360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374" y="1400"/>
                </a:lnTo>
                <a:lnTo>
                  <a:pt x="1400" y="140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374" y="20200"/>
                </a:lnTo>
                <a:lnTo>
                  <a:pt x="34374" y="140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74" y="2020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74" h="21600">
                <a:moveTo>
                  <a:pt x="17887" y="3837"/>
                </a:moveTo>
                <a:lnTo>
                  <a:pt x="20463" y="6448"/>
                </a:lnTo>
                <a:lnTo>
                  <a:pt x="20463" y="4707"/>
                </a:lnTo>
                <a:lnTo>
                  <a:pt x="22239" y="4707"/>
                </a:lnTo>
                <a:lnTo>
                  <a:pt x="22239" y="8224"/>
                </a:lnTo>
                <a:lnTo>
                  <a:pt x="24850" y="10800"/>
                </a:lnTo>
                <a:lnTo>
                  <a:pt x="23196" y="10800"/>
                </a:lnTo>
                <a:lnTo>
                  <a:pt x="23196" y="17989"/>
                </a:lnTo>
                <a:lnTo>
                  <a:pt x="12578" y="17989"/>
                </a:lnTo>
                <a:lnTo>
                  <a:pt x="12578" y="10800"/>
                </a:lnTo>
                <a:lnTo>
                  <a:pt x="10924" y="10800"/>
                </a:lnTo>
                <a:close/>
              </a:path>
              <a:path fill="darkenLess" w="35774" h="21600">
                <a:moveTo>
                  <a:pt x="20463" y="6448"/>
                </a:moveTo>
                <a:lnTo>
                  <a:pt x="20463" y="4707"/>
                </a:lnTo>
                <a:lnTo>
                  <a:pt x="22239" y="4707"/>
                </a:lnTo>
                <a:lnTo>
                  <a:pt x="22239" y="8224"/>
                </a:lnTo>
                <a:close/>
              </a:path>
              <a:path fill="darkenLess" w="35774" h="21600">
                <a:moveTo>
                  <a:pt x="16964" y="14299"/>
                </a:moveTo>
                <a:lnTo>
                  <a:pt x="18810" y="14299"/>
                </a:lnTo>
                <a:lnTo>
                  <a:pt x="18810" y="17989"/>
                </a:lnTo>
                <a:lnTo>
                  <a:pt x="23196" y="17989"/>
                </a:lnTo>
                <a:lnTo>
                  <a:pt x="23196" y="10800"/>
                </a:lnTo>
                <a:lnTo>
                  <a:pt x="12578" y="10800"/>
                </a:lnTo>
                <a:lnTo>
                  <a:pt x="12578" y="17989"/>
                </a:lnTo>
                <a:lnTo>
                  <a:pt x="16964" y="17989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j0297749"/>
          <p:cNvPicPr/>
          <p:nvPr/>
        </p:nvPicPr>
        <p:blipFill>
          <a:blip r:embed="rId2"/>
          <a:stretch/>
        </p:blipFill>
        <p:spPr>
          <a:xfrm>
            <a:off x="0" y="2276640"/>
            <a:ext cx="1547640" cy="158400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8:26:41Z</dcterms:created>
  <dc:creator>Привет бобер!</dc:creator>
  <dc:description/>
  <dc:language>en-US</dc:language>
  <cp:lastModifiedBy>User</cp:lastModifiedBy>
  <dcterms:modified xsi:type="dcterms:W3CDTF">2016-01-20T15:59:13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