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9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57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58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-360" y="-11849400"/>
            <a:ext cx="360" cy="250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F871-4E17-4B9E-B47F-17DE0465F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B742-1412-4E98-9AB2-B84780505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0FE4-67BB-4698-B4D8-834D70D1F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7481-1127-427B-B276-C1110E058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459C9-445F-48B1-9DA2-E90B1275C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408BB-82CC-491E-8745-55049BF3F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93B1A-2F24-4F6D-BE7D-AB146AED3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C44CA-FAEC-47C2-ADFC-9602D676C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EE433-4CA9-46E2-A561-5FCE5C292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CFC31-3B4E-4DEA-BDFF-A4CD5BC5F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3790C-C667-4739-8EA2-9D16678D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F536-91AC-42ED-9F2A-44B97E9AD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F1F48-FF60-442C-8366-E26FB3A0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9A811-B29E-4654-85F4-012613B5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3FE0E-C455-4B20-9BCD-48564D3BE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70BB3-AB49-4D8B-9658-3DF53E7E0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5A213-1412-495B-9EDB-5131EE367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1CE8-1F56-41A3-BFD7-E30272BC3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9534-59B7-47B9-9730-8AEC29036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E00F-6496-42E9-9805-C17C5885C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0F49-C3D8-4400-8610-42CB85303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E896-1408-4183-A5F2-8D826253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27D8-BB5D-4D6F-843D-4EA29BB0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CD27-FD0B-45FC-A4D6-15DB4A59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i="1" lang="en-US" sz="20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i="1" lang="en-US" sz="20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i="1" lang="en-US" sz="20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i="1" lang="en-US" sz="20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i="1" lang="en-US" sz="20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i="1" lang="en-US" sz="20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i="1" lang="en-US" sz="20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i="1" lang="en-US" sz="20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i="1" lang="en-US" sz="20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i="1" lang="en-US" sz="20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i="1" lang="en-US" sz="20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i="1" lang="en-US" sz="20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i="1" lang="en-US" sz="20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i="1" lang="en-US" sz="20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i="1" lang="en-US" sz="20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i="1" lang="en-US" sz="20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i="1" lang="en-US" sz="20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i="1" lang="en-US" sz="20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968911B-A3FC-4FBE-90A2-EA14594B8099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i="1" lang="en-US" sz="1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i="1" lang="en-US" sz="20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i="1" lang="en-US" sz="20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i="1" lang="en-US" sz="20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i="1" lang="en-US" sz="20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i="1" lang="en-US" sz="20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i="1" lang="en-US" sz="20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i="1" lang="en-US" sz="20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i="1" lang="en-US" sz="20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i="1" lang="en-US" sz="20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i="1" lang="en-US" sz="20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i="1" lang="en-US" sz="20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i="1" lang="en-US" sz="20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i="1" lang="en-US" sz="20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i="1" lang="en-US" sz="20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i="1" lang="en-US" sz="20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i="1" lang="en-US" sz="20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i="1" lang="en-US" sz="20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i="1" lang="en-US" sz="20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C58C560-4112-4927-8269-2F2561C02AAB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i="1" lang="en-US" sz="10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280" y="-245880"/>
            <a:ext cx="8893440" cy="731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GB" sz="4800" spc="-1" strike="noStrike">
                <a:solidFill>
                  <a:srgbClr val="ff0000"/>
                </a:solidFill>
                <a:latin typeface="Mistral"/>
              </a:rPr>
              <a:t>Модели дистанционного обучения</a:t>
            </a:r>
            <a:br>
              <a:rPr sz="4800"/>
            </a:br>
            <a:br>
              <a:rPr sz="1800"/>
            </a:br>
            <a:r>
              <a:rPr b="0" lang="en-GB" sz="1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ccecff"/>
                </a:solidFill>
                <a:latin typeface="Arial"/>
              </a:rPr>
              <a:t>	</a:t>
            </a:r>
            <a:br>
              <a:rPr sz="1800"/>
            </a:br>
            <a:r>
              <a:rPr b="0" lang="en-GB" sz="1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Подготовил</a:t>
            </a:r>
            <a:r>
              <a:rPr b="0" lang="ru-RU" sz="1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а</a:t>
            </a:r>
            <a:r>
              <a:rPr b="0" lang="en-GB" sz="1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: Тришичева Анна Николаевна,</a:t>
            </a:r>
            <a:br>
              <a:rPr sz="1800"/>
            </a:br>
            <a:r>
              <a:rPr b="0" lang="en-GB" sz="1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Кадников</a:t>
            </a:r>
            <a:r>
              <a:rPr b="0" lang="en-GB" sz="1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, 20</a:t>
            </a:r>
            <a:r>
              <a:rPr b="0" lang="ru-RU" sz="1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16 </a:t>
            </a:r>
            <a:r>
              <a:rPr b="0" lang="en-GB" sz="1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год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AutoShape 2">
            <a:hlinkClick r:id="" action="ppaction://hlinkshowjump?jump=nextslide"/>
          </p:cNvPr>
          <p:cNvSpPr/>
          <p:nvPr/>
        </p:nvSpPr>
        <p:spPr>
          <a:xfrm>
            <a:off x="7812000" y="6237360"/>
            <a:ext cx="576360" cy="36036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34" h="21600">
                <a:moveTo>
                  <a:pt x="0" y="0"/>
                </a:moveTo>
                <a:lnTo>
                  <a:pt x="34534" y="0"/>
                </a:lnTo>
                <a:lnTo>
                  <a:pt x="34534" y="21600"/>
                </a:lnTo>
                <a:lnTo>
                  <a:pt x="0" y="21600"/>
                </a:lnTo>
                <a:close/>
              </a:path>
              <a:path fill="lightenLess" w="34534" h="21600">
                <a:moveTo>
                  <a:pt x="0" y="0"/>
                </a:moveTo>
                <a:lnTo>
                  <a:pt x="34534" y="0"/>
                </a:lnTo>
                <a:lnTo>
                  <a:pt x="33134" y="1400"/>
                </a:lnTo>
                <a:lnTo>
                  <a:pt x="1400" y="1400"/>
                </a:lnTo>
                <a:close/>
              </a:path>
              <a:path fill="darken" w="34534" h="21600">
                <a:moveTo>
                  <a:pt x="34534" y="0"/>
                </a:moveTo>
                <a:lnTo>
                  <a:pt x="34534" y="21600"/>
                </a:lnTo>
                <a:lnTo>
                  <a:pt x="33134" y="20200"/>
                </a:lnTo>
                <a:lnTo>
                  <a:pt x="33134" y="1400"/>
                </a:lnTo>
                <a:close/>
              </a:path>
              <a:path fill="darkenLess" w="34534" h="21600">
                <a:moveTo>
                  <a:pt x="34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34" y="20200"/>
                </a:lnTo>
                <a:close/>
              </a:path>
              <a:path fill="lighten" w="34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34" h="21600">
                <a:moveTo>
                  <a:pt x="10261" y="3794"/>
                </a:moveTo>
                <a:lnTo>
                  <a:pt x="24274" y="10800"/>
                </a:lnTo>
                <a:lnTo>
                  <a:pt x="10261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-268920"/>
            <a:ext cx="914400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3400" indent="0">
              <a:buNone/>
              <a:tabLst>
                <a:tab algn="l" pos="0"/>
                <a:tab algn="l" pos="83340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26600"/>
                <a:tab algn="l" pos="10775880"/>
                <a:tab algn="l" pos="10779120"/>
              </a:tabLst>
            </a:pPr>
            <a:r>
              <a:rPr b="0" lang="en-GB" sz="2000" spc="-1" strike="noStrike">
                <a:solidFill>
                  <a:srgbClr val="ccecff"/>
                </a:solidFill>
                <a:latin typeface="Arial"/>
              </a:rPr>
              <a:t>           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ccecff"/>
                </a:solidFill>
                <a:latin typeface="Arial"/>
              </a:rPr>
              <a:t>Судя по описанным выше моделям, которые функционируют в последние 20 лет, основные цели всех моделей образования на расстоянии можно свести к следующим: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AutoShape 2">
            <a:hlinkClick r:id="" action="ppaction://hlinkshowjump?jump=nextslide"/>
          </p:cNvPr>
          <p:cNvSpPr/>
          <p:nvPr/>
        </p:nvSpPr>
        <p:spPr>
          <a:xfrm>
            <a:off x="8244000" y="630864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8116" y="3794"/>
                </a:moveTo>
                <a:lnTo>
                  <a:pt x="22129" y="10800"/>
                </a:lnTo>
                <a:lnTo>
                  <a:pt x="8116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07" name="AutoShape 3">
            <a:hlinkClick r:id="" action="ppaction://hlinkshowjump?jump=previousslide"/>
          </p:cNvPr>
          <p:cNvSpPr/>
          <p:nvPr/>
        </p:nvSpPr>
        <p:spPr>
          <a:xfrm>
            <a:off x="7236000" y="6308640"/>
            <a:ext cx="504720" cy="351000"/>
          </a:xfrm>
          <a:custGeom>
            <a:avLst/>
            <a:gdLst>
              <a:gd name="textAreaLeft" fmla="*/ 22680 w 504720"/>
              <a:gd name="textAreaRight" fmla="*/ 482040 w 50472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31050" h="21600">
                <a:moveTo>
                  <a:pt x="0" y="0"/>
                </a:moveTo>
                <a:lnTo>
                  <a:pt x="31050" y="0"/>
                </a:lnTo>
                <a:lnTo>
                  <a:pt x="31050" y="21600"/>
                </a:lnTo>
                <a:lnTo>
                  <a:pt x="0" y="21600"/>
                </a:lnTo>
                <a:close/>
              </a:path>
              <a:path fill="lightenLess" w="31050" h="21600">
                <a:moveTo>
                  <a:pt x="0" y="0"/>
                </a:moveTo>
                <a:lnTo>
                  <a:pt x="31050" y="0"/>
                </a:lnTo>
                <a:lnTo>
                  <a:pt x="29650" y="1400"/>
                </a:lnTo>
                <a:lnTo>
                  <a:pt x="1400" y="1400"/>
                </a:lnTo>
                <a:close/>
              </a:path>
              <a:path fill="darken" w="31050" h="21600">
                <a:moveTo>
                  <a:pt x="31050" y="0"/>
                </a:moveTo>
                <a:lnTo>
                  <a:pt x="31050" y="21600"/>
                </a:lnTo>
                <a:lnTo>
                  <a:pt x="29650" y="20200"/>
                </a:lnTo>
                <a:lnTo>
                  <a:pt x="29650" y="1400"/>
                </a:lnTo>
                <a:close/>
              </a:path>
              <a:path fill="darkenLess" w="31050" h="21600">
                <a:moveTo>
                  <a:pt x="310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50" y="20200"/>
                </a:lnTo>
                <a:close/>
              </a:path>
              <a:path fill="lighten" w="310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050" h="21600">
                <a:moveTo>
                  <a:pt x="8519" y="10800"/>
                </a:moveTo>
                <a:lnTo>
                  <a:pt x="22531" y="3794"/>
                </a:lnTo>
                <a:lnTo>
                  <a:pt x="22531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08" name="AutoShape 4">
            <a:hlinkClick r:id="rId1" action="ppaction://hlinksldjump"/>
          </p:cNvPr>
          <p:cNvSpPr/>
          <p:nvPr/>
        </p:nvSpPr>
        <p:spPr>
          <a:xfrm>
            <a:off x="7740720" y="6308640"/>
            <a:ext cx="504720" cy="351000"/>
          </a:xfrm>
          <a:custGeom>
            <a:avLst/>
            <a:gdLst>
              <a:gd name="textAreaLeft" fmla="*/ 22680 w 504720"/>
              <a:gd name="textAreaRight" fmla="*/ 482040 w 50472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31050" h="21600">
                <a:moveTo>
                  <a:pt x="0" y="0"/>
                </a:moveTo>
                <a:lnTo>
                  <a:pt x="31050" y="0"/>
                </a:lnTo>
                <a:lnTo>
                  <a:pt x="31050" y="21600"/>
                </a:lnTo>
                <a:lnTo>
                  <a:pt x="0" y="21600"/>
                </a:lnTo>
                <a:close/>
              </a:path>
              <a:path fill="lightenLess" w="31050" h="21600">
                <a:moveTo>
                  <a:pt x="0" y="0"/>
                </a:moveTo>
                <a:lnTo>
                  <a:pt x="31050" y="0"/>
                </a:lnTo>
                <a:lnTo>
                  <a:pt x="29650" y="1400"/>
                </a:lnTo>
                <a:lnTo>
                  <a:pt x="1400" y="1400"/>
                </a:lnTo>
                <a:close/>
              </a:path>
              <a:path fill="darken" w="31050" h="21600">
                <a:moveTo>
                  <a:pt x="31050" y="0"/>
                </a:moveTo>
                <a:lnTo>
                  <a:pt x="31050" y="21600"/>
                </a:lnTo>
                <a:lnTo>
                  <a:pt x="29650" y="20200"/>
                </a:lnTo>
                <a:lnTo>
                  <a:pt x="29650" y="1400"/>
                </a:lnTo>
                <a:close/>
              </a:path>
              <a:path fill="darkenLess" w="31050" h="21600">
                <a:moveTo>
                  <a:pt x="310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50" y="20200"/>
                </a:lnTo>
                <a:close/>
              </a:path>
              <a:path fill="lighten" w="310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050" h="21600">
                <a:moveTo>
                  <a:pt x="15525" y="3837"/>
                </a:moveTo>
                <a:lnTo>
                  <a:pt x="18101" y="6448"/>
                </a:lnTo>
                <a:lnTo>
                  <a:pt x="18101" y="4707"/>
                </a:lnTo>
                <a:lnTo>
                  <a:pt x="19877" y="4707"/>
                </a:lnTo>
                <a:lnTo>
                  <a:pt x="19877" y="8224"/>
                </a:lnTo>
                <a:lnTo>
                  <a:pt x="22488" y="10800"/>
                </a:lnTo>
                <a:lnTo>
                  <a:pt x="20834" y="10800"/>
                </a:lnTo>
                <a:lnTo>
                  <a:pt x="20834" y="17989"/>
                </a:lnTo>
                <a:lnTo>
                  <a:pt x="10216" y="17989"/>
                </a:lnTo>
                <a:lnTo>
                  <a:pt x="10216" y="10800"/>
                </a:lnTo>
                <a:lnTo>
                  <a:pt x="8562" y="10800"/>
                </a:lnTo>
                <a:close/>
              </a:path>
              <a:path fill="darkenLess" w="31050" h="21600">
                <a:moveTo>
                  <a:pt x="18101" y="6448"/>
                </a:moveTo>
                <a:lnTo>
                  <a:pt x="18101" y="4707"/>
                </a:lnTo>
                <a:lnTo>
                  <a:pt x="19877" y="4707"/>
                </a:lnTo>
                <a:lnTo>
                  <a:pt x="19877" y="8224"/>
                </a:lnTo>
                <a:close/>
              </a:path>
              <a:path fill="darkenLess" w="31050" h="21600">
                <a:moveTo>
                  <a:pt x="14602" y="14299"/>
                </a:moveTo>
                <a:lnTo>
                  <a:pt x="16448" y="14299"/>
                </a:lnTo>
                <a:lnTo>
                  <a:pt x="16448" y="17989"/>
                </a:lnTo>
                <a:lnTo>
                  <a:pt x="20834" y="17989"/>
                </a:lnTo>
                <a:lnTo>
                  <a:pt x="20834" y="10800"/>
                </a:lnTo>
                <a:lnTo>
                  <a:pt x="10216" y="10800"/>
                </a:lnTo>
                <a:lnTo>
                  <a:pt x="10216" y="17989"/>
                </a:lnTo>
                <a:lnTo>
                  <a:pt x="14602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grpSp>
        <p:nvGrpSpPr>
          <p:cNvPr id="209" name="Diagram 34"/>
          <p:cNvGrpSpPr/>
          <p:nvPr/>
        </p:nvGrpSpPr>
        <p:grpSpPr>
          <a:xfrm>
            <a:off x="2549520" y="1964160"/>
            <a:ext cx="4227120" cy="3879360"/>
            <a:chOff x="2549520" y="1964160"/>
            <a:chExt cx="4227120" cy="3879360"/>
          </a:xfrm>
        </p:grpSpPr>
        <p:sp>
          <p:nvSpPr>
            <p:cNvPr id="210" name="_s1028"/>
            <p:cNvSpPr/>
            <p:nvPr/>
          </p:nvSpPr>
          <p:spPr>
            <a:xfrm flipH="1">
              <a:off x="3643200" y="4647960"/>
              <a:ext cx="511920" cy="298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11" name="_s1029"/>
            <p:cNvSpPr/>
            <p:nvPr/>
          </p:nvSpPr>
          <p:spPr>
            <a:xfrm>
              <a:off x="2549520" y="4650120"/>
              <a:ext cx="1174680" cy="119340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600" spc="-1" strike="noStrike">
                  <a:solidFill>
                    <a:srgbClr val="003300"/>
                  </a:solidFill>
                  <a:latin typeface="Times New Roman"/>
                </a:rPr>
                <a:t>Аттестат</a:t>
              </a:r>
              <a:endParaRPr b="1" i="1" lang="en-US" sz="1600" spc="-1" strike="noStrike">
                <a:solidFill>
                  <a:srgbClr val="ffff00"/>
                </a:solidFill>
                <a:latin typeface="Verdana"/>
              </a:endParaRPr>
            </a:p>
            <a:p>
              <a:pPr algn="ctr"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600" spc="-1" strike="noStrike">
                  <a:solidFill>
                    <a:srgbClr val="003300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003300"/>
                  </a:solidFill>
                  <a:latin typeface="Times New Roman"/>
                </a:rPr>
                <a:t>об </a:t>
              </a:r>
              <a:endParaRPr b="1" i="1" lang="en-US" sz="1600" spc="-1" strike="noStrike">
                <a:solidFill>
                  <a:srgbClr val="ffff00"/>
                </a:solidFill>
                <a:latin typeface="Verdana"/>
              </a:endParaRPr>
            </a:p>
            <a:p>
              <a:pPr algn="ctr"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600" spc="-1" strike="noStrike">
                  <a:solidFill>
                    <a:srgbClr val="003300"/>
                  </a:solidFill>
                  <a:latin typeface="Times New Roman"/>
                </a:rPr>
                <a:t>образовании</a:t>
              </a:r>
              <a:endParaRPr b="1" i="1" lang="en-US" sz="16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12" name="_s1030"/>
            <p:cNvSpPr/>
            <p:nvPr/>
          </p:nvSpPr>
          <p:spPr>
            <a:xfrm>
              <a:off x="5168880" y="4647960"/>
              <a:ext cx="510480" cy="300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13" name="_s1031"/>
            <p:cNvSpPr/>
            <p:nvPr/>
          </p:nvSpPr>
          <p:spPr>
            <a:xfrm>
              <a:off x="5601960" y="4650120"/>
              <a:ext cx="1174680" cy="119340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600" spc="-1" strike="noStrike">
                  <a:solidFill>
                    <a:srgbClr val="003300"/>
                  </a:solidFill>
                  <a:latin typeface="Times New Roman"/>
                </a:rPr>
                <a:t>Качественное </a:t>
              </a:r>
              <a:endParaRPr b="1" i="1" lang="en-US" sz="1600" spc="-1" strike="noStrike">
                <a:solidFill>
                  <a:srgbClr val="ffff00"/>
                </a:solidFill>
                <a:latin typeface="Verdana"/>
              </a:endParaRPr>
            </a:p>
            <a:p>
              <a:pPr algn="ctr"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600" spc="-1" strike="noStrike">
                  <a:solidFill>
                    <a:srgbClr val="003300"/>
                  </a:solidFill>
                  <a:latin typeface="Times New Roman"/>
                </a:rPr>
                <a:t>образование</a:t>
              </a:r>
              <a:endParaRPr b="1" i="1" lang="en-US" sz="16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14" name="_s1032"/>
            <p:cNvSpPr/>
            <p:nvPr/>
          </p:nvSpPr>
          <p:spPr>
            <a:xfrm flipV="1">
              <a:off x="4662000" y="3155400"/>
              <a:ext cx="0" cy="599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15" name="_s1033"/>
            <p:cNvSpPr/>
            <p:nvPr/>
          </p:nvSpPr>
          <p:spPr>
            <a:xfrm>
              <a:off x="4075920" y="1964160"/>
              <a:ext cx="1174680" cy="119340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600" spc="-1" strike="noStrike">
                  <a:solidFill>
                    <a:srgbClr val="003300"/>
                  </a:solidFill>
                  <a:latin typeface="Times New Roman"/>
                </a:rPr>
                <a:t>возможность </a:t>
              </a:r>
              <a:endParaRPr b="1" i="1" lang="en-US" sz="1600" spc="-1" strike="noStrike">
                <a:solidFill>
                  <a:srgbClr val="ffff00"/>
                </a:solidFill>
                <a:latin typeface="Verdana"/>
              </a:endParaRPr>
            </a:p>
            <a:p>
              <a:pPr algn="ctr"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600" spc="-1" strike="noStrike">
                  <a:solidFill>
                    <a:srgbClr val="003300"/>
                  </a:solidFill>
                  <a:latin typeface="Times New Roman"/>
                </a:rPr>
                <a:t>совер-</a:t>
              </a:r>
              <a:endParaRPr b="1" i="1" lang="en-US" sz="1600" spc="-1" strike="noStrike">
                <a:solidFill>
                  <a:srgbClr val="ffff00"/>
                </a:solidFill>
                <a:latin typeface="Verdana"/>
              </a:endParaRPr>
            </a:p>
            <a:p>
              <a:pPr algn="ctr"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600" spc="-1" strike="noStrike">
                  <a:solidFill>
                    <a:srgbClr val="003300"/>
                  </a:solidFill>
                  <a:latin typeface="Times New Roman"/>
                </a:rPr>
                <a:t>шенствовать </a:t>
              </a:r>
              <a:endParaRPr b="1" i="1" lang="en-US" sz="1600" spc="-1" strike="noStrike">
                <a:solidFill>
                  <a:srgbClr val="ffff00"/>
                </a:solidFill>
                <a:latin typeface="Verdana"/>
              </a:endParaRPr>
            </a:p>
            <a:p>
              <a:pPr algn="ctr"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600" spc="-1" strike="noStrike">
                  <a:solidFill>
                    <a:srgbClr val="003300"/>
                  </a:solidFill>
                  <a:latin typeface="Times New Roman"/>
                </a:rPr>
                <a:t>свои знания</a:t>
              </a:r>
              <a:endParaRPr b="1" i="1" lang="en-US" sz="16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16" name="_s1034"/>
            <p:cNvSpPr/>
            <p:nvPr/>
          </p:nvSpPr>
          <p:spPr>
            <a:xfrm>
              <a:off x="4075920" y="3755160"/>
              <a:ext cx="1174680" cy="119340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3100" spc="-1" strike="noStrike">
                  <a:solidFill>
                    <a:srgbClr val="003300"/>
                  </a:solidFill>
                  <a:latin typeface="Times New Roman"/>
                </a:rPr>
                <a:t>цели</a:t>
              </a:r>
              <a:endParaRPr b="1" i="1" lang="en-US" sz="3100" spc="-1" strike="noStrike">
                <a:solidFill>
                  <a:srgbClr val="ffff00"/>
                </a:solidFill>
                <a:latin typeface="Verdana"/>
              </a:endParaRPr>
            </a:p>
          </p:txBody>
        </p:sp>
      </p:grp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23640" y="2347920"/>
            <a:ext cx="81342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ecff"/>
                </a:solidFill>
                <a:latin typeface="Arial"/>
              </a:rPr>
              <a:t>Другой подход к определению моделей дистанционного обучения намечается в том случае, если мы рассматриваем организацию самого учебного процесса.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AutoShape 2">
            <a:hlinkClick r:id="" action="ppaction://hlinkshowjump?jump=nextslide"/>
          </p:cNvPr>
          <p:cNvSpPr/>
          <p:nvPr/>
        </p:nvSpPr>
        <p:spPr>
          <a:xfrm>
            <a:off x="8172360" y="602136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19587" y="10800"/>
                </a:lnTo>
                <a:lnTo>
                  <a:pt x="557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19" name="AutoShape 3">
            <a:hlinkClick r:id="" action="ppaction://hlinkshowjump?jump=previousslide"/>
          </p:cNvPr>
          <p:cNvSpPr/>
          <p:nvPr/>
        </p:nvSpPr>
        <p:spPr>
          <a:xfrm>
            <a:off x="7236000" y="6021360"/>
            <a:ext cx="502920" cy="43200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43" h="21600">
                <a:moveTo>
                  <a:pt x="0" y="0"/>
                </a:moveTo>
                <a:lnTo>
                  <a:pt x="25143" y="0"/>
                </a:lnTo>
                <a:lnTo>
                  <a:pt x="25143" y="21600"/>
                </a:lnTo>
                <a:lnTo>
                  <a:pt x="0" y="21600"/>
                </a:lnTo>
                <a:close/>
              </a:path>
              <a:path fill="lightenLess" w="25143" h="21600">
                <a:moveTo>
                  <a:pt x="0" y="0"/>
                </a:moveTo>
                <a:lnTo>
                  <a:pt x="25143" y="0"/>
                </a:lnTo>
                <a:lnTo>
                  <a:pt x="23743" y="1400"/>
                </a:lnTo>
                <a:lnTo>
                  <a:pt x="1400" y="1400"/>
                </a:lnTo>
                <a:close/>
              </a:path>
              <a:path fill="darken" w="25143" h="21600">
                <a:moveTo>
                  <a:pt x="25143" y="0"/>
                </a:moveTo>
                <a:lnTo>
                  <a:pt x="25143" y="21600"/>
                </a:lnTo>
                <a:lnTo>
                  <a:pt x="23743" y="20200"/>
                </a:lnTo>
                <a:lnTo>
                  <a:pt x="23743" y="1400"/>
                </a:lnTo>
                <a:close/>
              </a:path>
              <a:path fill="darkenLess" w="25143" h="21600">
                <a:moveTo>
                  <a:pt x="25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3" y="20200"/>
                </a:lnTo>
                <a:close/>
              </a:path>
              <a:path fill="lighten" w="25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43" h="21600">
                <a:moveTo>
                  <a:pt x="5565" y="10800"/>
                </a:moveTo>
                <a:lnTo>
                  <a:pt x="19578" y="3794"/>
                </a:lnTo>
                <a:lnTo>
                  <a:pt x="1957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20" name="AutoShape 4">
            <a:hlinkClick r:id="rId1" action="ppaction://hlinksldjump"/>
          </p:cNvPr>
          <p:cNvSpPr/>
          <p:nvPr/>
        </p:nvSpPr>
        <p:spPr>
          <a:xfrm>
            <a:off x="7740720" y="6021360"/>
            <a:ext cx="433440" cy="43200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10836" y="3837"/>
                </a:moveTo>
                <a:lnTo>
                  <a:pt x="13412" y="6448"/>
                </a:ln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lnTo>
                  <a:pt x="17799" y="10800"/>
                </a:lnTo>
                <a:lnTo>
                  <a:pt x="16145" y="10800"/>
                </a:lnTo>
                <a:lnTo>
                  <a:pt x="16145" y="17989"/>
                </a:lnTo>
                <a:lnTo>
                  <a:pt x="5527" y="17989"/>
                </a:lnTo>
                <a:lnTo>
                  <a:pt x="5527" y="10800"/>
                </a:lnTo>
                <a:lnTo>
                  <a:pt x="3873" y="10800"/>
                </a:lnTo>
                <a:close/>
              </a:path>
              <a:path fill="darkenLess" w="21672" h="21600">
                <a:moveTo>
                  <a:pt x="13412" y="6448"/>
                </a:move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close/>
              </a:path>
              <a:path fill="darkenLess" w="21672" h="21600">
                <a:moveTo>
                  <a:pt x="9913" y="14299"/>
                </a:moveTo>
                <a:lnTo>
                  <a:pt x="11759" y="14299"/>
                </a:lnTo>
                <a:lnTo>
                  <a:pt x="11759" y="17989"/>
                </a:lnTo>
                <a:lnTo>
                  <a:pt x="16145" y="17989"/>
                </a:lnTo>
                <a:lnTo>
                  <a:pt x="16145" y="10800"/>
                </a:lnTo>
                <a:lnTo>
                  <a:pt x="5527" y="10800"/>
                </a:lnTo>
                <a:lnTo>
                  <a:pt x="5527" y="17989"/>
                </a:lnTo>
                <a:lnTo>
                  <a:pt x="9913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221" name="Picture 5" descr=""/>
          <p:cNvPicPr/>
          <p:nvPr/>
        </p:nvPicPr>
        <p:blipFill>
          <a:blip r:embed="rId2"/>
          <a:stretch/>
        </p:blipFill>
        <p:spPr>
          <a:xfrm>
            <a:off x="6443640" y="189000"/>
            <a:ext cx="2160720" cy="165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8920" y="2320200"/>
            <a:ext cx="820764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ecff"/>
                </a:solidFill>
                <a:latin typeface="Arial"/>
              </a:rPr>
              <a:t>Эта модель строится на организации учебного процесса в режиме реального времени. Занятие ведется с группой студентов очного отделения одновременно с «удаленными» студентами посредством интерактивных телекоммуникаций,</a:t>
            </a: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ccecff"/>
                </a:solidFill>
                <a:latin typeface="Arial"/>
              </a:rPr>
              <a:t>видео</a:t>
            </a: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-</a:t>
            </a:r>
            <a:br>
              <a:rPr sz="2000"/>
            </a:br>
            <a:r>
              <a:rPr b="0" lang="en-GB" sz="2000" spc="-1" strike="noStrike">
                <a:solidFill>
                  <a:srgbClr val="ccecff"/>
                </a:solidFill>
                <a:latin typeface="Arial"/>
              </a:rPr>
              <a:t>конференций.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AutoShape 2">
            <a:hlinkClick r:id="" action="ppaction://hlinkshowjump?jump=nextslide"/>
          </p:cNvPr>
          <p:cNvSpPr/>
          <p:nvPr/>
        </p:nvSpPr>
        <p:spPr>
          <a:xfrm>
            <a:off x="8172360" y="623736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8073" y="3794"/>
                </a:moveTo>
                <a:lnTo>
                  <a:pt x="22086" y="10800"/>
                </a:lnTo>
                <a:lnTo>
                  <a:pt x="8073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24" name="AutoShape 3">
            <a:hlinkClick r:id="" action="ppaction://hlinkshowjump?jump=previousslide"/>
          </p:cNvPr>
          <p:cNvSpPr/>
          <p:nvPr/>
        </p:nvSpPr>
        <p:spPr>
          <a:xfrm>
            <a:off x="7093080" y="6237360"/>
            <a:ext cx="501480" cy="360360"/>
          </a:xfrm>
          <a:custGeom>
            <a:avLst/>
            <a:gdLst>
              <a:gd name="textAreaLeft" fmla="*/ 23040 w 501480"/>
              <a:gd name="textAreaRight" fmla="*/ 478440 w 5014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050" h="21600">
                <a:moveTo>
                  <a:pt x="0" y="0"/>
                </a:moveTo>
                <a:lnTo>
                  <a:pt x="30050" y="0"/>
                </a:lnTo>
                <a:lnTo>
                  <a:pt x="30050" y="21600"/>
                </a:lnTo>
                <a:lnTo>
                  <a:pt x="0" y="21600"/>
                </a:lnTo>
                <a:close/>
              </a:path>
              <a:path fill="lightenLess" w="30050" h="21600">
                <a:moveTo>
                  <a:pt x="0" y="0"/>
                </a:moveTo>
                <a:lnTo>
                  <a:pt x="30050" y="0"/>
                </a:lnTo>
                <a:lnTo>
                  <a:pt x="28650" y="1400"/>
                </a:lnTo>
                <a:lnTo>
                  <a:pt x="1400" y="1400"/>
                </a:lnTo>
                <a:close/>
              </a:path>
              <a:path fill="darken" w="30050" h="21600">
                <a:moveTo>
                  <a:pt x="30050" y="0"/>
                </a:moveTo>
                <a:lnTo>
                  <a:pt x="30050" y="21600"/>
                </a:lnTo>
                <a:lnTo>
                  <a:pt x="28650" y="20200"/>
                </a:lnTo>
                <a:lnTo>
                  <a:pt x="28650" y="1400"/>
                </a:lnTo>
                <a:close/>
              </a:path>
              <a:path fill="darkenLess" w="30050" h="21600">
                <a:moveTo>
                  <a:pt x="300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650" y="20200"/>
                </a:lnTo>
                <a:close/>
              </a:path>
              <a:path fill="lighten" w="300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050" h="21600">
                <a:moveTo>
                  <a:pt x="8019" y="10800"/>
                </a:moveTo>
                <a:lnTo>
                  <a:pt x="22032" y="3794"/>
                </a:lnTo>
                <a:lnTo>
                  <a:pt x="22032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25" name="AutoShape 4">
            <a:hlinkClick r:id="rId1" action="ppaction://hlinksldjump"/>
          </p:cNvPr>
          <p:cNvSpPr/>
          <p:nvPr/>
        </p:nvSpPr>
        <p:spPr>
          <a:xfrm>
            <a:off x="7596360" y="6237360"/>
            <a:ext cx="576000" cy="360360"/>
          </a:xfrm>
          <a:custGeom>
            <a:avLst/>
            <a:gdLst>
              <a:gd name="textAreaLeft" fmla="*/ 23040 w 576000"/>
              <a:gd name="textAreaRight" fmla="*/ 552960 w 576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13" h="21600">
                <a:moveTo>
                  <a:pt x="0" y="0"/>
                </a:moveTo>
                <a:lnTo>
                  <a:pt x="34513" y="0"/>
                </a:lnTo>
                <a:lnTo>
                  <a:pt x="34513" y="21600"/>
                </a:lnTo>
                <a:lnTo>
                  <a:pt x="0" y="21600"/>
                </a:lnTo>
                <a:close/>
              </a:path>
              <a:path fill="lightenLess" w="34513" h="21600">
                <a:moveTo>
                  <a:pt x="0" y="0"/>
                </a:moveTo>
                <a:lnTo>
                  <a:pt x="34513" y="0"/>
                </a:lnTo>
                <a:lnTo>
                  <a:pt x="33113" y="1400"/>
                </a:lnTo>
                <a:lnTo>
                  <a:pt x="1400" y="1400"/>
                </a:lnTo>
                <a:close/>
              </a:path>
              <a:path fill="darken" w="34513" h="21600">
                <a:moveTo>
                  <a:pt x="34513" y="0"/>
                </a:moveTo>
                <a:lnTo>
                  <a:pt x="34513" y="21600"/>
                </a:lnTo>
                <a:lnTo>
                  <a:pt x="33113" y="20200"/>
                </a:lnTo>
                <a:lnTo>
                  <a:pt x="33113" y="1400"/>
                </a:lnTo>
                <a:close/>
              </a:path>
              <a:path fill="darkenLess" w="34513" h="21600">
                <a:moveTo>
                  <a:pt x="34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13" y="20200"/>
                </a:lnTo>
                <a:close/>
              </a:path>
              <a:path fill="lighten" w="34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13" h="21600">
                <a:moveTo>
                  <a:pt x="17256" y="3837"/>
                </a:moveTo>
                <a:lnTo>
                  <a:pt x="19833" y="6448"/>
                </a:lnTo>
                <a:lnTo>
                  <a:pt x="19833" y="4707"/>
                </a:lnTo>
                <a:lnTo>
                  <a:pt x="21608" y="4707"/>
                </a:lnTo>
                <a:lnTo>
                  <a:pt x="21608" y="8224"/>
                </a:lnTo>
                <a:lnTo>
                  <a:pt x="24219" y="10800"/>
                </a:lnTo>
                <a:lnTo>
                  <a:pt x="22566" y="10800"/>
                </a:lnTo>
                <a:lnTo>
                  <a:pt x="22566" y="17989"/>
                </a:lnTo>
                <a:lnTo>
                  <a:pt x="11947" y="17989"/>
                </a:lnTo>
                <a:lnTo>
                  <a:pt x="11947" y="10800"/>
                </a:lnTo>
                <a:lnTo>
                  <a:pt x="10293" y="10800"/>
                </a:lnTo>
                <a:close/>
              </a:path>
              <a:path fill="darkenLess" w="34513" h="21600">
                <a:moveTo>
                  <a:pt x="19833" y="6448"/>
                </a:moveTo>
                <a:lnTo>
                  <a:pt x="19833" y="4707"/>
                </a:lnTo>
                <a:lnTo>
                  <a:pt x="21608" y="4707"/>
                </a:lnTo>
                <a:lnTo>
                  <a:pt x="21608" y="8224"/>
                </a:lnTo>
                <a:close/>
              </a:path>
              <a:path fill="darkenLess" w="34513" h="21600">
                <a:moveTo>
                  <a:pt x="16334" y="14299"/>
                </a:moveTo>
                <a:lnTo>
                  <a:pt x="18179" y="14299"/>
                </a:lnTo>
                <a:lnTo>
                  <a:pt x="18179" y="17989"/>
                </a:lnTo>
                <a:lnTo>
                  <a:pt x="22566" y="17989"/>
                </a:lnTo>
                <a:lnTo>
                  <a:pt x="22566" y="10800"/>
                </a:lnTo>
                <a:lnTo>
                  <a:pt x="11947" y="10800"/>
                </a:lnTo>
                <a:lnTo>
                  <a:pt x="11947" y="17989"/>
                </a:lnTo>
                <a:lnTo>
                  <a:pt x="16334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26" name="AutoShape 7"/>
          <p:cNvSpPr/>
          <p:nvPr/>
        </p:nvSpPr>
        <p:spPr>
          <a:xfrm>
            <a:off x="324000" y="549360"/>
            <a:ext cx="8280360" cy="150336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00"/>
                </a:solidFill>
                <a:latin typeface="Verdana"/>
              </a:rPr>
              <a:t>Модель А. Распределенный класс</a:t>
            </a:r>
            <a:br>
              <a:rPr sz="3200"/>
            </a:br>
            <a:br>
              <a:rPr sz="1800"/>
            </a:br>
            <a:endParaRPr b="1" i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2422440"/>
            <a:ext cx="914400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1800" spc="-1" strike="noStrike">
                <a:solidFill>
                  <a:srgbClr val="ccecff"/>
                </a:solidFill>
                <a:latin typeface="Arial"/>
              </a:rPr>
              <a:t>Эта модель рассчитана на свободное размещение учащихся, возможность работать в асинхронном режиме. Учащиеся работают самостоятельно.</a:t>
            </a:r>
            <a:br>
              <a:rPr sz="1800"/>
            </a:br>
            <a:r>
              <a:rPr b="0" lang="en-GB" sz="1800" spc="-1" strike="noStrike">
                <a:solidFill>
                  <a:srgbClr val="ccecff"/>
                </a:solidFill>
                <a:latin typeface="Arial"/>
              </a:rPr>
              <a:t> Их обеспечивают всем необходимым методическим и учебным материалом, включая подробные учебные программы.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AutoShape 2">
            <a:hlinkClick r:id="" action="ppaction://hlinkshowjump?jump=nextslide"/>
          </p:cNvPr>
          <p:cNvSpPr/>
          <p:nvPr/>
        </p:nvSpPr>
        <p:spPr>
          <a:xfrm>
            <a:off x="8101080" y="609300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2" h="21600">
                <a:moveTo>
                  <a:pt x="5585" y="3794"/>
                </a:moveTo>
                <a:lnTo>
                  <a:pt x="19597" y="10800"/>
                </a:lnTo>
                <a:lnTo>
                  <a:pt x="5585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29" name="AutoShape 3">
            <a:hlinkClick r:id="" action="ppaction://hlinkshowjump?jump=previousslide"/>
          </p:cNvPr>
          <p:cNvSpPr/>
          <p:nvPr/>
        </p:nvSpPr>
        <p:spPr>
          <a:xfrm>
            <a:off x="7093080" y="609300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10800"/>
                </a:moveTo>
                <a:lnTo>
                  <a:pt x="19633" y="3794"/>
                </a:lnTo>
                <a:lnTo>
                  <a:pt x="19633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30" name="AutoShape 4">
            <a:hlinkClick r:id="rId1" action="ppaction://hlinksldjump"/>
          </p:cNvPr>
          <p:cNvSpPr/>
          <p:nvPr/>
        </p:nvSpPr>
        <p:spPr>
          <a:xfrm>
            <a:off x="7596360" y="609300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12627" y="3837"/>
                </a:moveTo>
                <a:lnTo>
                  <a:pt x="15203" y="6448"/>
                </a:lnTo>
                <a:lnTo>
                  <a:pt x="15203" y="4707"/>
                </a:lnTo>
                <a:lnTo>
                  <a:pt x="16979" y="4707"/>
                </a:lnTo>
                <a:lnTo>
                  <a:pt x="16979" y="8224"/>
                </a:lnTo>
                <a:lnTo>
                  <a:pt x="19590" y="10800"/>
                </a:lnTo>
                <a:lnTo>
                  <a:pt x="17936" y="10800"/>
                </a:lnTo>
                <a:lnTo>
                  <a:pt x="17936" y="17989"/>
                </a:lnTo>
                <a:lnTo>
                  <a:pt x="7318" y="17989"/>
                </a:lnTo>
                <a:lnTo>
                  <a:pt x="7318" y="10800"/>
                </a:lnTo>
                <a:lnTo>
                  <a:pt x="5664" y="10800"/>
                </a:lnTo>
                <a:close/>
              </a:path>
              <a:path fill="darkenLess" w="25254" h="21600">
                <a:moveTo>
                  <a:pt x="15203" y="6448"/>
                </a:moveTo>
                <a:lnTo>
                  <a:pt x="15203" y="4707"/>
                </a:lnTo>
                <a:lnTo>
                  <a:pt x="16979" y="4707"/>
                </a:lnTo>
                <a:lnTo>
                  <a:pt x="16979" y="8224"/>
                </a:lnTo>
                <a:close/>
              </a:path>
              <a:path fill="darkenLess" w="25254" h="21600">
                <a:moveTo>
                  <a:pt x="11704" y="14299"/>
                </a:moveTo>
                <a:lnTo>
                  <a:pt x="13550" y="14299"/>
                </a:lnTo>
                <a:lnTo>
                  <a:pt x="13550" y="17989"/>
                </a:lnTo>
                <a:lnTo>
                  <a:pt x="17936" y="17989"/>
                </a:lnTo>
                <a:lnTo>
                  <a:pt x="17936" y="10800"/>
                </a:lnTo>
                <a:lnTo>
                  <a:pt x="7318" y="10800"/>
                </a:lnTo>
                <a:lnTo>
                  <a:pt x="7318" y="17989"/>
                </a:lnTo>
                <a:lnTo>
                  <a:pt x="11704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31" name="AutoShape 6"/>
          <p:cNvSpPr/>
          <p:nvPr/>
        </p:nvSpPr>
        <p:spPr>
          <a:xfrm>
            <a:off x="324000" y="620640"/>
            <a:ext cx="8353440" cy="208908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00"/>
                </a:solidFill>
                <a:latin typeface="Verdana"/>
              </a:rPr>
              <a:t>Модель Б. Самостоятельная </a:t>
            </a:r>
            <a:endParaRPr b="1" i="1" lang="en-US" sz="3200" spc="-1" strike="noStrike">
              <a:solidFill>
                <a:srgbClr val="ffff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00"/>
                </a:solidFill>
                <a:latin typeface="Verdana"/>
              </a:rPr>
              <a:t>работа учащихся</a:t>
            </a:r>
            <a:r>
              <a:rPr b="1" i="1" lang="ru-RU" sz="3200" spc="-1" strike="noStrike">
                <a:solidFill>
                  <a:srgbClr val="ffff00"/>
                </a:solidFill>
                <a:latin typeface="Verdana"/>
              </a:rPr>
              <a:t>.</a:t>
            </a:r>
            <a:br>
              <a:rPr sz="3200"/>
            </a:br>
            <a:endParaRPr b="1" i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2142720"/>
            <a:ext cx="9144000" cy="25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ecff"/>
                </a:solidFill>
                <a:latin typeface="Arial"/>
              </a:rPr>
              <a:t>Модель предусматривает использование традиционного печатного материала,</a:t>
            </a:r>
            <a:br>
              <a:rPr sz="1800"/>
            </a:br>
            <a:r>
              <a:rPr b="0" lang="en-GB" sz="1800" spc="-1" strike="noStrike">
                <a:solidFill>
                  <a:srgbClr val="ccecff"/>
                </a:solidFill>
                <a:latin typeface="Arial"/>
              </a:rPr>
              <a:t> других средств обучения (видеозапись, CD), которые должны обеспечить студенту возможность работать в индивидуальном темпе, используя при этом в случае необходимости интерактивные телекоммуникационные технологии для групповой работы студентов.</a:t>
            </a:r>
            <a:br>
              <a:rPr sz="1800"/>
            </a:b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AutoShape 2">
            <a:hlinkClick r:id="" action="ppaction://hlinkshowjump?jump=nextslide"/>
          </p:cNvPr>
          <p:cNvSpPr/>
          <p:nvPr/>
        </p:nvSpPr>
        <p:spPr>
          <a:xfrm>
            <a:off x="8388360" y="61657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7400" y="3794"/>
                </a:moveTo>
                <a:lnTo>
                  <a:pt x="21412" y="10800"/>
                </a:lnTo>
                <a:lnTo>
                  <a:pt x="7400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34" name="AutoShape 3">
            <a:hlinkClick r:id="" action="ppaction://hlinkshowjump?jump=previousslide"/>
          </p:cNvPr>
          <p:cNvSpPr/>
          <p:nvPr/>
        </p:nvSpPr>
        <p:spPr>
          <a:xfrm>
            <a:off x="738036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10800"/>
                </a:moveTo>
                <a:lnTo>
                  <a:pt x="19587" y="3794"/>
                </a:lnTo>
                <a:lnTo>
                  <a:pt x="1958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35" name="AutoShape 4">
            <a:hlinkClick r:id="rId1" action="ppaction://hlinksldjump"/>
          </p:cNvPr>
          <p:cNvSpPr/>
          <p:nvPr/>
        </p:nvSpPr>
        <p:spPr>
          <a:xfrm>
            <a:off x="788508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12581" y="3837"/>
                </a:moveTo>
                <a:lnTo>
                  <a:pt x="15157" y="6448"/>
                </a:lnTo>
                <a:lnTo>
                  <a:pt x="15157" y="4707"/>
                </a:lnTo>
                <a:lnTo>
                  <a:pt x="16932" y="4707"/>
                </a:lnTo>
                <a:lnTo>
                  <a:pt x="16932" y="8224"/>
                </a:lnTo>
                <a:lnTo>
                  <a:pt x="19543" y="10800"/>
                </a:lnTo>
                <a:lnTo>
                  <a:pt x="17890" y="10800"/>
                </a:lnTo>
                <a:lnTo>
                  <a:pt x="17890" y="17989"/>
                </a:lnTo>
                <a:lnTo>
                  <a:pt x="7271" y="17989"/>
                </a:lnTo>
                <a:lnTo>
                  <a:pt x="7271" y="10800"/>
                </a:lnTo>
                <a:lnTo>
                  <a:pt x="5618" y="10800"/>
                </a:lnTo>
                <a:close/>
              </a:path>
              <a:path fill="darkenLess" w="25161" h="21600">
                <a:moveTo>
                  <a:pt x="15157" y="6448"/>
                </a:moveTo>
                <a:lnTo>
                  <a:pt x="15157" y="4707"/>
                </a:lnTo>
                <a:lnTo>
                  <a:pt x="16932" y="4707"/>
                </a:lnTo>
                <a:lnTo>
                  <a:pt x="16932" y="8224"/>
                </a:lnTo>
                <a:close/>
              </a:path>
              <a:path fill="darkenLess" w="25161" h="21600">
                <a:moveTo>
                  <a:pt x="11658" y="14299"/>
                </a:moveTo>
                <a:lnTo>
                  <a:pt x="13503" y="14299"/>
                </a:lnTo>
                <a:lnTo>
                  <a:pt x="13503" y="17989"/>
                </a:lnTo>
                <a:lnTo>
                  <a:pt x="17890" y="17989"/>
                </a:lnTo>
                <a:lnTo>
                  <a:pt x="17890" y="10800"/>
                </a:lnTo>
                <a:lnTo>
                  <a:pt x="7271" y="10800"/>
                </a:lnTo>
                <a:lnTo>
                  <a:pt x="7271" y="17989"/>
                </a:lnTo>
                <a:lnTo>
                  <a:pt x="11658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36" name="AutoShape 6"/>
          <p:cNvSpPr/>
          <p:nvPr/>
        </p:nvSpPr>
        <p:spPr>
          <a:xfrm>
            <a:off x="250920" y="189000"/>
            <a:ext cx="8137440" cy="187164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Verdana"/>
              </a:rPr>
              <a:t>Модель С. Открытое образование + класс</a:t>
            </a:r>
            <a:r>
              <a:rPr b="1" i="1" lang="en-GB" sz="2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2800"/>
            </a:br>
            <a:endParaRPr b="1" i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2376000"/>
            <a:ext cx="9144000" cy="210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Интеграция очных и дистанционных форм обучения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ccecff"/>
                </a:solidFill>
                <a:latin typeface="Arial"/>
              </a:rPr>
              <a:t>Наиболее перспективная модель, причем применительно как к школьному образованию (профильные курсы, использование курсов ДО для объеденения знаний, ликвидации пробелов в знаниях), так и  </a:t>
            </a: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к</a:t>
            </a:r>
            <a:r>
              <a:rPr b="0" lang="en-GB" sz="2000" spc="-1" strike="noStrike">
                <a:solidFill>
                  <a:srgbClr val="ccecff"/>
                </a:solidFill>
                <a:latin typeface="Arial"/>
              </a:rPr>
              <a:t> проф</a:t>
            </a: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и</a:t>
            </a:r>
            <a:r>
              <a:rPr b="0" lang="en-GB" sz="2000" spc="-1" strike="noStrike">
                <a:solidFill>
                  <a:srgbClr val="ccecff"/>
                </a:solidFill>
                <a:latin typeface="Arial"/>
              </a:rPr>
              <a:t>льном</a:t>
            </a: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у </a:t>
            </a:r>
            <a:r>
              <a:rPr b="0" lang="en-GB" sz="2000" spc="-1" strike="noStrike">
                <a:solidFill>
                  <a:srgbClr val="ccecff"/>
                </a:solidFill>
                <a:latin typeface="Arial"/>
              </a:rPr>
              <a:t> обучени</a:t>
            </a: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ю</a:t>
            </a:r>
            <a:r>
              <a:rPr b="0" lang="en-GB" sz="20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AutoShape 2">
            <a:hlinkClick r:id="" action="ppaction://hlinkshowjump?jump=nextslide"/>
          </p:cNvPr>
          <p:cNvSpPr/>
          <p:nvPr/>
        </p:nvSpPr>
        <p:spPr>
          <a:xfrm>
            <a:off x="8244000" y="602136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5353" y="3794"/>
                </a:moveTo>
                <a:lnTo>
                  <a:pt x="19366" y="10800"/>
                </a:lnTo>
                <a:lnTo>
                  <a:pt x="5353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39" name="AutoShape 3">
            <a:hlinkClick r:id="" action="ppaction://hlinkshowjump?jump=previousslide"/>
          </p:cNvPr>
          <p:cNvSpPr/>
          <p:nvPr/>
        </p:nvSpPr>
        <p:spPr>
          <a:xfrm>
            <a:off x="7093080" y="602136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5353" y="10800"/>
                </a:moveTo>
                <a:lnTo>
                  <a:pt x="19366" y="3794"/>
                </a:lnTo>
                <a:lnTo>
                  <a:pt x="19366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40" name="AutoShape 4">
            <a:hlinkClick r:id="rId1" action="ppaction://hlinksldjump"/>
          </p:cNvPr>
          <p:cNvSpPr/>
          <p:nvPr/>
        </p:nvSpPr>
        <p:spPr>
          <a:xfrm>
            <a:off x="7667640" y="602136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12367" y="3837"/>
                </a:moveTo>
                <a:lnTo>
                  <a:pt x="14943" y="6448"/>
                </a:ln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lnTo>
                  <a:pt x="19330" y="10800"/>
                </a:lnTo>
                <a:lnTo>
                  <a:pt x="17676" y="10800"/>
                </a:lnTo>
                <a:lnTo>
                  <a:pt x="17676" y="17989"/>
                </a:lnTo>
                <a:lnTo>
                  <a:pt x="7058" y="17989"/>
                </a:lnTo>
                <a:lnTo>
                  <a:pt x="7058" y="10800"/>
                </a:lnTo>
                <a:lnTo>
                  <a:pt x="5404" y="10800"/>
                </a:lnTo>
                <a:close/>
              </a:path>
              <a:path fill="darkenLess" w="24734" h="21600">
                <a:moveTo>
                  <a:pt x="14943" y="6448"/>
                </a:move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close/>
              </a:path>
              <a:path fill="darkenLess" w="24734" h="21600">
                <a:moveTo>
                  <a:pt x="11445" y="14299"/>
                </a:moveTo>
                <a:lnTo>
                  <a:pt x="13290" y="14299"/>
                </a:lnTo>
                <a:lnTo>
                  <a:pt x="13290" y="17989"/>
                </a:lnTo>
                <a:lnTo>
                  <a:pt x="17676" y="17989"/>
                </a:lnTo>
                <a:lnTo>
                  <a:pt x="17676" y="10800"/>
                </a:lnTo>
                <a:lnTo>
                  <a:pt x="7058" y="10800"/>
                </a:lnTo>
                <a:lnTo>
                  <a:pt x="7058" y="17989"/>
                </a:lnTo>
                <a:lnTo>
                  <a:pt x="11445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241" name="Picture 5" descr=""/>
          <p:cNvPicPr/>
          <p:nvPr/>
        </p:nvPicPr>
        <p:blipFill>
          <a:blip r:embed="rId2"/>
          <a:stretch/>
        </p:blipFill>
        <p:spPr>
          <a:xfrm>
            <a:off x="6372360" y="189000"/>
            <a:ext cx="2447640" cy="221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1"/>
          <p:cNvSpPr/>
          <p:nvPr/>
        </p:nvSpPr>
        <p:spPr>
          <a:xfrm>
            <a:off x="457200" y="282600"/>
            <a:ext cx="82296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Модель интеграции очной и дистанционной форм для вузов</a:t>
            </a: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i="1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grpSp>
        <p:nvGrpSpPr>
          <p:cNvPr id="243" name="Group 2"/>
          <p:cNvGrpSpPr/>
          <p:nvPr/>
        </p:nvGrpSpPr>
        <p:grpSpPr>
          <a:xfrm>
            <a:off x="-181080" y="620640"/>
            <a:ext cx="8964360" cy="6092640"/>
            <a:chOff x="-181080" y="620640"/>
            <a:chExt cx="8964360" cy="6092640"/>
          </a:xfrm>
        </p:grpSpPr>
        <p:sp>
          <p:nvSpPr>
            <p:cNvPr id="244" name="AutoShape 3"/>
            <p:cNvSpPr/>
            <p:nvPr/>
          </p:nvSpPr>
          <p:spPr>
            <a:xfrm>
              <a:off x="-181080" y="620640"/>
              <a:ext cx="8964360" cy="6092640"/>
            </a:xfrm>
            <a:prstGeom prst="roundRect">
              <a:avLst>
                <a:gd name="adj" fmla="val 3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45" name="Line 4"/>
            <p:cNvSpPr/>
            <p:nvPr/>
          </p:nvSpPr>
          <p:spPr>
            <a:xfrm flipH="1" flipV="1">
              <a:off x="3531600" y="3022200"/>
              <a:ext cx="392400" cy="330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46" name="Oval 5"/>
            <p:cNvSpPr/>
            <p:nvPr/>
          </p:nvSpPr>
          <p:spPr>
            <a:xfrm>
              <a:off x="2669040" y="2200320"/>
              <a:ext cx="975240" cy="10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i="1" lang="en-US" sz="700" spc="-1" strike="noStrike">
                <a:solidFill>
                  <a:srgbClr val="ffff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111111"/>
                  </a:solidFill>
                  <a:latin typeface="Arial"/>
                </a:rPr>
                <a:t>Виртуальные экскурсии</a:t>
              </a:r>
              <a:endParaRPr b="1" i="1" lang="en-US" sz="1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47" name="Line 6"/>
            <p:cNvSpPr/>
            <p:nvPr/>
          </p:nvSpPr>
          <p:spPr>
            <a:xfrm flipH="1">
              <a:off x="3344760" y="3780000"/>
              <a:ext cx="485640" cy="113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48" name="Oval 7"/>
            <p:cNvSpPr/>
            <p:nvPr/>
          </p:nvSpPr>
          <p:spPr>
            <a:xfrm>
              <a:off x="2386800" y="3496320"/>
              <a:ext cx="975240" cy="10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i="1" lang="en-US" sz="700" spc="-1" strike="noStrike">
                <a:solidFill>
                  <a:srgbClr val="ffff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111111"/>
                  </a:solidFill>
                  <a:latin typeface="Arial"/>
                </a:rPr>
                <a:t>практика</a:t>
              </a:r>
              <a:endParaRPr b="1" i="1" lang="en-US" sz="1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49" name="Line 8"/>
            <p:cNvSpPr/>
            <p:nvPr/>
          </p:nvSpPr>
          <p:spPr>
            <a:xfrm flipH="1">
              <a:off x="3872520" y="4128120"/>
              <a:ext cx="221040" cy="458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50" name="Oval 9"/>
            <p:cNvSpPr/>
            <p:nvPr/>
          </p:nvSpPr>
          <p:spPr>
            <a:xfrm>
              <a:off x="3178800" y="4538160"/>
              <a:ext cx="975240" cy="10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i="1" lang="en-US" sz="700" spc="-1" strike="noStrike">
                <a:solidFill>
                  <a:srgbClr val="ffff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111111"/>
                  </a:solidFill>
                  <a:latin typeface="Arial"/>
                </a:rPr>
                <a:t>Зачеты, экзамены</a:t>
              </a:r>
              <a:endParaRPr b="1" i="1" lang="en-US" sz="1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51" name="Line 10"/>
            <p:cNvSpPr/>
            <p:nvPr/>
          </p:nvSpPr>
          <p:spPr>
            <a:xfrm>
              <a:off x="4514040" y="4125960"/>
              <a:ext cx="210960" cy="458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52" name="Oval 11"/>
            <p:cNvSpPr/>
            <p:nvPr/>
          </p:nvSpPr>
          <p:spPr>
            <a:xfrm>
              <a:off x="4448160" y="4535640"/>
              <a:ext cx="975240" cy="1022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i="1" lang="en-US" sz="600" spc="-1" strike="noStrike">
                <a:solidFill>
                  <a:srgbClr val="ffff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Verdana"/>
                </a:rPr>
                <a:t>   </a:t>
              </a:r>
              <a:r>
                <a:rPr b="1" lang="en-GB" sz="1000" spc="-1" strike="noStrike">
                  <a:solidFill>
                    <a:srgbClr val="111111"/>
                  </a:solidFill>
                  <a:latin typeface="Arial"/>
                </a:rPr>
                <a:t>Форумы, обсуждения, дискуссии</a:t>
              </a:r>
              <a:endParaRPr b="1" i="1" lang="en-US" sz="1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53" name="Line 12"/>
            <p:cNvSpPr/>
            <p:nvPr/>
          </p:nvSpPr>
          <p:spPr>
            <a:xfrm>
              <a:off x="4776840" y="3780000"/>
              <a:ext cx="475560" cy="113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54" name="Oval 13"/>
            <p:cNvSpPr/>
            <p:nvPr/>
          </p:nvSpPr>
          <p:spPr>
            <a:xfrm>
              <a:off x="5240160" y="3496320"/>
              <a:ext cx="975240" cy="10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111111"/>
                  </a:solidFill>
                  <a:latin typeface="Arial"/>
                </a:rPr>
                <a:t>Лекции(сетевые или видеозаписи</a:t>
              </a:r>
              <a:r>
                <a:rPr b="0" lang="en-GB" sz="1000" spc="-1" strike="noStrike">
                  <a:solidFill>
                    <a:srgbClr val="111111"/>
                  </a:solidFill>
                  <a:latin typeface="Arial"/>
                </a:rPr>
                <a:t>)</a:t>
              </a:r>
              <a:endParaRPr b="1" i="1" lang="en-US" sz="1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55" name="Line 14"/>
            <p:cNvSpPr/>
            <p:nvPr/>
          </p:nvSpPr>
          <p:spPr>
            <a:xfrm flipV="1">
              <a:off x="4681440" y="3022200"/>
              <a:ext cx="380520" cy="330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56" name="Oval 15"/>
            <p:cNvSpPr/>
            <p:nvPr/>
          </p:nvSpPr>
          <p:spPr>
            <a:xfrm>
              <a:off x="4958280" y="2200320"/>
              <a:ext cx="975240" cy="10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i="1" lang="en-US" sz="600" spc="-1" strike="noStrike">
                <a:solidFill>
                  <a:srgbClr val="ffff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111111"/>
                  </a:solidFill>
                  <a:latin typeface="Arial"/>
                </a:rPr>
                <a:t>семинары</a:t>
              </a:r>
              <a:endParaRPr b="1" i="1" lang="en-US" sz="1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57" name="Line 16"/>
            <p:cNvSpPr/>
            <p:nvPr/>
          </p:nvSpPr>
          <p:spPr>
            <a:xfrm flipV="1">
              <a:off x="4300920" y="2637360"/>
              <a:ext cx="1800" cy="52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58" name="Oval 17"/>
            <p:cNvSpPr/>
            <p:nvPr/>
          </p:nvSpPr>
          <p:spPr>
            <a:xfrm>
              <a:off x="3813480" y="1621800"/>
              <a:ext cx="975240" cy="10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i="1" lang="en-US" sz="600" spc="-1" strike="noStrike">
                <a:solidFill>
                  <a:srgbClr val="ffff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111111"/>
                  </a:solidFill>
                  <a:latin typeface="Arial"/>
                </a:rPr>
                <a:t>Обзорные лекции</a:t>
              </a:r>
              <a:endParaRPr b="1" i="1" lang="en-US" sz="1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59" name="Oval 18"/>
            <p:cNvSpPr/>
            <p:nvPr/>
          </p:nvSpPr>
          <p:spPr>
            <a:xfrm>
              <a:off x="3813480" y="3156840"/>
              <a:ext cx="975240" cy="10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i="1" lang="en-US" sz="600" spc="-1" strike="noStrike">
                <a:solidFill>
                  <a:srgbClr val="ffff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111111"/>
                  </a:solidFill>
                  <a:latin typeface="Arial"/>
                </a:rPr>
                <a:t>Дистанционное обучение</a:t>
              </a:r>
              <a:endParaRPr b="1" i="1" lang="en-US" sz="1000" spc="-1" strike="noStrike">
                <a:solidFill>
                  <a:srgbClr val="ffff00"/>
                </a:solidFill>
                <a:latin typeface="Verdana"/>
              </a:endParaRPr>
            </a:p>
          </p:txBody>
        </p:sp>
      </p:grpSp>
      <p:sp>
        <p:nvSpPr>
          <p:cNvPr id="260" name="AutoShape 19">
            <a:hlinkClick r:id="" action="ppaction://hlinkshowjump?jump=nextslide"/>
          </p:cNvPr>
          <p:cNvSpPr/>
          <p:nvPr/>
        </p:nvSpPr>
        <p:spPr>
          <a:xfrm>
            <a:off x="8172360" y="6093000"/>
            <a:ext cx="574920" cy="360360"/>
          </a:xfrm>
          <a:custGeom>
            <a:avLst/>
            <a:gdLst>
              <a:gd name="textAreaLeft" fmla="*/ 23040 w 574920"/>
              <a:gd name="textAreaRight" fmla="*/ 551880 w 574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448" h="21600">
                <a:moveTo>
                  <a:pt x="0" y="0"/>
                </a:moveTo>
                <a:lnTo>
                  <a:pt x="34448" y="0"/>
                </a:lnTo>
                <a:lnTo>
                  <a:pt x="34448" y="21600"/>
                </a:lnTo>
                <a:lnTo>
                  <a:pt x="0" y="21600"/>
                </a:lnTo>
                <a:close/>
              </a:path>
              <a:path fill="lightenLess" w="34448" h="21600">
                <a:moveTo>
                  <a:pt x="0" y="0"/>
                </a:moveTo>
                <a:lnTo>
                  <a:pt x="34448" y="0"/>
                </a:lnTo>
                <a:lnTo>
                  <a:pt x="33048" y="1400"/>
                </a:lnTo>
                <a:lnTo>
                  <a:pt x="1400" y="1400"/>
                </a:lnTo>
                <a:close/>
              </a:path>
              <a:path fill="darken" w="34448" h="21600">
                <a:moveTo>
                  <a:pt x="34448" y="0"/>
                </a:moveTo>
                <a:lnTo>
                  <a:pt x="34448" y="21600"/>
                </a:lnTo>
                <a:lnTo>
                  <a:pt x="33048" y="20200"/>
                </a:lnTo>
                <a:lnTo>
                  <a:pt x="33048" y="1400"/>
                </a:lnTo>
                <a:close/>
              </a:path>
              <a:path fill="darkenLess" w="34448" h="21600">
                <a:moveTo>
                  <a:pt x="344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48" y="20200"/>
                </a:lnTo>
                <a:close/>
              </a:path>
              <a:path fill="lighten" w="344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48" h="21600">
                <a:moveTo>
                  <a:pt x="10217" y="3794"/>
                </a:moveTo>
                <a:lnTo>
                  <a:pt x="24230" y="10800"/>
                </a:lnTo>
                <a:lnTo>
                  <a:pt x="1021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61" name="AutoShape 20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76360" cy="36036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34" h="21600">
                <a:moveTo>
                  <a:pt x="0" y="0"/>
                </a:moveTo>
                <a:lnTo>
                  <a:pt x="34534" y="0"/>
                </a:lnTo>
                <a:lnTo>
                  <a:pt x="34534" y="21600"/>
                </a:lnTo>
                <a:lnTo>
                  <a:pt x="0" y="21600"/>
                </a:lnTo>
                <a:close/>
              </a:path>
              <a:path fill="lightenLess" w="34534" h="21600">
                <a:moveTo>
                  <a:pt x="0" y="0"/>
                </a:moveTo>
                <a:lnTo>
                  <a:pt x="34534" y="0"/>
                </a:lnTo>
                <a:lnTo>
                  <a:pt x="33134" y="1400"/>
                </a:lnTo>
                <a:lnTo>
                  <a:pt x="1400" y="1400"/>
                </a:lnTo>
                <a:close/>
              </a:path>
              <a:path fill="darken" w="34534" h="21600">
                <a:moveTo>
                  <a:pt x="34534" y="0"/>
                </a:moveTo>
                <a:lnTo>
                  <a:pt x="34534" y="21600"/>
                </a:lnTo>
                <a:lnTo>
                  <a:pt x="33134" y="20200"/>
                </a:lnTo>
                <a:lnTo>
                  <a:pt x="33134" y="1400"/>
                </a:lnTo>
                <a:close/>
              </a:path>
              <a:path fill="darkenLess" w="34534" h="21600">
                <a:moveTo>
                  <a:pt x="34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34" y="20200"/>
                </a:lnTo>
                <a:close/>
              </a:path>
              <a:path fill="lighten" w="34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34" h="21600">
                <a:moveTo>
                  <a:pt x="10261" y="10800"/>
                </a:moveTo>
                <a:lnTo>
                  <a:pt x="24274" y="3794"/>
                </a:lnTo>
                <a:lnTo>
                  <a:pt x="2427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62" name="AutoShape 21">
            <a:hlinkClick r:id="rId1" action="ppaction://hlinksldjump"/>
          </p:cNvPr>
          <p:cNvSpPr/>
          <p:nvPr/>
        </p:nvSpPr>
        <p:spPr>
          <a:xfrm>
            <a:off x="7596360" y="6093000"/>
            <a:ext cx="576000" cy="360360"/>
          </a:xfrm>
          <a:custGeom>
            <a:avLst/>
            <a:gdLst>
              <a:gd name="textAreaLeft" fmla="*/ 23040 w 576000"/>
              <a:gd name="textAreaRight" fmla="*/ 552960 w 576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13" h="21600">
                <a:moveTo>
                  <a:pt x="0" y="0"/>
                </a:moveTo>
                <a:lnTo>
                  <a:pt x="34513" y="0"/>
                </a:lnTo>
                <a:lnTo>
                  <a:pt x="34513" y="21600"/>
                </a:lnTo>
                <a:lnTo>
                  <a:pt x="0" y="21600"/>
                </a:lnTo>
                <a:close/>
              </a:path>
              <a:path fill="lightenLess" w="34513" h="21600">
                <a:moveTo>
                  <a:pt x="0" y="0"/>
                </a:moveTo>
                <a:lnTo>
                  <a:pt x="34513" y="0"/>
                </a:lnTo>
                <a:lnTo>
                  <a:pt x="33113" y="1400"/>
                </a:lnTo>
                <a:lnTo>
                  <a:pt x="1400" y="1400"/>
                </a:lnTo>
                <a:close/>
              </a:path>
              <a:path fill="darken" w="34513" h="21600">
                <a:moveTo>
                  <a:pt x="34513" y="0"/>
                </a:moveTo>
                <a:lnTo>
                  <a:pt x="34513" y="21600"/>
                </a:lnTo>
                <a:lnTo>
                  <a:pt x="33113" y="20200"/>
                </a:lnTo>
                <a:lnTo>
                  <a:pt x="33113" y="1400"/>
                </a:lnTo>
                <a:close/>
              </a:path>
              <a:path fill="darkenLess" w="34513" h="21600">
                <a:moveTo>
                  <a:pt x="34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13" y="20200"/>
                </a:lnTo>
                <a:close/>
              </a:path>
              <a:path fill="lighten" w="34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13" h="21600">
                <a:moveTo>
                  <a:pt x="17256" y="3837"/>
                </a:moveTo>
                <a:lnTo>
                  <a:pt x="19833" y="6448"/>
                </a:lnTo>
                <a:lnTo>
                  <a:pt x="19833" y="4707"/>
                </a:lnTo>
                <a:lnTo>
                  <a:pt x="21608" y="4707"/>
                </a:lnTo>
                <a:lnTo>
                  <a:pt x="21608" y="8224"/>
                </a:lnTo>
                <a:lnTo>
                  <a:pt x="24219" y="10800"/>
                </a:lnTo>
                <a:lnTo>
                  <a:pt x="22566" y="10800"/>
                </a:lnTo>
                <a:lnTo>
                  <a:pt x="22566" y="17989"/>
                </a:lnTo>
                <a:lnTo>
                  <a:pt x="11947" y="17989"/>
                </a:lnTo>
                <a:lnTo>
                  <a:pt x="11947" y="10800"/>
                </a:lnTo>
                <a:lnTo>
                  <a:pt x="10293" y="10800"/>
                </a:lnTo>
                <a:close/>
              </a:path>
              <a:path fill="darkenLess" w="34513" h="21600">
                <a:moveTo>
                  <a:pt x="19833" y="6448"/>
                </a:moveTo>
                <a:lnTo>
                  <a:pt x="19833" y="4707"/>
                </a:lnTo>
                <a:lnTo>
                  <a:pt x="21608" y="4707"/>
                </a:lnTo>
                <a:lnTo>
                  <a:pt x="21608" y="8224"/>
                </a:lnTo>
                <a:close/>
              </a:path>
              <a:path fill="darkenLess" w="34513" h="21600">
                <a:moveTo>
                  <a:pt x="16334" y="14299"/>
                </a:moveTo>
                <a:lnTo>
                  <a:pt x="18179" y="14299"/>
                </a:lnTo>
                <a:lnTo>
                  <a:pt x="18179" y="17989"/>
                </a:lnTo>
                <a:lnTo>
                  <a:pt x="22566" y="17989"/>
                </a:lnTo>
                <a:lnTo>
                  <a:pt x="22566" y="10800"/>
                </a:lnTo>
                <a:lnTo>
                  <a:pt x="11947" y="10800"/>
                </a:lnTo>
                <a:lnTo>
                  <a:pt x="11947" y="17989"/>
                </a:lnTo>
                <a:lnTo>
                  <a:pt x="16334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6600" y="883440"/>
            <a:ext cx="79372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Сетевое обучение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4920" y="1980720"/>
            <a:ext cx="833292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33804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26600"/>
                <a:tab algn="l" pos="10775880"/>
                <a:tab algn="l" pos="1077912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Сетевое обучение необходимо для тех случаев, когда возникают сложности с качественным обеспечением учащихся очными формами обучения (для детей-инвалидов, для детей Крайнего Севера и сельской местности, а также для студентов и взрослого населения, желающих повысить свой профессиональный уровень, сменить профессию 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AutoShape 3">
            <a:hlinkClick r:id="" action="ppaction://hlinkshowjump?jump=nextslide"/>
          </p:cNvPr>
          <p:cNvSpPr/>
          <p:nvPr/>
        </p:nvSpPr>
        <p:spPr>
          <a:xfrm>
            <a:off x="8244000" y="6093000"/>
            <a:ext cx="504720" cy="433080"/>
          </a:xfrm>
          <a:custGeom>
            <a:avLst/>
            <a:gdLst>
              <a:gd name="textAreaLeft" fmla="*/ 28080 w 504720"/>
              <a:gd name="textAreaRight" fmla="*/ 476640 w 50472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25170" h="21600">
                <a:moveTo>
                  <a:pt x="0" y="0"/>
                </a:moveTo>
                <a:lnTo>
                  <a:pt x="25170" y="0"/>
                </a:lnTo>
                <a:lnTo>
                  <a:pt x="25170" y="21600"/>
                </a:lnTo>
                <a:lnTo>
                  <a:pt x="0" y="21600"/>
                </a:lnTo>
                <a:close/>
              </a:path>
              <a:path fill="lightenLess" w="25170" h="21600">
                <a:moveTo>
                  <a:pt x="0" y="0"/>
                </a:moveTo>
                <a:lnTo>
                  <a:pt x="25170" y="0"/>
                </a:lnTo>
                <a:lnTo>
                  <a:pt x="23770" y="1400"/>
                </a:lnTo>
                <a:lnTo>
                  <a:pt x="1400" y="1400"/>
                </a:lnTo>
                <a:close/>
              </a:path>
              <a:path fill="darken" w="25170" h="21600">
                <a:moveTo>
                  <a:pt x="25170" y="0"/>
                </a:moveTo>
                <a:lnTo>
                  <a:pt x="25170" y="21600"/>
                </a:lnTo>
                <a:lnTo>
                  <a:pt x="23770" y="20200"/>
                </a:lnTo>
                <a:lnTo>
                  <a:pt x="23770" y="1400"/>
                </a:lnTo>
                <a:close/>
              </a:path>
              <a:path fill="darkenLess" w="25170" h="21600">
                <a:moveTo>
                  <a:pt x="251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70" y="20200"/>
                </a:lnTo>
                <a:close/>
              </a:path>
              <a:path fill="lighten" w="251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70" h="21600">
                <a:moveTo>
                  <a:pt x="5579" y="3794"/>
                </a:moveTo>
                <a:lnTo>
                  <a:pt x="19592" y="10800"/>
                </a:lnTo>
                <a:lnTo>
                  <a:pt x="5579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66" name="AutoShape 4">
            <a:hlinkClick r:id="" action="ppaction://hlinkshowjump?jump=previousslide"/>
          </p:cNvPr>
          <p:cNvSpPr/>
          <p:nvPr/>
        </p:nvSpPr>
        <p:spPr>
          <a:xfrm>
            <a:off x="7236000" y="6093000"/>
            <a:ext cx="504720" cy="433080"/>
          </a:xfrm>
          <a:custGeom>
            <a:avLst/>
            <a:gdLst>
              <a:gd name="textAreaLeft" fmla="*/ 28080 w 504720"/>
              <a:gd name="textAreaRight" fmla="*/ 476640 w 50472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25170" h="21600">
                <a:moveTo>
                  <a:pt x="0" y="0"/>
                </a:moveTo>
                <a:lnTo>
                  <a:pt x="25170" y="0"/>
                </a:lnTo>
                <a:lnTo>
                  <a:pt x="25170" y="21600"/>
                </a:lnTo>
                <a:lnTo>
                  <a:pt x="0" y="21600"/>
                </a:lnTo>
                <a:close/>
              </a:path>
              <a:path fill="lightenLess" w="25170" h="21600">
                <a:moveTo>
                  <a:pt x="0" y="0"/>
                </a:moveTo>
                <a:lnTo>
                  <a:pt x="25170" y="0"/>
                </a:lnTo>
                <a:lnTo>
                  <a:pt x="23770" y="1400"/>
                </a:lnTo>
                <a:lnTo>
                  <a:pt x="1400" y="1400"/>
                </a:lnTo>
                <a:close/>
              </a:path>
              <a:path fill="darken" w="25170" h="21600">
                <a:moveTo>
                  <a:pt x="25170" y="0"/>
                </a:moveTo>
                <a:lnTo>
                  <a:pt x="25170" y="21600"/>
                </a:lnTo>
                <a:lnTo>
                  <a:pt x="23770" y="20200"/>
                </a:lnTo>
                <a:lnTo>
                  <a:pt x="23770" y="1400"/>
                </a:lnTo>
                <a:close/>
              </a:path>
              <a:path fill="darkenLess" w="25170" h="21600">
                <a:moveTo>
                  <a:pt x="251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70" y="20200"/>
                </a:lnTo>
                <a:close/>
              </a:path>
              <a:path fill="lighten" w="251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70" h="21600">
                <a:moveTo>
                  <a:pt x="5579" y="10800"/>
                </a:moveTo>
                <a:lnTo>
                  <a:pt x="19592" y="3794"/>
                </a:lnTo>
                <a:lnTo>
                  <a:pt x="19592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67" name="AutoShape 5">
            <a:hlinkClick r:id="rId1" action="ppaction://hlinksldjump"/>
          </p:cNvPr>
          <p:cNvSpPr/>
          <p:nvPr/>
        </p:nvSpPr>
        <p:spPr>
          <a:xfrm>
            <a:off x="7740720" y="6093000"/>
            <a:ext cx="504720" cy="433080"/>
          </a:xfrm>
          <a:custGeom>
            <a:avLst/>
            <a:gdLst>
              <a:gd name="textAreaLeft" fmla="*/ 28080 w 504720"/>
              <a:gd name="textAreaRight" fmla="*/ 476640 w 50472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25170" h="21600">
                <a:moveTo>
                  <a:pt x="0" y="0"/>
                </a:moveTo>
                <a:lnTo>
                  <a:pt x="25170" y="0"/>
                </a:lnTo>
                <a:lnTo>
                  <a:pt x="25170" y="21600"/>
                </a:lnTo>
                <a:lnTo>
                  <a:pt x="0" y="21600"/>
                </a:lnTo>
                <a:close/>
              </a:path>
              <a:path fill="lightenLess" w="25170" h="21600">
                <a:moveTo>
                  <a:pt x="0" y="0"/>
                </a:moveTo>
                <a:lnTo>
                  <a:pt x="25170" y="0"/>
                </a:lnTo>
                <a:lnTo>
                  <a:pt x="23770" y="1400"/>
                </a:lnTo>
                <a:lnTo>
                  <a:pt x="1400" y="1400"/>
                </a:lnTo>
                <a:close/>
              </a:path>
              <a:path fill="darken" w="25170" h="21600">
                <a:moveTo>
                  <a:pt x="25170" y="0"/>
                </a:moveTo>
                <a:lnTo>
                  <a:pt x="25170" y="21600"/>
                </a:lnTo>
                <a:lnTo>
                  <a:pt x="23770" y="20200"/>
                </a:lnTo>
                <a:lnTo>
                  <a:pt x="23770" y="1400"/>
                </a:lnTo>
                <a:close/>
              </a:path>
              <a:path fill="darkenLess" w="25170" h="21600">
                <a:moveTo>
                  <a:pt x="251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70" y="20200"/>
                </a:lnTo>
                <a:close/>
              </a:path>
              <a:path fill="lighten" w="251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70" h="21600">
                <a:moveTo>
                  <a:pt x="12585" y="3837"/>
                </a:moveTo>
                <a:lnTo>
                  <a:pt x="15161" y="6448"/>
                </a:lnTo>
                <a:lnTo>
                  <a:pt x="15161" y="4707"/>
                </a:lnTo>
                <a:lnTo>
                  <a:pt x="16937" y="4707"/>
                </a:lnTo>
                <a:lnTo>
                  <a:pt x="16937" y="8224"/>
                </a:lnTo>
                <a:lnTo>
                  <a:pt x="19548" y="10800"/>
                </a:lnTo>
                <a:lnTo>
                  <a:pt x="17894" y="10800"/>
                </a:lnTo>
                <a:lnTo>
                  <a:pt x="17894" y="17989"/>
                </a:lnTo>
                <a:lnTo>
                  <a:pt x="7276" y="17989"/>
                </a:lnTo>
                <a:lnTo>
                  <a:pt x="7276" y="10800"/>
                </a:lnTo>
                <a:lnTo>
                  <a:pt x="5622" y="10800"/>
                </a:lnTo>
                <a:close/>
              </a:path>
              <a:path fill="darkenLess" w="25170" h="21600">
                <a:moveTo>
                  <a:pt x="15161" y="6448"/>
                </a:moveTo>
                <a:lnTo>
                  <a:pt x="15161" y="4707"/>
                </a:lnTo>
                <a:lnTo>
                  <a:pt x="16937" y="4707"/>
                </a:lnTo>
                <a:lnTo>
                  <a:pt x="16937" y="8224"/>
                </a:lnTo>
                <a:close/>
              </a:path>
              <a:path fill="darkenLess" w="25170" h="21600">
                <a:moveTo>
                  <a:pt x="11662" y="14299"/>
                </a:moveTo>
                <a:lnTo>
                  <a:pt x="13508" y="14299"/>
                </a:lnTo>
                <a:lnTo>
                  <a:pt x="13508" y="17989"/>
                </a:lnTo>
                <a:lnTo>
                  <a:pt x="17894" y="17989"/>
                </a:lnTo>
                <a:lnTo>
                  <a:pt x="17894" y="10800"/>
                </a:lnTo>
                <a:lnTo>
                  <a:pt x="7276" y="10800"/>
                </a:lnTo>
                <a:lnTo>
                  <a:pt x="7276" y="17989"/>
                </a:lnTo>
                <a:lnTo>
                  <a:pt x="11662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1"/>
          <p:cNvSpPr/>
          <p:nvPr/>
        </p:nvSpPr>
        <p:spPr>
          <a:xfrm>
            <a:off x="457200" y="49536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Модель сетевого курса дистанционного обучения</a:t>
            </a: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i="1" lang="en-US" sz="4000" spc="-1" strike="noStrike">
              <a:solidFill>
                <a:srgbClr val="ffff00"/>
              </a:solidFill>
              <a:latin typeface="Verdana"/>
            </a:endParaRPr>
          </a:p>
        </p:txBody>
      </p:sp>
      <p:grpSp>
        <p:nvGrpSpPr>
          <p:cNvPr id="269" name="Group 2"/>
          <p:cNvGrpSpPr/>
          <p:nvPr/>
        </p:nvGrpSpPr>
        <p:grpSpPr>
          <a:xfrm>
            <a:off x="0" y="765000"/>
            <a:ext cx="9324720" cy="5859360"/>
            <a:chOff x="0" y="765000"/>
            <a:chExt cx="9324720" cy="5859360"/>
          </a:xfrm>
        </p:grpSpPr>
        <p:sp>
          <p:nvSpPr>
            <p:cNvPr id="270" name="AutoShape 3"/>
            <p:cNvSpPr/>
            <p:nvPr/>
          </p:nvSpPr>
          <p:spPr>
            <a:xfrm>
              <a:off x="0" y="765000"/>
              <a:ext cx="9324720" cy="5859360"/>
            </a:xfrm>
            <a:prstGeom prst="roundRect">
              <a:avLst>
                <a:gd name="adj" fmla="val 2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71" name="Line 4"/>
            <p:cNvSpPr/>
            <p:nvPr/>
          </p:nvSpPr>
          <p:spPr>
            <a:xfrm flipH="1" flipV="1">
              <a:off x="3920400" y="2530800"/>
              <a:ext cx="500040" cy="781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72" name="Oval 5"/>
            <p:cNvSpPr/>
            <p:nvPr/>
          </p:nvSpPr>
          <p:spPr>
            <a:xfrm>
              <a:off x="3260160" y="1671480"/>
              <a:ext cx="838440" cy="956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111111"/>
                  </a:solidFill>
                  <a:latin typeface="Arial"/>
                </a:rPr>
                <a:t>Информационно- справочный материал</a:t>
              </a:r>
              <a:endParaRPr b="1" i="1" lang="en-US" sz="1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73" name="Line 6"/>
            <p:cNvSpPr/>
            <p:nvPr/>
          </p:nvSpPr>
          <p:spPr>
            <a:xfrm flipH="1" flipV="1">
              <a:off x="3464280" y="3246120"/>
              <a:ext cx="80280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74" name="Oval 7"/>
            <p:cNvSpPr/>
            <p:nvPr/>
          </p:nvSpPr>
          <p:spPr>
            <a:xfrm>
              <a:off x="2653560" y="2626200"/>
              <a:ext cx="838440" cy="956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111111"/>
                  </a:solidFill>
                  <a:latin typeface="Arial"/>
                </a:rPr>
                <a:t>Практические и лабораторные занятия</a:t>
              </a:r>
              <a:endParaRPr b="1" i="1" lang="en-US" sz="1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75" name="Line 8"/>
            <p:cNvSpPr/>
            <p:nvPr/>
          </p:nvSpPr>
          <p:spPr>
            <a:xfrm flipH="1">
              <a:off x="3465720" y="3841920"/>
              <a:ext cx="802800" cy="293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76" name="Oval 9"/>
            <p:cNvSpPr/>
            <p:nvPr/>
          </p:nvSpPr>
          <p:spPr>
            <a:xfrm>
              <a:off x="2653560" y="3806640"/>
              <a:ext cx="838440" cy="956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900" spc="-1" strike="noStrike">
                  <a:solidFill>
                    <a:srgbClr val="111111"/>
                  </a:solidFill>
                  <a:latin typeface="Arial"/>
                </a:rPr>
                <a:t>Задания (индивидуальные, групповые)</a:t>
              </a:r>
              <a:endParaRPr b="1" i="1" lang="en-US" sz="9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77" name="Line 10"/>
            <p:cNvSpPr/>
            <p:nvPr/>
          </p:nvSpPr>
          <p:spPr>
            <a:xfrm flipH="1">
              <a:off x="3920400" y="4079880"/>
              <a:ext cx="500040" cy="770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78" name="Oval 11"/>
            <p:cNvSpPr/>
            <p:nvPr/>
          </p:nvSpPr>
          <p:spPr>
            <a:xfrm>
              <a:off x="3260160" y="4759560"/>
              <a:ext cx="838440" cy="956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i="1" lang="en-US" sz="800" spc="-1" strike="noStrike">
                <a:solidFill>
                  <a:srgbClr val="ffff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900" spc="-1" strike="noStrike">
                  <a:solidFill>
                    <a:srgbClr val="111111"/>
                  </a:solidFill>
                  <a:latin typeface="Arial"/>
                </a:rPr>
                <a:t>Совместная деятельность учащихся</a:t>
              </a:r>
              <a:endParaRPr b="1" i="1" lang="en-US" sz="9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79" name="Line 12"/>
            <p:cNvSpPr/>
            <p:nvPr/>
          </p:nvSpPr>
          <p:spPr>
            <a:xfrm>
              <a:off x="4662360" y="4171320"/>
              <a:ext cx="1440" cy="95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80" name="Oval 13"/>
            <p:cNvSpPr/>
            <p:nvPr/>
          </p:nvSpPr>
          <p:spPr>
            <a:xfrm>
              <a:off x="4242960" y="5124240"/>
              <a:ext cx="838440" cy="956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i="1" lang="en-US" sz="900" spc="-1" strike="noStrike">
                <a:solidFill>
                  <a:srgbClr val="ffff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111111"/>
                  </a:solidFill>
                  <a:latin typeface="Arial"/>
                </a:rPr>
                <a:t>чаты</a:t>
              </a:r>
              <a:endParaRPr b="1" i="1" lang="en-US" sz="1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81" name="Line 14"/>
            <p:cNvSpPr/>
            <p:nvPr/>
          </p:nvSpPr>
          <p:spPr>
            <a:xfrm>
              <a:off x="4908240" y="4079880"/>
              <a:ext cx="490320" cy="770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82" name="Oval 15"/>
            <p:cNvSpPr/>
            <p:nvPr/>
          </p:nvSpPr>
          <p:spPr>
            <a:xfrm>
              <a:off x="5227200" y="4761360"/>
              <a:ext cx="838440" cy="956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111111"/>
                  </a:solidFill>
                  <a:latin typeface="Arial"/>
                </a:rPr>
                <a:t>Текущие объявления</a:t>
              </a:r>
              <a:endParaRPr b="1" i="1" lang="en-US" sz="1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83" name="Line 16"/>
            <p:cNvSpPr/>
            <p:nvPr/>
          </p:nvSpPr>
          <p:spPr>
            <a:xfrm>
              <a:off x="5060520" y="3841920"/>
              <a:ext cx="793080" cy="293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84" name="Oval 17"/>
            <p:cNvSpPr/>
            <p:nvPr/>
          </p:nvSpPr>
          <p:spPr>
            <a:xfrm>
              <a:off x="5834520" y="3806640"/>
              <a:ext cx="838440" cy="956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i="1" lang="en-US" sz="900" spc="-1" strike="noStrike">
                <a:solidFill>
                  <a:srgbClr val="ffff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111111"/>
                  </a:solidFill>
                  <a:latin typeface="Arial"/>
                </a:rPr>
                <a:t>Телекон</a:t>
              </a:r>
              <a:endParaRPr b="1" i="1" lang="en-US" sz="1000" spc="-1" strike="noStrike">
                <a:solidFill>
                  <a:srgbClr val="ffff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111111"/>
                  </a:solidFill>
                  <a:latin typeface="Arial"/>
                </a:rPr>
                <a:t>ференции</a:t>
              </a:r>
              <a:endParaRPr b="1" i="1" lang="en-US" sz="1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85" name="Line 18"/>
            <p:cNvSpPr/>
            <p:nvPr/>
          </p:nvSpPr>
          <p:spPr>
            <a:xfrm flipV="1">
              <a:off x="5060520" y="3246120"/>
              <a:ext cx="79308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86" name="Oval 19"/>
            <p:cNvSpPr/>
            <p:nvPr/>
          </p:nvSpPr>
          <p:spPr>
            <a:xfrm>
              <a:off x="5834520" y="2626200"/>
              <a:ext cx="838440" cy="956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111111"/>
                  </a:solidFill>
                  <a:latin typeface="Arial"/>
                </a:rPr>
                <a:t>Документация учебного процесса</a:t>
              </a:r>
              <a:endParaRPr b="1" i="1" lang="en-US" sz="1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87" name="Line 20"/>
            <p:cNvSpPr/>
            <p:nvPr/>
          </p:nvSpPr>
          <p:spPr>
            <a:xfrm flipV="1">
              <a:off x="4908240" y="2530800"/>
              <a:ext cx="490320" cy="781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88" name="Oval 21"/>
            <p:cNvSpPr/>
            <p:nvPr/>
          </p:nvSpPr>
          <p:spPr>
            <a:xfrm>
              <a:off x="5227200" y="1671480"/>
              <a:ext cx="838440" cy="956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111111"/>
                  </a:solidFill>
                  <a:latin typeface="Arial"/>
                </a:rPr>
                <a:t>Личные дела студентов</a:t>
              </a:r>
              <a:endParaRPr b="1" i="1" lang="en-US" sz="1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89" name="Line 22"/>
            <p:cNvSpPr/>
            <p:nvPr/>
          </p:nvSpPr>
          <p:spPr>
            <a:xfrm flipV="1">
              <a:off x="4662360" y="2257920"/>
              <a:ext cx="1440" cy="964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90" name="Oval 23"/>
            <p:cNvSpPr/>
            <p:nvPr/>
          </p:nvSpPr>
          <p:spPr>
            <a:xfrm>
              <a:off x="4242960" y="1306800"/>
              <a:ext cx="838440" cy="956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111111"/>
                  </a:solidFill>
                  <a:latin typeface="Arial"/>
                </a:rPr>
                <a:t>Общие сведения о курсе</a:t>
              </a:r>
              <a:endParaRPr b="1" i="1" lang="en-US" sz="1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91" name="Oval 24"/>
            <p:cNvSpPr/>
            <p:nvPr/>
          </p:nvSpPr>
          <p:spPr>
            <a:xfrm>
              <a:off x="4242960" y="3216240"/>
              <a:ext cx="838440" cy="956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111111"/>
                  </a:solidFill>
                  <a:latin typeface="Arial"/>
                </a:rPr>
                <a:t>Курс дистанционного обучения.</a:t>
              </a:r>
              <a:endParaRPr b="1" i="1" lang="en-US" sz="1000" spc="-1" strike="noStrike">
                <a:solidFill>
                  <a:srgbClr val="ffff00"/>
                </a:solidFill>
                <a:latin typeface="Verdana"/>
              </a:endParaRPr>
            </a:p>
          </p:txBody>
        </p:sp>
      </p:grpSp>
      <p:sp>
        <p:nvSpPr>
          <p:cNvPr id="292" name="AutoShape 25">
            <a:hlinkClick r:id="" action="ppaction://hlinkshowjump?jump=nextslide"/>
          </p:cNvPr>
          <p:cNvSpPr/>
          <p:nvPr/>
        </p:nvSpPr>
        <p:spPr>
          <a:xfrm>
            <a:off x="8388360" y="6308640"/>
            <a:ext cx="576360" cy="36036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34" h="21600">
                <a:moveTo>
                  <a:pt x="0" y="0"/>
                </a:moveTo>
                <a:lnTo>
                  <a:pt x="34534" y="0"/>
                </a:lnTo>
                <a:lnTo>
                  <a:pt x="34534" y="21600"/>
                </a:lnTo>
                <a:lnTo>
                  <a:pt x="0" y="21600"/>
                </a:lnTo>
                <a:close/>
              </a:path>
              <a:path fill="lightenLess" w="34534" h="21600">
                <a:moveTo>
                  <a:pt x="0" y="0"/>
                </a:moveTo>
                <a:lnTo>
                  <a:pt x="34534" y="0"/>
                </a:lnTo>
                <a:lnTo>
                  <a:pt x="33134" y="1400"/>
                </a:lnTo>
                <a:lnTo>
                  <a:pt x="1400" y="1400"/>
                </a:lnTo>
                <a:close/>
              </a:path>
              <a:path fill="darken" w="34534" h="21600">
                <a:moveTo>
                  <a:pt x="34534" y="0"/>
                </a:moveTo>
                <a:lnTo>
                  <a:pt x="34534" y="21600"/>
                </a:lnTo>
                <a:lnTo>
                  <a:pt x="33134" y="20200"/>
                </a:lnTo>
                <a:lnTo>
                  <a:pt x="33134" y="1400"/>
                </a:lnTo>
                <a:close/>
              </a:path>
              <a:path fill="darkenLess" w="34534" h="21600">
                <a:moveTo>
                  <a:pt x="34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34" y="20200"/>
                </a:lnTo>
                <a:close/>
              </a:path>
              <a:path fill="lighten" w="34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34" h="21600">
                <a:moveTo>
                  <a:pt x="10261" y="3794"/>
                </a:moveTo>
                <a:lnTo>
                  <a:pt x="24274" y="10800"/>
                </a:lnTo>
                <a:lnTo>
                  <a:pt x="10261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93" name="AutoShape 26">
            <a:hlinkClick r:id="" action="ppaction://hlinkshowjump?jump=previousslide"/>
          </p:cNvPr>
          <p:cNvSpPr/>
          <p:nvPr/>
        </p:nvSpPr>
        <p:spPr>
          <a:xfrm>
            <a:off x="7451640" y="630864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10800"/>
                </a:moveTo>
                <a:lnTo>
                  <a:pt x="22139" y="3794"/>
                </a:lnTo>
                <a:lnTo>
                  <a:pt x="22139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94" name="AutoShape 27">
            <a:hlinkClick r:id="rId1" action="ppaction://hlinksldjump"/>
          </p:cNvPr>
          <p:cNvSpPr/>
          <p:nvPr/>
        </p:nvSpPr>
        <p:spPr>
          <a:xfrm>
            <a:off x="795672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15068" y="3837"/>
                </a:moveTo>
                <a:lnTo>
                  <a:pt x="17645" y="6448"/>
                </a:lnTo>
                <a:lnTo>
                  <a:pt x="17645" y="4707"/>
                </a:lnTo>
                <a:lnTo>
                  <a:pt x="19420" y="4707"/>
                </a:lnTo>
                <a:lnTo>
                  <a:pt x="19420" y="8224"/>
                </a:lnTo>
                <a:lnTo>
                  <a:pt x="22031" y="10800"/>
                </a:lnTo>
                <a:lnTo>
                  <a:pt x="20378" y="10800"/>
                </a:lnTo>
                <a:lnTo>
                  <a:pt x="20378" y="17989"/>
                </a:lnTo>
                <a:lnTo>
                  <a:pt x="9759" y="17989"/>
                </a:lnTo>
                <a:lnTo>
                  <a:pt x="9759" y="10800"/>
                </a:lnTo>
                <a:lnTo>
                  <a:pt x="8105" y="10800"/>
                </a:lnTo>
                <a:close/>
              </a:path>
              <a:path fill="darkenLess" w="30137" h="21600">
                <a:moveTo>
                  <a:pt x="17645" y="6448"/>
                </a:moveTo>
                <a:lnTo>
                  <a:pt x="17645" y="4707"/>
                </a:lnTo>
                <a:lnTo>
                  <a:pt x="19420" y="4707"/>
                </a:lnTo>
                <a:lnTo>
                  <a:pt x="19420" y="8224"/>
                </a:lnTo>
                <a:close/>
              </a:path>
              <a:path fill="darkenLess" w="30137" h="21600">
                <a:moveTo>
                  <a:pt x="14146" y="14299"/>
                </a:moveTo>
                <a:lnTo>
                  <a:pt x="15991" y="14299"/>
                </a:lnTo>
                <a:lnTo>
                  <a:pt x="15991" y="17989"/>
                </a:lnTo>
                <a:lnTo>
                  <a:pt x="20378" y="17989"/>
                </a:lnTo>
                <a:lnTo>
                  <a:pt x="20378" y="10800"/>
                </a:lnTo>
                <a:lnTo>
                  <a:pt x="9759" y="10800"/>
                </a:lnTo>
                <a:lnTo>
                  <a:pt x="9759" y="17989"/>
                </a:lnTo>
                <a:lnTo>
                  <a:pt x="14146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1774080"/>
            <a:ext cx="9144000" cy="35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Интерактивное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телевидение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(Two-way TV)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GB" sz="2000" spc="-1" strike="noStrike">
                <a:solidFill>
                  <a:srgbClr val="ccecff"/>
                </a:solidFill>
                <a:latin typeface="Arial"/>
              </a:rPr>
              <a:t>Последняя модель (интерактивное телевидение) связана с телевизионными технологиями и пока очень дорогая. Это трансляция занятий с помощью видеокамер и телевизионного оборудования на расстояние.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6" name="AutoShape 2">
            <a:hlinkClick r:id="" action="ppaction://hlinkshowjump?jump=nextslide"/>
          </p:cNvPr>
          <p:cNvSpPr/>
          <p:nvPr/>
        </p:nvSpPr>
        <p:spPr>
          <a:xfrm>
            <a:off x="817236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19587" y="10800"/>
                </a:lnTo>
                <a:lnTo>
                  <a:pt x="557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97" name="AutoShape 3">
            <a:hlinkClick r:id="" action="ppaction://hlinkshowjump?jump=previousslide"/>
          </p:cNvPr>
          <p:cNvSpPr/>
          <p:nvPr/>
        </p:nvSpPr>
        <p:spPr>
          <a:xfrm>
            <a:off x="716436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10800"/>
                </a:moveTo>
                <a:lnTo>
                  <a:pt x="19587" y="3794"/>
                </a:lnTo>
                <a:lnTo>
                  <a:pt x="1958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98" name="AutoShape 4">
            <a:hlinkClick r:id="rId1" action="ppaction://hlinksldjump"/>
          </p:cNvPr>
          <p:cNvSpPr/>
          <p:nvPr/>
        </p:nvSpPr>
        <p:spPr>
          <a:xfrm>
            <a:off x="766764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12581" y="3837"/>
                </a:moveTo>
                <a:lnTo>
                  <a:pt x="15157" y="6448"/>
                </a:lnTo>
                <a:lnTo>
                  <a:pt x="15157" y="4707"/>
                </a:lnTo>
                <a:lnTo>
                  <a:pt x="16932" y="4707"/>
                </a:lnTo>
                <a:lnTo>
                  <a:pt x="16932" y="8224"/>
                </a:lnTo>
                <a:lnTo>
                  <a:pt x="19543" y="10800"/>
                </a:lnTo>
                <a:lnTo>
                  <a:pt x="17890" y="10800"/>
                </a:lnTo>
                <a:lnTo>
                  <a:pt x="17890" y="17989"/>
                </a:lnTo>
                <a:lnTo>
                  <a:pt x="7271" y="17989"/>
                </a:lnTo>
                <a:lnTo>
                  <a:pt x="7271" y="10800"/>
                </a:lnTo>
                <a:lnTo>
                  <a:pt x="5618" y="10800"/>
                </a:lnTo>
                <a:close/>
              </a:path>
              <a:path fill="darkenLess" w="25161" h="21600">
                <a:moveTo>
                  <a:pt x="15157" y="6448"/>
                </a:moveTo>
                <a:lnTo>
                  <a:pt x="15157" y="4707"/>
                </a:lnTo>
                <a:lnTo>
                  <a:pt x="16932" y="4707"/>
                </a:lnTo>
                <a:lnTo>
                  <a:pt x="16932" y="8224"/>
                </a:lnTo>
                <a:close/>
              </a:path>
              <a:path fill="darkenLess" w="25161" h="21600">
                <a:moveTo>
                  <a:pt x="11658" y="14299"/>
                </a:moveTo>
                <a:lnTo>
                  <a:pt x="13503" y="14299"/>
                </a:lnTo>
                <a:lnTo>
                  <a:pt x="13503" y="17989"/>
                </a:lnTo>
                <a:lnTo>
                  <a:pt x="17890" y="17989"/>
                </a:lnTo>
                <a:lnTo>
                  <a:pt x="17890" y="10800"/>
                </a:lnTo>
                <a:lnTo>
                  <a:pt x="7271" y="10800"/>
                </a:lnTo>
                <a:lnTo>
                  <a:pt x="7271" y="17989"/>
                </a:lnTo>
                <a:lnTo>
                  <a:pt x="11658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4000" y="507240"/>
            <a:ext cx="8229600" cy="536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                                          </a:t>
            </a:r>
            <a:r>
              <a:rPr b="0" lang="en-GB" sz="2000" spc="-1" strike="noStrike">
                <a:solidFill>
                  <a:srgbClr val="ccecff"/>
                </a:solidFill>
                <a:latin typeface="Arial"/>
              </a:rPr>
              <a:t>Содержание: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ccecff"/>
                </a:solidFill>
                <a:latin typeface="Arial"/>
              </a:rPr>
              <a:t>1.Модели дистанционного обучения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:</a:t>
            </a: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ccecff"/>
                </a:solidFill>
                <a:latin typeface="Arial"/>
              </a:rPr>
              <a:t>1.</a:t>
            </a: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1 Обучение по типу экстерната.</a:t>
            </a: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      1.2 Университетское обучение.</a:t>
            </a: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      1.3 Обучение основанное на сотрудничестве    нескольких учебных заведений.</a:t>
            </a: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      1.4 Обучение в специализированных образовательных учреждениях.</a:t>
            </a: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      1.5 Автономные обучающие системы.</a:t>
            </a: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      1.6 Неформальное, интегрирующее дистанционное обучение.</a:t>
            </a:r>
            <a:br>
              <a:rPr sz="18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2. Другой подход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:</a:t>
            </a:r>
            <a:br>
              <a:rPr sz="2000"/>
            </a:b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      2.1 Распределенный класс.</a:t>
            </a: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      2.2 Самостоятельная работа учащихся.</a:t>
            </a: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      2.3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Открытое образование + класс.</a:t>
            </a:r>
            <a:br>
              <a:rPr sz="18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3. Интеграция очных и дистанционных форм обучения</a:t>
            </a: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.</a:t>
            </a:r>
            <a:br>
              <a:rPr sz="18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4. Сетевое обучение. 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5. Интерактивное телевидение(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Two-</a:t>
            </a: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way TV).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6. Литература.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AutoShape 2">
            <a:hlinkClick r:id="" action="ppaction://hlinkshowjump?jump=nextslide"/>
          </p:cNvPr>
          <p:cNvSpPr/>
          <p:nvPr/>
        </p:nvSpPr>
        <p:spPr>
          <a:xfrm>
            <a:off x="8101080" y="6093000"/>
            <a:ext cx="465120" cy="360360"/>
          </a:xfrm>
          <a:custGeom>
            <a:avLst/>
            <a:gdLst>
              <a:gd name="textAreaLeft" fmla="*/ 23040 w 465120"/>
              <a:gd name="textAreaRight" fmla="*/ 442080 w 4651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7873" h="21600">
                <a:moveTo>
                  <a:pt x="0" y="0"/>
                </a:moveTo>
                <a:lnTo>
                  <a:pt x="27873" y="0"/>
                </a:lnTo>
                <a:lnTo>
                  <a:pt x="27873" y="21600"/>
                </a:lnTo>
                <a:lnTo>
                  <a:pt x="0" y="21600"/>
                </a:lnTo>
                <a:close/>
              </a:path>
              <a:path fill="lightenLess" w="27873" h="21600">
                <a:moveTo>
                  <a:pt x="0" y="0"/>
                </a:moveTo>
                <a:lnTo>
                  <a:pt x="27873" y="0"/>
                </a:lnTo>
                <a:lnTo>
                  <a:pt x="26473" y="1400"/>
                </a:lnTo>
                <a:lnTo>
                  <a:pt x="1400" y="1400"/>
                </a:lnTo>
                <a:close/>
              </a:path>
              <a:path fill="darken" w="27873" h="21600">
                <a:moveTo>
                  <a:pt x="27873" y="0"/>
                </a:moveTo>
                <a:lnTo>
                  <a:pt x="27873" y="21600"/>
                </a:lnTo>
                <a:lnTo>
                  <a:pt x="26473" y="20200"/>
                </a:lnTo>
                <a:lnTo>
                  <a:pt x="26473" y="1400"/>
                </a:lnTo>
                <a:close/>
              </a:path>
              <a:path fill="darkenLess" w="27873" h="21600">
                <a:moveTo>
                  <a:pt x="278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73" y="20200"/>
                </a:lnTo>
                <a:close/>
              </a:path>
              <a:path fill="lighten" w="278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873" h="21600">
                <a:moveTo>
                  <a:pt x="6930" y="3794"/>
                </a:moveTo>
                <a:lnTo>
                  <a:pt x="20943" y="10800"/>
                </a:lnTo>
                <a:lnTo>
                  <a:pt x="6930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65" name="AutoShape 3">
            <a:hlinkClick r:id="" action="ppaction://hlinkshowjump?jump=previousslide"/>
          </p:cNvPr>
          <p:cNvSpPr/>
          <p:nvPr/>
        </p:nvSpPr>
        <p:spPr>
          <a:xfrm>
            <a:off x="7093080" y="6093000"/>
            <a:ext cx="431640" cy="3585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5998" h="21600">
                <a:moveTo>
                  <a:pt x="0" y="0"/>
                </a:moveTo>
                <a:lnTo>
                  <a:pt x="25998" y="0"/>
                </a:lnTo>
                <a:lnTo>
                  <a:pt x="25998" y="21600"/>
                </a:lnTo>
                <a:lnTo>
                  <a:pt x="0" y="21600"/>
                </a:lnTo>
                <a:close/>
              </a:path>
              <a:path fill="lightenLess" w="25998" h="21600">
                <a:moveTo>
                  <a:pt x="0" y="0"/>
                </a:moveTo>
                <a:lnTo>
                  <a:pt x="25998" y="0"/>
                </a:lnTo>
                <a:lnTo>
                  <a:pt x="24598" y="1400"/>
                </a:lnTo>
                <a:lnTo>
                  <a:pt x="1400" y="1400"/>
                </a:lnTo>
                <a:close/>
              </a:path>
              <a:path fill="darken" w="25998" h="21600">
                <a:moveTo>
                  <a:pt x="25998" y="0"/>
                </a:moveTo>
                <a:lnTo>
                  <a:pt x="25998" y="21600"/>
                </a:lnTo>
                <a:lnTo>
                  <a:pt x="24598" y="20200"/>
                </a:lnTo>
                <a:lnTo>
                  <a:pt x="24598" y="1400"/>
                </a:lnTo>
                <a:close/>
              </a:path>
              <a:path fill="darkenLess" w="25998" h="21600">
                <a:moveTo>
                  <a:pt x="25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98" y="20200"/>
                </a:lnTo>
                <a:close/>
              </a:path>
              <a:path fill="lighten" w="25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98" h="21600">
                <a:moveTo>
                  <a:pt x="5993" y="10800"/>
                </a:moveTo>
                <a:lnTo>
                  <a:pt x="20005" y="3794"/>
                </a:lnTo>
                <a:lnTo>
                  <a:pt x="20005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66" name="AutoShape 4">
            <a:hlinkClick r:id="" action="ppaction://hlinkshowjump?jump=firstslide"/>
          </p:cNvPr>
          <p:cNvSpPr/>
          <p:nvPr/>
        </p:nvSpPr>
        <p:spPr>
          <a:xfrm>
            <a:off x="7524720" y="6093000"/>
            <a:ext cx="576360" cy="36036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34" h="21600">
                <a:moveTo>
                  <a:pt x="0" y="0"/>
                </a:moveTo>
                <a:lnTo>
                  <a:pt x="34534" y="0"/>
                </a:lnTo>
                <a:lnTo>
                  <a:pt x="34534" y="21600"/>
                </a:lnTo>
                <a:lnTo>
                  <a:pt x="0" y="21600"/>
                </a:lnTo>
                <a:close/>
              </a:path>
              <a:path fill="lightenLess" w="34534" h="21600">
                <a:moveTo>
                  <a:pt x="0" y="0"/>
                </a:moveTo>
                <a:lnTo>
                  <a:pt x="34534" y="0"/>
                </a:lnTo>
                <a:lnTo>
                  <a:pt x="33134" y="1400"/>
                </a:lnTo>
                <a:lnTo>
                  <a:pt x="1400" y="1400"/>
                </a:lnTo>
                <a:close/>
              </a:path>
              <a:path fill="darken" w="34534" h="21600">
                <a:moveTo>
                  <a:pt x="34534" y="0"/>
                </a:moveTo>
                <a:lnTo>
                  <a:pt x="34534" y="21600"/>
                </a:lnTo>
                <a:lnTo>
                  <a:pt x="33134" y="20200"/>
                </a:lnTo>
                <a:lnTo>
                  <a:pt x="33134" y="1400"/>
                </a:lnTo>
                <a:close/>
              </a:path>
              <a:path fill="darkenLess" w="34534" h="21600">
                <a:moveTo>
                  <a:pt x="34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34" y="20200"/>
                </a:lnTo>
                <a:close/>
              </a:path>
              <a:path fill="lighten" w="34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34" h="21600">
                <a:moveTo>
                  <a:pt x="17267" y="3837"/>
                </a:moveTo>
                <a:lnTo>
                  <a:pt x="19843" y="6448"/>
                </a:lnTo>
                <a:lnTo>
                  <a:pt x="19843" y="4707"/>
                </a:lnTo>
                <a:lnTo>
                  <a:pt x="21619" y="4707"/>
                </a:lnTo>
                <a:lnTo>
                  <a:pt x="21619" y="8224"/>
                </a:lnTo>
                <a:lnTo>
                  <a:pt x="24230" y="10800"/>
                </a:lnTo>
                <a:lnTo>
                  <a:pt x="22576" y="10800"/>
                </a:lnTo>
                <a:lnTo>
                  <a:pt x="22576" y="17989"/>
                </a:lnTo>
                <a:lnTo>
                  <a:pt x="11958" y="17989"/>
                </a:lnTo>
                <a:lnTo>
                  <a:pt x="11958" y="10800"/>
                </a:lnTo>
                <a:lnTo>
                  <a:pt x="10304" y="10800"/>
                </a:lnTo>
                <a:close/>
              </a:path>
              <a:path fill="darkenLess" w="34534" h="21600">
                <a:moveTo>
                  <a:pt x="19843" y="6448"/>
                </a:moveTo>
                <a:lnTo>
                  <a:pt x="19843" y="4707"/>
                </a:lnTo>
                <a:lnTo>
                  <a:pt x="21619" y="4707"/>
                </a:lnTo>
                <a:lnTo>
                  <a:pt x="21619" y="8224"/>
                </a:lnTo>
                <a:close/>
              </a:path>
              <a:path fill="darkenLess" w="34534" h="21600">
                <a:moveTo>
                  <a:pt x="16344" y="14299"/>
                </a:moveTo>
                <a:lnTo>
                  <a:pt x="18190" y="14299"/>
                </a:lnTo>
                <a:lnTo>
                  <a:pt x="18190" y="17989"/>
                </a:lnTo>
                <a:lnTo>
                  <a:pt x="22576" y="17989"/>
                </a:lnTo>
                <a:lnTo>
                  <a:pt x="22576" y="10800"/>
                </a:lnTo>
                <a:lnTo>
                  <a:pt x="11958" y="10800"/>
                </a:lnTo>
                <a:lnTo>
                  <a:pt x="11958" y="17989"/>
                </a:lnTo>
                <a:lnTo>
                  <a:pt x="16344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1"/>
          <p:cNvSpPr/>
          <p:nvPr/>
        </p:nvSpPr>
        <p:spPr>
          <a:xfrm>
            <a:off x="457200" y="4348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Модель дистанционного обучения с помощью интерактивного телевидения</a:t>
            </a:r>
            <a:endParaRPr b="1" i="1" lang="en-US" sz="2400" spc="-1" strike="noStrike">
              <a:solidFill>
                <a:srgbClr val="ffff00"/>
              </a:solidFill>
              <a:latin typeface="Verdana"/>
            </a:endParaRPr>
          </a:p>
        </p:txBody>
      </p:sp>
      <p:grpSp>
        <p:nvGrpSpPr>
          <p:cNvPr id="300" name="Group 2"/>
          <p:cNvGrpSpPr/>
          <p:nvPr/>
        </p:nvGrpSpPr>
        <p:grpSpPr>
          <a:xfrm>
            <a:off x="457200" y="1600200"/>
            <a:ext cx="8228160" cy="4529160"/>
            <a:chOff x="457200" y="1600200"/>
            <a:chExt cx="8228160" cy="4529160"/>
          </a:xfrm>
        </p:grpSpPr>
        <p:sp>
          <p:nvSpPr>
            <p:cNvPr id="301" name="AutoShape 3"/>
            <p:cNvSpPr/>
            <p:nvPr/>
          </p:nvSpPr>
          <p:spPr>
            <a:xfrm>
              <a:off x="457200" y="1600200"/>
              <a:ext cx="8228160" cy="4529160"/>
            </a:xfrm>
            <a:prstGeom prst="roundRect">
              <a:avLst>
                <a:gd name="adj" fmla="val 3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cxnSp>
          <p:nvCxnSpPr>
            <p:cNvPr id="302" name="AutoShape 4"/>
            <p:cNvCxnSpPr>
              <a:stCxn id="303" idx="0"/>
              <a:endCxn id="304" idx="2"/>
            </p:cNvCxnSpPr>
            <p:nvPr/>
          </p:nvCxnSpPr>
          <p:spPr>
            <a:xfrm rot="10800000">
              <a:off x="4569120" y="3411720"/>
              <a:ext cx="2880720" cy="905040"/>
            </a:xfrm>
            <a:prstGeom prst="bentConnector3">
              <a:avLst>
                <a:gd name="adj1" fmla="val 4999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5" name="AutoShape 5"/>
            <p:cNvCxnSpPr>
              <a:stCxn id="306" idx="0"/>
              <a:endCxn id="304" idx="2"/>
            </p:cNvCxnSpPr>
            <p:nvPr/>
          </p:nvCxnSpPr>
          <p:spPr>
            <a:xfrm flipV="1">
              <a:off x="4569480" y="3412080"/>
              <a:ext cx="1800" cy="9050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7" name="AutoShape 6"/>
            <p:cNvCxnSpPr>
              <a:stCxn id="308" idx="0"/>
              <a:endCxn id="304" idx="2"/>
            </p:cNvCxnSpPr>
            <p:nvPr/>
          </p:nvCxnSpPr>
          <p:spPr>
            <a:xfrm flipV="1">
              <a:off x="1690200" y="3412080"/>
              <a:ext cx="2880000" cy="905040"/>
            </a:xfrm>
            <a:prstGeom prst="bentConnector3">
              <a:avLst>
                <a:gd name="adj1" fmla="val 4999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04" name="AutoShape 7"/>
            <p:cNvSpPr/>
            <p:nvPr/>
          </p:nvSpPr>
          <p:spPr>
            <a:xfrm>
              <a:off x="3336120" y="1600200"/>
              <a:ext cx="2467800" cy="1812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i="1" lang="en-US" sz="2100" spc="-1" strike="noStrike">
                <a:solidFill>
                  <a:srgbClr val="ffff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100" spc="-1" strike="noStrike">
                  <a:solidFill>
                    <a:srgbClr val="111111"/>
                  </a:solidFill>
                  <a:latin typeface="Verdana"/>
                </a:rPr>
                <a:t>Занятие в очной форме</a:t>
              </a:r>
              <a:endParaRPr b="1" i="1" lang="en-US" sz="21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308" name="AutoShape 8"/>
            <p:cNvSpPr/>
            <p:nvPr/>
          </p:nvSpPr>
          <p:spPr>
            <a:xfrm>
              <a:off x="457200" y="4316760"/>
              <a:ext cx="2467800" cy="1812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i="1" lang="en-US" sz="2300" spc="-1" strike="noStrike">
                <a:solidFill>
                  <a:srgbClr val="ffff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300" spc="-1" strike="noStrike">
                  <a:solidFill>
                    <a:srgbClr val="111111"/>
                  </a:solidFill>
                  <a:latin typeface="Verdana"/>
                </a:rPr>
                <a:t>Удаленный класс 1</a:t>
              </a:r>
              <a:endParaRPr b="1" i="1" lang="en-US" sz="23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306" name="AutoShape 9"/>
            <p:cNvSpPr/>
            <p:nvPr/>
          </p:nvSpPr>
          <p:spPr>
            <a:xfrm>
              <a:off x="3336120" y="4316760"/>
              <a:ext cx="2467800" cy="1812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i="1" lang="en-US" sz="2300" spc="-1" strike="noStrike">
                <a:solidFill>
                  <a:srgbClr val="ffff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300" spc="-1" strike="noStrike">
                  <a:solidFill>
                    <a:srgbClr val="111111"/>
                  </a:solidFill>
                  <a:latin typeface="Verdana"/>
                </a:rPr>
                <a:t>Удаленный класс 2</a:t>
              </a:r>
              <a:endParaRPr b="1" i="1" lang="en-US" sz="23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303" name="AutoShape 10"/>
            <p:cNvSpPr/>
            <p:nvPr/>
          </p:nvSpPr>
          <p:spPr>
            <a:xfrm>
              <a:off x="6217200" y="4316760"/>
              <a:ext cx="2467800" cy="1812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i="1" lang="en-US" sz="2300" spc="-1" strike="noStrike">
                <a:solidFill>
                  <a:srgbClr val="ffff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300" spc="-1" strike="noStrike">
                  <a:solidFill>
                    <a:srgbClr val="111111"/>
                  </a:solidFill>
                  <a:latin typeface="Verdana"/>
                </a:rPr>
                <a:t>Удаленный класс 3</a:t>
              </a:r>
              <a:endParaRPr b="1" i="1" lang="en-US" sz="2300" spc="-1" strike="noStrike">
                <a:solidFill>
                  <a:srgbClr val="ffff00"/>
                </a:solidFill>
                <a:latin typeface="Verdana"/>
              </a:endParaRPr>
            </a:p>
          </p:txBody>
        </p:sp>
      </p:grpSp>
      <p:sp>
        <p:nvSpPr>
          <p:cNvPr id="309" name="AutoShape 11">
            <a:hlinkClick r:id="" action="ppaction://hlinkshowjump?jump=nextslide"/>
          </p:cNvPr>
          <p:cNvSpPr/>
          <p:nvPr/>
        </p:nvSpPr>
        <p:spPr>
          <a:xfrm>
            <a:off x="8317080" y="6237360"/>
            <a:ext cx="502920" cy="433440"/>
          </a:xfrm>
          <a:custGeom>
            <a:avLst/>
            <a:gdLst>
              <a:gd name="textAreaLeft" fmla="*/ 28080 w 502920"/>
              <a:gd name="textAreaRight" fmla="*/ 474840 w 50292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5060" h="21600">
                <a:moveTo>
                  <a:pt x="0" y="0"/>
                </a:moveTo>
                <a:lnTo>
                  <a:pt x="25060" y="0"/>
                </a:lnTo>
                <a:lnTo>
                  <a:pt x="25060" y="21600"/>
                </a:lnTo>
                <a:lnTo>
                  <a:pt x="0" y="21600"/>
                </a:lnTo>
                <a:close/>
              </a:path>
              <a:path fill="lightenLess" w="25060" h="21600">
                <a:moveTo>
                  <a:pt x="0" y="0"/>
                </a:moveTo>
                <a:lnTo>
                  <a:pt x="25060" y="0"/>
                </a:lnTo>
                <a:lnTo>
                  <a:pt x="23660" y="1400"/>
                </a:lnTo>
                <a:lnTo>
                  <a:pt x="1400" y="1400"/>
                </a:lnTo>
                <a:close/>
              </a:path>
              <a:path fill="darken" w="25060" h="21600">
                <a:moveTo>
                  <a:pt x="25060" y="0"/>
                </a:moveTo>
                <a:lnTo>
                  <a:pt x="25060" y="21600"/>
                </a:lnTo>
                <a:lnTo>
                  <a:pt x="23660" y="20200"/>
                </a:lnTo>
                <a:lnTo>
                  <a:pt x="23660" y="1400"/>
                </a:lnTo>
                <a:close/>
              </a:path>
              <a:path fill="darkenLess" w="25060" h="21600">
                <a:moveTo>
                  <a:pt x="250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0" y="20200"/>
                </a:lnTo>
                <a:close/>
              </a:path>
              <a:path fill="lighten" w="250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0" h="21600">
                <a:moveTo>
                  <a:pt x="5523" y="3794"/>
                </a:moveTo>
                <a:lnTo>
                  <a:pt x="19536" y="10800"/>
                </a:lnTo>
                <a:lnTo>
                  <a:pt x="5523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10" name="AutoShape 12">
            <a:hlinkClick r:id="" action="ppaction://hlinkshowjump?jump=previousslide"/>
          </p:cNvPr>
          <p:cNvSpPr/>
          <p:nvPr/>
        </p:nvSpPr>
        <p:spPr>
          <a:xfrm>
            <a:off x="7308720" y="6237360"/>
            <a:ext cx="505080" cy="431640"/>
          </a:xfrm>
          <a:custGeom>
            <a:avLst/>
            <a:gdLst>
              <a:gd name="textAreaLeft" fmla="*/ 27720 w 505080"/>
              <a:gd name="textAreaRight" fmla="*/ 477360 w 505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72" h="21600">
                <a:moveTo>
                  <a:pt x="0" y="0"/>
                </a:moveTo>
                <a:lnTo>
                  <a:pt x="25272" y="0"/>
                </a:lnTo>
                <a:lnTo>
                  <a:pt x="25272" y="21600"/>
                </a:lnTo>
                <a:lnTo>
                  <a:pt x="0" y="21600"/>
                </a:lnTo>
                <a:close/>
              </a:path>
              <a:path fill="lightenLess" w="25272" h="21600">
                <a:moveTo>
                  <a:pt x="0" y="0"/>
                </a:moveTo>
                <a:lnTo>
                  <a:pt x="25272" y="0"/>
                </a:lnTo>
                <a:lnTo>
                  <a:pt x="23872" y="1400"/>
                </a:lnTo>
                <a:lnTo>
                  <a:pt x="1400" y="1400"/>
                </a:lnTo>
                <a:close/>
              </a:path>
              <a:path fill="darken" w="25272" h="21600">
                <a:moveTo>
                  <a:pt x="25272" y="0"/>
                </a:moveTo>
                <a:lnTo>
                  <a:pt x="25272" y="21600"/>
                </a:lnTo>
                <a:lnTo>
                  <a:pt x="23872" y="20200"/>
                </a:lnTo>
                <a:lnTo>
                  <a:pt x="23872" y="1400"/>
                </a:lnTo>
                <a:close/>
              </a:path>
              <a:path fill="darkenLess" w="25272" h="21600">
                <a:moveTo>
                  <a:pt x="252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72" y="20200"/>
                </a:lnTo>
                <a:close/>
              </a:path>
              <a:path fill="lighten" w="252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72" h="21600">
                <a:moveTo>
                  <a:pt x="5630" y="10800"/>
                </a:moveTo>
                <a:lnTo>
                  <a:pt x="19642" y="3794"/>
                </a:lnTo>
                <a:lnTo>
                  <a:pt x="19642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11" name="AutoShape 13">
            <a:hlinkClick r:id="rId1" action="ppaction://hlinksldjump"/>
          </p:cNvPr>
          <p:cNvSpPr/>
          <p:nvPr/>
        </p:nvSpPr>
        <p:spPr>
          <a:xfrm>
            <a:off x="7812000" y="6237360"/>
            <a:ext cx="505080" cy="431640"/>
          </a:xfrm>
          <a:custGeom>
            <a:avLst/>
            <a:gdLst>
              <a:gd name="textAreaLeft" fmla="*/ 27720 w 505080"/>
              <a:gd name="textAreaRight" fmla="*/ 477360 w 505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72" h="21600">
                <a:moveTo>
                  <a:pt x="0" y="0"/>
                </a:moveTo>
                <a:lnTo>
                  <a:pt x="25272" y="0"/>
                </a:lnTo>
                <a:lnTo>
                  <a:pt x="25272" y="21600"/>
                </a:lnTo>
                <a:lnTo>
                  <a:pt x="0" y="21600"/>
                </a:lnTo>
                <a:close/>
              </a:path>
              <a:path fill="lightenLess" w="25272" h="21600">
                <a:moveTo>
                  <a:pt x="0" y="0"/>
                </a:moveTo>
                <a:lnTo>
                  <a:pt x="25272" y="0"/>
                </a:lnTo>
                <a:lnTo>
                  <a:pt x="23872" y="1400"/>
                </a:lnTo>
                <a:lnTo>
                  <a:pt x="1400" y="1400"/>
                </a:lnTo>
                <a:close/>
              </a:path>
              <a:path fill="darken" w="25272" h="21600">
                <a:moveTo>
                  <a:pt x="25272" y="0"/>
                </a:moveTo>
                <a:lnTo>
                  <a:pt x="25272" y="21600"/>
                </a:lnTo>
                <a:lnTo>
                  <a:pt x="23872" y="20200"/>
                </a:lnTo>
                <a:lnTo>
                  <a:pt x="23872" y="1400"/>
                </a:lnTo>
                <a:close/>
              </a:path>
              <a:path fill="darkenLess" w="25272" h="21600">
                <a:moveTo>
                  <a:pt x="252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72" y="20200"/>
                </a:lnTo>
                <a:close/>
              </a:path>
              <a:path fill="lighten" w="252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72" h="21600">
                <a:moveTo>
                  <a:pt x="12636" y="3837"/>
                </a:moveTo>
                <a:lnTo>
                  <a:pt x="15212" y="6448"/>
                </a:lnTo>
                <a:lnTo>
                  <a:pt x="15212" y="4707"/>
                </a:lnTo>
                <a:lnTo>
                  <a:pt x="16988" y="4707"/>
                </a:lnTo>
                <a:lnTo>
                  <a:pt x="16988" y="8224"/>
                </a:lnTo>
                <a:lnTo>
                  <a:pt x="19599" y="10800"/>
                </a:lnTo>
                <a:lnTo>
                  <a:pt x="17945" y="10800"/>
                </a:lnTo>
                <a:lnTo>
                  <a:pt x="17945" y="17989"/>
                </a:lnTo>
                <a:lnTo>
                  <a:pt x="7327" y="17989"/>
                </a:lnTo>
                <a:lnTo>
                  <a:pt x="7327" y="10800"/>
                </a:lnTo>
                <a:lnTo>
                  <a:pt x="5673" y="10800"/>
                </a:lnTo>
                <a:close/>
              </a:path>
              <a:path fill="darkenLess" w="25272" h="21600">
                <a:moveTo>
                  <a:pt x="15212" y="6448"/>
                </a:moveTo>
                <a:lnTo>
                  <a:pt x="15212" y="4707"/>
                </a:lnTo>
                <a:lnTo>
                  <a:pt x="16988" y="4707"/>
                </a:lnTo>
                <a:lnTo>
                  <a:pt x="16988" y="8224"/>
                </a:lnTo>
                <a:close/>
              </a:path>
              <a:path fill="darkenLess" w="25272" h="21600">
                <a:moveTo>
                  <a:pt x="11713" y="14299"/>
                </a:moveTo>
                <a:lnTo>
                  <a:pt x="13559" y="14299"/>
                </a:lnTo>
                <a:lnTo>
                  <a:pt x="13559" y="17989"/>
                </a:lnTo>
                <a:lnTo>
                  <a:pt x="17945" y="17989"/>
                </a:lnTo>
                <a:lnTo>
                  <a:pt x="17945" y="10800"/>
                </a:lnTo>
                <a:lnTo>
                  <a:pt x="7327" y="10800"/>
                </a:lnTo>
                <a:lnTo>
                  <a:pt x="7327" y="17989"/>
                </a:lnTo>
                <a:lnTo>
                  <a:pt x="11713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p:transition advTm="10000">
    <p:push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94920" y="871200"/>
            <a:ext cx="8062920" cy="50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ccecff"/>
                </a:solidFill>
                <a:latin typeface="Arial"/>
              </a:rPr>
              <a:t>Как видно из представленных выше моделей, каждая из них имеет свою специфику и предназначена для решения конкретных тактических задач. Специфика каждой модели дистанционного учебного процесса обуславливает отбор и структурирование содержания обучения. </a:t>
            </a:r>
            <a:br>
              <a:rPr sz="2400"/>
            </a:br>
            <a:r>
              <a:rPr b="0" lang="en-GB" sz="2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3" name="AutoShape 2">
            <a:hlinkClick r:id="" action="ppaction://hlinkshowjump?jump=nextslide"/>
          </p:cNvPr>
          <p:cNvSpPr/>
          <p:nvPr/>
        </p:nvSpPr>
        <p:spPr>
          <a:xfrm>
            <a:off x="8172360" y="61657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7400" y="3794"/>
                </a:moveTo>
                <a:lnTo>
                  <a:pt x="21412" y="10800"/>
                </a:lnTo>
                <a:lnTo>
                  <a:pt x="7400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14" name="AutoShape 3">
            <a:hlinkClick r:id="" action="ppaction://hlinkshowjump?jump=previousslide"/>
          </p:cNvPr>
          <p:cNvSpPr/>
          <p:nvPr/>
        </p:nvSpPr>
        <p:spPr>
          <a:xfrm>
            <a:off x="7020000" y="61657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7400" y="10800"/>
                </a:moveTo>
                <a:lnTo>
                  <a:pt x="21412" y="3794"/>
                </a:lnTo>
                <a:lnTo>
                  <a:pt x="21412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15" name="AutoShape 4">
            <a:hlinkClick r:id="rId1" action="ppaction://hlinksldjump"/>
          </p:cNvPr>
          <p:cNvSpPr/>
          <p:nvPr/>
        </p:nvSpPr>
        <p:spPr>
          <a:xfrm>
            <a:off x="7596360" y="6165720"/>
            <a:ext cx="574560" cy="432000"/>
          </a:xfrm>
          <a:custGeom>
            <a:avLst/>
            <a:gdLst>
              <a:gd name="textAreaLeft" fmla="*/ 27720 w 574560"/>
              <a:gd name="textAreaRight" fmla="*/ 546840 w 5745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722" h="21600">
                <a:moveTo>
                  <a:pt x="0" y="0"/>
                </a:moveTo>
                <a:lnTo>
                  <a:pt x="28722" y="0"/>
                </a:lnTo>
                <a:lnTo>
                  <a:pt x="28722" y="21600"/>
                </a:lnTo>
                <a:lnTo>
                  <a:pt x="0" y="21600"/>
                </a:lnTo>
                <a:close/>
              </a:path>
              <a:path fill="lightenLess" w="28722" h="21600">
                <a:moveTo>
                  <a:pt x="0" y="0"/>
                </a:moveTo>
                <a:lnTo>
                  <a:pt x="28722" y="0"/>
                </a:lnTo>
                <a:lnTo>
                  <a:pt x="27322" y="1400"/>
                </a:lnTo>
                <a:lnTo>
                  <a:pt x="1400" y="1400"/>
                </a:lnTo>
                <a:close/>
              </a:path>
              <a:path fill="darken" w="28722" h="21600">
                <a:moveTo>
                  <a:pt x="28722" y="0"/>
                </a:moveTo>
                <a:lnTo>
                  <a:pt x="28722" y="21600"/>
                </a:lnTo>
                <a:lnTo>
                  <a:pt x="27322" y="20200"/>
                </a:lnTo>
                <a:lnTo>
                  <a:pt x="27322" y="1400"/>
                </a:lnTo>
                <a:close/>
              </a:path>
              <a:path fill="darkenLess" w="28722" h="21600">
                <a:moveTo>
                  <a:pt x="287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22" y="20200"/>
                </a:lnTo>
                <a:close/>
              </a:path>
              <a:path fill="lighten" w="287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22" h="21600">
                <a:moveTo>
                  <a:pt x="14361" y="3837"/>
                </a:moveTo>
                <a:lnTo>
                  <a:pt x="16937" y="6448"/>
                </a:lnTo>
                <a:lnTo>
                  <a:pt x="16937" y="4707"/>
                </a:lnTo>
                <a:lnTo>
                  <a:pt x="18713" y="4707"/>
                </a:lnTo>
                <a:lnTo>
                  <a:pt x="18713" y="8224"/>
                </a:lnTo>
                <a:lnTo>
                  <a:pt x="21324" y="10800"/>
                </a:lnTo>
                <a:lnTo>
                  <a:pt x="19670" y="10800"/>
                </a:lnTo>
                <a:lnTo>
                  <a:pt x="19670" y="17989"/>
                </a:lnTo>
                <a:lnTo>
                  <a:pt x="9052" y="17989"/>
                </a:lnTo>
                <a:lnTo>
                  <a:pt x="9052" y="10800"/>
                </a:lnTo>
                <a:lnTo>
                  <a:pt x="7398" y="10800"/>
                </a:lnTo>
                <a:close/>
              </a:path>
              <a:path fill="darkenLess" w="28722" h="21600">
                <a:moveTo>
                  <a:pt x="16937" y="6448"/>
                </a:moveTo>
                <a:lnTo>
                  <a:pt x="16937" y="4707"/>
                </a:lnTo>
                <a:lnTo>
                  <a:pt x="18713" y="4707"/>
                </a:lnTo>
                <a:lnTo>
                  <a:pt x="18713" y="8224"/>
                </a:lnTo>
                <a:close/>
              </a:path>
              <a:path fill="darkenLess" w="28722" h="21600">
                <a:moveTo>
                  <a:pt x="13438" y="14299"/>
                </a:moveTo>
                <a:lnTo>
                  <a:pt x="15284" y="14299"/>
                </a:lnTo>
                <a:lnTo>
                  <a:pt x="15284" y="17989"/>
                </a:lnTo>
                <a:lnTo>
                  <a:pt x="19670" y="17989"/>
                </a:lnTo>
                <a:lnTo>
                  <a:pt x="19670" y="10800"/>
                </a:lnTo>
                <a:lnTo>
                  <a:pt x="9052" y="10800"/>
                </a:lnTo>
                <a:lnTo>
                  <a:pt x="9052" y="17989"/>
                </a:lnTo>
                <a:lnTo>
                  <a:pt x="13438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316" name="Picture 5" descr=""/>
          <p:cNvPicPr/>
          <p:nvPr/>
        </p:nvPicPr>
        <p:blipFill>
          <a:blip r:embed="rId2"/>
          <a:stretch/>
        </p:blipFill>
        <p:spPr>
          <a:xfrm>
            <a:off x="6084720" y="189000"/>
            <a:ext cx="1989360" cy="146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1"/>
          <p:cNvSpPr/>
          <p:nvPr/>
        </p:nvSpPr>
        <p:spPr>
          <a:xfrm>
            <a:off x="0" y="-230040"/>
            <a:ext cx="9144000" cy="73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000"/>
            </a:br>
            <a:r>
              <a:rPr b="0" lang="en-GB" sz="2000" spc="-1" strike="noStrike">
                <a:solidFill>
                  <a:srgbClr val="ccecff"/>
                </a:solidFill>
                <a:latin typeface="Arial"/>
              </a:rPr>
              <a:t>Задания: </a:t>
            </a:r>
            <a:br>
              <a:rPr sz="2000"/>
            </a:br>
            <a:br>
              <a:rPr sz="2000"/>
            </a:br>
            <a:r>
              <a:rPr b="0" lang="en-GB" sz="1800" spc="-1" strike="noStrike">
                <a:solidFill>
                  <a:srgbClr val="ccecff"/>
                </a:solidFill>
                <a:latin typeface="Arial"/>
              </a:rPr>
              <a:t>1. Назвать модели ДО используемые при организации учебного процесса.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ccecff"/>
                </a:solidFill>
                <a:latin typeface="Arial"/>
              </a:rPr>
              <a:t>2. Дописать составляющие компоненты схемы.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ccecff"/>
                </a:solidFill>
                <a:latin typeface="Arial"/>
              </a:rPr>
              <a:t>3. «Последняя модель………… связана с телевизионными технологиями и пока очень дорогая»</a:t>
            </a:r>
            <a:br>
              <a:rPr sz="1800"/>
            </a:br>
            <a:r>
              <a:rPr b="0" lang="en-GB" sz="1800" spc="-1" strike="noStrike">
                <a:solidFill>
                  <a:srgbClr val="ccecff"/>
                </a:solidFill>
                <a:latin typeface="Arial"/>
              </a:rPr>
              <a:t>Вместо пропуска вставить определение модели и кратко дать характеристику ее.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1" i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grpSp>
        <p:nvGrpSpPr>
          <p:cNvPr id="318" name="Group 2"/>
          <p:cNvGrpSpPr/>
          <p:nvPr/>
        </p:nvGrpSpPr>
        <p:grpSpPr>
          <a:xfrm>
            <a:off x="684360" y="765000"/>
            <a:ext cx="8227800" cy="4529160"/>
            <a:chOff x="684360" y="765000"/>
            <a:chExt cx="8227800" cy="4529160"/>
          </a:xfrm>
        </p:grpSpPr>
        <p:sp>
          <p:nvSpPr>
            <p:cNvPr id="319" name="AutoShape 3"/>
            <p:cNvSpPr/>
            <p:nvPr/>
          </p:nvSpPr>
          <p:spPr>
            <a:xfrm>
              <a:off x="684360" y="765000"/>
              <a:ext cx="8227800" cy="4529160"/>
            </a:xfrm>
            <a:prstGeom prst="roundRect">
              <a:avLst>
                <a:gd name="adj" fmla="val 3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320" name="Line 4"/>
            <p:cNvSpPr/>
            <p:nvPr/>
          </p:nvSpPr>
          <p:spPr>
            <a:xfrm flipH="1" flipV="1">
              <a:off x="4091400" y="2549880"/>
              <a:ext cx="360000" cy="245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321" name="Oval 5"/>
            <p:cNvSpPr/>
            <p:nvPr/>
          </p:nvSpPr>
          <p:spPr>
            <a:xfrm>
              <a:off x="3299760" y="1939320"/>
              <a:ext cx="894960" cy="7599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i="1" lang="en-US" sz="700" spc="-1" strike="noStrike">
                <a:solidFill>
                  <a:srgbClr val="ffff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111111"/>
                  </a:solidFill>
                  <a:latin typeface="Arial"/>
                </a:rPr>
                <a:t>Виртуальные экскурсии</a:t>
              </a:r>
              <a:endParaRPr b="1" i="1" lang="en-US" sz="1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322" name="Line 6"/>
            <p:cNvSpPr/>
            <p:nvPr/>
          </p:nvSpPr>
          <p:spPr>
            <a:xfrm flipH="1">
              <a:off x="3920400" y="3113640"/>
              <a:ext cx="445680" cy="8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323" name="Oval 7"/>
            <p:cNvSpPr/>
            <p:nvPr/>
          </p:nvSpPr>
          <p:spPr>
            <a:xfrm>
              <a:off x="3040920" y="2902320"/>
              <a:ext cx="894960" cy="760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i="1" lang="en-US" sz="700" spc="-1" strike="noStrike">
                <a:solidFill>
                  <a:srgbClr val="ffff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i="1" lang="en-US" sz="7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324" name="Line 8"/>
            <p:cNvSpPr/>
            <p:nvPr/>
          </p:nvSpPr>
          <p:spPr>
            <a:xfrm flipH="1">
              <a:off x="4405680" y="3372480"/>
              <a:ext cx="203040" cy="340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325" name="Oval 9"/>
            <p:cNvSpPr/>
            <p:nvPr/>
          </p:nvSpPr>
          <p:spPr>
            <a:xfrm>
              <a:off x="3768120" y="3676680"/>
              <a:ext cx="894960" cy="760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i="1" lang="en-US" sz="700" spc="-1" strike="noStrike">
                <a:solidFill>
                  <a:srgbClr val="ffff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i="1" lang="en-US" sz="7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326" name="Line 10"/>
            <p:cNvSpPr/>
            <p:nvPr/>
          </p:nvSpPr>
          <p:spPr>
            <a:xfrm>
              <a:off x="4993200" y="3370680"/>
              <a:ext cx="193320" cy="340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327" name="Oval 11"/>
            <p:cNvSpPr/>
            <p:nvPr/>
          </p:nvSpPr>
          <p:spPr>
            <a:xfrm>
              <a:off x="4934520" y="3675240"/>
              <a:ext cx="894960" cy="7599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i="1" lang="en-US" sz="600" spc="-1" strike="noStrike">
                <a:solidFill>
                  <a:srgbClr val="ffff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Verdana"/>
                </a:rPr>
                <a:t>   </a:t>
              </a:r>
              <a:r>
                <a:rPr b="1" lang="en-GB" sz="900" spc="-1" strike="noStrike">
                  <a:solidFill>
                    <a:srgbClr val="111111"/>
                  </a:solidFill>
                  <a:latin typeface="Arial"/>
                </a:rPr>
                <a:t>Форумы, обсуждения, дискуссии</a:t>
              </a:r>
              <a:endParaRPr b="1" i="1" lang="en-US" sz="9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328" name="Line 12"/>
            <p:cNvSpPr/>
            <p:nvPr/>
          </p:nvSpPr>
          <p:spPr>
            <a:xfrm>
              <a:off x="5234400" y="3113640"/>
              <a:ext cx="436320" cy="8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329" name="Oval 13"/>
            <p:cNvSpPr/>
            <p:nvPr/>
          </p:nvSpPr>
          <p:spPr>
            <a:xfrm>
              <a:off x="5659560" y="2902320"/>
              <a:ext cx="894960" cy="760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900" spc="-1" strike="noStrike">
                  <a:solidFill>
                    <a:srgbClr val="111111"/>
                  </a:solidFill>
                  <a:latin typeface="Arial"/>
                </a:rPr>
                <a:t>Лекции(сетевые или видеозаписи)</a:t>
              </a:r>
              <a:endParaRPr b="1" i="1" lang="en-US" sz="9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330" name="Line 14"/>
            <p:cNvSpPr/>
            <p:nvPr/>
          </p:nvSpPr>
          <p:spPr>
            <a:xfrm flipV="1">
              <a:off x="5148720" y="2552040"/>
              <a:ext cx="348840" cy="24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331" name="Oval 15"/>
            <p:cNvSpPr/>
            <p:nvPr/>
          </p:nvSpPr>
          <p:spPr>
            <a:xfrm>
              <a:off x="5401080" y="1937520"/>
              <a:ext cx="894960" cy="760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i="1" lang="en-US" sz="600" spc="-1" strike="noStrike">
                <a:solidFill>
                  <a:srgbClr val="ffff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i="1" lang="en-US" sz="6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332" name="Line 16"/>
            <p:cNvSpPr/>
            <p:nvPr/>
          </p:nvSpPr>
          <p:spPr>
            <a:xfrm flipV="1">
              <a:off x="4798080" y="2264400"/>
              <a:ext cx="1080" cy="388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333" name="Oval 17"/>
            <p:cNvSpPr/>
            <p:nvPr/>
          </p:nvSpPr>
          <p:spPr>
            <a:xfrm>
              <a:off x="4350240" y="1509480"/>
              <a:ext cx="894960" cy="7599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i="1" lang="en-US" sz="600" spc="-1" strike="noStrike">
                <a:solidFill>
                  <a:srgbClr val="ffff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111111"/>
                  </a:solidFill>
                  <a:latin typeface="Arial"/>
                </a:rPr>
                <a:t>Обзорные лекции</a:t>
              </a:r>
              <a:endParaRPr b="1" i="1" lang="en-US" sz="1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334" name="Oval 18"/>
            <p:cNvSpPr/>
            <p:nvPr/>
          </p:nvSpPr>
          <p:spPr>
            <a:xfrm>
              <a:off x="4350240" y="2648520"/>
              <a:ext cx="894960" cy="7599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i="1" lang="en-US" sz="600" spc="-1" strike="noStrike">
                <a:solidFill>
                  <a:srgbClr val="ffff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111111"/>
                  </a:solidFill>
                  <a:latin typeface="Arial"/>
                </a:rPr>
                <a:t>Дистанционное обучение</a:t>
              </a:r>
              <a:endParaRPr b="1" i="1" lang="en-US" sz="1000" spc="-1" strike="noStrike">
                <a:solidFill>
                  <a:srgbClr val="ffff00"/>
                </a:solidFill>
                <a:latin typeface="Verdana"/>
              </a:endParaRPr>
            </a:p>
          </p:txBody>
        </p:sp>
      </p:grpSp>
      <p:sp>
        <p:nvSpPr>
          <p:cNvPr id="335" name="AutoShape 19">
            <a:hlinkClick r:id="" action="ppaction://hlinkshowjump?jump=nextslide"/>
          </p:cNvPr>
          <p:cNvSpPr/>
          <p:nvPr/>
        </p:nvSpPr>
        <p:spPr>
          <a:xfrm>
            <a:off x="7956720" y="6165720"/>
            <a:ext cx="504720" cy="433440"/>
          </a:xfrm>
          <a:custGeom>
            <a:avLst/>
            <a:gdLst>
              <a:gd name="textAreaLeft" fmla="*/ 28080 w 504720"/>
              <a:gd name="textAreaRight" fmla="*/ 476640 w 50472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5149" h="21600">
                <a:moveTo>
                  <a:pt x="0" y="0"/>
                </a:moveTo>
                <a:lnTo>
                  <a:pt x="25149" y="0"/>
                </a:lnTo>
                <a:lnTo>
                  <a:pt x="25149" y="21600"/>
                </a:lnTo>
                <a:lnTo>
                  <a:pt x="0" y="21600"/>
                </a:lnTo>
                <a:close/>
              </a:path>
              <a:path fill="lightenLess" w="25149" h="21600">
                <a:moveTo>
                  <a:pt x="0" y="0"/>
                </a:moveTo>
                <a:lnTo>
                  <a:pt x="25149" y="0"/>
                </a:lnTo>
                <a:lnTo>
                  <a:pt x="23749" y="1400"/>
                </a:lnTo>
                <a:lnTo>
                  <a:pt x="1400" y="1400"/>
                </a:lnTo>
                <a:close/>
              </a:path>
              <a:path fill="darken" w="25149" h="21600">
                <a:moveTo>
                  <a:pt x="25149" y="0"/>
                </a:moveTo>
                <a:lnTo>
                  <a:pt x="25149" y="21600"/>
                </a:lnTo>
                <a:lnTo>
                  <a:pt x="23749" y="20200"/>
                </a:lnTo>
                <a:lnTo>
                  <a:pt x="23749" y="1400"/>
                </a:lnTo>
                <a:close/>
              </a:path>
              <a:path fill="darkenLess" w="25149" h="21600">
                <a:moveTo>
                  <a:pt x="25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9" y="20200"/>
                </a:lnTo>
                <a:close/>
              </a:path>
              <a:path fill="lighten" w="25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49" h="21600">
                <a:moveTo>
                  <a:pt x="5568" y="3794"/>
                </a:moveTo>
                <a:lnTo>
                  <a:pt x="19581" y="10800"/>
                </a:lnTo>
                <a:lnTo>
                  <a:pt x="556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36" name="AutoShape 20">
            <a:hlinkClick r:id="" action="ppaction://hlinkshowjump?jump=previousslide"/>
          </p:cNvPr>
          <p:cNvSpPr/>
          <p:nvPr/>
        </p:nvSpPr>
        <p:spPr>
          <a:xfrm>
            <a:off x="694836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10800"/>
                </a:moveTo>
                <a:lnTo>
                  <a:pt x="19587" y="3794"/>
                </a:lnTo>
                <a:lnTo>
                  <a:pt x="1958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37" name="AutoShape 21">
            <a:hlinkClick r:id="rId1" action="ppaction://hlinksldjump"/>
          </p:cNvPr>
          <p:cNvSpPr/>
          <p:nvPr/>
        </p:nvSpPr>
        <p:spPr>
          <a:xfrm>
            <a:off x="7451640" y="6165720"/>
            <a:ext cx="505080" cy="432000"/>
          </a:xfrm>
          <a:custGeom>
            <a:avLst/>
            <a:gdLst>
              <a:gd name="textAreaLeft" fmla="*/ 27720 w 505080"/>
              <a:gd name="textAreaRight" fmla="*/ 477360 w 505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51" h="21600">
                <a:moveTo>
                  <a:pt x="0" y="0"/>
                </a:moveTo>
                <a:lnTo>
                  <a:pt x="25251" y="0"/>
                </a:lnTo>
                <a:lnTo>
                  <a:pt x="25251" y="21600"/>
                </a:lnTo>
                <a:lnTo>
                  <a:pt x="0" y="21600"/>
                </a:lnTo>
                <a:close/>
              </a:path>
              <a:path fill="lightenLess" w="25251" h="21600">
                <a:moveTo>
                  <a:pt x="0" y="0"/>
                </a:moveTo>
                <a:lnTo>
                  <a:pt x="25251" y="0"/>
                </a:lnTo>
                <a:lnTo>
                  <a:pt x="23851" y="1400"/>
                </a:lnTo>
                <a:lnTo>
                  <a:pt x="1400" y="1400"/>
                </a:lnTo>
                <a:close/>
              </a:path>
              <a:path fill="darken" w="25251" h="21600">
                <a:moveTo>
                  <a:pt x="25251" y="0"/>
                </a:moveTo>
                <a:lnTo>
                  <a:pt x="25251" y="21600"/>
                </a:lnTo>
                <a:lnTo>
                  <a:pt x="23851" y="20200"/>
                </a:lnTo>
                <a:lnTo>
                  <a:pt x="23851" y="1400"/>
                </a:lnTo>
                <a:close/>
              </a:path>
              <a:path fill="darkenLess" w="25251" h="21600">
                <a:moveTo>
                  <a:pt x="252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1" y="20200"/>
                </a:lnTo>
                <a:close/>
              </a:path>
              <a:path fill="lighten" w="252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1" h="21600">
                <a:moveTo>
                  <a:pt x="12625" y="3837"/>
                </a:moveTo>
                <a:lnTo>
                  <a:pt x="15202" y="6448"/>
                </a:lnTo>
                <a:lnTo>
                  <a:pt x="15202" y="4707"/>
                </a:lnTo>
                <a:lnTo>
                  <a:pt x="16977" y="4707"/>
                </a:lnTo>
                <a:lnTo>
                  <a:pt x="16977" y="8224"/>
                </a:lnTo>
                <a:lnTo>
                  <a:pt x="19588" y="10800"/>
                </a:lnTo>
                <a:lnTo>
                  <a:pt x="17935" y="10800"/>
                </a:lnTo>
                <a:lnTo>
                  <a:pt x="17935" y="17989"/>
                </a:lnTo>
                <a:lnTo>
                  <a:pt x="7316" y="17989"/>
                </a:lnTo>
                <a:lnTo>
                  <a:pt x="7316" y="10800"/>
                </a:lnTo>
                <a:lnTo>
                  <a:pt x="5663" y="10800"/>
                </a:lnTo>
                <a:close/>
              </a:path>
              <a:path fill="darkenLess" w="25251" h="21600">
                <a:moveTo>
                  <a:pt x="15202" y="6448"/>
                </a:moveTo>
                <a:lnTo>
                  <a:pt x="15202" y="4707"/>
                </a:lnTo>
                <a:lnTo>
                  <a:pt x="16977" y="4707"/>
                </a:lnTo>
                <a:lnTo>
                  <a:pt x="16977" y="8224"/>
                </a:lnTo>
                <a:close/>
              </a:path>
              <a:path fill="darkenLess" w="25251" h="21600">
                <a:moveTo>
                  <a:pt x="11703" y="14299"/>
                </a:moveTo>
                <a:lnTo>
                  <a:pt x="13548" y="14299"/>
                </a:lnTo>
                <a:lnTo>
                  <a:pt x="13548" y="17989"/>
                </a:lnTo>
                <a:lnTo>
                  <a:pt x="17935" y="17989"/>
                </a:lnTo>
                <a:lnTo>
                  <a:pt x="17935" y="10800"/>
                </a:lnTo>
                <a:lnTo>
                  <a:pt x="7316" y="10800"/>
                </a:lnTo>
                <a:lnTo>
                  <a:pt x="7316" y="17989"/>
                </a:lnTo>
                <a:lnTo>
                  <a:pt x="11703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p:transition advTm="10000">
    <p:push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14560"/>
            <a:ext cx="8362800" cy="55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46000" indent="0">
              <a:lnSpc>
                <a:spcPct val="150000"/>
              </a:lnSpc>
              <a:buNone/>
              <a:tabLst>
                <a:tab algn="l" pos="0"/>
                <a:tab algn="l" pos="83520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80560"/>
              </a:tabLst>
            </a:pPr>
            <a:r>
              <a:rPr b="0" lang="en-GB" sz="2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Вопросы:</a:t>
            </a:r>
            <a:br>
              <a:rPr sz="2000"/>
            </a:br>
            <a:r>
              <a:rPr b="0" lang="en-GB" sz="2000" spc="-1" strike="noStrike">
                <a:solidFill>
                  <a:srgbClr val="ccecff"/>
                </a:solidFill>
                <a:latin typeface="Arial"/>
              </a:rPr>
              <a:t>1. Какие основные цели всех моделей образования?</a:t>
            </a:r>
            <a:br>
              <a:rPr sz="2000"/>
            </a:br>
            <a:r>
              <a:rPr b="0" lang="en-GB" sz="2000" spc="-1" strike="noStrike">
                <a:solidFill>
                  <a:srgbClr val="ccecff"/>
                </a:solidFill>
                <a:latin typeface="Arial"/>
              </a:rPr>
              <a:t>2.Как называется  модель ДО, где все учащиеся обеспечены учебными материалами и работают самостоятельно?</a:t>
            </a:r>
            <a:br>
              <a:rPr sz="2000"/>
            </a:br>
            <a:r>
              <a:rPr b="0" lang="en-GB" sz="2000" spc="-1" strike="noStrike">
                <a:solidFill>
                  <a:srgbClr val="ccecff"/>
                </a:solidFill>
                <a:latin typeface="Arial"/>
              </a:rPr>
              <a:t>3.По каким двум признакам подразделяются модели ДО?</a:t>
            </a:r>
            <a:br>
              <a:rPr sz="2000"/>
            </a:br>
            <a:r>
              <a:rPr b="0" lang="en-GB" sz="2000" spc="-1" strike="noStrike">
                <a:solidFill>
                  <a:srgbClr val="ccecff"/>
                </a:solidFill>
                <a:latin typeface="Arial"/>
              </a:rPr>
              <a:t>4. При каких условиях возникает необходимость использования сетевого обучения?</a:t>
            </a:r>
            <a:br>
              <a:rPr sz="2000"/>
            </a:br>
            <a:r>
              <a:rPr b="0" lang="en-GB" sz="2000" spc="-1" strike="noStrike">
                <a:solidFill>
                  <a:srgbClr val="ccecff"/>
                </a:solidFill>
                <a:latin typeface="Arial"/>
              </a:rPr>
              <a:t>5. В настоящее время существующая сеть открытого и дистанционного образования в мировой практике базируется на шести известных моделях. Что это за модели?</a:t>
            </a:r>
            <a:br>
              <a:rPr sz="2000"/>
            </a:br>
            <a:r>
              <a:rPr b="0" lang="en-GB" sz="2000" spc="-1" strike="noStrike">
                <a:solidFill>
                  <a:srgbClr val="ccecff"/>
                </a:solidFill>
                <a:latin typeface="Arial"/>
              </a:rPr>
              <a:t>6.</a:t>
            </a: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Какие противоречия в данный момент между моделями ДО?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9" name="AutoShape 2">
            <a:hlinkClick r:id="" action="ppaction://hlinkshowjump?jump=nextslide"/>
          </p:cNvPr>
          <p:cNvSpPr/>
          <p:nvPr/>
        </p:nvSpPr>
        <p:spPr>
          <a:xfrm>
            <a:off x="8101080" y="609300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2" h="21600">
                <a:moveTo>
                  <a:pt x="5585" y="3794"/>
                </a:moveTo>
                <a:lnTo>
                  <a:pt x="19597" y="10800"/>
                </a:lnTo>
                <a:lnTo>
                  <a:pt x="5585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40" name="AutoShape 3">
            <a:hlinkClick r:id="" action="ppaction://hlinkshowjump?jump=previousslide"/>
          </p:cNvPr>
          <p:cNvSpPr/>
          <p:nvPr/>
        </p:nvSpPr>
        <p:spPr>
          <a:xfrm>
            <a:off x="7164360" y="609300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10800"/>
                </a:moveTo>
                <a:lnTo>
                  <a:pt x="19633" y="3794"/>
                </a:lnTo>
                <a:lnTo>
                  <a:pt x="19633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41" name="AutoShape 4">
            <a:hlinkClick r:id="rId1" action="ppaction://hlinksldjump"/>
          </p:cNvPr>
          <p:cNvSpPr/>
          <p:nvPr/>
        </p:nvSpPr>
        <p:spPr>
          <a:xfrm>
            <a:off x="7667640" y="609300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p:transition advTm="10000">
    <p:push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11280" y="1023120"/>
            <a:ext cx="8075520" cy="4970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ccecff"/>
                </a:solidFill>
                <a:latin typeface="Arial"/>
              </a:rPr>
              <a:t>Литература:</a:t>
            </a:r>
            <a:br>
              <a:rPr sz="2000"/>
            </a:br>
            <a:r>
              <a:rPr b="0" lang="en-GB" sz="2000" spc="-1" strike="noStrike">
                <a:solidFill>
                  <a:srgbClr val="ccecff"/>
                </a:solidFill>
                <a:latin typeface="Arial"/>
              </a:rPr>
              <a:t>1. Андреев А.А., Троян В.Н. « Основы интернетного обучения».</a:t>
            </a:r>
            <a:br>
              <a:rPr sz="2000"/>
            </a:br>
            <a:r>
              <a:rPr b="0" lang="en-GB" sz="2000" spc="-1" strike="noStrike">
                <a:solidFill>
                  <a:srgbClr val="ccecff"/>
                </a:solidFill>
                <a:latin typeface="Arial"/>
              </a:rPr>
              <a:t>М.-2003г.стр.18</a:t>
            </a:r>
            <a:br>
              <a:rPr sz="2000"/>
            </a:br>
            <a:r>
              <a:rPr b="0" lang="en-GB" sz="20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2000"/>
            </a:br>
            <a:r>
              <a:rPr b="0" lang="en-GB" sz="2000" spc="-1" strike="noStrike">
                <a:solidFill>
                  <a:srgbClr val="ccecff"/>
                </a:solidFill>
                <a:latin typeface="Arial"/>
              </a:rPr>
              <a:t>2. Полат Е.С « Теория и практика дистанционного обучения».</a:t>
            </a:r>
            <a:br>
              <a:rPr sz="2000"/>
            </a:br>
            <a:r>
              <a:rPr b="0" lang="en-GB" sz="2000" spc="-1" strike="noStrike">
                <a:solidFill>
                  <a:srgbClr val="ccecff"/>
                </a:solidFill>
                <a:latin typeface="Arial"/>
              </a:rPr>
              <a:t>М.-2003г.стр.79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ccecff"/>
                </a:solidFill>
                <a:latin typeface="Arial"/>
              </a:rPr>
              <a:t>3. Хортон У., Хортон К. « Электронное обучение инструментов и технологий».М.-2000г.стр.22</a:t>
            </a:r>
            <a:br>
              <a:rPr sz="4000"/>
            </a:br>
            <a:br>
              <a:rPr sz="4000"/>
            </a:br>
            <a:r>
              <a:rPr b="0" lang="en-GB" sz="2000" spc="-1" strike="noStrike">
                <a:solidFill>
                  <a:srgbClr val="ccecff"/>
                </a:solidFill>
                <a:latin typeface="Arial"/>
              </a:rPr>
              <a:t>4. Хуторской А. В. « Интернет в школе».М.-2000г.стр.58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ccecff"/>
                </a:solidFill>
                <a:latin typeface="Arial"/>
              </a:rPr>
              <a:t>5. Хуторской А.В. « На урок Интернет».М.-2000г.стр.93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3" name="AutoShape 2">
            <a:hlinkClick r:id="" action="ppaction://hlinkshowjump?jump=nextslide"/>
          </p:cNvPr>
          <p:cNvSpPr/>
          <p:nvPr/>
        </p:nvSpPr>
        <p:spPr>
          <a:xfrm>
            <a:off x="8101080" y="6165720"/>
            <a:ext cx="503280" cy="4302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5266" h="21600">
                <a:moveTo>
                  <a:pt x="0" y="0"/>
                </a:moveTo>
                <a:lnTo>
                  <a:pt x="25266" y="0"/>
                </a:lnTo>
                <a:lnTo>
                  <a:pt x="25266" y="21600"/>
                </a:lnTo>
                <a:lnTo>
                  <a:pt x="0" y="21600"/>
                </a:lnTo>
                <a:close/>
              </a:path>
              <a:path fill="lightenLess" w="25266" h="21600">
                <a:moveTo>
                  <a:pt x="0" y="0"/>
                </a:moveTo>
                <a:lnTo>
                  <a:pt x="25266" y="0"/>
                </a:lnTo>
                <a:lnTo>
                  <a:pt x="23866" y="1400"/>
                </a:lnTo>
                <a:lnTo>
                  <a:pt x="1400" y="1400"/>
                </a:lnTo>
                <a:close/>
              </a:path>
              <a:path fill="darken" w="25266" h="21600">
                <a:moveTo>
                  <a:pt x="25266" y="0"/>
                </a:moveTo>
                <a:lnTo>
                  <a:pt x="25266" y="21600"/>
                </a:lnTo>
                <a:lnTo>
                  <a:pt x="23866" y="20200"/>
                </a:lnTo>
                <a:lnTo>
                  <a:pt x="23866" y="1400"/>
                </a:lnTo>
                <a:close/>
              </a:path>
              <a:path fill="darkenLess" w="25266" h="21600">
                <a:moveTo>
                  <a:pt x="25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66" y="20200"/>
                </a:lnTo>
                <a:close/>
              </a:path>
              <a:path fill="lighten" w="25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66" h="21600">
                <a:moveTo>
                  <a:pt x="5627" y="3794"/>
                </a:moveTo>
                <a:lnTo>
                  <a:pt x="19640" y="10800"/>
                </a:lnTo>
                <a:lnTo>
                  <a:pt x="562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44" name="AutoShape 3">
            <a:hlinkClick r:id="" action="ppaction://hlinkshowjump?jump=previousslide"/>
          </p:cNvPr>
          <p:cNvSpPr/>
          <p:nvPr/>
        </p:nvSpPr>
        <p:spPr>
          <a:xfrm>
            <a:off x="702000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5610" y="10800"/>
                </a:moveTo>
                <a:lnTo>
                  <a:pt x="19623" y="3794"/>
                </a:lnTo>
                <a:lnTo>
                  <a:pt x="19623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45" name="AutoShape 4">
            <a:hlinkClick r:id="rId1" action="ppaction://hlinksldjump"/>
          </p:cNvPr>
          <p:cNvSpPr/>
          <p:nvPr/>
        </p:nvSpPr>
        <p:spPr>
          <a:xfrm>
            <a:off x="7524720" y="6165720"/>
            <a:ext cx="576360" cy="4302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8932" h="21600">
                <a:moveTo>
                  <a:pt x="0" y="0"/>
                </a:moveTo>
                <a:lnTo>
                  <a:pt x="28932" y="0"/>
                </a:lnTo>
                <a:lnTo>
                  <a:pt x="28932" y="21600"/>
                </a:lnTo>
                <a:lnTo>
                  <a:pt x="0" y="21600"/>
                </a:lnTo>
                <a:close/>
              </a:path>
              <a:path fill="lightenLess" w="28932" h="21600">
                <a:moveTo>
                  <a:pt x="0" y="0"/>
                </a:moveTo>
                <a:lnTo>
                  <a:pt x="28932" y="0"/>
                </a:lnTo>
                <a:lnTo>
                  <a:pt x="27532" y="1400"/>
                </a:lnTo>
                <a:lnTo>
                  <a:pt x="1400" y="1400"/>
                </a:lnTo>
                <a:close/>
              </a:path>
              <a:path fill="darken" w="28932" h="21600">
                <a:moveTo>
                  <a:pt x="28932" y="0"/>
                </a:moveTo>
                <a:lnTo>
                  <a:pt x="28932" y="21600"/>
                </a:lnTo>
                <a:lnTo>
                  <a:pt x="27532" y="20200"/>
                </a:lnTo>
                <a:lnTo>
                  <a:pt x="27532" y="1400"/>
                </a:lnTo>
                <a:close/>
              </a:path>
              <a:path fill="darkenLess" w="28932" h="21600">
                <a:moveTo>
                  <a:pt x="289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32" y="20200"/>
                </a:lnTo>
                <a:close/>
              </a:path>
              <a:path fill="lighten" w="289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32" h="21600">
                <a:moveTo>
                  <a:pt x="14466" y="3837"/>
                </a:moveTo>
                <a:lnTo>
                  <a:pt x="17043" y="6448"/>
                </a:lnTo>
                <a:lnTo>
                  <a:pt x="17043" y="4707"/>
                </a:lnTo>
                <a:lnTo>
                  <a:pt x="18818" y="4707"/>
                </a:lnTo>
                <a:lnTo>
                  <a:pt x="18818" y="8224"/>
                </a:lnTo>
                <a:lnTo>
                  <a:pt x="21429" y="10800"/>
                </a:lnTo>
                <a:lnTo>
                  <a:pt x="19775" y="10800"/>
                </a:lnTo>
                <a:lnTo>
                  <a:pt x="19775" y="17989"/>
                </a:lnTo>
                <a:lnTo>
                  <a:pt x="9157" y="17989"/>
                </a:lnTo>
                <a:lnTo>
                  <a:pt x="9157" y="10800"/>
                </a:lnTo>
                <a:lnTo>
                  <a:pt x="7503" y="10800"/>
                </a:lnTo>
                <a:close/>
              </a:path>
              <a:path fill="darkenLess" w="28932" h="21600">
                <a:moveTo>
                  <a:pt x="17043" y="6448"/>
                </a:moveTo>
                <a:lnTo>
                  <a:pt x="17043" y="4707"/>
                </a:lnTo>
                <a:lnTo>
                  <a:pt x="18818" y="4707"/>
                </a:lnTo>
                <a:lnTo>
                  <a:pt x="18818" y="8224"/>
                </a:lnTo>
                <a:close/>
              </a:path>
              <a:path fill="darkenLess" w="28932" h="21600">
                <a:moveTo>
                  <a:pt x="13544" y="14299"/>
                </a:moveTo>
                <a:lnTo>
                  <a:pt x="15389" y="14299"/>
                </a:lnTo>
                <a:lnTo>
                  <a:pt x="15389" y="17989"/>
                </a:lnTo>
                <a:lnTo>
                  <a:pt x="19775" y="17989"/>
                </a:lnTo>
                <a:lnTo>
                  <a:pt x="19775" y="10800"/>
                </a:lnTo>
                <a:lnTo>
                  <a:pt x="9157" y="10800"/>
                </a:lnTo>
                <a:lnTo>
                  <a:pt x="9157" y="17989"/>
                </a:lnTo>
                <a:lnTo>
                  <a:pt x="13544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1000440"/>
            <a:ext cx="9144000" cy="466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0" lang="en-GB" sz="2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ccecff"/>
                </a:solidFill>
                <a:latin typeface="Arial"/>
              </a:rPr>
              <a:t>Говоря о вариантах дистанционного обучения, мы имеем в виду его возможные модели</a:t>
            </a:r>
            <a:br>
              <a:rPr sz="2000"/>
            </a:br>
            <a:r>
              <a:rPr b="0" lang="en-GB" sz="2000" spc="-1" strike="noStrike">
                <a:solidFill>
                  <a:srgbClr val="ccecff"/>
                </a:solidFill>
                <a:latin typeface="Arial"/>
              </a:rPr>
              <a:t>Нас интересуют возможные модели дистанционного обучения </a:t>
            </a:r>
            <a:br>
              <a:rPr sz="2000"/>
            </a:br>
            <a:r>
              <a:rPr b="0" lang="en-GB" sz="2000" spc="-1" strike="noStrike">
                <a:solidFill>
                  <a:srgbClr val="ccecff"/>
                </a:solidFill>
                <a:latin typeface="Arial"/>
              </a:rPr>
              <a:t>по двум признакам: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ccecff"/>
                </a:solidFill>
                <a:latin typeface="Arial"/>
              </a:rPr>
              <a:t>по организации дистанционной          по организации учебного процесса </a:t>
            </a:r>
            <a:br>
              <a:rPr sz="2000"/>
            </a:br>
            <a:r>
              <a:rPr b="0" lang="en-GB" sz="2000" spc="-1" strike="noStrike">
                <a:solidFill>
                  <a:srgbClr val="ccecff"/>
                </a:solidFill>
                <a:latin typeface="Arial"/>
              </a:rPr>
              <a:t> системы образования </a:t>
            </a:r>
            <a:br>
              <a:rPr sz="2000"/>
            </a:br>
            <a:r>
              <a:rPr b="0" lang="en-GB" sz="2000" spc="-1" strike="noStrike">
                <a:solidFill>
                  <a:srgbClr val="ccecff"/>
                </a:solidFill>
                <a:latin typeface="Arial"/>
              </a:rPr>
              <a:t>В настоящее время существующая сеть открытого и дистанционного образования в мировой практике базируется на шести известных моделях.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AutoShape 2"/>
          <p:cNvSpPr/>
          <p:nvPr/>
        </p:nvSpPr>
        <p:spPr>
          <a:xfrm>
            <a:off x="1209600" y="3165480"/>
            <a:ext cx="486000" cy="504720"/>
          </a:xfrm>
          <a:prstGeom prst="downArrow">
            <a:avLst>
              <a:gd name="adj1" fmla="val 50000"/>
              <a:gd name="adj2" fmla="val 25963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69" name="AutoShape 3"/>
          <p:cNvSpPr/>
          <p:nvPr/>
        </p:nvSpPr>
        <p:spPr>
          <a:xfrm>
            <a:off x="6419880" y="3211560"/>
            <a:ext cx="485640" cy="504720"/>
          </a:xfrm>
          <a:prstGeom prst="downArrow">
            <a:avLst>
              <a:gd name="adj1" fmla="val 50000"/>
              <a:gd name="adj2" fmla="val 25982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70" name="AutoShape 4">
            <a:hlinkClick r:id="" action="ppaction://hlinkshowjump?jump=nextslide"/>
          </p:cNvPr>
          <p:cNvSpPr/>
          <p:nvPr/>
        </p:nvSpPr>
        <p:spPr>
          <a:xfrm>
            <a:off x="7667640" y="6237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3839" y="3794"/>
                </a:moveTo>
                <a:lnTo>
                  <a:pt x="17851" y="10800"/>
                </a:lnTo>
                <a:lnTo>
                  <a:pt x="3839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71" name="AutoShape 5">
            <a:hlinkClick r:id="" action="ppaction://hlinkshowjump?jump=previousslide"/>
          </p:cNvPr>
          <p:cNvSpPr/>
          <p:nvPr/>
        </p:nvSpPr>
        <p:spPr>
          <a:xfrm>
            <a:off x="6732720" y="6237360"/>
            <a:ext cx="431640" cy="422280"/>
          </a:xfrm>
          <a:custGeom>
            <a:avLst/>
            <a:gdLst>
              <a:gd name="textAreaLeft" fmla="*/ 27360 w 431640"/>
              <a:gd name="textAreaRight" fmla="*/ 404280 w 43164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2078" h="21600">
                <a:moveTo>
                  <a:pt x="0" y="0"/>
                </a:moveTo>
                <a:lnTo>
                  <a:pt x="22078" y="0"/>
                </a:lnTo>
                <a:lnTo>
                  <a:pt x="22078" y="21600"/>
                </a:lnTo>
                <a:lnTo>
                  <a:pt x="0" y="21600"/>
                </a:lnTo>
                <a:close/>
              </a:path>
              <a:path fill="lightenLess" w="22078" h="21600">
                <a:moveTo>
                  <a:pt x="0" y="0"/>
                </a:moveTo>
                <a:lnTo>
                  <a:pt x="22078" y="0"/>
                </a:lnTo>
                <a:lnTo>
                  <a:pt x="20678" y="1400"/>
                </a:lnTo>
                <a:lnTo>
                  <a:pt x="1400" y="1400"/>
                </a:lnTo>
                <a:close/>
              </a:path>
              <a:path fill="darken" w="22078" h="21600">
                <a:moveTo>
                  <a:pt x="22078" y="0"/>
                </a:moveTo>
                <a:lnTo>
                  <a:pt x="22078" y="21600"/>
                </a:lnTo>
                <a:lnTo>
                  <a:pt x="20678" y="20200"/>
                </a:lnTo>
                <a:lnTo>
                  <a:pt x="20678" y="1400"/>
                </a:lnTo>
                <a:close/>
              </a:path>
              <a:path fill="darkenLess" w="22078" h="21600">
                <a:moveTo>
                  <a:pt x="220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678" y="20200"/>
                </a:lnTo>
                <a:close/>
              </a:path>
              <a:path fill="lighten" w="220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078" h="21600">
                <a:moveTo>
                  <a:pt x="4033" y="10800"/>
                </a:moveTo>
                <a:lnTo>
                  <a:pt x="18046" y="3794"/>
                </a:lnTo>
                <a:lnTo>
                  <a:pt x="18046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72" name="AutoShape 6">
            <a:hlinkClick r:id="" action="ppaction://hlinkshowjump?jump=firstslide"/>
          </p:cNvPr>
          <p:cNvSpPr/>
          <p:nvPr/>
        </p:nvSpPr>
        <p:spPr>
          <a:xfrm>
            <a:off x="7164360" y="6237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2" h="21600">
                <a:moveTo>
                  <a:pt x="12591" y="3837"/>
                </a:moveTo>
                <a:lnTo>
                  <a:pt x="15167" y="6448"/>
                </a:lnTo>
                <a:lnTo>
                  <a:pt x="15167" y="4707"/>
                </a:lnTo>
                <a:lnTo>
                  <a:pt x="16943" y="4707"/>
                </a:lnTo>
                <a:lnTo>
                  <a:pt x="16943" y="8224"/>
                </a:lnTo>
                <a:lnTo>
                  <a:pt x="19554" y="10800"/>
                </a:lnTo>
                <a:lnTo>
                  <a:pt x="17900" y="10800"/>
                </a:lnTo>
                <a:lnTo>
                  <a:pt x="17900" y="17989"/>
                </a:lnTo>
                <a:lnTo>
                  <a:pt x="7282" y="17989"/>
                </a:lnTo>
                <a:lnTo>
                  <a:pt x="7282" y="10800"/>
                </a:lnTo>
                <a:lnTo>
                  <a:pt x="5628" y="10800"/>
                </a:lnTo>
                <a:close/>
              </a:path>
              <a:path fill="darkenLess" w="25182" h="21600">
                <a:moveTo>
                  <a:pt x="15167" y="6448"/>
                </a:moveTo>
                <a:lnTo>
                  <a:pt x="15167" y="4707"/>
                </a:lnTo>
                <a:lnTo>
                  <a:pt x="16943" y="4707"/>
                </a:lnTo>
                <a:lnTo>
                  <a:pt x="16943" y="8224"/>
                </a:lnTo>
                <a:close/>
              </a:path>
              <a:path fill="darkenLess" w="25182" h="21600">
                <a:moveTo>
                  <a:pt x="11668" y="14299"/>
                </a:moveTo>
                <a:lnTo>
                  <a:pt x="13514" y="14299"/>
                </a:lnTo>
                <a:lnTo>
                  <a:pt x="13514" y="17989"/>
                </a:lnTo>
                <a:lnTo>
                  <a:pt x="17900" y="17989"/>
                </a:lnTo>
                <a:lnTo>
                  <a:pt x="17900" y="10800"/>
                </a:lnTo>
                <a:lnTo>
                  <a:pt x="7282" y="10800"/>
                </a:lnTo>
                <a:lnTo>
                  <a:pt x="7282" y="17989"/>
                </a:lnTo>
                <a:lnTo>
                  <a:pt x="11668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280" y="2467800"/>
            <a:ext cx="896472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ecff"/>
                </a:solidFill>
                <a:latin typeface="Arial"/>
              </a:rPr>
              <a:t>Обучение, ориентированное на школьные или вузовские </a:t>
            </a:r>
            <a:br>
              <a:rPr sz="2000"/>
            </a:br>
            <a:r>
              <a:rPr b="0" lang="en-GB" sz="2000" spc="-1" strike="noStrike">
                <a:solidFill>
                  <a:srgbClr val="ccecff"/>
                </a:solidFill>
                <a:latin typeface="Arial"/>
              </a:rPr>
              <a:t>(экзаменационные) требования, предназначается для   учащихся и студентов, которые по каким-то причинам  не могут посещать очные учебные заведения.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AutoShape 2">
            <a:hlinkClick r:id="" action="ppaction://hlinkshowjump?jump=nextslide"/>
          </p:cNvPr>
          <p:cNvSpPr/>
          <p:nvPr/>
        </p:nvSpPr>
        <p:spPr>
          <a:xfrm>
            <a:off x="8028000" y="623736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8073" y="3794"/>
                </a:moveTo>
                <a:lnTo>
                  <a:pt x="22086" y="10800"/>
                </a:lnTo>
                <a:lnTo>
                  <a:pt x="8073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75" name="AutoShape 3">
            <a:hlinkClick r:id="" action="ppaction://hlinkshowjump?jump=previousslide"/>
          </p:cNvPr>
          <p:cNvSpPr/>
          <p:nvPr/>
        </p:nvSpPr>
        <p:spPr>
          <a:xfrm>
            <a:off x="7020000" y="623736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8073" y="10800"/>
                </a:moveTo>
                <a:lnTo>
                  <a:pt x="22086" y="3794"/>
                </a:lnTo>
                <a:lnTo>
                  <a:pt x="22086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76" name="AutoShape 4">
            <a:hlinkClick r:id="rId1" action="ppaction://hlinksldjump"/>
          </p:cNvPr>
          <p:cNvSpPr/>
          <p:nvPr/>
        </p:nvSpPr>
        <p:spPr>
          <a:xfrm>
            <a:off x="7524720" y="623736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15079" y="3837"/>
                </a:moveTo>
                <a:lnTo>
                  <a:pt x="17655" y="6448"/>
                </a:lnTo>
                <a:lnTo>
                  <a:pt x="17655" y="4707"/>
                </a:lnTo>
                <a:lnTo>
                  <a:pt x="19431" y="4707"/>
                </a:lnTo>
                <a:lnTo>
                  <a:pt x="19431" y="8224"/>
                </a:lnTo>
                <a:lnTo>
                  <a:pt x="22042" y="10800"/>
                </a:lnTo>
                <a:lnTo>
                  <a:pt x="20388" y="10800"/>
                </a:lnTo>
                <a:lnTo>
                  <a:pt x="20388" y="17989"/>
                </a:lnTo>
                <a:lnTo>
                  <a:pt x="9770" y="17989"/>
                </a:lnTo>
                <a:lnTo>
                  <a:pt x="9770" y="10800"/>
                </a:lnTo>
                <a:lnTo>
                  <a:pt x="8116" y="10800"/>
                </a:lnTo>
                <a:close/>
              </a:path>
              <a:path fill="darkenLess" w="30158" h="21600">
                <a:moveTo>
                  <a:pt x="17655" y="6448"/>
                </a:moveTo>
                <a:lnTo>
                  <a:pt x="17655" y="4707"/>
                </a:lnTo>
                <a:lnTo>
                  <a:pt x="19431" y="4707"/>
                </a:lnTo>
                <a:lnTo>
                  <a:pt x="19431" y="8224"/>
                </a:lnTo>
                <a:close/>
              </a:path>
              <a:path fill="darkenLess" w="30158" h="21600">
                <a:moveTo>
                  <a:pt x="14156" y="14299"/>
                </a:moveTo>
                <a:lnTo>
                  <a:pt x="16002" y="14299"/>
                </a:lnTo>
                <a:lnTo>
                  <a:pt x="16002" y="17989"/>
                </a:lnTo>
                <a:lnTo>
                  <a:pt x="20388" y="17989"/>
                </a:lnTo>
                <a:lnTo>
                  <a:pt x="20388" y="10800"/>
                </a:lnTo>
                <a:lnTo>
                  <a:pt x="9770" y="10800"/>
                </a:lnTo>
                <a:lnTo>
                  <a:pt x="9770" y="17989"/>
                </a:lnTo>
                <a:lnTo>
                  <a:pt x="14156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77" name="AutoShape 6"/>
          <p:cNvSpPr/>
          <p:nvPr/>
        </p:nvSpPr>
        <p:spPr>
          <a:xfrm>
            <a:off x="611280" y="620640"/>
            <a:ext cx="8064360" cy="1944720"/>
          </a:xfrm>
          <a:custGeom>
            <a:avLst/>
            <a:gdLst>
              <a:gd name="textAreaLeft" fmla="*/ 0 w 8064360"/>
              <a:gd name="textAreaRight" fmla="*/ 8064720 w 8064360"/>
              <a:gd name="textAreaTop" fmla="*/ 252000 h 1944720"/>
              <a:gd name="textAreaBottom" fmla="*/ 169272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00"/>
                </a:solidFill>
                <a:latin typeface="Verdana"/>
              </a:rPr>
              <a:t>Модель 1. Обучение по типу экстерната</a:t>
            </a:r>
            <a:br>
              <a:rPr sz="2000"/>
            </a:br>
            <a:br>
              <a:rPr sz="2000"/>
            </a:b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1557000"/>
            <a:ext cx="84582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0" lang="en-GB" sz="1800" spc="-1" strike="noStrike">
                <a:solidFill>
                  <a:srgbClr val="ccecff"/>
                </a:solidFill>
                <a:latin typeface="Arial"/>
              </a:rPr>
              <a:t>Это уже целая система обучения для студентов, которые обуча-</a:t>
            </a:r>
            <a:br>
              <a:rPr sz="1800"/>
            </a:br>
            <a:r>
              <a:rPr b="0" lang="en-GB" sz="1800" spc="-1" strike="noStrike">
                <a:solidFill>
                  <a:srgbClr val="ccecff"/>
                </a:solidFill>
                <a:latin typeface="Arial"/>
              </a:rPr>
              <a:t>ются не очно (on-campus), а на расстоянии, дистанционно. Обучение проводится с широким использованием новых информацион-</a:t>
            </a:r>
            <a:br>
              <a:rPr sz="1800"/>
            </a:br>
            <a:r>
              <a:rPr b="0" lang="en-GB" sz="1800" spc="-1" strike="noStrike">
                <a:solidFill>
                  <a:srgbClr val="ccecff"/>
                </a:solidFill>
                <a:latin typeface="Arial"/>
              </a:rPr>
              <a:t>ных технологий, включая компьютерные телекоммуникации (off-</a:t>
            </a:r>
            <a:br>
              <a:rPr sz="1800"/>
            </a:br>
            <a:r>
              <a:rPr b="0" lang="en-GB" sz="1800" spc="-1" strike="noStrike">
                <a:solidFill>
                  <a:srgbClr val="ccecff"/>
                </a:solidFill>
                <a:latin typeface="Arial"/>
              </a:rPr>
              <a:t>campus), аудио- и видеокассеты.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AutoShape 2">
            <a:hlinkClick r:id="rId1" action="ppaction://hlinksldjump"/>
          </p:cNvPr>
          <p:cNvSpPr/>
          <p:nvPr/>
        </p:nvSpPr>
        <p:spPr>
          <a:xfrm>
            <a:off x="7524720" y="602136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12616" y="3837"/>
                </a:moveTo>
                <a:lnTo>
                  <a:pt x="15193" y="6448"/>
                </a:lnTo>
                <a:lnTo>
                  <a:pt x="15193" y="4707"/>
                </a:lnTo>
                <a:lnTo>
                  <a:pt x="16968" y="4707"/>
                </a:lnTo>
                <a:lnTo>
                  <a:pt x="16968" y="8224"/>
                </a:lnTo>
                <a:lnTo>
                  <a:pt x="19579" y="10800"/>
                </a:lnTo>
                <a:lnTo>
                  <a:pt x="17926" y="10800"/>
                </a:lnTo>
                <a:lnTo>
                  <a:pt x="17926" y="17989"/>
                </a:lnTo>
                <a:lnTo>
                  <a:pt x="7307" y="17989"/>
                </a:lnTo>
                <a:lnTo>
                  <a:pt x="7307" y="10800"/>
                </a:lnTo>
                <a:lnTo>
                  <a:pt x="5654" y="10800"/>
                </a:lnTo>
                <a:close/>
              </a:path>
              <a:path fill="darkenLess" w="25233" h="21600">
                <a:moveTo>
                  <a:pt x="15193" y="6448"/>
                </a:moveTo>
                <a:lnTo>
                  <a:pt x="15193" y="4707"/>
                </a:lnTo>
                <a:lnTo>
                  <a:pt x="16968" y="4707"/>
                </a:lnTo>
                <a:lnTo>
                  <a:pt x="16968" y="8224"/>
                </a:lnTo>
                <a:close/>
              </a:path>
              <a:path fill="darkenLess" w="25233" h="21600">
                <a:moveTo>
                  <a:pt x="11694" y="14299"/>
                </a:moveTo>
                <a:lnTo>
                  <a:pt x="13539" y="14299"/>
                </a:lnTo>
                <a:lnTo>
                  <a:pt x="13539" y="17989"/>
                </a:lnTo>
                <a:lnTo>
                  <a:pt x="17926" y="17989"/>
                </a:lnTo>
                <a:lnTo>
                  <a:pt x="17926" y="10800"/>
                </a:lnTo>
                <a:lnTo>
                  <a:pt x="7307" y="10800"/>
                </a:lnTo>
                <a:lnTo>
                  <a:pt x="7307" y="17989"/>
                </a:lnTo>
                <a:lnTo>
                  <a:pt x="11694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80" name="AutoShape 3">
            <a:hlinkClick r:id="" action="ppaction://hlinkshowjump?jump=previousslide"/>
          </p:cNvPr>
          <p:cNvSpPr/>
          <p:nvPr/>
        </p:nvSpPr>
        <p:spPr>
          <a:xfrm>
            <a:off x="7020000" y="602136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5610" y="10800"/>
                </a:moveTo>
                <a:lnTo>
                  <a:pt x="19623" y="3794"/>
                </a:lnTo>
                <a:lnTo>
                  <a:pt x="19623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81" name="AutoShape 4">
            <a:hlinkClick r:id="" action="ppaction://hlinkshowjump?jump=nextslide"/>
          </p:cNvPr>
          <p:cNvSpPr/>
          <p:nvPr/>
        </p:nvSpPr>
        <p:spPr>
          <a:xfrm>
            <a:off x="8028000" y="6021360"/>
            <a:ext cx="503280" cy="422280"/>
          </a:xfrm>
          <a:custGeom>
            <a:avLst/>
            <a:gdLst>
              <a:gd name="textAreaLeft" fmla="*/ 27360 w 503280"/>
              <a:gd name="textAreaRight" fmla="*/ 475920 w 50328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740" h="21600">
                <a:moveTo>
                  <a:pt x="0" y="0"/>
                </a:moveTo>
                <a:lnTo>
                  <a:pt x="25740" y="0"/>
                </a:lnTo>
                <a:lnTo>
                  <a:pt x="25740" y="21600"/>
                </a:lnTo>
                <a:lnTo>
                  <a:pt x="0" y="21600"/>
                </a:lnTo>
                <a:close/>
              </a:path>
              <a:path fill="lightenLess" w="25740" h="21600">
                <a:moveTo>
                  <a:pt x="0" y="0"/>
                </a:moveTo>
                <a:lnTo>
                  <a:pt x="25740" y="0"/>
                </a:lnTo>
                <a:lnTo>
                  <a:pt x="24340" y="1400"/>
                </a:lnTo>
                <a:lnTo>
                  <a:pt x="1400" y="1400"/>
                </a:lnTo>
                <a:close/>
              </a:path>
              <a:path fill="darken" w="25740" h="21600">
                <a:moveTo>
                  <a:pt x="25740" y="0"/>
                </a:moveTo>
                <a:lnTo>
                  <a:pt x="25740" y="21600"/>
                </a:lnTo>
                <a:lnTo>
                  <a:pt x="24340" y="20200"/>
                </a:lnTo>
                <a:lnTo>
                  <a:pt x="24340" y="1400"/>
                </a:lnTo>
                <a:close/>
              </a:path>
              <a:path fill="darkenLess" w="25740" h="21600">
                <a:moveTo>
                  <a:pt x="257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40" y="20200"/>
                </a:lnTo>
                <a:close/>
              </a:path>
              <a:path fill="lighten" w="257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40" h="21600">
                <a:moveTo>
                  <a:pt x="5863" y="3794"/>
                </a:moveTo>
                <a:lnTo>
                  <a:pt x="19876" y="10800"/>
                </a:lnTo>
                <a:lnTo>
                  <a:pt x="5863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182" name="Picture 5" descr=""/>
          <p:cNvPicPr/>
          <p:nvPr/>
        </p:nvPicPr>
        <p:blipFill>
          <a:blip r:embed="rId2"/>
          <a:stretch/>
        </p:blipFill>
        <p:spPr>
          <a:xfrm>
            <a:off x="4572000" y="4797360"/>
            <a:ext cx="2160720" cy="172872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7"/>
          <p:cNvSpPr/>
          <p:nvPr/>
        </p:nvSpPr>
        <p:spPr>
          <a:xfrm>
            <a:off x="395280" y="189000"/>
            <a:ext cx="8207280" cy="2736720"/>
          </a:xfrm>
          <a:custGeom>
            <a:avLst/>
            <a:gdLst>
              <a:gd name="textAreaLeft" fmla="*/ 0 w 8207280"/>
              <a:gd name="textAreaRight" fmla="*/ 8207640 w 8207280"/>
              <a:gd name="textAreaTop" fmla="*/ 354600 h 2736720"/>
              <a:gd name="textAreaBottom" fmla="*/ 2382120 h 2736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00"/>
                </a:solidFill>
                <a:latin typeface="Verdana"/>
              </a:rPr>
              <a:t>Модель 2. Университетское обучение </a:t>
            </a: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00"/>
                </a:solidFill>
                <a:latin typeface="Verdana"/>
              </a:rPr>
              <a:t>(на базе одного университета)</a:t>
            </a:r>
            <a:br>
              <a:rPr sz="2000"/>
            </a:br>
            <a:br>
              <a:rPr sz="2000"/>
            </a:b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2242800"/>
            <a:ext cx="896472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ccecff"/>
                </a:solidFill>
                <a:latin typeface="Arial"/>
              </a:rPr>
              <a:t>Сотрудничество нескольких образовательных организаций в подготовке программ дистанционного обучения позволяет сделать их более профессионально качественными и менее дорогостоящими. Примером подобного сотрудничества, как в разработке, так и в использовании такого рода программ, может служить программа «Содружество в образовании» (Common­wealth of education, 1992)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AutoShape 2">
            <a:hlinkClick r:id="" action="ppaction://hlinkshowjump?jump=nextslide"/>
          </p:cNvPr>
          <p:cNvSpPr/>
          <p:nvPr/>
        </p:nvSpPr>
        <p:spPr>
          <a:xfrm>
            <a:off x="8388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3794"/>
                </a:moveTo>
                <a:lnTo>
                  <a:pt x="19242" y="10800"/>
                </a:lnTo>
                <a:lnTo>
                  <a:pt x="5229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86" name="AutoShape 3">
            <a:hlinkClick r:id="" action="ppaction://hlinkshowjump?jump=previousslide"/>
          </p:cNvPr>
          <p:cNvSpPr/>
          <p:nvPr/>
        </p:nvSpPr>
        <p:spPr>
          <a:xfrm>
            <a:off x="7380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10800"/>
                </a:moveTo>
                <a:lnTo>
                  <a:pt x="19242" y="3794"/>
                </a:lnTo>
                <a:lnTo>
                  <a:pt x="19242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87" name="AutoShape 4">
            <a:hlinkClick r:id="rId1" action="ppaction://hlinksldjump"/>
          </p:cNvPr>
          <p:cNvSpPr/>
          <p:nvPr/>
        </p:nvSpPr>
        <p:spPr>
          <a:xfrm>
            <a:off x="7885080" y="6364440"/>
            <a:ext cx="503280" cy="493560"/>
          </a:xfrm>
          <a:custGeom>
            <a:avLst/>
            <a:gdLst>
              <a:gd name="textAreaLeft" fmla="*/ 31680 w 503280"/>
              <a:gd name="textAreaRight" fmla="*/ 471600 w 503280"/>
              <a:gd name="textAreaTop" fmla="*/ 31680 h 493560"/>
              <a:gd name="textAreaBottom" fmla="*/ 461880 h 493560"/>
            </a:gdLst>
            <a:ahLst/>
            <a:rect l="textAreaLeft" t="textAreaTop" r="textAreaRight" b="textAreaBottom"/>
            <a:pathLst>
              <a:path w="22025" h="21600">
                <a:moveTo>
                  <a:pt x="0" y="0"/>
                </a:moveTo>
                <a:lnTo>
                  <a:pt x="22025" y="0"/>
                </a:lnTo>
                <a:lnTo>
                  <a:pt x="22025" y="21600"/>
                </a:lnTo>
                <a:lnTo>
                  <a:pt x="0" y="21600"/>
                </a:lnTo>
                <a:close/>
              </a:path>
              <a:path fill="lightenLess" w="22025" h="21600">
                <a:moveTo>
                  <a:pt x="0" y="0"/>
                </a:moveTo>
                <a:lnTo>
                  <a:pt x="22025" y="0"/>
                </a:lnTo>
                <a:lnTo>
                  <a:pt x="20625" y="1400"/>
                </a:lnTo>
                <a:lnTo>
                  <a:pt x="1400" y="1400"/>
                </a:lnTo>
                <a:close/>
              </a:path>
              <a:path fill="darken" w="22025" h="21600">
                <a:moveTo>
                  <a:pt x="22025" y="0"/>
                </a:moveTo>
                <a:lnTo>
                  <a:pt x="22025" y="21600"/>
                </a:lnTo>
                <a:lnTo>
                  <a:pt x="20625" y="20200"/>
                </a:lnTo>
                <a:lnTo>
                  <a:pt x="20625" y="1400"/>
                </a:lnTo>
                <a:close/>
              </a:path>
              <a:path fill="darkenLess" w="22025" h="21600">
                <a:moveTo>
                  <a:pt x="220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625" y="20200"/>
                </a:lnTo>
                <a:close/>
              </a:path>
              <a:path fill="lighten" w="220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025" h="21600">
                <a:moveTo>
                  <a:pt x="11013" y="3837"/>
                </a:moveTo>
                <a:lnTo>
                  <a:pt x="13589" y="6448"/>
                </a:lnTo>
                <a:lnTo>
                  <a:pt x="13589" y="4707"/>
                </a:lnTo>
                <a:lnTo>
                  <a:pt x="15364" y="4707"/>
                </a:lnTo>
                <a:lnTo>
                  <a:pt x="15364" y="8224"/>
                </a:lnTo>
                <a:lnTo>
                  <a:pt x="17975" y="10800"/>
                </a:lnTo>
                <a:lnTo>
                  <a:pt x="16322" y="10800"/>
                </a:lnTo>
                <a:lnTo>
                  <a:pt x="16322" y="17989"/>
                </a:lnTo>
                <a:lnTo>
                  <a:pt x="5703" y="17989"/>
                </a:lnTo>
                <a:lnTo>
                  <a:pt x="5703" y="10800"/>
                </a:lnTo>
                <a:lnTo>
                  <a:pt x="4050" y="10800"/>
                </a:lnTo>
                <a:close/>
              </a:path>
              <a:path fill="darkenLess" w="22025" h="21600">
                <a:moveTo>
                  <a:pt x="13589" y="6448"/>
                </a:moveTo>
                <a:lnTo>
                  <a:pt x="13589" y="4707"/>
                </a:lnTo>
                <a:lnTo>
                  <a:pt x="15364" y="4707"/>
                </a:lnTo>
                <a:lnTo>
                  <a:pt x="15364" y="8224"/>
                </a:lnTo>
                <a:close/>
              </a:path>
              <a:path fill="darkenLess" w="22025" h="21600">
                <a:moveTo>
                  <a:pt x="10090" y="14299"/>
                </a:moveTo>
                <a:lnTo>
                  <a:pt x="11935" y="14299"/>
                </a:lnTo>
                <a:lnTo>
                  <a:pt x="11935" y="17989"/>
                </a:lnTo>
                <a:lnTo>
                  <a:pt x="16322" y="17989"/>
                </a:lnTo>
                <a:lnTo>
                  <a:pt x="16322" y="10800"/>
                </a:lnTo>
                <a:lnTo>
                  <a:pt x="5703" y="10800"/>
                </a:lnTo>
                <a:lnTo>
                  <a:pt x="5703" y="17989"/>
                </a:lnTo>
                <a:lnTo>
                  <a:pt x="10090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324000" y="115920"/>
            <a:ext cx="8351640" cy="2736720"/>
          </a:xfrm>
          <a:custGeom>
            <a:avLst/>
            <a:gdLst>
              <a:gd name="textAreaLeft" fmla="*/ 0 w 8351640"/>
              <a:gd name="textAreaRight" fmla="*/ 8352000 w 8351640"/>
              <a:gd name="textAreaTop" fmla="*/ 354600 h 2736720"/>
              <a:gd name="textAreaBottom" fmla="*/ 2382120 h 2736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00"/>
                </a:solidFill>
                <a:latin typeface="Verdana"/>
              </a:rPr>
              <a:t>Модель 3. Обучение, основанное на сотрудничестве </a:t>
            </a: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00"/>
                </a:solidFill>
                <a:latin typeface="Verdana"/>
              </a:rPr>
              <a:t>нескольких учебных заведений</a:t>
            </a:r>
            <a:br>
              <a:rPr sz="2000"/>
            </a:b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2445480"/>
            <a:ext cx="914400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2000" spc="-1" strike="noStrike">
                <a:solidFill>
                  <a:srgbClr val="ccecff"/>
                </a:solidFill>
                <a:latin typeface="Arial"/>
              </a:rPr>
              <a:t>Специально созданные для целей дистанционного обучения образовательные учреждения ориентированы на разработку мультимедийных курсов. В их компетенцию входят также оценка знаний и аттестация обучаемых.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AutoShape 2">
            <a:hlinkClick r:id="" action="ppaction://hlinkshowjump?jump=nextslide"/>
          </p:cNvPr>
          <p:cNvSpPr/>
          <p:nvPr/>
        </p:nvSpPr>
        <p:spPr>
          <a:xfrm>
            <a:off x="8244000" y="6237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2" h="21600">
                <a:moveTo>
                  <a:pt x="5585" y="3794"/>
                </a:moveTo>
                <a:lnTo>
                  <a:pt x="19597" y="10800"/>
                </a:lnTo>
                <a:lnTo>
                  <a:pt x="5585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91" name="AutoShape 3">
            <a:hlinkClick r:id="" action="ppaction://hlinkshowjump?jump=previousslide"/>
          </p:cNvPr>
          <p:cNvSpPr/>
          <p:nvPr/>
        </p:nvSpPr>
        <p:spPr>
          <a:xfrm>
            <a:off x="7308720" y="6237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2" h="21600">
                <a:moveTo>
                  <a:pt x="5585" y="10800"/>
                </a:moveTo>
                <a:lnTo>
                  <a:pt x="19597" y="3794"/>
                </a:lnTo>
                <a:lnTo>
                  <a:pt x="1959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92" name="AutoShape 4">
            <a:hlinkClick r:id="rId1" action="ppaction://hlinksldjump"/>
          </p:cNvPr>
          <p:cNvSpPr/>
          <p:nvPr/>
        </p:nvSpPr>
        <p:spPr>
          <a:xfrm>
            <a:off x="7812000" y="6237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93" name="AutoShape 7"/>
          <p:cNvSpPr/>
          <p:nvPr/>
        </p:nvSpPr>
        <p:spPr>
          <a:xfrm>
            <a:off x="468360" y="260280"/>
            <a:ext cx="8280360" cy="2449440"/>
          </a:xfrm>
          <a:custGeom>
            <a:avLst/>
            <a:gdLst>
              <a:gd name="textAreaLeft" fmla="*/ 0 w 8280360"/>
              <a:gd name="textAreaRight" fmla="*/ 8280720 w 8280360"/>
              <a:gd name="textAreaTop" fmla="*/ 317520 h 2449440"/>
              <a:gd name="textAreaBottom" fmla="*/ 2131920 h 24494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00"/>
                </a:solidFill>
                <a:latin typeface="Verdana"/>
              </a:rPr>
              <a:t>Модель 4. Обучение в специализированных </a:t>
            </a: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00"/>
                </a:solidFill>
                <a:latin typeface="Verdana"/>
              </a:rPr>
              <a:t>образовательных учреждениях</a:t>
            </a:r>
            <a:br>
              <a:rPr sz="2000"/>
            </a:b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3428280"/>
            <a:ext cx="820728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2000" spc="-1" strike="noStrike">
                <a:solidFill>
                  <a:srgbClr val="ccecff"/>
                </a:solidFill>
                <a:latin typeface="Arial"/>
              </a:rPr>
              <a:t>Традиционно в зарубежной практике эту модель также относят дистанционной модели обучения, хотя,  она может  считаться дистанционной только в той ее части, которая просматривает Two-way TV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AutoShape 2">
            <a:hlinkClick r:id="" action="ppaction://hlinkshowjump?jump=nextslide"/>
          </p:cNvPr>
          <p:cNvSpPr/>
          <p:nvPr/>
        </p:nvSpPr>
        <p:spPr>
          <a:xfrm>
            <a:off x="8388360" y="6165720"/>
            <a:ext cx="504720" cy="433440"/>
          </a:xfrm>
          <a:custGeom>
            <a:avLst/>
            <a:gdLst>
              <a:gd name="textAreaLeft" fmla="*/ 28080 w 504720"/>
              <a:gd name="textAreaRight" fmla="*/ 476640 w 50472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5149" h="21600">
                <a:moveTo>
                  <a:pt x="0" y="0"/>
                </a:moveTo>
                <a:lnTo>
                  <a:pt x="25149" y="0"/>
                </a:lnTo>
                <a:lnTo>
                  <a:pt x="25149" y="21600"/>
                </a:lnTo>
                <a:lnTo>
                  <a:pt x="0" y="21600"/>
                </a:lnTo>
                <a:close/>
              </a:path>
              <a:path fill="lightenLess" w="25149" h="21600">
                <a:moveTo>
                  <a:pt x="0" y="0"/>
                </a:moveTo>
                <a:lnTo>
                  <a:pt x="25149" y="0"/>
                </a:lnTo>
                <a:lnTo>
                  <a:pt x="23749" y="1400"/>
                </a:lnTo>
                <a:lnTo>
                  <a:pt x="1400" y="1400"/>
                </a:lnTo>
                <a:close/>
              </a:path>
              <a:path fill="darken" w="25149" h="21600">
                <a:moveTo>
                  <a:pt x="25149" y="0"/>
                </a:moveTo>
                <a:lnTo>
                  <a:pt x="25149" y="21600"/>
                </a:lnTo>
                <a:lnTo>
                  <a:pt x="23749" y="20200"/>
                </a:lnTo>
                <a:lnTo>
                  <a:pt x="23749" y="1400"/>
                </a:lnTo>
                <a:close/>
              </a:path>
              <a:path fill="darkenLess" w="25149" h="21600">
                <a:moveTo>
                  <a:pt x="25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9" y="20200"/>
                </a:lnTo>
                <a:close/>
              </a:path>
              <a:path fill="lighten" w="25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49" h="21600">
                <a:moveTo>
                  <a:pt x="5568" y="3794"/>
                </a:moveTo>
                <a:lnTo>
                  <a:pt x="19581" y="10800"/>
                </a:lnTo>
                <a:lnTo>
                  <a:pt x="556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96" name="AutoShape 3">
            <a:hlinkClick r:id="" action="ppaction://hlinkshowjump?jump=previousslide"/>
          </p:cNvPr>
          <p:cNvSpPr/>
          <p:nvPr/>
        </p:nvSpPr>
        <p:spPr>
          <a:xfrm>
            <a:off x="738036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10800"/>
                </a:moveTo>
                <a:lnTo>
                  <a:pt x="19587" y="3794"/>
                </a:lnTo>
                <a:lnTo>
                  <a:pt x="1958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97" name="AutoShape 4">
            <a:hlinkClick r:id="rId1" action="ppaction://hlinksldjump"/>
          </p:cNvPr>
          <p:cNvSpPr/>
          <p:nvPr/>
        </p:nvSpPr>
        <p:spPr>
          <a:xfrm>
            <a:off x="7885080" y="6165720"/>
            <a:ext cx="504720" cy="422280"/>
          </a:xfrm>
          <a:custGeom>
            <a:avLst/>
            <a:gdLst>
              <a:gd name="textAreaLeft" fmla="*/ 27360 w 504720"/>
              <a:gd name="textAreaRight" fmla="*/ 477360 w 50472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813" h="21600">
                <a:moveTo>
                  <a:pt x="0" y="0"/>
                </a:moveTo>
                <a:lnTo>
                  <a:pt x="25813" y="0"/>
                </a:lnTo>
                <a:lnTo>
                  <a:pt x="25813" y="21600"/>
                </a:lnTo>
                <a:lnTo>
                  <a:pt x="0" y="21600"/>
                </a:lnTo>
                <a:close/>
              </a:path>
              <a:path fill="lightenLess" w="25813" h="21600">
                <a:moveTo>
                  <a:pt x="0" y="0"/>
                </a:moveTo>
                <a:lnTo>
                  <a:pt x="25813" y="0"/>
                </a:lnTo>
                <a:lnTo>
                  <a:pt x="24413" y="1400"/>
                </a:lnTo>
                <a:lnTo>
                  <a:pt x="1400" y="1400"/>
                </a:lnTo>
                <a:close/>
              </a:path>
              <a:path fill="darken" w="25813" h="21600">
                <a:moveTo>
                  <a:pt x="25813" y="0"/>
                </a:moveTo>
                <a:lnTo>
                  <a:pt x="25813" y="21600"/>
                </a:lnTo>
                <a:lnTo>
                  <a:pt x="24413" y="20200"/>
                </a:lnTo>
                <a:lnTo>
                  <a:pt x="24413" y="1400"/>
                </a:lnTo>
                <a:close/>
              </a:path>
              <a:path fill="darkenLess" w="25813" h="21600">
                <a:moveTo>
                  <a:pt x="258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13" y="20200"/>
                </a:lnTo>
                <a:close/>
              </a:path>
              <a:path fill="lighten" w="258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13" h="21600">
                <a:moveTo>
                  <a:pt x="12907" y="3837"/>
                </a:moveTo>
                <a:lnTo>
                  <a:pt x="15483" y="6448"/>
                </a:lnTo>
                <a:lnTo>
                  <a:pt x="15483" y="4707"/>
                </a:lnTo>
                <a:lnTo>
                  <a:pt x="17258" y="4707"/>
                </a:lnTo>
                <a:lnTo>
                  <a:pt x="17258" y="8224"/>
                </a:lnTo>
                <a:lnTo>
                  <a:pt x="19870" y="10800"/>
                </a:lnTo>
                <a:lnTo>
                  <a:pt x="18216" y="10800"/>
                </a:lnTo>
                <a:lnTo>
                  <a:pt x="18216" y="17989"/>
                </a:lnTo>
                <a:lnTo>
                  <a:pt x="7597" y="17989"/>
                </a:lnTo>
                <a:lnTo>
                  <a:pt x="7597" y="10800"/>
                </a:lnTo>
                <a:lnTo>
                  <a:pt x="5944" y="10800"/>
                </a:lnTo>
                <a:close/>
              </a:path>
              <a:path fill="darkenLess" w="25813" h="21600">
                <a:moveTo>
                  <a:pt x="15483" y="6448"/>
                </a:moveTo>
                <a:lnTo>
                  <a:pt x="15483" y="4707"/>
                </a:lnTo>
                <a:lnTo>
                  <a:pt x="17258" y="4707"/>
                </a:lnTo>
                <a:lnTo>
                  <a:pt x="17258" y="8224"/>
                </a:lnTo>
                <a:close/>
              </a:path>
              <a:path fill="darkenLess" w="25813" h="21600">
                <a:moveTo>
                  <a:pt x="11984" y="14299"/>
                </a:moveTo>
                <a:lnTo>
                  <a:pt x="13829" y="14299"/>
                </a:lnTo>
                <a:lnTo>
                  <a:pt x="13829" y="17989"/>
                </a:lnTo>
                <a:lnTo>
                  <a:pt x="18216" y="17989"/>
                </a:lnTo>
                <a:lnTo>
                  <a:pt x="18216" y="10800"/>
                </a:lnTo>
                <a:lnTo>
                  <a:pt x="7597" y="10800"/>
                </a:lnTo>
                <a:lnTo>
                  <a:pt x="7597" y="17989"/>
                </a:lnTo>
                <a:lnTo>
                  <a:pt x="11984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198" name="Picture 5" descr=""/>
          <p:cNvPicPr/>
          <p:nvPr/>
        </p:nvPicPr>
        <p:blipFill>
          <a:blip r:embed="rId2"/>
          <a:stretch/>
        </p:blipFill>
        <p:spPr>
          <a:xfrm>
            <a:off x="6588000" y="333360"/>
            <a:ext cx="1509840" cy="14637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7"/>
          <p:cNvSpPr/>
          <p:nvPr/>
        </p:nvSpPr>
        <p:spPr>
          <a:xfrm>
            <a:off x="250920" y="1341360"/>
            <a:ext cx="8208720" cy="2089080"/>
          </a:xfrm>
          <a:custGeom>
            <a:avLst/>
            <a:gdLst>
              <a:gd name="textAreaLeft" fmla="*/ 0 w 8208720"/>
              <a:gd name="textAreaRight" fmla="*/ 8209080 w 8208720"/>
              <a:gd name="textAreaTop" fmla="*/ 270720 h 2089080"/>
              <a:gd name="textAreaBottom" fmla="*/ 1818360 h 2089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Verdana"/>
              </a:rPr>
              <a:t>Модель </a:t>
            </a:r>
            <a:r>
              <a:rPr b="1" lang="en-GB" sz="2400" spc="-1" strike="noStrike">
                <a:solidFill>
                  <a:srgbClr val="ffff00"/>
                </a:solidFill>
                <a:latin typeface="Verdana"/>
              </a:rPr>
              <a:t>5. </a:t>
            </a:r>
            <a:r>
              <a:rPr b="1" i="1" lang="en-GB" sz="2400" spc="-1" strike="noStrike">
                <a:solidFill>
                  <a:srgbClr val="ffff00"/>
                </a:solidFill>
                <a:latin typeface="Verdana"/>
              </a:rPr>
              <a:t>Автономные обучающие системы</a:t>
            </a:r>
            <a:br>
              <a:rPr sz="2400"/>
            </a:br>
            <a:br>
              <a:rPr sz="1800"/>
            </a:br>
            <a:endParaRPr b="1" i="1" lang="en-US" sz="24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8920" y="2653560"/>
            <a:ext cx="82789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2000" spc="-1" strike="noStrike">
                <a:solidFill>
                  <a:srgbClr val="ccecff"/>
                </a:solidFill>
                <a:latin typeface="Arial"/>
              </a:rPr>
              <a:t>Это также программы самообразования при возможности консультаций. Они ориентированы на обучение взрослой аудитории, тех людей, которые по каким-то причинам не смогли закончить школьное образование.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AutoShape 2">
            <a:hlinkClick r:id="" action="ppaction://hlinkshowjump?jump=nextslide"/>
          </p:cNvPr>
          <p:cNvSpPr/>
          <p:nvPr/>
        </p:nvSpPr>
        <p:spPr>
          <a:xfrm>
            <a:off x="8388360" y="6237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2" h="21600">
                <a:moveTo>
                  <a:pt x="5585" y="3794"/>
                </a:moveTo>
                <a:lnTo>
                  <a:pt x="19597" y="10800"/>
                </a:lnTo>
                <a:lnTo>
                  <a:pt x="5585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02" name="AutoShape 3">
            <a:hlinkClick r:id="" action="ppaction://hlinkshowjump?jump=previousslide"/>
          </p:cNvPr>
          <p:cNvSpPr/>
          <p:nvPr/>
        </p:nvSpPr>
        <p:spPr>
          <a:xfrm>
            <a:off x="7451640" y="6237360"/>
            <a:ext cx="505080" cy="422280"/>
          </a:xfrm>
          <a:custGeom>
            <a:avLst/>
            <a:gdLst>
              <a:gd name="textAreaLeft" fmla="*/ 27360 w 505080"/>
              <a:gd name="textAreaRight" fmla="*/ 477720 w 50508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832" h="21600">
                <a:moveTo>
                  <a:pt x="0" y="0"/>
                </a:moveTo>
                <a:lnTo>
                  <a:pt x="25832" y="0"/>
                </a:lnTo>
                <a:lnTo>
                  <a:pt x="25832" y="21600"/>
                </a:lnTo>
                <a:lnTo>
                  <a:pt x="0" y="21600"/>
                </a:lnTo>
                <a:close/>
              </a:path>
              <a:path fill="lightenLess" w="25832" h="21600">
                <a:moveTo>
                  <a:pt x="0" y="0"/>
                </a:moveTo>
                <a:lnTo>
                  <a:pt x="25832" y="0"/>
                </a:lnTo>
                <a:lnTo>
                  <a:pt x="24432" y="1400"/>
                </a:lnTo>
                <a:lnTo>
                  <a:pt x="1400" y="1400"/>
                </a:lnTo>
                <a:close/>
              </a:path>
              <a:path fill="darken" w="25832" h="21600">
                <a:moveTo>
                  <a:pt x="25832" y="0"/>
                </a:moveTo>
                <a:lnTo>
                  <a:pt x="25832" y="21600"/>
                </a:lnTo>
                <a:lnTo>
                  <a:pt x="24432" y="20200"/>
                </a:lnTo>
                <a:lnTo>
                  <a:pt x="24432" y="1400"/>
                </a:lnTo>
                <a:close/>
              </a:path>
              <a:path fill="darkenLess" w="25832" h="21600">
                <a:moveTo>
                  <a:pt x="258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32" y="20200"/>
                </a:lnTo>
                <a:close/>
              </a:path>
              <a:path fill="lighten" w="258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32" h="21600">
                <a:moveTo>
                  <a:pt x="5909" y="10800"/>
                </a:moveTo>
                <a:lnTo>
                  <a:pt x="19922" y="3794"/>
                </a:lnTo>
                <a:lnTo>
                  <a:pt x="19922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03" name="AutoShape 4">
            <a:hlinkClick r:id="rId1" action="ppaction://hlinksldjump"/>
          </p:cNvPr>
          <p:cNvSpPr/>
          <p:nvPr/>
        </p:nvSpPr>
        <p:spPr>
          <a:xfrm>
            <a:off x="7956720" y="623736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10800" y="3882"/>
                </a:moveTo>
                <a:lnTo>
                  <a:pt x="13376" y="6493"/>
                </a:lnTo>
                <a:lnTo>
                  <a:pt x="13376" y="4752"/>
                </a:lnTo>
                <a:lnTo>
                  <a:pt x="15152" y="4752"/>
                </a:lnTo>
                <a:lnTo>
                  <a:pt x="15152" y="8269"/>
                </a:lnTo>
                <a:lnTo>
                  <a:pt x="17763" y="10845"/>
                </a:lnTo>
                <a:lnTo>
                  <a:pt x="16109" y="10845"/>
                </a:lnTo>
                <a:lnTo>
                  <a:pt x="16109" y="18034"/>
                </a:lnTo>
                <a:lnTo>
                  <a:pt x="5491" y="18034"/>
                </a:lnTo>
                <a:lnTo>
                  <a:pt x="5491" y="10845"/>
                </a:lnTo>
                <a:lnTo>
                  <a:pt x="3837" y="10845"/>
                </a:lnTo>
                <a:close/>
              </a:path>
              <a:path fill="darkenLess" w="21600" h="21690">
                <a:moveTo>
                  <a:pt x="13376" y="6493"/>
                </a:moveTo>
                <a:lnTo>
                  <a:pt x="13376" y="4752"/>
                </a:lnTo>
                <a:lnTo>
                  <a:pt x="15152" y="4752"/>
                </a:lnTo>
                <a:lnTo>
                  <a:pt x="15152" y="8269"/>
                </a:lnTo>
                <a:close/>
              </a:path>
              <a:path fill="darkenLess" w="21600" h="21690">
                <a:moveTo>
                  <a:pt x="9877" y="14344"/>
                </a:moveTo>
                <a:lnTo>
                  <a:pt x="11723" y="14344"/>
                </a:lnTo>
                <a:lnTo>
                  <a:pt x="11723" y="18034"/>
                </a:lnTo>
                <a:lnTo>
                  <a:pt x="16109" y="18034"/>
                </a:lnTo>
                <a:lnTo>
                  <a:pt x="16109" y="10845"/>
                </a:lnTo>
                <a:lnTo>
                  <a:pt x="5491" y="10845"/>
                </a:lnTo>
                <a:lnTo>
                  <a:pt x="5491" y="18034"/>
                </a:lnTo>
                <a:lnTo>
                  <a:pt x="9877" y="18034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04" name="AutoShape 7"/>
          <p:cNvSpPr/>
          <p:nvPr/>
        </p:nvSpPr>
        <p:spPr>
          <a:xfrm>
            <a:off x="108000" y="260280"/>
            <a:ext cx="9036000" cy="2808360"/>
          </a:xfrm>
          <a:custGeom>
            <a:avLst/>
            <a:gdLst>
              <a:gd name="textAreaLeft" fmla="*/ 0 w 9036000"/>
              <a:gd name="textAreaRight" fmla="*/ 9036360 w 9036000"/>
              <a:gd name="textAreaTop" fmla="*/ 363960 h 2808360"/>
              <a:gd name="textAreaBottom" fmla="*/ 2444400 h 2808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00"/>
                </a:solidFill>
                <a:latin typeface="Verdana"/>
              </a:rPr>
              <a:t>Модель 6. Неформальное, интегрированное дистанционное </a:t>
            </a: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00"/>
                </a:solidFill>
                <a:latin typeface="Verdana"/>
              </a:rPr>
              <a:t>обучение на основе мультимедийных программ</a:t>
            </a:r>
            <a:br>
              <a:rPr sz="2000"/>
            </a:b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6-01-20T16:00:57Z</dcterms:modified>
  <cp:revision>12</cp:revision>
  <dc:subject/>
  <dc:title>  Министерство образования РФ               ГОУ ВПО Череповецкий Государственный университет                          Федеральное агентство по образованию               Кафедра  педагогики и методики начального образования   Лекция Модели дистанционного обучения                      Подготовили: Тришичева Анна Николаевна,      Маракасова Ксения Владимировна        Студентки группы 4ПФ-21      Проверила: Погодина Елена Валерьевна      Череповец, 2007год</dc:title>
</cp:coreProperties>
</file>