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media/image9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-360" y="-11849400"/>
            <a:ext cx="360" cy="250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17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7408-FC65-40F0-9E02-BC2702FF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0EBD-32EA-4D88-8F62-01FB51CB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AC7B-E811-423A-8759-4F6CFBDD1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E95-9A79-4925-9EEE-98067D9E6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07E60-39AF-42F2-B015-A9C727833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EA14-11EC-4EB0-87DC-B18FC304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310A-5212-4F54-958C-AE99BD80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B60B-57E3-4793-8270-B9028503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3A241-5B38-41C3-99A2-945BDC88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ED2D6-81A1-4F01-B511-5D4825EC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CD89-7E66-4A6E-B2B9-BFDA52C7D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7C26-5BF1-45C4-AD11-D269973C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4E67E-A68A-4758-ABC2-CFF3B0B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64C43-A0D0-42FB-A48E-C581F01D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EAE02-6E6C-46F1-A9D8-A4826D35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92AA-71B1-489B-82C7-A3E017FEA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5AC7-7615-4DAB-A0D3-1B061F810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AA5-3ECC-4AFA-9B56-90BC93A1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4AEB-1081-4356-8A6D-36D7B75B4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F86A-01E2-4A07-977A-146F188B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193-F3AC-4BF1-97A3-EE1A2883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DD83-9D35-4EAF-8A28-B3A5EA48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56E-37ED-426C-9AEA-56829E9B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4D8-B33B-4B74-BD13-4C4EF72F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8C08F1-F048-4426-8E35-476462C1B8AC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1" i="1" lang="en-US" sz="2000" spc="-1" strike="noStrike">
                  <a:solidFill>
                    <a:srgbClr val="ffff00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D379A8-5E4F-4033-A843-32495591C925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1" i="1" lang="en-US" sz="1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280" y="-245880"/>
            <a:ext cx="8893440" cy="731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4800" spc="-1" strike="noStrike">
                <a:solidFill>
                  <a:srgbClr val="ff0000"/>
                </a:solidFill>
                <a:latin typeface="Mistral"/>
              </a:rPr>
              <a:t>Модели дистанционного обучения</a:t>
            </a:r>
            <a:br>
              <a:rPr sz="4800"/>
            </a:b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Подготовил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а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: Тришичева Анна Николаевна,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	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Кадников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, 20</a:t>
            </a:r>
            <a:r>
              <a:rPr b="0" lang="ru-RU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6 </a:t>
            </a:r>
            <a:r>
              <a:rPr b="0" lang="en-GB" sz="18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год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2" name="AutoShape 2">
            <a:hlinkClick r:id="" action="ppaction://hlinkshowjump?jump=nextslide"/>
          </p:cNvPr>
          <p:cNvSpPr/>
          <p:nvPr/>
        </p:nvSpPr>
        <p:spPr>
          <a:xfrm>
            <a:off x="7812000" y="623736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-268920"/>
            <a:ext cx="9144000" cy="222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33400" indent="0">
              <a:buNone/>
              <a:tabLst>
                <a:tab algn="l" pos="0"/>
                <a:tab algn="l" pos="83340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          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Судя по описанным выше моделям, которые функционируют в последние 20 лет, основные цели всех моделей образования на расстоянии можно свести к следующим: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AutoShape 2">
            <a:hlinkClick r:id="" action="ppaction://hlinkshowjump?jump=nextslide"/>
          </p:cNvPr>
          <p:cNvSpPr/>
          <p:nvPr/>
        </p:nvSpPr>
        <p:spPr>
          <a:xfrm>
            <a:off x="8244000" y="6308640"/>
            <a:ext cx="504720" cy="360360"/>
          </a:xfrm>
          <a:custGeom>
            <a:avLst/>
            <a:gdLst>
              <a:gd name="textAreaLeft" fmla="*/ 23040 w 504720"/>
              <a:gd name="textAreaRight" fmla="*/ 481680 w 504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44" h="21600">
                <a:moveTo>
                  <a:pt x="0" y="0"/>
                </a:moveTo>
                <a:lnTo>
                  <a:pt x="30244" y="0"/>
                </a:lnTo>
                <a:lnTo>
                  <a:pt x="30244" y="21600"/>
                </a:lnTo>
                <a:lnTo>
                  <a:pt x="0" y="21600"/>
                </a:lnTo>
                <a:close/>
              </a:path>
              <a:path fill="lightenLess" w="30244" h="21600">
                <a:moveTo>
                  <a:pt x="0" y="0"/>
                </a:moveTo>
                <a:lnTo>
                  <a:pt x="30244" y="0"/>
                </a:lnTo>
                <a:lnTo>
                  <a:pt x="28844" y="1400"/>
                </a:lnTo>
                <a:lnTo>
                  <a:pt x="1400" y="1400"/>
                </a:lnTo>
                <a:close/>
              </a:path>
              <a:path fill="darken" w="30244" h="21600">
                <a:moveTo>
                  <a:pt x="30244" y="0"/>
                </a:moveTo>
                <a:lnTo>
                  <a:pt x="30244" y="21600"/>
                </a:lnTo>
                <a:lnTo>
                  <a:pt x="28844" y="20200"/>
                </a:lnTo>
                <a:lnTo>
                  <a:pt x="28844" y="1400"/>
                </a:lnTo>
                <a:close/>
              </a:path>
              <a:path fill="darkenLess" w="30244" h="21600">
                <a:moveTo>
                  <a:pt x="302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4" y="20200"/>
                </a:lnTo>
                <a:close/>
              </a:path>
              <a:path fill="lighten" w="302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4" h="21600">
                <a:moveTo>
                  <a:pt x="8116" y="3794"/>
                </a:moveTo>
                <a:lnTo>
                  <a:pt x="22129" y="10800"/>
                </a:lnTo>
                <a:lnTo>
                  <a:pt x="811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7" name="AutoShape 3">
            <a:hlinkClick r:id="" action="ppaction://hlinkshowjump?jump=previousslide"/>
          </p:cNvPr>
          <p:cNvSpPr/>
          <p:nvPr/>
        </p:nvSpPr>
        <p:spPr>
          <a:xfrm>
            <a:off x="7236000" y="6308640"/>
            <a:ext cx="504720" cy="351000"/>
          </a:xfrm>
          <a:custGeom>
            <a:avLst/>
            <a:gdLst>
              <a:gd name="textAreaLeft" fmla="*/ 22680 w 504720"/>
              <a:gd name="textAreaRight" fmla="*/ 482040 w 5047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1050" h="21600">
                <a:moveTo>
                  <a:pt x="0" y="0"/>
                </a:moveTo>
                <a:lnTo>
                  <a:pt x="31050" y="0"/>
                </a:lnTo>
                <a:lnTo>
                  <a:pt x="31050" y="21600"/>
                </a:lnTo>
                <a:lnTo>
                  <a:pt x="0" y="21600"/>
                </a:lnTo>
                <a:close/>
              </a:path>
              <a:path fill="lightenLess" w="31050" h="21600">
                <a:moveTo>
                  <a:pt x="0" y="0"/>
                </a:moveTo>
                <a:lnTo>
                  <a:pt x="31050" y="0"/>
                </a:lnTo>
                <a:lnTo>
                  <a:pt x="29650" y="1400"/>
                </a:lnTo>
                <a:lnTo>
                  <a:pt x="1400" y="1400"/>
                </a:lnTo>
                <a:close/>
              </a:path>
              <a:path fill="darken" w="31050" h="21600">
                <a:moveTo>
                  <a:pt x="31050" y="0"/>
                </a:moveTo>
                <a:lnTo>
                  <a:pt x="31050" y="21600"/>
                </a:lnTo>
                <a:lnTo>
                  <a:pt x="29650" y="20200"/>
                </a:lnTo>
                <a:lnTo>
                  <a:pt x="29650" y="1400"/>
                </a:lnTo>
                <a:close/>
              </a:path>
              <a:path fill="darkenLess" w="31050" h="21600">
                <a:moveTo>
                  <a:pt x="31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0" y="20200"/>
                </a:lnTo>
                <a:close/>
              </a:path>
              <a:path fill="lighten" w="31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50" h="21600">
                <a:moveTo>
                  <a:pt x="8519" y="10800"/>
                </a:moveTo>
                <a:lnTo>
                  <a:pt x="22531" y="3794"/>
                </a:lnTo>
                <a:lnTo>
                  <a:pt x="2253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8" name="AutoShape 4">
            <a:hlinkClick r:id="rId1" action="ppaction://hlinksldjump"/>
          </p:cNvPr>
          <p:cNvSpPr/>
          <p:nvPr/>
        </p:nvSpPr>
        <p:spPr>
          <a:xfrm>
            <a:off x="7740720" y="6308640"/>
            <a:ext cx="504720" cy="351000"/>
          </a:xfrm>
          <a:custGeom>
            <a:avLst/>
            <a:gdLst>
              <a:gd name="textAreaLeft" fmla="*/ 22680 w 504720"/>
              <a:gd name="textAreaRight" fmla="*/ 482040 w 504720"/>
              <a:gd name="textAreaTop" fmla="*/ 22680 h 351000"/>
              <a:gd name="textAreaBottom" fmla="*/ 328320 h 351000"/>
            </a:gdLst>
            <a:ahLst/>
            <a:rect l="textAreaLeft" t="textAreaTop" r="textAreaRight" b="textAreaBottom"/>
            <a:pathLst>
              <a:path w="31050" h="21600">
                <a:moveTo>
                  <a:pt x="0" y="0"/>
                </a:moveTo>
                <a:lnTo>
                  <a:pt x="31050" y="0"/>
                </a:lnTo>
                <a:lnTo>
                  <a:pt x="31050" y="21600"/>
                </a:lnTo>
                <a:lnTo>
                  <a:pt x="0" y="21600"/>
                </a:lnTo>
                <a:close/>
              </a:path>
              <a:path fill="lightenLess" w="31050" h="21600">
                <a:moveTo>
                  <a:pt x="0" y="0"/>
                </a:moveTo>
                <a:lnTo>
                  <a:pt x="31050" y="0"/>
                </a:lnTo>
                <a:lnTo>
                  <a:pt x="29650" y="1400"/>
                </a:lnTo>
                <a:lnTo>
                  <a:pt x="1400" y="1400"/>
                </a:lnTo>
                <a:close/>
              </a:path>
              <a:path fill="darken" w="31050" h="21600">
                <a:moveTo>
                  <a:pt x="31050" y="0"/>
                </a:moveTo>
                <a:lnTo>
                  <a:pt x="31050" y="21600"/>
                </a:lnTo>
                <a:lnTo>
                  <a:pt x="29650" y="20200"/>
                </a:lnTo>
                <a:lnTo>
                  <a:pt x="29650" y="1400"/>
                </a:lnTo>
                <a:close/>
              </a:path>
              <a:path fill="darkenLess" w="31050" h="21600">
                <a:moveTo>
                  <a:pt x="31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50" y="20200"/>
                </a:lnTo>
                <a:close/>
              </a:path>
              <a:path fill="lighten" w="31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50" h="21600">
                <a:moveTo>
                  <a:pt x="15525" y="3837"/>
                </a:moveTo>
                <a:lnTo>
                  <a:pt x="18101" y="6448"/>
                </a:lnTo>
                <a:lnTo>
                  <a:pt x="18101" y="4707"/>
                </a:lnTo>
                <a:lnTo>
                  <a:pt x="19877" y="4707"/>
                </a:lnTo>
                <a:lnTo>
                  <a:pt x="19877" y="8224"/>
                </a:lnTo>
                <a:lnTo>
                  <a:pt x="22488" y="10800"/>
                </a:lnTo>
                <a:lnTo>
                  <a:pt x="20834" y="10800"/>
                </a:lnTo>
                <a:lnTo>
                  <a:pt x="20834" y="17989"/>
                </a:lnTo>
                <a:lnTo>
                  <a:pt x="10216" y="17989"/>
                </a:lnTo>
                <a:lnTo>
                  <a:pt x="10216" y="10800"/>
                </a:lnTo>
                <a:lnTo>
                  <a:pt x="8562" y="10800"/>
                </a:lnTo>
                <a:close/>
              </a:path>
              <a:path fill="darkenLess" w="31050" h="21600">
                <a:moveTo>
                  <a:pt x="18101" y="6448"/>
                </a:moveTo>
                <a:lnTo>
                  <a:pt x="18101" y="4707"/>
                </a:lnTo>
                <a:lnTo>
                  <a:pt x="19877" y="4707"/>
                </a:lnTo>
                <a:lnTo>
                  <a:pt x="19877" y="8224"/>
                </a:lnTo>
                <a:close/>
              </a:path>
              <a:path fill="darkenLess" w="31050" h="21600">
                <a:moveTo>
                  <a:pt x="14602" y="14299"/>
                </a:moveTo>
                <a:lnTo>
                  <a:pt x="16448" y="14299"/>
                </a:lnTo>
                <a:lnTo>
                  <a:pt x="16448" y="17989"/>
                </a:lnTo>
                <a:lnTo>
                  <a:pt x="20834" y="17989"/>
                </a:lnTo>
                <a:lnTo>
                  <a:pt x="20834" y="10800"/>
                </a:lnTo>
                <a:lnTo>
                  <a:pt x="10216" y="10800"/>
                </a:lnTo>
                <a:lnTo>
                  <a:pt x="10216" y="17989"/>
                </a:lnTo>
                <a:lnTo>
                  <a:pt x="1460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09" name="Diagram 34"/>
          <p:cNvGrpSpPr/>
          <p:nvPr/>
        </p:nvGrpSpPr>
        <p:grpSpPr>
          <a:xfrm>
            <a:off x="2549520" y="1964160"/>
            <a:ext cx="4227120" cy="3879360"/>
            <a:chOff x="2549520" y="1964160"/>
            <a:chExt cx="4227120" cy="3879360"/>
          </a:xfrm>
        </p:grpSpPr>
        <p:sp>
          <p:nvSpPr>
            <p:cNvPr id="210" name="_s1028"/>
            <p:cNvSpPr/>
            <p:nvPr/>
          </p:nvSpPr>
          <p:spPr>
            <a:xfrm flipH="1">
              <a:off x="3643200" y="4647960"/>
              <a:ext cx="511920" cy="298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1" name="_s1029"/>
            <p:cNvSpPr/>
            <p:nvPr/>
          </p:nvSpPr>
          <p:spPr>
            <a:xfrm>
              <a:off x="2549520" y="465012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Аттестат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 </a:t>
              </a: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об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образовании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2" name="_s1030"/>
            <p:cNvSpPr/>
            <p:nvPr/>
          </p:nvSpPr>
          <p:spPr>
            <a:xfrm>
              <a:off x="5168880" y="4647960"/>
              <a:ext cx="510480" cy="3002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3" name="_s1031"/>
            <p:cNvSpPr/>
            <p:nvPr/>
          </p:nvSpPr>
          <p:spPr>
            <a:xfrm>
              <a:off x="5601960" y="465012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Качественное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образование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4" name="_s1032"/>
            <p:cNvSpPr/>
            <p:nvPr/>
          </p:nvSpPr>
          <p:spPr>
            <a:xfrm flipV="1">
              <a:off x="4662000" y="3155400"/>
              <a:ext cx="0" cy="5994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5" name="_s1033"/>
            <p:cNvSpPr/>
            <p:nvPr/>
          </p:nvSpPr>
          <p:spPr>
            <a:xfrm>
              <a:off x="4075920" y="196416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возможность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совер-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шенствовать 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1600" spc="-1" strike="noStrike">
                  <a:solidFill>
                    <a:srgbClr val="003300"/>
                  </a:solidFill>
                  <a:latin typeface="Times New Roman"/>
                </a:rPr>
                <a:t>свои знания</a:t>
              </a:r>
              <a:endParaRPr b="1" i="1" lang="en-US" sz="1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16" name="_s1034"/>
            <p:cNvSpPr/>
            <p:nvPr/>
          </p:nvSpPr>
          <p:spPr>
            <a:xfrm>
              <a:off x="4075920" y="3755160"/>
              <a:ext cx="1174680" cy="119340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4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ru-RU" sz="3100" spc="-1" strike="noStrike">
                  <a:solidFill>
                    <a:srgbClr val="003300"/>
                  </a:solidFill>
                  <a:latin typeface="Times New Roman"/>
                </a:rPr>
                <a:t>цели</a:t>
              </a:r>
              <a:endParaRPr b="1" i="1" lang="en-US" sz="31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3640" y="2347920"/>
            <a:ext cx="81342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Другой подход к определению моделей дистанционного обучения намечается в том случае, если мы рассматриваем организацию самого учебного процесса.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AutoShape 2">
            <a:hlinkClick r:id="" action="ppaction://hlinkshowjump?jump=nextslide"/>
          </p:cNvPr>
          <p:cNvSpPr/>
          <p:nvPr/>
        </p:nvSpPr>
        <p:spPr>
          <a:xfrm>
            <a:off x="8172360" y="602136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9" name="AutoShape 3">
            <a:hlinkClick r:id="" action="ppaction://hlinkshowjump?jump=previousslide"/>
          </p:cNvPr>
          <p:cNvSpPr/>
          <p:nvPr/>
        </p:nvSpPr>
        <p:spPr>
          <a:xfrm>
            <a:off x="7236000" y="6021360"/>
            <a:ext cx="502920" cy="432000"/>
          </a:xfrm>
          <a:custGeom>
            <a:avLst/>
            <a:gdLst>
              <a:gd name="textAreaLeft" fmla="*/ 27720 w 502920"/>
              <a:gd name="textAreaRight" fmla="*/ 475200 w 5029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43" h="21600">
                <a:moveTo>
                  <a:pt x="0" y="0"/>
                </a:moveTo>
                <a:lnTo>
                  <a:pt x="25143" y="0"/>
                </a:lnTo>
                <a:lnTo>
                  <a:pt x="25143" y="21600"/>
                </a:lnTo>
                <a:lnTo>
                  <a:pt x="0" y="21600"/>
                </a:lnTo>
                <a:close/>
              </a:path>
              <a:path fill="lightenLess" w="25143" h="21600">
                <a:moveTo>
                  <a:pt x="0" y="0"/>
                </a:moveTo>
                <a:lnTo>
                  <a:pt x="25143" y="0"/>
                </a:lnTo>
                <a:lnTo>
                  <a:pt x="23743" y="1400"/>
                </a:lnTo>
                <a:lnTo>
                  <a:pt x="1400" y="1400"/>
                </a:lnTo>
                <a:close/>
              </a:path>
              <a:path fill="darken" w="25143" h="21600">
                <a:moveTo>
                  <a:pt x="25143" y="0"/>
                </a:moveTo>
                <a:lnTo>
                  <a:pt x="25143" y="21600"/>
                </a:lnTo>
                <a:lnTo>
                  <a:pt x="23743" y="20200"/>
                </a:lnTo>
                <a:lnTo>
                  <a:pt x="23743" y="1400"/>
                </a:lnTo>
                <a:close/>
              </a:path>
              <a:path fill="darkenLess" w="25143" h="21600">
                <a:moveTo>
                  <a:pt x="251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3" y="20200"/>
                </a:lnTo>
                <a:close/>
              </a:path>
              <a:path fill="lighten" w="251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3" h="21600">
                <a:moveTo>
                  <a:pt x="5565" y="10800"/>
                </a:moveTo>
                <a:lnTo>
                  <a:pt x="19578" y="3794"/>
                </a:lnTo>
                <a:lnTo>
                  <a:pt x="1957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7740720" y="6021360"/>
            <a:ext cx="433440" cy="43200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1672" h="21600">
                <a:moveTo>
                  <a:pt x="0" y="0"/>
                </a:moveTo>
                <a:lnTo>
                  <a:pt x="21672" y="0"/>
                </a:lnTo>
                <a:lnTo>
                  <a:pt x="21672" y="21600"/>
                </a:lnTo>
                <a:lnTo>
                  <a:pt x="0" y="21600"/>
                </a:lnTo>
                <a:close/>
              </a:path>
              <a:path fill="lightenLess" w="21672" h="21600">
                <a:moveTo>
                  <a:pt x="0" y="0"/>
                </a:moveTo>
                <a:lnTo>
                  <a:pt x="21672" y="0"/>
                </a:lnTo>
                <a:lnTo>
                  <a:pt x="20272" y="1400"/>
                </a:lnTo>
                <a:lnTo>
                  <a:pt x="1400" y="1400"/>
                </a:lnTo>
                <a:close/>
              </a:path>
              <a:path fill="darken" w="21672" h="21600">
                <a:moveTo>
                  <a:pt x="21672" y="0"/>
                </a:moveTo>
                <a:lnTo>
                  <a:pt x="21672" y="21600"/>
                </a:lnTo>
                <a:lnTo>
                  <a:pt x="20272" y="20200"/>
                </a:lnTo>
                <a:lnTo>
                  <a:pt x="20272" y="1400"/>
                </a:lnTo>
                <a:close/>
              </a:path>
              <a:path fill="darkenLess" w="21672" h="21600">
                <a:moveTo>
                  <a:pt x="216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2" y="20200"/>
                </a:lnTo>
                <a:close/>
              </a:path>
              <a:path fill="lighten" w="216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2" h="21600">
                <a:moveTo>
                  <a:pt x="10836" y="3837"/>
                </a:moveTo>
                <a:lnTo>
                  <a:pt x="13412" y="6448"/>
                </a:ln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lnTo>
                  <a:pt x="17799" y="10800"/>
                </a:lnTo>
                <a:lnTo>
                  <a:pt x="16145" y="10800"/>
                </a:lnTo>
                <a:lnTo>
                  <a:pt x="16145" y="17989"/>
                </a:lnTo>
                <a:lnTo>
                  <a:pt x="5527" y="17989"/>
                </a:lnTo>
                <a:lnTo>
                  <a:pt x="5527" y="10800"/>
                </a:lnTo>
                <a:lnTo>
                  <a:pt x="3873" y="10800"/>
                </a:lnTo>
                <a:close/>
              </a:path>
              <a:path fill="darkenLess" w="21672" h="21600">
                <a:moveTo>
                  <a:pt x="13412" y="6448"/>
                </a:moveTo>
                <a:lnTo>
                  <a:pt x="13412" y="4707"/>
                </a:lnTo>
                <a:lnTo>
                  <a:pt x="15188" y="4707"/>
                </a:lnTo>
                <a:lnTo>
                  <a:pt x="15188" y="8224"/>
                </a:lnTo>
                <a:close/>
              </a:path>
              <a:path fill="darkenLess" w="21672" h="21600">
                <a:moveTo>
                  <a:pt x="9913" y="14299"/>
                </a:moveTo>
                <a:lnTo>
                  <a:pt x="11759" y="14299"/>
                </a:lnTo>
                <a:lnTo>
                  <a:pt x="11759" y="17989"/>
                </a:lnTo>
                <a:lnTo>
                  <a:pt x="16145" y="17989"/>
                </a:lnTo>
                <a:lnTo>
                  <a:pt x="16145" y="10800"/>
                </a:lnTo>
                <a:lnTo>
                  <a:pt x="5527" y="10800"/>
                </a:lnTo>
                <a:lnTo>
                  <a:pt x="5527" y="17989"/>
                </a:lnTo>
                <a:lnTo>
                  <a:pt x="991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21" name="Picture 5" descr=""/>
          <p:cNvPicPr/>
          <p:nvPr/>
        </p:nvPicPr>
        <p:blipFill>
          <a:blip r:embed="rId2"/>
          <a:stretch/>
        </p:blipFill>
        <p:spPr>
          <a:xfrm>
            <a:off x="6443640" y="189000"/>
            <a:ext cx="216072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8920" y="2320200"/>
            <a:ext cx="820764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Эта модель строится на организации учебного процесса в режиме реального времени. Занятие ведется с группой студентов очного отделения одновременно с «удаленными» студентами посредством интерактивных телекоммуникаций,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видео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-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конференций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AutoShape 2">
            <a:hlinkClick r:id="" action="ppaction://hlinkshowjump?jump=nextslide"/>
          </p:cNvPr>
          <p:cNvSpPr/>
          <p:nvPr/>
        </p:nvSpPr>
        <p:spPr>
          <a:xfrm>
            <a:off x="817236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4" name="AutoShape 3">
            <a:hlinkClick r:id="" action="ppaction://hlinkshowjump?jump=previousslide"/>
          </p:cNvPr>
          <p:cNvSpPr/>
          <p:nvPr/>
        </p:nvSpPr>
        <p:spPr>
          <a:xfrm>
            <a:off x="7093080" y="6237360"/>
            <a:ext cx="501480" cy="360360"/>
          </a:xfrm>
          <a:custGeom>
            <a:avLst/>
            <a:gdLst>
              <a:gd name="textAreaLeft" fmla="*/ 23040 w 501480"/>
              <a:gd name="textAreaRight" fmla="*/ 478440 w 5014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050" h="21600">
                <a:moveTo>
                  <a:pt x="0" y="0"/>
                </a:moveTo>
                <a:lnTo>
                  <a:pt x="30050" y="0"/>
                </a:lnTo>
                <a:lnTo>
                  <a:pt x="30050" y="21600"/>
                </a:lnTo>
                <a:lnTo>
                  <a:pt x="0" y="21600"/>
                </a:lnTo>
                <a:close/>
              </a:path>
              <a:path fill="lightenLess" w="30050" h="21600">
                <a:moveTo>
                  <a:pt x="0" y="0"/>
                </a:moveTo>
                <a:lnTo>
                  <a:pt x="30050" y="0"/>
                </a:lnTo>
                <a:lnTo>
                  <a:pt x="28650" y="1400"/>
                </a:lnTo>
                <a:lnTo>
                  <a:pt x="1400" y="1400"/>
                </a:lnTo>
                <a:close/>
              </a:path>
              <a:path fill="darken" w="30050" h="21600">
                <a:moveTo>
                  <a:pt x="30050" y="0"/>
                </a:moveTo>
                <a:lnTo>
                  <a:pt x="30050" y="21600"/>
                </a:lnTo>
                <a:lnTo>
                  <a:pt x="28650" y="20200"/>
                </a:lnTo>
                <a:lnTo>
                  <a:pt x="28650" y="1400"/>
                </a:lnTo>
                <a:close/>
              </a:path>
              <a:path fill="darkenLess" w="30050" h="21600">
                <a:moveTo>
                  <a:pt x="300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650" y="20200"/>
                </a:lnTo>
                <a:close/>
              </a:path>
              <a:path fill="lighten" w="300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050" h="21600">
                <a:moveTo>
                  <a:pt x="8019" y="10800"/>
                </a:moveTo>
                <a:lnTo>
                  <a:pt x="22032" y="3794"/>
                </a:lnTo>
                <a:lnTo>
                  <a:pt x="2203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5" name="AutoShape 4">
            <a:hlinkClick r:id="rId1" action="ppaction://hlinksldjump"/>
          </p:cNvPr>
          <p:cNvSpPr/>
          <p:nvPr/>
        </p:nvSpPr>
        <p:spPr>
          <a:xfrm>
            <a:off x="7596360" y="623736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7256" y="3837"/>
                </a:moveTo>
                <a:lnTo>
                  <a:pt x="19833" y="6448"/>
                </a:ln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lnTo>
                  <a:pt x="24219" y="10800"/>
                </a:lnTo>
                <a:lnTo>
                  <a:pt x="22566" y="10800"/>
                </a:lnTo>
                <a:lnTo>
                  <a:pt x="22566" y="17989"/>
                </a:lnTo>
                <a:lnTo>
                  <a:pt x="11947" y="17989"/>
                </a:lnTo>
                <a:lnTo>
                  <a:pt x="11947" y="10800"/>
                </a:lnTo>
                <a:lnTo>
                  <a:pt x="10293" y="10800"/>
                </a:lnTo>
                <a:close/>
              </a:path>
              <a:path fill="darkenLess" w="34513" h="21600">
                <a:moveTo>
                  <a:pt x="19833" y="6448"/>
                </a:move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close/>
              </a:path>
              <a:path fill="darkenLess" w="34513" h="21600">
                <a:moveTo>
                  <a:pt x="16334" y="14299"/>
                </a:moveTo>
                <a:lnTo>
                  <a:pt x="18179" y="14299"/>
                </a:lnTo>
                <a:lnTo>
                  <a:pt x="18179" y="17989"/>
                </a:lnTo>
                <a:lnTo>
                  <a:pt x="22566" y="17989"/>
                </a:lnTo>
                <a:lnTo>
                  <a:pt x="22566" y="10800"/>
                </a:lnTo>
                <a:lnTo>
                  <a:pt x="11947" y="10800"/>
                </a:lnTo>
                <a:lnTo>
                  <a:pt x="11947" y="17989"/>
                </a:lnTo>
                <a:lnTo>
                  <a:pt x="1633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324000" y="549360"/>
            <a:ext cx="8280360" cy="150336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</a:rPr>
              <a:t>Модель А. Распределенный класс</a:t>
            </a:r>
            <a:br>
              <a:rPr sz="3200"/>
            </a:br>
            <a:br>
              <a:rPr sz="1800"/>
            </a:b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422440"/>
            <a:ext cx="9144000" cy="220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Эта модель рассчитана на свободное размещение учащихся, возможность работать в асинхронном режиме. Учащиеся работают самостоятельно.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 Их обеспечивают всем необходимым методическим и учебным материалом, включая подробные учебные программы. 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AutoShape 2">
            <a:hlinkClick r:id="" action="ppaction://hlinkshowjump?jump=nextslide"/>
          </p:cNvPr>
          <p:cNvSpPr/>
          <p:nvPr/>
        </p:nvSpPr>
        <p:spPr>
          <a:xfrm>
            <a:off x="81010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29" name="AutoShape 3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7596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12627" y="3837"/>
                </a:moveTo>
                <a:lnTo>
                  <a:pt x="15203" y="6448"/>
                </a:ln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lnTo>
                  <a:pt x="19590" y="10800"/>
                </a:lnTo>
                <a:lnTo>
                  <a:pt x="17936" y="10800"/>
                </a:lnTo>
                <a:lnTo>
                  <a:pt x="17936" y="17989"/>
                </a:lnTo>
                <a:lnTo>
                  <a:pt x="7318" y="17989"/>
                </a:lnTo>
                <a:lnTo>
                  <a:pt x="7318" y="10800"/>
                </a:lnTo>
                <a:lnTo>
                  <a:pt x="5664" y="10800"/>
                </a:lnTo>
                <a:close/>
              </a:path>
              <a:path fill="darkenLess" w="25254" h="21600">
                <a:moveTo>
                  <a:pt x="15203" y="6448"/>
                </a:moveTo>
                <a:lnTo>
                  <a:pt x="15203" y="4707"/>
                </a:lnTo>
                <a:lnTo>
                  <a:pt x="16979" y="4707"/>
                </a:lnTo>
                <a:lnTo>
                  <a:pt x="16979" y="8224"/>
                </a:lnTo>
                <a:close/>
              </a:path>
              <a:path fill="darkenLess" w="25254" h="21600">
                <a:moveTo>
                  <a:pt x="11704" y="14299"/>
                </a:moveTo>
                <a:lnTo>
                  <a:pt x="13550" y="14299"/>
                </a:lnTo>
                <a:lnTo>
                  <a:pt x="13550" y="17989"/>
                </a:lnTo>
                <a:lnTo>
                  <a:pt x="17936" y="17989"/>
                </a:lnTo>
                <a:lnTo>
                  <a:pt x="17936" y="10800"/>
                </a:lnTo>
                <a:lnTo>
                  <a:pt x="7318" y="10800"/>
                </a:lnTo>
                <a:lnTo>
                  <a:pt x="7318" y="17989"/>
                </a:lnTo>
                <a:lnTo>
                  <a:pt x="1170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1" name="AutoShape 6"/>
          <p:cNvSpPr/>
          <p:nvPr/>
        </p:nvSpPr>
        <p:spPr>
          <a:xfrm>
            <a:off x="324000" y="620640"/>
            <a:ext cx="8353440" cy="208908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</a:rPr>
              <a:t>Модель Б. Самостоятельная </a:t>
            </a: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ff00"/>
                </a:solidFill>
                <a:latin typeface="Verdana"/>
              </a:rPr>
              <a:t>работа учащихся</a:t>
            </a:r>
            <a:r>
              <a:rPr b="1" i="1" lang="ru-RU" sz="3200" spc="-1" strike="noStrike">
                <a:solidFill>
                  <a:srgbClr val="ffff00"/>
                </a:solidFill>
                <a:latin typeface="Verdana"/>
              </a:rPr>
              <a:t>.</a:t>
            </a:r>
            <a:br>
              <a:rPr sz="3200"/>
            </a:br>
            <a:endParaRPr b="1" i="1" lang="en-US" sz="32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42720"/>
            <a:ext cx="9144000" cy="25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Модель предусматривает использование традиционного печатного материала,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 других средств обучения (видеозапись, CD), которые должны обеспечить студенту возможность работать в индивидуальном темпе, используя при этом в случае необходимости интерактивные телекоммуникационные технологии для групповой работы студентов.</a:t>
            </a: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AutoShape 2">
            <a:hlinkClick r:id="" action="ppaction://hlinkshowjump?jump=nextslide"/>
          </p:cNvPr>
          <p:cNvSpPr/>
          <p:nvPr/>
        </p:nvSpPr>
        <p:spPr>
          <a:xfrm>
            <a:off x="8388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4" name="AutoShape 3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788508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6" name="AutoShape 6"/>
          <p:cNvSpPr/>
          <p:nvPr/>
        </p:nvSpPr>
        <p:spPr>
          <a:xfrm>
            <a:off x="250920" y="189000"/>
            <a:ext cx="8137440" cy="1871640"/>
          </a:xfrm>
          <a:prstGeom prst="horizontalScrol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Verdana"/>
              </a:rPr>
              <a:t>Модель С. Открытое образование + класс</a:t>
            </a:r>
            <a:r>
              <a:rPr b="1" i="1" lang="en-GB" sz="2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2800"/>
            </a:br>
            <a:endParaRPr b="1" i="1" lang="en-US" sz="28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2376000"/>
            <a:ext cx="9144000" cy="210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Интеграция очных и дистанционных форм обучения</a:t>
            </a: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Наиболее перспективная модель, причем применительно как к школьному образованию (профильные курсы, использование курсов ДО для объеденения знаний, ликвидации пробелов в знаниях), так и  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проф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и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льном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у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обучени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ю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AutoShape 2">
            <a:hlinkClick r:id="" action="ppaction://hlinkshowjump?jump=nextslide"/>
          </p:cNvPr>
          <p:cNvSpPr/>
          <p:nvPr/>
        </p:nvSpPr>
        <p:spPr>
          <a:xfrm>
            <a:off x="824400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3794"/>
                </a:moveTo>
                <a:lnTo>
                  <a:pt x="19366" y="10800"/>
                </a:lnTo>
                <a:lnTo>
                  <a:pt x="53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39" name="AutoShape 3">
            <a:hlinkClick r:id="" action="ppaction://hlinkshowjump?jump=previousslide"/>
          </p:cNvPr>
          <p:cNvSpPr/>
          <p:nvPr/>
        </p:nvSpPr>
        <p:spPr>
          <a:xfrm>
            <a:off x="7093080" y="602136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5353" y="10800"/>
                </a:moveTo>
                <a:lnTo>
                  <a:pt x="19366" y="3794"/>
                </a:lnTo>
                <a:lnTo>
                  <a:pt x="1936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7667640" y="602136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12367" y="3837"/>
                </a:moveTo>
                <a:lnTo>
                  <a:pt x="14943" y="6448"/>
                </a:ln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lnTo>
                  <a:pt x="19330" y="10800"/>
                </a:lnTo>
                <a:lnTo>
                  <a:pt x="17676" y="10800"/>
                </a:lnTo>
                <a:lnTo>
                  <a:pt x="17676" y="17989"/>
                </a:lnTo>
                <a:lnTo>
                  <a:pt x="7058" y="17989"/>
                </a:lnTo>
                <a:lnTo>
                  <a:pt x="7058" y="10800"/>
                </a:lnTo>
                <a:lnTo>
                  <a:pt x="5404" y="10800"/>
                </a:lnTo>
                <a:close/>
              </a:path>
              <a:path fill="darkenLess" w="24734" h="21600">
                <a:moveTo>
                  <a:pt x="14943" y="6448"/>
                </a:moveTo>
                <a:lnTo>
                  <a:pt x="14943" y="4707"/>
                </a:lnTo>
                <a:lnTo>
                  <a:pt x="16719" y="4707"/>
                </a:lnTo>
                <a:lnTo>
                  <a:pt x="16719" y="8224"/>
                </a:lnTo>
                <a:close/>
              </a:path>
              <a:path fill="darkenLess" w="24734" h="21600">
                <a:moveTo>
                  <a:pt x="11445" y="14299"/>
                </a:moveTo>
                <a:lnTo>
                  <a:pt x="13290" y="14299"/>
                </a:lnTo>
                <a:lnTo>
                  <a:pt x="13290" y="17989"/>
                </a:lnTo>
                <a:lnTo>
                  <a:pt x="17676" y="17989"/>
                </a:lnTo>
                <a:lnTo>
                  <a:pt x="17676" y="10800"/>
                </a:lnTo>
                <a:lnTo>
                  <a:pt x="7058" y="10800"/>
                </a:lnTo>
                <a:lnTo>
                  <a:pt x="7058" y="17989"/>
                </a:lnTo>
                <a:lnTo>
                  <a:pt x="11445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2"/>
          <a:stretch/>
        </p:blipFill>
        <p:spPr>
          <a:xfrm>
            <a:off x="6372360" y="189000"/>
            <a:ext cx="2447640" cy="221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"/>
          <p:cNvSpPr/>
          <p:nvPr/>
        </p:nvSpPr>
        <p:spPr>
          <a:xfrm>
            <a:off x="457200" y="282600"/>
            <a:ext cx="8229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Модель интеграции очной и дистанционной форм для вузов</a:t>
            </a:r>
            <a:r>
              <a:rPr b="0" lang="en-GB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44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43" name="Group 2"/>
          <p:cNvGrpSpPr/>
          <p:nvPr/>
        </p:nvGrpSpPr>
        <p:grpSpPr>
          <a:xfrm>
            <a:off x="-181080" y="620640"/>
            <a:ext cx="8964360" cy="6092640"/>
            <a:chOff x="-181080" y="620640"/>
            <a:chExt cx="8964360" cy="6092640"/>
          </a:xfrm>
        </p:grpSpPr>
        <p:sp>
          <p:nvSpPr>
            <p:cNvPr id="244" name="AutoShape 3"/>
            <p:cNvSpPr/>
            <p:nvPr/>
          </p:nvSpPr>
          <p:spPr>
            <a:xfrm>
              <a:off x="-181080" y="620640"/>
              <a:ext cx="8964360" cy="609264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5" name="Line 4"/>
            <p:cNvSpPr/>
            <p:nvPr/>
          </p:nvSpPr>
          <p:spPr>
            <a:xfrm flipH="1" flipV="1">
              <a:off x="3531600" y="3022200"/>
              <a:ext cx="39240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6" name="Oval 5"/>
            <p:cNvSpPr/>
            <p:nvPr/>
          </p:nvSpPr>
          <p:spPr>
            <a:xfrm>
              <a:off x="2669040" y="2200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Виртуальные экскурс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7" name="Line 6"/>
            <p:cNvSpPr/>
            <p:nvPr/>
          </p:nvSpPr>
          <p:spPr>
            <a:xfrm flipH="1">
              <a:off x="3344760" y="3780000"/>
              <a:ext cx="48564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8" name="Oval 7"/>
            <p:cNvSpPr/>
            <p:nvPr/>
          </p:nvSpPr>
          <p:spPr>
            <a:xfrm>
              <a:off x="2386800" y="3496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практика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49" name="Line 8"/>
            <p:cNvSpPr/>
            <p:nvPr/>
          </p:nvSpPr>
          <p:spPr>
            <a:xfrm flipH="1">
              <a:off x="3872520" y="4128120"/>
              <a:ext cx="22104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0" name="Oval 9"/>
            <p:cNvSpPr/>
            <p:nvPr/>
          </p:nvSpPr>
          <p:spPr>
            <a:xfrm>
              <a:off x="3178800" y="453816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Зачеты, экзамены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1" name="Line 10"/>
            <p:cNvSpPr/>
            <p:nvPr/>
          </p:nvSpPr>
          <p:spPr>
            <a:xfrm>
              <a:off x="4514040" y="4125960"/>
              <a:ext cx="210960" cy="45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2" name="Oval 11"/>
            <p:cNvSpPr/>
            <p:nvPr/>
          </p:nvSpPr>
          <p:spPr>
            <a:xfrm>
              <a:off x="4448160" y="4535640"/>
              <a:ext cx="975240" cy="10227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Verdana"/>
                </a:rPr>
                <a:t>   </a:t>
              </a: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Форумы, обсуждения, дискусс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3" name="Line 12"/>
            <p:cNvSpPr/>
            <p:nvPr/>
          </p:nvSpPr>
          <p:spPr>
            <a:xfrm>
              <a:off x="4776840" y="3780000"/>
              <a:ext cx="475560" cy="113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4" name="Oval 13"/>
            <p:cNvSpPr/>
            <p:nvPr/>
          </p:nvSpPr>
          <p:spPr>
            <a:xfrm>
              <a:off x="5240160" y="3496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Лекции(сетевые или видеозаписи</a:t>
              </a:r>
              <a:r>
                <a:rPr b="0" lang="en-GB" sz="1000" spc="-1" strike="noStrike">
                  <a:solidFill>
                    <a:srgbClr val="111111"/>
                  </a:solidFill>
                  <a:latin typeface="Arial"/>
                </a:rPr>
                <a:t>)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5" name="Line 14"/>
            <p:cNvSpPr/>
            <p:nvPr/>
          </p:nvSpPr>
          <p:spPr>
            <a:xfrm flipV="1">
              <a:off x="4681440" y="3022200"/>
              <a:ext cx="380520" cy="33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6" name="Oval 15"/>
            <p:cNvSpPr/>
            <p:nvPr/>
          </p:nvSpPr>
          <p:spPr>
            <a:xfrm>
              <a:off x="4958280" y="220032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семинары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7" name="Line 16"/>
            <p:cNvSpPr/>
            <p:nvPr/>
          </p:nvSpPr>
          <p:spPr>
            <a:xfrm flipV="1">
              <a:off x="4300920" y="2637360"/>
              <a:ext cx="1800" cy="52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8" name="Oval 17"/>
            <p:cNvSpPr/>
            <p:nvPr/>
          </p:nvSpPr>
          <p:spPr>
            <a:xfrm>
              <a:off x="3813480" y="162180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Обзорные лекц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3813480" y="3156840"/>
              <a:ext cx="975240" cy="10224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Дистанционное обучение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260" name="AutoShape 19">
            <a:hlinkClick r:id="" action="ppaction://hlinkshowjump?jump=nextslide"/>
          </p:cNvPr>
          <p:cNvSpPr/>
          <p:nvPr/>
        </p:nvSpPr>
        <p:spPr>
          <a:xfrm>
            <a:off x="8172360" y="6093000"/>
            <a:ext cx="574920" cy="360360"/>
          </a:xfrm>
          <a:custGeom>
            <a:avLst/>
            <a:gdLst>
              <a:gd name="textAreaLeft" fmla="*/ 23040 w 574920"/>
              <a:gd name="textAreaRight" fmla="*/ 551880 w 574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448" h="21600">
                <a:moveTo>
                  <a:pt x="0" y="0"/>
                </a:moveTo>
                <a:lnTo>
                  <a:pt x="34448" y="0"/>
                </a:lnTo>
                <a:lnTo>
                  <a:pt x="34448" y="21600"/>
                </a:lnTo>
                <a:lnTo>
                  <a:pt x="0" y="21600"/>
                </a:lnTo>
                <a:close/>
              </a:path>
              <a:path fill="lightenLess" w="34448" h="21600">
                <a:moveTo>
                  <a:pt x="0" y="0"/>
                </a:moveTo>
                <a:lnTo>
                  <a:pt x="34448" y="0"/>
                </a:lnTo>
                <a:lnTo>
                  <a:pt x="33048" y="1400"/>
                </a:lnTo>
                <a:lnTo>
                  <a:pt x="1400" y="1400"/>
                </a:lnTo>
                <a:close/>
              </a:path>
              <a:path fill="darken" w="34448" h="21600">
                <a:moveTo>
                  <a:pt x="34448" y="0"/>
                </a:moveTo>
                <a:lnTo>
                  <a:pt x="34448" y="21600"/>
                </a:lnTo>
                <a:lnTo>
                  <a:pt x="33048" y="20200"/>
                </a:lnTo>
                <a:lnTo>
                  <a:pt x="33048" y="1400"/>
                </a:lnTo>
                <a:close/>
              </a:path>
              <a:path fill="darkenLess" w="34448" h="21600">
                <a:moveTo>
                  <a:pt x="344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048" y="20200"/>
                </a:lnTo>
                <a:close/>
              </a:path>
              <a:path fill="lighten" w="344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448" h="21600">
                <a:moveTo>
                  <a:pt x="10217" y="3794"/>
                </a:moveTo>
                <a:lnTo>
                  <a:pt x="24230" y="10800"/>
                </a:lnTo>
                <a:lnTo>
                  <a:pt x="1021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1" name="AutoShape 20">
            <a:hlinkClick r:id="" action="ppaction://hlinkshowjump?jump=previousslide"/>
          </p:cNvPr>
          <p:cNvSpPr/>
          <p:nvPr/>
        </p:nvSpPr>
        <p:spPr>
          <a:xfrm>
            <a:off x="702000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10800"/>
                </a:moveTo>
                <a:lnTo>
                  <a:pt x="24274" y="3794"/>
                </a:lnTo>
                <a:lnTo>
                  <a:pt x="242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2" name="AutoShape 21">
            <a:hlinkClick r:id="rId1" action="ppaction://hlinksldjump"/>
          </p:cNvPr>
          <p:cNvSpPr/>
          <p:nvPr/>
        </p:nvSpPr>
        <p:spPr>
          <a:xfrm>
            <a:off x="7596360" y="6093000"/>
            <a:ext cx="576000" cy="360360"/>
          </a:xfrm>
          <a:custGeom>
            <a:avLst/>
            <a:gdLst>
              <a:gd name="textAreaLeft" fmla="*/ 23040 w 576000"/>
              <a:gd name="textAreaRight" fmla="*/ 552960 w 57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13" h="21600">
                <a:moveTo>
                  <a:pt x="0" y="0"/>
                </a:moveTo>
                <a:lnTo>
                  <a:pt x="34513" y="0"/>
                </a:lnTo>
                <a:lnTo>
                  <a:pt x="34513" y="21600"/>
                </a:lnTo>
                <a:lnTo>
                  <a:pt x="0" y="21600"/>
                </a:lnTo>
                <a:close/>
              </a:path>
              <a:path fill="lightenLess" w="34513" h="21600">
                <a:moveTo>
                  <a:pt x="0" y="0"/>
                </a:moveTo>
                <a:lnTo>
                  <a:pt x="34513" y="0"/>
                </a:lnTo>
                <a:lnTo>
                  <a:pt x="33113" y="1400"/>
                </a:lnTo>
                <a:lnTo>
                  <a:pt x="1400" y="1400"/>
                </a:lnTo>
                <a:close/>
              </a:path>
              <a:path fill="darken" w="34513" h="21600">
                <a:moveTo>
                  <a:pt x="34513" y="0"/>
                </a:moveTo>
                <a:lnTo>
                  <a:pt x="34513" y="21600"/>
                </a:lnTo>
                <a:lnTo>
                  <a:pt x="33113" y="20200"/>
                </a:lnTo>
                <a:lnTo>
                  <a:pt x="33113" y="1400"/>
                </a:lnTo>
                <a:close/>
              </a:path>
              <a:path fill="darkenLess" w="34513" h="21600">
                <a:moveTo>
                  <a:pt x="345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3" y="20200"/>
                </a:lnTo>
                <a:close/>
              </a:path>
              <a:path fill="lighten" w="345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3" h="21600">
                <a:moveTo>
                  <a:pt x="17256" y="3837"/>
                </a:moveTo>
                <a:lnTo>
                  <a:pt x="19833" y="6448"/>
                </a:ln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lnTo>
                  <a:pt x="24219" y="10800"/>
                </a:lnTo>
                <a:lnTo>
                  <a:pt x="22566" y="10800"/>
                </a:lnTo>
                <a:lnTo>
                  <a:pt x="22566" y="17989"/>
                </a:lnTo>
                <a:lnTo>
                  <a:pt x="11947" y="17989"/>
                </a:lnTo>
                <a:lnTo>
                  <a:pt x="11947" y="10800"/>
                </a:lnTo>
                <a:lnTo>
                  <a:pt x="10293" y="10800"/>
                </a:lnTo>
                <a:close/>
              </a:path>
              <a:path fill="darkenLess" w="34513" h="21600">
                <a:moveTo>
                  <a:pt x="19833" y="6448"/>
                </a:moveTo>
                <a:lnTo>
                  <a:pt x="19833" y="4707"/>
                </a:lnTo>
                <a:lnTo>
                  <a:pt x="21608" y="4707"/>
                </a:lnTo>
                <a:lnTo>
                  <a:pt x="21608" y="8224"/>
                </a:lnTo>
                <a:close/>
              </a:path>
              <a:path fill="darkenLess" w="34513" h="21600">
                <a:moveTo>
                  <a:pt x="16334" y="14299"/>
                </a:moveTo>
                <a:lnTo>
                  <a:pt x="18179" y="14299"/>
                </a:lnTo>
                <a:lnTo>
                  <a:pt x="18179" y="17989"/>
                </a:lnTo>
                <a:lnTo>
                  <a:pt x="22566" y="17989"/>
                </a:lnTo>
                <a:lnTo>
                  <a:pt x="22566" y="10800"/>
                </a:lnTo>
                <a:lnTo>
                  <a:pt x="11947" y="10800"/>
                </a:lnTo>
                <a:lnTo>
                  <a:pt x="11947" y="17989"/>
                </a:lnTo>
                <a:lnTo>
                  <a:pt x="1633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6600" y="883440"/>
            <a:ext cx="79372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Сетевое обучение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833292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38040"/>
                <a:tab algn="l" pos="905040"/>
                <a:tab algn="l" pos="1819440"/>
                <a:tab algn="l" pos="2733840"/>
                <a:tab algn="l" pos="3648240"/>
                <a:tab algn="l" pos="4562640"/>
                <a:tab algn="l" pos="5477040"/>
                <a:tab algn="l" pos="6391440"/>
                <a:tab algn="l" pos="7305840"/>
                <a:tab algn="l" pos="8220240"/>
                <a:tab algn="l" pos="9134640"/>
                <a:tab algn="l" pos="10049040"/>
                <a:tab algn="l" pos="10326600"/>
                <a:tab algn="l" pos="10775880"/>
                <a:tab algn="l" pos="107791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Verdana"/>
              </a:rPr>
              <a:t>Сетевое обучение необходимо для тех случаев, когда возникают сложности с качественным обеспечением учащихся очными формами обучения (для детей-инвалидов, для детей Крайнего Севера и сельской местности, а также для студентов и взрослого населения, желающих повысить свой профессиональный уровень, сменить профессию 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AutoShape 3">
            <a:hlinkClick r:id="" action="ppaction://hlinkshowjump?jump=nextslide"/>
          </p:cNvPr>
          <p:cNvSpPr/>
          <p:nvPr/>
        </p:nvSpPr>
        <p:spPr>
          <a:xfrm>
            <a:off x="8244000" y="6093000"/>
            <a:ext cx="504720" cy="43308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170" h="21600">
                <a:moveTo>
                  <a:pt x="0" y="0"/>
                </a:moveTo>
                <a:lnTo>
                  <a:pt x="25170" y="0"/>
                </a:lnTo>
                <a:lnTo>
                  <a:pt x="25170" y="21600"/>
                </a:lnTo>
                <a:lnTo>
                  <a:pt x="0" y="21600"/>
                </a:lnTo>
                <a:close/>
              </a:path>
              <a:path fill="lightenLess" w="25170" h="21600">
                <a:moveTo>
                  <a:pt x="0" y="0"/>
                </a:moveTo>
                <a:lnTo>
                  <a:pt x="25170" y="0"/>
                </a:lnTo>
                <a:lnTo>
                  <a:pt x="23770" y="1400"/>
                </a:lnTo>
                <a:lnTo>
                  <a:pt x="1400" y="1400"/>
                </a:lnTo>
                <a:close/>
              </a:path>
              <a:path fill="darken" w="25170" h="21600">
                <a:moveTo>
                  <a:pt x="25170" y="0"/>
                </a:moveTo>
                <a:lnTo>
                  <a:pt x="25170" y="21600"/>
                </a:lnTo>
                <a:lnTo>
                  <a:pt x="23770" y="20200"/>
                </a:lnTo>
                <a:lnTo>
                  <a:pt x="23770" y="1400"/>
                </a:lnTo>
                <a:close/>
              </a:path>
              <a:path fill="darkenLess" w="25170" h="21600">
                <a:moveTo>
                  <a:pt x="2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0" y="20200"/>
                </a:lnTo>
                <a:close/>
              </a:path>
              <a:path fill="lighten" w="2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0" h="21600">
                <a:moveTo>
                  <a:pt x="5579" y="3794"/>
                </a:moveTo>
                <a:lnTo>
                  <a:pt x="19592" y="10800"/>
                </a:lnTo>
                <a:lnTo>
                  <a:pt x="557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6" name="AutoShape 4">
            <a:hlinkClick r:id="" action="ppaction://hlinkshowjump?jump=previousslide"/>
          </p:cNvPr>
          <p:cNvSpPr/>
          <p:nvPr/>
        </p:nvSpPr>
        <p:spPr>
          <a:xfrm>
            <a:off x="7236000" y="6093000"/>
            <a:ext cx="504720" cy="43308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170" h="21600">
                <a:moveTo>
                  <a:pt x="0" y="0"/>
                </a:moveTo>
                <a:lnTo>
                  <a:pt x="25170" y="0"/>
                </a:lnTo>
                <a:lnTo>
                  <a:pt x="25170" y="21600"/>
                </a:lnTo>
                <a:lnTo>
                  <a:pt x="0" y="21600"/>
                </a:lnTo>
                <a:close/>
              </a:path>
              <a:path fill="lightenLess" w="25170" h="21600">
                <a:moveTo>
                  <a:pt x="0" y="0"/>
                </a:moveTo>
                <a:lnTo>
                  <a:pt x="25170" y="0"/>
                </a:lnTo>
                <a:lnTo>
                  <a:pt x="23770" y="1400"/>
                </a:lnTo>
                <a:lnTo>
                  <a:pt x="1400" y="1400"/>
                </a:lnTo>
                <a:close/>
              </a:path>
              <a:path fill="darken" w="25170" h="21600">
                <a:moveTo>
                  <a:pt x="25170" y="0"/>
                </a:moveTo>
                <a:lnTo>
                  <a:pt x="25170" y="21600"/>
                </a:lnTo>
                <a:lnTo>
                  <a:pt x="23770" y="20200"/>
                </a:lnTo>
                <a:lnTo>
                  <a:pt x="23770" y="1400"/>
                </a:lnTo>
                <a:close/>
              </a:path>
              <a:path fill="darkenLess" w="25170" h="21600">
                <a:moveTo>
                  <a:pt x="2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0" y="20200"/>
                </a:lnTo>
                <a:close/>
              </a:path>
              <a:path fill="lighten" w="2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0" h="21600">
                <a:moveTo>
                  <a:pt x="5579" y="10800"/>
                </a:moveTo>
                <a:lnTo>
                  <a:pt x="19592" y="3794"/>
                </a:lnTo>
                <a:lnTo>
                  <a:pt x="1959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67" name="AutoShape 5">
            <a:hlinkClick r:id="rId1" action="ppaction://hlinksldjump"/>
          </p:cNvPr>
          <p:cNvSpPr/>
          <p:nvPr/>
        </p:nvSpPr>
        <p:spPr>
          <a:xfrm>
            <a:off x="7740720" y="6093000"/>
            <a:ext cx="504720" cy="43308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080"/>
              <a:gd name="textAreaBottom" fmla="*/ 405000 h 433080"/>
            </a:gdLst>
            <a:ahLst/>
            <a:rect l="textAreaLeft" t="textAreaTop" r="textAreaRight" b="textAreaBottom"/>
            <a:pathLst>
              <a:path w="25170" h="21600">
                <a:moveTo>
                  <a:pt x="0" y="0"/>
                </a:moveTo>
                <a:lnTo>
                  <a:pt x="25170" y="0"/>
                </a:lnTo>
                <a:lnTo>
                  <a:pt x="25170" y="21600"/>
                </a:lnTo>
                <a:lnTo>
                  <a:pt x="0" y="21600"/>
                </a:lnTo>
                <a:close/>
              </a:path>
              <a:path fill="lightenLess" w="25170" h="21600">
                <a:moveTo>
                  <a:pt x="0" y="0"/>
                </a:moveTo>
                <a:lnTo>
                  <a:pt x="25170" y="0"/>
                </a:lnTo>
                <a:lnTo>
                  <a:pt x="23770" y="1400"/>
                </a:lnTo>
                <a:lnTo>
                  <a:pt x="1400" y="1400"/>
                </a:lnTo>
                <a:close/>
              </a:path>
              <a:path fill="darken" w="25170" h="21600">
                <a:moveTo>
                  <a:pt x="25170" y="0"/>
                </a:moveTo>
                <a:lnTo>
                  <a:pt x="25170" y="21600"/>
                </a:lnTo>
                <a:lnTo>
                  <a:pt x="23770" y="20200"/>
                </a:lnTo>
                <a:lnTo>
                  <a:pt x="23770" y="1400"/>
                </a:lnTo>
                <a:close/>
              </a:path>
              <a:path fill="darkenLess" w="25170" h="21600">
                <a:moveTo>
                  <a:pt x="251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70" y="20200"/>
                </a:lnTo>
                <a:close/>
              </a:path>
              <a:path fill="lighten" w="251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70" h="21600">
                <a:moveTo>
                  <a:pt x="12585" y="3837"/>
                </a:moveTo>
                <a:lnTo>
                  <a:pt x="15161" y="6448"/>
                </a:lnTo>
                <a:lnTo>
                  <a:pt x="15161" y="4707"/>
                </a:lnTo>
                <a:lnTo>
                  <a:pt x="16937" y="4707"/>
                </a:lnTo>
                <a:lnTo>
                  <a:pt x="16937" y="8224"/>
                </a:lnTo>
                <a:lnTo>
                  <a:pt x="19548" y="10800"/>
                </a:lnTo>
                <a:lnTo>
                  <a:pt x="17894" y="10800"/>
                </a:lnTo>
                <a:lnTo>
                  <a:pt x="17894" y="17989"/>
                </a:lnTo>
                <a:lnTo>
                  <a:pt x="7276" y="17989"/>
                </a:lnTo>
                <a:lnTo>
                  <a:pt x="7276" y="10800"/>
                </a:lnTo>
                <a:lnTo>
                  <a:pt x="5622" y="10800"/>
                </a:lnTo>
                <a:close/>
              </a:path>
              <a:path fill="darkenLess" w="25170" h="21600">
                <a:moveTo>
                  <a:pt x="15161" y="6448"/>
                </a:moveTo>
                <a:lnTo>
                  <a:pt x="15161" y="4707"/>
                </a:lnTo>
                <a:lnTo>
                  <a:pt x="16937" y="4707"/>
                </a:lnTo>
                <a:lnTo>
                  <a:pt x="16937" y="8224"/>
                </a:lnTo>
                <a:close/>
              </a:path>
              <a:path fill="darkenLess" w="25170" h="21600">
                <a:moveTo>
                  <a:pt x="11662" y="14299"/>
                </a:moveTo>
                <a:lnTo>
                  <a:pt x="13508" y="14299"/>
                </a:lnTo>
                <a:lnTo>
                  <a:pt x="13508" y="17989"/>
                </a:lnTo>
                <a:lnTo>
                  <a:pt x="17894" y="17989"/>
                </a:lnTo>
                <a:lnTo>
                  <a:pt x="17894" y="10800"/>
                </a:lnTo>
                <a:lnTo>
                  <a:pt x="7276" y="10800"/>
                </a:lnTo>
                <a:lnTo>
                  <a:pt x="7276" y="17989"/>
                </a:lnTo>
                <a:lnTo>
                  <a:pt x="1166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1"/>
          <p:cNvSpPr/>
          <p:nvPr/>
        </p:nvSpPr>
        <p:spPr>
          <a:xfrm>
            <a:off x="457200" y="49536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Модель сетевого курса дистанционного обучения</a:t>
            </a:r>
            <a:r>
              <a:rPr b="0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i="1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269" name="Group 2"/>
          <p:cNvGrpSpPr/>
          <p:nvPr/>
        </p:nvGrpSpPr>
        <p:grpSpPr>
          <a:xfrm>
            <a:off x="0" y="765000"/>
            <a:ext cx="9324720" cy="5859360"/>
            <a:chOff x="0" y="765000"/>
            <a:chExt cx="9324720" cy="5859360"/>
          </a:xfrm>
        </p:grpSpPr>
        <p:sp>
          <p:nvSpPr>
            <p:cNvPr id="270" name="AutoShape 3"/>
            <p:cNvSpPr/>
            <p:nvPr/>
          </p:nvSpPr>
          <p:spPr>
            <a:xfrm>
              <a:off x="0" y="765000"/>
              <a:ext cx="9324720" cy="5859360"/>
            </a:xfrm>
            <a:prstGeom prst="roundRect">
              <a:avLst>
                <a:gd name="adj" fmla="val 28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1" name="Line 4"/>
            <p:cNvSpPr/>
            <p:nvPr/>
          </p:nvSpPr>
          <p:spPr>
            <a:xfrm flipH="1" flipV="1">
              <a:off x="3920400" y="2530800"/>
              <a:ext cx="500040" cy="78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2" name="Oval 5"/>
            <p:cNvSpPr/>
            <p:nvPr/>
          </p:nvSpPr>
          <p:spPr>
            <a:xfrm>
              <a:off x="3260160" y="167148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Информационно- справочный материал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3" name="Line 6"/>
            <p:cNvSpPr/>
            <p:nvPr/>
          </p:nvSpPr>
          <p:spPr>
            <a:xfrm flipH="1" flipV="1">
              <a:off x="3464280" y="3246120"/>
              <a:ext cx="80280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4" name="Oval 7"/>
            <p:cNvSpPr/>
            <p:nvPr/>
          </p:nvSpPr>
          <p:spPr>
            <a:xfrm>
              <a:off x="2653560" y="262620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Практические и лабораторные занятия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5" name="Line 8"/>
            <p:cNvSpPr/>
            <p:nvPr/>
          </p:nvSpPr>
          <p:spPr>
            <a:xfrm flipH="1">
              <a:off x="3465720" y="3841920"/>
              <a:ext cx="80280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2653560" y="380664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Задания (индивидуальные, групповые)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7" name="Line 10"/>
            <p:cNvSpPr/>
            <p:nvPr/>
          </p:nvSpPr>
          <p:spPr>
            <a:xfrm flipH="1">
              <a:off x="3920400" y="4079880"/>
              <a:ext cx="500040" cy="7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8" name="Oval 11"/>
            <p:cNvSpPr/>
            <p:nvPr/>
          </p:nvSpPr>
          <p:spPr>
            <a:xfrm>
              <a:off x="3260160" y="475956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11111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8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Совместная деятельность учащихся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79" name="Line 12"/>
            <p:cNvSpPr/>
            <p:nvPr/>
          </p:nvSpPr>
          <p:spPr>
            <a:xfrm>
              <a:off x="4662360" y="4171320"/>
              <a:ext cx="1440" cy="95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0" name="Oval 13"/>
            <p:cNvSpPr/>
            <p:nvPr/>
          </p:nvSpPr>
          <p:spPr>
            <a:xfrm>
              <a:off x="4242960" y="512424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чаты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1" name="Line 14"/>
            <p:cNvSpPr/>
            <p:nvPr/>
          </p:nvSpPr>
          <p:spPr>
            <a:xfrm>
              <a:off x="4908240" y="4079880"/>
              <a:ext cx="490320" cy="770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2" name="Oval 15"/>
            <p:cNvSpPr/>
            <p:nvPr/>
          </p:nvSpPr>
          <p:spPr>
            <a:xfrm>
              <a:off x="5227200" y="476136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Текущие объявления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3" name="Line 16"/>
            <p:cNvSpPr/>
            <p:nvPr/>
          </p:nvSpPr>
          <p:spPr>
            <a:xfrm>
              <a:off x="5060520" y="3841920"/>
              <a:ext cx="793080" cy="293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4" name="Oval 17"/>
            <p:cNvSpPr/>
            <p:nvPr/>
          </p:nvSpPr>
          <p:spPr>
            <a:xfrm>
              <a:off x="5834520" y="380664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Телекон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ференц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5" name="Line 18"/>
            <p:cNvSpPr/>
            <p:nvPr/>
          </p:nvSpPr>
          <p:spPr>
            <a:xfrm flipV="1">
              <a:off x="5060520" y="3246120"/>
              <a:ext cx="79308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6" name="Oval 19"/>
            <p:cNvSpPr/>
            <p:nvPr/>
          </p:nvSpPr>
          <p:spPr>
            <a:xfrm>
              <a:off x="5834520" y="262620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Документация учебного процесса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7" name="Line 20"/>
            <p:cNvSpPr/>
            <p:nvPr/>
          </p:nvSpPr>
          <p:spPr>
            <a:xfrm flipV="1">
              <a:off x="4908240" y="2530800"/>
              <a:ext cx="490320" cy="781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8" name="Oval 21"/>
            <p:cNvSpPr/>
            <p:nvPr/>
          </p:nvSpPr>
          <p:spPr>
            <a:xfrm>
              <a:off x="5227200" y="167148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Личные дела студентов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89" name="Line 22"/>
            <p:cNvSpPr/>
            <p:nvPr/>
          </p:nvSpPr>
          <p:spPr>
            <a:xfrm flipV="1">
              <a:off x="4662360" y="2257920"/>
              <a:ext cx="1440" cy="964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0" name="Oval 23"/>
            <p:cNvSpPr/>
            <p:nvPr/>
          </p:nvSpPr>
          <p:spPr>
            <a:xfrm>
              <a:off x="4242960" y="1306800"/>
              <a:ext cx="838440" cy="956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Общие сведения о курсе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291" name="Oval 24"/>
            <p:cNvSpPr/>
            <p:nvPr/>
          </p:nvSpPr>
          <p:spPr>
            <a:xfrm>
              <a:off x="4242960" y="3216240"/>
              <a:ext cx="838440" cy="95688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Курс дистанционного обучения.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292" name="AutoShape 25">
            <a:hlinkClick r:id="" action="ppaction://hlinkshowjump?jump=nextslide"/>
          </p:cNvPr>
          <p:cNvSpPr/>
          <p:nvPr/>
        </p:nvSpPr>
        <p:spPr>
          <a:xfrm>
            <a:off x="8388360" y="630864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0261" y="3794"/>
                </a:moveTo>
                <a:lnTo>
                  <a:pt x="24274" y="10800"/>
                </a:lnTo>
                <a:lnTo>
                  <a:pt x="10261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3" name="AutoShape 26">
            <a:hlinkClick r:id="" action="ppaction://hlinkshowjump?jump=previousslide"/>
          </p:cNvPr>
          <p:cNvSpPr/>
          <p:nvPr/>
        </p:nvSpPr>
        <p:spPr>
          <a:xfrm>
            <a:off x="7451640" y="6308640"/>
            <a:ext cx="505080" cy="360360"/>
          </a:xfrm>
          <a:custGeom>
            <a:avLst/>
            <a:gdLst>
              <a:gd name="textAreaLeft" fmla="*/ 23040 w 505080"/>
              <a:gd name="textAreaRight" fmla="*/ 482040 w 5050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266" h="21600">
                <a:moveTo>
                  <a:pt x="0" y="0"/>
                </a:moveTo>
                <a:lnTo>
                  <a:pt x="30266" y="0"/>
                </a:lnTo>
                <a:lnTo>
                  <a:pt x="30266" y="21600"/>
                </a:lnTo>
                <a:lnTo>
                  <a:pt x="0" y="21600"/>
                </a:lnTo>
                <a:close/>
              </a:path>
              <a:path fill="lightenLess" w="30266" h="21600">
                <a:moveTo>
                  <a:pt x="0" y="0"/>
                </a:moveTo>
                <a:lnTo>
                  <a:pt x="30266" y="0"/>
                </a:lnTo>
                <a:lnTo>
                  <a:pt x="28866" y="1400"/>
                </a:lnTo>
                <a:lnTo>
                  <a:pt x="1400" y="1400"/>
                </a:lnTo>
                <a:close/>
              </a:path>
              <a:path fill="darken" w="30266" h="21600">
                <a:moveTo>
                  <a:pt x="30266" y="0"/>
                </a:moveTo>
                <a:lnTo>
                  <a:pt x="30266" y="21600"/>
                </a:lnTo>
                <a:lnTo>
                  <a:pt x="28866" y="20200"/>
                </a:lnTo>
                <a:lnTo>
                  <a:pt x="28866" y="1400"/>
                </a:lnTo>
                <a:close/>
              </a:path>
              <a:path fill="darkenLess" w="30266" h="21600">
                <a:moveTo>
                  <a:pt x="30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66" y="20200"/>
                </a:lnTo>
                <a:close/>
              </a:path>
              <a:path fill="lighten" w="30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66" h="21600">
                <a:moveTo>
                  <a:pt x="8126" y="10800"/>
                </a:moveTo>
                <a:lnTo>
                  <a:pt x="22139" y="3794"/>
                </a:lnTo>
                <a:lnTo>
                  <a:pt x="221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4" name="AutoShape 27">
            <a:hlinkClick r:id="rId1" action="ppaction://hlinksldjump"/>
          </p:cNvPr>
          <p:cNvSpPr/>
          <p:nvPr/>
        </p:nvSpPr>
        <p:spPr>
          <a:xfrm>
            <a:off x="795672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15068" y="3837"/>
                </a:moveTo>
                <a:lnTo>
                  <a:pt x="17645" y="6448"/>
                </a:ln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lnTo>
                  <a:pt x="22031" y="10800"/>
                </a:lnTo>
                <a:lnTo>
                  <a:pt x="20378" y="10800"/>
                </a:lnTo>
                <a:lnTo>
                  <a:pt x="20378" y="17989"/>
                </a:lnTo>
                <a:lnTo>
                  <a:pt x="9759" y="17989"/>
                </a:lnTo>
                <a:lnTo>
                  <a:pt x="9759" y="10800"/>
                </a:lnTo>
                <a:lnTo>
                  <a:pt x="8105" y="10800"/>
                </a:lnTo>
                <a:close/>
              </a:path>
              <a:path fill="darkenLess" w="30137" h="21600">
                <a:moveTo>
                  <a:pt x="17645" y="6448"/>
                </a:moveTo>
                <a:lnTo>
                  <a:pt x="17645" y="4707"/>
                </a:lnTo>
                <a:lnTo>
                  <a:pt x="19420" y="4707"/>
                </a:lnTo>
                <a:lnTo>
                  <a:pt x="19420" y="8224"/>
                </a:lnTo>
                <a:close/>
              </a:path>
              <a:path fill="darkenLess" w="30137" h="21600">
                <a:moveTo>
                  <a:pt x="14146" y="14299"/>
                </a:moveTo>
                <a:lnTo>
                  <a:pt x="15991" y="14299"/>
                </a:lnTo>
                <a:lnTo>
                  <a:pt x="15991" y="17989"/>
                </a:lnTo>
                <a:lnTo>
                  <a:pt x="20378" y="17989"/>
                </a:lnTo>
                <a:lnTo>
                  <a:pt x="20378" y="10800"/>
                </a:lnTo>
                <a:lnTo>
                  <a:pt x="9759" y="10800"/>
                </a:lnTo>
                <a:lnTo>
                  <a:pt x="9759" y="17989"/>
                </a:lnTo>
                <a:lnTo>
                  <a:pt x="1414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1774080"/>
            <a:ext cx="9144000" cy="35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Интерактивное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fff00"/>
                </a:solidFill>
                <a:latin typeface="Arial"/>
              </a:rPr>
              <a:t>телевидение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Two-way TV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Последняя модель (интерактивное телевидение) связана с телевизионными технологиями и пока очень дорогая. Это трансляция занятий с помощью видеокамер и телевизионного оборудования на расстояние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6" name="AutoShape 2">
            <a:hlinkClick r:id="" action="ppaction://hlinkshowjump?jump=nextslide"/>
          </p:cNvPr>
          <p:cNvSpPr/>
          <p:nvPr/>
        </p:nvSpPr>
        <p:spPr>
          <a:xfrm>
            <a:off x="8172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3794"/>
                </a:moveTo>
                <a:lnTo>
                  <a:pt x="19587" y="10800"/>
                </a:lnTo>
                <a:lnTo>
                  <a:pt x="557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7" name="AutoShape 3">
            <a:hlinkClick r:id="" action="ppaction://hlinkshowjump?jump=previousslide"/>
          </p:cNvPr>
          <p:cNvSpPr/>
          <p:nvPr/>
        </p:nvSpPr>
        <p:spPr>
          <a:xfrm>
            <a:off x="7164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8" name="AutoShape 4">
            <a:hlinkClick r:id="rId1" action="ppaction://hlinksldjump"/>
          </p:cNvPr>
          <p:cNvSpPr/>
          <p:nvPr/>
        </p:nvSpPr>
        <p:spPr>
          <a:xfrm>
            <a:off x="766764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12581" y="3837"/>
                </a:moveTo>
                <a:lnTo>
                  <a:pt x="15157" y="6448"/>
                </a:ln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lnTo>
                  <a:pt x="19543" y="10800"/>
                </a:lnTo>
                <a:lnTo>
                  <a:pt x="17890" y="10800"/>
                </a:lnTo>
                <a:lnTo>
                  <a:pt x="17890" y="17989"/>
                </a:lnTo>
                <a:lnTo>
                  <a:pt x="7271" y="17989"/>
                </a:lnTo>
                <a:lnTo>
                  <a:pt x="7271" y="10800"/>
                </a:lnTo>
                <a:lnTo>
                  <a:pt x="5618" y="10800"/>
                </a:lnTo>
                <a:close/>
              </a:path>
              <a:path fill="darkenLess" w="25161" h="21600">
                <a:moveTo>
                  <a:pt x="15157" y="6448"/>
                </a:moveTo>
                <a:lnTo>
                  <a:pt x="15157" y="4707"/>
                </a:lnTo>
                <a:lnTo>
                  <a:pt x="16932" y="4707"/>
                </a:lnTo>
                <a:lnTo>
                  <a:pt x="16932" y="8224"/>
                </a:lnTo>
                <a:close/>
              </a:path>
              <a:path fill="darkenLess" w="25161" h="21600">
                <a:moveTo>
                  <a:pt x="11658" y="14299"/>
                </a:moveTo>
                <a:lnTo>
                  <a:pt x="13503" y="14299"/>
                </a:lnTo>
                <a:lnTo>
                  <a:pt x="13503" y="17989"/>
                </a:lnTo>
                <a:lnTo>
                  <a:pt x="17890" y="17989"/>
                </a:lnTo>
                <a:lnTo>
                  <a:pt x="17890" y="10800"/>
                </a:lnTo>
                <a:lnTo>
                  <a:pt x="7271" y="10800"/>
                </a:lnTo>
                <a:lnTo>
                  <a:pt x="7271" y="17989"/>
                </a:lnTo>
                <a:lnTo>
                  <a:pt x="1165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4000" y="507240"/>
            <a:ext cx="8229600" cy="53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                                         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Содержание: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1.Модели дистанционного обучения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1.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1 Обучение по типу экстерната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2 Университетское обучение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3 Обучение основанное на сотрудничестве    нескольких учебных заведений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4 Обучение в специализированных образовательных учреждениях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5 Автономные обучающие системы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1.6 Неформальное, интегрирующее дистанционное обучение.</a:t>
            </a: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2. Другой подход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:</a:t>
            </a:r>
            <a:br>
              <a:rPr sz="20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2.1 Распределенный класс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2.2 Самостоятельная работа учащихся.</a:t>
            </a:r>
            <a:br>
              <a:rPr sz="1800"/>
            </a:b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      2.3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Открытое образование + класс.</a:t>
            </a: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3. Интеграция очных и дистанционных форм обучения</a:t>
            </a:r>
            <a:r>
              <a:rPr b="0" lang="ru-RU" sz="1800" spc="-1" strike="noStrike">
                <a:solidFill>
                  <a:srgbClr val="ccecff"/>
                </a:solidFill>
                <a:latin typeface="Arial"/>
              </a:rPr>
              <a:t>.</a:t>
            </a:r>
            <a:br>
              <a:rPr sz="18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4. Сетевое обучение.  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5. Интерактивное телевидение(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Two-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way TV).</a:t>
            </a:r>
            <a:br>
              <a:rPr sz="2000"/>
            </a:b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6. Литература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AutoShape 2">
            <a:hlinkClick r:id="" action="ppaction://hlinkshowjump?jump=nextslide"/>
          </p:cNvPr>
          <p:cNvSpPr/>
          <p:nvPr/>
        </p:nvSpPr>
        <p:spPr>
          <a:xfrm>
            <a:off x="8101080" y="6093000"/>
            <a:ext cx="465120" cy="360360"/>
          </a:xfrm>
          <a:custGeom>
            <a:avLst/>
            <a:gdLst>
              <a:gd name="textAreaLeft" fmla="*/ 23040 w 465120"/>
              <a:gd name="textAreaRight" fmla="*/ 442080 w 4651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7873" h="21600">
                <a:moveTo>
                  <a:pt x="0" y="0"/>
                </a:moveTo>
                <a:lnTo>
                  <a:pt x="27873" y="0"/>
                </a:lnTo>
                <a:lnTo>
                  <a:pt x="27873" y="21600"/>
                </a:lnTo>
                <a:lnTo>
                  <a:pt x="0" y="21600"/>
                </a:lnTo>
                <a:close/>
              </a:path>
              <a:path fill="lightenLess" w="27873" h="21600">
                <a:moveTo>
                  <a:pt x="0" y="0"/>
                </a:moveTo>
                <a:lnTo>
                  <a:pt x="27873" y="0"/>
                </a:lnTo>
                <a:lnTo>
                  <a:pt x="26473" y="1400"/>
                </a:lnTo>
                <a:lnTo>
                  <a:pt x="1400" y="1400"/>
                </a:lnTo>
                <a:close/>
              </a:path>
              <a:path fill="darken" w="27873" h="21600">
                <a:moveTo>
                  <a:pt x="27873" y="0"/>
                </a:moveTo>
                <a:lnTo>
                  <a:pt x="27873" y="21600"/>
                </a:lnTo>
                <a:lnTo>
                  <a:pt x="26473" y="20200"/>
                </a:lnTo>
                <a:lnTo>
                  <a:pt x="26473" y="1400"/>
                </a:lnTo>
                <a:close/>
              </a:path>
              <a:path fill="darkenLess" w="27873" h="21600">
                <a:moveTo>
                  <a:pt x="27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473" y="20200"/>
                </a:lnTo>
                <a:close/>
              </a:path>
              <a:path fill="lighten" w="27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873" h="21600">
                <a:moveTo>
                  <a:pt x="6930" y="3794"/>
                </a:moveTo>
                <a:lnTo>
                  <a:pt x="20943" y="10800"/>
                </a:lnTo>
                <a:lnTo>
                  <a:pt x="693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5" name="AutoShape 3">
            <a:hlinkClick r:id="" action="ppaction://hlinkshowjump?jump=previousslide"/>
          </p:cNvPr>
          <p:cNvSpPr/>
          <p:nvPr/>
        </p:nvSpPr>
        <p:spPr>
          <a:xfrm>
            <a:off x="7093080" y="6093000"/>
            <a:ext cx="431640" cy="3585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5998" h="21600">
                <a:moveTo>
                  <a:pt x="0" y="0"/>
                </a:moveTo>
                <a:lnTo>
                  <a:pt x="25998" y="0"/>
                </a:lnTo>
                <a:lnTo>
                  <a:pt x="25998" y="21600"/>
                </a:lnTo>
                <a:lnTo>
                  <a:pt x="0" y="21600"/>
                </a:lnTo>
                <a:close/>
              </a:path>
              <a:path fill="lightenLess" w="25998" h="21600">
                <a:moveTo>
                  <a:pt x="0" y="0"/>
                </a:moveTo>
                <a:lnTo>
                  <a:pt x="25998" y="0"/>
                </a:lnTo>
                <a:lnTo>
                  <a:pt x="24598" y="1400"/>
                </a:lnTo>
                <a:lnTo>
                  <a:pt x="1400" y="1400"/>
                </a:lnTo>
                <a:close/>
              </a:path>
              <a:path fill="darken" w="25998" h="21600">
                <a:moveTo>
                  <a:pt x="25998" y="0"/>
                </a:moveTo>
                <a:lnTo>
                  <a:pt x="25998" y="21600"/>
                </a:lnTo>
                <a:lnTo>
                  <a:pt x="24598" y="20200"/>
                </a:lnTo>
                <a:lnTo>
                  <a:pt x="24598" y="1400"/>
                </a:lnTo>
                <a:close/>
              </a:path>
              <a:path fill="darkenLess" w="25998" h="21600">
                <a:moveTo>
                  <a:pt x="259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98" y="20200"/>
                </a:lnTo>
                <a:close/>
              </a:path>
              <a:path fill="lighten" w="259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98" h="21600">
                <a:moveTo>
                  <a:pt x="5993" y="10800"/>
                </a:moveTo>
                <a:lnTo>
                  <a:pt x="20005" y="3794"/>
                </a:lnTo>
                <a:lnTo>
                  <a:pt x="2000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524720" y="609300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34" h="21600">
                <a:moveTo>
                  <a:pt x="17267" y="3837"/>
                </a:moveTo>
                <a:lnTo>
                  <a:pt x="19843" y="6448"/>
                </a:lnTo>
                <a:lnTo>
                  <a:pt x="19843" y="4707"/>
                </a:lnTo>
                <a:lnTo>
                  <a:pt x="21619" y="4707"/>
                </a:lnTo>
                <a:lnTo>
                  <a:pt x="21619" y="8224"/>
                </a:lnTo>
                <a:lnTo>
                  <a:pt x="24230" y="10800"/>
                </a:lnTo>
                <a:lnTo>
                  <a:pt x="22576" y="10800"/>
                </a:lnTo>
                <a:lnTo>
                  <a:pt x="22576" y="17989"/>
                </a:lnTo>
                <a:lnTo>
                  <a:pt x="11958" y="17989"/>
                </a:lnTo>
                <a:lnTo>
                  <a:pt x="11958" y="10800"/>
                </a:lnTo>
                <a:lnTo>
                  <a:pt x="10304" y="10800"/>
                </a:lnTo>
                <a:close/>
              </a:path>
              <a:path fill="darkenLess" w="34534" h="21600">
                <a:moveTo>
                  <a:pt x="19843" y="6448"/>
                </a:moveTo>
                <a:lnTo>
                  <a:pt x="19843" y="4707"/>
                </a:lnTo>
                <a:lnTo>
                  <a:pt x="21619" y="4707"/>
                </a:lnTo>
                <a:lnTo>
                  <a:pt x="21619" y="8224"/>
                </a:lnTo>
                <a:close/>
              </a:path>
              <a:path fill="darkenLess" w="34534" h="21600">
                <a:moveTo>
                  <a:pt x="16344" y="14299"/>
                </a:moveTo>
                <a:lnTo>
                  <a:pt x="18190" y="14299"/>
                </a:lnTo>
                <a:lnTo>
                  <a:pt x="18190" y="17989"/>
                </a:lnTo>
                <a:lnTo>
                  <a:pt x="22576" y="17989"/>
                </a:lnTo>
                <a:lnTo>
                  <a:pt x="22576" y="10800"/>
                </a:lnTo>
                <a:lnTo>
                  <a:pt x="11958" y="10800"/>
                </a:lnTo>
                <a:lnTo>
                  <a:pt x="11958" y="17989"/>
                </a:lnTo>
                <a:lnTo>
                  <a:pt x="1634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457200" y="434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Модель дистанционного обучения с помощью интерактивного телевидения</a:t>
            </a: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00" name="Group 2"/>
          <p:cNvGrpSpPr/>
          <p:nvPr/>
        </p:nvGrpSpPr>
        <p:grpSpPr>
          <a:xfrm>
            <a:off x="457200" y="1600200"/>
            <a:ext cx="8228160" cy="4529160"/>
            <a:chOff x="457200" y="1600200"/>
            <a:chExt cx="8228160" cy="4529160"/>
          </a:xfrm>
        </p:grpSpPr>
        <p:sp>
          <p:nvSpPr>
            <p:cNvPr id="301" name="AutoShape 3"/>
            <p:cNvSpPr/>
            <p:nvPr/>
          </p:nvSpPr>
          <p:spPr>
            <a:xfrm>
              <a:off x="457200" y="1600200"/>
              <a:ext cx="8228160" cy="45291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cxnSp>
          <p:nvCxnSpPr>
            <p:cNvPr id="302" name="AutoShape 4"/>
            <p:cNvCxnSpPr>
              <a:stCxn id="303" idx="0"/>
              <a:endCxn id="304" idx="2"/>
            </p:cNvCxnSpPr>
            <p:nvPr/>
          </p:nvCxnSpPr>
          <p:spPr>
            <a:xfrm rot="10800000">
              <a:off x="4569120" y="3411720"/>
              <a:ext cx="2880720" cy="90504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5" name="AutoShape 5"/>
            <p:cNvCxnSpPr>
              <a:stCxn id="306" idx="0"/>
              <a:endCxn id="304" idx="2"/>
            </p:cNvCxnSpPr>
            <p:nvPr/>
          </p:nvCxnSpPr>
          <p:spPr>
            <a:xfrm flipV="1">
              <a:off x="4569480" y="3412080"/>
              <a:ext cx="1800" cy="9050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7" name="AutoShape 6"/>
            <p:cNvCxnSpPr>
              <a:stCxn id="308" idx="0"/>
              <a:endCxn id="304" idx="2"/>
            </p:cNvCxnSpPr>
            <p:nvPr/>
          </p:nvCxnSpPr>
          <p:spPr>
            <a:xfrm flipV="1">
              <a:off x="1690200" y="3412080"/>
              <a:ext cx="2880000" cy="905040"/>
            </a:xfrm>
            <a:prstGeom prst="bentConnector3">
              <a:avLst>
                <a:gd name="adj1" fmla="val 499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04" name="AutoShape 7"/>
            <p:cNvSpPr/>
            <p:nvPr/>
          </p:nvSpPr>
          <p:spPr>
            <a:xfrm>
              <a:off x="3336120" y="160020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1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100" spc="-1" strike="noStrike">
                  <a:solidFill>
                    <a:srgbClr val="111111"/>
                  </a:solidFill>
                  <a:latin typeface="Verdana"/>
                </a:rPr>
                <a:t>Занятие в очной форме</a:t>
              </a:r>
              <a:endParaRPr b="1" i="1" lang="en-US" sz="21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8" name="AutoShape 8"/>
            <p:cNvSpPr/>
            <p:nvPr/>
          </p:nvSpPr>
          <p:spPr>
            <a:xfrm>
              <a:off x="457200" y="431676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111111"/>
                  </a:solidFill>
                  <a:latin typeface="Verdana"/>
                </a:rPr>
                <a:t>Удаленный класс 1</a:t>
              </a: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6" name="AutoShape 9"/>
            <p:cNvSpPr/>
            <p:nvPr/>
          </p:nvSpPr>
          <p:spPr>
            <a:xfrm>
              <a:off x="3336120" y="431676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111111"/>
                  </a:solidFill>
                  <a:latin typeface="Verdana"/>
                </a:rPr>
                <a:t>Удаленный класс 2</a:t>
              </a: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03" name="AutoShape 10"/>
            <p:cNvSpPr/>
            <p:nvPr/>
          </p:nvSpPr>
          <p:spPr>
            <a:xfrm>
              <a:off x="6217200" y="4316760"/>
              <a:ext cx="2467800" cy="18122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2300" spc="-1" strike="noStrike">
                  <a:solidFill>
                    <a:srgbClr val="111111"/>
                  </a:solidFill>
                  <a:latin typeface="Verdana"/>
                </a:rPr>
                <a:t>Удаленный класс 3</a:t>
              </a:r>
              <a:endParaRPr b="1" i="1" lang="en-US" sz="23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09" name="AutoShape 11">
            <a:hlinkClick r:id="" action="ppaction://hlinkshowjump?jump=nextslide"/>
          </p:cNvPr>
          <p:cNvSpPr/>
          <p:nvPr/>
        </p:nvSpPr>
        <p:spPr>
          <a:xfrm>
            <a:off x="8317080" y="6237360"/>
            <a:ext cx="502920" cy="433440"/>
          </a:xfrm>
          <a:custGeom>
            <a:avLst/>
            <a:gdLst>
              <a:gd name="textAreaLeft" fmla="*/ 28080 w 502920"/>
              <a:gd name="textAreaRight" fmla="*/ 474840 w 5029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060" h="21600">
                <a:moveTo>
                  <a:pt x="0" y="0"/>
                </a:moveTo>
                <a:lnTo>
                  <a:pt x="25060" y="0"/>
                </a:lnTo>
                <a:lnTo>
                  <a:pt x="25060" y="21600"/>
                </a:lnTo>
                <a:lnTo>
                  <a:pt x="0" y="21600"/>
                </a:lnTo>
                <a:close/>
              </a:path>
              <a:path fill="lightenLess" w="25060" h="21600">
                <a:moveTo>
                  <a:pt x="0" y="0"/>
                </a:moveTo>
                <a:lnTo>
                  <a:pt x="25060" y="0"/>
                </a:lnTo>
                <a:lnTo>
                  <a:pt x="23660" y="1400"/>
                </a:lnTo>
                <a:lnTo>
                  <a:pt x="1400" y="1400"/>
                </a:lnTo>
                <a:close/>
              </a:path>
              <a:path fill="darken" w="25060" h="21600">
                <a:moveTo>
                  <a:pt x="25060" y="0"/>
                </a:moveTo>
                <a:lnTo>
                  <a:pt x="25060" y="21600"/>
                </a:lnTo>
                <a:lnTo>
                  <a:pt x="23660" y="20200"/>
                </a:lnTo>
                <a:lnTo>
                  <a:pt x="23660" y="1400"/>
                </a:lnTo>
                <a:close/>
              </a:path>
              <a:path fill="darkenLess" w="25060" h="21600">
                <a:moveTo>
                  <a:pt x="25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0" y="20200"/>
                </a:lnTo>
                <a:close/>
              </a:path>
              <a:path fill="lighten" w="25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0" h="21600">
                <a:moveTo>
                  <a:pt x="5523" y="3794"/>
                </a:moveTo>
                <a:lnTo>
                  <a:pt x="19536" y="10800"/>
                </a:lnTo>
                <a:lnTo>
                  <a:pt x="552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0" name="AutoShape 12">
            <a:hlinkClick r:id="" action="ppaction://hlinkshowjump?jump=previousslide"/>
          </p:cNvPr>
          <p:cNvSpPr/>
          <p:nvPr/>
        </p:nvSpPr>
        <p:spPr>
          <a:xfrm>
            <a:off x="730872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5630" y="10800"/>
                </a:moveTo>
                <a:lnTo>
                  <a:pt x="19642" y="3794"/>
                </a:lnTo>
                <a:lnTo>
                  <a:pt x="1964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1" name="AutoShape 13">
            <a:hlinkClick r:id="rId1" action="ppaction://hlinksldjump"/>
          </p:cNvPr>
          <p:cNvSpPr/>
          <p:nvPr/>
        </p:nvSpPr>
        <p:spPr>
          <a:xfrm>
            <a:off x="7812000" y="6237360"/>
            <a:ext cx="505080" cy="43164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72" h="21600">
                <a:moveTo>
                  <a:pt x="0" y="0"/>
                </a:moveTo>
                <a:lnTo>
                  <a:pt x="25272" y="0"/>
                </a:lnTo>
                <a:lnTo>
                  <a:pt x="25272" y="21600"/>
                </a:lnTo>
                <a:lnTo>
                  <a:pt x="0" y="21600"/>
                </a:lnTo>
                <a:close/>
              </a:path>
              <a:path fill="lightenLess" w="25272" h="21600">
                <a:moveTo>
                  <a:pt x="0" y="0"/>
                </a:moveTo>
                <a:lnTo>
                  <a:pt x="25272" y="0"/>
                </a:lnTo>
                <a:lnTo>
                  <a:pt x="23872" y="1400"/>
                </a:lnTo>
                <a:lnTo>
                  <a:pt x="1400" y="1400"/>
                </a:lnTo>
                <a:close/>
              </a:path>
              <a:path fill="darken" w="25272" h="21600">
                <a:moveTo>
                  <a:pt x="25272" y="0"/>
                </a:moveTo>
                <a:lnTo>
                  <a:pt x="25272" y="21600"/>
                </a:lnTo>
                <a:lnTo>
                  <a:pt x="23872" y="20200"/>
                </a:lnTo>
                <a:lnTo>
                  <a:pt x="23872" y="1400"/>
                </a:lnTo>
                <a:close/>
              </a:path>
              <a:path fill="darkenLess" w="25272" h="21600">
                <a:moveTo>
                  <a:pt x="252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72" y="20200"/>
                </a:lnTo>
                <a:close/>
              </a:path>
              <a:path fill="lighten" w="252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72" h="21600">
                <a:moveTo>
                  <a:pt x="12636" y="3837"/>
                </a:moveTo>
                <a:lnTo>
                  <a:pt x="15212" y="6448"/>
                </a:ln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lnTo>
                  <a:pt x="19599" y="10800"/>
                </a:lnTo>
                <a:lnTo>
                  <a:pt x="17945" y="10800"/>
                </a:lnTo>
                <a:lnTo>
                  <a:pt x="17945" y="17989"/>
                </a:lnTo>
                <a:lnTo>
                  <a:pt x="7327" y="17989"/>
                </a:lnTo>
                <a:lnTo>
                  <a:pt x="7327" y="10800"/>
                </a:lnTo>
                <a:lnTo>
                  <a:pt x="5673" y="10800"/>
                </a:lnTo>
                <a:close/>
              </a:path>
              <a:path fill="darkenLess" w="25272" h="21600">
                <a:moveTo>
                  <a:pt x="15212" y="6448"/>
                </a:moveTo>
                <a:lnTo>
                  <a:pt x="15212" y="4707"/>
                </a:lnTo>
                <a:lnTo>
                  <a:pt x="16988" y="4707"/>
                </a:lnTo>
                <a:lnTo>
                  <a:pt x="16988" y="8224"/>
                </a:lnTo>
                <a:close/>
              </a:path>
              <a:path fill="darkenLess" w="25272" h="21600">
                <a:moveTo>
                  <a:pt x="11713" y="14299"/>
                </a:moveTo>
                <a:lnTo>
                  <a:pt x="13559" y="14299"/>
                </a:lnTo>
                <a:lnTo>
                  <a:pt x="13559" y="17989"/>
                </a:lnTo>
                <a:lnTo>
                  <a:pt x="17945" y="17989"/>
                </a:lnTo>
                <a:lnTo>
                  <a:pt x="17945" y="10800"/>
                </a:lnTo>
                <a:lnTo>
                  <a:pt x="7327" y="10800"/>
                </a:lnTo>
                <a:lnTo>
                  <a:pt x="7327" y="17989"/>
                </a:lnTo>
                <a:lnTo>
                  <a:pt x="1171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advTm="10000"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4920" y="871200"/>
            <a:ext cx="8062920" cy="50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Как видно из представленных выше моделей, каждая из них имеет свою специфику и предназначена для решения конкретных тактических задач. Специфика каждой модели дистанционного учебного процесса обуславливает отбор и структурирование содержания обучения. </a:t>
            </a:r>
            <a:br>
              <a:rPr sz="2400"/>
            </a:b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3" name="AutoShape 2">
            <a:hlinkClick r:id="" action="ppaction://hlinkshowjump?jump=nextslide"/>
          </p:cNvPr>
          <p:cNvSpPr/>
          <p:nvPr/>
        </p:nvSpPr>
        <p:spPr>
          <a:xfrm>
            <a:off x="817236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3794"/>
                </a:moveTo>
                <a:lnTo>
                  <a:pt x="21412" y="10800"/>
                </a:lnTo>
                <a:lnTo>
                  <a:pt x="7400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4" name="AutoShape 3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576360" cy="4320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812" h="21600">
                <a:moveTo>
                  <a:pt x="0" y="0"/>
                </a:moveTo>
                <a:lnTo>
                  <a:pt x="28812" y="0"/>
                </a:lnTo>
                <a:lnTo>
                  <a:pt x="28812" y="21600"/>
                </a:lnTo>
                <a:lnTo>
                  <a:pt x="0" y="21600"/>
                </a:lnTo>
                <a:close/>
              </a:path>
              <a:path fill="lightenLess" w="28812" h="21600">
                <a:moveTo>
                  <a:pt x="0" y="0"/>
                </a:moveTo>
                <a:lnTo>
                  <a:pt x="28812" y="0"/>
                </a:lnTo>
                <a:lnTo>
                  <a:pt x="27412" y="1400"/>
                </a:lnTo>
                <a:lnTo>
                  <a:pt x="1400" y="1400"/>
                </a:lnTo>
                <a:close/>
              </a:path>
              <a:path fill="darken" w="28812" h="21600">
                <a:moveTo>
                  <a:pt x="28812" y="0"/>
                </a:moveTo>
                <a:lnTo>
                  <a:pt x="28812" y="21600"/>
                </a:lnTo>
                <a:lnTo>
                  <a:pt x="27412" y="20200"/>
                </a:lnTo>
                <a:lnTo>
                  <a:pt x="27412" y="1400"/>
                </a:lnTo>
                <a:close/>
              </a:path>
              <a:path fill="darkenLess" w="28812" h="21600">
                <a:moveTo>
                  <a:pt x="288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2" y="20200"/>
                </a:lnTo>
                <a:close/>
              </a:path>
              <a:path fill="lighten" w="288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2" h="21600">
                <a:moveTo>
                  <a:pt x="7400" y="10800"/>
                </a:moveTo>
                <a:lnTo>
                  <a:pt x="21412" y="3794"/>
                </a:lnTo>
                <a:lnTo>
                  <a:pt x="2141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15" name="AutoShape 4">
            <a:hlinkClick r:id="rId1" action="ppaction://hlinksldjump"/>
          </p:cNvPr>
          <p:cNvSpPr/>
          <p:nvPr/>
        </p:nvSpPr>
        <p:spPr>
          <a:xfrm>
            <a:off x="7596360" y="6165720"/>
            <a:ext cx="574560" cy="432000"/>
          </a:xfrm>
          <a:custGeom>
            <a:avLst/>
            <a:gdLst>
              <a:gd name="textAreaLeft" fmla="*/ 27720 w 574560"/>
              <a:gd name="textAreaRight" fmla="*/ 546840 w 5745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22" h="21600">
                <a:moveTo>
                  <a:pt x="0" y="0"/>
                </a:moveTo>
                <a:lnTo>
                  <a:pt x="28722" y="0"/>
                </a:lnTo>
                <a:lnTo>
                  <a:pt x="28722" y="21600"/>
                </a:lnTo>
                <a:lnTo>
                  <a:pt x="0" y="21600"/>
                </a:lnTo>
                <a:close/>
              </a:path>
              <a:path fill="lightenLess" w="28722" h="21600">
                <a:moveTo>
                  <a:pt x="0" y="0"/>
                </a:moveTo>
                <a:lnTo>
                  <a:pt x="28722" y="0"/>
                </a:lnTo>
                <a:lnTo>
                  <a:pt x="27322" y="1400"/>
                </a:lnTo>
                <a:lnTo>
                  <a:pt x="1400" y="1400"/>
                </a:lnTo>
                <a:close/>
              </a:path>
              <a:path fill="darken" w="28722" h="21600">
                <a:moveTo>
                  <a:pt x="28722" y="0"/>
                </a:moveTo>
                <a:lnTo>
                  <a:pt x="28722" y="21600"/>
                </a:lnTo>
                <a:lnTo>
                  <a:pt x="27322" y="20200"/>
                </a:lnTo>
                <a:lnTo>
                  <a:pt x="27322" y="1400"/>
                </a:lnTo>
                <a:close/>
              </a:path>
              <a:path fill="darkenLess" w="28722" h="21600">
                <a:moveTo>
                  <a:pt x="287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22" y="20200"/>
                </a:lnTo>
                <a:close/>
              </a:path>
              <a:path fill="lighten" w="287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22" h="21600">
                <a:moveTo>
                  <a:pt x="14361" y="3837"/>
                </a:moveTo>
                <a:lnTo>
                  <a:pt x="16937" y="6448"/>
                </a:lnTo>
                <a:lnTo>
                  <a:pt x="16937" y="4707"/>
                </a:lnTo>
                <a:lnTo>
                  <a:pt x="18713" y="4707"/>
                </a:lnTo>
                <a:lnTo>
                  <a:pt x="18713" y="8224"/>
                </a:lnTo>
                <a:lnTo>
                  <a:pt x="21324" y="10800"/>
                </a:lnTo>
                <a:lnTo>
                  <a:pt x="19670" y="10800"/>
                </a:lnTo>
                <a:lnTo>
                  <a:pt x="19670" y="17989"/>
                </a:lnTo>
                <a:lnTo>
                  <a:pt x="9052" y="17989"/>
                </a:lnTo>
                <a:lnTo>
                  <a:pt x="9052" y="10800"/>
                </a:lnTo>
                <a:lnTo>
                  <a:pt x="7398" y="10800"/>
                </a:lnTo>
                <a:close/>
              </a:path>
              <a:path fill="darkenLess" w="28722" h="21600">
                <a:moveTo>
                  <a:pt x="16937" y="6448"/>
                </a:moveTo>
                <a:lnTo>
                  <a:pt x="16937" y="4707"/>
                </a:lnTo>
                <a:lnTo>
                  <a:pt x="18713" y="4707"/>
                </a:lnTo>
                <a:lnTo>
                  <a:pt x="18713" y="8224"/>
                </a:lnTo>
                <a:close/>
              </a:path>
              <a:path fill="darkenLess" w="28722" h="21600">
                <a:moveTo>
                  <a:pt x="13438" y="14299"/>
                </a:moveTo>
                <a:lnTo>
                  <a:pt x="15284" y="14299"/>
                </a:lnTo>
                <a:lnTo>
                  <a:pt x="15284" y="17989"/>
                </a:lnTo>
                <a:lnTo>
                  <a:pt x="19670" y="17989"/>
                </a:lnTo>
                <a:lnTo>
                  <a:pt x="19670" y="10800"/>
                </a:lnTo>
                <a:lnTo>
                  <a:pt x="9052" y="10800"/>
                </a:lnTo>
                <a:lnTo>
                  <a:pt x="9052" y="17989"/>
                </a:lnTo>
                <a:lnTo>
                  <a:pt x="1343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316" name="Picture 5" descr=""/>
          <p:cNvPicPr/>
          <p:nvPr/>
        </p:nvPicPr>
        <p:blipFill>
          <a:blip r:embed="rId2"/>
          <a:stretch/>
        </p:blipFill>
        <p:spPr>
          <a:xfrm>
            <a:off x="6084720" y="189000"/>
            <a:ext cx="1989360" cy="146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1"/>
          <p:cNvSpPr/>
          <p:nvPr/>
        </p:nvSpPr>
        <p:spPr>
          <a:xfrm>
            <a:off x="0" y="-230040"/>
            <a:ext cx="9144000" cy="73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Задания: </a:t>
            </a:r>
            <a:br>
              <a:rPr sz="2000"/>
            </a:br>
            <a:br>
              <a:rPr sz="20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1. Назвать модели ДО используемые при организации учебного процесса.</a:t>
            </a: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2. Дописать составляющие компоненты схемы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3. «Последняя модель………… связана с телевизионными технологиями и пока очень дорогая»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Вместо пропуска вставить определение модели и кратко дать характеристику ее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1" i="1" lang="en-US" sz="1800" spc="-1" strike="noStrike">
              <a:solidFill>
                <a:srgbClr val="ffff00"/>
              </a:solidFill>
              <a:latin typeface="Verdana"/>
            </a:endParaRPr>
          </a:p>
        </p:txBody>
      </p:sp>
      <p:grpSp>
        <p:nvGrpSpPr>
          <p:cNvPr id="318" name="Group 2"/>
          <p:cNvGrpSpPr/>
          <p:nvPr/>
        </p:nvGrpSpPr>
        <p:grpSpPr>
          <a:xfrm>
            <a:off x="684360" y="765000"/>
            <a:ext cx="8227800" cy="4529160"/>
            <a:chOff x="684360" y="765000"/>
            <a:chExt cx="8227800" cy="4529160"/>
          </a:xfrm>
        </p:grpSpPr>
        <p:sp>
          <p:nvSpPr>
            <p:cNvPr id="319" name="AutoShape 3"/>
            <p:cNvSpPr/>
            <p:nvPr/>
          </p:nvSpPr>
          <p:spPr>
            <a:xfrm>
              <a:off x="684360" y="765000"/>
              <a:ext cx="8227800" cy="4529160"/>
            </a:xfrm>
            <a:prstGeom prst="roundRect">
              <a:avLst>
                <a:gd name="adj" fmla="val 3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0" name="Line 4"/>
            <p:cNvSpPr/>
            <p:nvPr/>
          </p:nvSpPr>
          <p:spPr>
            <a:xfrm flipH="1" flipV="1">
              <a:off x="4091400" y="2549880"/>
              <a:ext cx="360000" cy="245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1" name="Oval 5"/>
            <p:cNvSpPr/>
            <p:nvPr/>
          </p:nvSpPr>
          <p:spPr>
            <a:xfrm>
              <a:off x="3299760" y="193932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Виртуальные экскурс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2" name="Line 6"/>
            <p:cNvSpPr/>
            <p:nvPr/>
          </p:nvSpPr>
          <p:spPr>
            <a:xfrm flipH="1">
              <a:off x="3920400" y="3113640"/>
              <a:ext cx="44568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3" name="Oval 7"/>
            <p:cNvSpPr/>
            <p:nvPr/>
          </p:nvSpPr>
          <p:spPr>
            <a:xfrm>
              <a:off x="3040920" y="290232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4" name="Line 8"/>
            <p:cNvSpPr/>
            <p:nvPr/>
          </p:nvSpPr>
          <p:spPr>
            <a:xfrm flipH="1">
              <a:off x="4405680" y="3372480"/>
              <a:ext cx="20304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5" name="Oval 9"/>
            <p:cNvSpPr/>
            <p:nvPr/>
          </p:nvSpPr>
          <p:spPr>
            <a:xfrm>
              <a:off x="3768120" y="367668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7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6" name="Line 10"/>
            <p:cNvSpPr/>
            <p:nvPr/>
          </p:nvSpPr>
          <p:spPr>
            <a:xfrm>
              <a:off x="4993200" y="3370680"/>
              <a:ext cx="193320" cy="34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7" name="Oval 11"/>
            <p:cNvSpPr/>
            <p:nvPr/>
          </p:nvSpPr>
          <p:spPr>
            <a:xfrm>
              <a:off x="4934520" y="367524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GB" sz="700" spc="-1" strike="noStrike">
                  <a:solidFill>
                    <a:srgbClr val="ffffff"/>
                  </a:solidFill>
                  <a:latin typeface="Verdana"/>
                </a:rPr>
                <a:t>   </a:t>
              </a: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Форумы, обсуждения, дискуссии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8" name="Line 12"/>
            <p:cNvSpPr/>
            <p:nvPr/>
          </p:nvSpPr>
          <p:spPr>
            <a:xfrm>
              <a:off x="5234400" y="3113640"/>
              <a:ext cx="436320" cy="8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29" name="Oval 13"/>
            <p:cNvSpPr/>
            <p:nvPr/>
          </p:nvSpPr>
          <p:spPr>
            <a:xfrm>
              <a:off x="5659560" y="290232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900" spc="-1" strike="noStrike">
                  <a:solidFill>
                    <a:srgbClr val="111111"/>
                  </a:solidFill>
                  <a:latin typeface="Arial"/>
                </a:rPr>
                <a:t>Лекции(сетевые или видеозаписи)</a:t>
              </a:r>
              <a:endParaRPr b="1" i="1" lang="en-US" sz="9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0" name="Line 14"/>
            <p:cNvSpPr/>
            <p:nvPr/>
          </p:nvSpPr>
          <p:spPr>
            <a:xfrm flipV="1">
              <a:off x="5148720" y="2552040"/>
              <a:ext cx="348840" cy="24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1" name="Oval 15"/>
            <p:cNvSpPr/>
            <p:nvPr/>
          </p:nvSpPr>
          <p:spPr>
            <a:xfrm>
              <a:off x="5401080" y="1937520"/>
              <a:ext cx="894960" cy="7603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2" name="Line 16"/>
            <p:cNvSpPr/>
            <p:nvPr/>
          </p:nvSpPr>
          <p:spPr>
            <a:xfrm flipV="1">
              <a:off x="4798080" y="2264400"/>
              <a:ext cx="1080" cy="388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1" i="1" lang="en-US" sz="2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3" name="Oval 17"/>
            <p:cNvSpPr/>
            <p:nvPr/>
          </p:nvSpPr>
          <p:spPr>
            <a:xfrm>
              <a:off x="4350240" y="150948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Обзорные лекции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  <p:sp>
          <p:nvSpPr>
            <p:cNvPr id="334" name="Oval 18"/>
            <p:cNvSpPr/>
            <p:nvPr/>
          </p:nvSpPr>
          <p:spPr>
            <a:xfrm>
              <a:off x="4350240" y="2648520"/>
              <a:ext cx="894960" cy="7599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1" i="1" lang="en-US" sz="600" spc="-1" strike="noStrike">
                <a:solidFill>
                  <a:srgbClr val="ffff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GB" sz="1000" spc="-1" strike="noStrike">
                  <a:solidFill>
                    <a:srgbClr val="111111"/>
                  </a:solidFill>
                  <a:latin typeface="Arial"/>
                </a:rPr>
                <a:t>Дистанционное обучение</a:t>
              </a:r>
              <a:endParaRPr b="1" i="1" lang="en-US" sz="1000" spc="-1" strike="noStrike">
                <a:solidFill>
                  <a:srgbClr val="ffff00"/>
                </a:solidFill>
                <a:latin typeface="Verdana"/>
              </a:endParaRPr>
            </a:p>
          </p:txBody>
        </p:sp>
      </p:grpSp>
      <p:sp>
        <p:nvSpPr>
          <p:cNvPr id="335" name="AutoShape 19">
            <a:hlinkClick r:id="" action="ppaction://hlinkshowjump?jump=nextslide"/>
          </p:cNvPr>
          <p:cNvSpPr/>
          <p:nvPr/>
        </p:nvSpPr>
        <p:spPr>
          <a:xfrm>
            <a:off x="7956720" y="616572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5568" y="3794"/>
                </a:moveTo>
                <a:lnTo>
                  <a:pt x="19581" y="10800"/>
                </a:lnTo>
                <a:lnTo>
                  <a:pt x="55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6" name="AutoShape 20">
            <a:hlinkClick r:id="" action="ppaction://hlinkshowjump?jump=previousslide"/>
          </p:cNvPr>
          <p:cNvSpPr/>
          <p:nvPr/>
        </p:nvSpPr>
        <p:spPr>
          <a:xfrm>
            <a:off x="6948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7" name="AutoShape 21">
            <a:hlinkClick r:id="rId1" action="ppaction://hlinksldjump"/>
          </p:cNvPr>
          <p:cNvSpPr/>
          <p:nvPr/>
        </p:nvSpPr>
        <p:spPr>
          <a:xfrm>
            <a:off x="7451640" y="6165720"/>
            <a:ext cx="505080" cy="432000"/>
          </a:xfrm>
          <a:custGeom>
            <a:avLst/>
            <a:gdLst>
              <a:gd name="textAreaLeft" fmla="*/ 27720 w 505080"/>
              <a:gd name="textAreaRight" fmla="*/ 477360 w 505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51" h="21600">
                <a:moveTo>
                  <a:pt x="0" y="0"/>
                </a:moveTo>
                <a:lnTo>
                  <a:pt x="25251" y="0"/>
                </a:lnTo>
                <a:lnTo>
                  <a:pt x="25251" y="21600"/>
                </a:lnTo>
                <a:lnTo>
                  <a:pt x="0" y="21600"/>
                </a:lnTo>
                <a:close/>
              </a:path>
              <a:path fill="lightenLess" w="25251" h="21600">
                <a:moveTo>
                  <a:pt x="0" y="0"/>
                </a:moveTo>
                <a:lnTo>
                  <a:pt x="25251" y="0"/>
                </a:lnTo>
                <a:lnTo>
                  <a:pt x="23851" y="1400"/>
                </a:lnTo>
                <a:lnTo>
                  <a:pt x="1400" y="1400"/>
                </a:lnTo>
                <a:close/>
              </a:path>
              <a:path fill="darken" w="25251" h="21600">
                <a:moveTo>
                  <a:pt x="25251" y="0"/>
                </a:moveTo>
                <a:lnTo>
                  <a:pt x="25251" y="21600"/>
                </a:lnTo>
                <a:lnTo>
                  <a:pt x="23851" y="20200"/>
                </a:lnTo>
                <a:lnTo>
                  <a:pt x="23851" y="1400"/>
                </a:lnTo>
                <a:close/>
              </a:path>
              <a:path fill="darkenLess" w="25251" h="21600">
                <a:moveTo>
                  <a:pt x="252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1" y="20200"/>
                </a:lnTo>
                <a:close/>
              </a:path>
              <a:path fill="lighten" w="252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1" h="21600">
                <a:moveTo>
                  <a:pt x="12625" y="3837"/>
                </a:moveTo>
                <a:lnTo>
                  <a:pt x="15202" y="6448"/>
                </a:ln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lnTo>
                  <a:pt x="19588" y="10800"/>
                </a:lnTo>
                <a:lnTo>
                  <a:pt x="17935" y="10800"/>
                </a:lnTo>
                <a:lnTo>
                  <a:pt x="17935" y="17989"/>
                </a:lnTo>
                <a:lnTo>
                  <a:pt x="7316" y="17989"/>
                </a:lnTo>
                <a:lnTo>
                  <a:pt x="7316" y="10800"/>
                </a:lnTo>
                <a:lnTo>
                  <a:pt x="5663" y="10800"/>
                </a:lnTo>
                <a:close/>
              </a:path>
              <a:path fill="darkenLess" w="25251" h="21600">
                <a:moveTo>
                  <a:pt x="15202" y="6448"/>
                </a:moveTo>
                <a:lnTo>
                  <a:pt x="15202" y="4707"/>
                </a:lnTo>
                <a:lnTo>
                  <a:pt x="16977" y="4707"/>
                </a:lnTo>
                <a:lnTo>
                  <a:pt x="16977" y="8224"/>
                </a:lnTo>
                <a:close/>
              </a:path>
              <a:path fill="darkenLess" w="25251" h="21600">
                <a:moveTo>
                  <a:pt x="11703" y="14299"/>
                </a:moveTo>
                <a:lnTo>
                  <a:pt x="13548" y="14299"/>
                </a:lnTo>
                <a:lnTo>
                  <a:pt x="13548" y="17989"/>
                </a:lnTo>
                <a:lnTo>
                  <a:pt x="17935" y="17989"/>
                </a:lnTo>
                <a:lnTo>
                  <a:pt x="17935" y="10800"/>
                </a:lnTo>
                <a:lnTo>
                  <a:pt x="7316" y="10800"/>
                </a:lnTo>
                <a:lnTo>
                  <a:pt x="7316" y="17989"/>
                </a:lnTo>
                <a:lnTo>
                  <a:pt x="11703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advTm="10000">
    <p:push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14560"/>
            <a:ext cx="8362800" cy="558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marL="846000" indent="0">
              <a:lnSpc>
                <a:spcPct val="150000"/>
              </a:lnSpc>
              <a:buNone/>
              <a:tabLst>
                <a:tab algn="l" pos="0"/>
                <a:tab algn="l" pos="835200"/>
                <a:tab algn="l" pos="906480"/>
                <a:tab algn="l" pos="1820880"/>
                <a:tab algn="l" pos="2735280"/>
                <a:tab algn="l" pos="3649680"/>
                <a:tab algn="l" pos="4564080"/>
                <a:tab algn="l" pos="5478480"/>
                <a:tab algn="l" pos="6392880"/>
                <a:tab algn="l" pos="7307280"/>
                <a:tab algn="l" pos="8221680"/>
                <a:tab algn="l" pos="9136080"/>
                <a:tab algn="l" pos="10050480"/>
                <a:tab algn="l" pos="10328400"/>
                <a:tab algn="l" pos="10777680"/>
                <a:tab algn="l" pos="1078056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Вопросы: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1. Какие основные цели всех моделей образования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2.Как называется  модель ДО, где все учащиеся обеспечены учебными материалами и работают самостоятельно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3.По каким двум признакам подразделяются модели ДО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4. При каких условиях возникает необходимость использования сетевого обучения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5. В настоящее время существующая сеть открытого и дистанционного образования в мировой практике базируется на шести известных моделях. Что это за модели?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6.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Какие противоречия в данный момент между моделями ДО?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9" name="AutoShape 2">
            <a:hlinkClick r:id="" action="ppaction://hlinkshowjump?jump=nextslide"/>
          </p:cNvPr>
          <p:cNvSpPr/>
          <p:nvPr/>
        </p:nvSpPr>
        <p:spPr>
          <a:xfrm>
            <a:off x="8101080" y="609300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0" name="AutoShape 3">
            <a:hlinkClick r:id="" action="ppaction://hlinkshowjump?jump=previousslide"/>
          </p:cNvPr>
          <p:cNvSpPr/>
          <p:nvPr/>
        </p:nvSpPr>
        <p:spPr>
          <a:xfrm>
            <a:off x="7164360" y="609300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10800"/>
                </a:moveTo>
                <a:lnTo>
                  <a:pt x="19633" y="3794"/>
                </a:lnTo>
                <a:lnTo>
                  <a:pt x="1963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1" name="AutoShape 4">
            <a:hlinkClick r:id="rId1" action="ppaction://hlinksldjump"/>
          </p:cNvPr>
          <p:cNvSpPr/>
          <p:nvPr/>
        </p:nvSpPr>
        <p:spPr>
          <a:xfrm>
            <a:off x="7667640" y="6093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ransition advTm="10000"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11280" y="1023120"/>
            <a:ext cx="8075520" cy="4970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9840"/>
                <a:tab algn="l" pos="10779120"/>
                <a:tab algn="l" pos="1078056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Литература: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1. Андреев А.А., Троян В.Н. « Основы интернетного обучения».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М.-2003г.стр.18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2. Полат Е.С « Теория и практика дистанционного обучения».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М.-2003г.стр.79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3. Хортон У., Хортон К. « Электронное обучение инструментов и технологий».М.-2000г.стр.22</a:t>
            </a:r>
            <a:br>
              <a:rPr sz="4000"/>
            </a:br>
            <a:br>
              <a:rPr sz="4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4. Хуторской А. В. « Интернет в школе».М.-2000г.стр.58</a:t>
            </a: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5. Хуторской А.В. « На урок Интернет».М.-2000г.стр.93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AutoShape 2">
            <a:hlinkClick r:id="" action="ppaction://hlinkshowjump?jump=nextslide"/>
          </p:cNvPr>
          <p:cNvSpPr/>
          <p:nvPr/>
        </p:nvSpPr>
        <p:spPr>
          <a:xfrm>
            <a:off x="8101080" y="6165720"/>
            <a:ext cx="503280" cy="4302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5266" h="21600">
                <a:moveTo>
                  <a:pt x="0" y="0"/>
                </a:moveTo>
                <a:lnTo>
                  <a:pt x="25266" y="0"/>
                </a:lnTo>
                <a:lnTo>
                  <a:pt x="25266" y="21600"/>
                </a:lnTo>
                <a:lnTo>
                  <a:pt x="0" y="21600"/>
                </a:lnTo>
                <a:close/>
              </a:path>
              <a:path fill="lightenLess" w="25266" h="21600">
                <a:moveTo>
                  <a:pt x="0" y="0"/>
                </a:moveTo>
                <a:lnTo>
                  <a:pt x="25266" y="0"/>
                </a:lnTo>
                <a:lnTo>
                  <a:pt x="23866" y="1400"/>
                </a:lnTo>
                <a:lnTo>
                  <a:pt x="1400" y="1400"/>
                </a:lnTo>
                <a:close/>
              </a:path>
              <a:path fill="darken" w="25266" h="21600">
                <a:moveTo>
                  <a:pt x="25266" y="0"/>
                </a:moveTo>
                <a:lnTo>
                  <a:pt x="25266" y="21600"/>
                </a:lnTo>
                <a:lnTo>
                  <a:pt x="23866" y="20200"/>
                </a:lnTo>
                <a:lnTo>
                  <a:pt x="23866" y="1400"/>
                </a:lnTo>
                <a:close/>
              </a:path>
              <a:path fill="darkenLess" w="25266" h="21600">
                <a:moveTo>
                  <a:pt x="252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66" y="20200"/>
                </a:lnTo>
                <a:close/>
              </a:path>
              <a:path fill="lighten" w="252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66" h="21600">
                <a:moveTo>
                  <a:pt x="5627" y="3794"/>
                </a:moveTo>
                <a:lnTo>
                  <a:pt x="19640" y="10800"/>
                </a:lnTo>
                <a:lnTo>
                  <a:pt x="562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4" name="AutoShape 3">
            <a:hlinkClick r:id="" action="ppaction://hlinkshowjump?jump=previousslide"/>
          </p:cNvPr>
          <p:cNvSpPr/>
          <p:nvPr/>
        </p:nvSpPr>
        <p:spPr>
          <a:xfrm>
            <a:off x="7020000" y="616572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45" name="AutoShape 4">
            <a:hlinkClick r:id="rId1" action="ppaction://hlinksldjump"/>
          </p:cNvPr>
          <p:cNvSpPr/>
          <p:nvPr/>
        </p:nvSpPr>
        <p:spPr>
          <a:xfrm>
            <a:off x="7524720" y="6165720"/>
            <a:ext cx="576360" cy="430200"/>
          </a:xfrm>
          <a:custGeom>
            <a:avLst/>
            <a:gdLst>
              <a:gd name="textAreaLeft" fmla="*/ 27720 w 576360"/>
              <a:gd name="textAreaRight" fmla="*/ 548640 w 576360"/>
              <a:gd name="textAreaTop" fmla="*/ 27720 h 430200"/>
              <a:gd name="textAreaBottom" fmla="*/ 402480 h 430200"/>
            </a:gdLst>
            <a:ahLst/>
            <a:rect l="textAreaLeft" t="textAreaTop" r="textAreaRight" b="textAreaBottom"/>
            <a:pathLst>
              <a:path w="28932" h="21600">
                <a:moveTo>
                  <a:pt x="0" y="0"/>
                </a:moveTo>
                <a:lnTo>
                  <a:pt x="28932" y="0"/>
                </a:lnTo>
                <a:lnTo>
                  <a:pt x="28932" y="21600"/>
                </a:lnTo>
                <a:lnTo>
                  <a:pt x="0" y="21600"/>
                </a:lnTo>
                <a:close/>
              </a:path>
              <a:path fill="lightenLess" w="28932" h="21600">
                <a:moveTo>
                  <a:pt x="0" y="0"/>
                </a:moveTo>
                <a:lnTo>
                  <a:pt x="28932" y="0"/>
                </a:lnTo>
                <a:lnTo>
                  <a:pt x="27532" y="1400"/>
                </a:lnTo>
                <a:lnTo>
                  <a:pt x="1400" y="1400"/>
                </a:lnTo>
                <a:close/>
              </a:path>
              <a:path fill="darken" w="28932" h="21600">
                <a:moveTo>
                  <a:pt x="28932" y="0"/>
                </a:moveTo>
                <a:lnTo>
                  <a:pt x="28932" y="21600"/>
                </a:lnTo>
                <a:lnTo>
                  <a:pt x="27532" y="20200"/>
                </a:lnTo>
                <a:lnTo>
                  <a:pt x="27532" y="1400"/>
                </a:lnTo>
                <a:close/>
              </a:path>
              <a:path fill="darkenLess" w="28932" h="21600">
                <a:moveTo>
                  <a:pt x="28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532" y="20200"/>
                </a:lnTo>
                <a:close/>
              </a:path>
              <a:path fill="lighten" w="28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932" h="21600">
                <a:moveTo>
                  <a:pt x="14466" y="3837"/>
                </a:moveTo>
                <a:lnTo>
                  <a:pt x="17043" y="6448"/>
                </a:lnTo>
                <a:lnTo>
                  <a:pt x="17043" y="4707"/>
                </a:lnTo>
                <a:lnTo>
                  <a:pt x="18818" y="4707"/>
                </a:lnTo>
                <a:lnTo>
                  <a:pt x="18818" y="8224"/>
                </a:lnTo>
                <a:lnTo>
                  <a:pt x="21429" y="10800"/>
                </a:lnTo>
                <a:lnTo>
                  <a:pt x="19775" y="10800"/>
                </a:lnTo>
                <a:lnTo>
                  <a:pt x="19775" y="17989"/>
                </a:lnTo>
                <a:lnTo>
                  <a:pt x="9157" y="17989"/>
                </a:lnTo>
                <a:lnTo>
                  <a:pt x="9157" y="10800"/>
                </a:lnTo>
                <a:lnTo>
                  <a:pt x="7503" y="10800"/>
                </a:lnTo>
                <a:close/>
              </a:path>
              <a:path fill="darkenLess" w="28932" h="21600">
                <a:moveTo>
                  <a:pt x="17043" y="6448"/>
                </a:moveTo>
                <a:lnTo>
                  <a:pt x="17043" y="4707"/>
                </a:lnTo>
                <a:lnTo>
                  <a:pt x="18818" y="4707"/>
                </a:lnTo>
                <a:lnTo>
                  <a:pt x="18818" y="8224"/>
                </a:lnTo>
                <a:close/>
              </a:path>
              <a:path fill="darkenLess" w="28932" h="21600">
                <a:moveTo>
                  <a:pt x="13544" y="14299"/>
                </a:moveTo>
                <a:lnTo>
                  <a:pt x="15389" y="14299"/>
                </a:lnTo>
                <a:lnTo>
                  <a:pt x="15389" y="17989"/>
                </a:lnTo>
                <a:lnTo>
                  <a:pt x="19775" y="17989"/>
                </a:lnTo>
                <a:lnTo>
                  <a:pt x="19775" y="10800"/>
                </a:lnTo>
                <a:lnTo>
                  <a:pt x="9157" y="10800"/>
                </a:lnTo>
                <a:lnTo>
                  <a:pt x="9157" y="17989"/>
                </a:lnTo>
                <a:lnTo>
                  <a:pt x="1354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1000440"/>
            <a:ext cx="9144000" cy="466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956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Говоря о вариантах дистанционного обучения, мы имеем в виду его возможные модели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Нас интересуют возможные модели дистанционного обучения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по двум признакам: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по организации дистанционной          по организации учебного процесса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 системы образования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В настоящее время существующая сеть открытого и дистанционного образования в мировой практике базируется на шести известных моделях.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AutoShape 2"/>
          <p:cNvSpPr/>
          <p:nvPr/>
        </p:nvSpPr>
        <p:spPr>
          <a:xfrm>
            <a:off x="1209600" y="3165480"/>
            <a:ext cx="486000" cy="504720"/>
          </a:xfrm>
          <a:prstGeom prst="downArrow">
            <a:avLst>
              <a:gd name="adj1" fmla="val 50000"/>
              <a:gd name="adj2" fmla="val 25963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6419880" y="3211560"/>
            <a:ext cx="485640" cy="504720"/>
          </a:xfrm>
          <a:prstGeom prst="downArrow">
            <a:avLst>
              <a:gd name="adj1" fmla="val 50000"/>
              <a:gd name="adj2" fmla="val 25982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0" name="AutoShape 4">
            <a:hlinkClick r:id="" action="ppaction://hlinkshowjump?jump=nextslide"/>
          </p:cNvPr>
          <p:cNvSpPr/>
          <p:nvPr/>
        </p:nvSpPr>
        <p:spPr>
          <a:xfrm>
            <a:off x="766764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3839" y="3794"/>
                </a:moveTo>
                <a:lnTo>
                  <a:pt x="17851" y="10800"/>
                </a:lnTo>
                <a:lnTo>
                  <a:pt x="383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1" name="AutoShape 5">
            <a:hlinkClick r:id="" action="ppaction://hlinkshowjump?jump=previousslide"/>
          </p:cNvPr>
          <p:cNvSpPr/>
          <p:nvPr/>
        </p:nvSpPr>
        <p:spPr>
          <a:xfrm>
            <a:off x="6732720" y="6237360"/>
            <a:ext cx="431640" cy="422280"/>
          </a:xfrm>
          <a:custGeom>
            <a:avLst/>
            <a:gdLst>
              <a:gd name="textAreaLeft" fmla="*/ 27360 w 431640"/>
              <a:gd name="textAreaRight" fmla="*/ 404280 w 43164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2078" h="21600">
                <a:moveTo>
                  <a:pt x="0" y="0"/>
                </a:moveTo>
                <a:lnTo>
                  <a:pt x="22078" y="0"/>
                </a:lnTo>
                <a:lnTo>
                  <a:pt x="22078" y="21600"/>
                </a:lnTo>
                <a:lnTo>
                  <a:pt x="0" y="21600"/>
                </a:lnTo>
                <a:close/>
              </a:path>
              <a:path fill="lightenLess" w="22078" h="21600">
                <a:moveTo>
                  <a:pt x="0" y="0"/>
                </a:moveTo>
                <a:lnTo>
                  <a:pt x="22078" y="0"/>
                </a:lnTo>
                <a:lnTo>
                  <a:pt x="20678" y="1400"/>
                </a:lnTo>
                <a:lnTo>
                  <a:pt x="1400" y="1400"/>
                </a:lnTo>
                <a:close/>
              </a:path>
              <a:path fill="darken" w="22078" h="21600">
                <a:moveTo>
                  <a:pt x="22078" y="0"/>
                </a:moveTo>
                <a:lnTo>
                  <a:pt x="22078" y="21600"/>
                </a:lnTo>
                <a:lnTo>
                  <a:pt x="20678" y="20200"/>
                </a:lnTo>
                <a:lnTo>
                  <a:pt x="20678" y="1400"/>
                </a:lnTo>
                <a:close/>
              </a:path>
              <a:path fill="darkenLess" w="22078" h="21600">
                <a:moveTo>
                  <a:pt x="220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78" y="20200"/>
                </a:lnTo>
                <a:close/>
              </a:path>
              <a:path fill="lighten" w="220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78" h="21600">
                <a:moveTo>
                  <a:pt x="4033" y="10800"/>
                </a:moveTo>
                <a:lnTo>
                  <a:pt x="18046" y="3794"/>
                </a:lnTo>
                <a:lnTo>
                  <a:pt x="1804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2" name="AutoShape 6">
            <a:hlinkClick r:id="" action="ppaction://hlinkshowjump?jump=firstslide"/>
          </p:cNvPr>
          <p:cNvSpPr/>
          <p:nvPr/>
        </p:nvSpPr>
        <p:spPr>
          <a:xfrm>
            <a:off x="7164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12591" y="3837"/>
                </a:moveTo>
                <a:lnTo>
                  <a:pt x="15167" y="6448"/>
                </a:ln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lnTo>
                  <a:pt x="19554" y="10800"/>
                </a:lnTo>
                <a:lnTo>
                  <a:pt x="17900" y="10800"/>
                </a:lnTo>
                <a:lnTo>
                  <a:pt x="17900" y="17989"/>
                </a:lnTo>
                <a:lnTo>
                  <a:pt x="7282" y="17989"/>
                </a:lnTo>
                <a:lnTo>
                  <a:pt x="7282" y="10800"/>
                </a:lnTo>
                <a:lnTo>
                  <a:pt x="5628" y="10800"/>
                </a:lnTo>
                <a:close/>
              </a:path>
              <a:path fill="darkenLess" w="25182" h="21600">
                <a:moveTo>
                  <a:pt x="15167" y="6448"/>
                </a:moveTo>
                <a:lnTo>
                  <a:pt x="15167" y="4707"/>
                </a:lnTo>
                <a:lnTo>
                  <a:pt x="16943" y="4707"/>
                </a:lnTo>
                <a:lnTo>
                  <a:pt x="16943" y="8224"/>
                </a:lnTo>
                <a:close/>
              </a:path>
              <a:path fill="darkenLess" w="25182" h="21600">
                <a:moveTo>
                  <a:pt x="11668" y="14299"/>
                </a:moveTo>
                <a:lnTo>
                  <a:pt x="13514" y="14299"/>
                </a:lnTo>
                <a:lnTo>
                  <a:pt x="13514" y="17989"/>
                </a:lnTo>
                <a:lnTo>
                  <a:pt x="17900" y="17989"/>
                </a:lnTo>
                <a:lnTo>
                  <a:pt x="17900" y="10800"/>
                </a:lnTo>
                <a:lnTo>
                  <a:pt x="7282" y="10800"/>
                </a:lnTo>
                <a:lnTo>
                  <a:pt x="7282" y="17989"/>
                </a:lnTo>
                <a:lnTo>
                  <a:pt x="11668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280" y="2467800"/>
            <a:ext cx="8964720" cy="192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Обучение, ориентированное на школьные или вузовские </a:t>
            </a: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(экзаменационные) требования, предназначается для   учащихся и студентов, которые по каким-то причинам  не могут посещать очные учебные заведения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AutoShape 2">
            <a:hlinkClick r:id="" action="ppaction://hlinkshowjump?jump=nextslide"/>
          </p:cNvPr>
          <p:cNvSpPr/>
          <p:nvPr/>
        </p:nvSpPr>
        <p:spPr>
          <a:xfrm>
            <a:off x="802800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3794"/>
                </a:moveTo>
                <a:lnTo>
                  <a:pt x="22086" y="10800"/>
                </a:lnTo>
                <a:lnTo>
                  <a:pt x="807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5" name="AutoShape 3">
            <a:hlinkClick r:id="" action="ppaction://hlinkshowjump?jump=previousslide"/>
          </p:cNvPr>
          <p:cNvSpPr/>
          <p:nvPr/>
        </p:nvSpPr>
        <p:spPr>
          <a:xfrm>
            <a:off x="702000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10800"/>
                </a:moveTo>
                <a:lnTo>
                  <a:pt x="22086" y="3794"/>
                </a:lnTo>
                <a:lnTo>
                  <a:pt x="2208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6" name="AutoShape 4">
            <a:hlinkClick r:id="rId1" action="ppaction://hlinksldjump"/>
          </p:cNvPr>
          <p:cNvSpPr/>
          <p:nvPr/>
        </p:nvSpPr>
        <p:spPr>
          <a:xfrm>
            <a:off x="7524720" y="623736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15079" y="3837"/>
                </a:moveTo>
                <a:lnTo>
                  <a:pt x="17655" y="6448"/>
                </a:ln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lnTo>
                  <a:pt x="22042" y="10800"/>
                </a:lnTo>
                <a:lnTo>
                  <a:pt x="20388" y="10800"/>
                </a:lnTo>
                <a:lnTo>
                  <a:pt x="20388" y="17989"/>
                </a:lnTo>
                <a:lnTo>
                  <a:pt x="9770" y="17989"/>
                </a:lnTo>
                <a:lnTo>
                  <a:pt x="9770" y="10800"/>
                </a:lnTo>
                <a:lnTo>
                  <a:pt x="8116" y="10800"/>
                </a:lnTo>
                <a:close/>
              </a:path>
              <a:path fill="darkenLess" w="30158" h="21600">
                <a:moveTo>
                  <a:pt x="17655" y="6448"/>
                </a:moveTo>
                <a:lnTo>
                  <a:pt x="17655" y="4707"/>
                </a:lnTo>
                <a:lnTo>
                  <a:pt x="19431" y="4707"/>
                </a:lnTo>
                <a:lnTo>
                  <a:pt x="19431" y="8224"/>
                </a:lnTo>
                <a:close/>
              </a:path>
              <a:path fill="darkenLess" w="30158" h="21600">
                <a:moveTo>
                  <a:pt x="14156" y="14299"/>
                </a:moveTo>
                <a:lnTo>
                  <a:pt x="16002" y="14299"/>
                </a:lnTo>
                <a:lnTo>
                  <a:pt x="16002" y="17989"/>
                </a:lnTo>
                <a:lnTo>
                  <a:pt x="20388" y="17989"/>
                </a:lnTo>
                <a:lnTo>
                  <a:pt x="20388" y="10800"/>
                </a:lnTo>
                <a:lnTo>
                  <a:pt x="9770" y="10800"/>
                </a:lnTo>
                <a:lnTo>
                  <a:pt x="9770" y="17989"/>
                </a:lnTo>
                <a:lnTo>
                  <a:pt x="14156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7" name="AutoShape 6"/>
          <p:cNvSpPr/>
          <p:nvPr/>
        </p:nvSpPr>
        <p:spPr>
          <a:xfrm>
            <a:off x="611280" y="620640"/>
            <a:ext cx="8064360" cy="1944720"/>
          </a:xfrm>
          <a:custGeom>
            <a:avLst/>
            <a:gdLst>
              <a:gd name="textAreaLeft" fmla="*/ 0 w 8064360"/>
              <a:gd name="textAreaRight" fmla="*/ 8064720 w 8064360"/>
              <a:gd name="textAreaTop" fmla="*/ 252000 h 1944720"/>
              <a:gd name="textAreaBottom" fmla="*/ 16927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1. Обучение по типу экстерната</a:t>
            </a:r>
            <a:br>
              <a:rPr sz="2000"/>
            </a:b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1557000"/>
            <a:ext cx="84582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Это уже целая система обучения для студентов, которые обуча-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ются не очно (on-campus), а на расстоянии, дистанционно. Обучение проводится с широким использованием новых информацион-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ных технологий, включая компьютерные телекоммуникации (off-</a:t>
            </a: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campus), аудио- и видеокассеты.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AutoShape 2">
            <a:hlinkClick r:id="rId1" action="ppaction://hlinksldjump"/>
          </p:cNvPr>
          <p:cNvSpPr/>
          <p:nvPr/>
        </p:nvSpPr>
        <p:spPr>
          <a:xfrm>
            <a:off x="752472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12616" y="3837"/>
                </a:moveTo>
                <a:lnTo>
                  <a:pt x="15193" y="6448"/>
                </a:ln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lnTo>
                  <a:pt x="19579" y="10800"/>
                </a:lnTo>
                <a:lnTo>
                  <a:pt x="17926" y="10800"/>
                </a:lnTo>
                <a:lnTo>
                  <a:pt x="17926" y="17989"/>
                </a:lnTo>
                <a:lnTo>
                  <a:pt x="7307" y="17989"/>
                </a:lnTo>
                <a:lnTo>
                  <a:pt x="7307" y="10800"/>
                </a:lnTo>
                <a:lnTo>
                  <a:pt x="5654" y="10800"/>
                </a:lnTo>
                <a:close/>
              </a:path>
              <a:path fill="darkenLess" w="25233" h="21600">
                <a:moveTo>
                  <a:pt x="15193" y="6448"/>
                </a:moveTo>
                <a:lnTo>
                  <a:pt x="15193" y="4707"/>
                </a:lnTo>
                <a:lnTo>
                  <a:pt x="16968" y="4707"/>
                </a:lnTo>
                <a:lnTo>
                  <a:pt x="16968" y="8224"/>
                </a:lnTo>
                <a:close/>
              </a:path>
              <a:path fill="darkenLess" w="25233" h="21600">
                <a:moveTo>
                  <a:pt x="11694" y="14299"/>
                </a:moveTo>
                <a:lnTo>
                  <a:pt x="13539" y="14299"/>
                </a:lnTo>
                <a:lnTo>
                  <a:pt x="13539" y="17989"/>
                </a:lnTo>
                <a:lnTo>
                  <a:pt x="17926" y="17989"/>
                </a:lnTo>
                <a:lnTo>
                  <a:pt x="17926" y="10800"/>
                </a:lnTo>
                <a:lnTo>
                  <a:pt x="7307" y="10800"/>
                </a:lnTo>
                <a:lnTo>
                  <a:pt x="7307" y="17989"/>
                </a:lnTo>
                <a:lnTo>
                  <a:pt x="1169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0" name="AutoShape 3">
            <a:hlinkClick r:id="" action="ppaction://hlinkshowjump?jump=previousslide"/>
          </p:cNvPr>
          <p:cNvSpPr/>
          <p:nvPr/>
        </p:nvSpPr>
        <p:spPr>
          <a:xfrm>
            <a:off x="7020000" y="6021360"/>
            <a:ext cx="504720" cy="43200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233" h="21600">
                <a:moveTo>
                  <a:pt x="0" y="0"/>
                </a:moveTo>
                <a:lnTo>
                  <a:pt x="25233" y="0"/>
                </a:lnTo>
                <a:lnTo>
                  <a:pt x="25233" y="21600"/>
                </a:lnTo>
                <a:lnTo>
                  <a:pt x="0" y="21600"/>
                </a:lnTo>
                <a:close/>
              </a:path>
              <a:path fill="lightenLess" w="25233" h="21600">
                <a:moveTo>
                  <a:pt x="0" y="0"/>
                </a:moveTo>
                <a:lnTo>
                  <a:pt x="25233" y="0"/>
                </a:lnTo>
                <a:lnTo>
                  <a:pt x="23833" y="1400"/>
                </a:lnTo>
                <a:lnTo>
                  <a:pt x="1400" y="1400"/>
                </a:lnTo>
                <a:close/>
              </a:path>
              <a:path fill="darken" w="25233" h="21600">
                <a:moveTo>
                  <a:pt x="25233" y="0"/>
                </a:moveTo>
                <a:lnTo>
                  <a:pt x="25233" y="21600"/>
                </a:lnTo>
                <a:lnTo>
                  <a:pt x="23833" y="20200"/>
                </a:lnTo>
                <a:lnTo>
                  <a:pt x="23833" y="1400"/>
                </a:lnTo>
                <a:close/>
              </a:path>
              <a:path fill="darkenLess" w="25233" h="21600">
                <a:moveTo>
                  <a:pt x="252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33" y="20200"/>
                </a:lnTo>
                <a:close/>
              </a:path>
              <a:path fill="lighten" w="252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33" h="21600">
                <a:moveTo>
                  <a:pt x="5610" y="10800"/>
                </a:moveTo>
                <a:lnTo>
                  <a:pt x="19623" y="3794"/>
                </a:lnTo>
                <a:lnTo>
                  <a:pt x="1962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1" name="AutoShape 4">
            <a:hlinkClick r:id="" action="ppaction://hlinkshowjump?jump=nextslide"/>
          </p:cNvPr>
          <p:cNvSpPr/>
          <p:nvPr/>
        </p:nvSpPr>
        <p:spPr>
          <a:xfrm>
            <a:off x="8028000" y="6021360"/>
            <a:ext cx="503280" cy="422280"/>
          </a:xfrm>
          <a:custGeom>
            <a:avLst/>
            <a:gdLst>
              <a:gd name="textAreaLeft" fmla="*/ 27360 w 503280"/>
              <a:gd name="textAreaRight" fmla="*/ 475920 w 5032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740" h="21600">
                <a:moveTo>
                  <a:pt x="0" y="0"/>
                </a:moveTo>
                <a:lnTo>
                  <a:pt x="25740" y="0"/>
                </a:lnTo>
                <a:lnTo>
                  <a:pt x="25740" y="21600"/>
                </a:lnTo>
                <a:lnTo>
                  <a:pt x="0" y="21600"/>
                </a:lnTo>
                <a:close/>
              </a:path>
              <a:path fill="lightenLess" w="25740" h="21600">
                <a:moveTo>
                  <a:pt x="0" y="0"/>
                </a:moveTo>
                <a:lnTo>
                  <a:pt x="25740" y="0"/>
                </a:lnTo>
                <a:lnTo>
                  <a:pt x="24340" y="1400"/>
                </a:lnTo>
                <a:lnTo>
                  <a:pt x="1400" y="1400"/>
                </a:lnTo>
                <a:close/>
              </a:path>
              <a:path fill="darken" w="25740" h="21600">
                <a:moveTo>
                  <a:pt x="25740" y="0"/>
                </a:moveTo>
                <a:lnTo>
                  <a:pt x="25740" y="21600"/>
                </a:lnTo>
                <a:lnTo>
                  <a:pt x="24340" y="20200"/>
                </a:lnTo>
                <a:lnTo>
                  <a:pt x="24340" y="1400"/>
                </a:lnTo>
                <a:close/>
              </a:path>
              <a:path fill="darkenLess" w="25740" h="21600">
                <a:moveTo>
                  <a:pt x="257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40" y="20200"/>
                </a:lnTo>
                <a:close/>
              </a:path>
              <a:path fill="lighten" w="257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40" h="21600">
                <a:moveTo>
                  <a:pt x="5863" y="3794"/>
                </a:moveTo>
                <a:lnTo>
                  <a:pt x="19876" y="10800"/>
                </a:lnTo>
                <a:lnTo>
                  <a:pt x="586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82" name="Picture 5" descr=""/>
          <p:cNvPicPr/>
          <p:nvPr/>
        </p:nvPicPr>
        <p:blipFill>
          <a:blip r:embed="rId2"/>
          <a:stretch/>
        </p:blipFill>
        <p:spPr>
          <a:xfrm>
            <a:off x="4572000" y="4797360"/>
            <a:ext cx="2160720" cy="1728720"/>
          </a:xfrm>
          <a:prstGeom prst="rect">
            <a:avLst/>
          </a:prstGeom>
          <a:ln w="0">
            <a:noFill/>
          </a:ln>
        </p:spPr>
      </p:pic>
      <p:sp>
        <p:nvSpPr>
          <p:cNvPr id="183" name="AutoShape 7"/>
          <p:cNvSpPr/>
          <p:nvPr/>
        </p:nvSpPr>
        <p:spPr>
          <a:xfrm>
            <a:off x="395280" y="189000"/>
            <a:ext cx="8207280" cy="2736720"/>
          </a:xfrm>
          <a:custGeom>
            <a:avLst/>
            <a:gdLst>
              <a:gd name="textAreaLeft" fmla="*/ 0 w 8207280"/>
              <a:gd name="textAreaRight" fmla="*/ 8207640 w 8207280"/>
              <a:gd name="textAreaTop" fmla="*/ 354600 h 2736720"/>
              <a:gd name="textAreaBottom" fmla="*/ 23821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2. Университетское обучение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(на базе одного университета)</a:t>
            </a:r>
            <a:br>
              <a:rPr sz="2000"/>
            </a:b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242800"/>
            <a:ext cx="896472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1800"/>
            </a:br>
            <a:r>
              <a:rPr b="0" lang="en-GB" sz="1800" spc="-1" strike="noStrike">
                <a:solidFill>
                  <a:srgbClr val="ccecff"/>
                </a:solidFill>
                <a:latin typeface="Arial"/>
              </a:rPr>
              <a:t>Сотрудничество нескольких образовательных организаций в подготовке программ дистанционного обучения позволяет сделать их более профессионально качественными и менее дорогостоящими. Примером подобного сотрудничества, как в разработке, так и в использовании такого рода программ, может служить программа «Содружество в образовании» (Common­wealth of education, 1992).</a:t>
            </a:r>
            <a:endParaRPr b="0" lang="en-US" sz="1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AutoShape 2">
            <a:hlinkClick r:id="" action="ppaction://hlinkshowjump?jump=nextslide"/>
          </p:cNvPr>
          <p:cNvSpPr/>
          <p:nvPr/>
        </p:nvSpPr>
        <p:spPr>
          <a:xfrm>
            <a:off x="8388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3794"/>
                </a:moveTo>
                <a:lnTo>
                  <a:pt x="19242" y="10800"/>
                </a:lnTo>
                <a:lnTo>
                  <a:pt x="5229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6" name="AutoShape 3">
            <a:hlinkClick r:id="" action="ppaction://hlinkshowjump?jump=previousslide"/>
          </p:cNvPr>
          <p:cNvSpPr/>
          <p:nvPr/>
        </p:nvSpPr>
        <p:spPr>
          <a:xfrm>
            <a:off x="7380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7" name="AutoShape 4">
            <a:hlinkClick r:id="rId1" action="ppaction://hlinksldjump"/>
          </p:cNvPr>
          <p:cNvSpPr/>
          <p:nvPr/>
        </p:nvSpPr>
        <p:spPr>
          <a:xfrm>
            <a:off x="7885080" y="6364440"/>
            <a:ext cx="503280" cy="493560"/>
          </a:xfrm>
          <a:custGeom>
            <a:avLst/>
            <a:gdLst>
              <a:gd name="textAreaLeft" fmla="*/ 31680 w 503280"/>
              <a:gd name="textAreaRight" fmla="*/ 471600 w 503280"/>
              <a:gd name="textAreaTop" fmla="*/ 31680 h 493560"/>
              <a:gd name="textAreaBottom" fmla="*/ 461880 h 493560"/>
            </a:gdLst>
            <a:ahLst/>
            <a:rect l="textAreaLeft" t="textAreaTop" r="textAreaRight" b="textAreaBottom"/>
            <a:pathLst>
              <a:path w="22025" h="21600">
                <a:moveTo>
                  <a:pt x="0" y="0"/>
                </a:moveTo>
                <a:lnTo>
                  <a:pt x="22025" y="0"/>
                </a:lnTo>
                <a:lnTo>
                  <a:pt x="22025" y="21600"/>
                </a:lnTo>
                <a:lnTo>
                  <a:pt x="0" y="21600"/>
                </a:lnTo>
                <a:close/>
              </a:path>
              <a:path fill="lightenLess" w="22025" h="21600">
                <a:moveTo>
                  <a:pt x="0" y="0"/>
                </a:moveTo>
                <a:lnTo>
                  <a:pt x="22025" y="0"/>
                </a:lnTo>
                <a:lnTo>
                  <a:pt x="20625" y="1400"/>
                </a:lnTo>
                <a:lnTo>
                  <a:pt x="1400" y="1400"/>
                </a:lnTo>
                <a:close/>
              </a:path>
              <a:path fill="darken" w="22025" h="21600">
                <a:moveTo>
                  <a:pt x="22025" y="0"/>
                </a:moveTo>
                <a:lnTo>
                  <a:pt x="22025" y="21600"/>
                </a:lnTo>
                <a:lnTo>
                  <a:pt x="20625" y="20200"/>
                </a:lnTo>
                <a:lnTo>
                  <a:pt x="20625" y="1400"/>
                </a:lnTo>
                <a:close/>
              </a:path>
              <a:path fill="darkenLess" w="22025" h="21600">
                <a:moveTo>
                  <a:pt x="220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625" y="20200"/>
                </a:lnTo>
                <a:close/>
              </a:path>
              <a:path fill="lighten" w="220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025" h="21600">
                <a:moveTo>
                  <a:pt x="11013" y="3837"/>
                </a:moveTo>
                <a:lnTo>
                  <a:pt x="13589" y="6448"/>
                </a:lnTo>
                <a:lnTo>
                  <a:pt x="13589" y="4707"/>
                </a:lnTo>
                <a:lnTo>
                  <a:pt x="15364" y="4707"/>
                </a:lnTo>
                <a:lnTo>
                  <a:pt x="15364" y="8224"/>
                </a:lnTo>
                <a:lnTo>
                  <a:pt x="17975" y="10800"/>
                </a:lnTo>
                <a:lnTo>
                  <a:pt x="16322" y="10800"/>
                </a:lnTo>
                <a:lnTo>
                  <a:pt x="16322" y="17989"/>
                </a:lnTo>
                <a:lnTo>
                  <a:pt x="5703" y="17989"/>
                </a:lnTo>
                <a:lnTo>
                  <a:pt x="5703" y="10800"/>
                </a:lnTo>
                <a:lnTo>
                  <a:pt x="4050" y="10800"/>
                </a:lnTo>
                <a:close/>
              </a:path>
              <a:path fill="darkenLess" w="22025" h="21600">
                <a:moveTo>
                  <a:pt x="13589" y="6448"/>
                </a:moveTo>
                <a:lnTo>
                  <a:pt x="13589" y="4707"/>
                </a:lnTo>
                <a:lnTo>
                  <a:pt x="15364" y="4707"/>
                </a:lnTo>
                <a:lnTo>
                  <a:pt x="15364" y="8224"/>
                </a:lnTo>
                <a:close/>
              </a:path>
              <a:path fill="darkenLess" w="22025" h="21600">
                <a:moveTo>
                  <a:pt x="10090" y="14299"/>
                </a:moveTo>
                <a:lnTo>
                  <a:pt x="11935" y="14299"/>
                </a:lnTo>
                <a:lnTo>
                  <a:pt x="11935" y="17989"/>
                </a:lnTo>
                <a:lnTo>
                  <a:pt x="16322" y="17989"/>
                </a:lnTo>
                <a:lnTo>
                  <a:pt x="16322" y="10800"/>
                </a:lnTo>
                <a:lnTo>
                  <a:pt x="5703" y="10800"/>
                </a:lnTo>
                <a:lnTo>
                  <a:pt x="5703" y="17989"/>
                </a:lnTo>
                <a:lnTo>
                  <a:pt x="10090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324000" y="115920"/>
            <a:ext cx="8351640" cy="2736720"/>
          </a:xfrm>
          <a:custGeom>
            <a:avLst/>
            <a:gdLst>
              <a:gd name="textAreaLeft" fmla="*/ 0 w 8351640"/>
              <a:gd name="textAreaRight" fmla="*/ 8352000 w 8351640"/>
              <a:gd name="textAreaTop" fmla="*/ 354600 h 2736720"/>
              <a:gd name="textAreaBottom" fmla="*/ 2382120 h 27367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3. Обучение, основанное на сотрудничестве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нескольких учебных заведений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445480"/>
            <a:ext cx="914400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Специально созданные для целей дистанционного обучения образовательные учреждения ориентированы на разработку мультимедийных курсов. В их компетенцию входят также оценка знаний и аттестация обучаемых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AutoShape 2">
            <a:hlinkClick r:id="" action="ppaction://hlinkshowjump?jump=nextslide"/>
          </p:cNvPr>
          <p:cNvSpPr/>
          <p:nvPr/>
        </p:nvSpPr>
        <p:spPr>
          <a:xfrm>
            <a:off x="824400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1" name="AutoShape 3">
            <a:hlinkClick r:id="" action="ppaction://hlinkshowjump?jump=previousslide"/>
          </p:cNvPr>
          <p:cNvSpPr/>
          <p:nvPr/>
        </p:nvSpPr>
        <p:spPr>
          <a:xfrm>
            <a:off x="730872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10800"/>
                </a:moveTo>
                <a:lnTo>
                  <a:pt x="19597" y="3794"/>
                </a:lnTo>
                <a:lnTo>
                  <a:pt x="1959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7812000" y="6237360"/>
            <a:ext cx="433440" cy="431640"/>
          </a:xfrm>
          <a:custGeom>
            <a:avLst/>
            <a:gdLst>
              <a:gd name="textAreaLeft" fmla="*/ 27720 w 433440"/>
              <a:gd name="textAreaRight" fmla="*/ 405720 w 4334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90" h="21600">
                <a:moveTo>
                  <a:pt x="0" y="0"/>
                </a:moveTo>
                <a:lnTo>
                  <a:pt x="21690" y="0"/>
                </a:lnTo>
                <a:lnTo>
                  <a:pt x="21690" y="21600"/>
                </a:lnTo>
                <a:lnTo>
                  <a:pt x="0" y="21600"/>
                </a:lnTo>
                <a:close/>
              </a:path>
              <a:path fill="lightenLess" w="21690" h="21600">
                <a:moveTo>
                  <a:pt x="0" y="0"/>
                </a:moveTo>
                <a:lnTo>
                  <a:pt x="21690" y="0"/>
                </a:lnTo>
                <a:lnTo>
                  <a:pt x="20290" y="1400"/>
                </a:lnTo>
                <a:lnTo>
                  <a:pt x="1400" y="1400"/>
                </a:lnTo>
                <a:close/>
              </a:path>
              <a:path fill="darken" w="21690" h="21600">
                <a:moveTo>
                  <a:pt x="21690" y="0"/>
                </a:moveTo>
                <a:lnTo>
                  <a:pt x="21690" y="21600"/>
                </a:lnTo>
                <a:lnTo>
                  <a:pt x="20290" y="20200"/>
                </a:lnTo>
                <a:lnTo>
                  <a:pt x="20290" y="1400"/>
                </a:lnTo>
                <a:close/>
              </a:path>
              <a:path fill="darkenLess" w="21690" h="21600">
                <a:moveTo>
                  <a:pt x="21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90" y="20200"/>
                </a:lnTo>
                <a:close/>
              </a:path>
              <a:path fill="lighten" w="21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90" h="21600">
                <a:moveTo>
                  <a:pt x="10845" y="3837"/>
                </a:moveTo>
                <a:lnTo>
                  <a:pt x="13421" y="6448"/>
                </a:ln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lnTo>
                  <a:pt x="17808" y="10800"/>
                </a:lnTo>
                <a:lnTo>
                  <a:pt x="16154" y="10800"/>
                </a:lnTo>
                <a:lnTo>
                  <a:pt x="16154" y="17989"/>
                </a:lnTo>
                <a:lnTo>
                  <a:pt x="5536" y="17989"/>
                </a:lnTo>
                <a:lnTo>
                  <a:pt x="5536" y="10800"/>
                </a:lnTo>
                <a:lnTo>
                  <a:pt x="3882" y="10800"/>
                </a:lnTo>
                <a:close/>
              </a:path>
              <a:path fill="darkenLess" w="21690" h="21600">
                <a:moveTo>
                  <a:pt x="13421" y="6448"/>
                </a:moveTo>
                <a:lnTo>
                  <a:pt x="13421" y="4707"/>
                </a:lnTo>
                <a:lnTo>
                  <a:pt x="15197" y="4707"/>
                </a:lnTo>
                <a:lnTo>
                  <a:pt x="15197" y="8224"/>
                </a:lnTo>
                <a:close/>
              </a:path>
              <a:path fill="darkenLess" w="21690" h="21600">
                <a:moveTo>
                  <a:pt x="9922" y="14299"/>
                </a:moveTo>
                <a:lnTo>
                  <a:pt x="11768" y="14299"/>
                </a:lnTo>
                <a:lnTo>
                  <a:pt x="11768" y="17989"/>
                </a:lnTo>
                <a:lnTo>
                  <a:pt x="16154" y="17989"/>
                </a:lnTo>
                <a:lnTo>
                  <a:pt x="16154" y="10800"/>
                </a:lnTo>
                <a:lnTo>
                  <a:pt x="5536" y="10800"/>
                </a:lnTo>
                <a:lnTo>
                  <a:pt x="5536" y="17989"/>
                </a:lnTo>
                <a:lnTo>
                  <a:pt x="9922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468360" y="260280"/>
            <a:ext cx="8280360" cy="2449440"/>
          </a:xfrm>
          <a:custGeom>
            <a:avLst/>
            <a:gdLst>
              <a:gd name="textAreaLeft" fmla="*/ 0 w 8280360"/>
              <a:gd name="textAreaRight" fmla="*/ 8280720 w 8280360"/>
              <a:gd name="textAreaTop" fmla="*/ 317520 h 2449440"/>
              <a:gd name="textAreaBottom" fmla="*/ 2131920 h 2449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4. Обучение в специализированных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образовательных учреждениях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360" y="3428280"/>
            <a:ext cx="820728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Традиционно в зарубежной практике эту модель также относят дистанционной модели обучения, хотя,  она может  считаться дистанционной только в той ее части, которая просматривает Two-way TV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AutoShape 2">
            <a:hlinkClick r:id="" action="ppaction://hlinkshowjump?jump=nextslide"/>
          </p:cNvPr>
          <p:cNvSpPr/>
          <p:nvPr/>
        </p:nvSpPr>
        <p:spPr>
          <a:xfrm>
            <a:off x="8388360" y="6165720"/>
            <a:ext cx="504720" cy="433440"/>
          </a:xfrm>
          <a:custGeom>
            <a:avLst/>
            <a:gdLst>
              <a:gd name="textAreaLeft" fmla="*/ 28080 w 504720"/>
              <a:gd name="textAreaRight" fmla="*/ 476640 w 50472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5149" h="21600">
                <a:moveTo>
                  <a:pt x="0" y="0"/>
                </a:moveTo>
                <a:lnTo>
                  <a:pt x="25149" y="0"/>
                </a:lnTo>
                <a:lnTo>
                  <a:pt x="25149" y="21600"/>
                </a:lnTo>
                <a:lnTo>
                  <a:pt x="0" y="21600"/>
                </a:lnTo>
                <a:close/>
              </a:path>
              <a:path fill="lightenLess" w="25149" h="21600">
                <a:moveTo>
                  <a:pt x="0" y="0"/>
                </a:moveTo>
                <a:lnTo>
                  <a:pt x="25149" y="0"/>
                </a:lnTo>
                <a:lnTo>
                  <a:pt x="23749" y="1400"/>
                </a:lnTo>
                <a:lnTo>
                  <a:pt x="1400" y="1400"/>
                </a:lnTo>
                <a:close/>
              </a:path>
              <a:path fill="darken" w="25149" h="21600">
                <a:moveTo>
                  <a:pt x="25149" y="0"/>
                </a:moveTo>
                <a:lnTo>
                  <a:pt x="25149" y="21600"/>
                </a:lnTo>
                <a:lnTo>
                  <a:pt x="23749" y="20200"/>
                </a:lnTo>
                <a:lnTo>
                  <a:pt x="23749" y="1400"/>
                </a:lnTo>
                <a:close/>
              </a:path>
              <a:path fill="darkenLess" w="25149" h="21600">
                <a:moveTo>
                  <a:pt x="251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49" y="20200"/>
                </a:lnTo>
                <a:close/>
              </a:path>
              <a:path fill="lighten" w="251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49" h="21600">
                <a:moveTo>
                  <a:pt x="5568" y="3794"/>
                </a:moveTo>
                <a:lnTo>
                  <a:pt x="19581" y="10800"/>
                </a:lnTo>
                <a:lnTo>
                  <a:pt x="5568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6" name="AutoShape 3">
            <a:hlinkClick r:id="" action="ppaction://hlinkshowjump?jump=previousslide"/>
          </p:cNvPr>
          <p:cNvSpPr/>
          <p:nvPr/>
        </p:nvSpPr>
        <p:spPr>
          <a:xfrm>
            <a:off x="7380360" y="6165720"/>
            <a:ext cx="503280" cy="43200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5161" h="21600">
                <a:moveTo>
                  <a:pt x="0" y="0"/>
                </a:moveTo>
                <a:lnTo>
                  <a:pt x="25161" y="0"/>
                </a:lnTo>
                <a:lnTo>
                  <a:pt x="25161" y="21600"/>
                </a:lnTo>
                <a:lnTo>
                  <a:pt x="0" y="21600"/>
                </a:lnTo>
                <a:close/>
              </a:path>
              <a:path fill="lightenLess" w="25161" h="21600">
                <a:moveTo>
                  <a:pt x="0" y="0"/>
                </a:moveTo>
                <a:lnTo>
                  <a:pt x="25161" y="0"/>
                </a:lnTo>
                <a:lnTo>
                  <a:pt x="23761" y="1400"/>
                </a:lnTo>
                <a:lnTo>
                  <a:pt x="1400" y="1400"/>
                </a:lnTo>
                <a:close/>
              </a:path>
              <a:path fill="darken" w="25161" h="21600">
                <a:moveTo>
                  <a:pt x="25161" y="0"/>
                </a:moveTo>
                <a:lnTo>
                  <a:pt x="25161" y="21600"/>
                </a:lnTo>
                <a:lnTo>
                  <a:pt x="23761" y="20200"/>
                </a:lnTo>
                <a:lnTo>
                  <a:pt x="23761" y="1400"/>
                </a:lnTo>
                <a:close/>
              </a:path>
              <a:path fill="darkenLess" w="25161" h="21600">
                <a:moveTo>
                  <a:pt x="251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61" y="20200"/>
                </a:lnTo>
                <a:close/>
              </a:path>
              <a:path fill="lighten" w="251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61" h="21600">
                <a:moveTo>
                  <a:pt x="5574" y="10800"/>
                </a:moveTo>
                <a:lnTo>
                  <a:pt x="19587" y="3794"/>
                </a:lnTo>
                <a:lnTo>
                  <a:pt x="19587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97" name="AutoShape 4">
            <a:hlinkClick r:id="rId1" action="ppaction://hlinksldjump"/>
          </p:cNvPr>
          <p:cNvSpPr/>
          <p:nvPr/>
        </p:nvSpPr>
        <p:spPr>
          <a:xfrm>
            <a:off x="7885080" y="6165720"/>
            <a:ext cx="504720" cy="422280"/>
          </a:xfrm>
          <a:custGeom>
            <a:avLst/>
            <a:gdLst>
              <a:gd name="textAreaLeft" fmla="*/ 27360 w 504720"/>
              <a:gd name="textAreaRight" fmla="*/ 477360 w 50472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813" h="21600">
                <a:moveTo>
                  <a:pt x="0" y="0"/>
                </a:moveTo>
                <a:lnTo>
                  <a:pt x="25813" y="0"/>
                </a:lnTo>
                <a:lnTo>
                  <a:pt x="25813" y="21600"/>
                </a:lnTo>
                <a:lnTo>
                  <a:pt x="0" y="21600"/>
                </a:lnTo>
                <a:close/>
              </a:path>
              <a:path fill="lightenLess" w="25813" h="21600">
                <a:moveTo>
                  <a:pt x="0" y="0"/>
                </a:moveTo>
                <a:lnTo>
                  <a:pt x="25813" y="0"/>
                </a:lnTo>
                <a:lnTo>
                  <a:pt x="24413" y="1400"/>
                </a:lnTo>
                <a:lnTo>
                  <a:pt x="1400" y="1400"/>
                </a:lnTo>
                <a:close/>
              </a:path>
              <a:path fill="darken" w="25813" h="21600">
                <a:moveTo>
                  <a:pt x="25813" y="0"/>
                </a:moveTo>
                <a:lnTo>
                  <a:pt x="25813" y="21600"/>
                </a:lnTo>
                <a:lnTo>
                  <a:pt x="24413" y="20200"/>
                </a:lnTo>
                <a:lnTo>
                  <a:pt x="24413" y="1400"/>
                </a:lnTo>
                <a:close/>
              </a:path>
              <a:path fill="darkenLess" w="25813" h="21600">
                <a:moveTo>
                  <a:pt x="258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13" y="20200"/>
                </a:lnTo>
                <a:close/>
              </a:path>
              <a:path fill="lighten" w="258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13" h="21600">
                <a:moveTo>
                  <a:pt x="12907" y="3837"/>
                </a:moveTo>
                <a:lnTo>
                  <a:pt x="15483" y="6448"/>
                </a:lnTo>
                <a:lnTo>
                  <a:pt x="15483" y="4707"/>
                </a:lnTo>
                <a:lnTo>
                  <a:pt x="17258" y="4707"/>
                </a:lnTo>
                <a:lnTo>
                  <a:pt x="17258" y="8224"/>
                </a:lnTo>
                <a:lnTo>
                  <a:pt x="19870" y="10800"/>
                </a:lnTo>
                <a:lnTo>
                  <a:pt x="18216" y="10800"/>
                </a:lnTo>
                <a:lnTo>
                  <a:pt x="18216" y="17989"/>
                </a:lnTo>
                <a:lnTo>
                  <a:pt x="7597" y="17989"/>
                </a:lnTo>
                <a:lnTo>
                  <a:pt x="7597" y="10800"/>
                </a:lnTo>
                <a:lnTo>
                  <a:pt x="5944" y="10800"/>
                </a:lnTo>
                <a:close/>
              </a:path>
              <a:path fill="darkenLess" w="25813" h="21600">
                <a:moveTo>
                  <a:pt x="15483" y="6448"/>
                </a:moveTo>
                <a:lnTo>
                  <a:pt x="15483" y="4707"/>
                </a:lnTo>
                <a:lnTo>
                  <a:pt x="17258" y="4707"/>
                </a:lnTo>
                <a:lnTo>
                  <a:pt x="17258" y="8224"/>
                </a:lnTo>
                <a:close/>
              </a:path>
              <a:path fill="darkenLess" w="25813" h="21600">
                <a:moveTo>
                  <a:pt x="11984" y="14299"/>
                </a:moveTo>
                <a:lnTo>
                  <a:pt x="13829" y="14299"/>
                </a:lnTo>
                <a:lnTo>
                  <a:pt x="13829" y="17989"/>
                </a:lnTo>
                <a:lnTo>
                  <a:pt x="18216" y="17989"/>
                </a:lnTo>
                <a:lnTo>
                  <a:pt x="18216" y="10800"/>
                </a:lnTo>
                <a:lnTo>
                  <a:pt x="7597" y="10800"/>
                </a:lnTo>
                <a:lnTo>
                  <a:pt x="7597" y="17989"/>
                </a:lnTo>
                <a:lnTo>
                  <a:pt x="11984" y="17989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2"/>
          <a:stretch/>
        </p:blipFill>
        <p:spPr>
          <a:xfrm>
            <a:off x="6588000" y="333360"/>
            <a:ext cx="1509840" cy="1463760"/>
          </a:xfrm>
          <a:prstGeom prst="rect">
            <a:avLst/>
          </a:prstGeom>
          <a:ln w="0">
            <a:noFill/>
          </a:ln>
        </p:spPr>
      </p:pic>
      <p:sp>
        <p:nvSpPr>
          <p:cNvPr id="199" name="AutoShape 7"/>
          <p:cNvSpPr/>
          <p:nvPr/>
        </p:nvSpPr>
        <p:spPr>
          <a:xfrm>
            <a:off x="250920" y="1341360"/>
            <a:ext cx="8208720" cy="2089080"/>
          </a:xfrm>
          <a:custGeom>
            <a:avLst/>
            <a:gdLst>
              <a:gd name="textAreaLeft" fmla="*/ 0 w 8208720"/>
              <a:gd name="textAreaRight" fmla="*/ 8209080 w 8208720"/>
              <a:gd name="textAreaTop" fmla="*/ 270720 h 2089080"/>
              <a:gd name="textAreaBottom" fmla="*/ 1818360 h 2089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00"/>
                </a:solidFill>
                <a:latin typeface="Verdana"/>
              </a:rPr>
              <a:t>Модель </a:t>
            </a:r>
            <a:r>
              <a:rPr b="1" lang="en-GB" sz="2400" spc="-1" strike="noStrike">
                <a:solidFill>
                  <a:srgbClr val="ffff00"/>
                </a:solidFill>
                <a:latin typeface="Verdana"/>
              </a:rPr>
              <a:t>5. </a:t>
            </a:r>
            <a:r>
              <a:rPr b="1" i="1" lang="en-GB" sz="2400" spc="-1" strike="noStrike">
                <a:solidFill>
                  <a:srgbClr val="ffff00"/>
                </a:solidFill>
                <a:latin typeface="Verdana"/>
              </a:rPr>
              <a:t>Автономные обучающие системы</a:t>
            </a:r>
            <a:br>
              <a:rPr sz="2400"/>
            </a:br>
            <a:br>
              <a:rPr sz="1800"/>
            </a:br>
            <a:endParaRPr b="1" i="1" lang="en-US" sz="24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8920" y="2653560"/>
            <a:ext cx="8278920" cy="23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2000" spc="-1" strike="noStrike">
                <a:solidFill>
                  <a:srgbClr val="ccecff"/>
                </a:solidFill>
                <a:latin typeface="Arial"/>
              </a:rPr>
              <a:t>Это также программы самообразования при возможности консультаций. Они ориентированы на обучение взрослой аудитории, тех людей, которые по каким-то причинам не смогли закончить школьное образование. 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AutoShape 2">
            <a:hlinkClick r:id="" action="ppaction://hlinkshowjump?jump=nextslide"/>
          </p:cNvPr>
          <p:cNvSpPr/>
          <p:nvPr/>
        </p:nvSpPr>
        <p:spPr>
          <a:xfrm>
            <a:off x="8388360" y="6237360"/>
            <a:ext cx="503280" cy="431640"/>
          </a:xfrm>
          <a:custGeom>
            <a:avLst/>
            <a:gdLst>
              <a:gd name="textAreaLeft" fmla="*/ 27720 w 503280"/>
              <a:gd name="textAreaRight" fmla="*/ 475560 w 5032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182" h="21600">
                <a:moveTo>
                  <a:pt x="0" y="0"/>
                </a:moveTo>
                <a:lnTo>
                  <a:pt x="25182" y="0"/>
                </a:lnTo>
                <a:lnTo>
                  <a:pt x="25182" y="21600"/>
                </a:lnTo>
                <a:lnTo>
                  <a:pt x="0" y="21600"/>
                </a:lnTo>
                <a:close/>
              </a:path>
              <a:path fill="lightenLess" w="25182" h="21600">
                <a:moveTo>
                  <a:pt x="0" y="0"/>
                </a:moveTo>
                <a:lnTo>
                  <a:pt x="25182" y="0"/>
                </a:lnTo>
                <a:lnTo>
                  <a:pt x="23782" y="1400"/>
                </a:lnTo>
                <a:lnTo>
                  <a:pt x="1400" y="1400"/>
                </a:lnTo>
                <a:close/>
              </a:path>
              <a:path fill="darken" w="25182" h="21600">
                <a:moveTo>
                  <a:pt x="25182" y="0"/>
                </a:moveTo>
                <a:lnTo>
                  <a:pt x="25182" y="21600"/>
                </a:lnTo>
                <a:lnTo>
                  <a:pt x="23782" y="20200"/>
                </a:lnTo>
                <a:lnTo>
                  <a:pt x="23782" y="1400"/>
                </a:lnTo>
                <a:close/>
              </a:path>
              <a:path fill="darkenLess" w="25182" h="21600">
                <a:moveTo>
                  <a:pt x="2518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2" y="20200"/>
                </a:lnTo>
                <a:close/>
              </a:path>
              <a:path fill="lighten" w="2518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2" h="21600">
                <a:moveTo>
                  <a:pt x="5585" y="3794"/>
                </a:moveTo>
                <a:lnTo>
                  <a:pt x="19597" y="10800"/>
                </a:lnTo>
                <a:lnTo>
                  <a:pt x="558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2" name="AutoShape 3">
            <a:hlinkClick r:id="" action="ppaction://hlinkshowjump?jump=previousslide"/>
          </p:cNvPr>
          <p:cNvSpPr/>
          <p:nvPr/>
        </p:nvSpPr>
        <p:spPr>
          <a:xfrm>
            <a:off x="7451640" y="6237360"/>
            <a:ext cx="505080" cy="422280"/>
          </a:xfrm>
          <a:custGeom>
            <a:avLst/>
            <a:gdLst>
              <a:gd name="textAreaLeft" fmla="*/ 27360 w 505080"/>
              <a:gd name="textAreaRight" fmla="*/ 477720 w 505080"/>
              <a:gd name="textAreaTop" fmla="*/ 27360 h 422280"/>
              <a:gd name="textAreaBottom" fmla="*/ 394920 h 422280"/>
            </a:gdLst>
            <a:ahLst/>
            <a:rect l="textAreaLeft" t="textAreaTop" r="textAreaRight" b="textAreaBottom"/>
            <a:pathLst>
              <a:path w="25832" h="21600">
                <a:moveTo>
                  <a:pt x="0" y="0"/>
                </a:moveTo>
                <a:lnTo>
                  <a:pt x="25832" y="0"/>
                </a:lnTo>
                <a:lnTo>
                  <a:pt x="25832" y="21600"/>
                </a:lnTo>
                <a:lnTo>
                  <a:pt x="0" y="21600"/>
                </a:lnTo>
                <a:close/>
              </a:path>
              <a:path fill="lightenLess" w="25832" h="21600">
                <a:moveTo>
                  <a:pt x="0" y="0"/>
                </a:moveTo>
                <a:lnTo>
                  <a:pt x="25832" y="0"/>
                </a:lnTo>
                <a:lnTo>
                  <a:pt x="24432" y="1400"/>
                </a:lnTo>
                <a:lnTo>
                  <a:pt x="1400" y="1400"/>
                </a:lnTo>
                <a:close/>
              </a:path>
              <a:path fill="darken" w="25832" h="21600">
                <a:moveTo>
                  <a:pt x="25832" y="0"/>
                </a:moveTo>
                <a:lnTo>
                  <a:pt x="25832" y="21600"/>
                </a:lnTo>
                <a:lnTo>
                  <a:pt x="24432" y="20200"/>
                </a:lnTo>
                <a:lnTo>
                  <a:pt x="24432" y="1400"/>
                </a:lnTo>
                <a:close/>
              </a:path>
              <a:path fill="darkenLess" w="25832" h="21600">
                <a:moveTo>
                  <a:pt x="258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32" y="20200"/>
                </a:lnTo>
                <a:close/>
              </a:path>
              <a:path fill="lighten" w="258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32" h="21600">
                <a:moveTo>
                  <a:pt x="5909" y="10800"/>
                </a:moveTo>
                <a:lnTo>
                  <a:pt x="19922" y="3794"/>
                </a:lnTo>
                <a:lnTo>
                  <a:pt x="19922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3" name="AutoShape 4">
            <a:hlinkClick r:id="rId1" action="ppaction://hlinksldjump"/>
          </p:cNvPr>
          <p:cNvSpPr/>
          <p:nvPr/>
        </p:nvSpPr>
        <p:spPr>
          <a:xfrm>
            <a:off x="7956720" y="6237360"/>
            <a:ext cx="431640" cy="4334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3440"/>
              <a:gd name="textAreaBottom" fmla="*/ 405720 h 433440"/>
            </a:gdLst>
            <a:ahLst/>
            <a:rect l="textAreaLeft" t="textAreaTop" r="textAreaRight" b="textAreaBottom"/>
            <a:pathLst>
              <a:path w="21600" h="21690">
                <a:moveTo>
                  <a:pt x="0" y="0"/>
                </a:moveTo>
                <a:lnTo>
                  <a:pt x="21600" y="0"/>
                </a:lnTo>
                <a:lnTo>
                  <a:pt x="21600" y="21690"/>
                </a:lnTo>
                <a:lnTo>
                  <a:pt x="0" y="21690"/>
                </a:lnTo>
                <a:close/>
              </a:path>
              <a:path fill="lightenLess" w="21600" h="21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90">
                <a:moveTo>
                  <a:pt x="21600" y="0"/>
                </a:moveTo>
                <a:lnTo>
                  <a:pt x="21600" y="21690"/>
                </a:lnTo>
                <a:lnTo>
                  <a:pt x="20200" y="20290"/>
                </a:lnTo>
                <a:lnTo>
                  <a:pt x="20200" y="1400"/>
                </a:lnTo>
                <a:close/>
              </a:path>
              <a:path fill="darkenLess" w="21600" h="21690">
                <a:moveTo>
                  <a:pt x="21600" y="21690"/>
                </a:moveTo>
                <a:lnTo>
                  <a:pt x="0" y="21690"/>
                </a:lnTo>
                <a:lnTo>
                  <a:pt x="1400" y="20290"/>
                </a:lnTo>
                <a:lnTo>
                  <a:pt x="20200" y="20290"/>
                </a:lnTo>
                <a:close/>
              </a:path>
              <a:path fill="lighten" w="21600" h="21690">
                <a:moveTo>
                  <a:pt x="0" y="21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90"/>
                </a:lnTo>
                <a:close/>
              </a:path>
              <a:path fill="darken" w="21600" h="21690">
                <a:moveTo>
                  <a:pt x="10800" y="3882"/>
                </a:moveTo>
                <a:lnTo>
                  <a:pt x="13376" y="6493"/>
                </a:lnTo>
                <a:lnTo>
                  <a:pt x="13376" y="4752"/>
                </a:lnTo>
                <a:lnTo>
                  <a:pt x="15152" y="4752"/>
                </a:lnTo>
                <a:lnTo>
                  <a:pt x="15152" y="8269"/>
                </a:lnTo>
                <a:lnTo>
                  <a:pt x="17763" y="10845"/>
                </a:lnTo>
                <a:lnTo>
                  <a:pt x="16109" y="10845"/>
                </a:lnTo>
                <a:lnTo>
                  <a:pt x="16109" y="18034"/>
                </a:lnTo>
                <a:lnTo>
                  <a:pt x="5491" y="18034"/>
                </a:lnTo>
                <a:lnTo>
                  <a:pt x="5491" y="10845"/>
                </a:lnTo>
                <a:lnTo>
                  <a:pt x="3837" y="10845"/>
                </a:lnTo>
                <a:close/>
              </a:path>
              <a:path fill="darkenLess" w="21600" h="21690">
                <a:moveTo>
                  <a:pt x="13376" y="6493"/>
                </a:moveTo>
                <a:lnTo>
                  <a:pt x="13376" y="4752"/>
                </a:lnTo>
                <a:lnTo>
                  <a:pt x="15152" y="4752"/>
                </a:lnTo>
                <a:lnTo>
                  <a:pt x="15152" y="8269"/>
                </a:lnTo>
                <a:close/>
              </a:path>
              <a:path fill="darkenLess" w="21600" h="21690">
                <a:moveTo>
                  <a:pt x="9877" y="14344"/>
                </a:moveTo>
                <a:lnTo>
                  <a:pt x="11723" y="14344"/>
                </a:lnTo>
                <a:lnTo>
                  <a:pt x="11723" y="18034"/>
                </a:lnTo>
                <a:lnTo>
                  <a:pt x="16109" y="18034"/>
                </a:lnTo>
                <a:lnTo>
                  <a:pt x="16109" y="10845"/>
                </a:lnTo>
                <a:lnTo>
                  <a:pt x="5491" y="10845"/>
                </a:lnTo>
                <a:lnTo>
                  <a:pt x="5491" y="18034"/>
                </a:lnTo>
                <a:lnTo>
                  <a:pt x="9877" y="18034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04" name="AutoShape 7"/>
          <p:cNvSpPr/>
          <p:nvPr/>
        </p:nvSpPr>
        <p:spPr>
          <a:xfrm>
            <a:off x="108000" y="260280"/>
            <a:ext cx="9036000" cy="2808360"/>
          </a:xfrm>
          <a:custGeom>
            <a:avLst/>
            <a:gdLst>
              <a:gd name="textAreaLeft" fmla="*/ 0 w 9036000"/>
              <a:gd name="textAreaRight" fmla="*/ 9036360 w 9036000"/>
              <a:gd name="textAreaTop" fmla="*/ 363960 h 2808360"/>
              <a:gd name="textAreaBottom" fmla="*/ 244440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Модель 6. Неформальное, интегрированное дистанционное </a:t>
            </a: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00"/>
                </a:solidFill>
                <a:latin typeface="Verdana"/>
              </a:rPr>
              <a:t>обучение на основе мультимедийных программ</a:t>
            </a:r>
            <a:br>
              <a:rPr sz="2000"/>
            </a:br>
            <a:endParaRPr b="1" i="1" lang="en-US" sz="2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01-20T16:00:57Z</dcterms:modified>
  <cp:revision>12</cp:revision>
  <dc:subject/>
  <dc:title>  Министерство образования РФ               ГОУ ВПО Череповецкий Государственный университет                          Федеральное агентство по образованию               Кафедра  педагогики и методики начального образования   Лекция Модели дистанционного обучения                      Подготовили: Тришичева Анна Николаевна,      Маракасова Ксения Владимировна        Студентки группы 4ПФ-21      Проверила: Погодина Елена Валерьевна      Череповец, 2007год</dc:title>
</cp:coreProperties>
</file>