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F8F-5837-4DB7-997E-F08DE99B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6B66-B6C1-4814-B622-CFDE0D4E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BE45-B38A-4A60-BF6E-907FEA92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5BBD-F972-46E8-A846-FFDCE6E4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EB4D-8ED6-460E-A1E1-1360CB21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3E22-702A-479D-964C-5749D1D2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C97C-AD1D-4895-9CF7-997DBC76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119-FBCA-4A5F-AD0A-854BF804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0869-5950-4145-B55F-25B5BB6B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1753-EE38-4A94-AFF8-FBCBEDA8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41C-BEB2-4D31-8999-1F39D9C0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CB6-F5D0-49C1-A7FB-8B9C54F9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E5C2-4291-493B-94B6-C80EAF3431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57"/>
          <p:cNvPicPr/>
          <p:nvPr/>
        </p:nvPicPr>
        <p:blipFill>
          <a:blip r:embed="rId1"/>
          <a:stretch/>
        </p:blipFill>
        <p:spPr>
          <a:xfrm>
            <a:off x="900000" y="765000"/>
            <a:ext cx="3208320" cy="218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1_"/>
          <p:cNvPicPr/>
          <p:nvPr/>
        </p:nvPicPr>
        <p:blipFill>
          <a:blip r:embed="rId2"/>
          <a:stretch/>
        </p:blipFill>
        <p:spPr>
          <a:xfrm>
            <a:off x="826920" y="3933720"/>
            <a:ext cx="3024360" cy="218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NATUR110"/>
          <p:cNvPicPr/>
          <p:nvPr/>
        </p:nvPicPr>
        <p:blipFill>
          <a:blip r:embed="rId3"/>
          <a:stretch/>
        </p:blipFill>
        <p:spPr>
          <a:xfrm>
            <a:off x="5219640" y="765000"/>
            <a:ext cx="3083040" cy="218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S2400014"/>
          <p:cNvPicPr/>
          <p:nvPr/>
        </p:nvPicPr>
        <p:blipFill>
          <a:blip r:embed="rId4"/>
          <a:stretch/>
        </p:blipFill>
        <p:spPr>
          <a:xfrm>
            <a:off x="5208480" y="3938760"/>
            <a:ext cx="31086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400" y="2061360"/>
            <a:ext cx="900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ь сосен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соки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бежит Анга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авице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дой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овется 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ная, быстр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речке во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славится в песнях её крас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400" y="2061360"/>
            <a:ext cx="900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ь сосен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соки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бежит Анга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авице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дой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овется 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ная, быстр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речке во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славится в песнях её крас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5"/>
          <p:cNvSpPr/>
          <p:nvPr/>
        </p:nvSpPr>
        <p:spPr>
          <a:xfrm>
            <a:off x="3564000" y="328464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4067280" y="3284640"/>
            <a:ext cx="57600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4500720" y="3284640"/>
            <a:ext cx="57600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4932360" y="3284640"/>
            <a:ext cx="57636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9"/>
          <p:cNvSpPr/>
          <p:nvPr/>
        </p:nvSpPr>
        <p:spPr>
          <a:xfrm>
            <a:off x="3203640" y="263700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3635280" y="2637000"/>
            <a:ext cx="50508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/>
          <p:cNvSpPr/>
          <p:nvPr/>
        </p:nvSpPr>
        <p:spPr>
          <a:xfrm>
            <a:off x="4067280" y="263700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>
            <a:off x="4572000" y="263700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>
            <a:off x="5003640" y="2637000"/>
            <a:ext cx="50508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4"/>
          <p:cNvSpPr/>
          <p:nvPr/>
        </p:nvSpPr>
        <p:spPr>
          <a:xfrm>
            <a:off x="32400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/>
          <p:cNvSpPr/>
          <p:nvPr/>
        </p:nvSpPr>
        <p:spPr>
          <a:xfrm>
            <a:off x="75564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6"/>
          <p:cNvSpPr/>
          <p:nvPr/>
        </p:nvSpPr>
        <p:spPr>
          <a:xfrm>
            <a:off x="125892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169236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2050920" y="3860640"/>
            <a:ext cx="50508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2484360" y="3860640"/>
            <a:ext cx="50508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327672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370836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406728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450072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485928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1763640" y="2637000"/>
            <a:ext cx="136836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684360" y="3284640"/>
            <a:ext cx="27352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7451640" y="3860640"/>
            <a:ext cx="1081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ыс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а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олод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ыс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916360" y="3284640"/>
            <a:ext cx="71892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5148360" y="1989000"/>
            <a:ext cx="287280" cy="287640"/>
          </a:xfrm>
          <a:prstGeom prst="parallelogram">
            <a:avLst>
              <a:gd name="adj" fmla="val 5594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Художник нарисовал красивую картин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ыстрая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рутой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елёная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рупный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елк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город стоит на … реке Ангаре. По её … берегам раскинулась … тайга. Река богата … хариусом и … окунем. Сохраняя реку – мы сохраняем природные богатства наш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город стоит на быстрой реке Ангаре. По ее крутым берегам раскинулась зелёная тайга. Река богата крупным хариусом и мелким окунем. Сохраняя реку – мы сохраняем природные богатства наш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14:23Z</dcterms:created>
  <dc:creator>Татьяна</dc:creator>
  <dc:description/>
  <dc:language>en-US</dc:language>
  <cp:lastModifiedBy>User</cp:lastModifiedBy>
  <dcterms:modified xsi:type="dcterms:W3CDTF">2016-01-13T17:09:03Z</dcterms:modified>
  <cp:revision>15</cp:revision>
  <dc:subject/>
  <dc:title>Слайд 1</dc:title>
</cp:coreProperties>
</file>