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6B26-AB8C-4516-817C-F07D20A2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CA0-C401-4420-BD09-EA03D5DC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A2C399-1B00-4388-96B1-38DD3B95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107EB9-79EC-4244-A2CD-2FF49B4A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D63BFD-A1E6-454D-AF57-748FF324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145810-E1B9-4608-A105-9ADE7E7F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5456AD-2256-4DB3-BFFB-43FD2951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6574FE-A506-408D-A01C-9550BF25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69BBCE-6360-40E7-888C-56D4C84D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40732F-03D1-4CEB-ABC4-482C0B1E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A478B5-A5DE-4D4D-A057-B7917190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946F94-AD6C-4342-9F4E-3CB62BCC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B0C-7BE0-46B3-9019-279E2782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D1F85A-16BF-45F1-A403-AFAE0E36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36C014-4587-4B0C-AF9F-86A133FB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BED876-FBFB-4825-B7A9-D0BC5EB3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060035-7518-4FDC-859D-680613A2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A9EB3A-5792-4A81-A022-B373051B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BAC104-ABCD-416E-85CC-641C1298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CA855D-FEEB-4864-83BF-6A612037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167684-76DB-4C8D-A586-E6EF01CF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B1C62F-A7CF-4962-8E50-1FC63095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AA4331-5D5C-4A10-AE52-56EA6E35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C6F-A001-4EB9-ADC7-4E8CA113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C5D9D4-BE1C-4CA0-9941-7A1555E0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354-59E6-43CE-9584-7210C56D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D9AE-480C-40E2-BD31-E28E2A06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CBAA-8261-4B9B-826F-5F443841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B107-E5FE-4CC8-8AA9-F968F723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D7DB-417C-4438-AEDE-755BC8B2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8A26-17A7-447A-A098-4B6AFF40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5DA-5EBB-43EF-8195-BFF678B1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3BC8-5C49-45A3-A94A-9D34DBDF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1477-5899-4AF8-8BBA-6D457497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56D9-020D-4F72-9009-B826F921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4052-1857-4069-ADC4-F1317139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EDC6-9B25-4DC6-BC2C-259CDD53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984F-C49C-49A8-A176-DB87AB91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4138-913E-4F4E-A964-CD8BFD56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E5EB7-B0F2-4BE9-9B4C-EDA90A21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9601A-DC48-4201-B9B0-169C8DFD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8CFB9-590B-49A6-9DC7-830A13A9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FD2-2F13-4E8B-BFEA-311A7863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8A6B0-5737-49B2-8B09-AD9A545F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B594C-55EC-43D1-8FB2-268FB5F5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9C870-D57B-4CEF-89A5-D987AEF2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EBBB2-2AEB-4E1A-9579-AFE7CA3A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6E60F-ED13-4A7A-B751-69AE829B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AFAB3-CA41-4CA0-B6DC-9E05498C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3E63E-EBFD-41FA-A2A7-9A4F9F53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33993-A61B-434C-B650-48C1639C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D1E6B-3274-44B5-A45C-0A912EE6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9EB9C-DC18-42C4-B319-B7DAFE51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856C-C61D-4CB8-9F81-71B7EAE4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13CC3-9734-4C94-AC6D-ED339E16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27156-66B1-4514-959D-1282D575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5DBC6-0F28-4D26-977E-A44B360E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8C1EA-2DA4-4F1E-8FCC-969ED730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D82E6-7DBD-4BCE-86FB-1DA1BB09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37E39-C858-4F37-B342-90203F59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688D1-EFD5-455E-A48A-2A5CDA4A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4C72F-A12F-4422-A53A-5555D83E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7D3F5-1BBC-49A8-8BF7-64270A06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4D590-D3D8-463C-A753-FEF1829E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7A3A-DBA4-49F0-8170-A98AEF99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AAB4E-7C1C-4A9B-8D06-70D93871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E0C1C5-F102-4692-9709-99073C23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4593F2-8E9D-4342-A0B4-FCBC7A98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339F0B-7EE4-42EE-85CC-EF619884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1AF33C-28E8-4129-A5F5-AEE7C079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21AAE9-8C06-49DF-A795-CA0C7A87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FA38D6-20DC-42E1-8C7B-958D8D11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3439C4-8915-4007-8168-FAA8D231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6A4AB5-0832-461D-83F3-E5EB1C4D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D8A99-1AFD-4F02-A911-2E8748B7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1EB-1ACF-4748-98EA-031BC71D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A3DE2D-19E1-45DA-B5BF-08AA8DE0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B9D953-E450-4886-B97E-0CCFB7F6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117A2B-5EDD-49F2-B398-EDE48692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856D7-7B07-4F1F-A489-09255A9C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2157F-F2C2-4252-91B9-E14B4F7F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6A344-39F0-4998-8880-687CA646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404D5-B149-49D6-9C97-C1961ECA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392BE-EC9E-4B9A-868B-84B7E26E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1489F-CFB5-4A84-B1EA-3D23EF0A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90B54-4BF6-48B2-90ED-D7A01D83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2C2-3D08-45BF-B24A-E2B31485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13032-5B74-4B02-B591-4A3B5AAF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AE720-6047-4901-9768-1C1EB22A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8419C-F914-41F0-AA41-32BA142C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0B06E-569D-485E-BE83-A3A2D904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3FF7F-6EFC-484F-B109-1D1961DD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A72109-855A-4536-922B-477DF597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9B16A3-96F8-4D2A-A3B2-C541C14E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7AB6BB-E2E9-4BE2-A8D9-8F57CD59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5D9CFB-C72E-479E-A189-55ED429C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5E5632-E17A-4D20-AD20-86480BEF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4C7-4749-4223-87F8-928D966D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7480B4-D8CB-4E23-A175-459E104C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9E1589-4ACF-40EA-9EED-FE6BC1BE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CD0730-E301-49EF-83ED-3756E600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A22426-7E60-482E-A2D8-2E23DEF1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AB6666-92A5-4C97-B48D-B3303545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D0E101-8E25-4FAD-BC9B-6C3A543B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4CA5FA-2956-4797-AF16-16604536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D9F65C-C90A-45B3-B046-871DEF00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A9C7DF-B594-4A6C-BA83-594AD4A8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C59A9C-1027-4A69-B4D0-29D26310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hyperlink" Target="http://www.it-n.ru/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www.it-n.ru/communities.aspx?cat_no=4605&amp;tmpl=com" TargetMode="External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голубая-химия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EAEF-BF30-476F-9F5D-D0CE2B8B56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1B0D-3DEB-4802-9647-1C6AFB38B4A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7" descr="низ"/>
          <p:cNvPicPr/>
          <p:nvPr/>
        </p:nvPicPr>
        <p:blipFill>
          <a:blip r:embed="rId2"/>
          <a:stretch/>
        </p:blipFill>
        <p:spPr>
          <a:xfrm>
            <a:off x="0" y="59515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4">
            <a:hlinkClick r:id="" action="ppaction://hlinkshowjump?jump=previousslide"/>
          </p:cNvPr>
          <p:cNvSpPr/>
          <p:nvPr/>
        </p:nvSpPr>
        <p:spPr>
          <a:xfrm>
            <a:off x="1835280" y="6477120"/>
            <a:ext cx="83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5">
            <a:hlinkClick r:id="" action="ppaction://hlinkshowjump?jump=nextslide"/>
          </p:cNvPr>
          <p:cNvSpPr/>
          <p:nvPr/>
        </p:nvSpPr>
        <p:spPr>
          <a:xfrm>
            <a:off x="2771640" y="6458040"/>
            <a:ext cx="936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6">
            <a:hlinkClick r:id="" action="ppaction://hlinkshowjump?jump=firstslide"/>
          </p:cNvPr>
          <p:cNvSpPr/>
          <p:nvPr/>
        </p:nvSpPr>
        <p:spPr>
          <a:xfrm>
            <a:off x="3781440" y="6472080"/>
            <a:ext cx="961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7">
            <a:hlinkClick r:id="rId3"/>
          </p:cNvPr>
          <p:cNvSpPr/>
          <p:nvPr/>
        </p:nvSpPr>
        <p:spPr>
          <a:xfrm>
            <a:off x="4875120" y="6469200"/>
            <a:ext cx="1015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8">
            <a:hlinkClick r:id="" action="ppaction://hlinkshowjump?jump=endshow"/>
          </p:cNvPr>
          <p:cNvSpPr/>
          <p:nvPr/>
        </p:nvSpPr>
        <p:spPr>
          <a:xfrm>
            <a:off x="5983200" y="6526080"/>
            <a:ext cx="965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9" descr="карта4"/>
          <p:cNvPicPr/>
          <p:nvPr/>
        </p:nvPicPr>
        <p:blipFill>
          <a:blip r:embed="rId4"/>
          <a:stretch/>
        </p:blipFill>
        <p:spPr>
          <a:xfrm rot="445800">
            <a:off x="539640" y="388800"/>
            <a:ext cx="8425080" cy="5158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6" descr="верх"/>
          <p:cNvPicPr/>
          <p:nvPr/>
        </p:nvPicPr>
        <p:blipFill>
          <a:blip r:embed="rId5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C339-D860-471E-95D6-377D3CB60D8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7" descr="голубая-химия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Группа 9"/>
          <p:cNvGrpSpPr/>
          <p:nvPr/>
        </p:nvGrpSpPr>
        <p:grpSpPr>
          <a:xfrm>
            <a:off x="0" y="0"/>
            <a:ext cx="9144000" cy="6851520"/>
            <a:chOff x="0" y="0"/>
            <a:chExt cx="9144000" cy="6851520"/>
          </a:xfrm>
        </p:grpSpPr>
        <p:pic>
          <p:nvPicPr>
            <p:cNvPr id="135" name="Рисунок 6" descr="it-n.jp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Рисунок 8" descr="it-n.jpg"/>
            <p:cNvPicPr/>
            <p:nvPr/>
          </p:nvPicPr>
          <p:blipFill>
            <a:blip r:embed="rId4"/>
            <a:stretch/>
          </p:blipFill>
          <p:spPr>
            <a:xfrm>
              <a:off x="3321720" y="996480"/>
              <a:ext cx="250020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Прямоугольник 7"/>
          <p:cNvSpPr/>
          <p:nvPr/>
        </p:nvSpPr>
        <p:spPr>
          <a:xfrm>
            <a:off x="1714680" y="1000080"/>
            <a:ext cx="66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hlinkClick r:id="rId5"/>
              </a:rPr>
              <a:t>http://www.it-n.ru/communities.aspx?cat_no=4605&amp;tmpl=com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195D-A5CD-4BA9-BF63-1581CC36CB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5b7b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ed3c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ed3c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7eae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5b7b1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7eae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5b7b1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5b7b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5DE8-F345-48BE-A6D4-7BA24408C21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101C-F32F-4212-A40B-71A51810484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5b7b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ed3c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ed3c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7eae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5b7b1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7eae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5b7b1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5b7b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9787-3953-4185-A449-984D1B14EAD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EBF7-AEBF-40D1-8626-5517FC19D27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7E57-8822-44F2-8438-32D7DBC5D8E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356920" y="171468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46b86"/>
                </a:solidFill>
                <a:latin typeface="Comic Sans MS"/>
              </a:rPr>
              <a:t>УРАВНЕНИЯ </a:t>
            </a:r>
            <a:br>
              <a:rPr sz="3000"/>
            </a:br>
            <a:r>
              <a:rPr b="1" lang="ru-RU" sz="3000" spc="-1" strike="noStrike">
                <a:solidFill>
                  <a:srgbClr val="646b86"/>
                </a:solidFill>
                <a:latin typeface="Comic Sans MS"/>
              </a:rPr>
              <a:t>ХИМИЧЕСКИХ РЕАКЦИЙ</a:t>
            </a:r>
            <a:br>
              <a:rPr sz="3000"/>
            </a:br>
            <a:r>
              <a:rPr b="1" lang="en-US" sz="2400" spc="-1" strike="noStrike">
                <a:solidFill>
                  <a:srgbClr val="646b86"/>
                </a:solidFill>
                <a:latin typeface="Comic Sans MS"/>
              </a:rPr>
              <a:t>8 </a:t>
            </a:r>
            <a:r>
              <a:rPr b="1" lang="ru-RU" sz="2400" spc="-1" strike="noStrike">
                <a:solidFill>
                  <a:srgbClr val="646b86"/>
                </a:solidFill>
                <a:latin typeface="Comic Sans MS"/>
              </a:rPr>
              <a:t>КЛАСС</a:t>
            </a:r>
            <a:endParaRPr b="0" lang="en-US" sz="24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46b86"/>
                </a:solidFill>
                <a:latin typeface="Century Schoolbook"/>
              </a:rPr>
              <a:t>Разработал учитель химии МБОУ СОШ №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46b86"/>
                </a:solidFill>
                <a:latin typeface="Century Schoolbook"/>
              </a:rPr>
              <a:t>Новокрещенов Дмитрий Андреевич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5" name="Picture 1" descr="C:\Users\Олеся\Pictures\i.jpg"/>
          <p:cNvPicPr/>
          <p:nvPr/>
        </p:nvPicPr>
        <p:blipFill>
          <a:blip r:embed="rId1"/>
          <a:stretch/>
        </p:blipFill>
        <p:spPr>
          <a:xfrm>
            <a:off x="7259760" y="281160"/>
            <a:ext cx="1366560" cy="19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1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9,-80,111)"/>
                                      </p:to>
                                    </p:se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9,-80,111)"/>
                                      </p:to>
                                    </p:set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000160" y="1999800"/>
            <a:ext cx="68580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46b86"/>
                </a:solidFill>
                <a:latin typeface="Century Schoolbook"/>
              </a:rPr>
              <a:t>ДОМАШНЕЕ ЗАДАНИЕ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646b86"/>
                </a:solidFill>
                <a:latin typeface="Century Schoolbook"/>
              </a:rPr>
              <a:t>ПРЕДЛОЖИТЕ НОВЫЙ СПОСОБ ОПИСАНИЯ ХИМИЧЕСКОГО ЯВЛЕНИЯ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2214360" y="40006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46b86"/>
                </a:solidFill>
                <a:latin typeface="Century Schoolbook"/>
              </a:rPr>
              <a:t>Всем спасибо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46b86"/>
                </a:solidFill>
                <a:latin typeface="Comic Sans MS"/>
              </a:rPr>
              <a:t>ТАБЛИЦА</a:t>
            </a:r>
            <a:br>
              <a:rPr sz="2700"/>
            </a:br>
            <a:r>
              <a:rPr b="0" lang="ru-RU" sz="2700" spc="-1" strike="noStrike">
                <a:solidFill>
                  <a:srgbClr val="646b86"/>
                </a:solidFill>
                <a:latin typeface="Comic Sans MS"/>
              </a:rPr>
              <a:t> </a:t>
            </a:r>
            <a:br>
              <a:rPr sz="2700"/>
            </a:br>
            <a:r>
              <a:rPr b="0" lang="ru-RU" sz="2700" spc="-1" strike="noStrike">
                <a:solidFill>
                  <a:srgbClr val="646b86"/>
                </a:solidFill>
                <a:latin typeface="Comic Sans MS"/>
              </a:rPr>
              <a:t>«ЗНАЮ – ХОЧУ УЗНАТЬ - УЗНАЛ»</a:t>
            </a:r>
            <a:endParaRPr b="0" lang="en-US" sz="2700" spc="-1" strike="noStrike">
              <a:solidFill>
                <a:srgbClr val="646b86"/>
              </a:solidFill>
              <a:latin typeface="Century Schoolbook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285920" y="1643040"/>
          <a:ext cx="7467480" cy="4008600"/>
        </p:xfrm>
        <a:graphic>
          <a:graphicData uri="http://schemas.openxmlformats.org/drawingml/2006/table">
            <a:tbl>
              <a:tblPr/>
              <a:tblGrid>
                <a:gridCol w="2489040"/>
                <a:gridCol w="2489400"/>
                <a:gridCol w="2489040"/>
              </a:tblGrid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ю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чу узн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знал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27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8d8"/>
                    </a:solidFill>
                  </a:tcPr>
                </a:tc>
              </a:tr>
            </a:tbl>
          </a:graphicData>
        </a:graphic>
      </p:graphicFrame>
      <p:sp>
        <p:nvSpPr>
          <p:cNvPr id="488" name="Прямая соединительная линия 5"/>
          <p:cNvSpPr/>
          <p:nvPr/>
        </p:nvSpPr>
        <p:spPr>
          <a:xfrm>
            <a:off x="1000080" y="785880"/>
            <a:ext cx="8143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Управляющая кнопка: настраиваемая 8"/>
          <p:cNvGrpSpPr/>
          <p:nvPr/>
        </p:nvGrpSpPr>
        <p:grpSpPr>
          <a:xfrm>
            <a:off x="-66600" y="5668920"/>
            <a:ext cx="1127160" cy="414360"/>
            <a:chOff x="-66600" y="5668920"/>
            <a:chExt cx="1127160" cy="414360"/>
          </a:xfrm>
        </p:grpSpPr>
        <p:pic>
          <p:nvPicPr>
            <p:cNvPr id="490" name="Управляющая кнопка: настраиваемая 8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66600" y="5668920"/>
              <a:ext cx="1127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0" y="571500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Дале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Управляющая кнопка: настраиваемая 9"/>
          <p:cNvGrpSpPr/>
          <p:nvPr/>
        </p:nvGrpSpPr>
        <p:grpSpPr>
          <a:xfrm>
            <a:off x="-66600" y="5950080"/>
            <a:ext cx="1127160" cy="420480"/>
            <a:chOff x="-66600" y="5950080"/>
            <a:chExt cx="1127160" cy="420480"/>
          </a:xfrm>
        </p:grpSpPr>
        <p:pic>
          <p:nvPicPr>
            <p:cNvPr id="493" name="Управляющая кнопка: настраиваемая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-66600" y="595008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0" y="600084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entury Schoolbook"/>
                </a:rPr>
                <a:t>Таблиц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Управляющая кнопка: настраиваемая 10"/>
          <p:cNvGrpSpPr/>
          <p:nvPr/>
        </p:nvGrpSpPr>
        <p:grpSpPr>
          <a:xfrm>
            <a:off x="-66600" y="6235560"/>
            <a:ext cx="1127160" cy="420840"/>
            <a:chOff x="-66600" y="6235560"/>
            <a:chExt cx="1127160" cy="420840"/>
          </a:xfrm>
        </p:grpSpPr>
        <p:pic>
          <p:nvPicPr>
            <p:cNvPr id="496" name="Управляющая кнопка: настраиваемая 10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-66600" y="6235560"/>
              <a:ext cx="11271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0" y="6286680"/>
              <a:ext cx="10000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Наза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Управляющая кнопка: настраиваемая 11"/>
          <p:cNvGrpSpPr/>
          <p:nvPr/>
        </p:nvGrpSpPr>
        <p:grpSpPr>
          <a:xfrm>
            <a:off x="-66600" y="6523200"/>
            <a:ext cx="1127160" cy="420480"/>
            <a:chOff x="-66600" y="6523200"/>
            <a:chExt cx="1127160" cy="420480"/>
          </a:xfrm>
        </p:grpSpPr>
        <p:pic>
          <p:nvPicPr>
            <p:cNvPr id="499" name="Управляющая кнопка: настраиваемая 11" descr=""/>
            <p:cNvPicPr/>
            <p:nvPr/>
          </p:nvPicPr>
          <p:blipFill>
            <a:blip r:embed="rId5"/>
            <a:stretch/>
          </p:blipFill>
          <p:spPr>
            <a:xfrm>
              <a:off x="-66600" y="652320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0" y="657216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3828745-826E-4FDA-85A7-B6DE7F36D846}" type="slidenum"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071440" y="3786120"/>
            <a:ext cx="61722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46b86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2785680" y="44290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Print"/>
              </a:rPr>
              <a:t>Уравнения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Print"/>
              </a:rPr>
              <a:t>химических реакци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4" name="Прямая соединительная линия 6"/>
          <p:cNvSpPr/>
          <p:nvPr/>
        </p:nvSpPr>
        <p:spPr>
          <a:xfrm>
            <a:off x="1000080" y="785880"/>
            <a:ext cx="8143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Управляющая кнопка: настраиваемая 8"/>
          <p:cNvGrpSpPr/>
          <p:nvPr/>
        </p:nvGrpSpPr>
        <p:grpSpPr>
          <a:xfrm>
            <a:off x="-66600" y="5668920"/>
            <a:ext cx="1127160" cy="414360"/>
            <a:chOff x="-66600" y="5668920"/>
            <a:chExt cx="1127160" cy="414360"/>
          </a:xfrm>
        </p:grpSpPr>
        <p:pic>
          <p:nvPicPr>
            <p:cNvPr id="506" name="Управляющая кнопка: настраиваемая 8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66600" y="5668920"/>
              <a:ext cx="1127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0" y="571500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Дале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Управляющая кнопка: настраиваемая 9"/>
          <p:cNvGrpSpPr/>
          <p:nvPr/>
        </p:nvGrpSpPr>
        <p:grpSpPr>
          <a:xfrm>
            <a:off x="-66600" y="5950080"/>
            <a:ext cx="1127160" cy="420480"/>
            <a:chOff x="-66600" y="5950080"/>
            <a:chExt cx="1127160" cy="420480"/>
          </a:xfrm>
        </p:grpSpPr>
        <p:pic>
          <p:nvPicPr>
            <p:cNvPr id="509" name="Управляющая кнопка: настраиваемая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-66600" y="595008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0" y="600084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entury Schoolbook"/>
                </a:rPr>
                <a:t>Таблиц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Управляющая кнопка: настраиваемая 10"/>
          <p:cNvGrpSpPr/>
          <p:nvPr/>
        </p:nvGrpSpPr>
        <p:grpSpPr>
          <a:xfrm>
            <a:off x="-66600" y="6235560"/>
            <a:ext cx="1127160" cy="420840"/>
            <a:chOff x="-66600" y="6235560"/>
            <a:chExt cx="1127160" cy="420840"/>
          </a:xfrm>
        </p:grpSpPr>
        <p:pic>
          <p:nvPicPr>
            <p:cNvPr id="512" name="Управляющая кнопка: настраиваемая 10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-66600" y="6235560"/>
              <a:ext cx="11271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0" y="6286680"/>
              <a:ext cx="10000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Наза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Управляющая кнопка: настраиваемая 11"/>
          <p:cNvGrpSpPr/>
          <p:nvPr/>
        </p:nvGrpSpPr>
        <p:grpSpPr>
          <a:xfrm>
            <a:off x="-66600" y="6523200"/>
            <a:ext cx="1127160" cy="420480"/>
            <a:chOff x="-66600" y="6523200"/>
            <a:chExt cx="1127160" cy="420480"/>
          </a:xfrm>
        </p:grpSpPr>
        <p:pic>
          <p:nvPicPr>
            <p:cNvPr id="515" name="Управляющая кнопка: настраиваемая 11" descr=""/>
            <p:cNvPicPr/>
            <p:nvPr/>
          </p:nvPicPr>
          <p:blipFill>
            <a:blip r:embed="rId5"/>
            <a:stretch/>
          </p:blipFill>
          <p:spPr>
            <a:xfrm>
              <a:off x="-66600" y="652320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0" y="657216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813163E-35FC-4926-AFAB-73D96295331D}" type="slidenum"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одзаголовок 4"/>
          <p:cNvSpPr/>
          <p:nvPr/>
        </p:nvSpPr>
        <p:spPr>
          <a:xfrm>
            <a:off x="2786040" y="2071800"/>
            <a:ext cx="6172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Print"/>
              </a:rPr>
              <a:t>Способы описания химических реа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Заголовок 3"/>
          <p:cNvSpPr/>
          <p:nvPr/>
        </p:nvSpPr>
        <p:spPr>
          <a:xfrm>
            <a:off x="1714680" y="1214280"/>
            <a:ext cx="6172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46b86"/>
                </a:solidFill>
                <a:latin typeface="Century Schoolbook"/>
              </a:rPr>
              <a:t>ПРОБЛЕМА УРО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42640" y="928440"/>
            <a:ext cx="7467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6b86"/>
                </a:solidFill>
                <a:latin typeface="Century Schoolbook"/>
              </a:rPr>
              <a:t>ГОРЕНИЕ ФОСФОРА В КИСЛОРОДЕ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pic>
        <p:nvPicPr>
          <p:cNvPr id="521" name="горение фосфора в кислороде.avi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237360" cy="4678560"/>
          </a:xfrm>
          <a:prstGeom prst="rect">
            <a:avLst/>
          </a:prstGeom>
          <a:ln w="0">
            <a:noFill/>
          </a:ln>
        </p:spPr>
      </p:pic>
      <p:sp>
        <p:nvSpPr>
          <p:cNvPr id="522" name="Заголовок 3"/>
          <p:cNvSpPr/>
          <p:nvPr/>
        </p:nvSpPr>
        <p:spPr>
          <a:xfrm>
            <a:off x="1071720" y="0"/>
            <a:ext cx="6172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6b86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одзаголовок 4"/>
          <p:cNvSpPr/>
          <p:nvPr/>
        </p:nvSpPr>
        <p:spPr>
          <a:xfrm>
            <a:off x="3429000" y="142920"/>
            <a:ext cx="735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Print"/>
              </a:rPr>
              <a:t>Уравнения химически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ая соединительная линия 7"/>
          <p:cNvSpPr/>
          <p:nvPr/>
        </p:nvSpPr>
        <p:spPr>
          <a:xfrm>
            <a:off x="1000080" y="785880"/>
            <a:ext cx="8143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Управляющая кнопка: настраиваемая 9"/>
          <p:cNvGrpSpPr/>
          <p:nvPr/>
        </p:nvGrpSpPr>
        <p:grpSpPr>
          <a:xfrm>
            <a:off x="-66600" y="5668920"/>
            <a:ext cx="1127160" cy="414360"/>
            <a:chOff x="-66600" y="5668920"/>
            <a:chExt cx="1127160" cy="414360"/>
          </a:xfrm>
        </p:grpSpPr>
        <p:pic>
          <p:nvPicPr>
            <p:cNvPr id="526" name="Управляющая кнопка: настраиваемая 9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-66600" y="5668920"/>
              <a:ext cx="1127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0" y="571500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Дале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Управляющая кнопка: настраиваемая 10"/>
          <p:cNvGrpSpPr/>
          <p:nvPr/>
        </p:nvGrpSpPr>
        <p:grpSpPr>
          <a:xfrm>
            <a:off x="-66600" y="5950080"/>
            <a:ext cx="1127160" cy="420480"/>
            <a:chOff x="-66600" y="5950080"/>
            <a:chExt cx="1127160" cy="420480"/>
          </a:xfrm>
        </p:grpSpPr>
        <p:pic>
          <p:nvPicPr>
            <p:cNvPr id="529" name="Управляющая кнопка: настраиваемая 10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6600" y="595008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0" y="600084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entury Schoolbook"/>
                </a:rPr>
                <a:t>Таблиц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Управляющая кнопка: настраиваемая 11"/>
          <p:cNvGrpSpPr/>
          <p:nvPr/>
        </p:nvGrpSpPr>
        <p:grpSpPr>
          <a:xfrm>
            <a:off x="-66600" y="6235560"/>
            <a:ext cx="1127160" cy="420840"/>
            <a:chOff x="-66600" y="6235560"/>
            <a:chExt cx="1127160" cy="420840"/>
          </a:xfrm>
        </p:grpSpPr>
        <p:pic>
          <p:nvPicPr>
            <p:cNvPr id="532" name="Управляющая кнопка: настраиваемая 11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-66600" y="6235560"/>
              <a:ext cx="11271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0" y="6286680"/>
              <a:ext cx="10000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Наза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Управляющая кнопка: настраиваемая 12"/>
          <p:cNvGrpSpPr/>
          <p:nvPr/>
        </p:nvGrpSpPr>
        <p:grpSpPr>
          <a:xfrm>
            <a:off x="-66600" y="6523200"/>
            <a:ext cx="1127160" cy="420480"/>
            <a:chOff x="-66600" y="6523200"/>
            <a:chExt cx="1127160" cy="420480"/>
          </a:xfrm>
        </p:grpSpPr>
        <p:pic>
          <p:nvPicPr>
            <p:cNvPr id="535" name="Управляющая кнопка: настраиваемая 12" descr=""/>
            <p:cNvPicPr/>
            <p:nvPr/>
          </p:nvPicPr>
          <p:blipFill>
            <a:blip r:embed="rId6"/>
            <a:stretch/>
          </p:blipFill>
          <p:spPr>
            <a:xfrm>
              <a:off x="-66600" y="652320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0" y="657216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8F7604C-C758-45B6-9FA5-0F5C1B1680DB}" type="slidenum"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Заголовок 3"/>
          <p:cNvSpPr/>
          <p:nvPr/>
        </p:nvSpPr>
        <p:spPr>
          <a:xfrm>
            <a:off x="1857240" y="1000080"/>
            <a:ext cx="6172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Century Schoolbook"/>
              </a:rPr>
              <a:t>ПЛАН ОПИС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Century Schoolbook"/>
              </a:rPr>
              <a:t>ХИМИЧЕСКОЙ РЕА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Заголовок 3"/>
          <p:cNvSpPr/>
          <p:nvPr/>
        </p:nvSpPr>
        <p:spPr>
          <a:xfrm>
            <a:off x="1071720" y="0"/>
            <a:ext cx="6172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6b86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одзаголовок 4"/>
          <p:cNvSpPr/>
          <p:nvPr/>
        </p:nvSpPr>
        <p:spPr>
          <a:xfrm>
            <a:off x="3429000" y="142920"/>
            <a:ext cx="735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Print"/>
              </a:rPr>
              <a:t>Уравнения химически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ая соединительная линия 7"/>
          <p:cNvSpPr/>
          <p:nvPr/>
        </p:nvSpPr>
        <p:spPr>
          <a:xfrm>
            <a:off x="1000080" y="785880"/>
            <a:ext cx="8143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Управляющая кнопка: настраиваемая 9"/>
          <p:cNvGrpSpPr/>
          <p:nvPr/>
        </p:nvGrpSpPr>
        <p:grpSpPr>
          <a:xfrm>
            <a:off x="-66600" y="5668920"/>
            <a:ext cx="1127160" cy="414360"/>
            <a:chOff x="-66600" y="5668920"/>
            <a:chExt cx="1127160" cy="414360"/>
          </a:xfrm>
        </p:grpSpPr>
        <p:pic>
          <p:nvPicPr>
            <p:cNvPr id="543" name="Управляющая кнопка: настраиваемая 9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66600" y="5668920"/>
              <a:ext cx="1127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0" y="571500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Дале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Управляющая кнопка: настраиваемая 10"/>
          <p:cNvGrpSpPr/>
          <p:nvPr/>
        </p:nvGrpSpPr>
        <p:grpSpPr>
          <a:xfrm>
            <a:off x="-66600" y="5950080"/>
            <a:ext cx="1127160" cy="420480"/>
            <a:chOff x="-66600" y="5950080"/>
            <a:chExt cx="1127160" cy="420480"/>
          </a:xfrm>
        </p:grpSpPr>
        <p:pic>
          <p:nvPicPr>
            <p:cNvPr id="546" name="Управляющая кнопка: настраиваемая 10" descr=""/>
            <p:cNvPicPr/>
            <p:nvPr/>
          </p:nvPicPr>
          <p:blipFill>
            <a:blip r:embed="rId2"/>
            <a:stretch/>
          </p:blipFill>
          <p:spPr>
            <a:xfrm>
              <a:off x="-66600" y="595008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0" y="600084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entury Schoolbook"/>
                </a:rPr>
                <a:t>Таблиц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Управляющая кнопка: настраиваемая 11"/>
          <p:cNvGrpSpPr/>
          <p:nvPr/>
        </p:nvGrpSpPr>
        <p:grpSpPr>
          <a:xfrm>
            <a:off x="-66600" y="6235560"/>
            <a:ext cx="1127160" cy="420840"/>
            <a:chOff x="-66600" y="6235560"/>
            <a:chExt cx="1127160" cy="420840"/>
          </a:xfrm>
        </p:grpSpPr>
        <p:pic>
          <p:nvPicPr>
            <p:cNvPr id="549" name="Управляющая кнопка: настраиваемая 11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-66600" y="6235560"/>
              <a:ext cx="11271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0" y="6286680"/>
              <a:ext cx="10000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Наза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Управляющая кнопка: настраиваемая 12"/>
          <p:cNvGrpSpPr/>
          <p:nvPr/>
        </p:nvGrpSpPr>
        <p:grpSpPr>
          <a:xfrm>
            <a:off x="-66600" y="6523200"/>
            <a:ext cx="1127160" cy="420480"/>
            <a:chOff x="-66600" y="6523200"/>
            <a:chExt cx="1127160" cy="420480"/>
          </a:xfrm>
        </p:grpSpPr>
        <p:pic>
          <p:nvPicPr>
            <p:cNvPr id="552" name="Управляющая кнопка: настраиваемая 12" descr=""/>
            <p:cNvPicPr/>
            <p:nvPr/>
          </p:nvPicPr>
          <p:blipFill>
            <a:blip r:embed="rId4"/>
            <a:stretch/>
          </p:blipFill>
          <p:spPr>
            <a:xfrm>
              <a:off x="-66600" y="652320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0" y="657216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D2C3FE9-4A29-4401-8CBE-97F2CE5A0CC0}" type="slidenum"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одзаголовок 4"/>
          <p:cNvSpPr/>
          <p:nvPr/>
        </p:nvSpPr>
        <p:spPr>
          <a:xfrm>
            <a:off x="1143000" y="2286000"/>
            <a:ext cx="735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Print"/>
              </a:rPr>
              <a:t>1. Какие вещества вступают в реакцию (</a:t>
            </a:r>
            <a:r>
              <a:rPr b="0" lang="ru-RU" sz="2400" spc="-1" strike="noStrike">
                <a:solidFill>
                  <a:srgbClr val="ff0000"/>
                </a:solidFill>
                <a:latin typeface="Segoe Print"/>
              </a:rPr>
              <a:t>исходные вещества</a:t>
            </a:r>
            <a:r>
              <a:rPr b="0" lang="ru-RU" sz="2400" spc="-1" strike="noStrike">
                <a:solidFill>
                  <a:srgbClr val="0d0d0d"/>
                </a:solidFill>
                <a:latin typeface="Segoe Print"/>
              </a:rPr>
              <a:t>, или </a:t>
            </a:r>
            <a:r>
              <a:rPr b="0" lang="ru-RU" sz="2400" spc="-1" strike="noStrike">
                <a:solidFill>
                  <a:srgbClr val="ff0000"/>
                </a:solidFill>
                <a:latin typeface="Segoe Print"/>
              </a:rPr>
              <a:t>реагенты</a:t>
            </a:r>
            <a:r>
              <a:rPr b="0" lang="ru-RU" sz="2400" spc="-1" strike="noStrike">
                <a:solidFill>
                  <a:srgbClr val="000000"/>
                </a:solidFill>
                <a:latin typeface="Segoe Prin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одзаголовок 4"/>
          <p:cNvSpPr/>
          <p:nvPr/>
        </p:nvSpPr>
        <p:spPr>
          <a:xfrm>
            <a:off x="1214280" y="3643200"/>
            <a:ext cx="7358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Print"/>
              </a:rPr>
              <a:t>2. Какие новые вещества образовались (</a:t>
            </a:r>
            <a:r>
              <a:rPr b="0" lang="ru-RU" sz="2400" spc="-1" strike="noStrike">
                <a:solidFill>
                  <a:srgbClr val="ff0000"/>
                </a:solidFill>
                <a:latin typeface="Segoe Print"/>
              </a:rPr>
              <a:t>продукты реакции</a:t>
            </a:r>
            <a:r>
              <a:rPr b="0" lang="ru-RU" sz="2400" spc="-1" strike="noStrike">
                <a:solidFill>
                  <a:srgbClr val="000000"/>
                </a:solidFill>
                <a:latin typeface="Segoe Prin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одзаголовок 4"/>
          <p:cNvSpPr/>
          <p:nvPr/>
        </p:nvSpPr>
        <p:spPr>
          <a:xfrm>
            <a:off x="1357200" y="4929120"/>
            <a:ext cx="735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Print"/>
              </a:rPr>
              <a:t>3. Каковы условия и признаки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ая соединительная линия 2"/>
          <p:cNvSpPr/>
          <p:nvPr/>
        </p:nvSpPr>
        <p:spPr>
          <a:xfrm>
            <a:off x="1000080" y="785880"/>
            <a:ext cx="8143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41"/>
          <p:cNvSpPr/>
          <p:nvPr/>
        </p:nvSpPr>
        <p:spPr>
          <a:xfrm>
            <a:off x="1214280" y="18108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СТАВЛЕНИЕ УРАВНЕНИЙ ХИМИЧЕСКИХ РЕА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Текст 4"/>
          <p:cNvSpPr/>
          <p:nvPr/>
        </p:nvSpPr>
        <p:spPr>
          <a:xfrm>
            <a:off x="1071720" y="785880"/>
            <a:ext cx="7858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имер: Составить уравнение реакции взаимодействия фосфора и кисл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Скругленный прямоугольник 5"/>
          <p:cNvSpPr/>
          <p:nvPr/>
        </p:nvSpPr>
        <p:spPr>
          <a:xfrm>
            <a:off x="1857240" y="1714680"/>
            <a:ext cx="6929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В левой части уравнения запиши формулы веществ, которые вступают в реакцию. (Формулы простых газообразных веществ состоят из двух атомов: </a:t>
            </a:r>
            <a:r>
              <a:rPr b="0" i="1" lang="la-VA" sz="1800" spc="-1" strike="noStrike">
                <a:solidFill>
                  <a:srgbClr val="000000"/>
                </a:solidFill>
                <a:latin typeface="Century Schoolbook"/>
              </a:rPr>
              <a:t>Н</a:t>
            </a:r>
            <a:r>
              <a:rPr b="0" i="1" lang="la-VA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i="1" lang="la-VA" sz="1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О</a:t>
            </a:r>
            <a:r>
              <a:rPr b="0" i="1" lang="la-VA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i="1" lang="la-VA" sz="1800" spc="-1" strike="noStrike">
                <a:solidFill>
                  <a:srgbClr val="000000"/>
                </a:solidFill>
                <a:latin typeface="Century Schoolbook"/>
              </a:rPr>
              <a:t>, N</a:t>
            </a:r>
            <a:r>
              <a:rPr b="0" i="1" lang="la-VA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i="1" lang="la-VA" sz="1800" spc="-1" strike="noStrike">
                <a:solidFill>
                  <a:srgbClr val="000000"/>
                </a:solidFill>
                <a:latin typeface="Century Schoolbook"/>
              </a:rPr>
              <a:t>, C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l</a:t>
            </a:r>
            <a:r>
              <a:rPr b="0" i="1" lang="la-VA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и.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Группа 11"/>
          <p:cNvGrpSpPr/>
          <p:nvPr/>
        </p:nvGrpSpPr>
        <p:grpSpPr>
          <a:xfrm>
            <a:off x="1143000" y="4143240"/>
            <a:ext cx="3571920" cy="1071720"/>
            <a:chOff x="1143000" y="4143240"/>
            <a:chExt cx="3571920" cy="1071720"/>
          </a:xfrm>
        </p:grpSpPr>
        <p:sp>
          <p:nvSpPr>
            <p:cNvPr id="563" name="Прямоугольник 8"/>
            <p:cNvSpPr/>
            <p:nvPr/>
          </p:nvSpPr>
          <p:spPr>
            <a:xfrm>
              <a:off x="1143000" y="4143240"/>
              <a:ext cx="107136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entury Schoolbook"/>
                </a:rPr>
                <a:t>P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Прямоугольник 9"/>
            <p:cNvSpPr/>
            <p:nvPr/>
          </p:nvSpPr>
          <p:spPr>
            <a:xfrm>
              <a:off x="3643560" y="4143240"/>
              <a:ext cx="107136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entury Schoolbook"/>
                </a:rPr>
                <a:t>O</a:t>
              </a:r>
              <a:r>
                <a:rPr b="0" lang="en-US" sz="5400" spc="-1" strike="noStrike" baseline="-25000">
                  <a:solidFill>
                    <a:srgbClr val="000000"/>
                  </a:solidFill>
                  <a:latin typeface="Century Schoolbook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Прямоугольник 10"/>
            <p:cNvSpPr/>
            <p:nvPr/>
          </p:nvSpPr>
          <p:spPr>
            <a:xfrm>
              <a:off x="2357280" y="4143240"/>
              <a:ext cx="107136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entury Schoolbook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Скругленный прямоугольник 11"/>
          <p:cNvSpPr/>
          <p:nvPr/>
        </p:nvSpPr>
        <p:spPr>
          <a:xfrm>
            <a:off x="1857240" y="1714680"/>
            <a:ext cx="6929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правой части уравнения запиши формулы веществ образующихся в результате реа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ик 12"/>
          <p:cNvSpPr/>
          <p:nvPr/>
        </p:nvSpPr>
        <p:spPr>
          <a:xfrm>
            <a:off x="5857920" y="4143240"/>
            <a:ext cx="22143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Скругленный прямоугольник 13"/>
          <p:cNvSpPr/>
          <p:nvPr/>
        </p:nvSpPr>
        <p:spPr>
          <a:xfrm>
            <a:off x="1857240" y="1714680"/>
            <a:ext cx="6929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предели: атомов, какого элемента в левой части уравнения больше. (Вначале уравнивают число атомов, которых в левой части уравнения больше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Скругленный прямоугольник 14"/>
          <p:cNvSpPr/>
          <p:nvPr/>
        </p:nvSpPr>
        <p:spPr>
          <a:xfrm>
            <a:off x="1857240" y="1714680"/>
            <a:ext cx="6929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7b70"/>
                </a:solidFill>
                <a:latin typeface="Century Schoolbook"/>
              </a:rPr>
              <a:t>4. </a:t>
            </a:r>
            <a:r>
              <a:rPr b="0" lang="ru-RU" sz="1800" spc="-1" strike="noStrike">
                <a:solidFill>
                  <a:srgbClr val="8c7b70"/>
                </a:solidFill>
                <a:latin typeface="Century Schoolbook"/>
              </a:rPr>
              <a:t>Соедини фигурной стрелкой атомы этого элемента в левой и правой ча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Дуга 15"/>
          <p:cNvSpPr/>
          <p:nvPr/>
        </p:nvSpPr>
        <p:spPr>
          <a:xfrm rot="10800000">
            <a:off x="3929040" y="4714560"/>
            <a:ext cx="3286080" cy="785880"/>
          </a:xfrm>
          <a:custGeom>
            <a:avLst/>
            <a:gdLst>
              <a:gd name="textAreaLeft" fmla="*/ 0 w 3286080"/>
              <a:gd name="textAreaRight" fmla="*/ 3286440 w 3286080"/>
              <a:gd name="textAreaTop" fmla="*/ 0 h 785880"/>
              <a:gd name="textAreaBottom" fmla="*/ 393480 h 785880"/>
            </a:gdLst>
            <a:ahLst/>
            <a:rect l="textAreaLeft" t="textAreaTop" r="textAreaRight" b="textAreaBottom"/>
            <a:pathLst>
              <a:path stroke="0" w="3286125" h="785813">
                <a:moveTo>
                  <a:pt x="1" y="393348"/>
                </a:moveTo>
                <a:lnTo>
                  <a:pt x="1" y="393348"/>
                </a:lnTo>
                <a:arcTo wR="1643063" hR="392907" stAng="10799075" swAng="10800933"/>
                <a:lnTo>
                  <a:pt x="1643063" y="392907"/>
                </a:lnTo>
                <a:close/>
              </a:path>
              <a:path fill="none" w="3286125" h="785813">
                <a:moveTo>
                  <a:pt x="1" y="393348"/>
                </a:moveTo>
                <a:lnTo>
                  <a:pt x="1" y="393348"/>
                </a:lnTo>
                <a:arcTo wR="1643063" hR="392907" stAng="10799075" swAng="10800933"/>
              </a:path>
            </a:pathLst>
          </a:custGeom>
          <a:noFill/>
          <a:ln w="34920">
            <a:solidFill>
              <a:srgbClr val="ccb400"/>
            </a:solidFill>
            <a:round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Скругленный прямоугольник 16"/>
          <p:cNvSpPr/>
          <p:nvPr/>
        </p:nvSpPr>
        <p:spPr>
          <a:xfrm>
            <a:off x="1857240" y="1714680"/>
            <a:ext cx="6929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7b70"/>
                </a:solidFill>
                <a:latin typeface="Century Schoolbook"/>
              </a:rPr>
              <a:t>5. </a:t>
            </a:r>
            <a:r>
              <a:rPr b="0" lang="ru-RU" sz="1800" spc="-1" strike="noStrike">
                <a:solidFill>
                  <a:srgbClr val="8c7b70"/>
                </a:solidFill>
                <a:latin typeface="Century Schoolbook"/>
              </a:rPr>
              <a:t>Определи Н.О.К. чисел атомов в левой и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рямоугольник 17"/>
          <p:cNvSpPr/>
          <p:nvPr/>
        </p:nvSpPr>
        <p:spPr>
          <a:xfrm>
            <a:off x="4859280" y="5661000"/>
            <a:ext cx="8571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Скругленный прямоугольник 18"/>
          <p:cNvSpPr/>
          <p:nvPr/>
        </p:nvSpPr>
        <p:spPr>
          <a:xfrm>
            <a:off x="1857240" y="1714680"/>
            <a:ext cx="6929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7b70"/>
                </a:solidFill>
                <a:latin typeface="Century Schoolbook"/>
              </a:rPr>
              <a:t>6. </a:t>
            </a:r>
            <a:r>
              <a:rPr b="0" lang="ru-RU" sz="1800" spc="-1" strike="noStrike">
                <a:solidFill>
                  <a:srgbClr val="8c7b70"/>
                </a:solidFill>
                <a:latin typeface="Century Schoolbook"/>
              </a:rPr>
              <a:t>Запиши Н.О.К. в квадратике под стрел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Скругленный прямоугольник 19"/>
          <p:cNvSpPr/>
          <p:nvPr/>
        </p:nvSpPr>
        <p:spPr>
          <a:xfrm>
            <a:off x="1857240" y="1714680"/>
            <a:ext cx="6929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7b70"/>
                </a:solidFill>
                <a:latin typeface="Century Schoolbook"/>
              </a:rPr>
              <a:t>7. </a:t>
            </a:r>
            <a:r>
              <a:rPr b="0" lang="ru-RU" sz="1800" spc="-1" strike="noStrike">
                <a:solidFill>
                  <a:srgbClr val="8c7b70"/>
                </a:solidFill>
                <a:latin typeface="Century Schoolbook"/>
              </a:rPr>
              <a:t>Раздели Н.О.К. на число атомов каждого соединенного эле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Группа 28"/>
          <p:cNvGrpSpPr/>
          <p:nvPr/>
        </p:nvGrpSpPr>
        <p:grpSpPr>
          <a:xfrm>
            <a:off x="2143080" y="5643720"/>
            <a:ext cx="2214720" cy="642960"/>
            <a:chOff x="2143080" y="5643720"/>
            <a:chExt cx="2214720" cy="642960"/>
          </a:xfrm>
        </p:grpSpPr>
        <p:sp>
          <p:nvSpPr>
            <p:cNvPr id="576" name="Прямоугольник 21"/>
            <p:cNvSpPr/>
            <p:nvPr/>
          </p:nvSpPr>
          <p:spPr>
            <a:xfrm>
              <a:off x="2143080" y="5643720"/>
              <a:ext cx="8571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Прямоугольник 22"/>
            <p:cNvSpPr/>
            <p:nvPr/>
          </p:nvSpPr>
          <p:spPr>
            <a:xfrm>
              <a:off x="2857320" y="5643720"/>
              <a:ext cx="357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Прямоугольник 23"/>
            <p:cNvSpPr/>
            <p:nvPr/>
          </p:nvSpPr>
          <p:spPr>
            <a:xfrm>
              <a:off x="3071880" y="564372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Прямоугольник 24"/>
            <p:cNvSpPr/>
            <p:nvPr/>
          </p:nvSpPr>
          <p:spPr>
            <a:xfrm>
              <a:off x="3429000" y="564372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Прямоугольник 25"/>
            <p:cNvSpPr/>
            <p:nvPr/>
          </p:nvSpPr>
          <p:spPr>
            <a:xfrm>
              <a:off x="3857760" y="564372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Группа 34"/>
          <p:cNvGrpSpPr/>
          <p:nvPr/>
        </p:nvGrpSpPr>
        <p:grpSpPr>
          <a:xfrm>
            <a:off x="6227640" y="5661000"/>
            <a:ext cx="2500560" cy="642960"/>
            <a:chOff x="6227640" y="5661000"/>
            <a:chExt cx="2500560" cy="642960"/>
          </a:xfrm>
        </p:grpSpPr>
        <p:sp>
          <p:nvSpPr>
            <p:cNvPr id="582" name="Прямоугольник 27"/>
            <p:cNvSpPr/>
            <p:nvPr/>
          </p:nvSpPr>
          <p:spPr>
            <a:xfrm>
              <a:off x="6227640" y="5661000"/>
              <a:ext cx="8571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Прямоугольник 28"/>
            <p:cNvSpPr/>
            <p:nvPr/>
          </p:nvSpPr>
          <p:spPr>
            <a:xfrm>
              <a:off x="6941880" y="5661000"/>
              <a:ext cx="357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Прямоугольник 29"/>
            <p:cNvSpPr/>
            <p:nvPr/>
          </p:nvSpPr>
          <p:spPr>
            <a:xfrm>
              <a:off x="7299360" y="566100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Прямоугольник 30"/>
            <p:cNvSpPr/>
            <p:nvPr/>
          </p:nvSpPr>
          <p:spPr>
            <a:xfrm>
              <a:off x="7728120" y="566100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Прямоугольник 31"/>
            <p:cNvSpPr/>
            <p:nvPr/>
          </p:nvSpPr>
          <p:spPr>
            <a:xfrm>
              <a:off x="8228160" y="566100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Скругленный прямоугольник 32"/>
          <p:cNvSpPr/>
          <p:nvPr/>
        </p:nvSpPr>
        <p:spPr>
          <a:xfrm>
            <a:off x="1857240" y="1714680"/>
            <a:ext cx="6929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7b70"/>
                </a:solidFill>
                <a:latin typeface="Century Schoolbook"/>
              </a:rPr>
              <a:t>8. </a:t>
            </a:r>
            <a:r>
              <a:rPr b="0" lang="ru-RU" sz="1800" spc="-1" strike="noStrike">
                <a:solidFill>
                  <a:srgbClr val="8c7b70"/>
                </a:solidFill>
                <a:latin typeface="Century Schoolbook"/>
              </a:rPr>
              <a:t>Запиши полученное число перед формулой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33"/>
          <p:cNvSpPr/>
          <p:nvPr/>
        </p:nvSpPr>
        <p:spPr>
          <a:xfrm>
            <a:off x="3286080" y="4357800"/>
            <a:ext cx="500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34"/>
          <p:cNvSpPr/>
          <p:nvPr/>
        </p:nvSpPr>
        <p:spPr>
          <a:xfrm>
            <a:off x="5786280" y="4357800"/>
            <a:ext cx="500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Скругленный прямоугольник 35"/>
          <p:cNvSpPr/>
          <p:nvPr/>
        </p:nvSpPr>
        <p:spPr>
          <a:xfrm>
            <a:off x="1857240" y="1714680"/>
            <a:ext cx="6929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9. Определи: есть ли еще не уравненные (не соединенные) а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а)  Если есть, то вернись к пункту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б)  Если нет, то ВС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Дуга 36"/>
          <p:cNvSpPr/>
          <p:nvPr/>
        </p:nvSpPr>
        <p:spPr>
          <a:xfrm>
            <a:off x="1643040" y="4000680"/>
            <a:ext cx="4786200" cy="785520"/>
          </a:xfrm>
          <a:custGeom>
            <a:avLst/>
            <a:gdLst>
              <a:gd name="textAreaLeft" fmla="*/ 25560 w 4786200"/>
              <a:gd name="textAreaRight" fmla="*/ 4786560 w 4786200"/>
              <a:gd name="textAreaTop" fmla="*/ 0 h 785520"/>
              <a:gd name="textAreaBottom" fmla="*/ 392760 h 785520"/>
            </a:gdLst>
            <a:ahLst/>
            <a:rect l="textAreaLeft" t="textAreaTop" r="textAreaRight" b="textAreaBottom"/>
            <a:pathLst>
              <a:path stroke="0" w="4786312" h="785813">
                <a:moveTo>
                  <a:pt x="25651" y="335534"/>
                </a:moveTo>
                <a:lnTo>
                  <a:pt x="25651" y="335534"/>
                </a:lnTo>
                <a:arcTo wR="2393156" hR="392907" stAng="-10716708" swAng="10716715"/>
                <a:lnTo>
                  <a:pt x="2393156" y="392907"/>
                </a:lnTo>
                <a:close/>
              </a:path>
              <a:path fill="none" w="4786312" h="785813">
                <a:moveTo>
                  <a:pt x="25651" y="335534"/>
                </a:moveTo>
                <a:lnTo>
                  <a:pt x="25651" y="335534"/>
                </a:lnTo>
                <a:arcTo wR="2393156" hR="392907" stAng="-10716708" swAng="10716715"/>
              </a:path>
            </a:pathLst>
          </a:custGeom>
          <a:noFill/>
          <a:ln w="34920">
            <a:solidFill>
              <a:srgbClr val="ccb400"/>
            </a:solidFill>
            <a:round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37"/>
          <p:cNvSpPr/>
          <p:nvPr/>
        </p:nvSpPr>
        <p:spPr>
          <a:xfrm>
            <a:off x="3429000" y="3286080"/>
            <a:ext cx="8571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Группа 52"/>
          <p:cNvGrpSpPr/>
          <p:nvPr/>
        </p:nvGrpSpPr>
        <p:grpSpPr>
          <a:xfrm>
            <a:off x="4429080" y="3286080"/>
            <a:ext cx="2500200" cy="642960"/>
            <a:chOff x="4429080" y="3286080"/>
            <a:chExt cx="2500200" cy="642960"/>
          </a:xfrm>
        </p:grpSpPr>
        <p:sp>
          <p:nvSpPr>
            <p:cNvPr id="594" name="Прямоугольник 39"/>
            <p:cNvSpPr/>
            <p:nvPr/>
          </p:nvSpPr>
          <p:spPr>
            <a:xfrm>
              <a:off x="4429080" y="3286080"/>
              <a:ext cx="8571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Прямоугольник 40"/>
            <p:cNvSpPr/>
            <p:nvPr/>
          </p:nvSpPr>
          <p:spPr>
            <a:xfrm>
              <a:off x="5143320" y="3286080"/>
              <a:ext cx="357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Прямоугольник 41"/>
            <p:cNvSpPr/>
            <p:nvPr/>
          </p:nvSpPr>
          <p:spPr>
            <a:xfrm>
              <a:off x="5500440" y="328608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Прямоугольник 42"/>
            <p:cNvSpPr/>
            <p:nvPr/>
          </p:nvSpPr>
          <p:spPr>
            <a:xfrm>
              <a:off x="5929200" y="328608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Прямоугольник 43"/>
            <p:cNvSpPr/>
            <p:nvPr/>
          </p:nvSpPr>
          <p:spPr>
            <a:xfrm>
              <a:off x="6429240" y="328608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Группа 53"/>
          <p:cNvGrpSpPr/>
          <p:nvPr/>
        </p:nvGrpSpPr>
        <p:grpSpPr>
          <a:xfrm>
            <a:off x="785880" y="3286080"/>
            <a:ext cx="2214360" cy="642960"/>
            <a:chOff x="785880" y="3286080"/>
            <a:chExt cx="2214360" cy="642960"/>
          </a:xfrm>
        </p:grpSpPr>
        <p:sp>
          <p:nvSpPr>
            <p:cNvPr id="600" name="Прямоугольник 45"/>
            <p:cNvSpPr/>
            <p:nvPr/>
          </p:nvSpPr>
          <p:spPr>
            <a:xfrm>
              <a:off x="785880" y="3286080"/>
              <a:ext cx="8571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Прямоугольник 46"/>
            <p:cNvSpPr/>
            <p:nvPr/>
          </p:nvSpPr>
          <p:spPr>
            <a:xfrm>
              <a:off x="1500120" y="3286080"/>
              <a:ext cx="357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Прямоугольник 47"/>
            <p:cNvSpPr/>
            <p:nvPr/>
          </p:nvSpPr>
          <p:spPr>
            <a:xfrm>
              <a:off x="1714320" y="328608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Прямоугольник 48"/>
            <p:cNvSpPr/>
            <p:nvPr/>
          </p:nvSpPr>
          <p:spPr>
            <a:xfrm>
              <a:off x="2071800" y="328608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Прямоугольник 49"/>
            <p:cNvSpPr/>
            <p:nvPr/>
          </p:nvSpPr>
          <p:spPr>
            <a:xfrm>
              <a:off x="2500200" y="328608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Прямоугольник 50"/>
          <p:cNvSpPr/>
          <p:nvPr/>
        </p:nvSpPr>
        <p:spPr>
          <a:xfrm>
            <a:off x="1071720" y="4357800"/>
            <a:ext cx="500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Управляющая кнопка: настраиваемая 52"/>
          <p:cNvGrpSpPr/>
          <p:nvPr/>
        </p:nvGrpSpPr>
        <p:grpSpPr>
          <a:xfrm>
            <a:off x="-66600" y="5668920"/>
            <a:ext cx="1127160" cy="414360"/>
            <a:chOff x="-66600" y="5668920"/>
            <a:chExt cx="1127160" cy="414360"/>
          </a:xfrm>
        </p:grpSpPr>
        <p:pic>
          <p:nvPicPr>
            <p:cNvPr id="607" name="Управляющая кнопка: настраиваемая 52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66600" y="5668920"/>
              <a:ext cx="1127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0" y="571500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Дале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Управляющая кнопка: настраиваемая 53"/>
          <p:cNvGrpSpPr/>
          <p:nvPr/>
        </p:nvGrpSpPr>
        <p:grpSpPr>
          <a:xfrm>
            <a:off x="-66600" y="5950080"/>
            <a:ext cx="1127160" cy="420480"/>
            <a:chOff x="-66600" y="5950080"/>
            <a:chExt cx="1127160" cy="420480"/>
          </a:xfrm>
        </p:grpSpPr>
        <p:pic>
          <p:nvPicPr>
            <p:cNvPr id="610" name="Управляющая кнопка: настраиваемая 53" descr=""/>
            <p:cNvPicPr/>
            <p:nvPr/>
          </p:nvPicPr>
          <p:blipFill>
            <a:blip r:embed="rId2"/>
            <a:stretch/>
          </p:blipFill>
          <p:spPr>
            <a:xfrm>
              <a:off x="-66600" y="595008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0" y="600084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entury Schoolbook"/>
                </a:rPr>
                <a:t>Таблиц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Управляющая кнопка: настраиваемая 54"/>
          <p:cNvGrpSpPr/>
          <p:nvPr/>
        </p:nvGrpSpPr>
        <p:grpSpPr>
          <a:xfrm>
            <a:off x="-66600" y="6235560"/>
            <a:ext cx="1127160" cy="420840"/>
            <a:chOff x="-66600" y="6235560"/>
            <a:chExt cx="1127160" cy="420840"/>
          </a:xfrm>
        </p:grpSpPr>
        <p:pic>
          <p:nvPicPr>
            <p:cNvPr id="613" name="Управляющая кнопка: настраиваемая 5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-66600" y="6235560"/>
              <a:ext cx="11271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0" y="6286680"/>
              <a:ext cx="10000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Наза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Управляющая кнопка: настраиваемая 55"/>
          <p:cNvGrpSpPr/>
          <p:nvPr/>
        </p:nvGrpSpPr>
        <p:grpSpPr>
          <a:xfrm>
            <a:off x="-66600" y="6523200"/>
            <a:ext cx="1127160" cy="420480"/>
            <a:chOff x="-66600" y="6523200"/>
            <a:chExt cx="1127160" cy="420480"/>
          </a:xfrm>
        </p:grpSpPr>
        <p:pic>
          <p:nvPicPr>
            <p:cNvPr id="616" name="Управляющая кнопка: настраиваемая 55" descr=""/>
            <p:cNvPicPr/>
            <p:nvPr/>
          </p:nvPicPr>
          <p:blipFill>
            <a:blip r:embed="rId4"/>
            <a:stretch/>
          </p:blipFill>
          <p:spPr>
            <a:xfrm>
              <a:off x="-66600" y="652320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0" y="657216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1437278-A0B3-40DC-AADB-E0399F4346FF}" type="slidenum"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58"/>
          <p:cNvSpPr/>
          <p:nvPr/>
        </p:nvSpPr>
        <p:spPr>
          <a:xfrm>
            <a:off x="5572080" y="2357280"/>
            <a:ext cx="10717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59"/>
          <p:cNvSpPr/>
          <p:nvPr/>
        </p:nvSpPr>
        <p:spPr>
          <a:xfrm>
            <a:off x="4857840" y="4143240"/>
            <a:ext cx="10713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8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3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-0.25168 E">
                                      <p:cBhvr>
                                        <p:cTn id="247" dur="1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-0.25168 E">
                                      <p:cBhvr>
                                        <p:cTn id="249" dur="1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-0.25168 E">
                                      <p:cBhvr>
                                        <p:cTn id="251" dur="1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-0.25168 E">
                                      <p:cBhvr>
                                        <p:cTn id="253" dur="1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-0.25168 E">
                                      <p:cBhvr>
                                        <p:cTn id="255" dur="1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42640" y="92880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6b86"/>
                </a:solidFill>
                <a:latin typeface="Century Schoolbook"/>
              </a:rPr>
              <a:t>ГОРЕНИЕ ЖЕЛЕЗА В КИСЛОРОДЕ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pic>
        <p:nvPicPr>
          <p:cNvPr id="622" name="горение железа в кислороде.avi" descr=""/>
          <p:cNvPicPr/>
          <p:nvPr/>
        </p:nvPicPr>
        <p:blipFill>
          <a:blip r:embed="rId1"/>
          <a:stretch/>
        </p:blipFill>
        <p:spPr>
          <a:xfrm>
            <a:off x="1785960" y="1500120"/>
            <a:ext cx="6072120" cy="4554720"/>
          </a:xfrm>
          <a:prstGeom prst="rect">
            <a:avLst/>
          </a:prstGeom>
          <a:ln w="0">
            <a:noFill/>
          </a:ln>
        </p:spPr>
      </p:pic>
      <p:sp>
        <p:nvSpPr>
          <p:cNvPr id="623" name="Подзаголовок 4"/>
          <p:cNvSpPr/>
          <p:nvPr/>
        </p:nvSpPr>
        <p:spPr>
          <a:xfrm>
            <a:off x="3357720" y="214200"/>
            <a:ext cx="735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Print"/>
              </a:rPr>
              <a:t>Уравнение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Заголовок 3"/>
          <p:cNvSpPr/>
          <p:nvPr/>
        </p:nvSpPr>
        <p:spPr>
          <a:xfrm>
            <a:off x="1071720" y="0"/>
            <a:ext cx="6172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6b86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ая соединительная линия 9"/>
          <p:cNvSpPr/>
          <p:nvPr/>
        </p:nvSpPr>
        <p:spPr>
          <a:xfrm>
            <a:off x="1000080" y="785880"/>
            <a:ext cx="8143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Управляющая кнопка: настраиваемая 11"/>
          <p:cNvGrpSpPr/>
          <p:nvPr/>
        </p:nvGrpSpPr>
        <p:grpSpPr>
          <a:xfrm>
            <a:off x="-66600" y="5668920"/>
            <a:ext cx="1127160" cy="414360"/>
            <a:chOff x="-66600" y="5668920"/>
            <a:chExt cx="1127160" cy="414360"/>
          </a:xfrm>
        </p:grpSpPr>
        <p:pic>
          <p:nvPicPr>
            <p:cNvPr id="627" name="Управляющая кнопка: настраиваемая 11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-66600" y="5668920"/>
              <a:ext cx="1127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0" y="571500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Дале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Управляющая кнопка: настраиваемая 12"/>
          <p:cNvGrpSpPr/>
          <p:nvPr/>
        </p:nvGrpSpPr>
        <p:grpSpPr>
          <a:xfrm>
            <a:off x="-66600" y="5950080"/>
            <a:ext cx="1127160" cy="420480"/>
            <a:chOff x="-66600" y="5950080"/>
            <a:chExt cx="1127160" cy="420480"/>
          </a:xfrm>
        </p:grpSpPr>
        <p:pic>
          <p:nvPicPr>
            <p:cNvPr id="630" name="Управляющая кнопка: настраиваемая 12" descr=""/>
            <p:cNvPicPr/>
            <p:nvPr/>
          </p:nvPicPr>
          <p:blipFill>
            <a:blip r:embed="rId3"/>
            <a:stretch/>
          </p:blipFill>
          <p:spPr>
            <a:xfrm>
              <a:off x="-66600" y="595008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0" y="600084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entury Schoolbook"/>
                </a:rPr>
                <a:t>Таблиц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Управляющая кнопка: настраиваемая 13"/>
          <p:cNvGrpSpPr/>
          <p:nvPr/>
        </p:nvGrpSpPr>
        <p:grpSpPr>
          <a:xfrm>
            <a:off x="-66600" y="6235560"/>
            <a:ext cx="1127160" cy="420840"/>
            <a:chOff x="-66600" y="6235560"/>
            <a:chExt cx="1127160" cy="420840"/>
          </a:xfrm>
        </p:grpSpPr>
        <p:pic>
          <p:nvPicPr>
            <p:cNvPr id="633" name="Управляющая кнопка: настраиваемая 13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-66600" y="6235560"/>
              <a:ext cx="11271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0" y="6286680"/>
              <a:ext cx="10000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Наза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Управляющая кнопка: настраиваемая 14"/>
          <p:cNvGrpSpPr/>
          <p:nvPr/>
        </p:nvGrpSpPr>
        <p:grpSpPr>
          <a:xfrm>
            <a:off x="-66600" y="6523200"/>
            <a:ext cx="1127160" cy="420480"/>
            <a:chOff x="-66600" y="6523200"/>
            <a:chExt cx="1127160" cy="420480"/>
          </a:xfrm>
        </p:grpSpPr>
        <p:pic>
          <p:nvPicPr>
            <p:cNvPr id="636" name="Управляющая кнопка: настраиваемая 14" descr=""/>
            <p:cNvPicPr/>
            <p:nvPr/>
          </p:nvPicPr>
          <p:blipFill>
            <a:blip r:embed="rId5"/>
            <a:stretch/>
          </p:blipFill>
          <p:spPr>
            <a:xfrm>
              <a:off x="-66600" y="652320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0" y="657216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18C61B7-0595-4B8C-8B25-02F67022407E}" type="slidenum"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"/>
          <p:cNvSpPr/>
          <p:nvPr/>
        </p:nvSpPr>
        <p:spPr>
          <a:xfrm>
            <a:off x="1264320" y="6030360"/>
            <a:ext cx="738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 уравнение реа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2"/>
          <p:cNvSpPr/>
          <p:nvPr/>
        </p:nvSpPr>
        <p:spPr>
          <a:xfrm>
            <a:off x="7858080" y="54298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autoRev="1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78" dur="500" autoRev="1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79" dur="500" autoRev="1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b400"/>
                                      </p:to>
                                    </p:animClr>
                                    <p:animClr clrSpc="rgb">
                                      <p:cBhvr>
                                        <p:cTn id="282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b400"/>
                                      </p:to>
                                    </p:animClr>
                                    <p:set>
                                      <p:cBhvr>
                                        <p:cTn id="283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8" dur="1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1"/>
          <p:cNvSpPr/>
          <p:nvPr/>
        </p:nvSpPr>
        <p:spPr>
          <a:xfrm>
            <a:off x="2578680" y="2430000"/>
            <a:ext cx="55609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Fe + 3O</a:t>
            </a:r>
            <a:r>
              <a:rPr b="0" lang="en-US" sz="5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Fe</a:t>
            </a:r>
            <a:r>
              <a:rPr b="0" lang="en-US" sz="5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5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Прямоугольник 7" descr=""/>
          <p:cNvPicPr/>
          <p:nvPr/>
        </p:nvPicPr>
        <p:blipFill>
          <a:blip r:embed="rId1"/>
          <a:stretch/>
        </p:blipFill>
        <p:spPr>
          <a:xfrm>
            <a:off x="2944800" y="512640"/>
            <a:ext cx="1865160" cy="1084320"/>
          </a:xfrm>
          <a:prstGeom prst="rect">
            <a:avLst/>
          </a:prstGeom>
          <a:ln w="0">
            <a:noFill/>
          </a:ln>
        </p:spPr>
      </p:pic>
      <p:pic>
        <p:nvPicPr>
          <p:cNvPr id="643" name="Прямоугольник 8" descr=""/>
          <p:cNvPicPr/>
          <p:nvPr/>
        </p:nvPicPr>
        <p:blipFill>
          <a:blip r:embed="rId2"/>
          <a:stretch/>
        </p:blipFill>
        <p:spPr>
          <a:xfrm>
            <a:off x="6010200" y="1682640"/>
            <a:ext cx="2603520" cy="700200"/>
          </a:xfrm>
          <a:prstGeom prst="rect">
            <a:avLst/>
          </a:prstGeom>
          <a:ln w="0">
            <a:noFill/>
          </a:ln>
        </p:spPr>
      </p:pic>
      <p:pic>
        <p:nvPicPr>
          <p:cNvPr id="644" name="Прямоугольник 9" descr=""/>
          <p:cNvPicPr/>
          <p:nvPr/>
        </p:nvPicPr>
        <p:blipFill>
          <a:blip r:embed="rId3"/>
          <a:stretch/>
        </p:blipFill>
        <p:spPr>
          <a:xfrm>
            <a:off x="2365200" y="3913200"/>
            <a:ext cx="2584800" cy="1255680"/>
          </a:xfrm>
          <a:prstGeom prst="rect">
            <a:avLst/>
          </a:prstGeom>
          <a:ln w="0">
            <a:noFill/>
          </a:ln>
        </p:spPr>
      </p:pic>
      <p:pic>
        <p:nvPicPr>
          <p:cNvPr id="645" name="Прямоугольник 10" descr=""/>
          <p:cNvPicPr/>
          <p:nvPr/>
        </p:nvPicPr>
        <p:blipFill>
          <a:blip r:embed="rId4"/>
          <a:stretch/>
        </p:blipFill>
        <p:spPr>
          <a:xfrm>
            <a:off x="5992920" y="4889520"/>
            <a:ext cx="31384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524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646b86"/>
                </a:solidFill>
                <a:latin typeface="Century Schoolbook"/>
              </a:rPr>
              <a:t>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646b86"/>
                </a:solidFill>
                <a:latin typeface="Century Schoolbook"/>
              </a:rPr>
              <a:t>      </a:t>
            </a:r>
            <a:r>
              <a:rPr b="1" lang="ru-RU" sz="2800" spc="-1" strike="noStrike">
                <a:solidFill>
                  <a:srgbClr val="646b86"/>
                </a:solidFill>
                <a:latin typeface="Century Schoolbook"/>
              </a:rPr>
              <a:t>ПРАВИЛА НАПИСАНИЯ СИНКВЕЙНА: </a:t>
            </a: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646b86"/>
                </a:solidFill>
                <a:latin typeface="Century Schoolbook"/>
              </a:rPr>
              <a:t> 1. НАЗВАНИЕ. ТЕМА (СУЩЕСТВИТЕЛЬНОЕ) -        1 СЛОВО </a:t>
            </a:r>
            <a:br>
              <a:rPr sz="2000"/>
            </a:br>
            <a:r>
              <a:rPr b="1" lang="ru-RU" sz="2000" spc="-1" strike="noStrike">
                <a:solidFill>
                  <a:srgbClr val="646b86"/>
                </a:solidFill>
                <a:latin typeface="Century Schoolbook"/>
              </a:rPr>
              <a:t> 2. ОПИСАНИЕ (ПРИЛАГАТЕЛЬНОЕ) -                      2 СЛОВА </a:t>
            </a:r>
            <a:br>
              <a:rPr sz="2000"/>
            </a:br>
            <a:r>
              <a:rPr b="1" lang="ru-RU" sz="2000" spc="-1" strike="noStrike">
                <a:solidFill>
                  <a:srgbClr val="646b86"/>
                </a:solidFill>
                <a:latin typeface="Century Schoolbook"/>
              </a:rPr>
              <a:t> 3. ДЕЙСТВИЕ ИЛИ СОСТАВ -                                   3-4 СЛОВА </a:t>
            </a:r>
            <a:br>
              <a:rPr sz="2000"/>
            </a:br>
            <a:r>
              <a:rPr b="1" lang="ru-RU" sz="2000" spc="-1" strike="noStrike">
                <a:solidFill>
                  <a:srgbClr val="646b86"/>
                </a:solidFill>
                <a:latin typeface="Century Schoolbook"/>
              </a:rPr>
              <a:t> 4. ОТНОШЕНИЕ К ТЕМЕ -                                        2-3 СЛОВА </a:t>
            </a:r>
            <a:br>
              <a:rPr sz="2000"/>
            </a:br>
            <a:r>
              <a:rPr b="1" lang="ru-RU" sz="2000" spc="-1" strike="noStrike">
                <a:solidFill>
                  <a:srgbClr val="646b86"/>
                </a:solidFill>
                <a:latin typeface="Century Schoolbook"/>
              </a:rPr>
              <a:t> 5. СИНОНИМ ТЕМЫ -                                               1-2 СЛОВА</a:t>
            </a:r>
            <a:endParaRPr b="0" lang="en-US" sz="2000" spc="-1" strike="noStrike">
              <a:solidFill>
                <a:srgbClr val="646b8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05:41:55Z</dcterms:created>
  <dc:creator>Олеся</dc:creator>
  <dc:description/>
  <dc:language>en-US</dc:language>
  <cp:lastModifiedBy>Дима</cp:lastModifiedBy>
  <dcterms:modified xsi:type="dcterms:W3CDTF">2011-12-18T10:24:21Z</dcterms:modified>
  <cp:revision>44</cp:revision>
  <dc:subject/>
  <dc:title>Уравнения  химической реакции</dc:title>
</cp:coreProperties>
</file>