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2F0-E9CE-4B2F-A359-54097007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40E-BD05-4B19-83C7-A96224C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DFB9DF-DBF4-401E-AE42-5848175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39AB7-E3ED-4FCE-829F-2AF3E1C0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733EF-A686-43AE-8363-182180B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200D50-655E-420B-A9BF-652498C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09712-3FC0-4D68-B1B5-51F42D8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650FD-3D48-4D58-96E0-F68970F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F2A5E-D2FB-4BF0-9F82-6A1485F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FB6399-A856-468A-8920-EA796BEA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53847-91A8-465F-832B-EFA9654D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24B27F-03AF-4400-8A79-2C75CE4F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C55-DA81-4D0E-8A63-0CBC29E0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6B35C-43DB-4E5B-8EE6-4EDB071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BD9F3F-E2A3-48E5-A56F-7007F35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72A04-DD64-4EE0-AD52-E30BD10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618D9-2E3B-4518-93FB-14D348A0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CB036-7B4C-47FF-A93F-356AD52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2A384-1DFF-49A4-BF9E-507D2FB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2EF11-92B2-4B3B-B6DC-1CA884CE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8FD74-E7D2-4C06-AB5F-7AD224A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52A77-1C4E-415E-996C-7D1A931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E277DA-C54B-4613-979D-CA5F31EB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228-E74F-4B60-8AB5-F5591D89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D1EB1B-360B-4C10-BACD-011A1166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8E5-306B-420D-B443-2B9CB2D6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0C5-99B6-4C17-A275-011A30F1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22E-1D1B-4255-80D4-F2876CC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F563-9339-486C-92F2-17EF59F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E35B-8C27-44B3-9266-B2D1001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48AB-370E-435A-8A10-F3B730F8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B3F-FF38-41AC-B440-BD450AD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C259-025D-488D-933F-1D03A838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D98B-5832-46A8-99F2-8E5FF69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1B69-E366-4B4C-8590-AE8ECB4A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EF73-E9A9-4896-9125-44ED9809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308-42B3-453A-B71E-708A916C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5E0F-C8BF-4B65-BABB-DE9D37E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A53A-81B2-49F9-930C-022175B5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C3E6-30A2-4467-A3A8-3B3243C4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52AC-5122-4DB4-85D3-7767DEC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030A-1510-45F3-92C9-A9D2560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207-60C1-435D-AFE1-3BA57B51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18F4-116E-4595-9B72-3B6A2214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8BE8-96E5-4CF7-8FC5-F172667F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BE04-C011-4A7A-BA16-44C87E9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9FC0-0BA1-49C7-8D3F-BA53F8A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4C19-0B67-4DC2-9690-A23D88F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CEA6-A228-4708-B866-12679A4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3689-1195-4B53-9BD0-95F847D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7C71-65E9-48F4-9671-00EC1DC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78AF-CAC4-44F9-AEF8-4E0E3FCA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3F3A-9217-4C6A-B38F-8E4BE0F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992-BE4F-4D61-B4AA-96B67709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FE156-3BDC-489E-8DCB-0940B2EC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16AE-0149-43B4-93E2-2D0D644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B470-2368-4A8C-AEB9-AA43FFAF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07C0-F2E0-4372-A800-72D6C37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D8CA-B8C2-40F9-A5C7-C3403F79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F07C-9769-4D5F-BCFC-BDD8C93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A887-A9EB-48D8-9B1B-A331A738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B656-E530-42E3-9F60-93DD195E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792F-14B5-4636-92AB-59B86F9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5B86-1BC5-4A20-B7BF-540A745F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032-09F7-4C37-8000-54058F5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E2C04-741B-427A-95E2-CEA9C335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0284F-AC29-4B08-BF3F-D15610E9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C4442-9D31-4AAD-9886-46A88C05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6C9B9-41C8-4CCA-9283-5F58FE2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7E79B-75D3-4C50-8950-EE3DD64F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21E53-8098-4F87-8F01-09A2A02F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C4938-BCB0-4FE6-B32B-688115B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07A4A-C1BC-4B72-BC0B-C7162E14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FB604-8B8B-44C6-8251-4FAA22AE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D2AA4-ACB0-4075-ACB6-177B805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F71-6532-48E5-9865-4DFCE1EC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FD1A1-342B-4A55-BDBB-0A0038EF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A56B3-7D72-49E4-95DD-707EB69D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CDF73-A792-4D06-9EF0-0D0AF576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EE47A-482B-4DCD-8720-E6BB0760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27F8F-9357-419F-ACE2-F4BC6DA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3EBE-BD20-4ED3-9EFA-E933C20A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6119-303C-432E-8A4D-3951DE51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8896-0EED-43CE-940B-D949440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7E57B-3815-4A51-9ABA-82CF7CF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5E43-7538-4F4B-ACEA-25262D5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AE8-FBED-4B9F-8E64-A63479F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E478-8787-40A0-9225-64A34B0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2457-AD61-45FE-9719-45F4866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1FA18-E06F-4B9E-845C-DED4056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F89F-2EC2-4489-90D7-593EB8D7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580A-62C2-4485-B6E8-5DC84BF0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D5F8F-3989-44E3-A14C-F5A5A306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CFCC5-5CC7-4916-88E4-34C195C5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5CFD0-BBC0-4F6F-8E42-E382AB86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F2142-AD39-4C71-AF93-02F9CC5D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35F56-E4A0-4C8B-AF04-134D49C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FD5-FA3B-4B61-AB7F-C7E9264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506B9-97DB-4D04-8322-AAD94C74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5CAF6-6A9E-4D1A-BAA5-65E008F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7A4A4-82E7-4F8C-9660-7A3B7C7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1B156-B143-467B-B5BA-F0CDCD1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846EF-EF28-4E31-A9E1-63011966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AA200-4DE6-487B-A430-759FAF7B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69CFB-F751-417A-B185-97C2FF27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8A04F-66F0-4777-9D14-1F82DCE6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BC033-443B-4852-BCA2-7A597E20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64848-5BC3-4D28-BC64-12CE16F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hyperlink" Target="http://www.it-n.ru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it-n.ru/communities.aspx?cat_no=4605&amp;tmpl=com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голубая-хим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08E9-9A2E-4954-82A1-20C79A160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8C38-3323-4718-B8E7-0D9ACA5B98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7" descr="низ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4">
            <a:hlinkClick r:id="" action="ppaction://hlinkshowjump?jump=previousslide"/>
          </p:cNvPr>
          <p:cNvSpPr/>
          <p:nvPr/>
        </p:nvSpPr>
        <p:spPr>
          <a:xfrm>
            <a:off x="1835280" y="6477120"/>
            <a:ext cx="83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">
            <a:hlinkClick r:id="" action="ppaction://hlinkshowjump?jump=nextslide"/>
          </p:cNvPr>
          <p:cNvSpPr/>
          <p:nvPr/>
        </p:nvSpPr>
        <p:spPr>
          <a:xfrm>
            <a:off x="2771640" y="6458040"/>
            <a:ext cx="936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6">
            <a:hlinkClick r:id="" action="ppaction://hlinkshowjump?jump=firstslide"/>
          </p:cNvPr>
          <p:cNvSpPr/>
          <p:nvPr/>
        </p:nvSpPr>
        <p:spPr>
          <a:xfrm>
            <a:off x="3781440" y="6472080"/>
            <a:ext cx="961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7">
            <a:hlinkClick r:id="rId3"/>
          </p:cNvPr>
          <p:cNvSpPr/>
          <p:nvPr/>
        </p:nvSpPr>
        <p:spPr>
          <a:xfrm>
            <a:off x="4875120" y="6469200"/>
            <a:ext cx="1015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>
            <a:hlinkClick r:id="" action="ppaction://hlinkshowjump?jump=endshow"/>
          </p:cNvPr>
          <p:cNvSpPr/>
          <p:nvPr/>
        </p:nvSpPr>
        <p:spPr>
          <a:xfrm>
            <a:off x="5983200" y="6526080"/>
            <a:ext cx="96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9" descr="карта4"/>
          <p:cNvPicPr/>
          <p:nvPr/>
        </p:nvPicPr>
        <p:blipFill>
          <a:blip r:embed="rId4"/>
          <a:stretch/>
        </p:blipFill>
        <p:spPr>
          <a:xfrm rot="445800">
            <a:off x="539640" y="388800"/>
            <a:ext cx="8425080" cy="515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верх"/>
          <p:cNvPicPr/>
          <p:nvPr/>
        </p:nvPicPr>
        <p:blipFill>
          <a:blip r:embed="rId5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FB57-9152-472D-884E-7CD5243983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7" descr="голубая-химия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Группа 9"/>
          <p:cNvGrpSpPr/>
          <p:nvPr/>
        </p:nvGrpSpPr>
        <p:grpSpPr>
          <a:xfrm>
            <a:off x="0" y="0"/>
            <a:ext cx="9144000" cy="6851520"/>
            <a:chOff x="0" y="0"/>
            <a:chExt cx="9144000" cy="6851520"/>
          </a:xfrm>
        </p:grpSpPr>
        <p:pic>
          <p:nvPicPr>
            <p:cNvPr id="135" name="Рисунок 6" descr="it-n.jp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8" descr="it-n.jpg"/>
            <p:cNvPicPr/>
            <p:nvPr/>
          </p:nvPicPr>
          <p:blipFill>
            <a:blip r:embed="rId4"/>
            <a:stretch/>
          </p:blipFill>
          <p:spPr>
            <a:xfrm>
              <a:off x="3321720" y="996480"/>
              <a:ext cx="250020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Прямоугольник 7"/>
          <p:cNvSpPr/>
          <p:nvPr/>
        </p:nvSpPr>
        <p:spPr>
          <a:xfrm>
            <a:off x="1714680" y="1000080"/>
            <a:ext cx="66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hlinkClick r:id="rId5"/>
              </a:rPr>
              <a:t>http://www.it-n.ru/communities.aspx?cat_no=4605&amp;tmpl=com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57D-5318-42D5-851B-DACB2B457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1F7-A160-4F73-9112-CAECC7C095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5079-98EE-4EBD-9511-D3E5E23B80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5b7b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ed3c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ed3c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7ea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e5b7b1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7ea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e5b7b1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5b7b1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8D4F-D528-4BC8-B09C-D5255ED7FF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FA1-40A5-4B3E-B651-A85438683F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e5b7b1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e5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5b7b1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b8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46b8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46b8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BE89-828F-4D47-85A5-954E2F9635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omic Sans MS"/>
              </a:rPr>
              <a:t>УРАВНЕНИЯ </a:t>
            </a:r>
            <a:br>
              <a:rPr sz="3000"/>
            </a:br>
            <a:r>
              <a:rPr b="1" lang="ru-RU" sz="3000" spc="-1" strike="noStrike">
                <a:solidFill>
                  <a:srgbClr val="646b86"/>
                </a:solidFill>
                <a:latin typeface="Comic Sans MS"/>
              </a:rPr>
              <a:t>ХИМИЧЕСКИХ РЕАКЦИЙ</a:t>
            </a:r>
            <a:br>
              <a:rPr sz="3000"/>
            </a:br>
            <a:r>
              <a:rPr b="1" lang="en-US" sz="2400" spc="-1" strike="noStrike">
                <a:solidFill>
                  <a:srgbClr val="646b86"/>
                </a:solidFill>
                <a:latin typeface="Comic Sans MS"/>
              </a:rPr>
              <a:t>8 </a:t>
            </a:r>
            <a:r>
              <a:rPr b="1" lang="ru-RU" sz="2400" spc="-1" strike="noStrike">
                <a:solidFill>
                  <a:srgbClr val="646b86"/>
                </a:solidFill>
                <a:latin typeface="Comic Sans MS"/>
              </a:rPr>
              <a:t>КЛАСС</a:t>
            </a:r>
            <a:endParaRPr b="0" lang="en-US" sz="24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6b86"/>
                </a:solidFill>
                <a:latin typeface="Century Schoolbook"/>
              </a:rPr>
              <a:t>Разработал учитель химии МБОУ СОШ №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46b86"/>
                </a:solidFill>
                <a:latin typeface="Century Schoolbook"/>
              </a:rPr>
              <a:t>Новокрещенов Дмитрий Андреевич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5" name="Picture 1" descr="C:\Users\Олеся\Pictures\i.jpg"/>
          <p:cNvPicPr/>
          <p:nvPr/>
        </p:nvPicPr>
        <p:blipFill>
          <a:blip r:embed="rId1"/>
          <a:stretch/>
        </p:blipFill>
        <p:spPr>
          <a:xfrm>
            <a:off x="7259760" y="281160"/>
            <a:ext cx="1366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9,-80,111)"/>
                                      </p:to>
                                    </p:se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9,-80,11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000160" y="1999800"/>
            <a:ext cx="68580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46b86"/>
                </a:solidFill>
                <a:latin typeface="Century Schoolbook"/>
              </a:rPr>
              <a:t>ДОМАШНЕЕ ЗАДАНИЕ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46b86"/>
                </a:solidFill>
                <a:latin typeface="Century Schoolbook"/>
              </a:rPr>
              <a:t>ПРЕДЛОЖИТЕ НОВЫЙ СПОСОБ ОПИСАНИЯ ХИМИЧЕСКОГО ЯВЛЕНИЯ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214360" y="4000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46b86"/>
                </a:solidFill>
                <a:latin typeface="Century Schoolbook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ТАБЛИЦА</a:t>
            </a:r>
            <a:br>
              <a:rPr sz="2700"/>
            </a:b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 </a:t>
            </a:r>
            <a:br>
              <a:rPr sz="2700"/>
            </a:br>
            <a:r>
              <a:rPr b="0" lang="ru-RU" sz="2700" spc="-1" strike="noStrike">
                <a:solidFill>
                  <a:srgbClr val="646b86"/>
                </a:solidFill>
                <a:latin typeface="Comic Sans MS"/>
              </a:rPr>
              <a:t>«ЗНАЮ – ХОЧУ УЗНАТЬ - УЗНАЛ»</a:t>
            </a:r>
            <a:endParaRPr b="0" lang="en-US" sz="2700" spc="-1" strike="noStrike">
              <a:solidFill>
                <a:srgbClr val="646b86"/>
              </a:solidFill>
              <a:latin typeface="Century Schoolbook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285920" y="1643040"/>
          <a:ext cx="7467480" cy="400860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27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8d8"/>
                    </a:solidFill>
                  </a:tcPr>
                </a:tc>
              </a:tr>
            </a:tbl>
          </a:graphicData>
        </a:graphic>
      </p:graphicFrame>
      <p:sp>
        <p:nvSpPr>
          <p:cNvPr id="488" name="Прямая соединительная линия 5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Управляющая кнопка: настраиваемая 8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490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Управляющая кнопка: настраиваемая 9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493" name="Управляющая кнопка: настраиваемая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Управляющая кнопка: настраиваемая 10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496" name="Управляющая кнопка: настраиваемая 10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Управляющая кнопка: настраиваемая 11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499" name="Управляющая кнопка: настраиваемая 11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33C8B4-5D97-4F20-80EE-169AD6D97374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071440" y="3786120"/>
            <a:ext cx="61722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785680" y="44290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Уравнения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химических реакц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Управляющая кнопка: настраиваемая 8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06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Управляющая кнопка: настраиваемая 9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09" name="Управляющая кнопка: настраиваемая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Управляющая кнопка: настраиваемая 10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12" name="Управляющая кнопка: настраиваемая 10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Управляющая кнопка: настраиваемая 11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15" name="Управляющая кнопка: настраиваемая 11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DBAF2B4-6D7B-4FFF-883B-E866EC748EA9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одзаголовок 4"/>
          <p:cNvSpPr/>
          <p:nvPr/>
        </p:nvSpPr>
        <p:spPr>
          <a:xfrm>
            <a:off x="2786040" y="2071800"/>
            <a:ext cx="6172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Print"/>
              </a:rPr>
              <a:t>Способы описания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Заголовок 3"/>
          <p:cNvSpPr/>
          <p:nvPr/>
        </p:nvSpPr>
        <p:spPr>
          <a:xfrm>
            <a:off x="1714680" y="121428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46b86"/>
                </a:solidFill>
                <a:latin typeface="Century Schoolbook"/>
              </a:rPr>
              <a:t>ПРОБЛ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ГОРЕНИЕ ФОСФОРА В КИСЛОРОДЕ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pic>
        <p:nvPicPr>
          <p:cNvPr id="521" name="горение фосфора в кислороде.avi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237360" cy="4678560"/>
          </a:xfrm>
          <a:prstGeom prst="rect">
            <a:avLst/>
          </a:prstGeom>
          <a:ln w="0">
            <a:noFill/>
          </a:ln>
        </p:spPr>
      </p:pic>
      <p:sp>
        <p:nvSpPr>
          <p:cNvPr id="522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одзаголовок 4"/>
          <p:cNvSpPr/>
          <p:nvPr/>
        </p:nvSpPr>
        <p:spPr>
          <a:xfrm>
            <a:off x="3429000" y="1429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я химически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Управляющая кнопка: настраиваемая 9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26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страиваемая 10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29" name="Управляющая кнопка: настраиваемая 10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Управляющая кнопка: настраиваемая 11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32" name="Управляющая кнопка: настраиваемая 11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Управляющая кнопка: настраиваемая 12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35" name="Управляющая кнопка: настраиваемая 12" descr=""/>
            <p:cNvPicPr/>
            <p:nvPr/>
          </p:nvPicPr>
          <p:blipFill>
            <a:blip r:embed="rId6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A67DD23-70E9-41D8-9395-E1C8EF1D90E9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Заголовок 3"/>
          <p:cNvSpPr/>
          <p:nvPr/>
        </p:nvSpPr>
        <p:spPr>
          <a:xfrm>
            <a:off x="1857240" y="100008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ПЛАН ОПИС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entury Schoolbook"/>
              </a:rPr>
              <a:t>ХИМИЧЕСКОЙ РЕА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дзаголовок 4"/>
          <p:cNvSpPr/>
          <p:nvPr/>
        </p:nvSpPr>
        <p:spPr>
          <a:xfrm>
            <a:off x="3429000" y="1429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я химически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7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Управляющая кнопка: настраиваемая 9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543" name="Управляющая кнопка: настраиваемая 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Управляющая кнопка: настраиваемая 10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546" name="Управляющая кнопка: настраиваемая 10" descr=""/>
            <p:cNvPicPr/>
            <p:nvPr/>
          </p:nvPicPr>
          <p:blipFill>
            <a:blip r:embed="rId2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Управляющая кнопка: настраиваемая 11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549" name="Управляющая кнопка: настраиваемая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Управляющая кнопка: настраиваемая 12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552" name="Управляющая кнопка: настраиваемая 12" descr=""/>
            <p:cNvPicPr/>
            <p:nvPr/>
          </p:nvPicPr>
          <p:blipFill>
            <a:blip r:embed="rId4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1C0BACD-C4D3-44A0-81ED-CD248BF9E27D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одзаголовок 4"/>
          <p:cNvSpPr/>
          <p:nvPr/>
        </p:nvSpPr>
        <p:spPr>
          <a:xfrm>
            <a:off x="1143000" y="228600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1. Какие вещества вступают в реакцию (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исходные вещества</a:t>
            </a: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, или 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реагенты</a:t>
            </a: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одзаголовок 4"/>
          <p:cNvSpPr/>
          <p:nvPr/>
        </p:nvSpPr>
        <p:spPr>
          <a:xfrm>
            <a:off x="1214280" y="3643200"/>
            <a:ext cx="735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2. Какие новые вещества образовались (</a:t>
            </a: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продукты реакции</a:t>
            </a:r>
            <a:r>
              <a:rPr b="0" lang="ru-RU" sz="2400" spc="-1" strike="noStrike">
                <a:solidFill>
                  <a:srgbClr val="000000"/>
                </a:solidFill>
                <a:latin typeface="Segoe Pri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одзаголовок 4"/>
          <p:cNvSpPr/>
          <p:nvPr/>
        </p:nvSpPr>
        <p:spPr>
          <a:xfrm>
            <a:off x="1357200" y="492912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3. Каковы условия и признаки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1"/>
          <p:cNvSpPr/>
          <p:nvPr/>
        </p:nvSpPr>
        <p:spPr>
          <a:xfrm>
            <a:off x="1214280" y="18108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СТАВЛЕНИЕ УРАВНЕНИЙ ХИМИЧЕСКИХ РЕА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Текст 4"/>
          <p:cNvSpPr/>
          <p:nvPr/>
        </p:nvSpPr>
        <p:spPr>
          <a:xfrm>
            <a:off x="1071720" y="785880"/>
            <a:ext cx="7858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р: Составить уравнение реакции взаимодействия фосфора и кисл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кругленный прямоугольник 5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В левой части уравнения запиши формулы веществ, которые вступают в реакцию. (Формулы простых газообразных веществ состоят из двух атомов: 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Н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N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la-VA" sz="1800" spc="-1" strike="noStrike">
                <a:solidFill>
                  <a:srgbClr val="000000"/>
                </a:solidFill>
                <a:latin typeface="Century Schoolbook"/>
              </a:rPr>
              <a:t>, C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l</a:t>
            </a:r>
            <a:r>
              <a:rPr b="0" i="1" lang="la-VA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.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Группа 11"/>
          <p:cNvGrpSpPr/>
          <p:nvPr/>
        </p:nvGrpSpPr>
        <p:grpSpPr>
          <a:xfrm>
            <a:off x="1143000" y="4143240"/>
            <a:ext cx="3571920" cy="1071720"/>
            <a:chOff x="1143000" y="4143240"/>
            <a:chExt cx="3571920" cy="1071720"/>
          </a:xfrm>
        </p:grpSpPr>
        <p:sp>
          <p:nvSpPr>
            <p:cNvPr id="563" name="Прямоугольник 8"/>
            <p:cNvSpPr/>
            <p:nvPr/>
          </p:nvSpPr>
          <p:spPr>
            <a:xfrm>
              <a:off x="114300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Прямоугольник 9"/>
            <p:cNvSpPr/>
            <p:nvPr/>
          </p:nvSpPr>
          <p:spPr>
            <a:xfrm>
              <a:off x="364356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O</a:t>
              </a:r>
              <a:r>
                <a:rPr b="0" lang="en-US" sz="54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Прямоугольник 10"/>
            <p:cNvSpPr/>
            <p:nvPr/>
          </p:nvSpPr>
          <p:spPr>
            <a:xfrm>
              <a:off x="2357280" y="4143240"/>
              <a:ext cx="10713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entury Schoolbook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Скругленный прямоугольник 11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правой части уравнения запиши формулы веществ образующихся в результате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12"/>
          <p:cNvSpPr/>
          <p:nvPr/>
        </p:nvSpPr>
        <p:spPr>
          <a:xfrm>
            <a:off x="5857920" y="4143240"/>
            <a:ext cx="2214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3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и: атомов, какого элемента в левой части уравнения больше. (Вначале уравнивают число атомов, которых в левой части уравнения больш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14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4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Соедини фигурной стрелкой атомы этого элемента в левой и правой ча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Дуга 15"/>
          <p:cNvSpPr/>
          <p:nvPr/>
        </p:nvSpPr>
        <p:spPr>
          <a:xfrm rot="10800000">
            <a:off x="3929040" y="4714560"/>
            <a:ext cx="3286080" cy="78588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785880"/>
              <a:gd name="textAreaBottom" fmla="*/ 393480 h 785880"/>
            </a:gdLst>
            <a:ahLst/>
            <a:rect l="textAreaLeft" t="textAreaTop" r="textAreaRight" b="textAreaBottom"/>
            <a:pathLst>
              <a:path stroke="0" w="3286125" h="785813">
                <a:moveTo>
                  <a:pt x="1" y="393348"/>
                </a:moveTo>
                <a:lnTo>
                  <a:pt x="1" y="393348"/>
                </a:lnTo>
                <a:arcTo wR="1643063" hR="392907" stAng="10799075" swAng="10800933"/>
                <a:lnTo>
                  <a:pt x="1643063" y="392907"/>
                </a:lnTo>
                <a:close/>
              </a:path>
              <a:path fill="none" w="3286125" h="785813">
                <a:moveTo>
                  <a:pt x="1" y="393348"/>
                </a:moveTo>
                <a:lnTo>
                  <a:pt x="1" y="393348"/>
                </a:lnTo>
                <a:arcTo wR="1643063" hR="392907" stAng="10799075" swAng="10800933"/>
              </a:path>
            </a:pathLst>
          </a:custGeom>
          <a:noFill/>
          <a:ln w="34920">
            <a:solidFill>
              <a:srgbClr val="ccb400"/>
            </a:solidFill>
            <a:round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16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5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Определи Н.О.К. чисел атомов в левой и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7"/>
          <p:cNvSpPr/>
          <p:nvPr/>
        </p:nvSpPr>
        <p:spPr>
          <a:xfrm>
            <a:off x="4859280" y="566100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кругленный прямоугольник 18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6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Запиши Н.О.К. в квадратике под стрел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19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7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Раздели Н.О.К. на число атомов каждого соединенного эле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Группа 28"/>
          <p:cNvGrpSpPr/>
          <p:nvPr/>
        </p:nvGrpSpPr>
        <p:grpSpPr>
          <a:xfrm>
            <a:off x="2143080" y="5643720"/>
            <a:ext cx="2214720" cy="642960"/>
            <a:chOff x="2143080" y="5643720"/>
            <a:chExt cx="2214720" cy="642960"/>
          </a:xfrm>
        </p:grpSpPr>
        <p:sp>
          <p:nvSpPr>
            <p:cNvPr id="576" name="Прямоугольник 21"/>
            <p:cNvSpPr/>
            <p:nvPr/>
          </p:nvSpPr>
          <p:spPr>
            <a:xfrm>
              <a:off x="2143080" y="564372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Прямоугольник 22"/>
            <p:cNvSpPr/>
            <p:nvPr/>
          </p:nvSpPr>
          <p:spPr>
            <a:xfrm>
              <a:off x="2857320" y="564372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Прямоугольник 23"/>
            <p:cNvSpPr/>
            <p:nvPr/>
          </p:nvSpPr>
          <p:spPr>
            <a:xfrm>
              <a:off x="307188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рямоугольник 24"/>
            <p:cNvSpPr/>
            <p:nvPr/>
          </p:nvSpPr>
          <p:spPr>
            <a:xfrm>
              <a:off x="342900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рямоугольник 25"/>
            <p:cNvSpPr/>
            <p:nvPr/>
          </p:nvSpPr>
          <p:spPr>
            <a:xfrm>
              <a:off x="3857760" y="564372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Группа 34"/>
          <p:cNvGrpSpPr/>
          <p:nvPr/>
        </p:nvGrpSpPr>
        <p:grpSpPr>
          <a:xfrm>
            <a:off x="6227640" y="5661000"/>
            <a:ext cx="2500560" cy="642960"/>
            <a:chOff x="6227640" y="5661000"/>
            <a:chExt cx="2500560" cy="642960"/>
          </a:xfrm>
        </p:grpSpPr>
        <p:sp>
          <p:nvSpPr>
            <p:cNvPr id="582" name="Прямоугольник 27"/>
            <p:cNvSpPr/>
            <p:nvPr/>
          </p:nvSpPr>
          <p:spPr>
            <a:xfrm>
              <a:off x="6227640" y="566100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Прямоугольник 28"/>
            <p:cNvSpPr/>
            <p:nvPr/>
          </p:nvSpPr>
          <p:spPr>
            <a:xfrm>
              <a:off x="6941880" y="566100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Прямоугольник 29"/>
            <p:cNvSpPr/>
            <p:nvPr/>
          </p:nvSpPr>
          <p:spPr>
            <a:xfrm>
              <a:off x="729936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рямоугольник 30"/>
            <p:cNvSpPr/>
            <p:nvPr/>
          </p:nvSpPr>
          <p:spPr>
            <a:xfrm>
              <a:off x="772812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рямоугольник 31"/>
            <p:cNvSpPr/>
            <p:nvPr/>
          </p:nvSpPr>
          <p:spPr>
            <a:xfrm>
              <a:off x="8228160" y="566100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Скругленный прямоугольник 32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7b70"/>
                </a:solidFill>
                <a:latin typeface="Century Schoolbook"/>
              </a:rPr>
              <a:t>8. </a:t>
            </a:r>
            <a:r>
              <a:rPr b="0" lang="ru-RU" sz="1800" spc="-1" strike="noStrike">
                <a:solidFill>
                  <a:srgbClr val="8c7b70"/>
                </a:solidFill>
                <a:latin typeface="Century Schoolbook"/>
              </a:rPr>
              <a:t>Запиши полученное число перед формулой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33"/>
          <p:cNvSpPr/>
          <p:nvPr/>
        </p:nvSpPr>
        <p:spPr>
          <a:xfrm>
            <a:off x="3286080" y="43578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34"/>
          <p:cNvSpPr/>
          <p:nvPr/>
        </p:nvSpPr>
        <p:spPr>
          <a:xfrm>
            <a:off x="5786280" y="435780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кругленный прямоугольник 35"/>
          <p:cNvSpPr/>
          <p:nvPr/>
        </p:nvSpPr>
        <p:spPr>
          <a:xfrm>
            <a:off x="1857240" y="1714680"/>
            <a:ext cx="6929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9. Определи: есть ли еще не уравненные (не соединенные) а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а)  Если есть, то вернись к пункту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б)  Если нет, то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Дуга 36"/>
          <p:cNvSpPr/>
          <p:nvPr/>
        </p:nvSpPr>
        <p:spPr>
          <a:xfrm>
            <a:off x="1643040" y="4000680"/>
            <a:ext cx="4786200" cy="785520"/>
          </a:xfrm>
          <a:custGeom>
            <a:avLst/>
            <a:gdLst>
              <a:gd name="textAreaLeft" fmla="*/ 25560 w 4786200"/>
              <a:gd name="textAreaRight" fmla="*/ 4786560 w 4786200"/>
              <a:gd name="textAreaTop" fmla="*/ 0 h 785520"/>
              <a:gd name="textAreaBottom" fmla="*/ 392760 h 785520"/>
            </a:gdLst>
            <a:ahLst/>
            <a:rect l="textAreaLeft" t="textAreaTop" r="textAreaRight" b="textAreaBottom"/>
            <a:pathLst>
              <a:path stroke="0" w="4786312" h="785813">
                <a:moveTo>
                  <a:pt x="25651" y="335534"/>
                </a:moveTo>
                <a:lnTo>
                  <a:pt x="25651" y="335534"/>
                </a:lnTo>
                <a:arcTo wR="2393156" hR="392907" stAng="-10716708" swAng="10716715"/>
                <a:lnTo>
                  <a:pt x="2393156" y="392907"/>
                </a:lnTo>
                <a:close/>
              </a:path>
              <a:path fill="none" w="4786312" h="785813">
                <a:moveTo>
                  <a:pt x="25651" y="335534"/>
                </a:moveTo>
                <a:lnTo>
                  <a:pt x="25651" y="335534"/>
                </a:lnTo>
                <a:arcTo wR="2393156" hR="392907" stAng="-10716708" swAng="10716715"/>
              </a:path>
            </a:pathLst>
          </a:custGeom>
          <a:noFill/>
          <a:ln w="34920">
            <a:solidFill>
              <a:srgbClr val="ccb400"/>
            </a:solidFill>
            <a:round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37"/>
          <p:cNvSpPr/>
          <p:nvPr/>
        </p:nvSpPr>
        <p:spPr>
          <a:xfrm>
            <a:off x="3429000" y="3286080"/>
            <a:ext cx="8571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Группа 52"/>
          <p:cNvGrpSpPr/>
          <p:nvPr/>
        </p:nvGrpSpPr>
        <p:grpSpPr>
          <a:xfrm>
            <a:off x="4429080" y="3286080"/>
            <a:ext cx="2500200" cy="642960"/>
            <a:chOff x="4429080" y="3286080"/>
            <a:chExt cx="2500200" cy="642960"/>
          </a:xfrm>
        </p:grpSpPr>
        <p:sp>
          <p:nvSpPr>
            <p:cNvPr id="594" name="Прямоугольник 39"/>
            <p:cNvSpPr/>
            <p:nvPr/>
          </p:nvSpPr>
          <p:spPr>
            <a:xfrm>
              <a:off x="4429080" y="328608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Прямоугольник 40"/>
            <p:cNvSpPr/>
            <p:nvPr/>
          </p:nvSpPr>
          <p:spPr>
            <a:xfrm>
              <a:off x="5143320" y="328608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Прямоугольник 41"/>
            <p:cNvSpPr/>
            <p:nvPr/>
          </p:nvSpPr>
          <p:spPr>
            <a:xfrm>
              <a:off x="550044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Прямоугольник 42"/>
            <p:cNvSpPr/>
            <p:nvPr/>
          </p:nvSpPr>
          <p:spPr>
            <a:xfrm>
              <a:off x="59292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Прямоугольник 43"/>
            <p:cNvSpPr/>
            <p:nvPr/>
          </p:nvSpPr>
          <p:spPr>
            <a:xfrm>
              <a:off x="642924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Группа 53"/>
          <p:cNvGrpSpPr/>
          <p:nvPr/>
        </p:nvGrpSpPr>
        <p:grpSpPr>
          <a:xfrm>
            <a:off x="785880" y="3286080"/>
            <a:ext cx="2214360" cy="642960"/>
            <a:chOff x="785880" y="3286080"/>
            <a:chExt cx="2214360" cy="642960"/>
          </a:xfrm>
        </p:grpSpPr>
        <p:sp>
          <p:nvSpPr>
            <p:cNvPr id="600" name="Прямоугольник 45"/>
            <p:cNvSpPr/>
            <p:nvPr/>
          </p:nvSpPr>
          <p:spPr>
            <a:xfrm>
              <a:off x="785880" y="3286080"/>
              <a:ext cx="857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Прямоугольник 46"/>
            <p:cNvSpPr/>
            <p:nvPr/>
          </p:nvSpPr>
          <p:spPr>
            <a:xfrm>
              <a:off x="1500120" y="3286080"/>
              <a:ext cx="35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Прямоугольник 47"/>
            <p:cNvSpPr/>
            <p:nvPr/>
          </p:nvSpPr>
          <p:spPr>
            <a:xfrm>
              <a:off x="171432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Прямоугольник 48"/>
            <p:cNvSpPr/>
            <p:nvPr/>
          </p:nvSpPr>
          <p:spPr>
            <a:xfrm>
              <a:off x="20718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Прямоугольник 49"/>
            <p:cNvSpPr/>
            <p:nvPr/>
          </p:nvSpPr>
          <p:spPr>
            <a:xfrm>
              <a:off x="2500200" y="3286080"/>
              <a:ext cx="500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entury Schoolbook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Прямоугольник 50"/>
          <p:cNvSpPr/>
          <p:nvPr/>
        </p:nvSpPr>
        <p:spPr>
          <a:xfrm>
            <a:off x="1071720" y="4357800"/>
            <a:ext cx="500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Управляющая кнопка: настраиваемая 52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607" name="Управляющая кнопка: настраиваемая 5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Управляющая кнопка: настраиваемая 53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610" name="Управляющая кнопка: настраиваемая 53" descr=""/>
            <p:cNvPicPr/>
            <p:nvPr/>
          </p:nvPicPr>
          <p:blipFill>
            <a:blip r:embed="rId2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страиваемая 54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613" name="Управляющая кнопка: настраиваемая 5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Управляющая кнопка: настраиваемая 55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616" name="Управляющая кнопка: настраиваемая 55" descr=""/>
            <p:cNvPicPr/>
            <p:nvPr/>
          </p:nvPicPr>
          <p:blipFill>
            <a:blip r:embed="rId4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53747EB-59E6-410D-9E28-D862944460CC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58"/>
          <p:cNvSpPr/>
          <p:nvPr/>
        </p:nvSpPr>
        <p:spPr>
          <a:xfrm>
            <a:off x="5572080" y="2357280"/>
            <a:ext cx="1071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59"/>
          <p:cNvSpPr/>
          <p:nvPr/>
        </p:nvSpPr>
        <p:spPr>
          <a:xfrm>
            <a:off x="4857840" y="4143240"/>
            <a:ext cx="10713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8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47" dur="1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49" dur="1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1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3" dur="1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-0.25168 E">
                                      <p:cBhvr>
                                        <p:cTn id="255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2640" y="9288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ГОРЕНИЕ ЖЕЛЕЗА В КИСЛОРОДЕ</a:t>
            </a:r>
            <a:endParaRPr b="0" lang="en-US" sz="3000" spc="-1" strike="noStrike">
              <a:solidFill>
                <a:srgbClr val="646b86"/>
              </a:solidFill>
              <a:latin typeface="Century Schoolbook"/>
            </a:endParaRPr>
          </a:p>
        </p:txBody>
      </p:sp>
      <p:pic>
        <p:nvPicPr>
          <p:cNvPr id="622" name="горение железа в кислороде.avi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6072120" cy="4554720"/>
          </a:xfrm>
          <a:prstGeom prst="rect">
            <a:avLst/>
          </a:prstGeom>
          <a:ln w="0">
            <a:noFill/>
          </a:ln>
        </p:spPr>
      </p:pic>
      <p:sp>
        <p:nvSpPr>
          <p:cNvPr id="623" name="Подзаголовок 4"/>
          <p:cNvSpPr/>
          <p:nvPr/>
        </p:nvSpPr>
        <p:spPr>
          <a:xfrm>
            <a:off x="3357720" y="214200"/>
            <a:ext cx="735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Print"/>
              </a:rPr>
              <a:t>Уравнени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Заголовок 3"/>
          <p:cNvSpPr/>
          <p:nvPr/>
        </p:nvSpPr>
        <p:spPr>
          <a:xfrm>
            <a:off x="1071720" y="0"/>
            <a:ext cx="617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6b86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9"/>
          <p:cNvSpPr/>
          <p:nvPr/>
        </p:nvSpPr>
        <p:spPr>
          <a:xfrm>
            <a:off x="1000080" y="785880"/>
            <a:ext cx="814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Управляющая кнопка: настраиваемая 11"/>
          <p:cNvGrpSpPr/>
          <p:nvPr/>
        </p:nvGrpSpPr>
        <p:grpSpPr>
          <a:xfrm>
            <a:off x="-66600" y="5668920"/>
            <a:ext cx="1127160" cy="414360"/>
            <a:chOff x="-66600" y="5668920"/>
            <a:chExt cx="1127160" cy="414360"/>
          </a:xfrm>
        </p:grpSpPr>
        <p:pic>
          <p:nvPicPr>
            <p:cNvPr id="627" name="Управляющая кнопка: настраиваемая 11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-66600" y="5668920"/>
              <a:ext cx="1127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0" y="571500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Дале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Управляющая кнопка: настраиваемая 12"/>
          <p:cNvGrpSpPr/>
          <p:nvPr/>
        </p:nvGrpSpPr>
        <p:grpSpPr>
          <a:xfrm>
            <a:off x="-66600" y="5950080"/>
            <a:ext cx="1127160" cy="420480"/>
            <a:chOff x="-66600" y="5950080"/>
            <a:chExt cx="1127160" cy="420480"/>
          </a:xfrm>
        </p:grpSpPr>
        <p:pic>
          <p:nvPicPr>
            <p:cNvPr id="630" name="Управляющая кнопка: настраиваемая 12" descr=""/>
            <p:cNvPicPr/>
            <p:nvPr/>
          </p:nvPicPr>
          <p:blipFill>
            <a:blip r:embed="rId3"/>
            <a:stretch/>
          </p:blipFill>
          <p:spPr>
            <a:xfrm>
              <a:off x="-66600" y="595008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0" y="600084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entury Schoolbook"/>
                </a:rPr>
                <a:t>Табли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Управляющая кнопка: настраиваемая 13"/>
          <p:cNvGrpSpPr/>
          <p:nvPr/>
        </p:nvGrpSpPr>
        <p:grpSpPr>
          <a:xfrm>
            <a:off x="-66600" y="6235560"/>
            <a:ext cx="1127160" cy="420840"/>
            <a:chOff x="-66600" y="6235560"/>
            <a:chExt cx="1127160" cy="420840"/>
          </a:xfrm>
        </p:grpSpPr>
        <p:pic>
          <p:nvPicPr>
            <p:cNvPr id="633" name="Управляющая кнопка: настраиваемая 13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-66600" y="6235560"/>
              <a:ext cx="1127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0" y="6286680"/>
              <a:ext cx="1000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Наза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Управляющая кнопка: настраиваемая 14"/>
          <p:cNvGrpSpPr/>
          <p:nvPr/>
        </p:nvGrpSpPr>
        <p:grpSpPr>
          <a:xfrm>
            <a:off x="-66600" y="6523200"/>
            <a:ext cx="1127160" cy="420480"/>
            <a:chOff x="-66600" y="6523200"/>
            <a:chExt cx="1127160" cy="420480"/>
          </a:xfrm>
        </p:grpSpPr>
        <p:pic>
          <p:nvPicPr>
            <p:cNvPr id="636" name="Управляющая кнопка: настраиваемая 14" descr=""/>
            <p:cNvPicPr/>
            <p:nvPr/>
          </p:nvPicPr>
          <p:blipFill>
            <a:blip r:embed="rId5"/>
            <a:stretch/>
          </p:blipFill>
          <p:spPr>
            <a:xfrm>
              <a:off x="-66600" y="6523200"/>
              <a:ext cx="1127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0" y="6572160"/>
              <a:ext cx="1000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C8172AC-F8F5-475E-BB0C-5F502A36F330}" type="slidenum">
                <a:rPr b="0" lang="ru-RU" sz="1200" spc="-1" strike="noStrike">
                  <a:solidFill>
                    <a:srgbClr val="ffffff"/>
                  </a:solidFill>
                  <a:latin typeface="Century Schoolbook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1264320" y="6030360"/>
            <a:ext cx="738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уравнение реа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7858080" y="5429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78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9" dur="500" autoRev="1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animClr clrSpc="rgb">
                                      <p:cBhvr>
                                        <p:cTn id="28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b400"/>
                                      </p:to>
                                    </p:animClr>
                                    <p:set>
                                      <p:cBhvr>
                                        <p:cTn id="28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2578680" y="2430000"/>
            <a:ext cx="55609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Fe + 3O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Fe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5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Прямоугольник 7" descr=""/>
          <p:cNvPicPr/>
          <p:nvPr/>
        </p:nvPicPr>
        <p:blipFill>
          <a:blip r:embed="rId1"/>
          <a:stretch/>
        </p:blipFill>
        <p:spPr>
          <a:xfrm>
            <a:off x="2944800" y="512640"/>
            <a:ext cx="1865160" cy="1084320"/>
          </a:xfrm>
          <a:prstGeom prst="rect">
            <a:avLst/>
          </a:prstGeom>
          <a:ln w="0">
            <a:noFill/>
          </a:ln>
        </p:spPr>
      </p:pic>
      <p:pic>
        <p:nvPicPr>
          <p:cNvPr id="643" name="Прямоугольник 8" descr=""/>
          <p:cNvPicPr/>
          <p:nvPr/>
        </p:nvPicPr>
        <p:blipFill>
          <a:blip r:embed="rId2"/>
          <a:stretch/>
        </p:blipFill>
        <p:spPr>
          <a:xfrm>
            <a:off x="6010200" y="1682640"/>
            <a:ext cx="2603520" cy="700200"/>
          </a:xfrm>
          <a:prstGeom prst="rect">
            <a:avLst/>
          </a:prstGeom>
          <a:ln w="0">
            <a:noFill/>
          </a:ln>
        </p:spPr>
      </p:pic>
      <p:pic>
        <p:nvPicPr>
          <p:cNvPr id="644" name="Прямоугольник 9" descr=""/>
          <p:cNvPicPr/>
          <p:nvPr/>
        </p:nvPicPr>
        <p:blipFill>
          <a:blip r:embed="rId3"/>
          <a:stretch/>
        </p:blipFill>
        <p:spPr>
          <a:xfrm>
            <a:off x="2365200" y="3913200"/>
            <a:ext cx="2584800" cy="1255680"/>
          </a:xfrm>
          <a:prstGeom prst="rect">
            <a:avLst/>
          </a:prstGeom>
          <a:ln w="0">
            <a:noFill/>
          </a:ln>
        </p:spPr>
      </p:pic>
      <p:pic>
        <p:nvPicPr>
          <p:cNvPr id="645" name="Прямоугольник 10" descr=""/>
          <p:cNvPicPr/>
          <p:nvPr/>
        </p:nvPicPr>
        <p:blipFill>
          <a:blip r:embed="rId4"/>
          <a:stretch/>
        </p:blipFill>
        <p:spPr>
          <a:xfrm>
            <a:off x="5992920" y="4889520"/>
            <a:ext cx="3138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      </a:t>
            </a:r>
            <a:r>
              <a:rPr b="1" lang="ru-RU" sz="2800" spc="-1" strike="noStrike">
                <a:solidFill>
                  <a:srgbClr val="646b86"/>
                </a:solidFill>
                <a:latin typeface="Century Schoolbook"/>
              </a:rPr>
              <a:t>ПРАВИЛА НАПИСАНИЯ СИНКВЕЙНА: 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1. НАЗВАНИЕ. ТЕМА (СУЩЕСТВИТЕЛЬНОЕ) -        1 СЛОВО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2. ОПИСАНИЕ (ПРИЛАГАТЕЛЬНОЕ) -                      2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3. ДЕЙСТВИЕ ИЛИ СОСТАВ -                                   3-4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4. ОТНОШЕНИЕ К ТЕМЕ -                                        2-3 СЛОВА </a:t>
            </a:r>
            <a:br>
              <a:rPr sz="2000"/>
            </a:br>
            <a:r>
              <a:rPr b="1" lang="ru-RU" sz="2000" spc="-1" strike="noStrike">
                <a:solidFill>
                  <a:srgbClr val="646b86"/>
                </a:solidFill>
                <a:latin typeface="Century Schoolbook"/>
              </a:rPr>
              <a:t> 5. СИНОНИМ ТЕМЫ -                                               1-2 СЛОВА</a:t>
            </a:r>
            <a:endParaRPr b="0" lang="en-US" sz="2000" spc="-1" strike="noStrike">
              <a:solidFill>
                <a:srgbClr val="646b8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05:41:55Z</dcterms:created>
  <dc:creator>Олеся</dc:creator>
  <dc:description/>
  <dc:language>en-US</dc:language>
  <cp:lastModifiedBy>Дима</cp:lastModifiedBy>
  <dcterms:modified xsi:type="dcterms:W3CDTF">2011-12-18T10:24:21Z</dcterms:modified>
  <cp:revision>44</cp:revision>
  <dc:subject/>
  <dc:title>Уравнения  химической реакции</dc:title>
</cp:coreProperties>
</file>