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AF4-F50F-4F5A-AB16-1C5DF53D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FE0-DA35-49EB-A686-1C4924C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577-4B9E-42C4-93ED-182F748C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EBE-58DE-4F98-BCAA-6FBA1870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5796-862B-45E0-A325-4A826B75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8EA-932D-414B-BBE9-4C783B46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8B9-A961-48AC-95B5-CA8B8C4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0BD1-3E0D-4B71-9B34-448F126E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F89A-A598-4CB9-996A-D94B8E0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80C0-4D5D-437B-B0F2-342C281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8FBC-27F7-4654-B7C1-A33F75A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A62-D190-49C7-BA53-EDB76BD3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9213-0961-4C21-B360-38CC2B0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7E13-742A-40D1-8A06-A7C109D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DF1A-C5DC-4F41-A5E2-25675987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B74D-45FF-4A10-804B-B75B7055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A6C-AF56-4272-B440-28F08533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C19-D423-4CED-BB18-45FA332F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6D8-3DE5-495B-B8A4-CF11789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E32-2836-4F91-AC0C-354B7FE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B2B-4E20-4AB0-B29C-4DDA759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6B7-5510-4468-8C30-B1DF12B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146-F0C3-47D7-BB25-FE5142C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0CF-6EB3-43EB-89D2-3359C29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1C3-64D6-4E52-9C0B-5F9DBFE1821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6760" y="64080"/>
              <a:ext cx="3633480" cy="6145200"/>
              <a:chOff x="5396760" y="64080"/>
              <a:chExt cx="3633480" cy="6145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440" y="349560"/>
                <a:ext cx="21168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9240" y="1970280"/>
                <a:ext cx="90684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1640" y="259416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960" y="676440"/>
                <a:ext cx="38916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1680" y="2658960"/>
                <a:ext cx="163440" cy="331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560" y="124776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7040" y="2946240"/>
                <a:ext cx="52416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4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88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32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92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0000" y="5195880"/>
              <a:ext cx="175968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2600" y="1033200"/>
              <a:ext cx="1015560" cy="1262520"/>
              <a:chOff x="41526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7320" y="107100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1920" y="1604160"/>
                <a:ext cx="488880" cy="31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264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2880"/>
              <a:ext cx="893520" cy="825840"/>
              <a:chOff x="5643360" y="272880"/>
              <a:chExt cx="89352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6752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47840"/>
                <a:ext cx="306360" cy="30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440" y="37260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48440"/>
              <a:ext cx="1059480" cy="831240"/>
              <a:chOff x="969480" y="52484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800" y="5513040"/>
                <a:ext cx="251280" cy="29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24360"/>
                <a:ext cx="42984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840" y="5373000"/>
                <a:ext cx="44928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22640"/>
              <a:ext cx="1691640" cy="1146600"/>
              <a:chOff x="375480" y="422640"/>
              <a:chExt cx="16916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7160" y="10411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65920"/>
                <a:ext cx="60840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08000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11680" y="3712320"/>
              <a:ext cx="1156320" cy="1607760"/>
              <a:chOff x="74116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6400" y="4755960"/>
                <a:ext cx="35568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7120" y="4455000"/>
                <a:ext cx="60876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100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840" y="3240"/>
              <a:ext cx="13690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7560" y="161640"/>
              <a:ext cx="108144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088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196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92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060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299-2F2F-4E74-9D22-68CADC4D8D0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БОУ СМР «Кадниковская СОШ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Times New Roman"/>
              </a:rPr>
              <a:t>Урок «Развитие устной речи на основе ознакомления с предметами и явлениями окружающей действительност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Одежда. Виды одежды»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СКК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II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ид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786200" y="54450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Тришичева А.Н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118760" y="62514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2015 го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е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ьё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895320" cy="2048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1"/>
          <p:cNvSpPr/>
          <p:nvPr/>
        </p:nvSpPr>
        <p:spPr>
          <a:xfrm>
            <a:off x="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1255680" cy="15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0" y="1878120"/>
          <a:ext cx="208080" cy="2187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22"/>
          <p:cNvSpPr/>
          <p:nvPr/>
        </p:nvSpPr>
        <p:spPr>
          <a:xfrm>
            <a:off x="1800" y="4065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4"/>
          <a:stretch/>
        </p:blipFill>
        <p:spPr>
          <a:xfrm>
            <a:off x="5796000" y="4581360"/>
            <a:ext cx="151272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Line 24"/>
          <p:cNvSpPr/>
          <p:nvPr/>
        </p:nvSpPr>
        <p:spPr>
          <a:xfrm>
            <a:off x="4572000" y="3716280"/>
            <a:ext cx="3168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V="1">
            <a:off x="5508720" y="2637000"/>
            <a:ext cx="71892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6"/>
          <p:cNvSpPr/>
          <p:nvPr/>
        </p:nvSpPr>
        <p:spPr>
          <a:xfrm>
            <a:off x="5508720" y="3716280"/>
            <a:ext cx="934920" cy="86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бинет швейного дел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ь предложе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латье, рубашка, шуба, купальник – это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Сезонная одежда зависит от … (фруктов, дождя, времени год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 сезонная одежда – это … (шуба, валенки, варежки, шорты, сарафан, футболка, сапоги, кепк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Зим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Осенне – весення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емисезонная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"/>
          <p:cNvSpPr/>
          <p:nvPr/>
        </p:nvSpPr>
        <p:spPr>
          <a:xfrm flipH="1">
            <a:off x="1908000" y="1052640"/>
            <a:ext cx="136872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3634920" y="981000"/>
            <a:ext cx="576360" cy="316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651640" y="1052640"/>
            <a:ext cx="1873080" cy="151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улицы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верхняя одежда)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те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нижняя одежд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праздников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раздничная)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каждого дня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овседневная)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2700360" y="1052640"/>
            <a:ext cx="1224000" cy="29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4859280" y="1052640"/>
            <a:ext cx="576360" cy="38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5364000" y="981000"/>
            <a:ext cx="792360" cy="187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2"/>
          <p:cNvSpPr/>
          <p:nvPr/>
        </p:nvSpPr>
        <p:spPr>
          <a:xfrm flipH="1">
            <a:off x="2555640" y="981000"/>
            <a:ext cx="64764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оговорк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Льто-льто-льто – я надела пальт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Тье-тье-тье – купили мне платье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Жки-жки-жки – красивые варежки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Пка-пка-пка – у меня шапк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Скороговор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5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У Ивашки – рубашка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У рубашки – кармашки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4" descr="62"/>
          <p:cNvPicPr/>
          <p:nvPr/>
        </p:nvPicPr>
        <p:blipFill>
          <a:blip r:embed="rId1"/>
          <a:stretch/>
        </p:blipFill>
        <p:spPr>
          <a:xfrm>
            <a:off x="0" y="4286160"/>
            <a:ext cx="270180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069"/>
          <p:cNvPicPr/>
          <p:nvPr/>
        </p:nvPicPr>
        <p:blipFill>
          <a:blip r:embed="rId2"/>
          <a:stretch/>
        </p:blipFill>
        <p:spPr>
          <a:xfrm>
            <a:off x="6689880" y="285840"/>
            <a:ext cx="2454120" cy="273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42852565_1"/>
          <p:cNvPicPr/>
          <p:nvPr/>
        </p:nvPicPr>
        <p:blipFill>
          <a:blip r:embed="rId3"/>
          <a:stretch/>
        </p:blipFill>
        <p:spPr>
          <a:xfrm>
            <a:off x="2643120" y="2500200"/>
            <a:ext cx="3840120" cy="291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7983193"/>
          <p:cNvPicPr/>
          <p:nvPr/>
        </p:nvPicPr>
        <p:blipFill>
          <a:blip r:embed="rId4"/>
          <a:stretch/>
        </p:blipFill>
        <p:spPr>
          <a:xfrm>
            <a:off x="214200" y="571680"/>
            <a:ext cx="2643480" cy="283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9360045_1"/>
          <p:cNvPicPr/>
          <p:nvPr/>
        </p:nvPicPr>
        <p:blipFill>
          <a:blip r:embed="rId5"/>
          <a:stretch/>
        </p:blipFill>
        <p:spPr>
          <a:xfrm>
            <a:off x="6516720" y="3573360"/>
            <a:ext cx="21398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499680"/>
            <a:ext cx="9001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совокупность предметов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из ткани, меха, кожи), которыми покрывают, одевают тел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.Н.Ушаков)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2357640" cy="173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3143160" y="4714920"/>
            <a:ext cx="2490840" cy="170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 rot="19607400">
            <a:off x="6453360" y="3943080"/>
            <a:ext cx="22748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Зим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Осенне – весення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емисезонная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 flipH="1">
            <a:off x="1908000" y="1052640"/>
            <a:ext cx="136872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6"/>
          <p:cNvSpPr/>
          <p:nvPr/>
        </p:nvSpPr>
        <p:spPr>
          <a:xfrm flipH="1">
            <a:off x="3634920" y="981000"/>
            <a:ext cx="576360" cy="316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5651640" y="1052640"/>
            <a:ext cx="1873080" cy="151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9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024360" cy="9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2843280" y="5445000"/>
            <a:ext cx="30240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улицы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верхняя одежда)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те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              (нижняя одежд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праздников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раздничная)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каждого дня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овседневная)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700360" y="1052640"/>
            <a:ext cx="1224000" cy="29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859280" y="1052640"/>
            <a:ext cx="576360" cy="38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364000" y="981000"/>
            <a:ext cx="792360" cy="187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12"/>
          <p:cNvSpPr/>
          <p:nvPr/>
        </p:nvSpPr>
        <p:spPr>
          <a:xfrm flipH="1">
            <a:off x="2555640" y="981000"/>
            <a:ext cx="64764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1508400" cy="11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2448000" cy="108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"/>
          <p:cNvPicPr/>
          <p:nvPr/>
        </p:nvPicPr>
        <p:blipFill>
          <a:blip r:embed="rId3"/>
          <a:stretch/>
        </p:blipFill>
        <p:spPr>
          <a:xfrm>
            <a:off x="0" y="5000760"/>
            <a:ext cx="1928880" cy="159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"/>
          <p:cNvPicPr/>
          <p:nvPr/>
        </p:nvPicPr>
        <p:blipFill>
          <a:blip r:embed="rId4"/>
          <a:stretch/>
        </p:blipFill>
        <p:spPr>
          <a:xfrm>
            <a:off x="6012000" y="5877000"/>
            <a:ext cx="2016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559640" cy="485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059280" y="4508640"/>
            <a:ext cx="1584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Что лишнее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208080" cy="439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16"/>
          <p:cNvSpPr/>
          <p:nvPr/>
        </p:nvSpPr>
        <p:spPr>
          <a:xfrm>
            <a:off x="1800" y="4393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7112160" cy="445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19908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30:26Z</dcterms:created>
  <dc:creator>дом</dc:creator>
  <dc:description/>
  <dc:language>en-US</dc:language>
  <cp:lastModifiedBy>User</cp:lastModifiedBy>
  <dcterms:modified xsi:type="dcterms:W3CDTF">2016-01-13T10:16:47Z</dcterms:modified>
  <cp:revision>23</cp:revision>
  <dc:subject/>
  <dc:title>Чистоговорки.</dc:title>
</cp:coreProperties>
</file>