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057-42B0-4E3E-951B-633D0E7C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7CE-7AFB-45DB-B07B-B61B53E7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9AA-551A-4B78-BD4A-3A0CCF0C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374-2F7D-4476-918F-4D75882C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9DF2-6D72-4B1A-BF8A-7B14527E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B852-7A74-4094-B1BF-14855FCA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81CB-B6B1-4854-A7B5-D3ECCD9E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8942-17DE-46BE-AC9A-9A63CE6B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3D87-20E9-405F-836A-44587500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8B5F-9555-4360-AF23-53B2D87D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CF14-CA38-4996-A240-04FF5452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3B2-B675-4762-9656-B5137FD7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C602-F45F-4814-950B-1CCA1CB7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12B6-B330-4472-B3C0-80026F0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7E3B-C185-4183-B0AA-6EC297A0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0FDD-F7F5-4A24-A6BA-C32A2432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541D-F148-43D3-914C-B302BC20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667-09E6-4FFB-B186-F4DC5A6E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018-C1B2-45E7-841F-23DAFE55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27E-30C0-4871-A1A9-961ACF52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196-9F7B-4335-86C8-7D41AC8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B83-F101-4DD6-A21A-3020DC9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DFF-921F-4008-B9F8-345791C8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4CD-BAB2-4A53-9869-1FABC1D8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07A-CD7D-4836-A181-D542CC07EA3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6760" y="64080"/>
              <a:ext cx="3633480" cy="6145200"/>
              <a:chOff x="5396760" y="64080"/>
              <a:chExt cx="3633480" cy="6145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0440" y="349560"/>
                <a:ext cx="21168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9240" y="1970280"/>
                <a:ext cx="90684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1640" y="259416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960" y="676440"/>
                <a:ext cx="38916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1680" y="2658960"/>
                <a:ext cx="163440" cy="3315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560" y="124776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7040" y="2946240"/>
                <a:ext cx="52416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4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88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6320" y="4532400"/>
              <a:ext cx="56196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92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0000" y="5195880"/>
              <a:ext cx="175968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2600" y="1033200"/>
              <a:ext cx="1015560" cy="1262520"/>
              <a:chOff x="415260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7320" y="107100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1920" y="1604160"/>
                <a:ext cx="488880" cy="31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264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2880"/>
              <a:ext cx="893520" cy="825840"/>
              <a:chOff x="5643360" y="272880"/>
              <a:chExt cx="89352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67520"/>
                <a:ext cx="179280" cy="36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560" y="447840"/>
                <a:ext cx="306360" cy="30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440" y="37260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48440"/>
              <a:ext cx="1059480" cy="831240"/>
              <a:chOff x="969480" y="52484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800" y="5513040"/>
                <a:ext cx="251280" cy="29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480" y="5724360"/>
                <a:ext cx="42984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840" y="5373000"/>
                <a:ext cx="44928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480" y="422640"/>
              <a:ext cx="1691640" cy="1146600"/>
              <a:chOff x="375480" y="422640"/>
              <a:chExt cx="169164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7160" y="10411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4200" y="565920"/>
                <a:ext cx="608400" cy="441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280" y="108000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11680" y="3712320"/>
              <a:ext cx="1156320" cy="1607760"/>
              <a:chOff x="74116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6400" y="4755960"/>
                <a:ext cx="35568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7120" y="4455000"/>
                <a:ext cx="608760" cy="441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100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840" y="3240"/>
              <a:ext cx="13690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7560" y="161640"/>
              <a:ext cx="108144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0880" y="1361160"/>
              <a:ext cx="52380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1960" y="1282320"/>
              <a:ext cx="195480" cy="370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920" y="0"/>
              <a:ext cx="19692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0600" y="1964520"/>
              <a:ext cx="62388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CF42-5BAB-41C3-BF9F-CDC9BD06947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БОУ СМР «Кадниковская СОШ»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33"/>
                </a:solidFill>
                <a:latin typeface="Times New Roman"/>
                <a:ea typeface="Times New Roman"/>
              </a:rPr>
              <a:t>Урок «Развитие устной речи на основе ознакомления с предметами и явлениями окружающей действительности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: «Одежда. Виды одежды»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СКК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II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ид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4786200" y="54450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Тришичева А.Н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118760" y="62514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4d"/>
                </a:solidFill>
                <a:latin typeface="Times New Roman"/>
                <a:ea typeface="Times New Roman"/>
              </a:rPr>
              <a:t>2015 го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вея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ьё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095640" cy="2952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895320" cy="2048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1"/>
          <p:cNvSpPr/>
          <p:nvPr/>
        </p:nvSpPr>
        <p:spPr>
          <a:xfrm>
            <a:off x="0" y="18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10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1255680" cy="15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0" y="1878120"/>
          <a:ext cx="208080" cy="2187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22"/>
          <p:cNvSpPr/>
          <p:nvPr/>
        </p:nvSpPr>
        <p:spPr>
          <a:xfrm>
            <a:off x="1800" y="4065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4"/>
          <a:stretch/>
        </p:blipFill>
        <p:spPr>
          <a:xfrm>
            <a:off x="5796000" y="4581360"/>
            <a:ext cx="1512720" cy="1727280"/>
          </a:xfrm>
          <a:prstGeom prst="rect">
            <a:avLst/>
          </a:prstGeom>
          <a:ln w="0">
            <a:noFill/>
          </a:ln>
        </p:spPr>
      </p:pic>
      <p:sp>
        <p:nvSpPr>
          <p:cNvPr id="222" name="Line 24"/>
          <p:cNvSpPr/>
          <p:nvPr/>
        </p:nvSpPr>
        <p:spPr>
          <a:xfrm>
            <a:off x="4572000" y="3716280"/>
            <a:ext cx="3168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V="1">
            <a:off x="5508720" y="2637000"/>
            <a:ext cx="718920" cy="1079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6"/>
          <p:cNvSpPr/>
          <p:nvPr/>
        </p:nvSpPr>
        <p:spPr>
          <a:xfrm>
            <a:off x="5508720" y="3716280"/>
            <a:ext cx="934920" cy="865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бинет швейного дел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ь предложения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латье, рубашка, шуба, купальник – это .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Сезонная одежда зависит от … (фруктов, дождя, времени года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Летняя сезонная одежда – это … (шуба, валенки, варежки, шорты, сарафан, футболка, сапоги, кепка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Спасибо за урок!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Летняя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Зимняя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 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Осенне – весенняя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демисезонная)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4"/>
          <p:cNvSpPr/>
          <p:nvPr/>
        </p:nvSpPr>
        <p:spPr>
          <a:xfrm flipH="1">
            <a:off x="1908000" y="1052640"/>
            <a:ext cx="1368720" cy="720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6"/>
          <p:cNvSpPr/>
          <p:nvPr/>
        </p:nvSpPr>
        <p:spPr>
          <a:xfrm flipH="1">
            <a:off x="3634920" y="981000"/>
            <a:ext cx="576360" cy="316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5651640" y="1052640"/>
            <a:ext cx="1873080" cy="151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улицы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верхняя одежда)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те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нижняя одежда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праздников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праздничная)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каждого дня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повседневная)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2700360" y="1052640"/>
            <a:ext cx="1224000" cy="295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4859280" y="1052640"/>
            <a:ext cx="576360" cy="3889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5364000" y="981000"/>
            <a:ext cx="792360" cy="187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2"/>
          <p:cNvSpPr/>
          <p:nvPr/>
        </p:nvSpPr>
        <p:spPr>
          <a:xfrm flipH="1">
            <a:off x="2555640" y="981000"/>
            <a:ext cx="647640" cy="792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тоговорк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Льто-льто-льто – я надела пальт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Тье-тье-тье – купили мне платье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Жки-жки-жки – красивые варежки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d2905"/>
                </a:solidFill>
                <a:latin typeface="Times New Roman"/>
                <a:ea typeface="Times New Roman"/>
              </a:rPr>
              <a:t>Пка-пка-пка – у меня шапка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691920"/>
            <a:ext cx="82440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Скороговорк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5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У Ивашки – рубашка,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У рубашки – кармашки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Picture 4" descr="62"/>
          <p:cNvPicPr/>
          <p:nvPr/>
        </p:nvPicPr>
        <p:blipFill>
          <a:blip r:embed="rId1"/>
          <a:stretch/>
        </p:blipFill>
        <p:spPr>
          <a:xfrm>
            <a:off x="0" y="4286160"/>
            <a:ext cx="270180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2069"/>
          <p:cNvPicPr/>
          <p:nvPr/>
        </p:nvPicPr>
        <p:blipFill>
          <a:blip r:embed="rId2"/>
          <a:stretch/>
        </p:blipFill>
        <p:spPr>
          <a:xfrm>
            <a:off x="6689880" y="285840"/>
            <a:ext cx="2454120" cy="273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42852565_1"/>
          <p:cNvPicPr/>
          <p:nvPr/>
        </p:nvPicPr>
        <p:blipFill>
          <a:blip r:embed="rId3"/>
          <a:stretch/>
        </p:blipFill>
        <p:spPr>
          <a:xfrm>
            <a:off x="2643120" y="2500200"/>
            <a:ext cx="3840120" cy="291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7983193"/>
          <p:cNvPicPr/>
          <p:nvPr/>
        </p:nvPicPr>
        <p:blipFill>
          <a:blip r:embed="rId4"/>
          <a:stretch/>
        </p:blipFill>
        <p:spPr>
          <a:xfrm>
            <a:off x="214200" y="571680"/>
            <a:ext cx="2643480" cy="283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9360045_1"/>
          <p:cNvPicPr/>
          <p:nvPr/>
        </p:nvPicPr>
        <p:blipFill>
          <a:blip r:embed="rId5"/>
          <a:stretch/>
        </p:blipFill>
        <p:spPr>
          <a:xfrm>
            <a:off x="6516720" y="3573360"/>
            <a:ext cx="21398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499680"/>
            <a:ext cx="9001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совокупность предметов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из ткани, меха, кожи), которыми покрывают, одевают тело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Д.Н.Ушаков)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357120" y="3714840"/>
            <a:ext cx="2357640" cy="173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3143160" y="4714920"/>
            <a:ext cx="2490840" cy="1708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 rot="19607400">
            <a:off x="6453360" y="3943080"/>
            <a:ext cx="227484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Летняя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Зимняя</a:t>
            </a: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            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Осенне – весенняя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демисезонная)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Line 4"/>
          <p:cNvSpPr/>
          <p:nvPr/>
        </p:nvSpPr>
        <p:spPr>
          <a:xfrm flipH="1">
            <a:off x="1908000" y="1052640"/>
            <a:ext cx="1368720" cy="720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Line 6"/>
          <p:cNvSpPr/>
          <p:nvPr/>
        </p:nvSpPr>
        <p:spPr>
          <a:xfrm flipH="1">
            <a:off x="3634920" y="981000"/>
            <a:ext cx="576360" cy="316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5651640" y="1052640"/>
            <a:ext cx="1873080" cy="151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295272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024360" cy="94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2843280" y="5445000"/>
            <a:ext cx="302400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ЕЖД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улицы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верхняя одежда)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те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              (нижняя одежда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праздников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праздничная)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Для каждого дня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(повседневная)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9"/>
          <p:cNvSpPr/>
          <p:nvPr/>
        </p:nvSpPr>
        <p:spPr>
          <a:xfrm flipH="1">
            <a:off x="2700360" y="1052640"/>
            <a:ext cx="1224000" cy="2952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859280" y="1052640"/>
            <a:ext cx="576360" cy="3889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5364000" y="981000"/>
            <a:ext cx="792360" cy="187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12"/>
          <p:cNvSpPr/>
          <p:nvPr/>
        </p:nvSpPr>
        <p:spPr>
          <a:xfrm flipH="1">
            <a:off x="2555640" y="981000"/>
            <a:ext cx="647640" cy="792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1508400" cy="113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2448000" cy="1081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"/>
          <p:cNvPicPr/>
          <p:nvPr/>
        </p:nvPicPr>
        <p:blipFill>
          <a:blip r:embed="rId3"/>
          <a:stretch/>
        </p:blipFill>
        <p:spPr>
          <a:xfrm>
            <a:off x="0" y="5000760"/>
            <a:ext cx="1928880" cy="1590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"/>
          <p:cNvPicPr/>
          <p:nvPr/>
        </p:nvPicPr>
        <p:blipFill>
          <a:blip r:embed="rId4"/>
          <a:stretch/>
        </p:blipFill>
        <p:spPr>
          <a:xfrm>
            <a:off x="6012000" y="5877000"/>
            <a:ext cx="2016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лишнее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559640" cy="485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059280" y="4508640"/>
            <a:ext cx="1584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Что лишнее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0"/>
          <a:ext cx="208080" cy="439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16"/>
          <p:cNvSpPr/>
          <p:nvPr/>
        </p:nvSpPr>
        <p:spPr>
          <a:xfrm>
            <a:off x="1800" y="4393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17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7112160" cy="4456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8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19908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30:26Z</dcterms:created>
  <dc:creator>дом</dc:creator>
  <dc:description/>
  <dc:language>en-US</dc:language>
  <cp:lastModifiedBy>User</cp:lastModifiedBy>
  <dcterms:modified xsi:type="dcterms:W3CDTF">2016-01-13T10:16:47Z</dcterms:modified>
  <cp:revision>23</cp:revision>
  <dc:subject/>
  <dc:title>Чистоговорки.</dc:title>
</cp:coreProperties>
</file>