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6817-5B3D-48E1-8008-BA5B1B62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B04C-80F7-41BF-9710-EB539BA5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2758-6B60-4F6E-8D68-0CABE3F4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DF00-3749-4451-8222-B4A94065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6C15-0CF1-44AF-9E08-768B1AE8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F722-8D92-49EC-8A2A-DDE2770A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C64E-07D7-48AA-A21C-2B90FF8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A4BA-C045-4964-B230-410446AA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CCE6-C44B-472E-B1DF-99C4614E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69E8-F603-456F-809C-FB767947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E1F1-582C-4424-90D1-A3A00EB5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CE14-E692-49AA-A6EB-09B19AEF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1090-2257-49BC-8044-A871728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5949-9A47-4405-BB49-7A2D8C86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4D6E-3C69-40FF-AFCC-FC28140D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74DD-B9CA-4D2F-B7FE-2C990B81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E908-BBE9-48BB-B6C9-5BFECD8F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2CDD-EDED-4180-9E70-87B893B6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395B-5EF9-4E37-8D35-D0745AAA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3437-283E-4447-9550-D6219CA3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3ACB-2271-489C-9502-B557F2EB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A035-9551-49D7-9800-33314DE8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F23D-B3BC-4EED-BC8D-4FF5B7D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0279-3CBA-46C3-973C-F25BEE72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F0C4-C7C9-430B-BBAB-E34C5C337F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68C0-42B9-45A1-93F6-7BDB97BBA9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505F-41FE-48DA-A556-327A21BA87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подготовил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высшей квалификационной категории Ларикова Ирина Евгеньевн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5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Лицей «Школа менеджеров», 201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560" y="475920"/>
            <a:ext cx="76438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8 клас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тем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иды односоставных предложен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37C9-1FF8-4303-990B-61D2A3DBA9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13916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афический диктант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ите грамматическую основу и тип односоставных предложений. Запишите ответ схем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рое осеннее небо. Вот и стан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ичин не спрашивайт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играли увертюр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ыло холодно и сы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уть брезжи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ет войн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1B47-5845-4927-9FAE-2FDD67851F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31, 32, 33, 35 (определения знать наизус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. Опорный конспект по теме «Односоставные предложения» воспроизводить письменно наизу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. Упр. 175 (1, разборы), 186 (1,8), 190 (2,4), 199 (1,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 всем односоставным предложениям составить сх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7AA5-91DF-4B12-9BAA-51EE0707B3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Тип урок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– комбинированный, объяснение нового материал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познакомить с видами односоставных предложений, научить различать их по значению и способам выражения основы в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развить умение видеть такие предложения в составе слож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вызвать интерес к урокам русск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200A-8E73-42FC-9465-A154455F60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чему в нижеприведенных предложениях необходима постановка запятой перед союзом 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435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морозило, и               стал   свеж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удьи, и                  стали стро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324000" y="2852640"/>
            <a:ext cx="2087280" cy="0"/>
          </a:xfrm>
          <a:prstGeom prst="line">
            <a:avLst/>
          </a:prstGeom>
          <a:ln w="95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4284720" y="2852640"/>
            <a:ext cx="2016000" cy="0"/>
          </a:xfrm>
          <a:prstGeom prst="line">
            <a:avLst/>
          </a:prstGeom>
          <a:ln w="95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4500720" y="3860640"/>
            <a:ext cx="2735280" cy="0"/>
          </a:xfrm>
          <a:prstGeom prst="line">
            <a:avLst/>
          </a:prstGeom>
          <a:ln w="95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843280" y="234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0" y="3357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вис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843280" y="33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ом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50920" y="213372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ИС, им.ч. – слово К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925000" y="2133720"/>
            <a:ext cx="35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дл.-сущ   гл-св   СИС    им.ч.-при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95280" y="3141720"/>
            <a:ext cx="625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дл. – сущ                                  подл. – сущ       всп. гл.    СГС   ин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79280" y="4365720"/>
            <a:ext cx="22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50920" y="5157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Синтаксическая разминка  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10920" y="1268280"/>
            <a:ext cx="82407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Еду. Тихо. Слышны зво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д копытом на снег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Только серые воро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Расшумелись на луг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колько в этой строфе предложени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айдите в каждом из них грамматическую основ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Чем отличаются эти предлож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Вывод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: эти предложения односоставные и двусоставны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FA46-A8DA-4920-B506-15987E1353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-14724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333360"/>
            <a:ext cx="9325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 главный член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лежащее                                              Сказуем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ное                                     Определи, чем выраж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Гл.1и 2л.                1) Гл.3л.мн.ч.           1)Безл.глаго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ъяв.накл;             наст. и буд. вр.;       2)личн. гл в безл.ф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Гл.2 лица               2) мн.ч. прош. вр.     3) инфинити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елит.накл;                 усл.накл;             4) кр.страд.прич. (ср.р)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кат. состоя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) НЕТ, НЕ БЫЛО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но-            неопределенно-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чные                            личные                     безлич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/Л                               Н/Л                                Б/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>
            <a:off x="826920" y="4365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9"/>
          <p:cNvSpPr/>
          <p:nvPr/>
        </p:nvSpPr>
        <p:spPr>
          <a:xfrm>
            <a:off x="4067280" y="4292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7236000" y="5084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31"/>
          <p:cNvSpPr/>
          <p:nvPr/>
        </p:nvSpPr>
        <p:spPr>
          <a:xfrm flipH="1">
            <a:off x="1618920" y="2060640"/>
            <a:ext cx="4753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 flipH="1">
            <a:off x="4643280" y="2060640"/>
            <a:ext cx="165744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3"/>
          <p:cNvSpPr/>
          <p:nvPr/>
        </p:nvSpPr>
        <p:spPr>
          <a:xfrm>
            <a:off x="6300720" y="2060640"/>
            <a:ext cx="64764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34"/>
          <p:cNvSpPr/>
          <p:nvPr/>
        </p:nvSpPr>
        <p:spPr>
          <a:xfrm>
            <a:off x="826920" y="1413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5"/>
          <p:cNvSpPr/>
          <p:nvPr/>
        </p:nvSpPr>
        <p:spPr>
          <a:xfrm>
            <a:off x="6732720" y="134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36"/>
          <p:cNvSpPr/>
          <p:nvPr/>
        </p:nvSpPr>
        <p:spPr>
          <a:xfrm flipH="1">
            <a:off x="2050560" y="620640"/>
            <a:ext cx="22338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37"/>
          <p:cNvSpPr/>
          <p:nvPr/>
        </p:nvSpPr>
        <p:spPr>
          <a:xfrm>
            <a:off x="4284720" y="620640"/>
            <a:ext cx="151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A76A-DEE5-45D9-ABE3-C7BB750AD5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Times New Roman"/>
              </a:rPr>
              <a:t>ПОДСКАЗКА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пределенно-личное предложение можно вставить  местоимения Я, 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определенно-личное можно вставить местоимение О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езличное предложение можно вставить местоимение ОНО, КТО-ТО, ЧТО-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623D-F09D-4E28-86AD-48BBD76E7C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66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овите тип односоставного предложения, если сказуемое выражено: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675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вом 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множественного числа прошедше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тким страдательным причастие в среднем р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1лица будущего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пределенной формой глаг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еч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3 лица множественного числа настояще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в повелительном наклон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чным глаголом в безличном знач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голом 2 лица настояще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етанием вспомогательного глагола и неопределенной формы глаго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если в предложении только подлежаще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BE38-2BF7-4D07-8108-965CA1DF2D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ъяснительный диктан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ахло милым тлением ос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Люблю грозу в начале м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лавная осен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Схоронили его за Москвой ? ре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Возьмемся за руки друзь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егодня уже прохла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79AF-F57B-4D85-92EC-93FD5FD0A8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01028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шите предложения. Выделите грамматические основы. Укажите в скобках тип односоставного пред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йский полдень. Топот и фыркан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кажите мне что-нибудь веселень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газетах бранят его оч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этот вопрос нельзя ответить с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ждя уже не было слыш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му стало стыдно за человече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уть брезжи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не уже было скучно спорить и хотелось сп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6:00:47Z</dcterms:created>
  <dc:creator>Люба</dc:creator>
  <dc:description/>
  <dc:language>en-US</dc:language>
  <cp:lastModifiedBy>User</cp:lastModifiedBy>
  <dcterms:modified xsi:type="dcterms:W3CDTF">2018-08-04T11:17:57Z</dcterms:modified>
  <cp:revision>25</cp:revision>
  <dc:subject/>
  <dc:title>Односоставные предложения.</dc:title>
</cp:coreProperties>
</file>