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C62A8-4DFD-4B02-9DA3-FA1FD176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A053F-E5C8-4D9E-A327-C7C6DB9C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FA5A7-5833-466A-AF12-9C87A0FD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BBCBE-EBBB-44AC-9980-A7523724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E580-FC57-411D-8E84-D42C15FE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95DF-638B-4D0D-94BD-5F9BF296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152E-F57B-410F-9E98-561FBFBE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EC25-09F5-41CA-B8CE-FE7E7311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1328-85B0-4F38-A3F5-59AB8C52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5917-875F-4431-8126-48B10B8F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14B4-4247-41B6-A229-B57BA02A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03044-9817-40B4-B27E-71486164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8C64-0C58-4F9D-A238-8E7EBB9F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3130-50A8-4342-8A4F-1825D809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6842-20BB-4CD0-A274-EB774BD1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BA9A-F90D-4BEE-9423-2F8B9CBE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D029-E2CB-48E2-954E-A349E4A0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FF5C8-370E-4331-A1D1-7C665F62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B7A22-17F0-4A0B-B0E2-831781EC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71BFE-71D0-4263-9EB9-8DF6EA8B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E658B-5012-4C06-BADB-CF720068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AA305-4D7B-4833-8F7E-F82B33E4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FE983-6655-4062-8C09-8327B94F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9325E-A526-4514-BDD5-5446A00C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2257-FA65-441B-853F-FF042C1EC3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369E-A167-4D63-8F9E-91C7B64E0C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BDC3-1C6E-449F-8D1D-0C9FB65A3E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72392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 подготовил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русского языка и литературы высшей квалификационной категории Ларикова Ирина Евгеньевна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5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«Лицей «Школа менеджеров», 2017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560" y="475920"/>
            <a:ext cx="76438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к русского язы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8 класс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тем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Виды односоставных предложени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E1A2-2369-4695-AB0E-3555EE25ED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713916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рафический диктант</a:t>
            </a: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ределите грамматическую основу и тип односоставных предложений. Запишите ответ схем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ерое осеннее небо. Вот и станц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ичин не спрашивайт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аиграли увертюр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ыло холодно и сыр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уть брезжил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ет войн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8CD1-2ED9-494D-A4A9-ED5D2A7AE7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31, 32, 33, 35 (определения знать наизусть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. Опорный конспект по теме «Односоставные предложения» воспроизводить письменно наизу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3. Упр. 175 (1, разборы), 186 (1,8), 190 (2,4), 199 (1,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 всем односоставным предложениям составить схе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DD76-7C0B-4BA6-9A5A-09B3558620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Тип урока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– комбинированный, объяснение нового материал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и уро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познакомить с видами односоставных предложений, научить различать их по значению и способам выражения основы в ни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) развить умение видеть такие предложения в составе сложн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) вызвать интерес к урокам русского язы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95B2-0D6A-433C-AD74-B41F5A0349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чему в нижеприведенных предложениях необходима постановка запятой перед союзом 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4358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морозило, и               стал   свеже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удьи, и                  стали строи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324000" y="2852640"/>
            <a:ext cx="2087280" cy="0"/>
          </a:xfrm>
          <a:prstGeom prst="line">
            <a:avLst/>
          </a:prstGeom>
          <a:ln w="954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4284720" y="2852640"/>
            <a:ext cx="2016000" cy="0"/>
          </a:xfrm>
          <a:prstGeom prst="line">
            <a:avLst/>
          </a:prstGeom>
          <a:ln w="954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4500720" y="3860640"/>
            <a:ext cx="2735280" cy="0"/>
          </a:xfrm>
          <a:prstGeom prst="line">
            <a:avLst/>
          </a:prstGeom>
          <a:ln w="954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843280" y="2349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озду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0" y="3357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вист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843280" y="3357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оман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250920" y="2133720"/>
            <a:ext cx="22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ИС, им.ч. – слово К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2925000" y="2133720"/>
            <a:ext cx="352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дл.-сущ   гл-св   СИС    им.ч.-при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395280" y="3141720"/>
            <a:ext cx="625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дл. – сущ                                  подл. – сущ       всп. гл.    СГС   ин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179280" y="4365720"/>
            <a:ext cx="22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и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250920" y="515772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,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Синтаксическая разминка  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10920" y="1268280"/>
            <a:ext cx="82407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Еду. Тихо. Слышны звон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Под копытом на снег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Только серые ворон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Расшумелись на луг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С.Есени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колько в этой строфе предложений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Найдите в каждом из них грамматическую основ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Чем отличаются эти предложени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Arial"/>
              </a:rPr>
              <a:t>Вывод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: эти предложения односоставные и двусоставны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09FB-6013-47CA-9047-B4636B0B8F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-147240"/>
            <a:ext cx="70102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333360"/>
            <a:ext cx="9325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ти главный член пред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лежащее                                              Сказуем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ное                                     Определи, чем выраже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Гл.1и 2л.                1) Гл.3л.мн.ч.           1)Безл.глаго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ъяв.накл;             наст. и буд. вр.;       2)личн. гл в безл.ф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Гл.2 лица               2) мн.ч. прош. вр.     3) инфинити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елит.накл;                 усл.накл;             4) кр.страд.прич. (ср.р)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) кат. состоя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) НЕТ, НЕ БЫЛО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енно-            неопределенно-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чные                            личные                     безлич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/Л                               Н/Л                                Б/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7"/>
          <p:cNvSpPr/>
          <p:nvPr/>
        </p:nvSpPr>
        <p:spPr>
          <a:xfrm>
            <a:off x="826920" y="4365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9"/>
          <p:cNvSpPr/>
          <p:nvPr/>
        </p:nvSpPr>
        <p:spPr>
          <a:xfrm>
            <a:off x="4067280" y="429264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30"/>
          <p:cNvSpPr/>
          <p:nvPr/>
        </p:nvSpPr>
        <p:spPr>
          <a:xfrm>
            <a:off x="7236000" y="508464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31"/>
          <p:cNvSpPr/>
          <p:nvPr/>
        </p:nvSpPr>
        <p:spPr>
          <a:xfrm flipH="1">
            <a:off x="1618920" y="2060640"/>
            <a:ext cx="475308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32"/>
          <p:cNvSpPr/>
          <p:nvPr/>
        </p:nvSpPr>
        <p:spPr>
          <a:xfrm flipH="1">
            <a:off x="4643280" y="2060640"/>
            <a:ext cx="165744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3"/>
          <p:cNvSpPr/>
          <p:nvPr/>
        </p:nvSpPr>
        <p:spPr>
          <a:xfrm>
            <a:off x="6300720" y="2060640"/>
            <a:ext cx="64764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34"/>
          <p:cNvSpPr/>
          <p:nvPr/>
        </p:nvSpPr>
        <p:spPr>
          <a:xfrm>
            <a:off x="826920" y="1413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35"/>
          <p:cNvSpPr/>
          <p:nvPr/>
        </p:nvSpPr>
        <p:spPr>
          <a:xfrm>
            <a:off x="6732720" y="134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36"/>
          <p:cNvSpPr/>
          <p:nvPr/>
        </p:nvSpPr>
        <p:spPr>
          <a:xfrm flipH="1">
            <a:off x="2050560" y="620640"/>
            <a:ext cx="22338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37"/>
          <p:cNvSpPr/>
          <p:nvPr/>
        </p:nvSpPr>
        <p:spPr>
          <a:xfrm>
            <a:off x="4284720" y="620640"/>
            <a:ext cx="15112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EE57-E43A-4277-97E7-2FCFCFB3AE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Times New Roman"/>
              </a:rPr>
              <a:t>ПОДСКАЗКА!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пределенно-личное предложение можно вставить  местоимения Я, 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еопределенно-личное можно вставить местоимение О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безличное предложение можно вставить местоимение ОНО, КТО-ТО, ЧТО-Т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8C4E-AE21-4D3E-AAA7-637AC47C0B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7667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зовите тип односоставного предложения, если сказуемое выражено: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6756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овом 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голом множественного числа прошедшего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тким страдательным причастие в среднем ро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голом 1лица будущего време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пределенной формой глаго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речи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голом 3 лица множественного числа настоящего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голом в повелительном наклоне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чным глаголом в безличном значе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голом 2 лица настоящего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четанием вспомогательного глагола и неопределенной формы глаго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если в предложении только подлежаще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6412-BACD-4767-A987-9D2BF82C2B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Объяснительный диктан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Пахло милым тлением осе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Люблю грозу в начале м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Славная осен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Схоронили его за Москвой ? ре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Возьмемся за руки друзья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Сегодня уже прохлад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FD44-7C6C-410F-A578-4F5CD3CF42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75920"/>
            <a:ext cx="7010280" cy="12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пишите предложения. Выделите грамматические основы. Укажите в скобках тип односоставного предлож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йский полдень. Топот и фыркань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скажите мне что-нибудь веселеньк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газетах бранят его оче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этот вопрос нельзя ответить сра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ждя уже не было слыш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му стало стыдно за человече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уть брезжи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не уже было скучно спорить и хотелось сп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6:00:47Z</dcterms:created>
  <dc:creator>Люба</dc:creator>
  <dc:description/>
  <dc:language>en-US</dc:language>
  <cp:lastModifiedBy>User</cp:lastModifiedBy>
  <dcterms:modified xsi:type="dcterms:W3CDTF">2018-08-04T11:17:57Z</dcterms:modified>
  <cp:revision>25</cp:revision>
  <dc:subject/>
  <dc:title>Односоставные предложения.</dc:title>
</cp:coreProperties>
</file>