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2E6-3C8A-4FE6-BFA8-10BD4285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8345-A5B7-46A7-AC34-79387126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4856-9178-46B8-BE4F-49ECDBBB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3E75-24CA-4F74-9A3F-D0BB57A6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9914-CF94-4E0A-B0E3-080FCA33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D76-D6D0-48D1-AFC7-8EB806E0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0821-8074-4719-9CF9-580986F0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5F3F-CEA6-4C11-8D66-EABBACAB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4E03-153F-4E06-BBAE-FADF8586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0C13-3844-4B43-9893-DFF19350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7D76-3596-480A-A27E-DD61A9F2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DECA-3969-4291-8451-358E697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B7E7-B7F3-466B-88BF-ACB8814DD6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60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Практическая основа формирования математических знаний у детей в дошкольном возрасте как фундамент развития мышления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numeral"/>
          <p:cNvPicPr/>
          <p:nvPr/>
        </p:nvPicPr>
        <p:blipFill>
          <a:blip r:embed="rId1"/>
          <a:stretch/>
        </p:blipFill>
        <p:spPr>
          <a:xfrm>
            <a:off x="395280" y="306864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127480" y="508464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БДОУ   детский сад № 2 г. По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189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остранств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-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то такое качество, с помощью которого устанавливаются отношения типа окрестностей и рас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46110364_8"/>
          <p:cNvPicPr/>
          <p:nvPr/>
        </p:nvPicPr>
        <p:blipFill>
          <a:blip r:embed="rId1"/>
          <a:stretch/>
        </p:blipFill>
        <p:spPr>
          <a:xfrm>
            <a:off x="1763640" y="2133720"/>
            <a:ext cx="5616720" cy="42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2050920" y="4653000"/>
            <a:ext cx="50421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H="1">
            <a:off x="4500720" y="981000"/>
            <a:ext cx="144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484360" y="4869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620640"/>
            <a:ext cx="914400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Р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з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м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и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н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назвать              пословицы, поговорки,       крылатые слова                   с числитель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IMG_4682"/>
          <p:cNvPicPr/>
          <p:nvPr/>
        </p:nvPicPr>
        <p:blipFill>
          <a:blip r:embed="rId1"/>
          <a:stretch/>
        </p:blipFill>
        <p:spPr>
          <a:xfrm>
            <a:off x="2340000" y="3573360"/>
            <a:ext cx="4321080" cy="3168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1" name="Picture 10" descr="IMG_4668"/>
          <p:cNvPicPr/>
          <p:nvPr/>
        </p:nvPicPr>
        <p:blipFill>
          <a:blip r:embed="rId2"/>
          <a:stretch/>
        </p:blipFill>
        <p:spPr>
          <a:xfrm>
            <a:off x="4643280" y="189000"/>
            <a:ext cx="4249800" cy="3189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2" name="Picture 11" descr="IMG_2714"/>
          <p:cNvPicPr/>
          <p:nvPr/>
        </p:nvPicPr>
        <p:blipFill>
          <a:blip r:embed="rId3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3" name="Picture 12" descr="IMG_4582"/>
          <p:cNvPicPr/>
          <p:nvPr/>
        </p:nvPicPr>
        <p:blipFill>
          <a:blip r:embed="rId4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Picture 13" descr="IMG_4583"/>
          <p:cNvPicPr/>
          <p:nvPr/>
        </p:nvPicPr>
        <p:blipFill>
          <a:blip r:embed="rId5"/>
          <a:stretch/>
        </p:blipFill>
        <p:spPr>
          <a:xfrm>
            <a:off x="4643280" y="189000"/>
            <a:ext cx="4249800" cy="3187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5" name="Picture 14" descr="IMG_3249"/>
          <p:cNvPicPr/>
          <p:nvPr/>
        </p:nvPicPr>
        <p:blipFill>
          <a:blip r:embed="rId6"/>
          <a:stretch/>
        </p:blipFill>
        <p:spPr>
          <a:xfrm>
            <a:off x="2340000" y="3573360"/>
            <a:ext cx="4319640" cy="324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9280" y="907920"/>
            <a:ext cx="896472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одготовка к занятию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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родумывание програм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   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содер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родумывание форм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    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деятельност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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одбор  разнообраз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граммные задачи                              на занятиях по ФЭМП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разов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звив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оспит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че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1835280" y="4653000"/>
            <a:ext cx="5473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4427640" y="98100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84360" y="486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268360" y="3573360"/>
            <a:ext cx="461016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404640"/>
            <a:ext cx="83534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етоды обучения                     на занятиях по ФЭМП :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ловес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акт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гля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гр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"/>
          <p:cNvSpPr/>
          <p:nvPr/>
        </p:nvSpPr>
        <p:spPr>
          <a:xfrm>
            <a:off x="1835280" y="4653000"/>
            <a:ext cx="5473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427640" y="98100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84360" y="486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268360" y="3573360"/>
            <a:ext cx="461016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2556000" y="2492280"/>
            <a:ext cx="374472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700280"/>
            <a:ext cx="91440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Р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з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м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и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н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«Объясни выраж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1628640"/>
            <a:ext cx="817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но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чё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числ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л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еометрическ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сновные                                       математические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идактический  материал            должен бы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остаточном количестве на каждого ребёнка + запасно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художественно оформ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азличным на каждом заня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нятен дет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ответствовать  друг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ы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User\Desktop\IMG_1802.JPG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IMG_1800.JPG"/>
          <p:cNvPicPr/>
          <p:nvPr/>
        </p:nvPicPr>
        <p:blipFill>
          <a:blip r:embed="rId2"/>
          <a:stretch/>
        </p:blipFill>
        <p:spPr>
          <a:xfrm>
            <a:off x="4572000" y="1628640"/>
            <a:ext cx="4179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1187280" y="5013360"/>
            <a:ext cx="604872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4211640" y="836640"/>
            <a:ext cx="0" cy="417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95640" y="530064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763640" y="3716280"/>
            <a:ext cx="48960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124000" y="2492280"/>
            <a:ext cx="410364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484360" y="1268280"/>
            <a:ext cx="3240000" cy="122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627280" y="141300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авильный подбор  демонстрационного и раздаточ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0"/>
            <a:ext cx="774216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Georgia"/>
              </a:rPr>
              <a:t>Просклонять  :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           </a:t>
            </a:r>
            <a:r>
              <a:rPr b="1" i="1" lang="ru-RU" sz="3600" spc="-1" strike="noStrike">
                <a:solidFill>
                  <a:srgbClr val="ff0066"/>
                </a:solidFill>
                <a:latin typeface="Georgia"/>
              </a:rPr>
              <a:t>1 команда - </a:t>
            </a:r>
            <a:r>
              <a:rPr b="1" i="1" lang="ru-RU" sz="4800" spc="-1" strike="noStrike">
                <a:solidFill>
                  <a:srgbClr val="ff0066"/>
                </a:solidFill>
                <a:latin typeface="Georgia"/>
              </a:rPr>
              <a:t>675</a:t>
            </a:r>
            <a:r>
              <a:rPr b="1" i="1" lang="ru-RU" sz="3600" spc="-1" strike="noStrike">
                <a:solidFill>
                  <a:srgbClr val="ff0066"/>
                </a:solidFill>
                <a:latin typeface="Georgia"/>
              </a:rPr>
              <a:t> шаров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2 команда - </a:t>
            </a:r>
            <a:r>
              <a:rPr b="1" i="1" lang="ru-RU" sz="4800" spc="-1" strike="noStrike">
                <a:solidFill>
                  <a:srgbClr val="ffff00"/>
                </a:solidFill>
                <a:latin typeface="Georgia"/>
              </a:rPr>
              <a:t>947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 стул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И.П. ( скольк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Р. П. (скольких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.П. (скольким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В. П.( скольк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. П. (сколькими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. П. (о скольких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18900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ечь воспитателя           должна быть: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рамотной и в отношении грамматики, и в отношен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4508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очной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раткой, чёткой, ясной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187280" y="5229360"/>
            <a:ext cx="6048720" cy="143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4211640" y="836640"/>
            <a:ext cx="0" cy="417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79640" y="551664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1763640" y="3933720"/>
            <a:ext cx="489600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2124000" y="2708280"/>
            <a:ext cx="4103640" cy="122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484360" y="1413000"/>
            <a:ext cx="3240000" cy="129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627280" y="1557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ьный подбор  демонстрационного и раздаточ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3276720" y="0"/>
            <a:ext cx="1800000" cy="1413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рам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спит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24000" y="189000"/>
            <a:ext cx="84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ь успешного занятия по ФЭМП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11814" t="0" r="17327" b="0"/>
          <a:stretch/>
        </p:blipFill>
        <p:spPr>
          <a:xfrm>
            <a:off x="2081160" y="1557360"/>
            <a:ext cx="4487760" cy="475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22682544_piramidka"/>
          <p:cNvPicPr/>
          <p:nvPr/>
        </p:nvPicPr>
        <p:blipFill>
          <a:blip r:embed="rId1"/>
          <a:stretch/>
        </p:blipFill>
        <p:spPr>
          <a:xfrm rot="21046800">
            <a:off x="684360" y="2060280"/>
            <a:ext cx="3165480" cy="2773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" name="Picture 7" descr="f44d1bf920a0"/>
          <p:cNvPicPr/>
          <p:nvPr/>
        </p:nvPicPr>
        <p:blipFill>
          <a:blip r:embed="rId2"/>
          <a:stretch/>
        </p:blipFill>
        <p:spPr>
          <a:xfrm rot="891000">
            <a:off x="4932000" y="2276640"/>
            <a:ext cx="3673440" cy="237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8" name="Picture 9" descr="1279479079_kid_toys-2"/>
          <p:cNvPicPr/>
          <p:nvPr/>
        </p:nvPicPr>
        <p:blipFill>
          <a:blip r:embed="rId3"/>
          <a:stretch/>
        </p:blipFill>
        <p:spPr>
          <a:xfrm>
            <a:off x="2843280" y="3716280"/>
            <a:ext cx="287964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9" name="Text Box 10"/>
          <p:cNvSpPr/>
          <p:nvPr/>
        </p:nvSpPr>
        <p:spPr>
          <a:xfrm>
            <a:off x="179280" y="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Множест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рассматривают как набор, совокупность, собрание каких-либо предметов и объектов, объединённых общим, для всех характерным свой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890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Числ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общая неизменная категория множества, которая является показателем мощности множества. Это лишь звуковое обо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ифры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— система знаков (буквы)  для записи  чисел (сл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1labkedo1226217937"/>
          <p:cNvPicPr/>
          <p:nvPr/>
        </p:nvPicPr>
        <p:blipFill>
          <a:blip r:embed="rId1"/>
          <a:stretch/>
        </p:blipFill>
        <p:spPr>
          <a:xfrm>
            <a:off x="2916360" y="2997360"/>
            <a:ext cx="3543120" cy="3657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чётная деятельнос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-                               деятельность с конкретными элементами множества, при которых устанавливается взаимосвязь между предметами и числительными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image164"/>
          <p:cNvPicPr/>
          <p:nvPr/>
        </p:nvPicPr>
        <p:blipFill>
          <a:blip r:embed="rId1"/>
          <a:stretch/>
        </p:blipFill>
        <p:spPr>
          <a:xfrm>
            <a:off x="1187280" y="4797360"/>
            <a:ext cx="2521080" cy="1576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4" name="Line 20"/>
          <p:cNvSpPr/>
          <p:nvPr/>
        </p:nvSpPr>
        <p:spPr>
          <a:xfrm>
            <a:off x="4859280" y="3500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859280" y="5589720"/>
            <a:ext cx="1225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6588000" y="2421000"/>
            <a:ext cx="15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659640" y="4437000"/>
            <a:ext cx="12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6" descr="AN_25"/>
          <p:cNvPicPr/>
          <p:nvPr/>
        </p:nvPicPr>
        <p:blipFill>
          <a:blip r:embed="rId2"/>
          <a:stretch/>
        </p:blipFill>
        <p:spPr>
          <a:xfrm>
            <a:off x="1116000" y="2708280"/>
            <a:ext cx="2521080" cy="1714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50920" y="189000"/>
            <a:ext cx="8642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ычислительная деятельнос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                    это деятельность с абстрактными числами, осуществляемая посредством сложения и вычитания.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92401473"/>
          <p:cNvPicPr/>
          <p:nvPr/>
        </p:nvPicPr>
        <p:blipFill>
          <a:blip r:embed="rId1"/>
          <a:stretch/>
        </p:blipFill>
        <p:spPr>
          <a:xfrm>
            <a:off x="2124000" y="2421000"/>
            <a:ext cx="4537080" cy="144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1" name="Picture 11" descr="464-0-00584-006-3_0"/>
          <p:cNvPicPr/>
          <p:nvPr/>
        </p:nvPicPr>
        <p:blipFill>
          <a:blip r:embed="rId2"/>
          <a:srcRect l="15748" t="41687" r="12598" b="38213"/>
          <a:stretch/>
        </p:blipFill>
        <p:spPr>
          <a:xfrm>
            <a:off x="2124000" y="4076640"/>
            <a:ext cx="4608720" cy="11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Picture 12" descr="464-0-00584-006-3_0"/>
          <p:cNvPicPr/>
          <p:nvPr/>
        </p:nvPicPr>
        <p:blipFill>
          <a:blip r:embed="rId3"/>
          <a:srcRect l="17008" t="72959" r="11339" b="10422"/>
          <a:stretch/>
        </p:blipFill>
        <p:spPr>
          <a:xfrm>
            <a:off x="2124000" y="5516640"/>
            <a:ext cx="4608720" cy="108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0"/>
            <a:ext cx="84596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еличин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                                                              это качество и свойство предмета, с помощью которого мы сравниваем  предметы друг с другом и устанавливаем  количественную характеристику сравниваем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0_1bb2a_a3a90963_XL"/>
          <p:cNvPicPr/>
          <p:nvPr/>
        </p:nvPicPr>
        <p:blipFill>
          <a:blip r:embed="rId1"/>
          <a:stretch/>
        </p:blipFill>
        <p:spPr>
          <a:xfrm>
            <a:off x="395280" y="2852640"/>
            <a:ext cx="2703600" cy="360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Picture 18" descr="0003-003-U-duba-stvol-tolstyj-a-u-berezy-tonkij"/>
          <p:cNvPicPr/>
          <p:nvPr/>
        </p:nvPicPr>
        <p:blipFill>
          <a:blip r:embed="rId2"/>
          <a:stretch/>
        </p:blipFill>
        <p:spPr>
          <a:xfrm>
            <a:off x="3995640" y="2924280"/>
            <a:ext cx="4737240" cy="3552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79280" y="260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Геометрическая фигур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                  абстрактное понятие, с помощью которого мы все окружающие нас предметы олицетворяем в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User\Desktop\SAM_0512.JPG"/>
          <p:cNvPicPr/>
          <p:nvPr/>
        </p:nvPicPr>
        <p:blipFill>
          <a:blip r:embed="rId1"/>
          <a:stretch/>
        </p:blipFill>
        <p:spPr>
          <a:xfrm>
            <a:off x="271440" y="2347920"/>
            <a:ext cx="4224240" cy="381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User\Desktop\SAM_0514.JPG"/>
          <p:cNvPicPr/>
          <p:nvPr/>
        </p:nvPicPr>
        <p:blipFill>
          <a:blip r:embed="rId2"/>
          <a:stretch/>
        </p:blipFill>
        <p:spPr>
          <a:xfrm>
            <a:off x="4643280" y="234936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79280" y="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рем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илософское понятие, которое характеризуется сменой  событий и явлений  и длительностью их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KC8309_14"/>
          <p:cNvPicPr/>
          <p:nvPr/>
        </p:nvPicPr>
        <p:blipFill>
          <a:blip r:embed="rId1"/>
          <a:stretch/>
        </p:blipFill>
        <p:spPr>
          <a:xfrm>
            <a:off x="324000" y="2349360"/>
            <a:ext cx="3798720" cy="3648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2" name="Picture 9" descr="j0422771"/>
          <p:cNvPicPr/>
          <p:nvPr/>
        </p:nvPicPr>
        <p:blipFill>
          <a:blip r:embed="rId2"/>
          <a:stretch/>
        </p:blipFill>
        <p:spPr>
          <a:xfrm>
            <a:off x="5003640" y="2492280"/>
            <a:ext cx="3383280" cy="3382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Picture 11" descr="738880"/>
          <p:cNvPicPr/>
          <p:nvPr/>
        </p:nvPicPr>
        <p:blipFill>
          <a:blip r:embed="rId3"/>
          <a:stretch/>
        </p:blipFill>
        <p:spPr>
          <a:xfrm>
            <a:off x="4932360" y="1844640"/>
            <a:ext cx="3571920" cy="454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0:34:38Z</dcterms:created>
  <dc:creator>Sveta</dc:creator>
  <dc:description/>
  <dc:language>en-US</dc:language>
  <cp:lastModifiedBy>User</cp:lastModifiedBy>
  <dcterms:modified xsi:type="dcterms:W3CDTF">2017-11-23T21:16:26Z</dcterms:modified>
  <cp:revision>40</cp:revision>
  <dc:subject/>
  <dc:title>Слайд 1</dc:title>
</cp:coreProperties>
</file>