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1C9-2C3D-451C-9D3F-8F388282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0672-AD21-4D6B-8C3E-21607E5B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E33-94DD-45D9-A73F-16429337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3C3-29B5-44E3-824C-AABECF96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E77C-75EC-4CFD-8C7D-714EC38F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D039-D905-4C02-A0D3-01FA4639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40FA-E4DF-44A3-9646-25AC7A0E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2E34-D054-4530-AE6A-465DCD0F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2F81-4770-4B93-9084-C0ED5884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7E20-C3A5-454C-AFCD-902B6EA3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71F4-250A-48A1-B112-316E26AD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32D-1272-4660-946E-C18E729B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8089-E99F-4ABC-8C2E-B10C57D4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AF53-A619-42E8-8226-67DE1439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F0DF-DCC8-416E-974E-F1EE00B2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9760-2314-4AFE-A845-2ED9B4B7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91F7-FB1F-4E49-85C1-D573CA77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82B7-0FB0-40AF-86C2-4212A8C7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E9CC-1EFE-4978-A238-DA637617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C53F-82FB-44B2-9322-8507E2F4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867-7986-40E0-88BA-1C5707F8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D0BE-34EA-43DF-A9B0-8A9CAF55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56B3-C16E-4E16-9625-0B7A1118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21CC-1382-4A1A-9700-1C8C4120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2044-A161-428C-B5BA-DB92AC1BF4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791B-743F-4ED4-A25B-2BA693D1FE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МКДОУ д/с № 435 комбинированного вида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57610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993300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1" i="1" lang="ru-RU" sz="4400" spc="-1" strike="noStrike">
                <a:solidFill>
                  <a:srgbClr val="800000"/>
                </a:solidFill>
                <a:latin typeface="Monotype Corsiva"/>
              </a:rPr>
              <a:t>проек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99"/>
                </a:solidFill>
                <a:latin typeface="Monotype Corsiva"/>
              </a:rPr>
              <a:t> </a:t>
            </a:r>
            <a:r>
              <a:rPr b="1" i="1" lang="ru-RU" sz="4400" spc="-1" strike="noStrike">
                <a:solidFill>
                  <a:srgbClr val="800000"/>
                </a:solidFill>
                <a:latin typeface="Monotype Corsiva"/>
              </a:rPr>
              <a:t>«Дымковские игрушк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                         </a:t>
            </a: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Старшая группа №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Times New Roman"/>
              </a:rPr>
              <a:t>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213e41e62968"/>
          <p:cNvPicPr/>
          <p:nvPr/>
        </p:nvPicPr>
        <p:blipFill>
          <a:blip r:embed="rId1"/>
          <a:stretch/>
        </p:blipFill>
        <p:spPr>
          <a:xfrm>
            <a:off x="250920" y="2637000"/>
            <a:ext cx="3417840" cy="38224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580000" y="4221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5833080" y="4149720"/>
            <a:ext cx="312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Воспитате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Гадельшина А.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Красилова Д.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337280" y="582624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2015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II</a:t>
            </a:r>
            <a:r>
              <a:rPr b="1" lang="ru-RU" sz="47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этап – заключительный</a:t>
            </a:r>
            <a:endParaRPr b="1" lang="en-US" sz="47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65" name="Схема 6" descr=""/>
          <p:cNvPicPr/>
          <p:nvPr/>
        </p:nvPicPr>
        <p:blipFill>
          <a:blip r:embed="rId1"/>
          <a:stretch/>
        </p:blipFill>
        <p:spPr>
          <a:xfrm>
            <a:off x="847800" y="1579680"/>
            <a:ext cx="745488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V </a:t>
            </a:r>
            <a:r>
              <a:rPr b="1" lang="ru-RU" sz="47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этап – презентационный</a:t>
            </a:r>
            <a:endParaRPr b="1" lang="en-US" sz="47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1171800"/>
            <a:ext cx="79912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Взаимодействие с родител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800000"/>
                </a:solidFill>
                <a:latin typeface="Times New Roman"/>
              </a:rPr>
              <a:t>Консультации для родителей «Народные игры в семье», «Влияние народных промыслов («дымка») на эстетическое воспитание детей дошкольного возраста»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800000"/>
                </a:solidFill>
                <a:latin typeface="Times New Roman"/>
              </a:rPr>
              <a:t>Мастер – классы для родителей (особенности лепки дымковских игрушек из соленого теста)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800000"/>
                </a:solidFill>
                <a:latin typeface="Times New Roman"/>
              </a:rPr>
              <a:t>Организация мини-музея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122560" y="188640"/>
            <a:ext cx="48988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Выставки детских раб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" descr="yzVhWfD2IuU"/>
          <p:cNvPicPr/>
          <p:nvPr/>
        </p:nvPicPr>
        <p:blipFill>
          <a:blip r:embed="rId1"/>
          <a:stretch/>
        </p:blipFill>
        <p:spPr>
          <a:xfrm>
            <a:off x="3203640" y="765000"/>
            <a:ext cx="2265120" cy="3021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O4Y2hCJEog0"/>
          <p:cNvPicPr/>
          <p:nvPr/>
        </p:nvPicPr>
        <p:blipFill>
          <a:blip r:embed="rId2"/>
          <a:stretch/>
        </p:blipFill>
        <p:spPr>
          <a:xfrm>
            <a:off x="5508720" y="765000"/>
            <a:ext cx="2950920" cy="2213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JZ0X31ay47w"/>
          <p:cNvPicPr/>
          <p:nvPr/>
        </p:nvPicPr>
        <p:blipFill>
          <a:blip r:embed="rId3"/>
          <a:stretch/>
        </p:blipFill>
        <p:spPr>
          <a:xfrm>
            <a:off x="179280" y="76500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2fpPOvYf28g"/>
          <p:cNvPicPr/>
          <p:nvPr/>
        </p:nvPicPr>
        <p:blipFill>
          <a:blip r:embed="rId4"/>
          <a:stretch/>
        </p:blipFill>
        <p:spPr>
          <a:xfrm rot="509400">
            <a:off x="5590800" y="364500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image (5)"/>
          <p:cNvPicPr/>
          <p:nvPr/>
        </p:nvPicPr>
        <p:blipFill>
          <a:blip r:embed="rId5"/>
          <a:stretch/>
        </p:blipFill>
        <p:spPr>
          <a:xfrm>
            <a:off x="3203640" y="3933720"/>
            <a:ext cx="1996920" cy="2664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image (6)"/>
          <p:cNvPicPr/>
          <p:nvPr/>
        </p:nvPicPr>
        <p:blipFill>
          <a:blip r:embed="rId6"/>
          <a:stretch/>
        </p:blipFill>
        <p:spPr>
          <a:xfrm rot="20878800">
            <a:off x="479160" y="3278160"/>
            <a:ext cx="23461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mMgCsgk1tTg"/>
          <p:cNvPicPr/>
          <p:nvPr/>
        </p:nvPicPr>
        <p:blipFill>
          <a:blip r:embed="rId1"/>
          <a:stretch/>
        </p:blipFill>
        <p:spPr>
          <a:xfrm>
            <a:off x="4572000" y="727200"/>
            <a:ext cx="3600360" cy="2701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6hMqqYzNBCo"/>
          <p:cNvPicPr/>
          <p:nvPr/>
        </p:nvPicPr>
        <p:blipFill>
          <a:blip r:embed="rId2"/>
          <a:stretch/>
        </p:blipFill>
        <p:spPr>
          <a:xfrm>
            <a:off x="539640" y="371628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mgnPmx5nXxM"/>
          <p:cNvPicPr/>
          <p:nvPr/>
        </p:nvPicPr>
        <p:blipFill>
          <a:blip r:embed="rId3"/>
          <a:stretch/>
        </p:blipFill>
        <p:spPr>
          <a:xfrm>
            <a:off x="4476600" y="3716280"/>
            <a:ext cx="3768840" cy="28274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971640" y="115920"/>
            <a:ext cx="7561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Мини-музей народной игрушки «Забавуш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image (13)"/>
          <p:cNvPicPr/>
          <p:nvPr/>
        </p:nvPicPr>
        <p:blipFill>
          <a:blip r:embed="rId4"/>
          <a:stretch/>
        </p:blipFill>
        <p:spPr>
          <a:xfrm>
            <a:off x="611280" y="674640"/>
            <a:ext cx="36734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430200" y="1125360"/>
            <a:ext cx="82836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050560" y="259920"/>
            <a:ext cx="6851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9" descr="0_1fd9f_6c4629d9_XL"/>
          <p:cNvPicPr/>
          <p:nvPr/>
        </p:nvPicPr>
        <p:blipFill>
          <a:blip r:embed="rId1"/>
          <a:stretch/>
        </p:blipFill>
        <p:spPr>
          <a:xfrm>
            <a:off x="196920" y="303120"/>
            <a:ext cx="8748720" cy="62517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179280" y="2565360"/>
            <a:ext cx="43927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«Чем знаменито Дымков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           </a:t>
            </a: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Игрушкою своей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В ней нету цвету дымного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              </a:t>
            </a: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Что серости сер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В ней что-то есть от радуг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             </a:t>
            </a: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От капелек росы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В ней что-то есть от рад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           </a:t>
            </a:r>
            <a:r>
              <a:rPr b="1" i="1" lang="ru-RU" sz="2800" spc="-1" strike="noStrike">
                <a:solidFill>
                  <a:srgbClr val="800000"/>
                </a:solidFill>
                <a:latin typeface="Monotype Corsiva"/>
              </a:rPr>
              <a:t>Гремящей, как басы! 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6"/>
          <p:cNvSpPr/>
          <p:nvPr/>
        </p:nvSpPr>
        <p:spPr>
          <a:xfrm>
            <a:off x="0" y="1052640"/>
            <a:ext cx="3354480" cy="1682640"/>
          </a:xfrm>
          <a:prstGeom prst="flowChartDecision">
            <a:avLst/>
          </a:prstGeom>
          <a:solidFill>
            <a:srgbClr val="ffcc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Monotype Corsiva"/>
              </a:rPr>
              <a:t>Цель:</a:t>
            </a:r>
            <a:r>
              <a:rPr b="1" i="1" lang="ru-RU" sz="4000" spc="-1" strike="noStrike">
                <a:solidFill>
                  <a:srgbClr val="80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203640" y="404640"/>
            <a:ext cx="5329080" cy="5977080"/>
          </a:xfrm>
          <a:prstGeom prst="rect">
            <a:avLst/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Формирование у дете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познавательно-творческ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интереса к русской народн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культуре, через ознакомл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с дымковской игрушкой,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организацию художественно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продуктивной и творческ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деятельности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2682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7280" y="259920"/>
            <a:ext cx="367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7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Задачи:</a:t>
            </a:r>
            <a:endParaRPr b="1" lang="en-US" sz="47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1382760" y="1484280"/>
            <a:ext cx="7437240" cy="67644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Познакомить детей с историей дымковской игруш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1670040" y="2270160"/>
            <a:ext cx="7149960" cy="7272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Развивать умение рисовать простейшие элемент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900000" y="1341360"/>
            <a:ext cx="792360" cy="760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1258920" y="2205000"/>
            <a:ext cx="720720" cy="746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14"/>
          <p:cNvSpPr/>
          <p:nvPr/>
        </p:nvSpPr>
        <p:spPr>
          <a:xfrm>
            <a:off x="1797120" y="3084480"/>
            <a:ext cx="7022880" cy="684360"/>
          </a:xfrm>
          <a:prstGeom prst="roundRect">
            <a:avLst>
              <a:gd name="adj" fmla="val 16667"/>
            </a:avLst>
          </a:prstGeom>
          <a:solidFill>
            <a:srgbClr val="e9b2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Развивать цветовое восприятие, чувство ритм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творческое воображени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1389240" y="3068640"/>
            <a:ext cx="73476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1701720" y="3933720"/>
            <a:ext cx="7118280" cy="7192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           </a:t>
            </a: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Формировать умение создавать узо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7"/>
          <p:cNvSpPr/>
          <p:nvPr/>
        </p:nvSpPr>
        <p:spPr>
          <a:xfrm>
            <a:off x="1258920" y="3860640"/>
            <a:ext cx="777960" cy="790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8"/>
          <p:cNvSpPr/>
          <p:nvPr/>
        </p:nvSpPr>
        <p:spPr>
          <a:xfrm>
            <a:off x="1343160" y="4870440"/>
            <a:ext cx="7448400" cy="719280"/>
          </a:xfrm>
          <a:prstGeom prst="roundRect">
            <a:avLst>
              <a:gd name="adj" fmla="val 16667"/>
            </a:avLst>
          </a:prstGeom>
          <a:solidFill>
            <a:srgbClr val="5ab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Воспитывать интерес к декоративно-прикладному искусств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19"/>
          <p:cNvSpPr/>
          <p:nvPr/>
        </p:nvSpPr>
        <p:spPr>
          <a:xfrm>
            <a:off x="755640" y="4782960"/>
            <a:ext cx="739800" cy="806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95280" y="277560"/>
            <a:ext cx="649116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7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Актуальность проекта</a:t>
            </a:r>
            <a:endParaRPr b="1" lang="en-US" sz="47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50920" y="304920"/>
            <a:ext cx="84247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Monotype Corsiva"/>
              </a:rPr>
              <a:t>                       </a:t>
            </a: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В наше время мало внимания уделяется               з            знакомству детей и с различными видами декоративно-прикладного искусства, и с народными традициями. Недостаточно формируются условия приобщения детей к народному творчеству с использованием, например, народной дымковской игрушк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А ведь именно занятия декоративным рисованием могут научить детей воспринимать прекрасное и доброе, научат любоваться красотой. 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image"/>
          <p:cNvPicPr/>
          <p:nvPr/>
        </p:nvPicPr>
        <p:blipFill>
          <a:blip r:embed="rId1"/>
          <a:stretch/>
        </p:blipFill>
        <p:spPr>
          <a:xfrm>
            <a:off x="179280" y="0"/>
            <a:ext cx="14526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Схема 6" descr=""/>
          <p:cNvPicPr/>
          <p:nvPr/>
        </p:nvPicPr>
        <p:blipFill>
          <a:blip r:embed="rId1"/>
          <a:stretch/>
        </p:blipFill>
        <p:spPr>
          <a:xfrm>
            <a:off x="828720" y="1182600"/>
            <a:ext cx="7997760" cy="47674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1"/>
          <p:cNvSpPr/>
          <p:nvPr/>
        </p:nvSpPr>
        <p:spPr>
          <a:xfrm>
            <a:off x="2879640" y="3213000"/>
            <a:ext cx="3384720" cy="810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7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МЕТОД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Скругленный прямоугольник 13"/>
          <p:cNvSpPr/>
          <p:nvPr/>
        </p:nvSpPr>
        <p:spPr>
          <a:xfrm>
            <a:off x="324000" y="404640"/>
            <a:ext cx="3743280" cy="1872000"/>
          </a:xfrm>
          <a:prstGeom prst="roundRect">
            <a:avLst>
              <a:gd name="adj" fmla="val 16667"/>
            </a:avLst>
          </a:prstGeom>
          <a:solidFill>
            <a:srgbClr val="fff3dc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Скругленный прямоугольник 13"/>
          <p:cNvSpPr/>
          <p:nvPr/>
        </p:nvSpPr>
        <p:spPr>
          <a:xfrm>
            <a:off x="5435640" y="333360"/>
            <a:ext cx="3514680" cy="1871640"/>
          </a:xfrm>
          <a:prstGeom prst="roundRect">
            <a:avLst>
              <a:gd name="adj" fmla="val 16667"/>
            </a:avLst>
          </a:prstGeom>
          <a:solidFill>
            <a:srgbClr val="fff3dc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Monotype Corsiva"/>
              </a:rPr>
              <a:t>Рассматривание иллюстраций, альбомов, плакатов, книг, показ с проговариванием  действий работа со схемами,   базовыми формам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324000" y="476280"/>
            <a:ext cx="360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Monotype Corsiva"/>
              </a:rPr>
              <a:t>Объяснение, рассказы, беседы, разъяснение, устная инструкция, художественное слово, речевые иг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Monotype Corsiva"/>
              </a:rPr>
              <a:t> </a:t>
            </a:r>
            <a:r>
              <a:rPr b="1" i="1" lang="ru-RU" sz="1600" spc="-1" strike="noStrike">
                <a:solidFill>
                  <a:srgbClr val="800000"/>
                </a:solidFill>
                <a:latin typeface="Monotype Corsiva"/>
              </a:rPr>
              <a:t>Рассказ воспитателя об игрушках и её мастера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Скругленный прямоугольник 18"/>
          <p:cNvSpPr/>
          <p:nvPr/>
        </p:nvSpPr>
        <p:spPr>
          <a:xfrm>
            <a:off x="250920" y="4797360"/>
            <a:ext cx="3025800" cy="1871640"/>
          </a:xfrm>
          <a:prstGeom prst="roundRect">
            <a:avLst>
              <a:gd name="adj" fmla="val 16667"/>
            </a:avLst>
          </a:prstGeom>
          <a:solidFill>
            <a:srgbClr val="f9d793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Monotype Corsiva"/>
              </a:rPr>
              <a:t>упражнен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Monotype Corsiva"/>
              </a:rPr>
              <a:t>метод познавательных (дидактических) игр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Monotype Corsiva"/>
              </a:rPr>
              <a:t>создание проблемной ситу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Скругленный прямоугольник 19"/>
          <p:cNvSpPr/>
          <p:nvPr/>
        </p:nvSpPr>
        <p:spPr>
          <a:xfrm>
            <a:off x="5219640" y="4869000"/>
            <a:ext cx="3505320" cy="1815840"/>
          </a:xfrm>
          <a:prstGeom prst="roundRect">
            <a:avLst>
              <a:gd name="adj" fmla="val 16667"/>
            </a:avLst>
          </a:prstGeom>
          <a:solidFill>
            <a:srgbClr val="fff4e1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Monotype Corsiva"/>
              </a:rPr>
              <a:t>для создания мотивации использовались игровые приёмы, проблемные ситуации, ролевые игр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Схема 6" descr=""/>
          <p:cNvPicPr/>
          <p:nvPr/>
        </p:nvPicPr>
        <p:blipFill>
          <a:blip r:embed="rId1"/>
          <a:stretch/>
        </p:blipFill>
        <p:spPr>
          <a:xfrm>
            <a:off x="396720" y="420840"/>
            <a:ext cx="8363160" cy="6242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13516"/>
          <p:cNvPicPr/>
          <p:nvPr/>
        </p:nvPicPr>
        <p:blipFill>
          <a:blip r:embed="rId2"/>
          <a:stretch/>
        </p:blipFill>
        <p:spPr>
          <a:xfrm>
            <a:off x="6718320" y="4365720"/>
            <a:ext cx="2138400" cy="2284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toy1"/>
          <p:cNvPicPr/>
          <p:nvPr/>
        </p:nvPicPr>
        <p:blipFill>
          <a:blip r:embed="rId3"/>
          <a:stretch/>
        </p:blipFill>
        <p:spPr>
          <a:xfrm>
            <a:off x="324000" y="4311720"/>
            <a:ext cx="2016000" cy="2546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4319822"/>
          <p:cNvPicPr/>
          <p:nvPr/>
        </p:nvPicPr>
        <p:blipFill>
          <a:blip r:embed="rId4"/>
          <a:stretch/>
        </p:blipFill>
        <p:spPr>
          <a:xfrm>
            <a:off x="324000" y="476280"/>
            <a:ext cx="2592360" cy="1971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uCY19PDXgmo"/>
          <p:cNvPicPr/>
          <p:nvPr/>
        </p:nvPicPr>
        <p:blipFill>
          <a:blip r:embed="rId5"/>
          <a:stretch/>
        </p:blipFill>
        <p:spPr>
          <a:xfrm>
            <a:off x="7164360" y="189000"/>
            <a:ext cx="16668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08bc"/>
                </a:solidFill>
                <a:latin typeface="Times New Roman"/>
                <a:ea typeface="Times New Roman"/>
              </a:rPr>
              <a:t>I</a:t>
            </a:r>
            <a:r>
              <a:rPr b="1" lang="ru-RU" sz="4400" spc="-1" strike="noStrike">
                <a:solidFill>
                  <a:srgbClr val="2208bc"/>
                </a:solidFill>
                <a:latin typeface="Times New Roman"/>
                <a:ea typeface="Times New Roman"/>
              </a:rPr>
              <a:t> этап – подготовительный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1) Подобрать научно-методическую литературу, иллюстрированный и дидактический материа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68360" y="3357720"/>
            <a:ext cx="74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2) Изучить методическую литературу по ознакомлению дошкольников с народной игруш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1831905"/>
          <p:cNvPicPr/>
          <p:nvPr/>
        </p:nvPicPr>
        <p:blipFill>
          <a:blip r:embed="rId1"/>
          <a:stretch/>
        </p:blipFill>
        <p:spPr>
          <a:xfrm>
            <a:off x="6875640" y="4292640"/>
            <a:ext cx="17618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2208bc"/>
                </a:solidFill>
                <a:latin typeface="Times New Roman"/>
                <a:ea typeface="Times New Roman"/>
              </a:rPr>
              <a:t>II</a:t>
            </a:r>
            <a:r>
              <a:rPr b="1" lang="ru-RU" sz="4200" spc="-1" strike="noStrike">
                <a:solidFill>
                  <a:srgbClr val="2208bc"/>
                </a:solidFill>
                <a:latin typeface="Times New Roman"/>
                <a:ea typeface="Times New Roman"/>
              </a:rPr>
              <a:t> этап – основной</a:t>
            </a:r>
            <a:endParaRPr b="1" lang="en-US" sz="4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1) Разработать план мероприят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2) Подготовить беседы для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3) Подготовить консультации для роди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4)Изготовить дидактические иг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Monotype Corsiva"/>
              </a:rPr>
              <a:t>5) Разработать сценарий для проведения празд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1T16:18:41Z</dcterms:created>
  <dc:creator>Home</dc:creator>
  <dc:description/>
  <dc:language>en-US</dc:language>
  <cp:lastModifiedBy>Пользователь</cp:lastModifiedBy>
  <dcterms:modified xsi:type="dcterms:W3CDTF">2018-08-05T10:25:33Z</dcterms:modified>
  <cp:revision>4</cp:revision>
  <dc:subject/>
  <dc:title>Слайд 1</dc:title>
</cp:coreProperties>
</file>