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C3C-E081-4163-8B22-4D5E1EBE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F58-DBBC-4859-871A-B742B07B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7BC-0F90-4E10-B6CA-2D63B6D2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4D6-E7E6-4038-A908-132C3F34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514-E8D7-4B47-8C8C-A6C8C5D3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C44F-983B-4716-BA35-C4A8C823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340E-B4EA-4BD8-A29D-AD3B07FE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059-6C36-430A-A520-A98C9653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9B47-AAC7-4F97-B760-1BCE6F3F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D3CA-70CD-458E-A715-C51ADE3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0C4-6690-4743-9BD3-277396F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4BC-72F9-4634-98F3-B5905EC3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BB8F-F8C5-4130-9829-3925F01A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CE8A-7392-41A3-80B1-09EA41B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F349-F183-4CFA-B38F-E0AF8CA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192-80F6-4FE4-B716-5367B9FD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799B-441F-4150-914E-6537D932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08-EF7B-4E49-A924-48B4CC0B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6F1-2285-4063-9B7B-DF98DA8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B92-3F31-4EC1-A737-0DEA0F0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6E4-73A3-4497-BC8A-F4D9C96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2EB-11AC-46BC-ABB2-75C25EA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616-6CDC-4D2C-BF0B-7722859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804-5975-4AF5-B836-0B68D4C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395-E9F1-4EFA-B9B1-174ACB8E0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41DA-5533-4AC4-A969-D0857AF847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МКДОУ д/с № 435 комбинированного вид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761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проек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«Дымковские игруш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Старшая группа №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213e41e62968"/>
          <p:cNvPicPr/>
          <p:nvPr/>
        </p:nvPicPr>
        <p:blipFill>
          <a:blip r:embed="rId1"/>
          <a:stretch/>
        </p:blipFill>
        <p:spPr>
          <a:xfrm>
            <a:off x="250920" y="2637000"/>
            <a:ext cx="3417840" cy="3822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80000" y="4221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833080" y="4149720"/>
            <a:ext cx="312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Гадельшина А.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Красилова Д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37280" y="58262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II</a:t>
            </a:r>
            <a:r>
              <a:rPr b="1" lang="ru-RU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этап – заключительный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Схема 6" descr=""/>
          <p:cNvPicPr/>
          <p:nvPr/>
        </p:nvPicPr>
        <p:blipFill>
          <a:blip r:embed="rId1"/>
          <a:stretch/>
        </p:blipFill>
        <p:spPr>
          <a:xfrm>
            <a:off x="847800" y="1579680"/>
            <a:ext cx="74548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V </a:t>
            </a:r>
            <a:r>
              <a:rPr b="1" lang="ru-RU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ап – презентационный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1171800"/>
            <a:ext cx="79912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Консультации для родителей «Народные игры в семье», «Влияние народных промыслов («дымка») на эстетическое воспитание детей дошкольного возраста»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Мастер – классы для родителей (особенности лепки дымковских игрушек из соленого теста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Организация мини-музе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122560" y="188640"/>
            <a:ext cx="48988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Выставки дет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yzVhWfD2IuU"/>
          <p:cNvPicPr/>
          <p:nvPr/>
        </p:nvPicPr>
        <p:blipFill>
          <a:blip r:embed="rId1"/>
          <a:stretch/>
        </p:blipFill>
        <p:spPr>
          <a:xfrm>
            <a:off x="3203640" y="765000"/>
            <a:ext cx="2265120" cy="302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O4Y2hCJEog0"/>
          <p:cNvPicPr/>
          <p:nvPr/>
        </p:nvPicPr>
        <p:blipFill>
          <a:blip r:embed="rId2"/>
          <a:stretch/>
        </p:blipFill>
        <p:spPr>
          <a:xfrm>
            <a:off x="5508720" y="765000"/>
            <a:ext cx="2950920" cy="22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Z0X31ay47w"/>
          <p:cNvPicPr/>
          <p:nvPr/>
        </p:nvPicPr>
        <p:blipFill>
          <a:blip r:embed="rId3"/>
          <a:stretch/>
        </p:blipFill>
        <p:spPr>
          <a:xfrm>
            <a:off x="179280" y="765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2fpPOvYf28g"/>
          <p:cNvPicPr/>
          <p:nvPr/>
        </p:nvPicPr>
        <p:blipFill>
          <a:blip r:embed="rId4"/>
          <a:stretch/>
        </p:blipFill>
        <p:spPr>
          <a:xfrm rot="509400">
            <a:off x="5590800" y="36450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age (5)"/>
          <p:cNvPicPr/>
          <p:nvPr/>
        </p:nvPicPr>
        <p:blipFill>
          <a:blip r:embed="rId5"/>
          <a:stretch/>
        </p:blipFill>
        <p:spPr>
          <a:xfrm>
            <a:off x="3203640" y="3933720"/>
            <a:ext cx="199692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image (6)"/>
          <p:cNvPicPr/>
          <p:nvPr/>
        </p:nvPicPr>
        <p:blipFill>
          <a:blip r:embed="rId6"/>
          <a:stretch/>
        </p:blipFill>
        <p:spPr>
          <a:xfrm rot="20878800">
            <a:off x="479160" y="3278160"/>
            <a:ext cx="23461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mMgCsgk1tTg"/>
          <p:cNvPicPr/>
          <p:nvPr/>
        </p:nvPicPr>
        <p:blipFill>
          <a:blip r:embed="rId1"/>
          <a:stretch/>
        </p:blipFill>
        <p:spPr>
          <a:xfrm>
            <a:off x="4572000" y="7272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6hMqqYzNBCo"/>
          <p:cNvPicPr/>
          <p:nvPr/>
        </p:nvPicPr>
        <p:blipFill>
          <a:blip r:embed="rId2"/>
          <a:stretch/>
        </p:blipFill>
        <p:spPr>
          <a:xfrm>
            <a:off x="53964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mgnPmx5nXxM"/>
          <p:cNvPicPr/>
          <p:nvPr/>
        </p:nvPicPr>
        <p:blipFill>
          <a:blip r:embed="rId3"/>
          <a:stretch/>
        </p:blipFill>
        <p:spPr>
          <a:xfrm>
            <a:off x="4476600" y="3716280"/>
            <a:ext cx="3768840" cy="2827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971640" y="115920"/>
            <a:ext cx="756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Мини-музей народной игрушки «Забавуш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image (13)"/>
          <p:cNvPicPr/>
          <p:nvPr/>
        </p:nvPicPr>
        <p:blipFill>
          <a:blip r:embed="rId4"/>
          <a:stretch/>
        </p:blipFill>
        <p:spPr>
          <a:xfrm>
            <a:off x="611280" y="67464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30200" y="1125360"/>
            <a:ext cx="8283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050560" y="259920"/>
            <a:ext cx="6851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0_1fd9f_6c4629d9_XL"/>
          <p:cNvPicPr/>
          <p:nvPr/>
        </p:nvPicPr>
        <p:blipFill>
          <a:blip r:embed="rId1"/>
          <a:stretch/>
        </p:blipFill>
        <p:spPr>
          <a:xfrm>
            <a:off x="196920" y="303120"/>
            <a:ext cx="8748720" cy="6251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179280" y="2565360"/>
            <a:ext cx="4392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«Чем знаменито Дымков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грушкою сво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нету цвету дымно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Что серости сер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что-то есть от раду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От капелек рос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что-то есть от рад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Гремящей, как басы! 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6"/>
          <p:cNvSpPr/>
          <p:nvPr/>
        </p:nvSpPr>
        <p:spPr>
          <a:xfrm>
            <a:off x="0" y="1052640"/>
            <a:ext cx="3354480" cy="1682640"/>
          </a:xfrm>
          <a:prstGeom prst="flowChartDecision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Monotype Corsiva"/>
              </a:rPr>
              <a:t>Цель:</a:t>
            </a: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03640" y="404640"/>
            <a:ext cx="5329080" cy="597708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Формирование у дет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познавательно-творческ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интереса к русской народ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культуре, через ознаком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с дымковской игрушкой,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организацию художественно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продуктивной и творче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деятельност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268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7280" y="259920"/>
            <a:ext cx="36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адачи: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382760" y="1484280"/>
            <a:ext cx="7437240" cy="676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Познакомить детей с историей дымковской игруш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670040" y="2270160"/>
            <a:ext cx="7149960" cy="72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Развивать умение рисовать простейшие элемен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900000" y="1341360"/>
            <a:ext cx="792360" cy="760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1258920" y="2205000"/>
            <a:ext cx="720720" cy="746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1797120" y="3084480"/>
            <a:ext cx="7022880" cy="684360"/>
          </a:xfrm>
          <a:prstGeom prst="roundRect">
            <a:avLst>
              <a:gd name="adj" fmla="val 16667"/>
            </a:avLst>
          </a:prstGeom>
          <a:solidFill>
            <a:srgbClr val="e9b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Развивать цветовое восприятие, чувство ритм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творческое воображ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389240" y="3068640"/>
            <a:ext cx="7347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701720" y="3933720"/>
            <a:ext cx="7118280" cy="719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Формировать умение создавать уз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1258920" y="3860640"/>
            <a:ext cx="777960" cy="79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1343160" y="4870440"/>
            <a:ext cx="7448400" cy="719280"/>
          </a:xfrm>
          <a:prstGeom prst="roundRect">
            <a:avLst>
              <a:gd name="adj" fmla="val 16667"/>
            </a:avLst>
          </a:prstGeom>
          <a:solidFill>
            <a:srgbClr val="5a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Воспитывать интерес к декоративно-прикладному искус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755640" y="4782960"/>
            <a:ext cx="739800" cy="806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Актуальность проекта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0920" y="304920"/>
            <a:ext cx="8424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В наше время мало внимания уделяется               з            знакомству детей и с различными видами декоративно-прикладного искусства, и с народными традициями. Недостаточно формируются условия приобщения детей к народному творчеству с использованием, например, народной дымковской игруш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А ведь именно занятия декоративным рисованием могут научить детей воспринимать прекрасное и доброе, научат любоваться красотой. 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image"/>
          <p:cNvPicPr/>
          <p:nvPr/>
        </p:nvPicPr>
        <p:blipFill>
          <a:blip r:embed="rId1"/>
          <a:stretch/>
        </p:blipFill>
        <p:spPr>
          <a:xfrm>
            <a:off x="179280" y="0"/>
            <a:ext cx="145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6" descr=""/>
          <p:cNvPicPr/>
          <p:nvPr/>
        </p:nvPicPr>
        <p:blipFill>
          <a:blip r:embed="rId1"/>
          <a:stretch/>
        </p:blipFill>
        <p:spPr>
          <a:xfrm>
            <a:off x="828720" y="1182600"/>
            <a:ext cx="7997760" cy="4767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1"/>
          <p:cNvSpPr/>
          <p:nvPr/>
        </p:nvSpPr>
        <p:spPr>
          <a:xfrm>
            <a:off x="2879640" y="3213000"/>
            <a:ext cx="3384720" cy="81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МЕТОД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324000" y="404640"/>
            <a:ext cx="3743280" cy="1872000"/>
          </a:xfrm>
          <a:prstGeom prst="roundRect">
            <a:avLst>
              <a:gd name="adj" fmla="val 16667"/>
            </a:avLst>
          </a:prstGeom>
          <a:solidFill>
            <a:srgbClr val="fff3dc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13"/>
          <p:cNvSpPr/>
          <p:nvPr/>
        </p:nvSpPr>
        <p:spPr>
          <a:xfrm>
            <a:off x="5435640" y="333360"/>
            <a:ext cx="3514680" cy="1871640"/>
          </a:xfrm>
          <a:prstGeom prst="roundRect">
            <a:avLst>
              <a:gd name="adj" fmla="val 16667"/>
            </a:avLst>
          </a:prstGeom>
          <a:solidFill>
            <a:srgbClr val="fff3dc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Рассматривание иллюстраций, альбомов, плакатов, книг, показ с проговариванием  действий работа со схемами,   базовыми форма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324000" y="47628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Объяснение, рассказы, беседы, разъяснение, устная инструкция, художественное слово, речевые иг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Рассказ воспитателя об игрушках и её масте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250920" y="4797360"/>
            <a:ext cx="3025800" cy="1871640"/>
          </a:xfrm>
          <a:prstGeom prst="roundRect">
            <a:avLst>
              <a:gd name="adj" fmla="val 16667"/>
            </a:avLst>
          </a:prstGeom>
          <a:solidFill>
            <a:srgbClr val="f9d7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упражн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метод познавательных (дидактических) иг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создание проблемной ситу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9"/>
          <p:cNvSpPr/>
          <p:nvPr/>
        </p:nvSpPr>
        <p:spPr>
          <a:xfrm>
            <a:off x="5219640" y="4869000"/>
            <a:ext cx="3505320" cy="1815840"/>
          </a:xfrm>
          <a:prstGeom prst="roundRect">
            <a:avLst>
              <a:gd name="adj" fmla="val 16667"/>
            </a:avLst>
          </a:prstGeom>
          <a:solidFill>
            <a:srgbClr val="fff4e1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для создания мотивации использовались игровые приёмы, проблемные ситуации, ролевые игр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6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363160" cy="624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3516"/>
          <p:cNvPicPr/>
          <p:nvPr/>
        </p:nvPicPr>
        <p:blipFill>
          <a:blip r:embed="rId2"/>
          <a:stretch/>
        </p:blipFill>
        <p:spPr>
          <a:xfrm>
            <a:off x="6718320" y="4365720"/>
            <a:ext cx="2138400" cy="228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toy1"/>
          <p:cNvPicPr/>
          <p:nvPr/>
        </p:nvPicPr>
        <p:blipFill>
          <a:blip r:embed="rId3"/>
          <a:stretch/>
        </p:blipFill>
        <p:spPr>
          <a:xfrm>
            <a:off x="324000" y="4311720"/>
            <a:ext cx="2016000" cy="254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4319822"/>
          <p:cNvPicPr/>
          <p:nvPr/>
        </p:nvPicPr>
        <p:blipFill>
          <a:blip r:embed="rId4"/>
          <a:stretch/>
        </p:blipFill>
        <p:spPr>
          <a:xfrm>
            <a:off x="324000" y="47628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uCY19PDXgmo"/>
          <p:cNvPicPr/>
          <p:nvPr/>
        </p:nvPicPr>
        <p:blipFill>
          <a:blip r:embed="rId5"/>
          <a:stretch/>
        </p:blipFill>
        <p:spPr>
          <a:xfrm>
            <a:off x="7164360" y="189000"/>
            <a:ext cx="16668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 этап – подготовительны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1) Подобрать научно-методическую литературу, иллюстрированный и дидактический матери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8360" y="335772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2) Изучить методическую литературу по ознакомлению дошкольников с народной игру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1831905"/>
          <p:cNvPicPr/>
          <p:nvPr/>
        </p:nvPicPr>
        <p:blipFill>
          <a:blip r:embed="rId1"/>
          <a:stretch/>
        </p:blipFill>
        <p:spPr>
          <a:xfrm>
            <a:off x="6875640" y="4292640"/>
            <a:ext cx="1761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II</a:t>
            </a:r>
            <a:r>
              <a:rPr b="1" lang="ru-RU" sz="42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 этап – основной</a:t>
            </a:r>
            <a:endParaRPr b="1" lang="en-US" sz="4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1) Разработать план меропри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2) Подготовить беседы дл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3) Подготовить консультации для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4)Изготовить дидактические иг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5) Разработать сценарий для проведения празд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6:18:41Z</dcterms:created>
  <dc:creator>Home</dc:creator>
  <dc:description/>
  <dc:language>en-US</dc:language>
  <cp:lastModifiedBy>Пользователь</cp:lastModifiedBy>
  <dcterms:modified xsi:type="dcterms:W3CDTF">2018-08-05T10:25:33Z</dcterms:modified>
  <cp:revision>4</cp:revision>
  <dc:subject/>
  <dc:title>Слайд 1</dc:title>
</cp:coreProperties>
</file>