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jpeg" ContentType="image/jpeg"/>
  <Override PartName="/ppt/media/image22.png" ContentType="image/png"/>
  <Override PartName="/ppt/media/image21.wmf" ContentType="image/x-wmf"/>
  <Override PartName="/ppt/media/image19.wmf" ContentType="image/x-wmf"/>
  <Override PartName="/ppt/media/image2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14EA-6FCB-42DD-A48A-D1132D4D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7EB8-2C0B-4629-9643-4A725F81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A2EC-E5FC-46A8-9962-EC6C3BEB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A1C4-A4DE-4FF5-ACBC-6E84B30B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5C35-D2ED-4B77-8523-A4D72E24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3CEC-C0F7-44CC-911C-53AECB70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B0F8C-1960-474B-A38F-602A56B9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E1C0-2331-4C84-AE82-8575FDCB4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962B-68EB-495A-B49F-3D1D210F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F1FD-2611-4486-A941-AA1EBC478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8142-04EB-4CAE-B53B-E7370E0B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7DC-D296-43B7-9F1E-DD4FB779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35B43-54FC-4750-8C6B-89EAC0C7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6828-DC9F-46BA-A0F8-66888C47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021C-48A3-4BA4-BC02-A50E5958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D337-1E63-4CC1-BE84-560094386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F51A-BD46-4540-BF0B-85F8FE94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C2D66-05F2-46E2-8C26-95FD3CA0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B302E-F7F6-4556-B65A-A7870693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368D6-9957-4D9E-94FD-B9E7E3A9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822C4-85FA-4929-900A-F6A62EC7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86A42-38A8-428D-BC37-08BE125B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DFB3-CB8B-4849-90C9-ED5247FD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D140C-9CF5-4B06-A529-6EA88D1E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376A7-E082-481C-AFBD-ACA163A9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0D952-AA3B-4F8D-9B9E-BD40F9E4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47E27-CD32-41FC-818C-36AE2161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0B832-3841-4B9F-824E-B0779A44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1F827-FC71-4455-AAA8-32B202E5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235110-1807-492D-90AC-EDEA41258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AC2A-27C7-4C92-A42E-7E9C6BEF3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713-8CF7-4507-A210-06C9A9615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AB57-C6B1-42D2-9144-85997C62D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83CA-52C4-423F-BFC5-F8E017F37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595A-5564-4496-AC82-065055D9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70B0-36A8-4DA4-A81E-15475B05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Группа 83969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Полилиния 83970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7e93a0"/>
                </a:gs>
                <a:gs pos="100000">
                  <a:srgbClr val="c6e7f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Полилиния 83971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Полилиния 83972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6afbf"/>
                </a:gs>
                <a:gs pos="100000">
                  <a:srgbClr val="c6e7f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Полилиния 83973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6e7f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Полилиния 83974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Полилиния 83975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Полилиния 83976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Полилиния 83977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Полилиния 83978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Полилиния 83979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Полилиния 83980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Полилиния 83981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Полилиния 83982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6e7f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Полилиния 83983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49aa8"/>
                </a:gs>
                <a:gs pos="100000">
                  <a:srgbClr val="c6e7f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Полилиния 83984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Полилиния 83985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Полилиния 83986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Полилиния 83987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Полилиния 83988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Полилиния 83989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Полилиния 83990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cb6c7"/>
                </a:gs>
                <a:gs pos="100000">
                  <a:srgbClr val="c6e7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Полилиния 83991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Полилиния 83992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Полилиния 83993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9aa8"/>
                </a:gs>
                <a:gs pos="100000">
                  <a:srgbClr val="c6e7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Полилиния 83994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8aa1b0"/>
                </a:gs>
                <a:gs pos="100000">
                  <a:srgbClr val="c6e7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Полилиния 83995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Полилиния 83996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Полилиния 83997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Полилиния 83998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Полилиния 83999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Полилиния 84000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Полилиния 84001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Полилиния 84002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9cb6c7"/>
                </a:gs>
                <a:gs pos="100000">
                  <a:srgbClr val="c6e7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Полилиния 84003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Полилиния 84004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Полилиния 84005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Группа 84006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Полилиния 84007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Полилиния 84008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BD98-8E1E-4FCB-AA66-5780C3AD1B6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76A5-9757-4D28-9351-E287E8DF0648}" type="datetime">
              <a:rPr b="0" lang="ru-RU" sz="900" spc="-1" strike="noStrike">
                <a:solidFill>
                  <a:srgbClr val="898989"/>
                </a:solidFill>
                <a:latin typeface="Arial"/>
                <a:ea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90EB-66FE-4481-AC15-40A4C16729EB}" type="slidenum">
              <a:rPr b="0" lang="ru-RU" sz="9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Группа 84993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Полилиния 84994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7e93a0"/>
                </a:gs>
                <a:gs pos="100000">
                  <a:srgbClr val="c6e7f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Полилиния 84995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Полилиния 84996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96afbf"/>
                </a:gs>
                <a:gs pos="100000">
                  <a:srgbClr val="c6e7f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Полилиния 84997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6e7f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Полилиния 84998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Полилиния 84999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Полилиния 85000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Полилиния 85001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Полилиния 85002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Полилиния 85003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Полилиния 85004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Полилиния 85005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Полилиния 85006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c6e7f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Полилиния 85007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849aa8"/>
                </a:gs>
                <a:gs pos="100000">
                  <a:srgbClr val="c6e7f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олилиния 85008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олилиния 85009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олилиния 85010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олилиния 85011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олилиния 85012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олилиния 85013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олилиния 85014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cb6c7"/>
                </a:gs>
                <a:gs pos="100000">
                  <a:srgbClr val="c6e7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олилиния 85015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Полилиния 85016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Полилиния 85017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49aa8"/>
                </a:gs>
                <a:gs pos="100000">
                  <a:srgbClr val="c6e7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Полилиния 85018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8aa1b0"/>
                </a:gs>
                <a:gs pos="100000">
                  <a:srgbClr val="c6e7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Полилиния 85019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Полилиния 85020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Полилиния 85021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Полилиния 85022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Полилиния 85023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Полилиния 85024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Полилиния 85025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Полилиния 85026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9cb6c7"/>
                </a:gs>
                <a:gs pos="100000">
                  <a:srgbClr val="c6e7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Полилиния 85027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Полилиния 85028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Полилиния 85029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Группа 85030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Полилиния 85031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Полилиния 85032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9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8F33-DC01-439F-BAFE-4AC64E4D4A4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259,4,&#1057;&#1083;&#1072;&#1081;&#1076; 4" TargetMode="External"/><Relationship Id="rId3" Type="http://schemas.openxmlformats.org/officeDocument/2006/relationships/image" Target="../media/image6.png"/><Relationship Id="rId4" Type="http://schemas.openxmlformats.org/officeDocument/2006/relationships/hyperlink" Target="260,5,&#1057;&#1083;&#1072;&#1081;&#1076; 5" TargetMode="External"/><Relationship Id="rId5" Type="http://schemas.openxmlformats.org/officeDocument/2006/relationships/image" Target="../media/image5.png"/><Relationship Id="rId6" Type="http://schemas.openxmlformats.org/officeDocument/2006/relationships/hyperlink" Target="271,6,&#1057;&#1083;&#1072;&#1081;&#1076; 6" TargetMode="External"/><Relationship Id="rId7" Type="http://schemas.openxmlformats.org/officeDocument/2006/relationships/hyperlink" Target="260,5,&#1057;&#1083;&#1072;&#1081;&#1076; 5" TargetMode="External"/><Relationship Id="rId8" Type="http://schemas.openxmlformats.org/officeDocument/2006/relationships/image" Target="../media/image6.png"/><Relationship Id="rId9" Type="http://schemas.openxmlformats.org/officeDocument/2006/relationships/hyperlink" Target="261,7,&#1057;&#1083;&#1072;&#1081;&#1076; 7" TargetMode="External"/><Relationship Id="rId10" Type="http://schemas.openxmlformats.org/officeDocument/2006/relationships/image" Target="../media/image5.png"/><Relationship Id="rId11" Type="http://schemas.openxmlformats.org/officeDocument/2006/relationships/hyperlink" Target="262,8,&#1057;&#1083;&#1072;&#1081;&#1076; 8" TargetMode="External"/><Relationship Id="rId12" Type="http://schemas.openxmlformats.org/officeDocument/2006/relationships/image" Target="../media/image6.png"/><Relationship Id="rId13" Type="http://schemas.openxmlformats.org/officeDocument/2006/relationships/hyperlink" Target="263,9,&#1057;&#1083;&#1072;&#1081;&#1076; 9" TargetMode="External"/><Relationship Id="rId14" Type="http://schemas.openxmlformats.org/officeDocument/2006/relationships/image" Target="../media/image5.png"/><Relationship Id="rId15" Type="http://schemas.openxmlformats.org/officeDocument/2006/relationships/hyperlink" Target="264,10,&#1057;&#1083;&#1072;&#1081;&#1076; 10" TargetMode="External"/><Relationship Id="rId16" Type="http://schemas.openxmlformats.org/officeDocument/2006/relationships/image" Target="../media/image6.png"/><Relationship Id="rId17" Type="http://schemas.openxmlformats.org/officeDocument/2006/relationships/hyperlink" Target="266,11,&#1057;&#1083;&#1072;&#1081;&#1076; 11" TargetMode="External"/><Relationship Id="rId18" Type="http://schemas.openxmlformats.org/officeDocument/2006/relationships/image" Target="../media/image5.png"/><Relationship Id="rId19" Type="http://schemas.openxmlformats.org/officeDocument/2006/relationships/hyperlink" Target="267,12,&#1057;&#1083;&#1072;&#1081;&#1076; 12" TargetMode="External"/><Relationship Id="rId20" Type="http://schemas.openxmlformats.org/officeDocument/2006/relationships/image" Target="../media/image6.png"/><Relationship Id="rId21" Type="http://schemas.openxmlformats.org/officeDocument/2006/relationships/hyperlink" Target="265,13, " TargetMode="External"/><Relationship Id="rId22" Type="http://schemas.openxmlformats.org/officeDocument/2006/relationships/image" Target="../media/image5.png"/><Relationship Id="rId23" Type="http://schemas.openxmlformats.org/officeDocument/2006/relationships/hyperlink" Target="268,14,&#1057;&#1083;&#1072;&#1081;&#1076; 14" TargetMode="External"/><Relationship Id="rId24" Type="http://schemas.openxmlformats.org/officeDocument/2006/relationships/image" Target="../media/image6.png"/><Relationship Id="rId25" Type="http://schemas.openxmlformats.org/officeDocument/2006/relationships/hyperlink" Target="270,15,&#1057;&#1083;&#1072;&#1081;&#1076; 15" TargetMode="External"/><Relationship Id="rId26" Type="http://schemas.openxmlformats.org/officeDocument/2006/relationships/hyperlink" Target="270,15,&#1057;&#1083;&#1072;&#1081;&#1076; 15" TargetMode="External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rds.yahoo.com/S=96062883/K=&#209;&#128;&#208;&#176;&#209;&#129;&#209;&#135;&#208;&#181;&#209;&#129;&#208;&#186;&#208;&#176;/v=2/SID=e/l=IVI/SIG=11rd10vtc/EXP=1110550021/*-http%3A/www.feo.ru/oriflame/img/7934.jpg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ru-RU" sz="2000" spc="-1" strike="noStrike">
                <a:solidFill>
                  <a:srgbClr val="073e87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04" name="Прямоугольник 2055"/>
          <p:cNvSpPr txBox="1"/>
          <p:nvPr/>
        </p:nvSpPr>
        <p:spPr>
          <a:xfrm>
            <a:off x="539640" y="611280"/>
            <a:ext cx="777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огатырёва Елена Ивановна</a:t>
            </a:r>
            <a:endParaRPr b="0" lang="en-US" sz="2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Прямоугольник 2058"/>
          <p:cNvSpPr txBox="1"/>
          <p:nvPr/>
        </p:nvSpPr>
        <p:spPr>
          <a:xfrm>
            <a:off x="1547640" y="2349360"/>
            <a:ext cx="602964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6" name="Прямоугольник 2059"/>
          <p:cNvSpPr txBox="1"/>
          <p:nvPr/>
        </p:nvSpPr>
        <p:spPr>
          <a:xfrm>
            <a:off x="2657520" y="3500280"/>
            <a:ext cx="38289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207" name="Прямоугольник 2060" descr=""/>
          <p:cNvPicPr/>
          <p:nvPr/>
        </p:nvPicPr>
        <p:blipFill>
          <a:blip r:embed="rId1"/>
          <a:stretch/>
        </p:blipFill>
        <p:spPr>
          <a:xfrm>
            <a:off x="1514520" y="4861080"/>
            <a:ext cx="5979960" cy="1231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98308"/>
          <p:cNvSpPr txBox="1"/>
          <p:nvPr/>
        </p:nvSpPr>
        <p:spPr>
          <a:xfrm>
            <a:off x="468360" y="620640"/>
            <a:ext cx="83516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их о человеке, живущем по часам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4" name="Прямоугольник 98309" descr=""/>
          <p:cNvPicPr/>
          <p:nvPr/>
        </p:nvPicPr>
        <p:blipFill>
          <a:blip r:embed="rId1"/>
          <a:stretch/>
        </p:blipFill>
        <p:spPr>
          <a:xfrm>
            <a:off x="2157480" y="2386080"/>
            <a:ext cx="4867200" cy="3228840"/>
          </a:xfrm>
          <a:prstGeom prst="rect">
            <a:avLst/>
          </a:prstGeom>
          <a:ln w="0">
            <a:noFill/>
          </a:ln>
        </p:spPr>
      </p:pic>
      <p:pic>
        <p:nvPicPr>
          <p:cNvPr id="235" name="Изображение 98311" descr="clock"/>
          <p:cNvPicPr/>
          <p:nvPr/>
        </p:nvPicPr>
        <p:blipFill>
          <a:blip r:embed="rId2"/>
          <a:stretch/>
        </p:blipFill>
        <p:spPr>
          <a:xfrm>
            <a:off x="6659640" y="3357720"/>
            <a:ext cx="20764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4000"/>
                            </p:stCondLst>
                            <p:childTnLst>
                              <p:par>
                                <p:cTn id="175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Изображение 100360" descr="pig"/>
          <p:cNvPicPr/>
          <p:nvPr/>
        </p:nvPicPr>
        <p:blipFill>
          <a:blip r:embed="rId1"/>
          <a:stretch/>
        </p:blipFill>
        <p:spPr>
          <a:xfrm>
            <a:off x="5048280" y="1989000"/>
            <a:ext cx="4095720" cy="389916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00357"/>
          <p:cNvSpPr txBox="1"/>
          <p:nvPr/>
        </p:nvSpPr>
        <p:spPr>
          <a:xfrm>
            <a:off x="1258920" y="692280"/>
            <a:ext cx="70581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ша зарядка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8" name="Прямоугольник 100358" descr=""/>
          <p:cNvPicPr/>
          <p:nvPr/>
        </p:nvPicPr>
        <p:blipFill>
          <a:blip r:embed="rId2"/>
          <a:stretch/>
        </p:blipFill>
        <p:spPr>
          <a:xfrm>
            <a:off x="790560" y="2349360"/>
            <a:ext cx="8353440" cy="3373560"/>
          </a:xfrm>
          <a:prstGeom prst="rect">
            <a:avLst/>
          </a:prstGeom>
          <a:ln w="0">
            <a:noFill/>
          </a:ln>
        </p:spPr>
      </p:pic>
      <p:pic>
        <p:nvPicPr>
          <p:cNvPr id="239" name="ej_lezheboki_nu_ka_vstavajte_-_Zaryadka_detskaya.mp3" descr=""/>
          <p:cNvPicPr/>
          <p:nvPr/>
        </p:nvPicPr>
        <p:blipFill>
          <a:blip r:embed="rId3"/>
          <a:stretch/>
        </p:blipFill>
        <p:spPr>
          <a:xfrm>
            <a:off x="7099200" y="5697360"/>
            <a:ext cx="61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0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4000"/>
                            </p:stCondLst>
                            <p:childTnLst>
                              <p:par>
                                <p:cTn id="20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227782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Прямоугольник 101381"/>
          <p:cNvSpPr txBox="1"/>
          <p:nvPr/>
        </p:nvSpPr>
        <p:spPr>
          <a:xfrm>
            <a:off x="1116000" y="333360"/>
            <a:ext cx="727236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есенка про лень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41" name="Прямоугольник 101382" descr=""/>
          <p:cNvPicPr/>
          <p:nvPr/>
        </p:nvPicPr>
        <p:blipFill>
          <a:blip r:embed="rId1"/>
          <a:stretch/>
        </p:blipFill>
        <p:spPr>
          <a:xfrm>
            <a:off x="1476360" y="2421000"/>
            <a:ext cx="6446880" cy="3338280"/>
          </a:xfrm>
          <a:prstGeom prst="rect">
            <a:avLst/>
          </a:prstGeom>
          <a:ln w="0">
            <a:noFill/>
          </a:ln>
        </p:spPr>
      </p:pic>
      <p:pic>
        <p:nvPicPr>
          <p:cNvPr id="242" name="ansambl_gnomy_-_pesenka_pro_len_(zaycev.net).mp3" descr=""/>
          <p:cNvPicPr/>
          <p:nvPr/>
        </p:nvPicPr>
        <p:blipFill>
          <a:blip r:embed="rId2"/>
          <a:stretch/>
        </p:blipFill>
        <p:spPr>
          <a:xfrm>
            <a:off x="7397640" y="5256360"/>
            <a:ext cx="61920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dur="indefinite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4" dur="185716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9640" y="2349360"/>
            <a:ext cx="8229600" cy="29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ота – залог здоров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то жить – здоровым бы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аккуратен – тот людям прият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99332"/>
          <p:cNvSpPr txBox="1"/>
          <p:nvPr/>
        </p:nvSpPr>
        <p:spPr>
          <a:xfrm>
            <a:off x="1116000" y="620640"/>
            <a:ext cx="6767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овицы о здоровье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6000"/>
                            </p:stCondLst>
                            <p:childTnLst>
                              <p:par>
                                <p:cTn id="25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02405"/>
          <p:cNvSpPr txBox="1"/>
          <p:nvPr/>
        </p:nvSpPr>
        <p:spPr>
          <a:xfrm>
            <a:off x="1763640" y="404640"/>
            <a:ext cx="604836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ословица о лени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7" name="Текстовое поле 102406"/>
          <p:cNvSpPr/>
          <p:nvPr/>
        </p:nvSpPr>
        <p:spPr>
          <a:xfrm>
            <a:off x="1042920" y="2349360"/>
            <a:ext cx="7058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Monotype Corsiva"/>
                <a:ea typeface="Arial"/>
              </a:rPr>
              <a:t>Человек от лени болеет , а от труда здоровее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Прямоугольник 104453"/>
          <p:cNvSpPr txBox="1"/>
          <p:nvPr/>
        </p:nvSpPr>
        <p:spPr>
          <a:xfrm>
            <a:off x="2195640" y="0"/>
            <a:ext cx="511308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арок Мойдодыра</a:t>
            </a:r>
            <a:endParaRPr b="0" lang="en-US" sz="30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49" name="Изображение 104454" descr="25454"/>
          <p:cNvPicPr/>
          <p:nvPr/>
        </p:nvPicPr>
        <p:blipFill>
          <a:blip r:embed="rId1"/>
          <a:stretch/>
        </p:blipFill>
        <p:spPr>
          <a:xfrm>
            <a:off x="3203640" y="1989000"/>
            <a:ext cx="3551040" cy="48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86019"/>
          <p:cNvSpPr txBox="1"/>
          <p:nvPr/>
        </p:nvSpPr>
        <p:spPr>
          <a:xfrm>
            <a:off x="684360" y="333360"/>
            <a:ext cx="79912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и и задачи</a:t>
            </a:r>
            <a:endParaRPr b="0" lang="en-US" sz="30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9" name="Прямоугольник 86022"/>
          <p:cNvSpPr txBox="1"/>
          <p:nvPr/>
        </p:nvSpPr>
        <p:spPr>
          <a:xfrm>
            <a:off x="395280" y="4941720"/>
            <a:ext cx="8497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итание любви к занятиям спортом. 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0" name="Прямоугольник 86023"/>
          <p:cNvSpPr txBox="1"/>
          <p:nvPr/>
        </p:nvSpPr>
        <p:spPr>
          <a:xfrm>
            <a:off x="468360" y="1700280"/>
            <a:ext cx="81360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итание бережного отношения к своему здоровью.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1" name="Прямоугольник 86024"/>
          <p:cNvSpPr txBox="1"/>
          <p:nvPr/>
        </p:nvSpPr>
        <p:spPr>
          <a:xfrm>
            <a:off x="395280" y="3284640"/>
            <a:ext cx="828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итание трудолюбия  и уважения к людям труда.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dur="indefinite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73e87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68360" y="549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lvl="4" marL="1298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80ff"/>
                </a:solidFill>
                <a:uFillTx/>
                <a:latin typeface="Monotype Corsiva"/>
                <a:hlinkClick r:id="rId2"/>
              </a:rPr>
              <a:t>Письмо Мойдоды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49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80ff"/>
                </a:solidFill>
                <a:uFillTx/>
                <a:latin typeface="Monotype Corsiva"/>
                <a:hlinkClick r:id="rId4"/>
              </a:rPr>
              <a:t>Загадка о расчес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98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80ff"/>
                </a:solidFill>
                <a:uFillTx/>
                <a:latin typeface="Monotype Corsiva"/>
                <a:hlinkClick r:id="rId6"/>
              </a:rPr>
              <a:t>Загадка про зубную пасту</a:t>
            </a:r>
            <a:r>
              <a:rPr b="0" lang="ru-RU" sz="2600" spc="-1" strike="noStrike" u="sng">
                <a:solidFill>
                  <a:srgbClr val="0080ff"/>
                </a:solidFill>
                <a:uFillTx/>
                <a:latin typeface="Monotype Corsiva"/>
                <a:hlinkClick r:id="rId7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49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80ff"/>
                </a:solidFill>
                <a:uFillTx/>
                <a:latin typeface="Monotype Corsiva"/>
                <a:hlinkClick r:id="rId9"/>
              </a:rPr>
              <a:t>Загадка про мыл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98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0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80ff"/>
                </a:solidFill>
                <a:uFillTx/>
                <a:latin typeface="Monotype Corsiva"/>
                <a:hlinkClick r:id="rId11"/>
              </a:rPr>
              <a:t>Загадка про зубную щетку</a:t>
            </a:r>
            <a:r>
              <a:rPr b="0" lang="ru-RU" sz="2600" spc="-1" strike="noStrike">
                <a:solidFill>
                  <a:srgbClr val="2862aa"/>
                </a:solidFill>
                <a:latin typeface="Monotype Corsiv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49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80ff"/>
                </a:solidFill>
                <a:uFillTx/>
                <a:latin typeface="Monotype Corsiva"/>
                <a:hlinkClick r:id="rId13"/>
              </a:rPr>
              <a:t>Загадка про носовой платочек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98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80ff"/>
                </a:solidFill>
                <a:uFillTx/>
                <a:latin typeface="Monotype Corsiva"/>
                <a:hlinkClick r:id="rId15"/>
              </a:rPr>
              <a:t>Стих о человеке, живущем по час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49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80ff"/>
                </a:solidFill>
                <a:uFillTx/>
                <a:latin typeface="Monotype Corsiva"/>
                <a:hlinkClick r:id="rId17"/>
              </a:rPr>
              <a:t>Наша зарядк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98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80ff"/>
                </a:solidFill>
                <a:uFillTx/>
                <a:latin typeface="Monotype Corsiva"/>
                <a:hlinkClick r:id="rId19"/>
              </a:rPr>
              <a:t>Песенка про лен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49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80ff"/>
                </a:solidFill>
                <a:uFillTx/>
                <a:latin typeface="Monotype Corsiva"/>
                <a:hlinkClick r:id="rId21"/>
              </a:rPr>
              <a:t>Пословицы о здоровь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29816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2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80ff"/>
                </a:solidFill>
                <a:uFillTx/>
                <a:latin typeface="Monotype Corsiva"/>
                <a:hlinkClick r:id="rId23"/>
              </a:rPr>
              <a:t>Пословицы о ле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49080">
              <a:lnSpc>
                <a:spcPct val="90000"/>
              </a:lnSpc>
              <a:spcBef>
                <a:spcPts val="751"/>
              </a:spcBef>
              <a:buSzPct val="100000"/>
              <a:buBlip>
                <a:blip r:embed="rId2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80ff"/>
                </a:solidFill>
                <a:uFillTx/>
                <a:latin typeface="Monotype Corsiva"/>
                <a:hlinkClick r:id="rId25"/>
              </a:rPr>
              <a:t>Подарок Мойдодыра</a:t>
            </a:r>
            <a:r>
              <a:rPr b="0" lang="ru-RU" sz="3000" spc="-1" strike="noStrike" u="sng">
                <a:solidFill>
                  <a:srgbClr val="0080ff"/>
                </a:solidFill>
                <a:uFillTx/>
                <a:latin typeface="Monotype Corsiva"/>
                <a:hlinkClick r:id="rId26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Управляющая кнопка: назад 90115">
            <a:hlinkClick r:id="" action="ppaction://hlinkshowjump?jump=previousslide"/>
          </p:cNvPr>
          <p:cNvSpPr/>
          <p:nvPr/>
        </p:nvSpPr>
        <p:spPr>
          <a:xfrm>
            <a:off x="395280" y="623736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Прямоугольник 93188"/>
          <p:cNvSpPr txBox="1"/>
          <p:nvPr/>
        </p:nvSpPr>
        <p:spPr>
          <a:xfrm>
            <a:off x="1403280" y="404640"/>
            <a:ext cx="655344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сьмо Мойдодыра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6" name="Загнутый угол 93190"/>
          <p:cNvSpPr/>
          <p:nvPr/>
        </p:nvSpPr>
        <p:spPr>
          <a:xfrm>
            <a:off x="1835280" y="1557360"/>
            <a:ext cx="5327640" cy="4105080"/>
          </a:xfrm>
          <a:prstGeom prst="foldedCorner">
            <a:avLst>
              <a:gd name="adj" fmla="val 12500"/>
            </a:avLst>
          </a:prstGeom>
          <a:solidFill>
            <a:srgbClr val="31b6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Текстовое поле 93191"/>
          <p:cNvSpPr/>
          <p:nvPr/>
        </p:nvSpPr>
        <p:spPr>
          <a:xfrm>
            <a:off x="2843280" y="2349360"/>
            <a:ext cx="4537080" cy="30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Arial"/>
              </a:rPr>
              <a:t>Дорогие мои дети.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Arial"/>
              </a:rPr>
              <a:t>Я пишу вам письмец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Arial"/>
              </a:rPr>
              <a:t>Я прошу вас, мойте чащ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Monotype Corsiva"/>
                <a:ea typeface="Arial"/>
              </a:rPr>
              <a:t>Ваши руки и лиц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4000"/>
                            </p:stCondLst>
                            <p:childTnLst>
                              <p:par>
                                <p:cTn id="63" dur="indefinite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94212"/>
          <p:cNvSpPr txBox="1"/>
          <p:nvPr/>
        </p:nvSpPr>
        <p:spPr>
          <a:xfrm>
            <a:off x="1116000" y="476280"/>
            <a:ext cx="7308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гадка о расчёске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9" name="Прямоугольник 94213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9288360" cy="3768480"/>
          </a:xfrm>
          <a:prstGeom prst="rect">
            <a:avLst/>
          </a:prstGeom>
          <a:ln w="0">
            <a:noFill/>
          </a:ln>
        </p:spPr>
      </p:pic>
      <p:pic>
        <p:nvPicPr>
          <p:cNvPr id="220" name="Изображение 94214" descr="image preview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1484280"/>
            <a:ext cx="18399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000"/>
                            </p:stCondLst>
                            <p:childTnLst>
                              <p:par>
                                <p:cTn id="81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Прямоугольник 105475"/>
          <p:cNvSpPr txBox="1"/>
          <p:nvPr/>
        </p:nvSpPr>
        <p:spPr>
          <a:xfrm>
            <a:off x="2050920" y="692280"/>
            <a:ext cx="583416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гадка про зубную пасту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2" name="Прямоугольник 105476" descr=""/>
          <p:cNvPicPr/>
          <p:nvPr/>
        </p:nvPicPr>
        <p:blipFill>
          <a:blip r:embed="rId1"/>
          <a:stretch/>
        </p:blipFill>
        <p:spPr>
          <a:xfrm>
            <a:off x="709560" y="2647800"/>
            <a:ext cx="7763040" cy="1597320"/>
          </a:xfrm>
          <a:prstGeom prst="rect">
            <a:avLst/>
          </a:prstGeom>
          <a:ln w="0">
            <a:noFill/>
          </a:ln>
        </p:spPr>
      </p:pic>
      <p:pic>
        <p:nvPicPr>
          <p:cNvPr id="223" name="Изображение 105477" descr="З/паста с ромашкой и шалфеем МИР ДЕТСТВА -- 50 мл"/>
          <p:cNvPicPr/>
          <p:nvPr/>
        </p:nvPicPr>
        <p:blipFill>
          <a:blip r:embed="rId2"/>
          <a:stretch/>
        </p:blipFill>
        <p:spPr>
          <a:xfrm>
            <a:off x="2627280" y="4797360"/>
            <a:ext cx="4000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02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Прямоугольник 95236"/>
          <p:cNvSpPr txBox="1"/>
          <p:nvPr/>
        </p:nvSpPr>
        <p:spPr>
          <a:xfrm>
            <a:off x="2857680" y="404640"/>
            <a:ext cx="42354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гадка про мыло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5" name="Прямоугольник 95237" descr=""/>
          <p:cNvPicPr/>
          <p:nvPr/>
        </p:nvPicPr>
        <p:blipFill>
          <a:blip r:embed="rId1"/>
          <a:stretch/>
        </p:blipFill>
        <p:spPr>
          <a:xfrm>
            <a:off x="1643040" y="2647800"/>
            <a:ext cx="5896080" cy="1597320"/>
          </a:xfrm>
          <a:prstGeom prst="rect">
            <a:avLst/>
          </a:prstGeom>
          <a:ln w="0">
            <a:noFill/>
          </a:ln>
        </p:spPr>
      </p:pic>
      <p:pic>
        <p:nvPicPr>
          <p:cNvPr id="226" name="Изображение 95238" descr="Мыло Детское"/>
          <p:cNvPicPr/>
          <p:nvPr/>
        </p:nvPicPr>
        <p:blipFill>
          <a:blip r:embed="rId2"/>
          <a:stretch/>
        </p:blipFill>
        <p:spPr>
          <a:xfrm>
            <a:off x="3708360" y="4340160"/>
            <a:ext cx="2016000" cy="18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96260"/>
          <p:cNvSpPr txBox="1"/>
          <p:nvPr/>
        </p:nvSpPr>
        <p:spPr>
          <a:xfrm>
            <a:off x="1835280" y="404640"/>
            <a:ext cx="554508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гадка про зубную щётку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28" name="Прямоугольник 96261" descr=""/>
          <p:cNvPicPr/>
          <p:nvPr/>
        </p:nvPicPr>
        <p:blipFill>
          <a:blip r:embed="rId1"/>
          <a:stretch/>
        </p:blipFill>
        <p:spPr>
          <a:xfrm>
            <a:off x="2128680" y="2386080"/>
            <a:ext cx="4924440" cy="2120760"/>
          </a:xfrm>
          <a:prstGeom prst="rect">
            <a:avLst/>
          </a:prstGeom>
          <a:ln w="0">
            <a:noFill/>
          </a:ln>
        </p:spPr>
      </p:pic>
      <p:pic>
        <p:nvPicPr>
          <p:cNvPr id="229" name="Изображение 96262" descr="1"/>
          <p:cNvPicPr/>
          <p:nvPr/>
        </p:nvPicPr>
        <p:blipFill>
          <a:blip r:embed="rId2"/>
          <a:stretch/>
        </p:blipFill>
        <p:spPr>
          <a:xfrm>
            <a:off x="3708360" y="4514760"/>
            <a:ext cx="21589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35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97284"/>
          <p:cNvSpPr txBox="1"/>
          <p:nvPr/>
        </p:nvSpPr>
        <p:spPr>
          <a:xfrm>
            <a:off x="1662120" y="333360"/>
            <a:ext cx="60055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агадка про носовой платочек</a:t>
            </a:r>
            <a:endParaRPr b="0" lang="en-US" sz="30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31" name="Прямоугольник 97285" descr=""/>
          <p:cNvPicPr/>
          <p:nvPr/>
        </p:nvPicPr>
        <p:blipFill>
          <a:blip r:embed="rId1"/>
          <a:stretch/>
        </p:blipFill>
        <p:spPr>
          <a:xfrm>
            <a:off x="2411280" y="1773360"/>
            <a:ext cx="4791240" cy="2617560"/>
          </a:xfrm>
          <a:prstGeom prst="rect">
            <a:avLst/>
          </a:prstGeom>
          <a:ln w="0">
            <a:noFill/>
          </a:ln>
        </p:spPr>
      </p:pic>
      <p:pic>
        <p:nvPicPr>
          <p:cNvPr id="232" name="Изображение 97286" descr="Платок носовой 446"/>
          <p:cNvPicPr/>
          <p:nvPr/>
        </p:nvPicPr>
        <p:blipFill>
          <a:blip r:embed="rId2"/>
          <a:stretch/>
        </p:blipFill>
        <p:spPr>
          <a:xfrm>
            <a:off x="3059280" y="4869000"/>
            <a:ext cx="3241440" cy="169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4000"/>
                            </p:stCondLst>
                            <p:childTnLst>
                              <p:par>
                                <p:cTn id="153" dur="indefinite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11:18:00Z</dcterms:created>
  <dc:creator>богатырева</dc:creator>
  <dc:description/>
  <dc:language>en-US</dc:language>
  <cp:lastModifiedBy>пользователь</cp:lastModifiedBy>
  <dcterms:modified xsi:type="dcterms:W3CDTF">2018-08-06T10:16:08Z</dcterms:modified>
  <cp:revision>33</cp:revision>
  <dc:subject>презентация</dc:subject>
  <dc:title>воспитател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2.0.5845</vt:lpwstr>
  </property>
  <property fmtid="{D5CDD505-2E9C-101B-9397-08002B2CF9AE}" pid="3" name="богатырева">
    <vt:lpwstr>ккк</vt:lpwstr>
  </property>
</Properties>
</file>