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7DB3-EC31-481C-96CB-8671ECE1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D1B-0250-43AB-98BD-0A47BDFF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1536E3-414F-4992-BC6D-30ED877B6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4EA38-0DDB-425C-BA62-2F08ADC36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291CE-B02C-4221-B5AC-F51B472F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B360D-E0AE-4119-8042-FA8416F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107B4-83CF-4852-A2F6-E870A499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ACAC18-2F31-42ED-AA81-9E3F1144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94857-AEE5-4FDC-AAAC-F25652469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CA3F36-8898-49C2-A7A7-96C16723E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EAB33-ADDA-4F4A-9D08-2EF32BC9C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B4A8B-35C2-420E-AB09-F2E35519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646-555F-4B3D-8399-237CED921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A3509-EDBD-4CEB-815F-F5E2B17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98F88-27A2-48E2-B99A-00AE40E1B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5598B-9565-4E7B-86E7-4A88F062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25030E-FF9D-4616-8004-FF5515ED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16D7A8-A3F9-4236-A458-47AC9DDA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2E0C4-66C4-4A29-952B-7A687D01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5A138-1B0C-4637-A28F-DD72FB41E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076D66-13AB-45C7-920D-383885A6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A1C9F-D1CB-45E2-AB96-182E09D1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3455C-32A8-4D5C-A69D-978AEC83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E0F2-8257-4B75-8E28-F84BDE28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84281C-5D10-40F6-AAF5-EC6B9326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AD47E7-75D4-4BAD-872D-BC11EF9F7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A0102A-B7D7-4591-9B99-FE1E4FCE4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845F7-BEE6-4EA2-B82A-A05D0074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7DE76-F993-4BA2-9507-958C4B33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69FB4-BBF7-41B6-B0B4-B205A124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F2E6E7-BD20-4530-A982-A784F106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B74E2-D00B-43DB-8E4E-A1CA829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08A00C-C110-46F3-B385-7F99EABF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CE256-EC71-479F-A751-FCB3EB0C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2B73-3A11-46D5-A153-F51BBDC01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9FB73-0D73-4B3A-9964-F93C532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83429-37D2-441C-86D7-39DD5BAE9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4DFE5-8B52-4B10-8ADB-408ECD56E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AF2477-3931-4C0A-A0A7-8BCB6C8D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4F87E-9FE8-48D5-8D40-41570E47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1CB03-F240-49EF-AAEF-E68973F7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D31E0-6733-47A0-A682-1F1182CB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9F004-83FA-4728-9AF2-8AD6502AE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2AEE1-F5BB-4C35-A934-71461250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EF7DF-553A-4782-B59D-FF3E1AE9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1C9B-18F7-43B8-A302-F348908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1737E9-1003-4DFA-9C93-A58B0FF3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CE3B05-525C-4BF3-B5BC-5CE32B26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7432E-6B17-4A6D-846D-6721156E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B2950-C1DA-4918-B22A-ECF779BF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F0D66-B185-4AAF-9488-A14455B66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E8872-91CC-4BD9-A605-A229EDABB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5271C0-E39C-4968-A9EA-5C6CAB0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CB1A96-21CD-42E8-B8BC-63072022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416C31-018F-452D-B051-1F9C195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88A971-C521-469D-94B7-ECE83DC9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4CAC-C6DB-444F-807A-9E789420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B7D0C-8BDD-4952-89E7-5AB27E12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9791E-CECA-4194-B313-EA80C07A0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F87E4-3F9C-45FA-8112-FDBD10E8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F9C27D-6D81-4A32-9080-D778A1F4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F0C3E-C39B-45E8-8E3E-EBC13D23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27C50E-15E0-4CD9-87FF-A950FCB1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1088A-B36E-4CBF-B75B-5A632FB8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065326-2B29-4133-984A-07B2B5121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26B117-23D6-4FFC-9527-A2FDE7A1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4AA32E-A489-4150-8C48-932DFCA6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B36F-4290-4067-8968-87A7FCA1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DF71DD-4672-4B25-A2D0-B3389FED6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AC3802-ECC5-4BB3-BED9-9BE4003D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DC0F40-8590-4671-9A52-9D553FD1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BC4FAA-4D6A-4F5D-AC5A-99DABDD2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BC07A-3875-4FFC-8EE4-346B87A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BFDA63-5B00-4C40-BF0F-F0BF8B4C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C3C414-2AC9-4785-97F3-F9A903A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F226D-AE73-4D01-8748-85D4259F5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1227CD-514F-42CD-A37C-5D5222BA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FED7-9D18-4117-8068-7E8A8A69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9236-403A-4DF6-9E07-64A8AC80C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DB8FE-3C2D-49CA-AA8B-EB436371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1C76-90A7-443D-87F9-2D1C89A6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83CEC-5B39-4025-9606-A9A57FD1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53422-C203-41E3-8B8A-C402DB55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CF1B-91B6-46E7-8FC6-5E4A770C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C09F-2AB3-4F65-8E79-538D2979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C1D3-F0B8-4331-A008-10D21C5F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FD516-5E7A-484C-B7C5-06A994FF8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8BAFC-3FBA-4F13-AEE5-3D14EC02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F4A2B7-AFB8-402F-83C6-B1A707F5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9B9F4D-A45C-497C-8F59-DA7F2D08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EBEB7-EFDE-4420-A8BC-CB1A75D8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155-5E97-47CC-AC89-BBE7A2AE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25A21-9765-4517-81B9-876B207D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5DBA5-2644-4F5E-857C-C9BEA790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C5F42-4F7A-4BD0-9DAA-57102A09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0F33-7A57-4B3B-AD21-25793DC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54D88-C4E9-4244-A4F6-7F1AE93D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293C6-246D-4D9E-90B9-2F7E3401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8C20F-91FD-4FDC-87F0-450064D8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1794D-7ABC-439C-BE6F-5FD1C27C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06708-C4AC-4D3C-8BFD-81CF0F5F1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5B352-3ABD-4A97-BD8E-CEF777A2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F8EF-CE1D-466F-B619-000704D3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C7659-16FE-4B9C-8FF0-F0E917E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669B-E709-4EBF-B842-01174D4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7F930-3F00-4EFB-AE66-C1CF632D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05C47-2100-4E15-A85E-CCC70570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99268-0834-428A-BB34-44990991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B4E0-85D5-4C04-929A-73EC074A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39887-EDE1-4938-B927-223FCA5B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BF48B-51B9-4DEB-BDB0-0CF129C04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8420D-5AFC-4A2D-8E82-16327836A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0305B-1FAF-4BC0-93D0-6FD6E055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3466-A90C-4E35-B60A-1930012D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FFE4F6-3B0B-4B70-B799-F7A62BA8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490D0A-8F13-4926-B46D-D15E1AB1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BB964A-856D-4F14-8988-E0CCC27C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C6DC03-74D6-4BE7-877F-2567FFFA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C468A7-4A72-42A0-AEDD-53BB7609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53B38-C059-4056-B555-80295CD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B6F493-A120-409A-985C-45A42FC6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F8811F-1BEE-491C-834F-1EEC9129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59946-2142-4D45-A919-B487359D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F9B2B5-1D44-4D6E-9F93-1A2D6F92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8D2B-726C-4922-B4B8-0602D1B8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299F73-AE3F-4991-9954-8659019C1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BC653-0543-43F1-9F34-E1936A4D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9A7AB-7E10-4E27-A826-93CB21B9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0CFC-D387-4D50-9B5E-0F77BDF4F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833BD-6EC2-4834-8B22-1A1EBABF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E222B-0839-4FE1-8728-784D5F5C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ED292-BD77-4942-946A-96458762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65728E-E00C-4034-978E-689F6117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4D0B6-EE90-48AD-A2F2-29BA0A88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F881A-E135-4E11-B04E-5B1E575E9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E9F7-60D2-497C-BBB7-00EFEC33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E2F69-4838-41E7-B956-3B69A25F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56FFD-EF2A-4167-8222-54C8E87A4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EE85C8-95A5-4465-A853-6C9748165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3BCED-E075-4AE9-B6B3-01F7F5C6C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5B97B-3C89-4BEB-8AA0-D64E4889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BBDAD-B6E7-4769-BE02-397CA926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05D4-61A1-4FF1-A4BE-FE5866698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E4D7-B737-4AEA-AAC2-7598F37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387F3F-D009-4363-8E14-57C47642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EFF07-C7BD-4C6A-A407-07629EDE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7E36-7B4A-40D8-87E1-92340D73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A8F23-9047-44BB-B924-605478D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9F160F-D44B-4526-97FE-C8C79DC7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1F40C-4FFE-4498-8351-FB2F340C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FCD14-44CF-4FDA-842E-0B7E05D1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C47C0-3D92-478F-BBDC-EFFAB5FD0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A2DAB-93BB-457F-8D0A-1A2DB2CD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F5D8C-6FBA-4680-8AD8-BB7EE98E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FCE5DF-287F-470B-9B53-C13CF90BC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8F7F5-797D-4C94-9B6C-A2A40735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48307-FFF1-487D-AA90-435ECFAC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9E6-98B4-418B-9C5C-1D3BE83A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16ACF6-83DD-4233-9D91-5CDEF4D4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9E560F-5706-4CDB-9596-C7D0838B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A1A17-2E40-4A98-B46C-B7378D41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0E044-445A-474E-AF58-D27EAB2B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3C5C1-198A-49E6-BE0B-E90A8EB3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EC158-449E-4743-BA58-9F59B0913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CE001-1753-424A-AC0D-15F7E3483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06037-254F-477D-9866-C6D307D6E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4F3709-FBBB-44A7-A692-6F0B942E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4EEA1-9B17-41CB-A2EA-7165DD37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ED8D-BA2F-4B2D-A663-43E09630A6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8ADD-7BC1-45FF-9213-83BB6EBC021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739-C258-4123-8006-D932B742F8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5C1A3-AF99-46F6-9785-E87BB24A5AF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7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3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6306-5B31-4571-BBA6-3DFD050AAB41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1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1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1824-698D-4B48-A073-9396D84146D6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1F18-88FF-4855-BF99-25BE0B0EF97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53DEB-0ACB-40EC-9545-C8976A29D8B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8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0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A57ED-4F91-49F6-A36E-795690E828C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79B6-F7E7-4EA4-BE24-8608709572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4C0B-548B-48D0-9BEE-2A93F802506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D528-8EBE-463C-9C26-D01BFB20BAE5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C75F-33E6-43C3-A893-88DCEF21E11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B97D-672D-4D87-A338-4F69A796AA0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ормы и качества словесного выра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рок объяснения нового материала  элективного кур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Русская словес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асова Светлана Васильев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чность – максимальное соответствие употребляемых слов называемым предметам и явлениям действи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ищев был последователем декабр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егин вёл паразитический образ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ственное ограничение Короб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акова груба со своими придворн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од терпел двойственный гн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адищев был предшественником декабр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Онегин вёл праздный образ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Умственная ограниченность Короб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Простакова груба со своими слуг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) Народ терпел двойной гн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eorgia"/>
              </a:rPr>
              <a:t>Последовательность есть смысловая непротиворечивость сочетания частей в предложении и предложений в тексте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словия последовательности словесного выраж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ротиворечивость сочетания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тсутствие избыточных по смыслу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ый порядок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ое использование служебных частей речи, вводных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ое сочетание рядом стоящих предложений с помощью лексических повторов, синонимов, местоимени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6150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Georgia"/>
              </a:rPr>
              <a:t>Явление словесной избыточности называется </a:t>
            </a: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плеоназмо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т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коре он воротился обрат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очень великой любовью полюбила Бор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ило огненное, как огонь, сол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ята проявили свою инициати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скоре он вернул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на полюбила Бор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ветило огненное сол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бята проявили инициати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WordArt 4"/>
          <p:cNvSpPr txBox="1"/>
          <p:nvPr/>
        </p:nvSpPr>
        <p:spPr>
          <a:xfrm>
            <a:off x="4857840" y="2357280"/>
            <a:ext cx="3714840" cy="26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д какой темой мы работал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 какими новыми понятиями познакомилис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новые термины усвоил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вопросы у вас возникли по теме уро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ормы словесного выраж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68" name="Organization Chart 9"/>
          <p:cNvGrpSpPr/>
          <p:nvPr/>
        </p:nvGrpSpPr>
        <p:grpSpPr>
          <a:xfrm>
            <a:off x="214200" y="1959120"/>
            <a:ext cx="4000320" cy="1956600"/>
            <a:chOff x="214200" y="1959120"/>
            <a:chExt cx="4000320" cy="1956600"/>
          </a:xfrm>
        </p:grpSpPr>
        <p:cxnSp>
          <p:nvCxnSpPr>
            <p:cNvPr id="769" name="_s1028"/>
            <p:cNvCxnSpPr>
              <a:stCxn id="770" idx="0"/>
              <a:endCxn id="771" idx="1"/>
            </p:cNvCxnSpPr>
            <p:nvPr/>
          </p:nvCxnSpPr>
          <p:spPr>
            <a:xfrm flipV="1" rot="16200000">
              <a:off x="3479760" y="2397960"/>
              <a:ext cx="392040" cy="1077840"/>
            </a:xfrm>
            <a:prstGeom prst="bentConnector3">
              <a:avLst>
                <a:gd name="adj1" fmla="val 29319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2" name="_s1029"/>
            <p:cNvCxnSpPr>
              <a:stCxn id="773" idx="0"/>
              <a:endCxn id="771" idx="0"/>
            </p:cNvCxnSpPr>
            <p:nvPr/>
          </p:nvCxnSpPr>
          <p:spPr>
            <a:xfrm flipH="1" flipV="1" rot="5400000">
              <a:off x="2402640" y="2398320"/>
              <a:ext cx="392040" cy="1077480"/>
            </a:xfrm>
            <a:prstGeom prst="bentConnector3">
              <a:avLst>
                <a:gd name="adj1" fmla="val 29319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71" name="_s1030"/>
            <p:cNvSpPr/>
            <p:nvPr/>
          </p:nvSpPr>
          <p:spPr>
            <a:xfrm>
              <a:off x="1290960" y="195912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устн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1031"/>
            <p:cNvSpPr/>
            <p:nvPr/>
          </p:nvSpPr>
          <p:spPr>
            <a:xfrm>
              <a:off x="214200" y="313308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_s1032"/>
            <p:cNvSpPr/>
            <p:nvPr/>
          </p:nvSpPr>
          <p:spPr>
            <a:xfrm>
              <a:off x="2368080" y="313308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Organization Chart 18"/>
          <p:cNvGrpSpPr/>
          <p:nvPr/>
        </p:nvGrpSpPr>
        <p:grpSpPr>
          <a:xfrm>
            <a:off x="4929120" y="1954080"/>
            <a:ext cx="3999960" cy="1945800"/>
            <a:chOff x="4929120" y="1954080"/>
            <a:chExt cx="3999960" cy="1945800"/>
          </a:xfrm>
        </p:grpSpPr>
        <p:cxnSp>
          <p:nvCxnSpPr>
            <p:cNvPr id="775" name="_s1035"/>
            <p:cNvCxnSpPr>
              <a:stCxn id="776" idx="0"/>
              <a:endCxn id="777" idx="1"/>
            </p:cNvCxnSpPr>
            <p:nvPr/>
          </p:nvCxnSpPr>
          <p:spPr>
            <a:xfrm flipV="1" rot="16200000">
              <a:off x="8195760" y="2387880"/>
              <a:ext cx="389880" cy="1077480"/>
            </a:xfrm>
            <a:prstGeom prst="bentConnector3">
              <a:avLst>
                <a:gd name="adj1" fmla="val 29297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8" name="_s1036"/>
            <p:cNvCxnSpPr>
              <a:stCxn id="779" idx="0"/>
              <a:endCxn id="777" idx="0"/>
            </p:cNvCxnSpPr>
            <p:nvPr/>
          </p:nvCxnSpPr>
          <p:spPr>
            <a:xfrm flipH="1" flipV="1" rot="5400000">
              <a:off x="7119000" y="2387880"/>
              <a:ext cx="389880" cy="1077840"/>
            </a:xfrm>
            <a:prstGeom prst="bentConnector3">
              <a:avLst>
                <a:gd name="adj1" fmla="val 29297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77" name="_s1037"/>
            <p:cNvSpPr/>
            <p:nvPr/>
          </p:nvSpPr>
          <p:spPr>
            <a:xfrm>
              <a:off x="6006240" y="195408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исьмен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1038"/>
            <p:cNvSpPr/>
            <p:nvPr/>
          </p:nvSpPr>
          <p:spPr>
            <a:xfrm>
              <a:off x="4929120" y="312156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1039"/>
            <p:cNvSpPr/>
            <p:nvPr/>
          </p:nvSpPr>
          <p:spPr>
            <a:xfrm>
              <a:off x="7083000" y="312156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rganization Chart 26"/>
          <p:cNvGrpSpPr/>
          <p:nvPr/>
        </p:nvGrpSpPr>
        <p:grpSpPr>
          <a:xfrm>
            <a:off x="428760" y="4071960"/>
            <a:ext cx="4031640" cy="1906200"/>
            <a:chOff x="428760" y="4071960"/>
            <a:chExt cx="4031640" cy="1906200"/>
          </a:xfrm>
        </p:grpSpPr>
        <p:cxnSp>
          <p:nvCxnSpPr>
            <p:cNvPr id="781" name="_s1042"/>
            <p:cNvCxnSpPr>
              <a:stCxn id="782" idx="0"/>
              <a:endCxn id="783" idx="1"/>
            </p:cNvCxnSpPr>
            <p:nvPr/>
          </p:nvCxnSpPr>
          <p:spPr>
            <a:xfrm flipV="1" rot="16200000">
              <a:off x="3726000" y="4481640"/>
              <a:ext cx="381960" cy="108612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84" name="_s1043"/>
            <p:cNvCxnSpPr>
              <a:stCxn id="785" idx="0"/>
              <a:endCxn id="783" idx="0"/>
            </p:cNvCxnSpPr>
            <p:nvPr/>
          </p:nvCxnSpPr>
          <p:spPr>
            <a:xfrm flipH="1" flipV="1" rot="5400000">
              <a:off x="2641320" y="4482000"/>
              <a:ext cx="381960" cy="108576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83" name="_s1044"/>
            <p:cNvSpPr/>
            <p:nvPr/>
          </p:nvSpPr>
          <p:spPr>
            <a:xfrm>
              <a:off x="1513800" y="40719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роза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1045"/>
            <p:cNvSpPr/>
            <p:nvPr/>
          </p:nvSpPr>
          <p:spPr>
            <a:xfrm>
              <a:off x="428760" y="521568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_s1046"/>
            <p:cNvSpPr/>
            <p:nvPr/>
          </p:nvSpPr>
          <p:spPr>
            <a:xfrm>
              <a:off x="2599560" y="521568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rganization Chart 33"/>
          <p:cNvGrpSpPr/>
          <p:nvPr/>
        </p:nvGrpSpPr>
        <p:grpSpPr>
          <a:xfrm>
            <a:off x="4643280" y="4076640"/>
            <a:ext cx="4032000" cy="1906200"/>
            <a:chOff x="4643280" y="4076640"/>
            <a:chExt cx="4032000" cy="1906200"/>
          </a:xfrm>
        </p:grpSpPr>
        <p:cxnSp>
          <p:nvCxnSpPr>
            <p:cNvPr id="787" name="_s1049"/>
            <p:cNvCxnSpPr>
              <a:stCxn id="788" idx="0"/>
              <a:endCxn id="789" idx="1"/>
            </p:cNvCxnSpPr>
            <p:nvPr/>
          </p:nvCxnSpPr>
          <p:spPr>
            <a:xfrm flipV="1" rot="16200000">
              <a:off x="7941240" y="4486320"/>
              <a:ext cx="381960" cy="108576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90" name="_s1050"/>
            <p:cNvCxnSpPr>
              <a:stCxn id="791" idx="0"/>
              <a:endCxn id="789" idx="0"/>
            </p:cNvCxnSpPr>
            <p:nvPr/>
          </p:nvCxnSpPr>
          <p:spPr>
            <a:xfrm flipH="1" flipV="1" rot="5400000">
              <a:off x="6856200" y="4486320"/>
              <a:ext cx="381960" cy="108648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89" name="_s1051"/>
            <p:cNvSpPr/>
            <p:nvPr/>
          </p:nvSpPr>
          <p:spPr>
            <a:xfrm>
              <a:off x="5729040" y="407664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ихотвор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_s1052"/>
            <p:cNvSpPr/>
            <p:nvPr/>
          </p:nvSpPr>
          <p:spPr>
            <a:xfrm>
              <a:off x="4643280" y="52203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1053"/>
            <p:cNvSpPr/>
            <p:nvPr/>
          </p:nvSpPr>
          <p:spPr>
            <a:xfrm>
              <a:off x="6814440" y="52203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1920"/>
            <a:ext cx="79790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айте характеристику текстам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100" spc="-1" strike="noStrike">
                <a:solidFill>
                  <a:srgbClr val="c00000"/>
                </a:solidFill>
                <a:latin typeface="Arial"/>
              </a:rPr>
              <a:t>Проснувшись поутру довольно поздно, я увидел, что буря утихла. Солнце сияло. Снег лежал ослепительною пеленою на необозримой степ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. Вечор, ты помнишь, вьюга злилас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На мутном небе мгла носилас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Луна, как бледное пятно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Сквозь тучи мрачные желтел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И ты печальная сидела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А нынче…Погляди в окно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Под голубыми небеса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Великолепными ковра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Блестя на солнце, снег лежит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айте характеристику текс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им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снулся, б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игор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лагослови меня, честной от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им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лагослови госпо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бя и днесь, и присно, и вове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игор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ы всё писал и сном не позабылся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 мой покой бесовское мечтань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ревожило и враг меня мути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е снилося, что лестница крут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ня вела на башню; с выс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е виделась Москва, что муравейник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низу народ на площади кипе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на меня указывал со смехом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Georgia"/>
              </a:rPr>
              <a:t>Провер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1: 2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монологическая, прозаическ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2: 3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монологическая, стихотво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3: 1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диалогическая, стихотво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 монологического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800" name="_s2052"/>
            <p:cNvCxnSpPr>
              <a:stCxn id="801" idx="0"/>
              <a:endCxn id="802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803" name="_s2053"/>
            <p:cNvCxnSpPr>
              <a:stCxn id="804" idx="0"/>
              <a:endCxn id="802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805" name="_s2054"/>
            <p:cNvCxnSpPr>
              <a:stCxn id="806" idx="0"/>
              <a:endCxn id="802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9999ff"/>
              </a:solidFill>
              <a:miter/>
            </a:ln>
          </p:spPr>
        </p:cxnSp>
        <p:sp>
          <p:nvSpPr>
            <p:cNvPr id="802" name="_s2055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онологическа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форм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_s2056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овествова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_s2057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писание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2058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ссужде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Характеристика типо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57120" y="1071720"/>
          <a:ext cx="8185320" cy="5767200"/>
        </p:xfrm>
        <a:graphic>
          <a:graphicData uri="http://schemas.openxmlformats.org/drawingml/2006/table">
            <a:tbl>
              <a:tblPr/>
              <a:tblGrid>
                <a:gridCol w="1101960"/>
                <a:gridCol w="2412720"/>
                <a:gridCol w="2413080"/>
                <a:gridCol w="2257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вествов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суж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 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обыт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 явления путём перечисления характерных признаков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ъяснение, подтверждение какой-либо мы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ующ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ь глаголов в форме прош. вр., 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а, обозначающие качества, свойства предметов, глаголы в форме прош. вр., НСВ или наст. в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ые синтаксические конструкции, абстрактный характер лекс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е событий во времени и пространст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ение деталей как бы на одном полотн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вводных конструкций, указывающих на порядок оформления мы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чества словесного выраж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ви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ч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ледова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рази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гатств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равильность – то, что соответствует литературной норм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равь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червивый ябл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несколько бас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чёрное кофе без сах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у старых джин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привёз много грабл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до двухтысячи пятого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приезжали лект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червивых ябл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несколько ба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чёрный кофе без сах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у старых джин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) привёз много граб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6) до две тысячи пятого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7) приезжали ле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WordArt 4"/>
          <p:cNvSpPr txBox="1"/>
          <p:nvPr/>
        </p:nvSpPr>
        <p:spPr>
          <a:xfrm>
            <a:off x="4716360" y="2060640"/>
            <a:ext cx="3959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56:50Z</dcterms:created>
  <dc:creator>Светлана</dc:creator>
  <dc:description/>
  <dc:language>en-US</dc:language>
  <cp:lastModifiedBy>User</cp:lastModifiedBy>
  <dcterms:modified xsi:type="dcterms:W3CDTF">2017-02-07T18:52:46Z</dcterms:modified>
  <cp:revision>14</cp:revision>
  <dc:subject/>
  <dc:title>Формы и качества словесного выражения</dc:title>
</cp:coreProperties>
</file>