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E854-F062-41A0-8591-1BD1886B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A183-82BB-4F73-9BC4-182D778F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AE370-EE26-4DC8-9B47-9C4451C7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E8A4D-EEC5-40F2-A22A-DA88F02F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4B708-2D2F-45B9-B916-E87027D7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BD401-A714-4D69-93E9-FA34AA11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F31B89-D8C9-4B06-BE4C-26905F38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F79C6-696B-46B8-B770-1549C3D5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9B334-AD60-4585-935C-12A16B06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FA5BA-DB89-4887-926F-E10B90F41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FC2CB-0689-434A-B756-63CF0FEAE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F7124-A8B3-4629-9DDB-10AF9BF04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A6D2-153C-419C-9499-7E947362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AC630C-FD9A-48B2-9189-0EBAD3D6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800122-D5D9-4CAA-A7EC-90EFD6D03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00E00-581F-460F-9B67-DB6342C1B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597F58-B956-4D85-8D14-6F271C35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2D13E-8FA5-400D-BAC9-959073AF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3E837-79D0-4978-97F8-A6D26F74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D1FA4-D30D-40CC-8835-997DCEB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C61667-D3DA-41DD-B8F3-38978B0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B8F55-8BCF-452C-916D-84C2C1AA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E8E09-C694-4213-9661-FB4B2C3B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0B49-8A1D-4E29-9977-A741B6FFA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C2AAFE-7E3C-4459-971F-5616DB500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1F969-AF19-44C1-8DBC-A3F6B1479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7EE9C-8F11-47AA-9170-C9AE250DF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98211-1876-49DB-91A7-0CD2A3F3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C86B9-B171-40A2-904A-E65F1205D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1DCB5-9D57-4FBB-890A-526B9088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5D8B9E-3DD3-4E01-B5A7-D8A03B4D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D4A41-45FD-4777-B9D7-E54C8333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B5D7C-A323-46ED-BEAC-E77980331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993A6-537C-4D33-A65F-68C45577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E528B-7AA0-4BDF-B84E-15C94C65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538884-B6A6-435C-8B31-780D94E2F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5AA9E6-4532-4EA1-A9FE-15442BA5D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F25923-2E9A-4F17-999A-258AE58BD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166EB2-4F9F-401A-989D-BF424698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D79A14-6640-4B98-97D4-343A4BA5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E5595-F038-46D8-BC39-858556C95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4A09EF-FB97-4D97-941C-68AF40815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260858-9BFE-4B6D-AD76-04277637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F38FAB-3EC0-4EAD-93BE-A32F2E00C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1E6A2-DA02-4002-811F-EF87BDB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3087-C9EA-499A-9BB9-56AEE8C6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8E850-09B5-42C6-B607-6BB03961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E823D-DFD5-4394-9C38-FB109A60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C1E273-D9A5-4A9E-83D6-D5637543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7CC9C2-3927-4879-91DA-34922B703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AA420A-557D-4DE6-AA91-27914079C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5098A3-FFCE-4221-BAAF-B3A9B4306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FD75E7-3A3E-4A17-BF0A-816FD2EB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2BBF71-FAF8-49B5-8433-92BE50D9F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DD542A-4D8C-41F0-ABE6-2AA0530E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83F940-7914-4685-8D42-11164AAFA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845D-E27A-4559-8B78-19523224D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2B8CD-072B-4638-940E-6C78D05E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4CA2D-7CBE-4D7F-A416-D24E7325A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5736BB-A1A3-4E35-A176-1841C3F2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9BEE3-6E7B-4443-B315-126D32D3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022DA2-63C6-4377-A46C-35A1A5F9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B4D06A-56E6-402C-9D4A-52CD74EE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B97F5-1BED-4BA9-849A-FB7031522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BC7B1-CB48-4CD4-BD75-43283CBDA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A568C-D1A6-46C8-9C15-41BFF5E8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32992-BD5E-467B-81B3-5C675669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3C484-4554-4371-AC8B-B1AF21E3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8FA50-F524-4C9B-8228-CF3EEBF5F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B0E3C-9C4E-4205-9240-3CFA4296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D6A1C1-24FD-4BAA-9EE0-60601292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71988B-3A0D-4B66-8804-4B069878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3AD990-31DF-4AFA-8998-076CE33E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B24FFE-7E3A-4AC0-BBE9-D9135610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178A89-4F05-4257-BA64-114BFCD57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F7E85-FB92-45AA-92CD-28F470CF8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413E2-4582-4A8D-B1E9-7BFFEC4A3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152E-1D80-44FB-AD4F-9E84A86C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0F94-740F-4A1D-BC24-B80FC5B8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22FE7-FF5E-4829-98F5-68D69367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C03-7EDB-461A-A51F-F15C3A76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0322C-B3B0-4895-8279-10FB1B54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4E63-5C17-46EF-8892-57571E83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93F3-94A7-4A33-BA1F-9F45CF6D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20DF-7E56-4ADC-950F-DC1949B1D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29F8-0CA9-4EFE-AA3C-F05DB22F7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D6CB4-5CBF-4014-9F5F-E4111A10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63302-45D9-4EAD-AD14-34639C52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49E27-3A33-48E2-8DA6-5F204371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C8A6-B347-46A0-8515-09D8F6718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E4348-EFCD-4F31-A9C4-0DCD92690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5D33-55A9-4B17-9D95-710B8760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9DECF-C1AD-407D-BD37-797D29FB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14C73-2A7F-4211-AD18-ED3337F0E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2A51-601A-4F81-9FC1-C5A273B6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7A9CD-0DB1-4C37-83FA-2C71E09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D5C9C-8068-4DC4-9665-5CDFD51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D3D31-041F-4FCA-A3F9-F690E16F8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C4E04-0CEF-45E9-BBD2-8ECAEC6A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0E792-8235-45DA-B2C9-B5978BE5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2A490-9558-4A13-A56D-A50C3F20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91009-4738-4E76-B0FE-EBE03ED6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D56C-408C-4984-90B3-A98E967F8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D0D0F-C93F-4013-849A-C4BFF327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BB004-3DF9-4C0E-8184-6467AF09E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AA713-03FC-4D35-86E2-0EE803A0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C1B0C-6779-4D67-BF68-208DF280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411DA-231D-402F-A466-1BB4093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4856F-657E-4A7B-BDDB-63BFB0D2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01D5B-6A7D-49EF-A1C2-E1DD533B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7DFEB-D0F6-4D1C-9567-EB1A2155D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F2CEF-DA0F-4FB6-A9F3-813D20AF1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50BCC7-3B1B-4FB7-9E48-18E84A7D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133A-96C9-42FD-BDD1-7D35A3D9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D2DAC0-828D-490D-B50A-5E98C0C9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C03531-289C-4612-A100-AA6271D77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898C85-617B-4E5A-98BA-1047707D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536AAA-7C40-4F94-A2A4-B3930B26E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84D035-6D91-4C15-9F58-51818AFC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3B4256-C2A6-464C-B503-90926A07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1B6D4E-FBC9-4A02-9A66-94DEE73D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DCDA2C-84F5-4157-8CB0-0D2BB3A6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863279-9022-420F-97CF-A52D5915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71171A-E956-4543-B24B-7F2FF2D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C3F7-667C-4AD3-AB75-4052BC32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63023F-1A9E-4253-9BB1-088D67E0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D8D49A-DDB2-4E8A-A8EE-48179E80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FD925-7047-43CD-BCF8-2A2416B81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17331E-CB56-4625-865C-69DC8EA6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64CB9-7F66-4805-96A3-FB7E68124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869AC-2603-4366-A265-55CA37B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970F3-4DE6-4360-80D7-ED43A086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3A07-B9B9-4196-9F59-270FB22C8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E86D3-40F9-4744-A35F-48E6784E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7A17B-7CCB-42A8-AEEF-178F980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4B7E-F07B-4277-8541-2F8F78CF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3E33C-F609-4542-862F-215541B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90D6D5-8265-47CA-BACC-5B9C44C2B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EEF43-9320-411D-8C56-9B38C7DC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C84F5-6A3F-41B9-9C20-8E47D3441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94E2E-9E65-492F-839C-FFBC6F91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D4E71-D36F-444A-84C0-B1C4DEAD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B3F5E-A0A8-416C-9A20-10925038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CE287-86D8-4E1D-8CCF-F20F2AAD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E5FBDA-E94F-43E4-BABF-8A687A8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5F3CFC-E15A-4335-A561-0CA7903D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8EF8-B12E-49BF-9627-1293E3228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3E076E-F2C9-405F-A60B-D3C83E55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C8BE47-9E7F-470A-A2B3-37675A5A0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1A3CC0-C859-47F3-A1A5-48AE145E6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A22C3B-40F2-4DA8-AA21-89839B7F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1D48C-7579-4174-A36F-E316C09B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7F0E19-E14E-4AE2-91CA-55687AE52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34BBC5-2CE0-436A-9E71-5D8FAA87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E8E44-335A-4D03-88C3-3DEFB3B8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B316C-1582-400A-B0A9-83DE57624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7D6FFB-E45F-4DEA-85B2-8D8B5DE7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448-09CA-4369-91C8-7532D2E0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87DB9-171E-44AA-85A9-23B27AFA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01D7E-CD04-41ED-A88F-78BB918F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26E763-5CBF-4490-BF6B-757050C64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A69E8D-5F0B-459F-8D4F-3535BBAF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6F179-1360-4B8F-A6A6-8DB5BA94C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C3357-38B2-48F5-8A0F-7F4226A0C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D8E29-233B-4E27-80C6-45220AC0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38B48-FC54-4ED2-ABAA-BE40EA63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3257E-99CA-450A-BD2D-3C6ADA20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80548-9638-4E35-A8C7-7ABC95DC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220E-0BB8-40B5-8A63-1134BEEA57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C544-3FD0-4D9F-86D0-EDA2AD30C6A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507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509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3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4169-78D0-4CF9-A51D-756EF8BD64BE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6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E1D6-31C8-4ECF-B2BC-74E9CAE184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668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0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671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3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3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3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97C6-212A-4250-9F31-C7BA16644FC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715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716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8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719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1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5B0C-3AB7-411F-A01B-F1F7E35B4F2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B864-9A80-4406-BAFE-141B72C163F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8424-D143-43A3-872F-2CF0B60E38F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28" name="Freeform 3"/>
            <p:cNvSpPr/>
            <p:nvPr/>
          </p:nvSpPr>
          <p:spPr>
            <a:xfrm>
              <a:off x="0" y="0"/>
              <a:ext cx="9140760" cy="1655640"/>
            </a:xfrm>
            <a:prstGeom prst="pi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30" name="Freeform 5"/>
              <p:cNvSpPr/>
              <p:nvPr/>
            </p:nvSpPr>
            <p:spPr>
              <a:xfrm>
                <a:off x="1440" y="1650960"/>
                <a:ext cx="914112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6"/>
              <p:cNvSpPr/>
              <p:nvPr/>
            </p:nvSpPr>
            <p:spPr>
              <a:xfrm>
                <a:off x="0" y="6330960"/>
                <a:ext cx="9140760" cy="6660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7"/>
              <p:cNvSpPr/>
              <p:nvPr/>
            </p:nvSpPr>
            <p:spPr>
              <a:xfrm>
                <a:off x="0" y="581832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8"/>
              <p:cNvSpPr/>
              <p:nvPr/>
            </p:nvSpPr>
            <p:spPr>
              <a:xfrm>
                <a:off x="0" y="5340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9"/>
              <p:cNvSpPr/>
              <p:nvPr/>
            </p:nvSpPr>
            <p:spPr>
              <a:xfrm>
                <a:off x="0" y="4929120"/>
                <a:ext cx="9140760" cy="4932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10"/>
              <p:cNvSpPr/>
              <p:nvPr/>
            </p:nvSpPr>
            <p:spPr>
              <a:xfrm>
                <a:off x="0" y="453852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11"/>
              <p:cNvSpPr/>
              <p:nvPr/>
            </p:nvSpPr>
            <p:spPr>
              <a:xfrm>
                <a:off x="0" y="4197240"/>
                <a:ext cx="9140760" cy="4788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12"/>
              <p:cNvSpPr/>
              <p:nvPr/>
            </p:nvSpPr>
            <p:spPr>
              <a:xfrm>
                <a:off x="0" y="3862440"/>
                <a:ext cx="9140760" cy="5724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13"/>
              <p:cNvSpPr/>
              <p:nvPr/>
            </p:nvSpPr>
            <p:spPr>
              <a:xfrm>
                <a:off x="0" y="358632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Freeform 14"/>
              <p:cNvSpPr/>
              <p:nvPr/>
            </p:nvSpPr>
            <p:spPr>
              <a:xfrm>
                <a:off x="0" y="33177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Freeform 15"/>
              <p:cNvSpPr/>
              <p:nvPr/>
            </p:nvSpPr>
            <p:spPr>
              <a:xfrm>
                <a:off x="0" y="306072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16"/>
              <p:cNvSpPr/>
              <p:nvPr/>
            </p:nvSpPr>
            <p:spPr>
              <a:xfrm>
                <a:off x="0" y="261144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17"/>
              <p:cNvSpPr/>
              <p:nvPr/>
            </p:nvSpPr>
            <p:spPr>
              <a:xfrm>
                <a:off x="0" y="28224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18"/>
              <p:cNvSpPr/>
              <p:nvPr/>
            </p:nvSpPr>
            <p:spPr>
              <a:xfrm>
                <a:off x="0" y="2413080"/>
                <a:ext cx="9140760" cy="1908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19"/>
              <p:cNvSpPr/>
              <p:nvPr/>
            </p:nvSpPr>
            <p:spPr>
              <a:xfrm>
                <a:off x="0" y="221292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20"/>
              <p:cNvSpPr/>
              <p:nvPr/>
            </p:nvSpPr>
            <p:spPr>
              <a:xfrm>
                <a:off x="0" y="203184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21"/>
              <p:cNvSpPr/>
              <p:nvPr/>
            </p:nvSpPr>
            <p:spPr>
              <a:xfrm>
                <a:off x="0" y="186840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22"/>
              <p:cNvSpPr/>
              <p:nvPr/>
            </p:nvSpPr>
            <p:spPr>
              <a:xfrm>
                <a:off x="0" y="38160"/>
                <a:ext cx="9140760" cy="4752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23"/>
              <p:cNvSpPr/>
              <p:nvPr/>
            </p:nvSpPr>
            <p:spPr>
              <a:xfrm>
                <a:off x="0" y="29520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24"/>
              <p:cNvSpPr/>
              <p:nvPr/>
            </p:nvSpPr>
            <p:spPr>
              <a:xfrm>
                <a:off x="0" y="754200"/>
                <a:ext cx="9140760" cy="37800"/>
              </a:xfrm>
              <a:prstGeom prst="pie">
                <a:avLst/>
              </a:pr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25"/>
              <p:cNvSpPr/>
              <p:nvPr/>
            </p:nvSpPr>
            <p:spPr>
              <a:xfrm>
                <a:off x="0" y="5349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Freeform 26"/>
              <p:cNvSpPr/>
              <p:nvPr/>
            </p:nvSpPr>
            <p:spPr>
              <a:xfrm>
                <a:off x="0" y="952560"/>
                <a:ext cx="9140760" cy="38160"/>
              </a:xfrm>
              <a:prstGeom prst="pie">
                <a:avLst/>
              </a:pr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Freeform 27"/>
              <p:cNvSpPr/>
              <p:nvPr/>
            </p:nvSpPr>
            <p:spPr>
              <a:xfrm>
                <a:off x="0" y="115416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28"/>
              <p:cNvSpPr/>
              <p:nvPr/>
            </p:nvSpPr>
            <p:spPr>
              <a:xfrm>
                <a:off x="0" y="1335240"/>
                <a:ext cx="9140760" cy="2844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29"/>
              <p:cNvSpPr/>
              <p:nvPr/>
            </p:nvSpPr>
            <p:spPr>
              <a:xfrm>
                <a:off x="0" y="1496880"/>
                <a:ext cx="9140760" cy="28800"/>
              </a:xfrm>
              <a:prstGeom prst="pie">
                <a:avLst/>
              </a:pr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5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56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prstGeom prst="pie">
                  <a:avLst/>
                </a:pr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72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prstGeom prst="pie">
                  <a:avLst/>
                </a:pr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75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prstGeom prst="pie">
                  <a:avLst/>
                </a:pr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Freeform 59"/>
              <p:cNvSpPr/>
              <p:nvPr/>
            </p:nvSpPr>
            <p:spPr>
              <a:xfrm>
                <a:off x="0" y="1649520"/>
                <a:ext cx="1990800" cy="417816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Freeform 60"/>
              <p:cNvSpPr/>
              <p:nvPr/>
            </p:nvSpPr>
            <p:spPr>
              <a:xfrm>
                <a:off x="0" y="1649520"/>
                <a:ext cx="1504800" cy="266040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61"/>
              <p:cNvSpPr/>
              <p:nvPr/>
            </p:nvSpPr>
            <p:spPr>
              <a:xfrm>
                <a:off x="0" y="1649520"/>
                <a:ext cx="998640" cy="14875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Freeform 62"/>
              <p:cNvSpPr/>
              <p:nvPr/>
            </p:nvSpPr>
            <p:spPr>
              <a:xfrm>
                <a:off x="0" y="1649520"/>
                <a:ext cx="484200" cy="67788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prstGeom prst="pie">
                <a:avLst/>
              </a:pr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prstGeom prst="pie">
                <a:avLst/>
              </a:pr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EF21-924B-42DB-BD4F-FD21251C0A2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6CA8-7A02-4FF5-A908-8819CEF0161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3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28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8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28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EA43-8AB9-47BA-951E-8730B6A595E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9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0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1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BF27-E486-488C-A20F-ADA96EA76B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EE54-247E-4806-A944-971C801FBDB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B0AA-9D0B-4C0B-8BA5-9C30A045856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ормы и качества словесного выражен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Урок объяснения нового материала  элективного кур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«Русская словесность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Красова Светлана Васильевна,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очность – максимальное соответствие употребляемых слов называемым предметам и явлениям действитель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marL="571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равьт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дищев был последователем декабр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негин вёл паразитический образ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мственное ограничение Короб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такова груба со своими придворны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род терпел двойственный гн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</a:t>
            </a: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Радищев был предшественником декабрист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Онегин вёл праздный образ жизн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Умственная ограниченность Коробо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Простакова груба со своими слуг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) Народ терпел двойной гнёт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8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6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8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8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Georgia"/>
              </a:rPr>
              <a:t>Последовательность есть смысловая непротиворечивость сочетания частей в предложении и предложений в тексте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Условия последовательности словесного выражен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противоречивость сочетания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отсутствие избыточных по смыслу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ый порядок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ое использование служебных частей речи, вводных слов;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правильное сочетание рядом стоящих предложений с помощью лексических повторов, синонимов, местоимени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1071360" y="500040"/>
            <a:ext cx="761508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Georgia"/>
              </a:rPr>
              <a:t>Явление словесной избыточности называется </a:t>
            </a:r>
            <a:r>
              <a:rPr b="1" i="1" lang="ru-RU" sz="3600" spc="-1" strike="noStrike">
                <a:solidFill>
                  <a:srgbClr val="333399"/>
                </a:solidFill>
                <a:latin typeface="Georgia"/>
              </a:rPr>
              <a:t>плеоназмом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равьте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скоре он воротился обрат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а очень великой любовью полюбила Бор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етило огненное, как огонь, сол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бята проявили свою инициати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91120" indent="-5911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8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Вскоре он вернул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Она полюбила Борис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ветило огненное солнц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ебята проявили инициатив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9" name="WordArt 4"/>
          <p:cNvSpPr txBox="1"/>
          <p:nvPr/>
        </p:nvSpPr>
        <p:spPr>
          <a:xfrm>
            <a:off x="4857840" y="2357280"/>
            <a:ext cx="3714840" cy="26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8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8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8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8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8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8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60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80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8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Times New Roman"/>
              </a:rPr>
              <a:t>Подведём итог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Над какой темой мы работал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 какими новыми понятиями познакомились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новые термины усвоили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Какие вопросы у вас возникли по теме урока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8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8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8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Формы словесного выражения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768" name="Organization Chart 9"/>
          <p:cNvGrpSpPr/>
          <p:nvPr/>
        </p:nvGrpSpPr>
        <p:grpSpPr>
          <a:xfrm>
            <a:off x="214200" y="1959120"/>
            <a:ext cx="4000320" cy="1956600"/>
            <a:chOff x="214200" y="1959120"/>
            <a:chExt cx="4000320" cy="1956600"/>
          </a:xfrm>
        </p:grpSpPr>
        <p:cxnSp>
          <p:nvCxnSpPr>
            <p:cNvPr id="769" name="_s1028"/>
            <p:cNvCxnSpPr>
              <a:stCxn id="770" idx="0"/>
              <a:endCxn id="771" idx="1"/>
            </p:cNvCxnSpPr>
            <p:nvPr/>
          </p:nvCxnSpPr>
          <p:spPr>
            <a:xfrm flipV="1" rot="16200000">
              <a:off x="3479760" y="2397960"/>
              <a:ext cx="392040" cy="1077840"/>
            </a:xfrm>
            <a:prstGeom prst="bentConnector3">
              <a:avLst>
                <a:gd name="adj1" fmla="val 29319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2" name="_s1029"/>
            <p:cNvCxnSpPr>
              <a:stCxn id="773" idx="0"/>
              <a:endCxn id="771" idx="0"/>
            </p:cNvCxnSpPr>
            <p:nvPr/>
          </p:nvCxnSpPr>
          <p:spPr>
            <a:xfrm flipH="1" flipV="1" rot="5400000">
              <a:off x="2402640" y="2398320"/>
              <a:ext cx="392040" cy="1077480"/>
            </a:xfrm>
            <a:prstGeom prst="bentConnector3">
              <a:avLst>
                <a:gd name="adj1" fmla="val 29319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71" name="_s1030"/>
            <p:cNvSpPr/>
            <p:nvPr/>
          </p:nvSpPr>
          <p:spPr>
            <a:xfrm>
              <a:off x="1290960" y="195912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устн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_s1031"/>
            <p:cNvSpPr/>
            <p:nvPr/>
          </p:nvSpPr>
          <p:spPr>
            <a:xfrm>
              <a:off x="214200" y="313308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_s1032"/>
            <p:cNvSpPr/>
            <p:nvPr/>
          </p:nvSpPr>
          <p:spPr>
            <a:xfrm>
              <a:off x="2368080" y="3133080"/>
              <a:ext cx="1846080" cy="78264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74" name="Organization Chart 18"/>
          <p:cNvGrpSpPr/>
          <p:nvPr/>
        </p:nvGrpSpPr>
        <p:grpSpPr>
          <a:xfrm>
            <a:off x="4929120" y="1954080"/>
            <a:ext cx="3999960" cy="1945800"/>
            <a:chOff x="4929120" y="1954080"/>
            <a:chExt cx="3999960" cy="1945800"/>
          </a:xfrm>
        </p:grpSpPr>
        <p:cxnSp>
          <p:nvCxnSpPr>
            <p:cNvPr id="775" name="_s1035"/>
            <p:cNvCxnSpPr>
              <a:stCxn id="776" idx="0"/>
              <a:endCxn id="777" idx="1"/>
            </p:cNvCxnSpPr>
            <p:nvPr/>
          </p:nvCxnSpPr>
          <p:spPr>
            <a:xfrm flipV="1" rot="16200000">
              <a:off x="8195760" y="2387880"/>
              <a:ext cx="389880" cy="1077480"/>
            </a:xfrm>
            <a:prstGeom prst="bentConnector3">
              <a:avLst>
                <a:gd name="adj1" fmla="val 29297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78" name="_s1036"/>
            <p:cNvCxnSpPr>
              <a:stCxn id="779" idx="0"/>
              <a:endCxn id="777" idx="0"/>
            </p:cNvCxnSpPr>
            <p:nvPr/>
          </p:nvCxnSpPr>
          <p:spPr>
            <a:xfrm flipH="1" flipV="1" rot="5400000">
              <a:off x="7119000" y="2387880"/>
              <a:ext cx="389880" cy="1077840"/>
            </a:xfrm>
            <a:prstGeom prst="bentConnector3">
              <a:avLst>
                <a:gd name="adj1" fmla="val 29297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77" name="_s1037"/>
            <p:cNvSpPr/>
            <p:nvPr/>
          </p:nvSpPr>
          <p:spPr>
            <a:xfrm>
              <a:off x="6006240" y="195408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исьмен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_s1038"/>
            <p:cNvSpPr/>
            <p:nvPr/>
          </p:nvSpPr>
          <p:spPr>
            <a:xfrm>
              <a:off x="4929120" y="312156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_s1039"/>
            <p:cNvSpPr/>
            <p:nvPr/>
          </p:nvSpPr>
          <p:spPr>
            <a:xfrm>
              <a:off x="7083000" y="3121560"/>
              <a:ext cx="1846080" cy="778320"/>
            </a:xfrm>
            <a:custGeom>
              <a:avLst/>
              <a:gdLst>
                <a:gd name="textAreaLeft" fmla="*/ 288360 w 1846080"/>
                <a:gd name="textAreaRight" fmla="*/ 1846440 w 1846080"/>
                <a:gd name="textAreaTop" fmla="*/ 0 h 778320"/>
                <a:gd name="textAreaBottom" fmla="*/ 778680 h 77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0" name="Organization Chart 26"/>
          <p:cNvGrpSpPr/>
          <p:nvPr/>
        </p:nvGrpSpPr>
        <p:grpSpPr>
          <a:xfrm>
            <a:off x="428760" y="4071960"/>
            <a:ext cx="4031640" cy="1906200"/>
            <a:chOff x="428760" y="4071960"/>
            <a:chExt cx="4031640" cy="1906200"/>
          </a:xfrm>
        </p:grpSpPr>
        <p:cxnSp>
          <p:nvCxnSpPr>
            <p:cNvPr id="781" name="_s1042"/>
            <p:cNvCxnSpPr>
              <a:stCxn id="782" idx="0"/>
              <a:endCxn id="783" idx="1"/>
            </p:cNvCxnSpPr>
            <p:nvPr/>
          </p:nvCxnSpPr>
          <p:spPr>
            <a:xfrm flipV="1" rot="16200000">
              <a:off x="3726000" y="4481640"/>
              <a:ext cx="381960" cy="108612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84" name="_s1043"/>
            <p:cNvCxnSpPr>
              <a:stCxn id="785" idx="0"/>
              <a:endCxn id="783" idx="0"/>
            </p:cNvCxnSpPr>
            <p:nvPr/>
          </p:nvCxnSpPr>
          <p:spPr>
            <a:xfrm flipH="1" flipV="1" rot="5400000">
              <a:off x="2641320" y="4482000"/>
              <a:ext cx="381960" cy="108576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83" name="_s1044"/>
            <p:cNvSpPr/>
            <p:nvPr/>
          </p:nvSpPr>
          <p:spPr>
            <a:xfrm>
              <a:off x="1513800" y="40719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проза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_s1045"/>
            <p:cNvSpPr/>
            <p:nvPr/>
          </p:nvSpPr>
          <p:spPr>
            <a:xfrm>
              <a:off x="428760" y="521568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_s1046"/>
            <p:cNvSpPr/>
            <p:nvPr/>
          </p:nvSpPr>
          <p:spPr>
            <a:xfrm>
              <a:off x="2599560" y="521568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6" name="Organization Chart 33"/>
          <p:cNvGrpSpPr/>
          <p:nvPr/>
        </p:nvGrpSpPr>
        <p:grpSpPr>
          <a:xfrm>
            <a:off x="4643280" y="4076640"/>
            <a:ext cx="4032000" cy="1906200"/>
            <a:chOff x="4643280" y="4076640"/>
            <a:chExt cx="4032000" cy="1906200"/>
          </a:xfrm>
        </p:grpSpPr>
        <p:cxnSp>
          <p:nvCxnSpPr>
            <p:cNvPr id="787" name="_s1049"/>
            <p:cNvCxnSpPr>
              <a:stCxn id="788" idx="0"/>
              <a:endCxn id="789" idx="1"/>
            </p:cNvCxnSpPr>
            <p:nvPr/>
          </p:nvCxnSpPr>
          <p:spPr>
            <a:xfrm flipV="1" rot="16200000">
              <a:off x="7941240" y="4486320"/>
              <a:ext cx="381960" cy="108576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cxnSp>
          <p:nvCxnSpPr>
            <p:cNvPr id="790" name="_s1050"/>
            <p:cNvCxnSpPr>
              <a:stCxn id="791" idx="0"/>
              <a:endCxn id="789" idx="0"/>
            </p:cNvCxnSpPr>
            <p:nvPr/>
          </p:nvCxnSpPr>
          <p:spPr>
            <a:xfrm flipH="1" flipV="1" rot="5400000">
              <a:off x="6856200" y="4486320"/>
              <a:ext cx="381960" cy="1086480"/>
            </a:xfrm>
            <a:prstGeom prst="bentConnector3">
              <a:avLst>
                <a:gd name="adj1" fmla="val 29811"/>
              </a:avLst>
            </a:prstGeom>
            <a:ln w="3240">
              <a:solidFill>
                <a:srgbClr val="000000"/>
              </a:solidFill>
              <a:miter/>
            </a:ln>
          </p:spPr>
        </p:cxnSp>
        <p:sp>
          <p:nvSpPr>
            <p:cNvPr id="789" name="_s1051"/>
            <p:cNvSpPr/>
            <p:nvPr/>
          </p:nvSpPr>
          <p:spPr>
            <a:xfrm>
              <a:off x="5729040" y="407664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afbf39">
                <a:alpha val="50000"/>
              </a:srgbClr>
            </a:solidFill>
            <a:ln w="3240">
              <a:solidFill>
                <a:srgbClr val="afbf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стихотворн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_s1052"/>
            <p:cNvSpPr/>
            <p:nvPr/>
          </p:nvSpPr>
          <p:spPr>
            <a:xfrm>
              <a:off x="4643280" y="52203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диа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_s1053"/>
            <p:cNvSpPr/>
            <p:nvPr/>
          </p:nvSpPr>
          <p:spPr>
            <a:xfrm>
              <a:off x="6814440" y="5220360"/>
              <a:ext cx="1860840" cy="762480"/>
            </a:xfrm>
            <a:custGeom>
              <a:avLst/>
              <a:gdLst>
                <a:gd name="textAreaLeft" fmla="*/ 290520 w 1860840"/>
                <a:gd name="textAreaRight" fmla="*/ 1861200 w 1860840"/>
                <a:gd name="textAreaTop" fmla="*/ 0 h 762480"/>
                <a:gd name="textAreaBottom" fmla="*/ 762840 h 76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0"/>
                  </a:moveTo>
                  <a:lnTo>
                    <a:pt x="21600" y="0"/>
                  </a:ln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21600" y="21600"/>
                  </a:lnTo>
                  <a:lnTo>
                    <a:pt x="3375" y="21600"/>
                  </a:lnTo>
                  <a:close/>
                </a:path>
                <a:path w="21600" h="21600">
                  <a:moveTo>
                    <a:pt x="0" y="0"/>
                  </a:moveTo>
                  <a:lnTo>
                    <a:pt x="675" y="0"/>
                  </a:lnTo>
                  <a:lnTo>
                    <a:pt x="675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1350" y="0"/>
                  </a:moveTo>
                  <a:lnTo>
                    <a:pt x="2700" y="0"/>
                  </a:lnTo>
                  <a:lnTo>
                    <a:pt x="2700" y="21600"/>
                  </a:lnTo>
                  <a:lnTo>
                    <a:pt x="1350" y="21600"/>
                  </a:lnTo>
                  <a:close/>
                </a:path>
              </a:pathLst>
            </a:custGeom>
            <a:solidFill>
              <a:srgbClr val="3b812f">
                <a:alpha val="50000"/>
              </a:srgbClr>
            </a:solidFill>
            <a:ln w="3240">
              <a:solidFill>
                <a:srgbClr val="3b81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монологическая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331920"/>
            <a:ext cx="797904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айте характеристику текстам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100" spc="-1" strike="noStrike">
                <a:solidFill>
                  <a:srgbClr val="c00000"/>
                </a:solidFill>
                <a:latin typeface="Arial"/>
              </a:rPr>
              <a:t>Проснувшись поутру довольно поздно, я увидел, что буря утихла. Солнце сияло. Снег лежал ослепительною пеленою на необозримой степ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. Вечор, ты помнишь, вьюга злилас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На мутном небе мгла носилась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Луна, как бледное пятно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Сквозь тучи мрачные желтела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И ты печальная сидела –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А нынче…Погляди в окно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Под голубыми небеса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Великолепными коврами,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b050"/>
                </a:solidFill>
                <a:latin typeface="Arial"/>
              </a:rPr>
              <a:t>Блестя на солнце, снег лежит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7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7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1000"/>
                                        <p:tgtEl>
                                          <p:spTgt spid="7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7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1000"/>
                                        <p:tgtEl>
                                          <p:spTgt spid="7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7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7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7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1000"/>
                                        <p:tgtEl>
                                          <p:spTgt spid="7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айте характеристику текста.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им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оснулся, бра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игор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лагослови меня, честной отец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Пиме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Благослови госпо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ебя и днесь, и присно, и вове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700" spc="-1" strike="noStrike">
                <a:solidFill>
                  <a:srgbClr val="000000"/>
                </a:solidFill>
                <a:latin typeface="Arial"/>
              </a:rPr>
              <a:t>Григори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ы всё писал и сном не позабылся,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 мой покой бесовское мечтань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Тревожило и враг меня мутил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е снилося, что лестница крута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еня вела на башню; с выс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е виделась Москва, что муравейник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Внизу народ на площади кипе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на меня указывал со смехом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Georgia"/>
              </a:rPr>
              <a:t>Проверим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1: 2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монологическая, прозаическ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2: 3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монологическая, стихотво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екст № 3: 1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(письменная, диалогическая, стихотворная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Цели монологического высказ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Organization Chart 7"/>
          <p:cNvGrpSpPr/>
          <p:nvPr/>
        </p:nvGrpSpPr>
        <p:grpSpPr>
          <a:xfrm>
            <a:off x="431640" y="1589040"/>
            <a:ext cx="8208360" cy="4462560"/>
            <a:chOff x="431640" y="1589040"/>
            <a:chExt cx="8208360" cy="4462560"/>
          </a:xfrm>
        </p:grpSpPr>
        <p:cxnSp>
          <p:nvCxnSpPr>
            <p:cNvPr id="800" name="_s2052"/>
            <p:cNvCxnSpPr>
              <a:stCxn id="801" idx="0"/>
              <a:endCxn id="802" idx="2"/>
            </p:cNvCxnSpPr>
            <p:nvPr/>
          </p:nvCxnSpPr>
          <p:spPr>
            <a:xfrm flipV="1" rot="16200000">
              <a:off x="5525640" y="238284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803" name="_s2053"/>
            <p:cNvCxnSpPr>
              <a:stCxn id="804" idx="0"/>
              <a:endCxn id="802" idx="2"/>
            </p:cNvCxnSpPr>
            <p:nvPr/>
          </p:nvCxnSpPr>
          <p:spPr>
            <a:xfrm flipV="1">
              <a:off x="4536000" y="3373200"/>
              <a:ext cx="3600" cy="893160"/>
            </a:xfrm>
            <a:prstGeom prst="bentConnector2">
              <a:avLst/>
            </a:prstGeom>
            <a:ln w="38160">
              <a:solidFill>
                <a:srgbClr val="9999ff"/>
              </a:solidFill>
              <a:miter/>
            </a:ln>
          </p:spPr>
        </p:cxnSp>
        <p:cxnSp>
          <p:nvCxnSpPr>
            <p:cNvPr id="805" name="_s2054"/>
            <p:cNvCxnSpPr>
              <a:stCxn id="806" idx="0"/>
              <a:endCxn id="802" idx="2"/>
            </p:cNvCxnSpPr>
            <p:nvPr/>
          </p:nvCxnSpPr>
          <p:spPr>
            <a:xfrm flipH="1" flipV="1" rot="5400000">
              <a:off x="2652840" y="2383200"/>
              <a:ext cx="893160" cy="2873520"/>
            </a:xfrm>
            <a:prstGeom prst="bentConnector3">
              <a:avLst>
                <a:gd name="adj1" fmla="val 12782"/>
              </a:avLst>
            </a:prstGeom>
            <a:ln w="38160">
              <a:solidFill>
                <a:srgbClr val="9999ff"/>
              </a:solidFill>
              <a:miter/>
            </a:ln>
          </p:spPr>
        </p:cxnSp>
        <p:sp>
          <p:nvSpPr>
            <p:cNvPr id="802" name="_s2055"/>
            <p:cNvSpPr/>
            <p:nvPr/>
          </p:nvSpPr>
          <p:spPr>
            <a:xfrm>
              <a:off x="3304440" y="158904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Монологическая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форма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_s2056"/>
            <p:cNvSpPr/>
            <p:nvPr/>
          </p:nvSpPr>
          <p:spPr>
            <a:xfrm>
              <a:off x="43164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Повествова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_s2057"/>
            <p:cNvSpPr/>
            <p:nvPr/>
          </p:nvSpPr>
          <p:spPr>
            <a:xfrm>
              <a:off x="330444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Описание</a:t>
              </a: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_s2058"/>
            <p:cNvSpPr/>
            <p:nvPr/>
          </p:nvSpPr>
          <p:spPr>
            <a:xfrm>
              <a:off x="6177600" y="4266720"/>
              <a:ext cx="2462400" cy="1784880"/>
            </a:xfrm>
            <a:prstGeom prst="roundRect">
              <a:avLst>
                <a:gd name="adj" fmla="val 16667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Arial"/>
                </a:rPr>
                <a:t>Рассуждени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Характеристика типов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357120" y="1071720"/>
          <a:ext cx="8185320" cy="5767200"/>
        </p:xfrm>
        <a:graphic>
          <a:graphicData uri="http://schemas.openxmlformats.org/drawingml/2006/table">
            <a:tbl>
              <a:tblPr/>
              <a:tblGrid>
                <a:gridCol w="1101960"/>
                <a:gridCol w="2412720"/>
                <a:gridCol w="2413080"/>
                <a:gridCol w="22575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Повествовани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Описа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ассужд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сказ о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события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зображение явления путём перечисления характерных признаков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ъяснение, подтверждение какой-либо мыс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рганизующа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ль глаголов в форме прош. вр., С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ва, обозначающие качества, свойства предметов, глаголы в форме прош. вр., НСВ или наст. вр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ложные синтаксические конструкции, абстрактный характер лексик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дставление событий во времени и пространств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ение деталей как бы на одном полотне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спользование вводных конструкций, указывающих на порядок оформления мыс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ачества словесного выраж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рави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ч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Последова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истот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ыразите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гатств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Georgia"/>
              </a:rPr>
              <a:t>Правильность – то, что соответствует литературной норме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Исправьт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червивый ябл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несколько басн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чёрное кофе без сах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у старых джин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привёз много грабл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до двухтысячи пятого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) приезжали лекто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1) червивых ябло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2) несколько басе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3) чёрный кофе без сахар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4) у старых джин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5) привёз много грабел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6) до две тысячи пятого год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Times New Roman"/>
                <a:ea typeface="Times New Roman"/>
              </a:rPr>
              <a:t>7) приезжали лекто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WordArt 4"/>
          <p:cNvSpPr txBox="1"/>
          <p:nvPr/>
        </p:nvSpPr>
        <p:spPr>
          <a:xfrm>
            <a:off x="4716360" y="2060640"/>
            <a:ext cx="395928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1000"/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8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8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8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8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8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3T13:56:50Z</dcterms:created>
  <dc:creator>Светлана</dc:creator>
  <dc:description/>
  <dc:language>en-US</dc:language>
  <cp:lastModifiedBy>User</cp:lastModifiedBy>
  <dcterms:modified xsi:type="dcterms:W3CDTF">2017-02-07T18:52:46Z</dcterms:modified>
  <cp:revision>14</cp:revision>
  <dc:subject/>
  <dc:title>Формы и качества словесного выражения</dc:title>
</cp:coreProperties>
</file>