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5.jpeg" ContentType="image/jpeg"/>
  <Override PartName="/ppt/media/image24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33.jpeg" ContentType="image/jpeg"/>
  <Override PartName="/ppt/media/image6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31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.png" ContentType="image/png"/>
  <Override PartName="/ppt/media/image43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097-5DFD-4175-8745-ACA684C7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60FF-F8D8-4645-A80C-4038EFC6E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259A-AB93-4873-AA6B-BDD71B725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10F4-7F6A-44F6-AB2B-F1A6FFAE1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03666-C6C5-45DB-A226-1AF069FB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332EE-483F-459B-B8A6-E28CE3C7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A2B87-62B0-4F54-808E-1B706F3B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8BCE8-DCE9-4D5D-B1F6-F914E1CB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3DE9-887B-4E8F-AE8D-1F3DE38C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6AAF-8744-443B-84F4-CCFD76963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16B73-2A74-4DC5-87F4-60727256E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D435-7BF6-44B3-A45B-01E068FE9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5508-262B-4EFC-B8A7-84C1BD75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67C53-2C7E-4F80-8F07-4E69D448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0AF13-07AF-4C94-8821-5A9AEA46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8924F-770F-4068-8FCA-E8E308208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EB62-F851-4F4B-BE3E-14DEE5399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989F-F03D-489C-92D3-6CF0630F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6834-500A-4903-AA57-D68A6F14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202-DC7A-4550-B7CC-DA24103BA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7942-8ACF-4CEC-BDFD-39D26B01C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A3F-24DC-47F4-987A-1547F93F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DC7E-7A05-499C-AFB0-EEA03D53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82DC-520D-4889-8A93-83FAFE4F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7720" y="6732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8640" y="5472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8120" y="10476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6260-0C3D-442C-A594-08DB872CCE3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-360"/>
            <a:ext cx="9159840" cy="6870600"/>
            <a:chOff x="0" y="-36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00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6120"/>
              <a:ext cx="8078760" cy="199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6120"/>
              <a:ext cx="1203120" cy="685152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-360"/>
              <a:ext cx="1295280" cy="6310440"/>
              <a:chOff x="7848720" y="-360"/>
              <a:chExt cx="1295280" cy="631044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-360"/>
                <a:ext cx="762120" cy="2275560"/>
                <a:chOff x="8381880" y="-360"/>
                <a:chExt cx="762120" cy="22755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7320" y="-360"/>
                  <a:ext cx="279360" cy="276120"/>
                  <a:chOff x="8707320" y="-360"/>
                  <a:chExt cx="279360" cy="27612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7320" y="-360"/>
                    <a:ext cx="279360" cy="276120"/>
                    <a:chOff x="8707320" y="-360"/>
                    <a:chExt cx="279360" cy="27612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6200" y="-39240"/>
                      <a:ext cx="20160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5560" y="92520"/>
                      <a:ext cx="141120" cy="225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6840" y="13392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60600" y="71640"/>
                    <a:ext cx="42840" cy="572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31520" y="59400"/>
                    <a:ext cx="64800" cy="3780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8640" bIns="-8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901000" y="109440"/>
                    <a:ext cx="23760" cy="619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6840" y="196200"/>
                    <a:ext cx="63360" cy="266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800" bIns="-19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5360" y="171360"/>
                    <a:ext cx="37800" cy="410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400" bIns="-5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347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34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92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98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434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2436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48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5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4880"/>
                <a:ext cx="828720" cy="4705200"/>
                <a:chOff x="7848720" y="1604880"/>
                <a:chExt cx="828720" cy="470520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488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9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82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64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87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328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96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64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784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83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696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13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520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80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852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80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90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640"/>
                  <a:ext cx="295200" cy="290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10400"/>
              <a:ext cx="1190520" cy="19378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9640"/>
              <a:ext cx="1219320" cy="19980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21320"/>
              <a:ext cx="1231920" cy="403308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41320"/>
              <a:ext cx="979560" cy="218232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32720"/>
              <a:ext cx="914400" cy="504324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8200"/>
              <a:ext cx="909720" cy="30682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6120"/>
              <a:ext cx="576360" cy="33494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7560"/>
              <a:ext cx="300240" cy="334980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7560"/>
              <a:ext cx="88920" cy="68515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800"/>
              <a:ext cx="1165320" cy="61848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7200" y="3319200"/>
              <a:ext cx="685152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2f1311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FEAE7-CD99-47C2-BC4B-1937FD68382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565360"/>
            <a:ext cx="7476840" cy="374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Повышение роли учебно-методического кабинета </a:t>
            </a:r>
            <a:br>
              <a:rPr sz="3200"/>
            </a:br>
            <a:r>
              <a:rPr b="1" lang="ru-RU" sz="32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«Основ безопасности жизнедеятельности» </a:t>
            </a:r>
            <a:br>
              <a:rPr sz="32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в создании условий для формирования и развития ключевых компетентностей обучающихся.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Синолицын Дмитрий Петрович  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преподаватель-организатор ОБЖ</a:t>
            </a:r>
            <a:br>
              <a:rPr sz="2400"/>
            </a:br>
            <a:r>
              <a:rPr b="0" lang="ru-RU" sz="2400" spc="-1" strike="noStrike">
                <a:solidFill>
                  <a:srgbClr val="2f1311"/>
                </a:solidFill>
                <a:latin typeface="Times New Roman"/>
                <a:ea typeface="Times New Roman"/>
              </a:rPr>
              <a:t>                                      МБОУ СОШ № 78, г. Краснодар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7d4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692000" y="1915920"/>
            <a:ext cx="4040280" cy="888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гневая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29" name="Picture 4" descr="H:\DCIM\100CANON\IMG_0013.JPG"/>
          <p:cNvPicPr/>
          <p:nvPr/>
        </p:nvPicPr>
        <p:blipFill>
          <a:blip r:embed="rId1"/>
          <a:stretch/>
        </p:blipFill>
        <p:spPr>
          <a:xfrm>
            <a:off x="4022640" y="2627280"/>
            <a:ext cx="3627360" cy="30114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2" descr="H:\DCIM\100CANON\IMG_0029.JPG"/>
          <p:cNvPicPr/>
          <p:nvPr/>
        </p:nvPicPr>
        <p:blipFill>
          <a:blip r:embed="rId2"/>
          <a:stretch/>
        </p:blipFill>
        <p:spPr>
          <a:xfrm>
            <a:off x="324000" y="2637000"/>
            <a:ext cx="3600360" cy="2990520"/>
          </a:xfrm>
          <a:prstGeom prst="rect">
            <a:avLst/>
          </a:prstGeom>
          <a:ln w="0">
            <a:noFill/>
          </a:ln>
        </p:spPr>
      </p:pic>
      <p:sp>
        <p:nvSpPr>
          <p:cNvPr id="231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-360" y="220464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оевая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924000" y="1557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Гражданская оборон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35" name="Picture 2" descr="H:\DCIM\100CANON\IMG_0014.JPG"/>
          <p:cNvPicPr/>
          <p:nvPr/>
        </p:nvPicPr>
        <p:blipFill>
          <a:blip r:embed="rId1"/>
          <a:stretch/>
        </p:blipFill>
        <p:spPr>
          <a:xfrm>
            <a:off x="250920" y="3284640"/>
            <a:ext cx="3625920" cy="30114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H:\DCIM\100CANON\IMG_0015.JPG"/>
          <p:cNvPicPr/>
          <p:nvPr/>
        </p:nvPicPr>
        <p:blipFill>
          <a:blip r:embed="rId2"/>
          <a:stretch/>
        </p:blipFill>
        <p:spPr>
          <a:xfrm>
            <a:off x="4022640" y="2627280"/>
            <a:ext cx="3627360" cy="3011400"/>
          </a:xfrm>
          <a:prstGeom prst="rect">
            <a:avLst/>
          </a:prstGeom>
          <a:ln w="0">
            <a:noFill/>
          </a:ln>
        </p:spPr>
      </p:pic>
      <p:sp>
        <p:nvSpPr>
          <p:cNvPr id="237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8920" y="1557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Вооружённые силы РФ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95280" y="206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Мед. подготовка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1" name="Picture 2" descr="H:\DCIM\100CANON\IMG_0016.JPG"/>
          <p:cNvPicPr/>
          <p:nvPr/>
        </p:nvPicPr>
        <p:blipFill>
          <a:blip r:embed="rId1"/>
          <a:stretch/>
        </p:blipFill>
        <p:spPr>
          <a:xfrm>
            <a:off x="324000" y="2276640"/>
            <a:ext cx="3625560" cy="37447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H:\DCIM\100CANON\IMG_0012.JPG"/>
          <p:cNvPicPr/>
          <p:nvPr/>
        </p:nvPicPr>
        <p:blipFill>
          <a:blip r:embed="rId2"/>
          <a:stretch/>
        </p:blipFill>
        <p:spPr>
          <a:xfrm>
            <a:off x="4211640" y="2781360"/>
            <a:ext cx="3313080" cy="3925800"/>
          </a:xfrm>
          <a:prstGeom prst="rect">
            <a:avLst/>
          </a:prstGeom>
          <a:ln w="0">
            <a:noFill/>
          </a:ln>
        </p:spPr>
      </p:pic>
      <p:sp>
        <p:nvSpPr>
          <p:cNvPr id="243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4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-360" y="18442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            </a:t>
            </a: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Анти терро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50920" y="1844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Times New Roman"/>
              </a:rPr>
              <a:t>Информация безопас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47" name="Picture 2" descr="H:\DCIM\100CANON\IMG_0030.JPG"/>
          <p:cNvPicPr/>
          <p:nvPr/>
        </p:nvPicPr>
        <p:blipFill>
          <a:blip r:embed="rId1"/>
          <a:stretch/>
        </p:blipFill>
        <p:spPr>
          <a:xfrm>
            <a:off x="179280" y="2708280"/>
            <a:ext cx="3384720" cy="39258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H:\DCIM\100CANON\IMG_0046.JPG"/>
          <p:cNvPicPr/>
          <p:nvPr/>
        </p:nvPicPr>
        <p:blipFill>
          <a:blip r:embed="rId2"/>
          <a:stretch/>
        </p:blipFill>
        <p:spPr>
          <a:xfrm>
            <a:off x="3924360" y="2708280"/>
            <a:ext cx="3627360" cy="3889440"/>
          </a:xfrm>
          <a:prstGeom prst="rect">
            <a:avLst/>
          </a:prstGeom>
          <a:ln w="0">
            <a:noFill/>
          </a:ln>
        </p:spPr>
      </p:pic>
      <p:sp>
        <p:nvSpPr>
          <p:cNvPr id="249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-360" y="1915920"/>
            <a:ext cx="716436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Уголок   пожарной   безопасност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52" name="Picture 2" descr="H:\DCIM\100CANON\IMG_0044.JPG"/>
          <p:cNvPicPr/>
          <p:nvPr/>
        </p:nvPicPr>
        <p:blipFill>
          <a:blip r:embed="rId1"/>
          <a:stretch/>
        </p:blipFill>
        <p:spPr>
          <a:xfrm>
            <a:off x="179280" y="2781360"/>
            <a:ext cx="3625920" cy="3730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3" descr="H:\DCIM\100CANON\IMG_0045.JPG"/>
          <p:cNvPicPr/>
          <p:nvPr/>
        </p:nvPicPr>
        <p:blipFill>
          <a:blip r:embed="rId2"/>
          <a:stretch/>
        </p:blipFill>
        <p:spPr>
          <a:xfrm>
            <a:off x="4067280" y="2781360"/>
            <a:ext cx="3457440" cy="3709800"/>
          </a:xfrm>
          <a:prstGeom prst="rect">
            <a:avLst/>
          </a:prstGeom>
          <a:ln w="0">
            <a:noFill/>
          </a:ln>
        </p:spPr>
      </p:pic>
      <p:sp>
        <p:nvSpPr>
          <p:cNvPr id="254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е стенд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H:\DCIM\100CANON\IMG_0028.JPG"/>
          <p:cNvPicPr/>
          <p:nvPr/>
        </p:nvPicPr>
        <p:blipFill>
          <a:blip r:embed="rId1"/>
          <a:stretch/>
        </p:blipFill>
        <p:spPr>
          <a:xfrm>
            <a:off x="324000" y="1916280"/>
            <a:ext cx="3384360" cy="43210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H:\DCIM\100CANON\IMG_0027.JPG"/>
          <p:cNvPicPr/>
          <p:nvPr/>
        </p:nvPicPr>
        <p:blipFill>
          <a:blip r:embed="rId2"/>
          <a:stretch/>
        </p:blipFill>
        <p:spPr>
          <a:xfrm>
            <a:off x="4067280" y="1916280"/>
            <a:ext cx="3384360" cy="4321080"/>
          </a:xfrm>
          <a:prstGeom prst="rect">
            <a:avLst/>
          </a:prstGeom>
          <a:ln w="0">
            <a:noFill/>
          </a:ln>
        </p:spPr>
      </p:pic>
      <p:sp>
        <p:nvSpPr>
          <p:cNvPr id="258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Стенды патриотической направленност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61" name="Picture 4" descr="Учебники"/>
          <p:cNvPicPr/>
          <p:nvPr/>
        </p:nvPicPr>
        <p:blipFill>
          <a:blip r:embed="rId1"/>
          <a:stretch/>
        </p:blipFill>
        <p:spPr>
          <a:xfrm>
            <a:off x="684360" y="1916280"/>
            <a:ext cx="6406920" cy="4608360"/>
          </a:xfrm>
          <a:prstGeom prst="rect">
            <a:avLst/>
          </a:prstGeom>
          <a:ln w="0">
            <a:noFill/>
          </a:ln>
        </p:spPr>
      </p:pic>
      <p:sp>
        <p:nvSpPr>
          <p:cNvPr id="262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Учебники и дидактический материа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H:\DCIM\100CANON\IMG_0017.JPG"/>
          <p:cNvPicPr/>
          <p:nvPr/>
        </p:nvPicPr>
        <p:blipFill>
          <a:blip r:embed="rId1"/>
          <a:stretch/>
        </p:blipFill>
        <p:spPr>
          <a:xfrm>
            <a:off x="250920" y="30686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H:\DCIM\100CANON\IMG_0019.JPG"/>
          <p:cNvPicPr/>
          <p:nvPr/>
        </p:nvPicPr>
        <p:blipFill>
          <a:blip r:embed="rId2"/>
          <a:stretch/>
        </p:blipFill>
        <p:spPr>
          <a:xfrm>
            <a:off x="4067280" y="198900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6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Мультимедиа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2" descr="H:\DCIM\100CANON\IMG_0032.JPG"/>
          <p:cNvPicPr/>
          <p:nvPr/>
        </p:nvPicPr>
        <p:blipFill>
          <a:blip r:embed="rId1"/>
          <a:stretch/>
        </p:blipFill>
        <p:spPr>
          <a:xfrm>
            <a:off x="250920" y="270828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H:\DCIM\100CANON\IMG_0036.JPG"/>
          <p:cNvPicPr/>
          <p:nvPr/>
        </p:nvPicPr>
        <p:blipFill>
          <a:blip r:embed="rId2"/>
          <a:stretch/>
        </p:blipFill>
        <p:spPr>
          <a:xfrm>
            <a:off x="4427640" y="2060640"/>
            <a:ext cx="3046320" cy="4497480"/>
          </a:xfrm>
          <a:prstGeom prst="rect">
            <a:avLst/>
          </a:prstGeom>
          <a:ln w="0">
            <a:noFill/>
          </a:ln>
        </p:spPr>
      </p:pic>
      <p:sp>
        <p:nvSpPr>
          <p:cNvPr id="270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Средства </a:t>
            </a:r>
            <a:br>
              <a:rPr sz="4800"/>
            </a:b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индивидуальной защиты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-360" y="177300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Костюм пожарного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34920" y="177300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Огнетушител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74" name="Picture 2" descr="H:\DCIM\100CANON\IMG_0033.JPG"/>
          <p:cNvPicPr/>
          <p:nvPr/>
        </p:nvPicPr>
        <p:blipFill>
          <a:blip r:embed="rId1"/>
          <a:stretch/>
        </p:blipFill>
        <p:spPr>
          <a:xfrm>
            <a:off x="468360" y="2565360"/>
            <a:ext cx="3095640" cy="3925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3" descr="H:\DCIM\100CANON\IMG_0034.JPG"/>
          <p:cNvPicPr/>
          <p:nvPr/>
        </p:nvPicPr>
        <p:blipFill>
          <a:blip r:embed="rId2"/>
          <a:stretch/>
        </p:blipFill>
        <p:spPr>
          <a:xfrm>
            <a:off x="4067280" y="2565360"/>
            <a:ext cx="3313080" cy="3854520"/>
          </a:xfrm>
          <a:prstGeom prst="rect">
            <a:avLst/>
          </a:prstGeom>
          <a:ln w="0">
            <a:noFill/>
          </a:ln>
        </p:spPr>
      </p:pic>
      <p:sp>
        <p:nvSpPr>
          <p:cNvPr id="276" name="Заголовок 1"/>
          <p:cNvSpPr/>
          <p:nvPr/>
        </p:nvSpPr>
        <p:spPr>
          <a:xfrm>
            <a:off x="250920" y="40464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Демонстрационный материал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Заголовок 1"/>
          <p:cNvSpPr/>
          <p:nvPr/>
        </p:nvSpPr>
        <p:spPr>
          <a:xfrm>
            <a:off x="250920" y="162864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Edwardian Script ITC"/>
              </a:rPr>
              <a:t>Кабинет   ОБЖ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WordArt 10"/>
          <p:cNvSpPr txBox="1"/>
          <p:nvPr/>
        </p:nvSpPr>
        <p:spPr>
          <a:xfrm>
            <a:off x="755640" y="549360"/>
            <a:ext cx="64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ФОТОальб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pic>
        <p:nvPicPr>
          <p:cNvPr id="195" name="Picture 3" descr="H:\DCIM\100CANON\IMG_0034.JPG"/>
          <p:cNvPicPr/>
          <p:nvPr/>
        </p:nvPicPr>
        <p:blipFill>
          <a:blip r:embed="rId1"/>
          <a:stretch/>
        </p:blipFill>
        <p:spPr>
          <a:xfrm rot="903600">
            <a:off x="5128920" y="2920680"/>
            <a:ext cx="2328840" cy="1917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:\DCIM\100CANON\IMG_0037.JPG"/>
          <p:cNvPicPr/>
          <p:nvPr/>
        </p:nvPicPr>
        <p:blipFill>
          <a:blip r:embed="rId2"/>
          <a:stretch/>
        </p:blipFill>
        <p:spPr>
          <a:xfrm rot="20434800">
            <a:off x="611280" y="2997000"/>
            <a:ext cx="2233440" cy="185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:\DCIM\100CANON\IMG_0041.JPG"/>
          <p:cNvPicPr/>
          <p:nvPr/>
        </p:nvPicPr>
        <p:blipFill>
          <a:blip r:embed="rId3"/>
          <a:stretch/>
        </p:blipFill>
        <p:spPr>
          <a:xfrm>
            <a:off x="2916360" y="2708280"/>
            <a:ext cx="2089080" cy="2521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:\DCIM\100CANON\IMG_0047.JPG"/>
          <p:cNvPicPr/>
          <p:nvPr/>
        </p:nvPicPr>
        <p:blipFill>
          <a:blip r:embed="rId4"/>
          <a:stretch/>
        </p:blipFill>
        <p:spPr>
          <a:xfrm rot="853800">
            <a:off x="1258560" y="4581360"/>
            <a:ext cx="2220840" cy="1845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Учебники"/>
          <p:cNvPicPr/>
          <p:nvPr/>
        </p:nvPicPr>
        <p:blipFill>
          <a:blip r:embed="rId5"/>
          <a:stretch/>
        </p:blipFill>
        <p:spPr>
          <a:xfrm rot="21107400">
            <a:off x="4216320" y="4650840"/>
            <a:ext cx="2374920" cy="18464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1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78920" y="2349360"/>
            <a:ext cx="4040280" cy="64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Наглядный материа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634920" y="6202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2f1311"/>
                </a:solidFill>
                <a:latin typeface="Arial"/>
              </a:rPr>
              <a:t>Стрелковый тир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281" name="Picture 2" descr="H:\DCIM\100CANON\IMG_0037.JPG"/>
          <p:cNvPicPr/>
          <p:nvPr/>
        </p:nvPicPr>
        <p:blipFill>
          <a:blip r:embed="rId1"/>
          <a:stretch/>
        </p:blipFill>
        <p:spPr>
          <a:xfrm>
            <a:off x="250920" y="3357720"/>
            <a:ext cx="3625920" cy="30114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5" descr="H:\DCIM\100CANON\IMG_0049.JPG"/>
          <p:cNvPicPr/>
          <p:nvPr/>
        </p:nvPicPr>
        <p:blipFill>
          <a:blip r:embed="rId2"/>
          <a:stretch/>
        </p:blipFill>
        <p:spPr>
          <a:xfrm>
            <a:off x="4500720" y="1557360"/>
            <a:ext cx="2663640" cy="410364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7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H:\DCIM\100CANON\IMG_0038.JPG"/>
          <p:cNvPicPr/>
          <p:nvPr/>
        </p:nvPicPr>
        <p:blipFill>
          <a:blip r:embed="rId1"/>
          <a:stretch/>
        </p:blipFill>
        <p:spPr>
          <a:xfrm>
            <a:off x="250920" y="234936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" descr="H:\DCIM\100CANON\IMG_0039.JPG"/>
          <p:cNvPicPr/>
          <p:nvPr/>
        </p:nvPicPr>
        <p:blipFill>
          <a:blip r:embed="rId2"/>
          <a:stretch/>
        </p:blipFill>
        <p:spPr>
          <a:xfrm>
            <a:off x="3995640" y="3213000"/>
            <a:ext cx="3624480" cy="3009960"/>
          </a:xfrm>
          <a:prstGeom prst="rect">
            <a:avLst/>
          </a:prstGeom>
          <a:ln w="0">
            <a:noFill/>
          </a:ln>
        </p:spPr>
      </p:pic>
      <p:sp>
        <p:nvSpPr>
          <p:cNvPr id="28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H:\DCIM\100CANON\IMG_0040.JPG"/>
          <p:cNvPicPr/>
          <p:nvPr/>
        </p:nvPicPr>
        <p:blipFill>
          <a:blip r:embed="rId1"/>
          <a:stretch/>
        </p:blipFill>
        <p:spPr>
          <a:xfrm>
            <a:off x="250920" y="28526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" descr="H:\DCIM\100CANON\IMG_0041.JPG"/>
          <p:cNvPicPr/>
          <p:nvPr/>
        </p:nvPicPr>
        <p:blipFill>
          <a:blip r:embed="rId2"/>
          <a:stretch/>
        </p:blipFill>
        <p:spPr>
          <a:xfrm>
            <a:off x="4356000" y="2060640"/>
            <a:ext cx="3046680" cy="4497480"/>
          </a:xfrm>
          <a:prstGeom prst="rect">
            <a:avLst/>
          </a:prstGeom>
          <a:ln w="0">
            <a:noFill/>
          </a:ln>
        </p:spPr>
      </p:pic>
      <p:sp>
        <p:nvSpPr>
          <p:cNvPr id="290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H:\DCIM\100CANON\IMG_0042.JPG"/>
          <p:cNvPicPr/>
          <p:nvPr/>
        </p:nvPicPr>
        <p:blipFill>
          <a:blip r:embed="rId1"/>
          <a:stretch/>
        </p:blipFill>
        <p:spPr>
          <a:xfrm>
            <a:off x="395280" y="2060640"/>
            <a:ext cx="3168720" cy="44974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" descr="H:\DCIM\100CANON\IMG_0043.JPG"/>
          <p:cNvPicPr/>
          <p:nvPr/>
        </p:nvPicPr>
        <p:blipFill>
          <a:blip r:embed="rId2"/>
          <a:stretch/>
        </p:blipFill>
        <p:spPr>
          <a:xfrm>
            <a:off x="4211640" y="1989000"/>
            <a:ext cx="3191040" cy="4497480"/>
          </a:xfrm>
          <a:prstGeom prst="rect">
            <a:avLst/>
          </a:prstGeom>
          <a:ln w="0">
            <a:noFill/>
          </a:ln>
        </p:spPr>
      </p:pic>
      <p:sp>
        <p:nvSpPr>
          <p:cNvPr id="294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Приборы   химической разведки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Edwardian Script ITC"/>
              </a:rPr>
              <a:t>Общий   вид   кабинета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2" name="Picture 2" descr="H:\DCIM\100CANON\IMG_0047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H:\DCIM\100CANON\IMG_0048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Picture 2" descr="H:\DCIM\100CANON\IMG_0001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" descr="H:\DCIM\100CANON\IMG_0002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:\DCIM\100CANON\IMG_0003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H:\DCIM\100CANON\IMG_0004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1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H:\DCIM\100CANON\IMG_0005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" descr="H:\DCIM\100CANON\IMG_0006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5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:\DCIM\100CANON\IMG_0007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CIM\100CANON\IMG_0008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19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:\DCIM\100CANON\IMG_0009.JPG"/>
          <p:cNvPicPr/>
          <p:nvPr/>
        </p:nvPicPr>
        <p:blipFill>
          <a:blip r:embed="rId1"/>
          <a:stretch/>
        </p:blipFill>
        <p:spPr>
          <a:xfrm>
            <a:off x="263520" y="2341440"/>
            <a:ext cx="3624120" cy="30099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" descr="H:\DCIM\100CANON\IMG_0010.JPG"/>
          <p:cNvPicPr/>
          <p:nvPr/>
        </p:nvPicPr>
        <p:blipFill>
          <a:blip r:embed="rId2"/>
          <a:stretch/>
        </p:blipFill>
        <p:spPr>
          <a:xfrm>
            <a:off x="4025880" y="2341440"/>
            <a:ext cx="3624120" cy="3009960"/>
          </a:xfrm>
          <a:prstGeom prst="rect">
            <a:avLst/>
          </a:prstGeom>
          <a:ln w="0">
            <a:noFill/>
          </a:ln>
        </p:spPr>
      </p:pic>
      <p:sp>
        <p:nvSpPr>
          <p:cNvPr id="223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Rectangle 6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:\DCIM\100CANON\IMG_0011.JPG"/>
          <p:cNvPicPr/>
          <p:nvPr/>
        </p:nvPicPr>
        <p:blipFill>
          <a:blip r:embed="rId1"/>
          <a:stretch/>
        </p:blipFill>
        <p:spPr>
          <a:xfrm>
            <a:off x="1042920" y="1773360"/>
            <a:ext cx="5977080" cy="4497120"/>
          </a:xfrm>
          <a:prstGeom prst="rect">
            <a:avLst/>
          </a:prstGeom>
          <a:ln w="0">
            <a:noFill/>
          </a:ln>
        </p:spPr>
      </p:pic>
      <p:sp>
        <p:nvSpPr>
          <p:cNvPr id="226" name="Заголовок 1"/>
          <p:cNvSpPr/>
          <p:nvPr/>
        </p:nvSpPr>
        <p:spPr>
          <a:xfrm>
            <a:off x="179280" y="54936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7d47d"/>
                </a:solidFill>
                <a:latin typeface="Blackadder ITC"/>
              </a:rPr>
              <a:t>Наглядное     пособие</a:t>
            </a:r>
            <a:endParaRPr b="0" lang="en-US" sz="4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7" name="Rectangle 5"/>
          <p:cNvSpPr/>
          <p:nvPr/>
        </p:nvSpPr>
        <p:spPr>
          <a:xfrm>
            <a:off x="7885080" y="5805360"/>
            <a:ext cx="1258920" cy="1052640"/>
          </a:xfrm>
          <a:prstGeom prst="rect">
            <a:avLst/>
          </a:prstGeom>
          <a:solidFill>
            <a:srgbClr val="ff9900">
              <a:alpha val="30000"/>
            </a:srgbClr>
          </a:solidFill>
          <a:ln w="63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f4c61"/>
                </a:solidFill>
                <a:latin typeface="Times New Roman"/>
              </a:rPr>
              <a:t>МОУ СОШ №78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ОБЖ</dc:creator>
  <dc:description/>
  <dc:language>en-US</dc:language>
  <cp:lastModifiedBy>Пользователь</cp:lastModifiedBy>
  <dcterms:modified xsi:type="dcterms:W3CDTF">2018-08-06T18:28:23Z</dcterms:modified>
  <cp:revision>12</cp:revision>
  <dc:subject/>
  <dc:title>Наглядное пособие</dc:title>
</cp:coreProperties>
</file>