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9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79976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115-7FDA-4122-A161-40B5A7A0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ED0-77CB-4726-800B-3507450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53B-1B2D-4C1A-98FC-8D672737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7EB-D5C6-4298-976B-189E9E24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432-ABB2-4B6E-911A-4C3A296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28F-3223-4209-8C6D-8D536189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2E2-5F2C-4D5B-91E1-7DF49DA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7D2-9A40-47B9-8FE1-7783CEE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03120"/>
            <a:ext cx="9721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243-EB92-46D2-AD34-A039E86B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C4F-E4E1-448A-A6CD-EA8AAC1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361-B4D8-434C-82B7-EB16B47D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423-123A-4B77-93CF-3B06A39B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51040" indent="-3272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1112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3528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700884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7008840"/>
            <a:ext cx="34192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7008840"/>
            <a:ext cx="252072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3D15BB0C-C4A0-4693-8BA1-AB91B5F14727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884160" y="96840"/>
            <a:ext cx="9850680" cy="10256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438200" y="2292480"/>
            <a:ext cx="77662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1-3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1-4.jpg"/>
          <p:cNvPicPr/>
          <p:nvPr/>
        </p:nvPicPr>
        <p:blipFill>
          <a:blip r:embed="rId1"/>
          <a:stretch/>
        </p:blipFill>
        <p:spPr>
          <a:xfrm>
            <a:off x="28440" y="0"/>
            <a:ext cx="110887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1-5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7996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-6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100080" y="0"/>
            <a:ext cx="1079820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2-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14400"/>
            <a:ext cx="10801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2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14400"/>
            <a:ext cx="10801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-84240" y="0"/>
            <a:ext cx="109141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4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14480" y="0"/>
            <a:ext cx="10501200" cy="74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5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-15840"/>
            <a:ext cx="10801440" cy="75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6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3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3" descr=""/>
          <p:cNvPicPr/>
          <p:nvPr/>
        </p:nvPicPr>
        <p:blipFill>
          <a:blip r:embed="rId1"/>
          <a:stretch/>
        </p:blipFill>
        <p:spPr>
          <a:xfrm>
            <a:off x="822240" y="444600"/>
            <a:ext cx="998532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Лариса\Pictures\images (16).jpg"/>
          <p:cNvPicPr/>
          <p:nvPr/>
        </p:nvPicPr>
        <p:blipFill>
          <a:blip r:embed="rId2"/>
          <a:stretch/>
        </p:blipFill>
        <p:spPr>
          <a:xfrm>
            <a:off x="2087640" y="1908000"/>
            <a:ext cx="6826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7-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7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7-3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0"/>
          <p:cNvSpPr/>
          <p:nvPr/>
        </p:nvSpPr>
        <p:spPr>
          <a:xfrm>
            <a:off x="3971880" y="17794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7" descr="E:\ЮИД\znaki\знаки7.gif"/>
          <p:cNvPicPr/>
          <p:nvPr/>
        </p:nvPicPr>
        <p:blipFill>
          <a:blip r:embed="rId1"/>
          <a:stretch/>
        </p:blipFill>
        <p:spPr>
          <a:xfrm>
            <a:off x="328680" y="493560"/>
            <a:ext cx="6281640" cy="65026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9" descr=""/>
          <p:cNvPicPr/>
          <p:nvPr/>
        </p:nvPicPr>
        <p:blipFill>
          <a:blip r:embed="rId2"/>
          <a:stretch/>
        </p:blipFill>
        <p:spPr>
          <a:xfrm>
            <a:off x="4943520" y="658800"/>
            <a:ext cx="63896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698400" y="938160"/>
            <a:ext cx="94935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дя на улицу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долж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 передвигать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 тротуару или обочин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4829040" y="4495680"/>
          <a:ext cx="1357560" cy="22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9040" y="4495680"/>
                    <a:ext cx="135756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257480" y="779400"/>
            <a:ext cx="8643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проезжую часть дороги юный пешеход  долж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а разрешающий (зелёный) сигнал светофор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шеходному перех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перекрёстк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"/>
          <p:cNvGraphicFramePr/>
          <p:nvPr/>
        </p:nvGraphicFramePr>
        <p:xfrm>
          <a:off x="4971960" y="5259240"/>
          <a:ext cx="112392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1960" y="5259240"/>
                    <a:ext cx="11239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042920" y="636480"/>
            <a:ext cx="86439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не должен выходить или выбегать на проезжую ча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стоящего транспорта, деревьев, не осмотрев предварительно улиц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4829040" y="5180040"/>
          <a:ext cx="121464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9040" y="5180040"/>
                    <a:ext cx="12146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493280" y="513000"/>
            <a:ext cx="784476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му пешех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егать проезжую ч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близко движущим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о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4757760" y="4416480"/>
          <a:ext cx="16430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7760" y="4416480"/>
                    <a:ext cx="16430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881360" y="938160"/>
            <a:ext cx="7191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должен соблюд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рави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4614840" y="4210200"/>
          <a:ext cx="171468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4840" y="4210200"/>
                    <a:ext cx="171468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"/>
          <p:cNvGraphicFramePr/>
          <p:nvPr/>
        </p:nvGraphicFramePr>
        <p:xfrm>
          <a:off x="9043920" y="4836960"/>
          <a:ext cx="150012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43920" y="4836960"/>
                    <a:ext cx="150012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4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8972640" y="351000"/>
          <a:ext cx="155232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72640" y="351000"/>
                    <a:ext cx="155232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257040" y="4924440"/>
          <a:ext cx="1501920" cy="24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040" y="4924440"/>
                    <a:ext cx="150192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8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185760" y="208080"/>
          <a:ext cx="1643040" cy="27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760" y="208080"/>
                    <a:ext cx="16430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TextBox 10" descr=""/>
          <p:cNvPicPr/>
          <p:nvPr/>
        </p:nvPicPr>
        <p:blipFill>
          <a:blip r:embed="rId9"/>
          <a:stretch/>
        </p:blipFill>
        <p:spPr>
          <a:xfrm>
            <a:off x="1871640" y="1994040"/>
            <a:ext cx="70344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Лариса\Pictures\images (19).jpg"/>
          <p:cNvPicPr/>
          <p:nvPr/>
        </p:nvPicPr>
        <p:blipFill>
          <a:blip r:embed="rId1"/>
          <a:stretch/>
        </p:blipFill>
        <p:spPr>
          <a:xfrm>
            <a:off x="4032360" y="0"/>
            <a:ext cx="5657760" cy="316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Лариса\Pictures\images (18).jpg"/>
          <p:cNvPicPr/>
          <p:nvPr/>
        </p:nvPicPr>
        <p:blipFill>
          <a:blip r:embed="rId2"/>
          <a:stretch/>
        </p:blipFill>
        <p:spPr>
          <a:xfrm>
            <a:off x="216000" y="2556000"/>
            <a:ext cx="4995720" cy="331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Лариса\Pictures\images (17).jpg"/>
          <p:cNvPicPr/>
          <p:nvPr/>
        </p:nvPicPr>
        <p:blipFill>
          <a:blip r:embed="rId3"/>
          <a:stretch/>
        </p:blipFill>
        <p:spPr>
          <a:xfrm>
            <a:off x="5184720" y="3852720"/>
            <a:ext cx="48913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16000" y="900000"/>
            <a:ext cx="770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жон Пик Найт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ециалист по железнодорожным семафо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Лариса\Pictures\images_6.jpg"/>
          <p:cNvPicPr/>
          <p:nvPr/>
        </p:nvPicPr>
        <p:blipFill>
          <a:blip r:embed="rId1"/>
          <a:stretch/>
        </p:blipFill>
        <p:spPr>
          <a:xfrm>
            <a:off x="6121440" y="324000"/>
            <a:ext cx="395928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Users\Лариса\Pictures\images (24).jpg"/>
          <p:cNvPicPr/>
          <p:nvPr/>
        </p:nvPicPr>
        <p:blipFill>
          <a:blip r:embed="rId1"/>
          <a:stretch/>
        </p:blipFill>
        <p:spPr>
          <a:xfrm>
            <a:off x="431640" y="252360"/>
            <a:ext cx="4746960" cy="489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Лариса\Pictures\В-Кливленде-США-установлены-первые-в-мире-электрические-светоф….jpg"/>
          <p:cNvPicPr/>
          <p:nvPr/>
        </p:nvPicPr>
        <p:blipFill>
          <a:blip r:embed="rId2"/>
          <a:stretch/>
        </p:blipFill>
        <p:spPr>
          <a:xfrm>
            <a:off x="5616720" y="539640"/>
            <a:ext cx="476388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216000" y="9000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360360" y="47520"/>
            <a:ext cx="1044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В 1920 году появился трехцветный светофор с использованием желтого сигнала. Его изобрел Уильям Поттс и Джон Ф. Ха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первые светофоры трехцветные в америке фото"/>
          <p:cNvPicPr/>
          <p:nvPr/>
        </p:nvPicPr>
        <p:blipFill>
          <a:blip r:embed="rId1"/>
          <a:stretch/>
        </p:blipFill>
        <p:spPr>
          <a:xfrm>
            <a:off x="2160720" y="2682720"/>
            <a:ext cx="633564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216000" y="9000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792000" y="620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овременные светоф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Лариса\Pictures\images (23).jpg"/>
          <p:cNvPicPr/>
          <p:nvPr/>
        </p:nvPicPr>
        <p:blipFill>
          <a:blip r:embed="rId1"/>
          <a:stretch/>
        </p:blipFill>
        <p:spPr>
          <a:xfrm>
            <a:off x="216000" y="1547640"/>
            <a:ext cx="5689440" cy="426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Лариса\Pictures\images (22).jpg"/>
          <p:cNvPicPr/>
          <p:nvPr/>
        </p:nvPicPr>
        <p:blipFill>
          <a:blip r:embed="rId2"/>
          <a:stretch/>
        </p:blipFill>
        <p:spPr>
          <a:xfrm>
            <a:off x="5184720" y="3564000"/>
            <a:ext cx="4842000" cy="32288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/>
          <p:cNvSpPr/>
          <p:nvPr/>
        </p:nvSpPr>
        <p:spPr>
          <a:xfrm>
            <a:off x="166680" y="-160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1-1.jpg"/>
          <p:cNvPicPr/>
          <p:nvPr/>
        </p:nvPicPr>
        <p:blipFill>
          <a:blip r:embed="rId1"/>
          <a:stretch/>
        </p:blipFill>
        <p:spPr>
          <a:xfrm>
            <a:off x="-1440" y="136440"/>
            <a:ext cx="10688400" cy="72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12600" y="0"/>
            <a:ext cx="108266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6:22:23Z</dcterms:created>
  <dc:creator>Admin</dc:creator>
  <dc:description/>
  <dc:language>en-US</dc:language>
  <cp:lastModifiedBy>Лариса</cp:lastModifiedBy>
  <dcterms:modified xsi:type="dcterms:W3CDTF">2018-03-21T15:57:44Z</dcterms:modified>
  <cp:revision>17</cp:revision>
  <dc:subject/>
  <dc:title>Слайд 0</dc:title>
</cp:coreProperties>
</file>