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9.jpeg" ContentType="image/jpeg"/>
  <Override PartName="/ppt/media/image31.wmf" ContentType="image/x-wmf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79976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E34-900D-46BB-BA42-7B80EEEF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37076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D98-A503-4977-9C8F-8105DFC7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580-A5C9-44F4-90EE-E124AC03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835-A3A3-4EB3-B3F4-D1D45630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497-5FDA-4424-AEC1-D218573F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463-774C-4B7A-857E-5AC57539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305-C8E8-4721-9B6A-9E5980AA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E38-23FC-4AE3-8455-D0A71481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03120"/>
            <a:ext cx="9721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5E0-631C-4E4A-A7D3-0B4F41F3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074-8DC8-41DC-B041-B12DA22C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22B-649F-42B4-80FD-D9ACF2C4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958-BC22-4CED-8738-9D6249EF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92040" indent="-392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51040" indent="-3272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11120" indent="-261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35280" indent="-262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700884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7008840"/>
            <a:ext cx="341928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7008840"/>
            <a:ext cx="252072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fld id="{894E7C1F-9423-4079-9930-19A50049C530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884160" y="96840"/>
            <a:ext cx="9850680" cy="10256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1438200" y="2292480"/>
            <a:ext cx="776628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1-3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8014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1-4.jpg"/>
          <p:cNvPicPr/>
          <p:nvPr/>
        </p:nvPicPr>
        <p:blipFill>
          <a:blip r:embed="rId1"/>
          <a:stretch/>
        </p:blipFill>
        <p:spPr>
          <a:xfrm>
            <a:off x="28440" y="0"/>
            <a:ext cx="1108872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1-5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7996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1-6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-100080" y="0"/>
            <a:ext cx="1079820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2-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14400"/>
            <a:ext cx="1080144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2-2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14400"/>
            <a:ext cx="1080144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3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-84240" y="0"/>
            <a:ext cx="1091412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4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14480" y="0"/>
            <a:ext cx="10501200" cy="74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5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-15840"/>
            <a:ext cx="10801440" cy="75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6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801440" cy="73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3" descr=""/>
          <p:cNvPicPr/>
          <p:nvPr/>
        </p:nvPicPr>
        <p:blipFill>
          <a:blip r:embed="rId1"/>
          <a:stretch/>
        </p:blipFill>
        <p:spPr>
          <a:xfrm>
            <a:off x="822240" y="444600"/>
            <a:ext cx="9985320" cy="750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Лариса\Pictures\images (16).jpg"/>
          <p:cNvPicPr/>
          <p:nvPr/>
        </p:nvPicPr>
        <p:blipFill>
          <a:blip r:embed="rId2"/>
          <a:stretch/>
        </p:blipFill>
        <p:spPr>
          <a:xfrm>
            <a:off x="2087640" y="1908000"/>
            <a:ext cx="68263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7-1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108014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7-2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8014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7-3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801440" cy="75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0"/>
          <p:cNvSpPr/>
          <p:nvPr/>
        </p:nvSpPr>
        <p:spPr>
          <a:xfrm>
            <a:off x="3971880" y="17794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7" descr="E:\ЮИД\znaki\знаки7.gif"/>
          <p:cNvPicPr/>
          <p:nvPr/>
        </p:nvPicPr>
        <p:blipFill>
          <a:blip r:embed="rId1"/>
          <a:stretch/>
        </p:blipFill>
        <p:spPr>
          <a:xfrm>
            <a:off x="328680" y="493560"/>
            <a:ext cx="6281640" cy="65026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79" descr=""/>
          <p:cNvPicPr/>
          <p:nvPr/>
        </p:nvPicPr>
        <p:blipFill>
          <a:blip r:embed="rId2"/>
          <a:stretch/>
        </p:blipFill>
        <p:spPr>
          <a:xfrm>
            <a:off x="4943520" y="658800"/>
            <a:ext cx="63896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698400" y="938160"/>
            <a:ext cx="949356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йдя на улицу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пешеход долж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о передвигать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по тротуару или обочин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4829040" y="4495680"/>
          <a:ext cx="1357560" cy="22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9040" y="4495680"/>
                    <a:ext cx="1357560" cy="22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257480" y="779400"/>
            <a:ext cx="8643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проезжую часть дороги юный пешеход  долже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на разрешающий (зелёный) сигнал светофор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шеходному переход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на перекрёстках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1"/>
          <p:cNvGraphicFramePr/>
          <p:nvPr/>
        </p:nvGraphicFramePr>
        <p:xfrm>
          <a:off x="4971960" y="5259240"/>
          <a:ext cx="112392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71960" y="5259240"/>
                    <a:ext cx="112392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042920" y="636480"/>
            <a:ext cx="86439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пешеход не должен выходить или выбегать на проезжую час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стоящего транспорта, деревьев, не осмотрев предварительно улиц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1"/>
          <p:cNvGraphicFramePr/>
          <p:nvPr/>
        </p:nvGraphicFramePr>
        <p:xfrm>
          <a:off x="4829040" y="5180040"/>
          <a:ext cx="121464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9040" y="5180040"/>
                    <a:ext cx="12146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493280" y="513000"/>
            <a:ext cx="784476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му пешеход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бегать проезжую ч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близко движущим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о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2"/>
          <p:cNvGraphicFramePr/>
          <p:nvPr/>
        </p:nvGraphicFramePr>
        <p:xfrm>
          <a:off x="4757760" y="4416480"/>
          <a:ext cx="164304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7760" y="4416480"/>
                    <a:ext cx="16430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881360" y="938160"/>
            <a:ext cx="71910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пешехо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должен соблюд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прави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ого движени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2"/>
          <p:cNvGraphicFramePr/>
          <p:nvPr/>
        </p:nvGraphicFramePr>
        <p:xfrm>
          <a:off x="4614840" y="4210200"/>
          <a:ext cx="1714680" cy="28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4840" y="4210200"/>
                    <a:ext cx="171468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1"/>
          <p:cNvGraphicFramePr/>
          <p:nvPr/>
        </p:nvGraphicFramePr>
        <p:xfrm>
          <a:off x="9043920" y="4836960"/>
          <a:ext cx="1500120" cy="24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43920" y="4836960"/>
                    <a:ext cx="150012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4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8972640" y="351000"/>
          <a:ext cx="155232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72640" y="351000"/>
                    <a:ext cx="155232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257040" y="4924440"/>
          <a:ext cx="1501920" cy="24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040" y="4924440"/>
                    <a:ext cx="150192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8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185760" y="208080"/>
          <a:ext cx="1643040" cy="272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760" y="208080"/>
                    <a:ext cx="1643040" cy="27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TextBox 10" descr=""/>
          <p:cNvPicPr/>
          <p:nvPr/>
        </p:nvPicPr>
        <p:blipFill>
          <a:blip r:embed="rId9"/>
          <a:stretch/>
        </p:blipFill>
        <p:spPr>
          <a:xfrm>
            <a:off x="1871640" y="1994040"/>
            <a:ext cx="70344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Лариса\Pictures\images (19).jpg"/>
          <p:cNvPicPr/>
          <p:nvPr/>
        </p:nvPicPr>
        <p:blipFill>
          <a:blip r:embed="rId1"/>
          <a:stretch/>
        </p:blipFill>
        <p:spPr>
          <a:xfrm>
            <a:off x="4032360" y="0"/>
            <a:ext cx="5657760" cy="316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Лариса\Pictures\images (18).jpg"/>
          <p:cNvPicPr/>
          <p:nvPr/>
        </p:nvPicPr>
        <p:blipFill>
          <a:blip r:embed="rId2"/>
          <a:stretch/>
        </p:blipFill>
        <p:spPr>
          <a:xfrm>
            <a:off x="216000" y="2556000"/>
            <a:ext cx="4995720" cy="331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Лариса\Pictures\images (17).jpg"/>
          <p:cNvPicPr/>
          <p:nvPr/>
        </p:nvPicPr>
        <p:blipFill>
          <a:blip r:embed="rId3"/>
          <a:stretch/>
        </p:blipFill>
        <p:spPr>
          <a:xfrm>
            <a:off x="5184720" y="3852720"/>
            <a:ext cx="48913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216000" y="900000"/>
            <a:ext cx="7705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жон Пик Найт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ециалист по железнодорожным семафор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Лариса\Pictures\images_6.jpg"/>
          <p:cNvPicPr/>
          <p:nvPr/>
        </p:nvPicPr>
        <p:blipFill>
          <a:blip r:embed="rId1"/>
          <a:stretch/>
        </p:blipFill>
        <p:spPr>
          <a:xfrm>
            <a:off x="6121440" y="324000"/>
            <a:ext cx="395928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:\Users\Лариса\Pictures\images (24).jpg"/>
          <p:cNvPicPr/>
          <p:nvPr/>
        </p:nvPicPr>
        <p:blipFill>
          <a:blip r:embed="rId1"/>
          <a:stretch/>
        </p:blipFill>
        <p:spPr>
          <a:xfrm>
            <a:off x="431640" y="252360"/>
            <a:ext cx="4746960" cy="489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Лариса\Pictures\В-Кливленде-США-установлены-первые-в-мире-электрические-светоф….jpg"/>
          <p:cNvPicPr/>
          <p:nvPr/>
        </p:nvPicPr>
        <p:blipFill>
          <a:blip r:embed="rId2"/>
          <a:stretch/>
        </p:blipFill>
        <p:spPr>
          <a:xfrm>
            <a:off x="5616720" y="539640"/>
            <a:ext cx="476388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"/>
          <p:cNvSpPr/>
          <p:nvPr/>
        </p:nvSpPr>
        <p:spPr>
          <a:xfrm>
            <a:off x="216000" y="90000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360360" y="47520"/>
            <a:ext cx="1044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В 1920 году появился трехцветный светофор с использованием желтого сигнала. Его изобрел Уильям Поттс и Джон Ф. Харе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первые светофоры трехцветные в америке фото"/>
          <p:cNvPicPr/>
          <p:nvPr/>
        </p:nvPicPr>
        <p:blipFill>
          <a:blip r:embed="rId1"/>
          <a:stretch/>
        </p:blipFill>
        <p:spPr>
          <a:xfrm>
            <a:off x="2160720" y="2682720"/>
            <a:ext cx="6335640" cy="47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216000" y="90000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792000" y="620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овременные светоф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Лариса\Pictures\images (23).jpg"/>
          <p:cNvPicPr/>
          <p:nvPr/>
        </p:nvPicPr>
        <p:blipFill>
          <a:blip r:embed="rId1"/>
          <a:stretch/>
        </p:blipFill>
        <p:spPr>
          <a:xfrm>
            <a:off x="216000" y="1547640"/>
            <a:ext cx="5689440" cy="426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Лариса\Pictures\images (22).jpg"/>
          <p:cNvPicPr/>
          <p:nvPr/>
        </p:nvPicPr>
        <p:blipFill>
          <a:blip r:embed="rId2"/>
          <a:stretch/>
        </p:blipFill>
        <p:spPr>
          <a:xfrm>
            <a:off x="5184720" y="3564000"/>
            <a:ext cx="4842000" cy="32288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5"/>
          <p:cNvSpPr/>
          <p:nvPr/>
        </p:nvSpPr>
        <p:spPr>
          <a:xfrm>
            <a:off x="166680" y="-160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1-1.jpg"/>
          <p:cNvPicPr/>
          <p:nvPr/>
        </p:nvPicPr>
        <p:blipFill>
          <a:blip r:embed="rId1"/>
          <a:stretch/>
        </p:blipFill>
        <p:spPr>
          <a:xfrm>
            <a:off x="-1440" y="136440"/>
            <a:ext cx="10688400" cy="72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1-2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-12600" y="0"/>
            <a:ext cx="108266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6:22:23Z</dcterms:created>
  <dc:creator>Admin</dc:creator>
  <dc:description/>
  <dc:language>en-US</dc:language>
  <cp:lastModifiedBy>Лариса</cp:lastModifiedBy>
  <dcterms:modified xsi:type="dcterms:W3CDTF">2018-03-21T15:57:44Z</dcterms:modified>
  <cp:revision>17</cp:revision>
  <dc:subject/>
  <dc:title>Слайд 0</dc:title>
</cp:coreProperties>
</file>