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FD3-82BA-44FE-9D43-AC0145139E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CBF2-1875-40FE-9763-8BC2EED2E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447-B33B-4BA3-996E-1863456B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B6B-9D84-4B1A-B6B0-635EF06B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F7F-FB40-4773-9A3E-F5F270C3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478-9063-4E18-A42F-33F9BE8B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A54-4E49-4548-BDBF-6EF81C6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3E4-FE7D-477D-AD18-1E2F93AF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616-D066-47F8-BB4D-3F5B5E84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731-667B-4C7D-8B8D-51560685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D39-8AB1-4BAC-BA7F-F02CB296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641-E1E9-42C5-B585-AC2B7869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63E-F55C-4873-88B4-74FD13F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D09-8E6B-42BF-B35D-EDE8977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F6CA-0330-43CA-B153-87DABCD4D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55700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00"/>
                </a:solidFill>
                <a:latin typeface="Monotype Corsiva"/>
              </a:rPr>
              <a:t>Здравствуй, школа!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36200" y="692280"/>
            <a:ext cx="78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города Тулу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25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тематическое представ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71680" y="200016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считать от 1 до 10 и обратно, выполнять счётные операции в пределах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понятия «больше – меньше – поровн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простые геометрические фиг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простые арифметические зада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User\Мои документы\картинки\CLIPART3\J0233964.WMF"/>
          <p:cNvPicPr/>
          <p:nvPr/>
        </p:nvPicPr>
        <p:blipFill>
          <a:blip r:embed="rId1"/>
          <a:stretch/>
        </p:blipFill>
        <p:spPr>
          <a:xfrm>
            <a:off x="6858000" y="357120"/>
            <a:ext cx="162252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42960" y="285840"/>
            <a:ext cx="77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упная мотори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642960" y="1214280"/>
            <a:ext cx="77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 и твёрдо ходить, бегать, прыгать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ловить и кидать мяч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ёгивать пуговиц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ножницами и кле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User\Мои документы\картинки\CLIPART3\J0233047.WMF"/>
          <p:cNvPicPr/>
          <p:nvPr/>
        </p:nvPicPr>
        <p:blipFill>
          <a:blip r:embed="rId1"/>
          <a:stretch/>
        </p:blipFill>
        <p:spPr>
          <a:xfrm>
            <a:off x="7143840" y="1852560"/>
            <a:ext cx="1585800" cy="13734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лкая мотори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71680" y="1714680"/>
            <a:ext cx="778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ямые, не дрожащие лин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деть» строку и писать в не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клеточки и точно вести по ним рисуно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C:\Documents and Settings\User\Мои документы\картинки\CLIPART3\J0233951.WMF"/>
          <p:cNvPicPr/>
          <p:nvPr/>
        </p:nvPicPr>
        <p:blipFill>
          <a:blip r:embed="rId1"/>
          <a:stretch/>
        </p:blipFill>
        <p:spPr>
          <a:xfrm>
            <a:off x="7000920" y="369720"/>
            <a:ext cx="160812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42960" y="642960"/>
            <a:ext cx="7786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выки самообслуж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71680" y="1714680"/>
            <a:ext cx="7786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деться – раздеть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санитарной комнат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сать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 урок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язывать шнур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опросить помощи взрослого в случае необходим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собенности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Обучение в первом класс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существляется с соблюдением следующих дополнительных требований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- учебные занятия проводятся по 5-дневной учебной неделе и только в первую смен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- использование «ступенчатого» режима обучения в первом полугодии (в сентябре, октябре – по 3 урока в день по 35 минут кажды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собенности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34960" y="114264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8a54"/>
                </a:solidFill>
                <a:latin typeface="Calibri"/>
              </a:rPr>
              <a:t>В программу первого класса входят восемь предметных областей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Русский язы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Литературное чт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Матема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Физическая культу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Технолог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спользуемый УМК- 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(УМК) – это совокупность учебно-методических материалов и программно-технических средств, способствующих эффективному освоению учащимися учебного материала, входящего в программу предметного 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48520" cy="5360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rcRect l="0" t="0" r="0" b="23635"/>
          <a:stretch/>
        </p:blipFill>
        <p:spPr>
          <a:xfrm>
            <a:off x="428760" y="855720"/>
            <a:ext cx="82864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rcRect l="4230" t="0" r="4230" b="0"/>
          <a:stretch/>
        </p:blipFill>
        <p:spPr>
          <a:xfrm>
            <a:off x="1301760" y="765000"/>
            <a:ext cx="6540480" cy="4903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http://www.herzenlib.ru/main/image/n20150904_106.jpg"/>
          <p:cNvPicPr/>
          <p:nvPr/>
        </p:nvPicPr>
        <p:blipFill>
          <a:blip r:embed="rId2"/>
          <a:stretch/>
        </p:blipFill>
        <p:spPr>
          <a:xfrm>
            <a:off x="611280" y="612720"/>
            <a:ext cx="7921440" cy="5559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1"/>
          <a:stretch/>
        </p:blipFill>
        <p:spPr>
          <a:xfrm>
            <a:off x="639720" y="858960"/>
            <a:ext cx="7791480" cy="394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:\My Documents\рисунки и фотграфии\school2180.png"/>
          <p:cNvPicPr/>
          <p:nvPr/>
        </p:nvPicPr>
        <p:blipFill>
          <a:blip r:embed="rId2"/>
          <a:stretch/>
        </p:blipFill>
        <p:spPr>
          <a:xfrm>
            <a:off x="3071880" y="3357720"/>
            <a:ext cx="3071880" cy="2836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1403280" y="291960"/>
            <a:ext cx="5892840" cy="5816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иметь представ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71680" y="1714680"/>
            <a:ext cx="778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народных праздник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руде людей в городе и сельской местност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ссказывать о своей семь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User\Мои документы\картинки\CLIPART3\J0232988.WMF"/>
          <p:cNvPicPr/>
          <p:nvPr/>
        </p:nvPicPr>
        <p:blipFill>
          <a:blip r:embed="rId1"/>
          <a:stretch/>
        </p:blipFill>
        <p:spPr>
          <a:xfrm>
            <a:off x="6929280" y="357120"/>
            <a:ext cx="158292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71680" y="1714680"/>
            <a:ext cx="778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значение понятий «вчера», «сегодня», «завтра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дни недели, их последовательность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называть месяцы г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User\Мои документы\картинки\CLIPART3\Новая папка (2)\J0232133.WMF"/>
          <p:cNvPicPr/>
          <p:nvPr/>
        </p:nvPicPr>
        <p:blipFill>
          <a:blip r:embed="rId1"/>
          <a:stretch/>
        </p:blipFill>
        <p:spPr>
          <a:xfrm>
            <a:off x="7000920" y="428760"/>
            <a:ext cx="1428840" cy="146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71680" y="1714680"/>
            <a:ext cx="778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едставление о сезонных изменениях в природе (зима, весна, лето, осень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состояние погоды: солнечно, пасмурно, ветрено, дождливо,  выпал сне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User\Мои документы\картинки\CLIPART3\J0232735.WMF"/>
          <p:cNvPicPr/>
          <p:nvPr/>
        </p:nvPicPr>
        <p:blipFill>
          <a:blip r:embed="rId1"/>
          <a:stretch/>
        </p:blipFill>
        <p:spPr>
          <a:xfrm>
            <a:off x="7215120" y="357120"/>
            <a:ext cx="11905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иметь представ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00040" y="1714680"/>
            <a:ext cx="8072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машних и диких живот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ерелетных и зимующих птиц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есных ягодах и гриб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вощах и фрукт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ревьях, кустарниках и цвет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3:57:38Z</dcterms:created>
  <dc:creator>user</dc:creator>
  <dc:description/>
  <dc:language>en-US</dc:language>
  <cp:lastModifiedBy>снежанна</cp:lastModifiedBy>
  <dcterms:modified xsi:type="dcterms:W3CDTF">2018-08-06T05:45:12Z</dcterms:modified>
  <cp:revision>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