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1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9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70E2-E0ED-458C-902F-8A80DBFEA8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C022-D1CC-4BFC-AF2D-33517198DF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FF4E-38C7-4331-B84B-D1D935F4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9924-CA9F-4E0E-B3DA-EB85B110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AFAC-5686-4AA2-9D36-DEC6A5BE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E0AD-AE3A-427C-99DA-CD539BAD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0A6D-6AE4-49B4-8808-931FF14F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4E24-0F62-405B-9DB7-04330987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A50B-E263-4ABD-9B69-6AB3CC29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5B62-DDF0-41DF-BA06-3004AE00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46A5-E649-4750-B36F-A7768061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9BFB-2C74-48B2-8CD6-542C4867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0E3D-B91C-491A-8F74-C1E0B12E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307A-4960-479E-B6CE-666C1C5B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0094-7084-4B8F-B214-80F40874CB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1557000"/>
            <a:ext cx="77770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000000"/>
                </a:solidFill>
                <a:latin typeface="Monotype Corsiva"/>
              </a:rPr>
              <a:t>Здравствуй, школа!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736200" y="692280"/>
            <a:ext cx="781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города Тулу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редняя общеобразовательная школа № 25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642960" y="285840"/>
            <a:ext cx="77868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атематическое представл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571680" y="200016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считать от 1 до 10 и обратно, выполнять счётные операции в пределах 1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 понятия «больше – меньше – поровну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 простые геометрические фигур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ть простые арифметические задач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Documents and Settings\User\Мои документы\картинки\CLIPART3\J0233964.WMF"/>
          <p:cNvPicPr/>
          <p:nvPr/>
        </p:nvPicPr>
        <p:blipFill>
          <a:blip r:embed="rId1"/>
          <a:stretch/>
        </p:blipFill>
        <p:spPr>
          <a:xfrm>
            <a:off x="6858000" y="357120"/>
            <a:ext cx="1622520" cy="16430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642960" y="285840"/>
            <a:ext cx="77868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рупная мотори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642960" y="1214280"/>
            <a:ext cx="77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 и твёрдо ходить, бегать, прыгать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но ловить и кидать мяч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ёгивать пуговицы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ься ножницами и клее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Documents and Settings\User\Мои документы\картинки\CLIPART3\J0233047.WMF"/>
          <p:cNvPicPr/>
          <p:nvPr/>
        </p:nvPicPr>
        <p:blipFill>
          <a:blip r:embed="rId1"/>
          <a:stretch/>
        </p:blipFill>
        <p:spPr>
          <a:xfrm>
            <a:off x="7143840" y="1852560"/>
            <a:ext cx="1585800" cy="13734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642960" y="285840"/>
            <a:ext cx="77868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елкая мотори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571680" y="1714680"/>
            <a:ext cx="7786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 прямые, не дрожащие линии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идеть» строку и писать в ней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ть клеточки и точно вести по ним рисунок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C:\Documents and Settings\User\Мои документы\картинки\CLIPART3\J0233951.WMF"/>
          <p:cNvPicPr/>
          <p:nvPr/>
        </p:nvPicPr>
        <p:blipFill>
          <a:blip r:embed="rId1"/>
          <a:stretch/>
        </p:blipFill>
        <p:spPr>
          <a:xfrm>
            <a:off x="7000920" y="369720"/>
            <a:ext cx="1608120" cy="15796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642960" y="642960"/>
            <a:ext cx="7786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выки самообслужи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571680" y="1714680"/>
            <a:ext cx="7786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одеться – раздетьс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ься санитарной комнато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есатьс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ься к урок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язывать шнурк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попросить помощи взрослого в случае необходим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Особенности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ff0000"/>
                </a:solidFill>
                <a:uFillTx/>
                <a:latin typeface="Calibri"/>
              </a:rPr>
              <a:t>Обучение в первом классе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осуществляется с соблюдением следующих дополнительных требований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- учебные занятия проводятся по 5-дневной учебной неделе и только в первую смену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- использование «ступенчатого» режима обучения в первом полугодии (в сентябре, октябре – по 3 урока в день по 35 минут кажды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Особенности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434960" y="1142640"/>
            <a:ext cx="7499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48a54"/>
                </a:solidFill>
                <a:latin typeface="Calibri"/>
              </a:rPr>
              <a:t>В программу первого класса входят восемь предметных областей </a:t>
            </a:r>
            <a:r>
              <a:rPr b="0" lang="ru-RU" sz="3200" spc="-1" strike="noStrike">
                <a:solidFill>
                  <a:srgbClr val="948a54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Русский язы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Литературное чте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Математи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Окружающий ми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Физическая культур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Изобразительное искус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Технолог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Музы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Используемый УМК-  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«Школа Росси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бно-методический комплект (УМК) – это совокупность учебно-методических материалов и программно-технических средств, способствующих эффективному освоению учащимися учебного материала, входящего в программу предметного 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Объект 3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148520" cy="53607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Объект 3" descr=""/>
          <p:cNvPicPr/>
          <p:nvPr/>
        </p:nvPicPr>
        <p:blipFill>
          <a:blip r:embed="rId1"/>
          <a:srcRect l="0" t="0" r="0" b="23635"/>
          <a:stretch/>
        </p:blipFill>
        <p:spPr>
          <a:xfrm>
            <a:off x="428760" y="855720"/>
            <a:ext cx="8286480" cy="4745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"/>
          <p:cNvPicPr/>
          <p:nvPr/>
        </p:nvPicPr>
        <p:blipFill>
          <a:blip r:embed="rId1"/>
          <a:srcRect l="4230" t="0" r="4230" b="0"/>
          <a:stretch/>
        </p:blipFill>
        <p:spPr>
          <a:xfrm>
            <a:off x="1301760" y="765000"/>
            <a:ext cx="6540480" cy="4903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4" descr="http://www.herzenlib.ru/main/image/n20150904_106.jpg"/>
          <p:cNvPicPr/>
          <p:nvPr/>
        </p:nvPicPr>
        <p:blipFill>
          <a:blip r:embed="rId2"/>
          <a:stretch/>
        </p:blipFill>
        <p:spPr>
          <a:xfrm>
            <a:off x="611280" y="612720"/>
            <a:ext cx="7921440" cy="55594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2" descr=""/>
          <p:cNvPicPr/>
          <p:nvPr/>
        </p:nvPicPr>
        <p:blipFill>
          <a:blip r:embed="rId1"/>
          <a:stretch/>
        </p:blipFill>
        <p:spPr>
          <a:xfrm>
            <a:off x="639720" y="858960"/>
            <a:ext cx="7791480" cy="3944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D:\My Documents\рисунки и фотграфии\school2180.png"/>
          <p:cNvPicPr/>
          <p:nvPr/>
        </p:nvPicPr>
        <p:blipFill>
          <a:blip r:embed="rId2"/>
          <a:stretch/>
        </p:blipFill>
        <p:spPr>
          <a:xfrm>
            <a:off x="3071880" y="3357720"/>
            <a:ext cx="3071880" cy="28368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1403280" y="291960"/>
            <a:ext cx="5892840" cy="5816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642960" y="285840"/>
            <a:ext cx="77868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ети должны иметь представл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571680" y="1714680"/>
            <a:ext cx="7786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сенародных праздниках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труде людей в городе и сельской местности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рассказывать о своей семь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C:\Documents and Settings\User\Мои документы\картинки\CLIPART3\J0232988.WMF"/>
          <p:cNvPicPr/>
          <p:nvPr/>
        </p:nvPicPr>
        <p:blipFill>
          <a:blip r:embed="rId1"/>
          <a:stretch/>
        </p:blipFill>
        <p:spPr>
          <a:xfrm>
            <a:off x="6929280" y="357120"/>
            <a:ext cx="1582920" cy="15717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642960" y="285840"/>
            <a:ext cx="77868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ети должны умет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571680" y="1714680"/>
            <a:ext cx="7786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ть значение понятий «вчера», «сегодня», «завтра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 дни недели, их последовательность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называть месяцы го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C:\Documents and Settings\User\Мои документы\картинки\CLIPART3\Новая папка (2)\J0232133.WMF"/>
          <p:cNvPicPr/>
          <p:nvPr/>
        </p:nvPicPr>
        <p:blipFill>
          <a:blip r:embed="rId1"/>
          <a:stretch/>
        </p:blipFill>
        <p:spPr>
          <a:xfrm>
            <a:off x="7000920" y="428760"/>
            <a:ext cx="1428840" cy="1466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571680" y="1714680"/>
            <a:ext cx="7786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ть представление о сезонных изменениях в природе (зима, весна, лето, осень)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ть состояние погоды: солнечно, пасмурно, ветрено, дождливо,  выпал сне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42960" y="285840"/>
            <a:ext cx="77868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ети должны умет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Documents and Settings\User\Мои документы\картинки\CLIPART3\J0232735.WMF"/>
          <p:cNvPicPr/>
          <p:nvPr/>
        </p:nvPicPr>
        <p:blipFill>
          <a:blip r:embed="rId1"/>
          <a:stretch/>
        </p:blipFill>
        <p:spPr>
          <a:xfrm>
            <a:off x="7215120" y="357120"/>
            <a:ext cx="119052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42960" y="285840"/>
            <a:ext cx="77868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ети должны иметь представл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500040" y="1714680"/>
            <a:ext cx="8072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домашних и диких животных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ерелетных и зимующих птицах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лесных ягодах и грибах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вощах и фруктах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деревьях, кустарниках и цветах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13:57:38Z</dcterms:created>
  <dc:creator>user</dc:creator>
  <dc:description/>
  <dc:language>en-US</dc:language>
  <cp:lastModifiedBy>снежанна</cp:lastModifiedBy>
  <dcterms:modified xsi:type="dcterms:W3CDTF">2018-08-06T05:45:12Z</dcterms:modified>
  <cp:revision>8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49991</vt:lpwstr>
  </property>
</Properties>
</file>