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20.jpeg" ContentType="image/jpeg"/>
  <Override PartName="/ppt/media/image30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1.jpeg" ContentType="image/jpeg"/>
  <Override PartName="/ppt/media/image22.jpeg" ContentType="image/jpeg"/>
  <Override PartName="/ppt/media/image1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D803-5105-4157-A5B8-95F345FB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B9B6-E17A-4051-BF43-4221BF39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9D61-E135-41B2-8E16-89D2426D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F6B2-D7D8-427E-96FD-FC1B34BB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359F-B02D-4C63-A2C2-AADE279C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99F73-A5A2-46CF-A27D-808FA6C1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3555-75D2-4DB0-88ED-2D367F21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7D75-83C9-4495-8EBE-86BD9003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C12C-911D-4AF3-BBC5-D8F714BB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07A0E-72BB-49E0-B276-156EFDB6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2A33-39C6-4580-A49D-7B54408B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863B-AF02-4E0F-ADEF-B04AF81B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4958-38C2-4A82-A6F0-F827998B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0C3A-E4E5-430B-8DB5-DBC96B2E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C571-1D40-4E96-869F-0AB23CD0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8E34-D3D4-4F30-8DD9-F62D41D19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469A-7612-4B0E-8FE4-4610D1CC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F7A2-CD53-4904-99BE-138A4968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5558-6749-4272-8F2D-AF1650BA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0E14-F3B3-4D5A-A51A-55D120D4E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A4EF-82F8-475E-ADA8-902C3F69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7B2E-D4AE-4691-94DF-52793CE0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EB2A-7C30-41FC-B33E-57C1A11E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3BE-C5EB-4291-8F92-E0212382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A5F3-78EF-46A3-B582-51198059512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A193-EE29-4D1F-9229-8D63C0ADE6D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ОУ ДПО Липецкий Институт Развития Образования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урсы повышения квалификации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Современные подходы в изучении декоративно-прикладного и народного искусства в образовательных организациях с учётом государственного общественного управления и требования ФГОС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4.04-25.04.2014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ускная работа учителя: Цёшко  Веры Анатольевн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637160" y="1873080"/>
            <a:ext cx="3921120" cy="151632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888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сновные формы и виды элемент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822240" y="1873080"/>
            <a:ext cx="3886200" cy="15703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2556000" y="3357720"/>
            <a:ext cx="5151240" cy="31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Способы выполнения основных элемент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3688" t="1741" r="0" b="2045"/>
          <a:stretch/>
        </p:blipFill>
        <p:spPr>
          <a:xfrm>
            <a:off x="528480" y="1608120"/>
            <a:ext cx="4221360" cy="44402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rcRect l="4483" t="3613" r="0" b="7238"/>
          <a:stretch/>
        </p:blipFill>
        <p:spPr>
          <a:xfrm>
            <a:off x="5005440" y="1701720"/>
            <a:ext cx="3381480" cy="1946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05440" y="3875040"/>
            <a:ext cx="332748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иды квилинг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800" y="450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Квиллинг: Салфеточный квиллинг"/>
          <p:cNvPicPr/>
          <p:nvPr/>
        </p:nvPicPr>
        <p:blipFill>
          <a:blip r:embed="rId1"/>
          <a:stretch/>
        </p:blipFill>
        <p:spPr>
          <a:xfrm>
            <a:off x="4643280" y="1557360"/>
            <a:ext cx="1597320" cy="2189160"/>
          </a:xfrm>
          <a:prstGeom prst="rect">
            <a:avLst/>
          </a:prstGeom>
          <a:ln w="0">
            <a:noFill/>
          </a:ln>
        </p:spPr>
      </p:pic>
      <p:pic>
        <p:nvPicPr>
          <p:cNvPr id="202" name="37913" descr=""/>
          <p:cNvPicPr/>
          <p:nvPr/>
        </p:nvPicPr>
        <p:blipFill>
          <a:blip r:embed="rId2"/>
          <a:srcRect l="0" t="10748" r="0" b="0"/>
          <a:stretch/>
        </p:blipFill>
        <p:spPr>
          <a:xfrm>
            <a:off x="1187280" y="2060640"/>
            <a:ext cx="2919600" cy="17287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1143000" y="403560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4356000" y="4292640"/>
            <a:ext cx="2438640" cy="175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바탕"/>
              </a:rPr>
              <a:t>Возможные варианты применения в жизни элементов квилинга</a:t>
            </a: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1559" t="0" r="2362" b="0"/>
          <a:stretch/>
        </p:blipFill>
        <p:spPr>
          <a:xfrm rot="20212200">
            <a:off x="539280" y="1773360"/>
            <a:ext cx="2874960" cy="2124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780000" y="1484280"/>
            <a:ext cx="1954080" cy="18097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 rot="1786800">
            <a:off x="6156000" y="1773360"/>
            <a:ext cx="2216160" cy="22334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4572000" y="4292640"/>
            <a:ext cx="3071880" cy="2303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1332000" y="4508640"/>
            <a:ext cx="2817720" cy="19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87280" y="33300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Тема: Открытка в технике квилинг.</a:t>
            </a:r>
            <a:br>
              <a:rPr sz="44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озраст 7-15 ле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90720" y="2492280"/>
            <a:ext cx="6781680" cy="32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Цель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: создать условия для выполнения авторской открытки в технике квилинг, освоить приемы скручивания бумаг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Задачи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:формирование знаний о квилинге, обеспечить освоение приемов квилинга. Развивать умение сравнивать и делать выбор, давать эстетическую оценку выполненной работы, развивать фантазию и воображение, навыки самостоятельного творческого мышления при выполнении открыт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ниверсальные учебные действи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99640" y="1844640"/>
            <a:ext cx="8007480" cy="43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Личностные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:осознавать необходимость создания открыток, значимость эмоционально-ценностного отношения к собственной деятельности как основы творчества, развивать фантазию и воображение, способность к созданию художественного образа, эстетической оценке своих произведени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Регулятивные: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применять установленные правила в решении задач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ознавательные: 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существлять поиск и выделение необходимой информации; определять общую цель и пути ее достижения для создания открыток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Коммуникативные :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проявлять активность для решения познавательных задач при выполнении открыт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Метапредметные: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 учиться высказывать и отстаивать свое мнение, планировать время, работу, и оценивать ее результаты. анализировать собственную  художественную деятельность, развивать внимание, навыки самостоятельного творческого мыш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Предметные:</a:t>
            </a: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 понимать «язык» декоративного искусства,  освоить основные формы квилинга, разнообразные приемы работы, в т.ч. технику создания элементов, создать узор на предметах быта из элементов квилинг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жидаемый результат : выполнение открытки в технике квилинг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8792" t="6686" r="7924" b="6686"/>
          <a:stretch/>
        </p:blipFill>
        <p:spPr>
          <a:xfrm rot="21356400">
            <a:off x="3190680" y="1932120"/>
            <a:ext cx="1855800" cy="23428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3594" t="0" r="0" b="0"/>
          <a:stretch/>
        </p:blipFill>
        <p:spPr>
          <a:xfrm rot="20471400">
            <a:off x="900000" y="2276280"/>
            <a:ext cx="2051280" cy="2519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 rot="1335600">
            <a:off x="5543280" y="2425680"/>
            <a:ext cx="3074760" cy="21780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5580000" y="4437000"/>
            <a:ext cx="1812960" cy="20192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1692360" y="4581360"/>
            <a:ext cx="3151080" cy="20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Легенда о квиллинге 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SzPct val="21168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огда просыпается солнце летним утром, то первое что оно делает, так это протягивает свои яркие лучи, ласково пронзая и окутывая землю волшебным солнечным светом. И вот уже цветы нежно распахивают лепестковые оконца навстречу дню, отражая в полупрозрачных лепестках все оттенки радужного света. Аромат разливается по земле от красоты природы, роса улыбается и растворяется от нежного прикосновения лучей!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И вот таким прекрасным утром маленькая девочка проснулась раньше обычного, потому что как раз под ее окном она услышала щебетание птиц, такое звонкое и переливчатое, что вышла посмотреть на озорников. Они не поделили червяка, который пытался от них уползти. Птицы наперебой толкали друг дружку то в бок, то пытались клювом ущипнуть друг друга, а червяк давно уже уполз. Тут же неугомонные птицы вспорхнули и улетели. А девочка подобрала красивые перья и унесла домой.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Зимними вечерами, когда камин весело потрескивал от сухих смоляных дровишек, девочка вспоминала яркое лето, душистые ароматы цветов и забияк – птиц. Она достала перышки из заветного сундучка. Рассматривая их, она увидела, что одно из них треснуло на конце. И так как девочка была удивительной фантазеркой, она достала белоснежный листок бумаги, который хранился в папином шкафу. Чтобы его хватило надолго, она нарезала листок на узкие полоски и начала фантазировать: ах, вот завиток, а это на что похоже? Да это же лепесток от цветка, который расцвел прошлым летом на маминой клумбе! Так родился первый квиллинг. Я не знаю, дорогой читатель, было ли это на самом деле, но до сих пор, когда просыпается летнее солнце, распускают свои кружевные лепестки цветы. И красота их отражается в ажурных роллах квиллинга. 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(Автор : Н. Оскорбина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Истори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32360" y="206028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английском языке это рукоделие называется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quilling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— от слова 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quill»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или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«птичье перо»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 отличие от оригами, родиной которого является Япония,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искусство бумагокручени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никло в Европе в конце 14 — начале 15 века.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608040" y="1763640"/>
            <a:ext cx="4157640" cy="436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Инструменты для квиллинга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ле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ожниц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инц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ержень для намотки спирал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инейка с отверстиями разного диамет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рандаш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7"/>
          <a:stretch/>
        </p:blipFill>
        <p:spPr>
          <a:xfrm>
            <a:off x="4573440" y="2063880"/>
            <a:ext cx="3927600" cy="38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Бумага для квилинга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02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лоски.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Где их взять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Первый способ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нарезать из цветной двусторонней бумаги (офисной или для оригами). ВАЖНО: бумага не должна быть очень тонкой (иметь небольшую плотность), т.к. в скрученном состоянии может не очень хорошо держать форму. Ширина полосок варьируется от 1 мм до нескольких сантиметров. Обычная ширина - 3-5 мм. 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Второй способ: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пить в специализированных магазинах. Полоски продаются уже в нарезанном виде и имеют подходящую плотно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646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ртон для основ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646520" y="2273400"/>
            <a:ext cx="4040280" cy="31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ехника бумагокручения и основные формы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56840" y="1599840"/>
            <a:ext cx="4040280" cy="4530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rcRect l="0" t="0" r="9273" b="10647"/>
          <a:stretch/>
        </p:blipFill>
        <p:spPr>
          <a:xfrm>
            <a:off x="395280" y="1557360"/>
            <a:ext cx="4110120" cy="4608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508720" y="4149720"/>
            <a:ext cx="2732040" cy="20192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299200" y="1617840"/>
            <a:ext cx="2766960" cy="2180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6T13:34:04Z</dcterms:created>
  <dc:creator>user</dc:creator>
  <dc:description/>
  <dc:language>en-US</dc:language>
  <cp:lastModifiedBy>user</cp:lastModifiedBy>
  <dcterms:modified xsi:type="dcterms:W3CDTF">2014-04-27T17:40:03Z</dcterms:modified>
  <cp:revision>7</cp:revision>
  <dc:subject/>
  <dc:title>АОУ ДПО Липецкий Институт Развития Образования  Курсы повышения квалификации </dc:title>
</cp:coreProperties>
</file>