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20.jpeg" ContentType="image/jpeg"/>
  <Override PartName="/ppt/media/image3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8C6F-2412-46D7-BEBF-706CDB0F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AC1E-DA7A-4FEA-B90D-57063934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C441-09FC-44FC-BC00-39E66A60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064D-FD8A-4BE1-8730-C820F791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852FF-C12A-467A-967A-461F9A5B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B93AD-AFF8-48AC-A6B9-74985577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9A1A-EEB5-4971-94B2-7CBB14EB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56F8A-7F67-463D-A1D6-92826FFD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53BFB-BD3B-4B16-A944-440409BC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7A8C-5D93-4D2A-ACEA-1EBE58C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E766-066E-44FE-9B3A-D0246CE8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898-A1A0-42FB-A897-0E994130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F30E-2ACD-41F5-A4B9-BE0457B5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25DE-46DD-4084-9C91-E81CA1A1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2E7-DBD9-4C52-8DC5-661F8DA2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45C5-07AA-47ED-AD12-C4C2AA6C3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3004-1E79-4A76-98B5-AC314CD9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8DEA-1C89-4744-9D62-D852C8C8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B3B-67A9-4483-8228-C40032F1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583-763F-4100-9F79-473B0A37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CEF-DCE3-44B4-A77A-F841F17C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C2AF-2282-4B73-B877-DEE671E7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BEDF-1A56-4390-8529-FE7C1A82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DE69-5EB9-4281-B751-DDDB37B9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5275-22D6-4668-A98B-6C5B8CA362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97C5-B67B-430A-822E-182AA0FA6D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ОУ ДПО Липецкий Институт Развития Образован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временные подходы в изучении декоративно-прикладного и народного искусства в образовательных организациях с учётом государственного общественного управления и требования ФГО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.04-25.04.201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скная работа учителя: Цёшко  Веры Анатольев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37160" y="1873080"/>
            <a:ext cx="3921120" cy="1516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сновные формы и виды элемен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22240" y="1873080"/>
            <a:ext cx="3886200" cy="1570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556000" y="3357720"/>
            <a:ext cx="5151240" cy="31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особы выполнения основных элемен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688" t="1741" r="0" b="2045"/>
          <a:stretch/>
        </p:blipFill>
        <p:spPr>
          <a:xfrm>
            <a:off x="528480" y="1608120"/>
            <a:ext cx="4221360" cy="4440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4483" t="3613" r="0" b="7238"/>
          <a:stretch/>
        </p:blipFill>
        <p:spPr>
          <a:xfrm>
            <a:off x="5005440" y="1701720"/>
            <a:ext cx="3381480" cy="1946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05440" y="3875040"/>
            <a:ext cx="33274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иды квилин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Квиллинг: Салфеточный квиллинг"/>
          <p:cNvPicPr/>
          <p:nvPr/>
        </p:nvPicPr>
        <p:blipFill>
          <a:blip r:embed="rId1"/>
          <a:stretch/>
        </p:blipFill>
        <p:spPr>
          <a:xfrm>
            <a:off x="4643280" y="1557360"/>
            <a:ext cx="159732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37913" descr=""/>
          <p:cNvPicPr/>
          <p:nvPr/>
        </p:nvPicPr>
        <p:blipFill>
          <a:blip r:embed="rId2"/>
          <a:srcRect l="0" t="10748" r="0" b="0"/>
          <a:stretch/>
        </p:blipFill>
        <p:spPr>
          <a:xfrm>
            <a:off x="1187280" y="2060640"/>
            <a:ext cx="291960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4035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356000" y="4292640"/>
            <a:ext cx="243864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바탕"/>
              </a:rPr>
              <a:t>Возможные варианты применения в жизни элементов квилинга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559" t="0" r="2362" b="0"/>
          <a:stretch/>
        </p:blipFill>
        <p:spPr>
          <a:xfrm rot="20212200">
            <a:off x="539280" y="1773360"/>
            <a:ext cx="2874960" cy="212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954080" cy="180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 rot="1786800">
            <a:off x="6156000" y="1773360"/>
            <a:ext cx="2216160" cy="223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332000" y="4508640"/>
            <a:ext cx="281772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а: Открытка в технике квилинг.</a:t>
            </a:r>
            <a:br>
              <a:rPr sz="4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раст 7-15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2492280"/>
            <a:ext cx="67816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: создать условия для выполнения авторской открытки в технике квилинг, освоить приемы скручивания бума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:формирование знаний о квилинге, обеспечить освоение приемов квилинга. Развивать умение сравнивать и делать выбор, давать эстетическую оценку выполненной работы, развивать фантазию и воображение, навыки самостоятельного творческого мышления при выполнении откры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ниверсальные учебные действ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Личностные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:осознавать необходимость создания открыток, значимость эмоционально-ценностного отношения к собственной деятельности как основы творчества, развивать фантазию и воображение, способность к созданию художественного образа, эстетической оценке своих произведен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егулятивные: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именять установленные правила в решении задач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ознавательные: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существлять поиск и выделение необходимой информации; определять общую цель и пути ее достижения для создания открыт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оммуникативные 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оявлять активность для решения познавательных задач при выполнении открыт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етапредметные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учиться высказывать и отстаивать свое мнение, планировать время, работу, и оценивать ее результаты. анализировать собственную  художественную деятельность, развивать внимание, навыки самостоятельного творческого мыш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едметные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понимать «язык» декоративного искусства,  освоить основные формы квилинга, разнообразные приемы работы, в т.ч. технику создания элементов, создать узор на предметах быта из элементов квилин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й результат : выполнение открытки в технике квилин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8792" t="6686" r="7924" b="6686"/>
          <a:stretch/>
        </p:blipFill>
        <p:spPr>
          <a:xfrm rot="21356400">
            <a:off x="3190680" y="1932120"/>
            <a:ext cx="1855800" cy="234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594" t="0" r="0" b="0"/>
          <a:stretch/>
        </p:blipFill>
        <p:spPr>
          <a:xfrm rot="20471400">
            <a:off x="900000" y="2276280"/>
            <a:ext cx="2051280" cy="251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1335600">
            <a:off x="5543280" y="2425680"/>
            <a:ext cx="3074760" cy="217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1812960" cy="2019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692360" y="4581360"/>
            <a:ext cx="315108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генда о квиллинге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просыпается солнце летним утром, то первое что оно делает, так это протягивает свои яркие лучи, ласково пронзая и окутывая землю волшебным солнечным светом. И вот уже цветы нежно распахивают лепестковые оконца навстречу дню, отражая в полупрозрачных лепестках все оттенки радужного света. Аромат разливается по земле от красоты природы, роса улыбается и растворяется от нежного прикосновения лучей!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вот таким прекрасным утром маленькая девочка проснулась раньше обычного, потому что как раз под ее окном она услышала щебетание птиц, такое звонкое и переливчатое, что вышла посмотреть на озорников. Они не поделили червяка, который пытался от них уползти. Птицы наперебой толкали друг дружку то в бок, то пытались клювом ущипнуть друг друга, а червяк давно уже уполз. Тут же неугомонные птицы вспорхнули и улетели. А девочка подобрала красивые перья и унесла домой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ми вечерами, когда камин весело потрескивал от сухих смоляных дровишек, девочка вспоминала яркое лето, душистые ароматы цветов и забияк – птиц. Она достала перышки из заветного сундучка. Рассматривая их, она увидела, что одно из них треснуло на конце. И так как девочка была удивительной фантазеркой, она достала белоснежный листок бумаги, который хранился в папином шкафу. Чтобы его хватило надолго, она нарезала листок на узкие полоски и начала фантазировать: ах, вот завиток, а это на что похоже? Да это же лепесток от цветка, который расцвел прошлым летом на маминой клумбе! Так родился первый квиллинг. Я не знаю, дорогой читатель, было ли это на самом деле, но до сих пор, когда просыпается летнее солнце, распускают свои кружевные лепестки цветы. И красота их отражается в ажурных роллах квиллинга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Автор : Н. Оскорбина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английском языке это рукоделие называется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quilling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от слова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quill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л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птичье перо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 отличие от оригами, родиной которого является Япония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кусство бумагокр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ло в Европе в конце 14 — начале 15 века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040" y="1763640"/>
            <a:ext cx="415764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струменты для квиллинг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нц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ржень для намотки спир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нейка с отверстиями разного диам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ранда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4573440" y="2063880"/>
            <a:ext cx="392760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мага для квилинг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оски.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их взя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ервый способ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нарезать из цветной двусторонней бумаги (офисной или для оригами). ВАЖНО: бумага не должна быть очень тонкой (иметь небольшую плотность), т.к. в скрученном состоянии может не очень хорошо держать форму. Ширина полосок варьируется от 1 мм до нескольких сантиметров. Обычная ширина - 3-5 мм.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торой способ: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пить в специализированных магазинах. Полоски продаются уже в нарезанном виде и имеют подходящую плот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он для 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6520" y="2273400"/>
            <a:ext cx="404028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хника бумагокручения и основные форм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402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9273" b="10647"/>
          <a:stretch/>
        </p:blipFill>
        <p:spPr>
          <a:xfrm>
            <a:off x="395280" y="1557360"/>
            <a:ext cx="4110120" cy="4608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732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299200" y="1617840"/>
            <a:ext cx="2766960" cy="21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13:34:04Z</dcterms:created>
  <dc:creator>user</dc:creator>
  <dc:description/>
  <dc:language>en-US</dc:language>
  <cp:lastModifiedBy>user</cp:lastModifiedBy>
  <dcterms:modified xsi:type="dcterms:W3CDTF">2014-04-27T17:40:03Z</dcterms:modified>
  <cp:revision>7</cp:revision>
  <dc:subject/>
  <dc:title>АОУ ДПО Липецкий Институт Развития Образования  Курсы повышения квалификации </dc:title>
</cp:coreProperties>
</file>